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1D7-5A44-4BC6-969B-2DA9870B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B77-5583-41B4-9B5C-053F8C12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B615-76C7-49BD-96D2-1EC8EB04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6A6C-7369-4B3C-9C2A-747A6B8B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0A6B-6AD2-4AD9-9807-AA6C36DA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84EA-2F59-430B-BB32-19DD5154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613-8224-4213-BDE0-B062EA01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E0CB-4572-4AC2-8EB6-7AC05F1C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2E1F-68B6-4EC5-B9B7-52A6C41A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98C3-036F-41B4-AB62-EF2936BE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4300-F5B3-45CC-BEBE-B2107717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B39F-2FED-4AFC-A559-99A8FE8E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12A0-D884-4666-B817-31D969981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51EE-7EE1-4657-9B8C-87208452F26B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26920" y="4724280"/>
            <a:ext cx="6553080" cy="1441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4724280"/>
            <a:ext cx="662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A CRISIS RESPPONSE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Financial Cr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FI Advisory Group,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15 Decem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608D-4068-43AA-808F-D90325846BD3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99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se constraints of financial institutions to continue lending to 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the implementation of highly needed municipal infrastructure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ure sustaining finance in the field of energy effici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itution building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forms &amp; measures to increase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ea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€120 million grant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€500 million loa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2800"/>
            </a:b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bjectives and mea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4688-E732-4E84-BED1-DD61E1B825B1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micro-credits through EF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SME Loans through new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lending to increase Energy Efficiency through the EEFF (Energy Efficiency Finance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Municipal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a Regional Competitiveness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strengthening cooperation between financial sector supervisors and regulators in South East Europe and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Individu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3288-266C-47E5-9B38-C9F7F978D601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aximise visibility among business, investors an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lose cooperation with partner IFIs (EIB, EBRD, CEB, KfW, World Bank Grou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operation with OECD Investment Compact for competitiveness related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operation with European Central Bank and national central banks for financial sector and super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Key Principle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63E2-3AE2-49FF-A34B-37CB0A687EA0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27936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Meanwhil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5A0E-034E-42C7-B086-0867408AA73D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Accelerate implementation of ongoing programmes, particularly for infrastructure investmen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PF endowed already with significant resources: €87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PF – TA Window: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€ 16 million + € 16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PF - Municipal Window: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€ 2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IPF Kosovo Window: 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€2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IPF Albania Window: 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€7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Focus on short-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00880" y="2882880"/>
            <a:ext cx="344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42:32Z</dcterms:created>
  <dc:creator>Caitriona Ni Raghallaigh</dc:creator>
  <dc:description/>
  <dc:language>en-US</dc:language>
  <cp:lastModifiedBy>bummado</cp:lastModifiedBy>
  <dcterms:modified xsi:type="dcterms:W3CDTF">2008-12-15T12:18:35Z</dcterms:modified>
  <cp:revision>1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06793237</vt:r8>
  </property>
  <property fmtid="{D5CDD505-2E9C-101B-9397-08002B2CF9AE}" pid="3" name="_AuthorEmail">
    <vt:lpwstr>Domenica.BUMMA@ext.ec.europa.eu</vt:lpwstr>
  </property>
  <property fmtid="{D5CDD505-2E9C-101B-9397-08002B2CF9AE}" pid="4" name="_AuthorEmailDisplayName">
    <vt:lpwstr>BUMMA Domenica (ELARG-EXT)</vt:lpwstr>
  </property>
  <property fmtid="{D5CDD505-2E9C-101B-9397-08002B2CF9AE}" pid="5" name="_EmailSubject">
    <vt:lpwstr>Temporary Webpage IFIAG</vt:lpwstr>
  </property>
  <property fmtid="{D5CDD505-2E9C-101B-9397-08002B2CF9AE}" pid="6" name="_NewReviewCycle">
    <vt:lpwstr/>
  </property>
  <property fmtid="{D5CDD505-2E9C-101B-9397-08002B2CF9AE}" pid="7" name="_PreviousAdHocReviewCycleID">
    <vt:r8>-584475454</vt:r8>
  </property>
</Properties>
</file>