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718300" cy="10123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5040" y="1780920"/>
            <a:ext cx="779940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5040" y="4038840"/>
            <a:ext cx="779940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5040" y="1780920"/>
            <a:ext cx="380592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91760" y="1780920"/>
            <a:ext cx="380592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5040" y="4038840"/>
            <a:ext cx="380592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91760" y="4038840"/>
            <a:ext cx="380592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5040" y="1780920"/>
            <a:ext cx="251100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32040" y="1780920"/>
            <a:ext cx="251100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69040" y="1780920"/>
            <a:ext cx="251100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5040" y="4038840"/>
            <a:ext cx="251100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32040" y="4038840"/>
            <a:ext cx="251100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69040" y="4038840"/>
            <a:ext cx="251100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5040" y="1780920"/>
            <a:ext cx="779940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5040" y="1780920"/>
            <a:ext cx="7799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5040" y="1780920"/>
            <a:ext cx="380592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1760" y="1780920"/>
            <a:ext cx="380592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007640" y="434520"/>
            <a:ext cx="779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5040" y="1780920"/>
            <a:ext cx="380592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1760" y="1780920"/>
            <a:ext cx="380592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95040" y="4038840"/>
            <a:ext cx="380592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5040" y="1780920"/>
            <a:ext cx="779940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5040" y="1780920"/>
            <a:ext cx="380592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1760" y="1780920"/>
            <a:ext cx="380592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1760" y="4038840"/>
            <a:ext cx="380592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5040" y="1780920"/>
            <a:ext cx="380592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1760" y="1780920"/>
            <a:ext cx="380592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95040" y="4038840"/>
            <a:ext cx="779940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5040" y="1780920"/>
            <a:ext cx="779940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995040" y="4038840"/>
            <a:ext cx="779940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5040" y="1780920"/>
            <a:ext cx="380592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1760" y="1780920"/>
            <a:ext cx="380592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95040" y="4038840"/>
            <a:ext cx="380592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1760" y="4038840"/>
            <a:ext cx="380592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5040" y="1780920"/>
            <a:ext cx="251100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32040" y="1780920"/>
            <a:ext cx="251100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69040" y="1780920"/>
            <a:ext cx="251100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995040" y="4038840"/>
            <a:ext cx="251100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632040" y="4038840"/>
            <a:ext cx="251100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69040" y="4038840"/>
            <a:ext cx="251100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95040" y="1780920"/>
            <a:ext cx="779940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5040" y="1780920"/>
            <a:ext cx="7799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5040" y="1780920"/>
            <a:ext cx="380592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91760" y="1780920"/>
            <a:ext cx="380592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5040" y="1780920"/>
            <a:ext cx="7799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007640" y="434520"/>
            <a:ext cx="779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5040" y="1780920"/>
            <a:ext cx="380592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91760" y="1780920"/>
            <a:ext cx="380592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995040" y="4038840"/>
            <a:ext cx="380592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5040" y="1780920"/>
            <a:ext cx="380592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1760" y="1780920"/>
            <a:ext cx="380592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991760" y="4038840"/>
            <a:ext cx="380592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5040" y="1780920"/>
            <a:ext cx="380592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1760" y="1780920"/>
            <a:ext cx="380592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95040" y="4038840"/>
            <a:ext cx="779940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5040" y="1780920"/>
            <a:ext cx="779940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995040" y="4038840"/>
            <a:ext cx="779940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5040" y="1780920"/>
            <a:ext cx="380592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91760" y="1780920"/>
            <a:ext cx="380592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95040" y="4038840"/>
            <a:ext cx="380592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991760" y="4038840"/>
            <a:ext cx="380592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5040" y="1780920"/>
            <a:ext cx="251100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632040" y="1780920"/>
            <a:ext cx="251100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69040" y="1780920"/>
            <a:ext cx="251100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995040" y="4038840"/>
            <a:ext cx="251100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632040" y="4038840"/>
            <a:ext cx="251100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269040" y="4038840"/>
            <a:ext cx="251100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995040" y="1780920"/>
            <a:ext cx="779940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5040" y="1780920"/>
            <a:ext cx="7799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5040" y="1780920"/>
            <a:ext cx="380592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91760" y="1780920"/>
            <a:ext cx="380592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5040" y="1780920"/>
            <a:ext cx="380592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91760" y="1780920"/>
            <a:ext cx="380592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007640" y="434520"/>
            <a:ext cx="779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5040" y="1780920"/>
            <a:ext cx="380592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91760" y="1780920"/>
            <a:ext cx="380592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95040" y="4038840"/>
            <a:ext cx="380592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5040" y="1780920"/>
            <a:ext cx="380592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91760" y="1780920"/>
            <a:ext cx="380592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991760" y="4038840"/>
            <a:ext cx="380592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5040" y="1780920"/>
            <a:ext cx="380592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91760" y="1780920"/>
            <a:ext cx="380592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995040" y="4038840"/>
            <a:ext cx="779940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5040" y="1780920"/>
            <a:ext cx="779940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995040" y="4038840"/>
            <a:ext cx="779940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5040" y="1780920"/>
            <a:ext cx="380592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91760" y="1780920"/>
            <a:ext cx="380592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995040" y="4038840"/>
            <a:ext cx="380592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991760" y="4038840"/>
            <a:ext cx="380592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5040" y="1780920"/>
            <a:ext cx="251100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632040" y="1780920"/>
            <a:ext cx="251100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69040" y="1780920"/>
            <a:ext cx="251100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995040" y="4038840"/>
            <a:ext cx="251100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632040" y="4038840"/>
            <a:ext cx="251100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69040" y="4038840"/>
            <a:ext cx="251100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995040" y="1780920"/>
            <a:ext cx="779940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5040" y="1780920"/>
            <a:ext cx="7799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5040" y="1780920"/>
            <a:ext cx="380592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91760" y="1780920"/>
            <a:ext cx="380592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007640" y="434520"/>
            <a:ext cx="779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95040" y="1780920"/>
            <a:ext cx="380592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91760" y="1780920"/>
            <a:ext cx="380592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95040" y="4038840"/>
            <a:ext cx="380592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5040" y="1780920"/>
            <a:ext cx="380592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91760" y="1780920"/>
            <a:ext cx="380592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991760" y="4038840"/>
            <a:ext cx="380592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5040" y="1780920"/>
            <a:ext cx="380592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91760" y="1780920"/>
            <a:ext cx="380592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95040" y="4038840"/>
            <a:ext cx="779940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95040" y="1780920"/>
            <a:ext cx="779940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995040" y="4038840"/>
            <a:ext cx="779940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95040" y="1780920"/>
            <a:ext cx="380592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91760" y="1780920"/>
            <a:ext cx="380592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95040" y="4038840"/>
            <a:ext cx="380592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991760" y="4038840"/>
            <a:ext cx="380592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07640" y="434520"/>
            <a:ext cx="779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95040" y="1780920"/>
            <a:ext cx="251100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632040" y="1780920"/>
            <a:ext cx="251100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69040" y="1780920"/>
            <a:ext cx="251100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995040" y="4038840"/>
            <a:ext cx="251100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632040" y="4038840"/>
            <a:ext cx="251100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269040" y="4038840"/>
            <a:ext cx="251100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5040" y="1780920"/>
            <a:ext cx="380592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91760" y="1780920"/>
            <a:ext cx="380592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5040" y="4038840"/>
            <a:ext cx="380592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5040" y="1780920"/>
            <a:ext cx="380592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1760" y="1780920"/>
            <a:ext cx="380592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91760" y="4038840"/>
            <a:ext cx="380592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5040" y="1780920"/>
            <a:ext cx="380592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1760" y="1780920"/>
            <a:ext cx="380592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5040" y="4038840"/>
            <a:ext cx="779940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2052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1440" y="-9360"/>
            <a:ext cx="9183960" cy="68850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5040" y="1780920"/>
            <a:ext cx="7799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749"/>
              </a:spcBef>
              <a:buClr>
                <a:srgbClr val="0033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174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1749"/>
              </a:spcBef>
              <a:buClr>
                <a:srgbClr val="0033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174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174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174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174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-1908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07640" y="426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95040" y="1780920"/>
            <a:ext cx="7799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749"/>
              </a:spcBef>
              <a:buClr>
                <a:srgbClr val="0033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174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1749"/>
              </a:spcBef>
              <a:buClr>
                <a:srgbClr val="0033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174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174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174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174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7640" y="44568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95040" y="1780920"/>
            <a:ext cx="7799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749"/>
              </a:spcBef>
              <a:buClr>
                <a:srgbClr val="0033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174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1749"/>
              </a:spcBef>
              <a:buClr>
                <a:srgbClr val="0033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174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174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174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174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-9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995040" y="1780920"/>
            <a:ext cx="7799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749"/>
              </a:spcBef>
              <a:buClr>
                <a:srgbClr val="0033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174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1749"/>
              </a:spcBef>
              <a:buClr>
                <a:srgbClr val="0033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174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174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174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174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007640" y="44568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3399"/>
                </a:solidFill>
                <a:latin typeface="Arial"/>
              </a:rPr>
              <a:t>Banking sector vulnerabilities in SEE</a:t>
            </a: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3399"/>
                </a:solidFill>
                <a:latin typeface="Arial"/>
              </a:rPr>
              <a:t>Peter Sanfey, EBRD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Arial"/>
              </a:rPr>
              <a:t>IFI Advisory Group Meeting on SEE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Arial"/>
              </a:rPr>
              <a:t>December 15 2008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3399"/>
                </a:solidFill>
                <a:latin typeface="Arial"/>
              </a:rPr>
              <a:t>Vulnerability #1: Parent bank contagion</a:t>
            </a: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5040" y="1780920"/>
            <a:ext cx="7799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33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oreign bank ownership ranges from 76% in Serbia to 94% in Albania (by asset share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33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p to now, source of cheap funding but risk of withdrawal of suppor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33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Little concrete action to date but signs that parents are more reluctant to provide funding on similar terms to previousl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3399"/>
                </a:solidFill>
                <a:latin typeface="Arial"/>
              </a:rPr>
              <a:t>Vulnerability #2: Non-performing loans</a:t>
            </a: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5040" y="1780920"/>
            <a:ext cx="7799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33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Data suggest a relatively low level of NPLs; less than 5 per cent of all loans in most countri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33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But figures are bound to increase sharply – widespread exposure to exchange rate risk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33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In other crises, NPLs often rise by 10 percentage points </a:t>
            </a:r>
            <a:r>
              <a:rPr b="0" lang="en-GB" sz="2800" spc="-1" strike="noStrike">
                <a:solidFill>
                  <a:srgbClr val="003399"/>
                </a:solidFill>
                <a:latin typeface="Arial"/>
                <a:ea typeface="Arial"/>
              </a:rPr>
              <a:t>→</a:t>
            </a: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 serious stress for bank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3399"/>
                </a:solidFill>
                <a:latin typeface="Arial"/>
              </a:rPr>
              <a:t>Vulnerability #3: Deposit outflow</a:t>
            </a: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5040" y="1780920"/>
            <a:ext cx="7799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33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o widespread panic, but significant outflows in some countri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33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n Serbia, an estimated €900 million left banks since October 2008 – outflow has largely stopped but little sign of retur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33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Deposit insurance increased in most cases: €50,000 in Croatia and Serbia and all deposits in Montenegro, but how credible?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07640" y="4345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3399"/>
                </a:solidFill>
                <a:latin typeface="Arial"/>
              </a:rPr>
              <a:t>Conclusions</a:t>
            </a:r>
            <a:endParaRPr b="1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95040" y="1780920"/>
            <a:ext cx="7799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33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Reforms introduced in previous years have greatly strengthened banking systems (all countries now at least “3” on EBRD scale)…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33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ut serious risks of backtracki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33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eed for greater host-home supervisory coordination, and a framework for parent bank suppor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33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Longer-term, more consolidation necessar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09:57:45Z</dcterms:created>
  <dc:creator>savicG</dc:creator>
  <dc:description/>
  <dc:language>en-US</dc:language>
  <cp:lastModifiedBy>sanfeyp</cp:lastModifiedBy>
  <dcterms:modified xsi:type="dcterms:W3CDTF">2008-12-15T09:59:16Z</dcterms:modified>
  <cp:revision>2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26747129</vt:r8>
  </property>
  <property fmtid="{D5CDD505-2E9C-101B-9397-08002B2CF9AE}" pid="3" name="_AuthorEmail">
    <vt:lpwstr>Domenica.BUMMA@ext.ec.europa.eu</vt:lpwstr>
  </property>
  <property fmtid="{D5CDD505-2E9C-101B-9397-08002B2CF9AE}" pid="4" name="_AuthorEmailDisplayName">
    <vt:lpwstr>BUMMA Domenica (ELARG-EXT)</vt:lpwstr>
  </property>
  <property fmtid="{D5CDD505-2E9C-101B-9397-08002B2CF9AE}" pid="5" name="_EmailSubject">
    <vt:lpwstr>Temporary Webpage IFIAG</vt:lpwstr>
  </property>
  <property fmtid="{D5CDD505-2E9C-101B-9397-08002B2CF9AE}" pid="6" name="_NewReviewCycle">
    <vt:lpwstr/>
  </property>
  <property fmtid="{D5CDD505-2E9C-101B-9397-08002B2CF9AE}" pid="7" name="_PreviousAdHocReviewCycleID">
    <vt:r8>1637158929</vt:r8>
  </property>
</Properties>
</file>