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F4CB-F0CC-42CC-B0E8-403BE1907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546D-45AA-42FB-BE28-FCA3AB38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5431-E2D5-4460-AAE9-51F06BCEE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C40E-DFE3-47D1-B91A-8A9DBFA55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83B3-E91E-452E-BC1B-7FB58CB0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412C-882A-4EAE-AF50-42BC0141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6BB6-83D0-4570-9A39-0EFECFD3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1166-DC56-4B5D-8249-705F6497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6D97-D377-464F-A987-AD6D714F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9324-9BFE-4276-90D9-F1919BDE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B575-E83D-42C6-9EFE-860B4831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F998-2D5D-4431-AB6D-7F2C5166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F5D8-965C-4723-BA5B-C70D52222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60D6-ACD6-4429-B532-3259208543C4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26920" y="4724280"/>
            <a:ext cx="6553080" cy="14414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56000" y="4724280"/>
            <a:ext cx="6624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PA CRISIS RESPPONSE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The Financial Cr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IFI Advisory Group, </a:t>
            </a: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15 Decem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0AEB-84E5-4CD3-BD90-3FB3E5DAEFF1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8920" y="232200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-60948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99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se constraints of financial institutions to continue lending to 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lerate the implementation of highly needed municipal infrastructure inves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ure sustaining finance in the field of energy efficie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itution building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forms &amp; measures to increase competi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Mea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€120 million grant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€500 million loan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23640" y="549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00"/>
                </a:solidFill>
                <a:latin typeface="Arial"/>
              </a:rPr>
              <a:t>The IPA Crisis Response Package</a:t>
            </a:r>
            <a:br>
              <a:rPr sz="2800"/>
            </a:b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bjectives and mea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9812-8823-480A-811C-2FF5925D878C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8920" y="232200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10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micro-credits through EF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10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SME Loans through new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30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lending to increase Energy Efficiency through the EEFF (Energy Efficiency Finance Fac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60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Municipal inve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6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a Regional Competitiveness 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2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strengthening cooperation between financial sector supervisors and regulators in South East Europe and the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323640" y="549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The IPA Crisis Response Package</a:t>
            </a:r>
            <a:br>
              <a:rPr sz="3200"/>
            </a:b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Individua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-Beneficiary IPA Discussion                    Brussels, 21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6EC3-FD21-4684-B1C9-9142B540CB0B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78920" y="232200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Maximise visibility among business, investors and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Close cooperation with partner IFIs (EIB, EBRD, CEB, KfW, World Bank Group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Cooperation with OECD Investment Compact for competitiveness related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Cooperation with European Central Bank and national central banks for financial sector and super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323640" y="549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The IPA Crisis Response Package</a:t>
            </a:r>
            <a:br>
              <a:rPr sz="3200"/>
            </a:b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Key Principles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-Beneficiary IPA Discussion                    Brussels, 21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C275-057F-449E-8909-1847EF1D71E5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3640" y="27936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Meanwhile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-Beneficiary IPA Discussion                    Brussels, 21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CE8B-A056-41E6-818C-707211FD408C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8920" y="232200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Accelerate implementation of ongoing programmes, particularly for infrastructure investment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IPF endowed already with significant resources: €87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IPF – TA Window: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€ 16 million + € 16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IPF - Municipal Window: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€ 24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IPF Kosovo Window: </a:t>
            </a: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€24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IPF Albania Window: </a:t>
            </a: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€7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323640" y="549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The IPA Crisis Response Package</a:t>
            </a:r>
            <a:br>
              <a:rPr sz="3200"/>
            </a:b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Focus on short-t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-Beneficiary IPA Discussion                    Brussels, 21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00880" y="2882880"/>
            <a:ext cx="344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8:42:32Z</dcterms:created>
  <dc:creator>Caitriona Ni Raghallaigh</dc:creator>
  <dc:description/>
  <dc:language>en-US</dc:language>
  <cp:lastModifiedBy>bummado</cp:lastModifiedBy>
  <dcterms:modified xsi:type="dcterms:W3CDTF">2008-12-15T12:18:35Z</dcterms:modified>
  <cp:revision>12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06793237</vt:r8>
  </property>
  <property fmtid="{D5CDD505-2E9C-101B-9397-08002B2CF9AE}" pid="3" name="_AuthorEmail">
    <vt:lpwstr>Domenica.BUMMA@ext.ec.europa.eu</vt:lpwstr>
  </property>
  <property fmtid="{D5CDD505-2E9C-101B-9397-08002B2CF9AE}" pid="4" name="_AuthorEmailDisplayName">
    <vt:lpwstr>BUMMA Domenica (ELARG-EXT)</vt:lpwstr>
  </property>
  <property fmtid="{D5CDD505-2E9C-101B-9397-08002B2CF9AE}" pid="5" name="_EmailSubject">
    <vt:lpwstr>Temporary Webpage IFIAG</vt:lpwstr>
  </property>
  <property fmtid="{D5CDD505-2E9C-101B-9397-08002B2CF9AE}" pid="6" name="_NewReviewCycle">
    <vt:lpwstr/>
  </property>
  <property fmtid="{D5CDD505-2E9C-101B-9397-08002B2CF9AE}" pid="7" name="_PreviousAdHocReviewCycleID">
    <vt:r8>-584475454</vt:r8>
  </property>
</Properties>
</file>