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C7EF-8D03-4CEE-BC46-595404868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28600" y="3875400"/>
            <a:ext cx="8686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17DF-7904-4193-8E79-D10F3292E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754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80000" y="38754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D71C-C88D-40DF-B9B7-784D169DC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228600" y="387540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165840" y="387540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102720" y="387540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0726-7136-4EC9-866C-D949F8C98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BEDF1-7A30-4B89-9806-1CD30241B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A764C-E61E-49F5-8DCE-6F1D86A25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1FA3D-75D1-4AC9-A5B3-612B31581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E0645-C0BD-4D65-BC2F-4147C41A6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09C25-A9BD-4CA2-9C7F-99510E5BB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CA3CE-3AAB-4481-8359-70F6B4A9A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228600" y="38754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225C0-D1C6-47CF-93E9-744FD5DD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55B9-7180-493A-9935-2708A928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80000" y="38754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10F56-5FDC-4D20-84FA-2A052599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228600" y="3875400"/>
            <a:ext cx="8686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56103-0519-433B-BC57-B95600DB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28600" y="3875400"/>
            <a:ext cx="8686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8BDA1-6DF5-44EC-8FC6-EDCE4F3F0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28600" y="38754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80000" y="38754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B29CD-7958-49DD-9047-55022469F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228600" y="387540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165840" y="387540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102720" y="387540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A85C1-EC38-44D7-9516-6DACFD447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E8E5-8C56-42F1-95C3-F67B27A09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07A1-4188-40A5-B99B-098E72AF2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7FD2-1C5E-4921-9405-B42EAEE1D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88BB-2753-49A0-A3F0-5504D7D70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228600" y="38754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DEED-AE5E-457A-BF41-5E6BC91B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80000" y="38754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8004-68C5-46F3-8992-5C38B6E6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600" y="3875400"/>
            <a:ext cx="8686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3B59-2F2F-4B8C-8A6A-F5A9E705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5ADA5-AA35-45FC-97F8-3096A844A12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" name="" descr=""/>
          <p:cNvPicPr/>
          <p:nvPr/>
        </p:nvPicPr>
        <p:blipFill>
          <a:blip r:embed="rId2"/>
          <a:stretch/>
        </p:blipFill>
        <p:spPr>
          <a:xfrm>
            <a:off x="8305920" y="594360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F25D0-FE57-466B-8E23-2E9D876F947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1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496360" y="621036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1142640"/>
            <a:ext cx="67816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IFI Advisory Group meeting:</a:t>
            </a:r>
            <a:br>
              <a:rPr sz="28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The Financial crisis – Current view and preparation for Plenary session</a:t>
            </a:r>
            <a:br>
              <a:rPr sz="3600"/>
            </a:b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848880" y="3049200"/>
            <a:ext cx="624852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conomic Crisis: the regional outlook and fiscal space for crisis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ernard Funck, World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russ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cember 15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evelopments in steel sector illustrate broader challenge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ly, steel production is being cut significantly as price of hot rolled steel coil has fallen to almost $400 per ton, from near $1200 earlier in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 of steel industry in exports and employment is sizeable in Macedonia (37% of exports), Serbia (25%), Montenegro and Albania (20%) and BiH (14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bs already being cut in Albania and Macedonia, significant decrease in production announced in Albania, BiH and Macedo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edonia most severely hit: production of metals (11% share in industrial output and employment) fell by 38% y-o-y in Octo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urkey, automotive industry is hurt badly from reduced demand (Turkey is net importer of ste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1218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0" y="2438280"/>
          <a:ext cx="8991720" cy="271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38280"/>
                    <a:ext cx="8991720" cy="27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52280" y="518148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fixed exchange rates in most economies, much of the burden of adjustment on fiscal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" y="304920"/>
            <a:ext cx="76201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omestic responses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52280" y="12952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rtia in wage setting following rapid wage growth (real wage growth ranging from 5% per annum in BiH to 12% in Serb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External imbalances may correct only slowly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3962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p improvement of CAB (as % of GDP) only expected for Montenegr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ss external financing needs (as % of GDP) are expected to increase or remain high in most econom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l over of corporate (and banking) debt in Turkey adds to uncertainty on external financing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3962520" y="3621240"/>
          <a:ext cx="5181480" cy="224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3621240"/>
                    <a:ext cx="5181480" cy="22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3962520" y="1600200"/>
          <a:ext cx="5181480" cy="2131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2520" y="1600200"/>
                    <a:ext cx="5181480" cy="21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onclusion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respond to the tightening of financial markets, policy makers need to take measur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maintain prudent fiscal pos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rengthen ban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untries may seek to shift funding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xistin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plan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rom private sources (including PPPs and lines of cred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official sources, including IFI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ample: IBRD financing of South Africa’s power development pla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 turn to them for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de fact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debt refinanc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ebt performances are expected to be mixed among the SEE economie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457200" y="1333440"/>
          <a:ext cx="7467480" cy="295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33440"/>
                    <a:ext cx="746748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457200" y="3581280"/>
          <a:ext cx="7467480" cy="2925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581280"/>
                    <a:ext cx="7467480" cy="29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ontent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ent Economic Developments in SEE and Turke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erging vulnerabilities from the cri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utlook and risks for SEE and Turke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77724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Macroeconomic trends improved in recent years throughout the regio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growth has been healthy: GDP grew by around 5% in 2000-06; growth peaked in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2007, all SEEs and Turkey had either reduced fiscal deficits or moved to surpluses, reflecting greater government commitment to fiscal responsibility (while decreasing tax ra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ween 2003 and 2007, public debt/GDP was cut in all countries except BiH, sometimes substantially (achieved through GDP growth, stronger policy efforts, real appreciation and prepayment of deb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nding pressures have reemerged strongly in 2008 (e.g., Serbia, Macedonia, Turke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369720"/>
            <a:ext cx="7772400" cy="8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Key vulnerabilities remain and new imbalances have emerged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ost SEE economies have one or more macroeconomic vulnerabiliti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4648320"/>
            <a:ext cx="8686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4419720"/>
            <a:ext cx="8686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urrent account deficits worsened in all economies except BiH (which had high CAD) between 2003 and 2007 (1-3 percentage points in Albania, Croatia, Macedonia, Kosovo and Turkey, 9 pp in Serbia and 33 pp in Montenegr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2590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43434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Emerging vulnerabilities from the crisis and potential impact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E and Turkey faced with three shocks as a result of the crisi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i) global demand slowdow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ii) drying up of external financ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iii) falling commodity pr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ss remittances (Albania, BiH, Macedonia and Kosovo have substantial remittance inflow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85800" y="1752480"/>
            <a:ext cx="1365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$ bill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533520" y="2136600"/>
          <a:ext cx="7391160" cy="418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136600"/>
                    <a:ext cx="7391160" cy="418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2057400" y="1600200"/>
            <a:ext cx="47242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et private debt and equity f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990-2007, projected 2008-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772400" y="1752480"/>
            <a:ext cx="83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Perc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66880" y="2971800"/>
            <a:ext cx="2097360" cy="5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ercent of G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right ax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761760"/>
            <a:ext cx="6845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Private capital flows expected to decline further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6408720"/>
            <a:ext cx="312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: World Ban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eteriorating external environment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3581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7e9ce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pid private credit growth has been to large extent funded by bank-led capital infl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7e9ce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ies are facing slowdown of inflows and higher interest rates (Croatia’s CDS spread up by over 400 b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7e9ce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reads of European banks dominating the region also ri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809880" y="2514600"/>
          <a:ext cx="5334120" cy="251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514600"/>
                    <a:ext cx="533412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ownward trends are beginning to emerge in most economie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342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7e9ce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ctober statistics raise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red flag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or several countries, in particular Croatia, Montenegro, Macedon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4572000"/>
            <a:ext cx="8001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truction and tourism sectors may also be hit hard (no data available yet plus effects there come with a time la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429000" y="1752480"/>
          <a:ext cx="5715000" cy="27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1752480"/>
                    <a:ext cx="5715000" cy="27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GDP growth is projected to slow down in 2009 throughout SEE…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28600" y="1719360"/>
          <a:ext cx="8686800" cy="410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719360"/>
                    <a:ext cx="8686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22:59:37Z</dcterms:created>
  <dc:creator>Teuta Kacaniku</dc:creator>
  <dc:description/>
  <dc:language>en-US</dc:language>
  <cp:lastModifiedBy>wb296747</cp:lastModifiedBy>
  <dcterms:modified xsi:type="dcterms:W3CDTF">2008-12-15T11:47:26Z</dcterms:modified>
  <cp:revision>8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405763783</vt:r8>
  </property>
  <property fmtid="{D5CDD505-2E9C-101B-9397-08002B2CF9AE}" pid="3" name="_AuthorEmail">
    <vt:lpwstr>Ollivier.Bodin@ec.europa.eu</vt:lpwstr>
  </property>
  <property fmtid="{D5CDD505-2E9C-101B-9397-08002B2CF9AE}" pid="4" name="_AuthorEmailDisplayName">
    <vt:lpwstr>BODIN Ollivier (ELARG)</vt:lpwstr>
  </property>
  <property fmtid="{D5CDD505-2E9C-101B-9397-08002B2CF9AE}" pid="5" name="_EmailSubject">
    <vt:lpwstr>Temporary Webpage IFIAG</vt:lpwstr>
  </property>
  <property fmtid="{D5CDD505-2E9C-101B-9397-08002B2CF9AE}" pid="6" name="_NewReviewCycle">
    <vt:lpwstr/>
  </property>
</Properties>
</file>