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779FE-B813-47C8-90B5-3770A44E7A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EEBB4-A5BE-425E-A084-07DAA94A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F3BB7-6F0F-480D-98ED-75401915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772EE-2318-46ED-B650-F4E5E10C9A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B9C34-00DB-4ED8-80FF-6C6990FF8C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17F78-4CE7-4EA9-8C54-FF420612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8AC3C-885B-4945-B31C-A145A778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A95C7-2DB2-4F02-BDA0-39B62549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53CFC-B8C0-4ACD-965A-3DEF0217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41000-DEB4-447D-9168-8650A765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FED21-299B-4250-84F9-8F72A970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589FC-DC47-4D8A-BB78-4C3F46ED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4D7BA-8F19-4A79-AE93-8649D179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5ACD1-324D-419F-9B14-FCF218E8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BF998-1E40-4462-B28F-1A6A1139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678CC-17D9-499E-9B3D-AB8CFD4D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0E43E-4CCA-4F43-8C4D-EC9E2E70A6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FFE5-773D-4BF6-9C60-0ECF245233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6CAC-D045-4B61-BEAB-7B3A838D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27E0-24E2-4A95-A196-12548C2C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FEBC-0D25-4205-9B70-0416641E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957D-2045-432E-8760-FD6B1630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B7449-C1B5-4435-AF9D-50F78E2D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B1F2-C90B-4C09-9407-3802D2AC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D737-F39F-4A2A-9CE0-25E46A1F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71F4-51EA-4AAF-9887-2D322034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DA9D-D383-4F15-9555-9F991BAD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F7C8-3F9E-4555-A3BD-7BBE4FA4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5256-D52B-4BD6-8CF3-65442A99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0C8F-BEF9-461C-86D5-8E62303D6A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8B7C6-372A-48C4-B0DE-7AA96C0A84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6F7FBA-DF48-4E0E-9B70-642EC5B5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16990-C974-445B-AF76-58623199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BE2E5-6E2C-4D3E-8B67-940BFB3C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EB4C3-01F3-4BC2-95A1-F52B890C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5F9BDE-D5A3-4137-9CDC-0FCA1CA1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D10C06-45EE-4886-85A7-6CF62940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418D4-6296-4607-A15C-3C5B27C5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378D3-115A-4372-AD9B-21D25058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99CB9-B9DB-48A1-8F69-9C0E88C0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F07F62-8CF9-4E90-AF63-63E60FC0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E4713E-21CA-43E7-B6BA-3A9D86E4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A92A22-68B8-4A93-9FB2-A0D060E13C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00053-1E83-46BE-9E6A-27F53584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803DE-6220-43D7-9B0E-9B1D177C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73397-F995-4B7B-B4A3-01929BB1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05E8B-BEBD-4BCE-9CCD-FB2DE48F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E935A-4431-4B10-B0D2-C7815BB5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0446-6839-4DEF-9399-4B2F209D94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1" name="Picture 2" descr="C:\DOCUME~1\lenain\LOCALS~1\Temp\7zEBB7.tmp\LOGO-CE for Sanco EN Positive.png"/>
          <p:cNvPicPr/>
          <p:nvPr/>
        </p:nvPicPr>
        <p:blipFill>
          <a:blip r:embed="rId2"/>
          <a:stretch/>
        </p:blipFill>
        <p:spPr>
          <a:xfrm>
            <a:off x="3649680" y="324000"/>
            <a:ext cx="181296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482B-E5AA-43CB-B50B-F702E05ADFF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-27000"/>
            <a:ext cx="9144000" cy="113040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3" name="Picture 3" descr="C:\DOCUME~1\lenain\LOCALS~1\Temp\7zED59.tmp\LOGO-CE for Sanco EN Negative.png"/>
          <p:cNvPicPr/>
          <p:nvPr/>
        </p:nvPicPr>
        <p:blipFill>
          <a:blip r:embed="rId2"/>
          <a:stretch/>
        </p:blipFill>
        <p:spPr>
          <a:xfrm>
            <a:off x="3656160" y="324000"/>
            <a:ext cx="1814400" cy="1396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96E7-B727-4AE6-AFB9-62654D1FE8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~1\lenain\LOCALS~1\Temp\7zEB8.tmp\LOGO-CE for Sanco EN Landscape Positive.png"/>
          <p:cNvPicPr/>
          <p:nvPr/>
        </p:nvPicPr>
        <p:blipFill>
          <a:blip r:embed="rId2"/>
          <a:stretch/>
        </p:blipFill>
        <p:spPr>
          <a:xfrm>
            <a:off x="6576840" y="5940360"/>
            <a:ext cx="2243160" cy="596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BDE8-D8BB-4298-A31D-30FB6221B4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63280" y="1268280"/>
            <a:ext cx="727236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Feedback by a former </a:t>
            </a:r>
            <a:br>
              <a:rPr sz="3600"/>
            </a:b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Resident Twinning Adviser </a:t>
            </a:r>
            <a:endParaRPr b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280" y="4076280"/>
            <a:ext cx="8278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and recommendations </a:t>
            </a:r>
            <a:endParaRPr b="0" i="1" lang="en-US" sz="32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russels, 23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une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2016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udolf SP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commodation - Hotel =&gt; apartment for r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own Embass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ar reg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ealth insura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octo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5B82-7E0B-469B-831F-5D71C5354E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neficiary institu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erarchy and counterparts in the beneficiary institution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relevant institutions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National experts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e and Contracts Uni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4EBC-DE78-4846-9EA1-99AEE07FE7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6116760" y="3645000"/>
            <a:ext cx="231300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8360" y="23508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2440" indent="-2624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ssista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2440" indent="-2624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terpretation vs. translation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2440" indent="-2624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arly selec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2440" indent="-2624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careful with recommendations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2440" indent="-2624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hare of work between 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2440" indent="-2624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operative behavior is importa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2440" indent="-2624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2440" indent="-2624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ttendance at missions outside of the capital c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2579-2674-4523-81FF-A0365F2512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421632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836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The first very official appearance of the RT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crucial opportunity for visibil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gh level gues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be well organised - start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take place </a:t>
            </a:r>
            <a:r>
              <a:rPr b="0" i="1" lang="en-GB" sz="2400" spc="-1" strike="noStrike" u="sng">
                <a:solidFill>
                  <a:srgbClr val="0f5494"/>
                </a:solidFill>
                <a:uFillTx/>
                <a:latin typeface="Arial"/>
              </a:rPr>
              <a:t>as soon as possible but not to e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lready something concrete to present what attracts the press and the ques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s release / press-confer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D806-AE0F-4D8C-AE75-55F7D4765D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team (MS, BC, office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verview about the launching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work plan + implement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 materi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ebsite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7069-AD42-455C-9275-3C45ABB6F7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new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The country - history, cultur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anguag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ehaviour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Political parties - Parliam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Gouvernement and just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Media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conomy, Trad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C0C2-BF09-44D7-8EC9-A87ED98B94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716360" y="4300560"/>
            <a:ext cx="3235320" cy="2152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6040440" y="1898640"/>
            <a:ext cx="296064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nternational contex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International relations of the beneficiary country (BC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ropean Union (Accession negotiations, benchmarks, progress reports, IPA program, Association agreements, country strategies, support programs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 Member States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Your country of origin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Neighbours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70CA-015D-4560-B7D3-14D8ADE3F5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952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professional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U projects (previous, current, future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ther projects (bilateral cooperation, world bank, etc.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TAIEX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sident exper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Stakeholders – international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      and nation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CF3B-77FE-4521-B723-F2877F74DC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032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The institution to be supported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3213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Get familiar with the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Organisational cha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udget, infrastructur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gional, local structur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petenci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operation and competition with other institu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A410-51D6-4F63-A375-5982AF5BB3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9718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ho is who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Behaviour, hab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orking hou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Public holi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Communic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A856-5CA4-410D-8BA7-F82C161D42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4908600" y="3284640"/>
            <a:ext cx="20923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My Twinning-experience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4000" y="34718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5 - 2007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- Romani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7 - 2009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0 – 2011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1  - 2012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– Kosov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5F96-4160-479F-8811-1C509E984B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437080" y="1125360"/>
            <a:ext cx="370692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urrent status?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7524720" y="1197000"/>
            <a:ext cx="1322280" cy="1727280"/>
          </a:xfrm>
          <a:prstGeom prst="rect">
            <a:avLst/>
          </a:prstGeom>
          <a:ln w="0">
            <a:noFill/>
          </a:ln>
        </p:spPr>
      </p:pic>
      <p:sp>
        <p:nvSpPr>
          <p:cNvPr id="23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6B44-BA91-435E-90EA-DD86DEDB0E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81000" y="2351160"/>
            <a:ext cx="88120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f5494"/>
                </a:solidFill>
                <a:uFillTx/>
                <a:latin typeface="Arial"/>
              </a:rPr>
              <a:t>'Current</a:t>
            </a:r>
            <a:r>
              <a:rPr b="1" lang="de-DE" sz="2200" spc="-1" strike="noStrike" u="sng">
                <a:solidFill>
                  <a:srgbClr val="0f5494"/>
                </a:solidFill>
                <a:uFillTx/>
                <a:latin typeface="Arial"/>
              </a:rPr>
              <a:t> Situation Report'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Situation probably changed since the twinning-fiche was drafted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You need more details and additional special data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Contact the leadership of the relevant institutions, </a:t>
            </a:r>
            <a:br>
              <a:rPr sz="2200"/>
            </a:b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units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and stakeholder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Work together with the leaders of the working group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Repor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4411-E8C5-493D-9DC0-6F6610219F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63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As specified in the Twinning contract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TA Offi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urrent Situation Report /Inception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Monthly Report / Technical Progress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Final Report </a:t>
            </a:r>
            <a:br>
              <a:rPr sz="2400"/>
            </a:b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hort-term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Mission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4716360" y="4581360"/>
            <a:ext cx="3008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ement meetings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teering committee meeting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C project leader, RTA counterpar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rectors, Head of Unit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gul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ased on an activity plan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f5494"/>
                </a:solidFill>
                <a:uFillTx/>
                <a:latin typeface="Arial"/>
              </a:rPr>
              <a:t>EU-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0f5494"/>
                </a:solidFill>
                <a:uFillTx/>
                <a:latin typeface="Arial"/>
              </a:rPr>
              <a:t>Central Financial and Contracting Uni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D05E-2C97-4B5A-8F20-6CB11371AA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6691320" y="2637000"/>
            <a:ext cx="18669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What do the EU Delegations do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 key role in presenting, explaining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 implementing EU’s foreign polic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nalyse and report on the policies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developments of their host countr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conduct negotiations in accordance with given mandates.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How do the Delegations operate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Maintaining political dialogue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dministering development aid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supervision of EU trade issues and building cultural contacts.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AC68-A42D-4E2F-831C-377562126B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6012000" y="1206360"/>
            <a:ext cx="28620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 – support and monitoring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lose cooperation with the EU-Delegation is essential and of course beneficial for you as RTA and for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General support in the implem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upport in the collaboration with the BC-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articipation of the EU-Delegation at all important events   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Kick-off, Steering Committee meetings, Final meeting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EDF5-2F87-410D-9CDE-7F00A7D3D7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7417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mplementing a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orking group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working group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official as leader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rul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tivity pla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regular meeting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A5E8-E3E4-4B3C-8DCF-AC50CF0E76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411800" y="2565360"/>
            <a:ext cx="4268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ctivity pla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llow up of the benchmar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ear time schedu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what needs to be don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om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til whe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alenda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xpert-mi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tudy vis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93CC-C5E6-42E7-B381-B98414494C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4381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dditional useful documentation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f5494"/>
                </a:solidFill>
                <a:uFillTx/>
                <a:latin typeface="Arial"/>
              </a:rPr>
              <a:t>minutes of the meeting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sults of discu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o be circulated to the beneficiarie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commendations mad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formal charact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inder for yourself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7A71-EC50-40FC-9E2E-116303ED0F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ing the Short Time Experts (STEs)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920" y="2349360"/>
            <a:ext cx="835344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be the bridge and the catalytic agent between the STEs and the national experts/working group members etc. (be proactive!)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riefing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verview and detai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derstanding the contex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put – absorption capacity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no need to separate the experts by M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ntinuity is needed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7792-EA2B-4B8D-9827-2FDFE62A76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5651640" y="3500280"/>
            <a:ext cx="2357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ing the STE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39640" y="227664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terms of reference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, objectives and agenda of the missions in due time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on’t waste expert 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llow the beneficiaries to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evaluate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e experts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mission reports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f the experts have to be done in due tim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35EB-0CFF-42A5-ACA8-0F3D888B43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5925960" y="2276640"/>
            <a:ext cx="29829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f5494"/>
                </a:solidFill>
                <a:latin typeface="Arial"/>
              </a:rPr>
              <a:t>  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Let‘s start our excursion!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What comes next?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692360" y="2481120"/>
            <a:ext cx="5616360" cy="411660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4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7110-EA95-4766-8B43-FD97DF0B30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 based Intranet / share poi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cess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-   Managemen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xperts MS and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orking group membe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1F60-2174-4BF5-A5E7-7E79737439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Share point - Intrane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D0F5-A9A2-4C1F-BE78-07027C8F08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32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Visibility – communica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ebsite – open for the publi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formation for the stakeholders and for the citizens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t takes time but it is essential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real added value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after finalization 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f the project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A255-ED0E-4A56-BD31-C2F6E314F0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770A-D7C8-45C1-90CE-59697A3854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3772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Visibility – start without delay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94C8-41A4-418C-BE2C-2A37BFE99F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2843280" y="3716280"/>
            <a:ext cx="2786040" cy="3029040"/>
          </a:xfrm>
          <a:prstGeom prst="rect">
            <a:avLst/>
          </a:prstGeom>
          <a:ln w="9360">
            <a:solidFill>
              <a:srgbClr val="bbe0e3">
                <a:alpha val="99000"/>
              </a:srgbClr>
            </a:solidFill>
            <a:miter/>
          </a:ln>
        </p:spPr>
      </p:pic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6012000" y="2174760"/>
            <a:ext cx="2447640" cy="4657680"/>
          </a:xfrm>
          <a:prstGeom prst="rect">
            <a:avLst/>
          </a:prstGeom>
          <a:ln w="0">
            <a:noFill/>
          </a:ln>
        </p:spPr>
      </p:pic>
      <p:sp>
        <p:nvSpPr>
          <p:cNvPr id="290" name="TextBox 6"/>
          <p:cNvSpPr/>
          <p:nvPr/>
        </p:nvSpPr>
        <p:spPr>
          <a:xfrm>
            <a:off x="365040" y="2565360"/>
            <a:ext cx="34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lyer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Brochure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Roll-up banners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older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B-Stick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Pencil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etc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During implementation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upport the needs of the BC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nchmarks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utput ori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provide additional inpu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elp the partners to contribut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realistic with your expec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ain optimistic and motivated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evelop plan B’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900B-CAAA-4176-B322-B5EB03B9A8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hallenge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olitical instabil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inuity in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bsorption capac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working stiles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behaviour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You need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patient, intercultural skills, enthusiasm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target-oriented work, not forget the goals!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9211-00EC-4E27-BEBC-82FD62DD53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5003640" y="1341360"/>
            <a:ext cx="39294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nalisation of the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meeting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cus on results/achievemen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commend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E0EF-E85A-4EDF-9015-21F5D36A62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5457960" y="2349360"/>
            <a:ext cx="3539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Networking and follow up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sit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nsure that all contact details are availa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Keep outputs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ntinue your support so far as possi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Keep in touch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esssons learned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uture cooperatio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3491-5D2F-428D-ADB3-4338073BC4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4932360" y="4581360"/>
            <a:ext cx="28209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Added value for the RTA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5280" y="2349360"/>
            <a:ext cx="7345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eaningful activity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peration, collegiality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dditional huge professional and life experienc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iplomatic and intercultural skill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national Managemen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Institution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.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ut: it is </a:t>
            </a:r>
            <a:r>
              <a:rPr b="1" i="1" lang="en-GB" sz="2400" spc="-1" strike="noStrike" u="sng">
                <a:solidFill>
                  <a:srgbClr val="0f5494"/>
                </a:solidFill>
                <a:uFillTx/>
                <a:latin typeface="Arial"/>
              </a:rPr>
              <a:t>hard work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!!!   </a:t>
            </a:r>
            <a:r>
              <a:rPr b="0" lang="en-GB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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lnSpc>
                <a:spcPct val="10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DC31-8355-41C2-8BFE-A83D7132F7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The Resident Twinning </a:t>
            </a: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Advisor</a:t>
            </a: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 (RTA)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Environment of the RTA 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Implementation of the project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Conclusions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6005-16B5-4E11-8057-8DFBF296B5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ime tabl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39040" y="61578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3756-0FDC-416B-ACE3-A18D72A693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1" name="Straight Connector 5"/>
          <p:cNvSpPr/>
          <p:nvPr/>
        </p:nvSpPr>
        <p:spPr>
          <a:xfrm>
            <a:off x="1042920" y="4076640"/>
            <a:ext cx="540072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2" name="Straight Connector 7"/>
          <p:cNvSpPr/>
          <p:nvPr/>
        </p:nvSpPr>
        <p:spPr>
          <a:xfrm flipV="1">
            <a:off x="1476360" y="4149360"/>
            <a:ext cx="489600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3" name="Straight Connector 9"/>
          <p:cNvSpPr/>
          <p:nvPr/>
        </p:nvSpPr>
        <p:spPr>
          <a:xfrm>
            <a:off x="1187280" y="4365720"/>
            <a:ext cx="6409080" cy="0"/>
          </a:xfrm>
          <a:prstGeom prst="line">
            <a:avLst/>
          </a:prstGeom>
          <a:ln w="69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4" name="Down Arrow 10"/>
          <p:cNvSpPr/>
          <p:nvPr/>
        </p:nvSpPr>
        <p:spPr>
          <a:xfrm>
            <a:off x="1079640" y="3645000"/>
            <a:ext cx="215640" cy="64764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afc551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5" name="Down Arrow 12"/>
          <p:cNvSpPr/>
          <p:nvPr/>
        </p:nvSpPr>
        <p:spPr>
          <a:xfrm rot="10800000">
            <a:off x="1135080" y="443052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00b0f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6" name="Down Arrow 13"/>
          <p:cNvSpPr/>
          <p:nvPr/>
        </p:nvSpPr>
        <p:spPr>
          <a:xfrm>
            <a:off x="8317080" y="3641760"/>
            <a:ext cx="215640" cy="64764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92d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7" name="Down Arrow 14"/>
          <p:cNvSpPr/>
          <p:nvPr/>
        </p:nvSpPr>
        <p:spPr>
          <a:xfrm>
            <a:off x="6012000" y="3659040"/>
            <a:ext cx="215640" cy="649440"/>
          </a:xfrm>
          <a:prstGeom prst="downArrow">
            <a:avLst>
              <a:gd name="adj1" fmla="val 50000"/>
              <a:gd name="adj2" fmla="val 50069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8" name="Down Arrow 15"/>
          <p:cNvSpPr/>
          <p:nvPr/>
        </p:nvSpPr>
        <p:spPr>
          <a:xfrm>
            <a:off x="4643280" y="367524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9" name="Down Arrow 18"/>
          <p:cNvSpPr/>
          <p:nvPr/>
        </p:nvSpPr>
        <p:spPr>
          <a:xfrm>
            <a:off x="1525680" y="3645000"/>
            <a:ext cx="215640" cy="64764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0" name="Down Arrow 19"/>
          <p:cNvSpPr/>
          <p:nvPr/>
        </p:nvSpPr>
        <p:spPr>
          <a:xfrm>
            <a:off x="3276720" y="3683160"/>
            <a:ext cx="215640" cy="64764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1" name="Down Arrow 20"/>
          <p:cNvSpPr/>
          <p:nvPr/>
        </p:nvSpPr>
        <p:spPr>
          <a:xfrm>
            <a:off x="1752480" y="3659040"/>
            <a:ext cx="216000" cy="64944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Down Arrow 23"/>
          <p:cNvSpPr/>
          <p:nvPr/>
        </p:nvSpPr>
        <p:spPr>
          <a:xfrm>
            <a:off x="7885080" y="365112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3" name="Down Arrow 24"/>
          <p:cNvSpPr/>
          <p:nvPr/>
        </p:nvSpPr>
        <p:spPr>
          <a:xfrm>
            <a:off x="7467480" y="36399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4" name="Down Arrow 25"/>
          <p:cNvSpPr/>
          <p:nvPr/>
        </p:nvSpPr>
        <p:spPr>
          <a:xfrm>
            <a:off x="7020000" y="3637080"/>
            <a:ext cx="216000" cy="6490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5" name="TextBox 26"/>
          <p:cNvSpPr/>
          <p:nvPr/>
        </p:nvSpPr>
        <p:spPr>
          <a:xfrm>
            <a:off x="142920" y="2538360"/>
            <a:ext cx="2665440" cy="42912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Arrival RTA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6" name="TextBox 28"/>
          <p:cNvSpPr/>
          <p:nvPr/>
        </p:nvSpPr>
        <p:spPr>
          <a:xfrm>
            <a:off x="127080" y="6021360"/>
            <a:ext cx="2087640" cy="764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Assistant Interpreter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7" name="Down Arrow 30"/>
          <p:cNvSpPr/>
          <p:nvPr/>
        </p:nvSpPr>
        <p:spPr>
          <a:xfrm rot="10800000">
            <a:off x="1368360" y="444168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d624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8" name="Down Arrow 31"/>
          <p:cNvSpPr/>
          <p:nvPr/>
        </p:nvSpPr>
        <p:spPr>
          <a:xfrm rot="10800000">
            <a:off x="1644480" y="442548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9" name="Down Arrow 32"/>
          <p:cNvSpPr/>
          <p:nvPr/>
        </p:nvSpPr>
        <p:spPr>
          <a:xfrm rot="10800000">
            <a:off x="3527280" y="4433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0" name="TextBox 33"/>
          <p:cNvSpPr/>
          <p:nvPr/>
        </p:nvSpPr>
        <p:spPr>
          <a:xfrm>
            <a:off x="4441680" y="5248440"/>
            <a:ext cx="1987560" cy="42912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tudy visit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1" name="TextBox 34"/>
          <p:cNvSpPr/>
          <p:nvPr/>
        </p:nvSpPr>
        <p:spPr>
          <a:xfrm>
            <a:off x="449280" y="5173560"/>
            <a:ext cx="2359080" cy="764280"/>
          </a:xfrm>
          <a:prstGeom prst="rect">
            <a:avLst/>
          </a:prstGeom>
          <a:solidFill>
            <a:srgbClr val="ffd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Current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ituation rep.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2" name="TextBox 35"/>
          <p:cNvSpPr/>
          <p:nvPr/>
        </p:nvSpPr>
        <p:spPr>
          <a:xfrm>
            <a:off x="1515960" y="3100320"/>
            <a:ext cx="1560600" cy="429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Kick-off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3" name="TextBox 36"/>
          <p:cNvSpPr/>
          <p:nvPr/>
        </p:nvSpPr>
        <p:spPr>
          <a:xfrm>
            <a:off x="2879640" y="5805360"/>
            <a:ext cx="1728720" cy="764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TE-Mission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4" name="TextBox 38"/>
          <p:cNvSpPr/>
          <p:nvPr/>
        </p:nvSpPr>
        <p:spPr>
          <a:xfrm>
            <a:off x="3311640" y="2517840"/>
            <a:ext cx="2203200" cy="1099440"/>
          </a:xfrm>
          <a:prstGeom prst="rect">
            <a:avLst/>
          </a:prstGeom>
          <a:solidFill>
            <a:srgbClr val="38d4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C-Meeting</a:t>
            </a:r>
            <a:br>
              <a:rPr sz="22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+ Quarterly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Reports!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5" name="Down Arrow 40"/>
          <p:cNvSpPr/>
          <p:nvPr/>
        </p:nvSpPr>
        <p:spPr>
          <a:xfrm rot="10800000">
            <a:off x="4340160" y="440820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6" name="Down Arrow 41"/>
          <p:cNvSpPr/>
          <p:nvPr/>
        </p:nvSpPr>
        <p:spPr>
          <a:xfrm rot="10800000">
            <a:off x="4033800" y="4433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Down Arrow 42"/>
          <p:cNvSpPr/>
          <p:nvPr/>
        </p:nvSpPr>
        <p:spPr>
          <a:xfrm rot="10800000">
            <a:off x="4643280" y="4456080"/>
            <a:ext cx="216000" cy="64944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Down Arrow 43"/>
          <p:cNvSpPr/>
          <p:nvPr/>
        </p:nvSpPr>
        <p:spPr>
          <a:xfrm rot="10800000">
            <a:off x="6457680" y="4414680"/>
            <a:ext cx="215640" cy="648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9" name="Down Arrow 44"/>
          <p:cNvSpPr/>
          <p:nvPr/>
        </p:nvSpPr>
        <p:spPr>
          <a:xfrm rot="10800000">
            <a:off x="5921280" y="440820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0" name="Down Arrow 45"/>
          <p:cNvSpPr/>
          <p:nvPr/>
        </p:nvSpPr>
        <p:spPr>
          <a:xfrm rot="10800000">
            <a:off x="5263920" y="4408200"/>
            <a:ext cx="215640" cy="64764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1" name="Down Arrow 46"/>
          <p:cNvSpPr/>
          <p:nvPr/>
        </p:nvSpPr>
        <p:spPr>
          <a:xfrm rot="10800000">
            <a:off x="5572080" y="442080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2" name="Down Arrow 47"/>
          <p:cNvSpPr/>
          <p:nvPr/>
        </p:nvSpPr>
        <p:spPr>
          <a:xfrm rot="10800000">
            <a:off x="4983120" y="4421160"/>
            <a:ext cx="216000" cy="64944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3" name="TextBox 49"/>
          <p:cNvSpPr/>
          <p:nvPr/>
        </p:nvSpPr>
        <p:spPr>
          <a:xfrm>
            <a:off x="7020000" y="2762280"/>
            <a:ext cx="15127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Final meeting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4" name="TextBox 50"/>
          <p:cNvSpPr/>
          <p:nvPr/>
        </p:nvSpPr>
        <p:spPr>
          <a:xfrm>
            <a:off x="7683480" y="4365720"/>
            <a:ext cx="12096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Final report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5" name="TextBox 51"/>
          <p:cNvSpPr/>
          <p:nvPr/>
        </p:nvSpPr>
        <p:spPr>
          <a:xfrm>
            <a:off x="6673680" y="5253120"/>
            <a:ext cx="244800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Late feedback from the BC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6" name="Down Arrow 60"/>
          <p:cNvSpPr/>
          <p:nvPr/>
        </p:nvSpPr>
        <p:spPr>
          <a:xfrm rot="10800000">
            <a:off x="3166560" y="4441680"/>
            <a:ext cx="217800" cy="648000"/>
          </a:xfrm>
          <a:prstGeom prst="downArrow">
            <a:avLst>
              <a:gd name="adj1" fmla="val 50000"/>
              <a:gd name="adj2" fmla="val 49945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7" name="Down Arrow 61"/>
          <p:cNvSpPr/>
          <p:nvPr/>
        </p:nvSpPr>
        <p:spPr>
          <a:xfrm rot="10800000">
            <a:off x="2817720" y="444168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8" name="Down Arrow 62"/>
          <p:cNvSpPr/>
          <p:nvPr/>
        </p:nvSpPr>
        <p:spPr>
          <a:xfrm rot="10800000">
            <a:off x="2448000" y="442548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9" name="Down Arrow 63"/>
          <p:cNvSpPr/>
          <p:nvPr/>
        </p:nvSpPr>
        <p:spPr>
          <a:xfrm rot="10800000">
            <a:off x="2079360" y="4425480"/>
            <a:ext cx="215640" cy="64764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50" name="Down Arrow 64"/>
          <p:cNvSpPr/>
          <p:nvPr/>
        </p:nvSpPr>
        <p:spPr>
          <a:xfrm rot="10800000">
            <a:off x="6203880" y="441468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51" name="Down Arrow 65"/>
          <p:cNvSpPr/>
          <p:nvPr/>
        </p:nvSpPr>
        <p:spPr>
          <a:xfrm rot="10800000">
            <a:off x="6948360" y="441468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52" name="Down Arrow 66"/>
          <p:cNvSpPr/>
          <p:nvPr/>
        </p:nvSpPr>
        <p:spPr>
          <a:xfrm rot="10800000">
            <a:off x="6707160" y="4417560"/>
            <a:ext cx="217440" cy="647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6836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THANK YOU FOR YOUR ATTENTION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1923-CDB9-4B09-8EF1-87A3F6320C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5276880" cy="2652840"/>
          </a:xfrm>
          <a:prstGeom prst="rect">
            <a:avLst/>
          </a:prstGeom>
          <a:ln w="0">
            <a:noFill/>
          </a:ln>
        </p:spPr>
      </p:pic>
      <p:sp>
        <p:nvSpPr>
          <p:cNvPr id="356" name="TextBox 1"/>
          <p:cNvSpPr/>
          <p:nvPr/>
        </p:nvSpPr>
        <p:spPr>
          <a:xfrm>
            <a:off x="1042920" y="5229360"/>
            <a:ext cx="6697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GOOD  LUCK  AND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SUCCESS!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Rudolf.Span@ec.europa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Tas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rdination of the implementation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hievement of the mandatory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support for the beneficiary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institution – a real colleagu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6E8A-97C5-435E-B67C-70FBFC2288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2538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Behaviour - Diplomatic skill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your country of origi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the European Union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llaboration on very high level: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Ambassadors, Ministers, Secretaries of State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U-Delegation/Representation, EU-Commiss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xecutive board of different stakeholder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.g. associations, NGOs, industry etc.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173A-68AA-461A-8131-14ED6B5855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competenc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expertis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Union legi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- structure and functioning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7BA8-CFDB-4166-844D-6811B3ED93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019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star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Your expectation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9B8E-6BAE-427D-8FFA-480EE1AEE9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3456000" cy="2101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4160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reality?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E87E-D867-464F-A990-C79070A6B2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5" name="Content Placeholder 4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592720" cy="384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4913280" y="1778040"/>
            <a:ext cx="376092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European Commission</dc:creator>
  <dc:description/>
  <dc:language>en-US</dc:language>
  <cp:lastModifiedBy>SANTUCCIONE Lucia (DEVCO)</cp:lastModifiedBy>
  <cp:lastPrinted>2012-07-17T17:07:43Z</cp:lastPrinted>
  <dcterms:modified xsi:type="dcterms:W3CDTF">2016-07-01T11:44:58Z</dcterms:modified>
  <cp:revision>285</cp:revision>
  <dc:subject/>
  <dc:title>PowerPoint Presentation</dc:title>
</cp:coreProperties>
</file>