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1B5-1922-43B4-9E2B-B53035F7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D7EA-3D2D-43CE-AFAB-0A6C85C2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5BE-6500-42E3-8A3E-6ACA3A3C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504-9F15-423A-8BEC-2A39CC4E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9AEE-A249-4E23-8EB9-EC06EB5B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6811-4ED6-4D90-810D-C1AD3B5A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E9AF-7FDB-4946-88B3-0AB714BF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1E4C-5B0C-4525-AE22-44CF5A13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A738-4EC9-4F73-8244-01247AA1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5029-4927-423B-9DAE-8C5EDA95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3099-4C2E-45A1-872D-26665DBE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B1C-C7D7-4DD0-BA87-6F9B0132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A055-2A56-4DD6-9682-8F4918E8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5359-DE38-4ED5-9A56-5B85AB7A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D557-AFCF-497A-954C-B555EB13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0C13-8D59-4F7C-B52A-697B149B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9E20-820D-40C9-9CEC-BBC46B05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B313-C665-4F6F-B0FB-C5D1DC0C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02A-A420-48ED-A037-B10863ED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67BB-2A12-4C90-8115-C532A815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6BC7-C813-4539-B8E3-E119246F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298-8343-497A-AD82-FE32D360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C1F-8252-4F8C-9878-0704D72C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62BD-5767-4F13-A4FB-BA88A842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5EB5-7CD5-4002-B0E1-1916DC7469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42E2-A2E7-4116-9A88-8DCF434AEB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7182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Bank EE Work in Western Balkans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ussels, November 18, 2008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ter Johan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Energy Speci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ries with Ongoing WB EE Projects in S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gar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atia (IBRD and 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edo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enegro (IBRD) – under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bia (IB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bia E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RD loan $21 million implemented in Phase 1 and additional $28 million allocated for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habilitation of Clinical Centre in Belgrade as well as schools, universities, hospitals and orphanages across Se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ings in the order of 40-50% ex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pay-back time around 4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edonia Sustainable Energy Pro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period 2007-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F grant of $5.5m: (TA, ESCO support, EE/RE Financing Faci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financed by $2.8m from GoM and the Macedonian Bank for Development 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emphasis on policy and institutional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ular emphasis on public sector buildings (e.g. schools and hospit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debt finance and guarantees fores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to ESCO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idies often dominate and condition the market for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FIs will need extensive tr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 and hand-holding before they will be willing/able to lend for EE and develop a project pip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 funds can help kick-start EE market and get local FIs invol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procurement regulations can be serious impediments for ESCO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CO projects often need substantial “co-financing” because clients want high-cos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arket segments, e.g. hospitals, may need guarantees before EE investments are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 capacity is often main barr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Balkans Energy Efficiency Stu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implementation of NE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alculation of energy efficiency indicators and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gaps in exist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institutional framework and bar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public sect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ector should be first mover - leading by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market for suppliers and consultants that will benefit private sector 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-specific reports during Summ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 sector: Important potential for EE improv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idential sector: complex and with limi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ustrial sector: Statistical data show potential but in reality there are large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jor gaps in the enabling framework for 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titutional capacity to formulate and implement EE policy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otential for overlap between IFIs/donors (e.g. EC, EBRD, EIB, KfW, USAID, UNE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stimation of sector-specific potential and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valuation of the applicability and transferability of promising public-private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dentification of institutional, financing (including carbon finance) and financial intermediation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osing improvements to the institutional and regulatory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ools in the Toolb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BRD loans to governments and directly to companies (including F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s from WB-administered trust funds (e.g. GE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al credit and risk guarant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national loans – WB/IFC co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C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Finance / Green Investmen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6:53:01Z</dcterms:created>
  <dc:creator>wb82334</dc:creator>
  <dc:description/>
  <dc:language>en-US</dc:language>
  <cp:lastModifiedBy>wb82334</cp:lastModifiedBy>
  <dcterms:modified xsi:type="dcterms:W3CDTF">2008-11-18T07:06:04Z</dcterms:modified>
  <cp:revision>9</cp:revision>
  <dc:subject/>
  <dc:title>World Bank Financial Assistance to EE in Buildings.  Scale-Up Options Ljubljana, June 04, 2008 </dc:title>
</cp:coreProperties>
</file>