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208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562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562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E56CF4-741A-4D59-B341-E8F71A534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2280" y="4379400"/>
            <a:ext cx="5549760" cy="414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Step Forward in rais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cessional financing for climate change mitigation and adaptation. This is the second pillar of the Strategic Framework on Climate Change and Development (SFCC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orldbank.org/climatecon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744-F057-4732-8523-86C705A3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EF8-848A-470B-A2FB-999A0815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B6C-33C4-4CE9-BE1A-8A4E2842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F80-E883-488A-8858-014699EA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491-9229-475E-BD2E-320D7C3C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45E-C44B-442F-BBAE-B2E9965A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6B9-7326-414A-A823-1431AA90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34D-6FE8-4F10-99A3-A1224088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619-6D85-40C2-80A7-61D9560E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B96-6A90-4CA7-8A29-1F5BD3D5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8D6-D69A-4836-9FBA-8C1BF566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B5E-4B98-4654-95CF-45B14FA5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C189-7F02-48C4-96A5-7900C7155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mate Investment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554-7552-4CB4-9B04-07006CE933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Trust Fund Committee to approve investment criteria and financing terms in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Plan joint mission will commence in November/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likely to consider funding proposals in earl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9E3-27F9-4605-81E6-75449AF92F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819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725-FF7B-4571-9111-0CEF420E99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Building on New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Environmental Transformation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 Cool Earth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B, AfDB, EBRD, IDB and the WBG joined forces to establish a portfolio of funds to scale up investments to address the challenges of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4771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34320" y="6400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36576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Joining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C46-D938-4EAB-B0CB-71DDDFBE6E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IF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 skills and capabilities of MDBs to deliver financing at significant scale to unleash the potential of the public and private sectors to address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ment other multilateral financial mechanisms, such as GEF and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 “sunset clause” to avoid pre-judging a futur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together number of emerging initiatives to address climate change – providing coherence and avoiding proliferation of many smal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EE0-6F25-44EB-97CB-513DE05D7C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IF:  Two New Trust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Technology Fund:  will provide scaled-up financing to contribute to demonstration, deployment and transfer of low-carbon technologies with a significant potential for long-term greenhouse gas emissions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Climate Funds:  broader and more flexible in scope – overarching fund to support various programs to test innovative approaches to clima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8F9-8A16-42AB-AFD6-7D62DCBD01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57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419720"/>
            <a:ext cx="1143000" cy="22096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SCF Program 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ructure of Two Funds </a:t>
            </a:r>
            <a:br>
              <a:rPr sz="3200"/>
            </a:b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2362320"/>
            <a:ext cx="731520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743040" indent="-285840" algn="ctr"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ship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71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63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505320"/>
            <a:ext cx="2971800" cy="3808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200400"/>
            <a:ext cx="3276720" cy="3808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ategic Climate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038480"/>
            <a:ext cx="2971800" cy="381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contributors/ 5 recip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419720"/>
            <a:ext cx="1143000" cy="2209680"/>
          </a:xfrm>
          <a:prstGeom prst="rect">
            <a:avLst/>
          </a:prstGeom>
          <a:solidFill>
            <a:srgbClr val="99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Pilot Program for </a:t>
            </a: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limate Resilience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4419720"/>
            <a:ext cx="1143000" cy="2209680"/>
          </a:xfrm>
          <a:prstGeom prst="rect">
            <a:avLst/>
          </a:prstGeom>
          <a:solidFill>
            <a:srgbClr val="3333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F Program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00400"/>
            <a:ext cx="3276720" cy="3808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648320"/>
            <a:ext cx="3276720" cy="19810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ers from organizations with mandates to provide investment in clean technology, such as GEF and observer from UN for broad strategic discu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259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581280"/>
            <a:ext cx="259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81280"/>
            <a:ext cx="3124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to include 8 representatives from donors, 8 representatives from recipient countries; the country whose program or project is under consideration; representative of  World Bank; representative of MDBs on rotating ba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581280"/>
            <a:ext cx="3124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8 representatives from donors, 8 representatives from recipient countries, representatives from  World Bank, representatives from MDBs on a rotating basis, observers from GEF, UNEP, UNFCCC and civil societ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F will focus on high abatement opportunities at the country level - could also support sub-regional and reg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dges:  US$5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echnology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investments in the power and transport sectors as well as energy efficiency in buildings, industry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s blend/suite of concessional financing instruments (grants, concessional loans) and risk mitigation instruments (guarant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01C-917B-475D-BE8B-23FD4AFB4D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Eligibilit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A-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ive MDB countr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a to prioritize programs and projects to be agreed by Trust Fund Committee to allow an assessment of transformative potential and to maximize GHG reductions per dollar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GHG sav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ion potential at sc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impac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BA4-5E4C-4325-B635-D7CDB1878F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in National-Level Market Low-carbo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171880" y="2565360"/>
          <a:ext cx="4800600" cy="3600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565360"/>
                    <a:ext cx="4800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448-6DED-419A-B637-C590F924FB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rocedures for Approving CIF 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:  Trust Fund Committee will review investment plans and will approve use of CTF funds for projects and programs at pre-appraisal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financed by an MDB will follow the MDB’s operational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E41-A27B-45DC-AF5B-359CC78AEF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23:34Z</dcterms:created>
  <dc:creator>Wb318597</dc:creator>
  <dc:description/>
  <dc:language>en-US</dc:language>
  <cp:lastModifiedBy>WB145722</cp:lastModifiedBy>
  <dcterms:modified xsi:type="dcterms:W3CDTF">2008-10-22T17:52:48Z</dcterms:modified>
  <cp:revision>336</cp:revision>
  <dc:subject/>
  <dc:title>Towards A Strategic Framework on Climate Change for  the World Bank Group</dc:title>
</cp:coreProperties>
</file>