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85EC-3006-475D-88D3-D96549EF4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garia, Romania, Slovak Republic, Hungary, Czech Republic have the lowest % of participation of adults in education and training—all less than 6% vs. 20-35% in more advanced European econom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081F5-3F9C-40EA-B005-CDD867CAFF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66320" y="398484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05D8D-BA8E-4D18-B845-648C73CF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101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A1A80-7CA4-4A90-A026-B8891C19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6840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27048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06632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6840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27048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AA65B-464E-4E8E-9A4F-CA7DF0F5D1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E23B6-6158-4625-A325-78DE7204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101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66320" y="398484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101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6840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7048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6632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66840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7048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1317E-9809-415C-968D-B4D9C344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54F33-F612-49AC-BCB3-A2FAFBB8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A6FAB-E6A0-4CFF-927F-85053CD6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E41B9-6945-4AD1-AD4B-FA6E4EF6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C2E0D-3232-4389-948E-772BFDA7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01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3C7F3-E269-4049-9B61-AB6B5BD3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2EAD5-C4BE-438C-BFF3-564A1FA4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4D84-D272-4F75-9680-0DB6B05B0E22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518148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143000" y="0"/>
            <a:ext cx="594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7240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0D33-9C70-4ADE-9446-BADAAF2A903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518148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04920" y="2133720"/>
            <a:ext cx="693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5438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0814-7799-4347-8B20-503840065CC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1143000" y="0"/>
            <a:ext cx="800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914400" y="0"/>
            <a:ext cx="8229600" cy="304920"/>
          </a:xfrm>
          <a:prstGeom prst="rect">
            <a:avLst/>
          </a:prstGeom>
          <a:gradFill rotWithShape="0">
            <a:gsLst>
              <a:gs pos="0">
                <a:srgbClr val="808080">
                  <a:alpha val="26274"/>
                </a:srgbClr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Arial Unicode MS"/>
              </a:rPr>
              <a:t>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fd6c3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0" y="5943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077320" y="0"/>
            <a:ext cx="10666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ftr" idx="3"/>
          </p:nvPr>
        </p:nvSpPr>
        <p:spPr>
          <a:xfrm>
            <a:off x="1066320" y="6552720"/>
            <a:ext cx="5334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nhancing Job Opportunities in E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0"/>
            <a:ext cx="8229600" cy="304920"/>
          </a:xfrm>
          <a:prstGeom prst="rect">
            <a:avLst/>
          </a:prstGeom>
          <a:gradFill rotWithShape="0">
            <a:gsLst>
              <a:gs pos="0">
                <a:srgbClr val="969696">
                  <a:alpha val="26274"/>
                </a:srgbClr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fd6c3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5943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18148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0"/>
            <a:ext cx="800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676520" y="35812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rdon Betcherm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ld Ba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IAG Meeting on Huma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ne 17,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294920" y="1447560"/>
            <a:ext cx="7162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ducation and the Labor Market in the Balkan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aising participation in lifelong learning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9376" t="26879" r="12189" b="20879"/>
          <a:stretch/>
        </p:blipFill>
        <p:spPr>
          <a:xfrm>
            <a:off x="1066680" y="2360520"/>
            <a:ext cx="7845480" cy="4019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82440" y="1905120"/>
            <a:ext cx="80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icipation of Adults in Education and Training in Selected EU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4120"/>
            <a:ext cx="60984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533412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E countries have employment rates below EU standards, often well below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66680" y="1523880"/>
          <a:ext cx="739152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73915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411600" y="1523880"/>
            <a:ext cx="2262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bon EU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% employment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876560" y="1828800"/>
            <a:ext cx="1447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32600" y="5181480"/>
            <a:ext cx="97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7086240" y="36576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4600" y="1736640"/>
            <a:ext cx="1305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bs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4760" y="213372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eating more and better job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“MILES” multisectoral framework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4680" y="2109600"/>
            <a:ext cx="52704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ahoma"/>
              </a:rPr>
              <a:t>I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cc00"/>
                </a:solidFill>
                <a:latin typeface="Tahoma"/>
              </a:rPr>
              <a:t>L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8000"/>
                </a:solidFill>
                <a:latin typeface="Tahoma"/>
              </a:rPr>
              <a:t>E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8000"/>
                </a:solidFill>
                <a:latin typeface="Tahoma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904760" y="2133720"/>
            <a:ext cx="445140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croeconomic stabilit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nvestment climat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bor market reform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ucation and skill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cial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afety ne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20968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3657600"/>
            <a:ext cx="76320" cy="1828800"/>
          </a:xfrm>
          <a:custGeom>
            <a:avLst/>
            <a:gdLst>
              <a:gd name="textAreaLeft" fmla="*/ 0 w 76320"/>
              <a:gd name="textAreaRight" fmla="*/ 27360 w 763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2590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Job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Labor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2514600"/>
            <a:ext cx="198108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4267080"/>
            <a:ext cx="1981080" cy="6098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838080" y="838080"/>
          <a:ext cx="876312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87631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tacles to firm growth -- SEE (BEEPS 2005)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809880"/>
            <a:ext cx="2286000" cy="3049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ance of skills/education of workers as a barrier to growth (BEEPS 2005)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1506600"/>
          <a:ext cx="8854920" cy="474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6600"/>
                    <a:ext cx="885492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174280" y="2057400"/>
            <a:ext cx="35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of firms that reporting as a significant con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ing will mean that working age population will need to be productive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1681200"/>
          <a:ext cx="80262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81200"/>
                    <a:ext cx="80262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987560" y="198108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change in population, 1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s of age, 2005-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ducation leads to better employment outcomes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-29 year olds, non-agriculture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66680" y="1828800"/>
          <a:ext cx="77724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7724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ucation is also rewarded in higher earning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usted wage premium relative to basic edu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agriculture workers under 35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66680" y="2209680"/>
          <a:ext cx="769644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76964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2133720" cy="1962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743200" y="4495680"/>
            <a:ext cx="2362320" cy="1563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351600" y="1371600"/>
            <a:ext cx="247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9b80"/>
                </a:solidFill>
                <a:latin typeface="Arial"/>
              </a:rPr>
              <a:t>Educ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69b80"/>
                </a:solidFill>
                <a:latin typeface="Arial"/>
              </a:rPr>
              <a:t>Are skills adequ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480060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9b80"/>
                </a:solidFill>
                <a:latin typeface="Arial"/>
              </a:rPr>
              <a:t>Labo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69b80"/>
                </a:solidFill>
                <a:latin typeface="Arial"/>
              </a:rPr>
              <a:t>Are good jobs availabl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1143000"/>
            <a:ext cx="27432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4572000"/>
            <a:ext cx="23623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2"/>
          </p:cNvCxnSpPr>
          <p:nvPr/>
        </p:nvCxnSpPr>
        <p:spPr>
          <a:xfrm flipH="1" rot="16200000">
            <a:off x="1770840" y="2476440"/>
            <a:ext cx="2171880" cy="1905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3656880" y="304812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9b80"/>
                </a:solidFill>
                <a:latin typeface="Arial"/>
              </a:rPr>
              <a:t>Transition for school to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2666880"/>
            <a:ext cx="365760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2:56:19Z</dcterms:created>
  <dc:creator>ED4Admin</dc:creator>
  <dc:description/>
  <dc:language>en-US</dc:language>
  <cp:lastModifiedBy>ED4Admin</cp:lastModifiedBy>
  <dcterms:modified xsi:type="dcterms:W3CDTF">2008-06-16T15:25:45Z</dcterms:modified>
  <cp:revision>8</cp:revision>
  <dc:subject/>
  <dc:title>Education and the Labor Market in the Western Balkans</dc:title>
</cp:coreProperties>
</file>