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E88-B9AB-4E52-BE6A-DE96BD3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647-4B0E-45E3-8684-0583763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FDB-A38D-4FBF-8A46-4AE11CF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A81-B95A-495D-833D-138709C9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036-7AC6-492E-BAF7-76613AC0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C45-5609-4E53-8997-77741F6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E357-A5D9-439C-97BF-B0DDC384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124E-B411-474B-BCB6-68340D2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9A98-D3FA-4C4F-9893-2B1ED67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78B-B9FE-43F9-B65F-041D02B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20C-3EB0-43C0-B0E8-2FF9981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86B-C7A6-4579-B4B5-388AF567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1EB4-BE45-4076-AAAB-01661A0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BBE-DAB9-44F6-8C98-75624AE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1A0-9E98-4CE1-9DB1-F0CE9F1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25D-5AF4-4F9F-976A-551BD16D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B362-8EF3-4C14-AFEA-0D9171FF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523-832F-43E2-9707-D88D34C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E66-EF95-46E9-9A48-642B3D2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CD9-26A4-4C9E-B5A0-A0711C3E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F8B-0539-4915-80BC-F796DC2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772-747E-41B8-90A7-30E76BDF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D87-3D85-43D3-AED4-442CB60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9E6-60E1-4302-9A92-A7361B7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2B1-AC44-499A-A67E-859A9D47E8A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5000" y="2064960"/>
            <a:ext cx="86835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85F-983F-405F-9751-A78AE0F9DD53}" type="slidenum">
              <a:rPr b="0" lang="en-GB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f218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0280" y="1866600"/>
            <a:ext cx="8648640" cy="188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Delivering lifelong learning for knowledge, creativity and innovation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520" y="4808160"/>
            <a:ext cx="8408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raft Joint Progress Report on Education &amp; Training 2010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ducation Committee, Lisbon, 3 December 2007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rdon Clark, Michael Teutsch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uropean Commission, DG Education and Cultur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nnovation and creativ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ducation as key element in the knowledge triangle </a:t>
            </a:r>
            <a:br>
              <a:rPr sz="3200"/>
            </a:b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(education – research – innovation)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Centres of excelle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niversity-business co-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chools and VE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5C6-46F4-44DB-BFE7-3C8C7B2673D9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reas addressed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6680" y="2058480"/>
            <a:ext cx="8229600" cy="36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LL strategies and transversal issu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VET and adult learn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ropean co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804-46A5-4E7B-A379-52FAE0C3D87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268200"/>
            <a:ext cx="8317080" cy="126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LLL strategies (2002 resolution, efficiency/equity, guidelines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vering all systems and level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t set of priorities, evidence-based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flexible pathways and transition points: avoid dead-e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: partnership with stakeholder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6A8-AC6D-4D99-A495-FA56AAA47AD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282600"/>
            <a:ext cx="6888240" cy="117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Some progress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1239480"/>
            <a:ext cx="8775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Majority of countries have explicit strategi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mprehensiveness. Progress on validation of non-formal, still focus on formal system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ce: progress on evidence base + flexible learning pathways (qualification frameworks)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, partnership and funding as main challeng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84A-B7C4-4B23-BAA6-AEB9FA35C4C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7B87-3B48-43AF-8ACF-7072B2B3817E}" type="slidenum">
              <a:rPr b="0" lang="de-DE" sz="14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12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12" descr="map"/>
          <p:cNvPicPr/>
          <p:nvPr/>
        </p:nvPicPr>
        <p:blipFill>
          <a:blip r:embed="rId2"/>
          <a:stretch/>
        </p:blipFill>
        <p:spPr>
          <a:xfrm>
            <a:off x="2124000" y="1020600"/>
            <a:ext cx="4969080" cy="478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98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Tahoma"/>
                <a:ea typeface="Arial"/>
              </a:rPr>
              <a:t>Countries’ situation in relation to development of qualifications framewor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Tahoma"/>
                <a:ea typeface="Arial"/>
              </a:rPr>
              <a:t>This map represents the situation as of November 2007, which is in constant evolution.  Most of the countries in red are considering the option of having a National Qualifications Framework but have not yet taken a decis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163520"/>
          <a:ext cx="1871640" cy="5694480"/>
        </p:xfrm>
        <a:graphic>
          <a:graphicData uri="http://schemas.openxmlformats.org/drawingml/2006/table">
            <a:tbl>
              <a:tblPr/>
              <a:tblGrid>
                <a:gridCol w="1071720"/>
                <a:gridCol w="7999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99280" y="828720"/>
          <a:ext cx="1944720" cy="6029280"/>
        </p:xfrm>
        <a:graphic>
          <a:graphicData uri="http://schemas.openxmlformats.org/drawingml/2006/table">
            <a:tbl>
              <a:tblPr/>
              <a:tblGrid>
                <a:gridCol w="1108080"/>
                <a:gridCol w="836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T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24000" y="5805360"/>
          <a:ext cx="4753080" cy="1027080"/>
        </p:xfrm>
        <a:graphic>
          <a:graphicData uri="http://schemas.openxmlformats.org/drawingml/2006/table">
            <a:tbl>
              <a:tblPr/>
              <a:tblGrid>
                <a:gridCol w="962280"/>
                <a:gridCol w="3790800"/>
              </a:tblGrid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has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is developing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462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which has not yet taken a decision to have a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A49-6673-48DC-B093-253A03EA7D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VET and adult learn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622520"/>
            <a:ext cx="87249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Participation of older workers and low-skilled very low – equity, potential of migrants!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Quality and attractivenes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links with labour market nee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transition and guida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nsufficient mobility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766-DC6B-4D5E-8E41-AB7A802CE1A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uropean co-oper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9796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Mobility: link national measures to LLP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&amp;T in national Lisbon programm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ink to structural fu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 reference too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8D1-EF6E-45A8-8BFA-A7CB8C4D668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European co-operation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mproved governance + post-2010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7668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Strengthen OMC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terface with other policie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Better use of peer learning result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Close coordination with Lisbon at EU and national level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dicators and benchmark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Participation of civil societ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Development of post-2010 strateg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A43-4332-4F01-9317-EAF69641A85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LLL to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chieve efficiency and equ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ing the knowledge base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ustainable fund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raising skills leve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addressing socio-economic disadvantag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sing the potential of migrant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high quality teach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7D6-5FE6-45A2-873E-4A763C002BC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Macdonald</dc:creator>
  <dc:description/>
  <cp:keywords>Culture Economy Lisbon Strategy</cp:keywords>
  <dc:language>en-US</dc:language>
  <cp:lastModifiedBy>verlian</cp:lastModifiedBy>
  <dcterms:modified xsi:type="dcterms:W3CDTF">2008-06-16T17:09:24Z</dcterms:modified>
  <cp:revision>117</cp:revision>
  <dc:subject>Culture</dc:subject>
  <dc:title>The Economy of Culture in Europe</dc:title>
</cp:coreProperties>
</file>