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283F-9497-4982-B677-DB528DCE7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aria, Romania, Slovak Republic, Hungary, Czech Republic have the lowest % of participation of adults in education and training—all less than 6% vs. 20-35% in more advanced European econom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9790-4771-4159-B119-E75FB91BF0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1241-9098-4530-9B4C-6169EAFB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581B-2752-4D5E-A1C7-EABC10A8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6840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27048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32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6840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27048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BA90-4309-4417-A42D-C929EEDC56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452A-115C-4B3F-9320-2585F645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6840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7048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32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6840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7048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4F5D-3809-4AD1-A919-A1B769FC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2A71-636D-4139-99E7-C5358584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7FC6-B69B-440E-B58C-C1D74528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0987-D134-4AAA-99D2-28B7FE08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41EB-E607-4CB5-B163-D9BF3428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4921-A716-46A1-B182-9E22A99F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E66C-9558-45DA-982E-6ECBB40A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1C9D-1B63-4064-8D10-210C3007A53C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51814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143000" y="0"/>
            <a:ext cx="594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7240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C618-C795-4C1A-BD8E-1A4ECE3ED48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1814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04920" y="2133720"/>
            <a:ext cx="693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5438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2429-06C0-42D7-ABE1-9E7D1440051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143000" y="0"/>
            <a:ext cx="80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4400" y="0"/>
            <a:ext cx="8229600" cy="304920"/>
          </a:xfrm>
          <a:prstGeom prst="rect">
            <a:avLst/>
          </a:prstGeom>
          <a:gradFill rotWithShape="0">
            <a:gsLst>
              <a:gs pos="0">
                <a:srgbClr val="808080">
                  <a:alpha val="26274"/>
                </a:srgbClr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 Unicode MS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fd6c3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077320" y="0"/>
            <a:ext cx="1066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ftr" idx="3"/>
          </p:nvPr>
        </p:nvSpPr>
        <p:spPr>
          <a:xfrm>
            <a:off x="1066320" y="6552720"/>
            <a:ext cx="5334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hancing Job Opportunities in E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0"/>
            <a:ext cx="8229600" cy="304920"/>
          </a:xfrm>
          <a:prstGeom prst="rect">
            <a:avLst/>
          </a:prstGeom>
          <a:gradFill rotWithShape="0">
            <a:gsLst>
              <a:gs pos="0">
                <a:srgbClr val="969696">
                  <a:alpha val="26274"/>
                </a:srgbClr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fd6c3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1814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0"/>
            <a:ext cx="80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676520" y="35812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rdon Betcher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ld 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IAG Meeting on Huma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ne 17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294920" y="1447560"/>
            <a:ext cx="7162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ducation and the Labor Market in the Balkan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ising participation in lifelong learning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9376" t="26879" r="12189" b="20879"/>
          <a:stretch/>
        </p:blipFill>
        <p:spPr>
          <a:xfrm>
            <a:off x="1066680" y="2360520"/>
            <a:ext cx="7845480" cy="4019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82440" y="1905120"/>
            <a:ext cx="80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ipation of Adults in Education and Training in Selected EU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4120"/>
            <a:ext cx="6098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53341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E countries have employment rates below EU standards, often well below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523880"/>
          <a:ext cx="73915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73915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411600" y="1523880"/>
            <a:ext cx="2262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bon EU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% employmen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876560" y="1828800"/>
            <a:ext cx="1447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32600" y="5181480"/>
            <a:ext cx="97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7086240" y="36576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4600" y="1736640"/>
            <a:ext cx="1305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bs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4760" y="213372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eating more and better job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“MILES” multisectoral framework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4680" y="2109600"/>
            <a:ext cx="52704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cc00"/>
                </a:solidFill>
                <a:latin typeface="Tahoma"/>
              </a:rPr>
              <a:t>L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8000"/>
                </a:solidFill>
                <a:latin typeface="Tahoma"/>
              </a:rPr>
              <a:t>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8000"/>
                </a:solidFill>
                <a:latin typeface="Tahoma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904760" y="2133720"/>
            <a:ext cx="44514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croeconomic stabilit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nvestment climat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bor market refor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ucation and skill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cial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afety ne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20968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3657600"/>
            <a:ext cx="76320" cy="1828800"/>
          </a:xfrm>
          <a:custGeom>
            <a:avLst/>
            <a:gdLst>
              <a:gd name="textAreaLeft" fmla="*/ 0 w 76320"/>
              <a:gd name="textAreaRight" fmla="*/ 2736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2590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Job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Labor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2514600"/>
            <a:ext cx="198108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4267080"/>
            <a:ext cx="1981080" cy="609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838080" y="838080"/>
          <a:ext cx="87631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8763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tacles to firm growth -- SEE (BEEPS 2005)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809880"/>
            <a:ext cx="2286000" cy="3049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ce of skills/education of workers as a barrier to growth (BEEPS 2005)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506600"/>
          <a:ext cx="8854920" cy="47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6600"/>
                    <a:ext cx="885492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174280" y="205740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of firms that reporting as a significant con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ing will mean that working age population will need to be productive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681200"/>
          <a:ext cx="80262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81200"/>
                    <a:ext cx="80262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987560" y="198108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change in population, 1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s of age, 2005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ducation leads to better employment outcomes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-29 year olds, non-agriculture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1828800"/>
          <a:ext cx="77724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772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ation is also rewarded in higher earning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usted wage premium relative to basic edu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agriculture workers under 35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66680" y="2209680"/>
          <a:ext cx="769644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6964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2133720" cy="196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43200" y="4495680"/>
            <a:ext cx="2362320" cy="1563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351600" y="1371600"/>
            <a:ext cx="247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9b80"/>
                </a:solidFill>
                <a:latin typeface="Arial"/>
              </a:rPr>
              <a:t>Educ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9b80"/>
                </a:solidFill>
                <a:latin typeface="Arial"/>
              </a:rPr>
              <a:t>Are skills adequ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480060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9b80"/>
                </a:solidFill>
                <a:latin typeface="Arial"/>
              </a:rPr>
              <a:t>Labo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9b80"/>
                </a:solidFill>
                <a:latin typeface="Arial"/>
              </a:rPr>
              <a:t>Are good jobs availab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1143000"/>
            <a:ext cx="27432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4572000"/>
            <a:ext cx="23623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2"/>
          </p:cNvCxnSpPr>
          <p:nvPr/>
        </p:nvCxnSpPr>
        <p:spPr>
          <a:xfrm flipH="1" rot="16200000">
            <a:off x="1770840" y="2476440"/>
            <a:ext cx="2171880" cy="1905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3656880" y="304812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9b80"/>
                </a:solidFill>
                <a:latin typeface="Arial"/>
              </a:rPr>
              <a:t>Transition for school t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2666880"/>
            <a:ext cx="365760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2:56:19Z</dcterms:created>
  <dc:creator>ED4Admin</dc:creator>
  <dc:description/>
  <dc:language>en-US</dc:language>
  <cp:lastModifiedBy>ED4Admin</cp:lastModifiedBy>
  <dcterms:modified xsi:type="dcterms:W3CDTF">2008-06-16T15:25:45Z</dcterms:modified>
  <cp:revision>8</cp:revision>
  <dc:subject/>
  <dc:title>Education and the Labor Market in the Western Balkans</dc:title>
</cp:coreProperties>
</file>