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6475-8DA9-488C-9D61-95C286800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03840"/>
            <a:ext cx="822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D4B6-7DB3-4B8F-A235-88DF64ED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0384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0384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F7F6-262D-481B-997D-206FE6E28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03840"/>
            <a:ext cx="264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03840"/>
            <a:ext cx="264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03840"/>
            <a:ext cx="264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9BE2-96B7-4757-84B4-106C18A52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4D45-9F09-4F1B-9FF0-B4B4ED7A6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904F-7BE7-4744-945A-D48C9A55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DE48-9E42-4054-BFD7-E3AD8D41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7E5B-9FFA-42A7-9272-89A692EA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01A3-4DA3-45FB-AE08-ED14520E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1000" y="326520"/>
            <a:ext cx="7226280" cy="52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5C73-D02E-4EB7-AAA6-D53DCE83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0384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8265-0CAF-4407-9D03-15A0FBC0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106D-A448-4095-8CE4-1F8AEDB1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0384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20B7-2E6F-420E-9647-47A163E1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03840"/>
            <a:ext cx="822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57B0-AA2B-4E2F-8D68-DFAB6874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03840"/>
            <a:ext cx="822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614E-D832-4ED0-89D9-5E48D816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0384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0384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2FA4-5B13-48CB-AC98-EBB233220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03840"/>
            <a:ext cx="264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03840"/>
            <a:ext cx="264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03840"/>
            <a:ext cx="264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1AB4-72E3-4A68-9F2A-4DB28FE69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018A-CB07-4A2B-B197-058F1C5B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194F-534A-489B-AD93-15E54DBD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E5E9-87EE-4A0A-B251-7C8B3C16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41000" y="326520"/>
            <a:ext cx="7226280" cy="52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F89D-517C-40D6-A612-15CEEDD3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0384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612C-6083-4409-BF93-495D794C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0384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8E8E-EB68-41D7-A2D1-FEC17929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3840"/>
            <a:ext cx="822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6E6A-7884-46A6-BDB4-E201B721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1c6d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218b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218b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218b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218b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218b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218b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218b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11DC-9A2C-4B98-BFDA-A5D9AC31740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5000" y="2064960"/>
            <a:ext cx="86835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EF80-3058-4085-BBA5-146FC51CCDE3}" type="slidenum">
              <a:rPr b="0" lang="en-GB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218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f218b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218b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f218b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218b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f218b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218b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f218b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218b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f218b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218b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f218b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0280" y="1866600"/>
            <a:ext cx="8648640" cy="188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1c6d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ahoma"/>
              </a:rPr>
              <a:t>Delivering lifelong learning for knowledge, creativity and innovation 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36520" y="4808160"/>
            <a:ext cx="84088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Draft Joint Progress Report on Education &amp; Training 2010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Education Committee, Lisbon, 3 December 2007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Gordon Clark, Michael Teutsch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European Commission, DG Education and Cultur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1c6d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ahoma"/>
              </a:rPr>
              <a:t>The way forward: </a:t>
            </a:r>
            <a:br>
              <a:rPr sz="3600"/>
            </a:br>
            <a:r>
              <a:rPr b="0" lang="en-GB" sz="3600" spc="-1" strike="noStrike">
                <a:solidFill>
                  <a:srgbClr val="000099"/>
                </a:solidFill>
                <a:latin typeface="Tahoma"/>
              </a:rPr>
              <a:t>Innovation and creativity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Education as key element in the knowledge triangle </a:t>
            </a:r>
            <a:br>
              <a:rPr sz="3200"/>
            </a:b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(education – research – innovation) 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Centres of excellence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University-business co-operation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Schools and VET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94B3-045E-4BF4-AB04-D87E2BD0CBAB}" type="slidenum">
              <a:t>10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1c6d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ahoma"/>
              </a:rPr>
              <a:t>Areas addressed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36680" y="2058480"/>
            <a:ext cx="8229600" cy="36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LLL strategies and transversal issues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VET and adult learning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European cooperation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C5BA-7ABC-4526-9B21-588883E898B3}" type="slidenum">
              <a:t>2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5240" y="268200"/>
            <a:ext cx="8317080" cy="1262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1c6d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ahoma"/>
              </a:rPr>
              <a:t>LLL strategies (2002 resolution, efficiency/equity, guidelines)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21b7d"/>
                </a:solidFill>
                <a:latin typeface="Tahoma"/>
              </a:rPr>
              <a:t>covering all systems and levels 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21b7d"/>
                </a:solidFill>
                <a:latin typeface="Tahoma"/>
              </a:rPr>
              <a:t>coherent set of priorities, evidence-based 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21b7d"/>
                </a:solidFill>
                <a:latin typeface="Tahoma"/>
              </a:rPr>
              <a:t>flexible pathways and transition points: avoid dead-ends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21b7d"/>
                </a:solidFill>
                <a:latin typeface="Tahoma"/>
              </a:rPr>
              <a:t>implementation and dissemination: partnership with stakeholders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6CDC-E01C-4407-88EC-D8511BB7BAA8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41360" y="282600"/>
            <a:ext cx="6888240" cy="1176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1c6d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ahoma"/>
              </a:rPr>
              <a:t>Some progress 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67920" y="1239480"/>
            <a:ext cx="8775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21b7d"/>
                </a:solidFill>
                <a:latin typeface="Tahoma"/>
              </a:rPr>
              <a:t>Majority of countries have explicit strategies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21b7d"/>
                </a:solidFill>
                <a:latin typeface="Tahoma"/>
              </a:rPr>
              <a:t>Comprehensiveness. Progress on validation of non-formal, still focus on formal systems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21b7d"/>
                </a:solidFill>
                <a:latin typeface="Tahoma"/>
              </a:rPr>
              <a:t>Coherence: progress on evidence base + flexible learning pathways (qualification frameworks)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21b7d"/>
                </a:solidFill>
                <a:latin typeface="Tahoma"/>
              </a:rPr>
              <a:t>Implementation and dissemination, partnership and funding as main challenges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EC8F-155B-430A-8680-3C905AC88062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742080" y="644364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C89C-4A1F-4FC4-B62A-179586006746}" type="slidenum">
              <a:rPr b="0" lang="de-DE" sz="14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312"/>
          <p:cNvSpPr/>
          <p:nvPr/>
        </p:nvSpPr>
        <p:spPr>
          <a:xfrm>
            <a:off x="0" y="5445000"/>
            <a:ext cx="9144000" cy="141300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212" descr="map"/>
          <p:cNvPicPr/>
          <p:nvPr/>
        </p:nvPicPr>
        <p:blipFill>
          <a:blip r:embed="rId2"/>
          <a:stretch/>
        </p:blipFill>
        <p:spPr>
          <a:xfrm>
            <a:off x="2124000" y="1020600"/>
            <a:ext cx="4969080" cy="47847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0" y="98280"/>
            <a:ext cx="72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Tahoma"/>
                <a:ea typeface="Arial"/>
              </a:rPr>
              <a:t>Countries’ situation in relation to development of qualifications framewor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6699"/>
                </a:solidFill>
                <a:latin typeface="Tahoma"/>
                <a:ea typeface="Arial"/>
              </a:rPr>
              <a:t>This map represents the situation as of November 2007, which is in constant evolution.  Most of the countries in red are considering the option of having a National Qualifications Framework but have not yet taken a decisio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0" y="1163520"/>
          <a:ext cx="1871640" cy="5694480"/>
        </p:xfrm>
        <a:graphic>
          <a:graphicData uri="http://schemas.openxmlformats.org/drawingml/2006/table">
            <a:tbl>
              <a:tblPr/>
              <a:tblGrid>
                <a:gridCol w="1071720"/>
                <a:gridCol w="7999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2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Countr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NQ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A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BE F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BE N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B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C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CZ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D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E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E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F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F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H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H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I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99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7199280" y="828720"/>
          <a:ext cx="1944720" cy="6029280"/>
        </p:xfrm>
        <a:graphic>
          <a:graphicData uri="http://schemas.openxmlformats.org/drawingml/2006/table">
            <a:tbl>
              <a:tblPr/>
              <a:tblGrid>
                <a:gridCol w="1108080"/>
                <a:gridCol w="8366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2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Countr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NQ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L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L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L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L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M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N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P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P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R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S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S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T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U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99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2124000" y="5805360"/>
          <a:ext cx="4753080" cy="1027080"/>
        </p:xfrm>
        <a:graphic>
          <a:graphicData uri="http://schemas.openxmlformats.org/drawingml/2006/table">
            <a:tbl>
              <a:tblPr/>
              <a:tblGrid>
                <a:gridCol w="962280"/>
                <a:gridCol w="3790800"/>
              </a:tblGrid>
              <a:tr h="27972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440">
                      <a:solidFill>
                        <a:srgbClr val="336699"/>
                      </a:solidFill>
                    </a:lnL>
                    <a:lnR w="1440">
                      <a:solidFill>
                        <a:srgbClr val="336699"/>
                      </a:solidFill>
                    </a:lnR>
                    <a:lnT w="1440">
                      <a:solidFill>
                        <a:srgbClr val="336699"/>
                      </a:solidFill>
                    </a:lnT>
                    <a:lnB w="1440">
                      <a:solidFill>
                        <a:srgbClr val="336699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f218b"/>
                          </a:solidFill>
                          <a:latin typeface="Tahoma"/>
                        </a:rPr>
                        <a:t>Country has framewor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440">
                      <a:solidFill>
                        <a:srgbClr val="336699"/>
                      </a:solidFill>
                    </a:lnL>
                    <a:lnR w="1440">
                      <a:solidFill>
                        <a:srgbClr val="336699"/>
                      </a:solidFill>
                    </a:lnR>
                    <a:lnT w="1440">
                      <a:solidFill>
                        <a:srgbClr val="336699"/>
                      </a:solidFill>
                    </a:lnT>
                    <a:lnB w="1440">
                      <a:solidFill>
                        <a:srgbClr val="336699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27972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440">
                      <a:solidFill>
                        <a:srgbClr val="336699"/>
                      </a:solidFill>
                    </a:lnL>
                    <a:lnR w="1440">
                      <a:solidFill>
                        <a:srgbClr val="336699"/>
                      </a:solidFill>
                    </a:lnR>
                    <a:lnT w="1440">
                      <a:solidFill>
                        <a:srgbClr val="336699"/>
                      </a:solidFill>
                    </a:lnT>
                    <a:lnB w="144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f218b"/>
                          </a:solidFill>
                          <a:latin typeface="Tahoma"/>
                        </a:rPr>
                        <a:t>Country is developing framewor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440">
                      <a:solidFill>
                        <a:srgbClr val="336699"/>
                      </a:solidFill>
                    </a:lnL>
                    <a:lnR w="1440">
                      <a:solidFill>
                        <a:srgbClr val="336699"/>
                      </a:solidFill>
                    </a:lnR>
                    <a:lnT w="1440">
                      <a:solidFill>
                        <a:srgbClr val="336699"/>
                      </a:solidFill>
                    </a:lnT>
                    <a:lnB w="1440">
                      <a:solidFill>
                        <a:srgbClr val="336699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46260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440">
                      <a:solidFill>
                        <a:srgbClr val="336699"/>
                      </a:solidFill>
                    </a:lnL>
                    <a:lnR w="1440">
                      <a:solidFill>
                        <a:srgbClr val="336699"/>
                      </a:solidFill>
                    </a:lnR>
                    <a:lnT w="1440">
                      <a:solidFill>
                        <a:srgbClr val="336699"/>
                      </a:solidFill>
                    </a:lnT>
                    <a:lnB w="1440">
                      <a:solidFill>
                        <a:srgbClr val="336699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f218b"/>
                          </a:solidFill>
                          <a:latin typeface="Tahoma"/>
                        </a:rPr>
                        <a:t>Country which has not yet taken a decision to have a framewor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440">
                      <a:solidFill>
                        <a:srgbClr val="336699"/>
                      </a:solidFill>
                    </a:lnL>
                    <a:lnR w="1440">
                      <a:solidFill>
                        <a:srgbClr val="336699"/>
                      </a:solidFill>
                    </a:lnR>
                    <a:lnT w="1440">
                      <a:solidFill>
                        <a:srgbClr val="336699"/>
                      </a:solidFill>
                    </a:lnT>
                    <a:lnB w="1440">
                      <a:solidFill>
                        <a:srgbClr val="336699"/>
                      </a:solidFill>
                    </a:lnB>
                    <a:solidFill>
                      <a:srgbClr val="2b5481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ACBB-E498-4191-82F9-D0A6C76D1C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1c6d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ahoma"/>
              </a:rPr>
              <a:t>VET and adult learning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06280" y="1622520"/>
            <a:ext cx="872496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Participation of older workers and low-skilled very low – equity, potential of migrants!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Quality and attractiveness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Improve links with labour market needs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Improve transition and guidance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Insufficient mobility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2FF2-F9A8-4443-AC1A-A7897D07D6FA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1c6d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ahoma"/>
              </a:rPr>
              <a:t>European co-operation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19040" y="197964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Mobility: link national measures to LLP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E&amp;T in national Lisbon programmes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Link to structural funds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EU reference tools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BF51-76A2-47FB-ACB6-9F770AE6157B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1c6d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ahoma"/>
              </a:rPr>
              <a:t>European co-operation: </a:t>
            </a:r>
            <a:br>
              <a:rPr sz="3600"/>
            </a:br>
            <a:r>
              <a:rPr b="0" lang="en-GB" sz="3600" spc="-1" strike="noStrike">
                <a:solidFill>
                  <a:srgbClr val="000099"/>
                </a:solidFill>
                <a:latin typeface="Tahoma"/>
              </a:rPr>
              <a:t>improved governance + post-2010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19040" y="176688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218b"/>
                </a:solidFill>
                <a:latin typeface="Tahoma"/>
              </a:rPr>
              <a:t>Strengthen OMC</a:t>
            </a:r>
            <a:endParaRPr b="0" lang="en-US" sz="2800" spc="-1" strike="noStrike">
              <a:solidFill>
                <a:srgbClr val="0f218b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218b"/>
                </a:solidFill>
                <a:latin typeface="Tahoma"/>
              </a:rPr>
              <a:t>Interface with other policies</a:t>
            </a:r>
            <a:endParaRPr b="0" lang="en-US" sz="2800" spc="-1" strike="noStrike">
              <a:solidFill>
                <a:srgbClr val="0f218b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218b"/>
                </a:solidFill>
                <a:latin typeface="Tahoma"/>
              </a:rPr>
              <a:t>Better use of peer learning results</a:t>
            </a:r>
            <a:endParaRPr b="0" lang="en-US" sz="2800" spc="-1" strike="noStrike">
              <a:solidFill>
                <a:srgbClr val="0f218b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218b"/>
                </a:solidFill>
                <a:latin typeface="Tahoma"/>
              </a:rPr>
              <a:t>Close coordination with Lisbon at EU and national levels</a:t>
            </a:r>
            <a:endParaRPr b="0" lang="en-US" sz="2800" spc="-1" strike="noStrike">
              <a:solidFill>
                <a:srgbClr val="0f218b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218b"/>
                </a:solidFill>
                <a:latin typeface="Tahoma"/>
              </a:rPr>
              <a:t>Indicators and benchmarks</a:t>
            </a:r>
            <a:endParaRPr b="0" lang="en-US" sz="2800" spc="-1" strike="noStrike">
              <a:solidFill>
                <a:srgbClr val="0f218b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218b"/>
                </a:solidFill>
                <a:latin typeface="Tahoma"/>
              </a:rPr>
              <a:t>Participation of civil society</a:t>
            </a:r>
            <a:endParaRPr b="0" lang="en-US" sz="2800" spc="-1" strike="noStrike">
              <a:solidFill>
                <a:srgbClr val="0f218b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218b"/>
                </a:solidFill>
                <a:latin typeface="Tahoma"/>
              </a:rPr>
              <a:t>Development of post-2010 strategy</a:t>
            </a:r>
            <a:endParaRPr b="0" lang="en-US" sz="2800" spc="-1" strike="noStrike">
              <a:solidFill>
                <a:srgbClr val="0f218b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218b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218b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218b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2938-10A5-4901-82D3-3C79F7832120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1c6d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ahoma"/>
              </a:rPr>
              <a:t>The way forward: LLL to </a:t>
            </a:r>
            <a:br>
              <a:rPr sz="3600"/>
            </a:br>
            <a:r>
              <a:rPr b="0" lang="en-GB" sz="3600" spc="-1" strike="noStrike">
                <a:solidFill>
                  <a:srgbClr val="000099"/>
                </a:solidFill>
                <a:latin typeface="Tahoma"/>
              </a:rPr>
              <a:t>achieve efficiency and equity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improving the knowledge base 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sustainable funding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raising skills levels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addressing socio-economic disadvantage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using the potential of migrants 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high quality teaching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69E8-E02E-41B9-A3F1-95355996E0E6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Macdonald</dc:creator>
  <dc:description/>
  <cp:keywords>Culture Economy Lisbon Strategy</cp:keywords>
  <dc:language>en-US</dc:language>
  <cp:lastModifiedBy>verlian</cp:lastModifiedBy>
  <dcterms:modified xsi:type="dcterms:W3CDTF">2008-06-16T17:09:24Z</dcterms:modified>
  <cp:revision>117</cp:revision>
  <dc:subject>Culture</dc:subject>
  <dc:title>The Economy of Culture in Europe</dc:title>
</cp:coreProperties>
</file>