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9ABF-05AE-4E34-8271-0390A8CE15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8A7A-7B5D-49BD-81C6-F9085EA8A5D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60AF-85E3-469C-BB62-CA94FEC7F25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9522-5FF3-4FAF-9B74-387B1A2855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103A-7939-4F58-90DE-45686FE5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1FDE-CDEE-42DD-9F60-B65DA7D1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D462-C1A5-47AD-A36D-E1BA96986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9F6C-0806-487A-8871-692C45EFE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F0D9-C547-4114-8FB7-03678A199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069A-93A9-4E6E-AEAC-14172CB1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2254-FA4C-4748-A07E-9E739A48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C47B-AA82-4671-AAE6-9DACE9A4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D586-E9EB-4842-A2F6-AB522DCE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6E78-4B8B-48E7-A49F-CF46AF3A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FE0A-60DD-4F2E-AE2D-D261B987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55AE-7303-43EC-B278-45956AE3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011C-A682-4A00-AB59-06C9022C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F60C-5DB7-4E72-B4B3-4883D5B8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FA36-7FC6-4D9B-A23E-2F92D581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65F6-52CF-4CBB-A19D-8EE1BF3D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363D-98E0-4E71-9545-218B9B8F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A946-670C-4C8E-9B0D-3D216489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60DD-E4D9-427D-A66E-A6A114C4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D8C0-4CBA-4DF5-AC12-E6CA9B99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2630-8E68-46F1-957F-23B605C3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F0C9-BF12-417D-8B9A-664823FF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E1FE-6F02-47A9-8CEF-42F28A21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6FF1-3D27-4A44-81FC-3DAE8477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C121-4C46-447A-9A49-12FF1774FF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A01A-BDA4-4181-9E0D-81D8C4EF897E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640" y="1989000"/>
            <a:ext cx="893124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60</a:t>
            </a:r>
            <a:r>
              <a:rPr b="1" lang="en-GB" sz="2800" spc="-1" strike="noStrike" baseline="30000">
                <a:solidFill>
                  <a:srgbClr val="ff6600"/>
                </a:solidFill>
                <a:latin typeface="Verdana"/>
              </a:rPr>
              <a:t>TH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 RESIDENT TWINNING ADVISERS (RTA) TRAINING AND 7</a:t>
            </a:r>
            <a:r>
              <a:rPr b="1" lang="en-GB" sz="2800" spc="-1" strike="noStrike" baseline="30000">
                <a:solidFill>
                  <a:srgbClr val="ff6600"/>
                </a:solidFill>
                <a:latin typeface="Verdana"/>
              </a:rPr>
              <a:t>TH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 JOINT TRAINING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826920" y="4662360"/>
            <a:ext cx="1441440" cy="1430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3635280" y="5016600"/>
            <a:ext cx="5326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Claus LECH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Team Leader Twinn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Unit C3 – Institution Building, TAIEX, Twinning</a:t>
            </a:r>
            <a:br>
              <a:rPr sz="1600"/>
            </a:b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DG Neighbourhood and Enlargement Negotiatio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8" name="Picture 6" descr="C:\Users\banesan\Desktop\Footer Box NEAR.jpg"/>
          <p:cNvPicPr/>
          <p:nvPr/>
        </p:nvPicPr>
        <p:blipFill>
          <a:blip r:embed="rId2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118C-A4EC-4933-B841-C7327B154864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2627280" y="3573360"/>
            <a:ext cx="4537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  <a:ea typeface="Arial"/>
              </a:rPr>
              <a:t>Brussels, 30/11/2017 – 01/12/2017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2060"/>
                </a:solidFill>
                <a:latin typeface="Verdana"/>
                <a:ea typeface="Arial"/>
              </a:rPr>
              <a:t>Centre Albert Borschette (CCAB), Rue Froissart, 36 –Brussels, Room 0.B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" descr=""/>
          <p:cNvPicPr/>
          <p:nvPr/>
        </p:nvPicPr>
        <p:blipFill>
          <a:blip r:embed="rId1"/>
          <a:stretch/>
        </p:blipFill>
        <p:spPr>
          <a:xfrm>
            <a:off x="487440" y="1609560"/>
            <a:ext cx="8169120" cy="51152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27280" y="1484280"/>
            <a:ext cx="338472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OVERVIEW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295280" y="3500280"/>
            <a:ext cx="655344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. Welcome Not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295280" y="4241880"/>
            <a:ext cx="655344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lvl="1" marL="59436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I. What's new in IPA, ENI East and ENI South regions – recent decision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305000" y="4941720"/>
            <a:ext cx="655308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        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   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II. Overview of the programm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3486240" y="2193840"/>
            <a:ext cx="1512720" cy="1158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C:\Users\banesan\Desktop\Footer Box NEAR.jpg"/>
          <p:cNvPicPr/>
          <p:nvPr/>
        </p:nvPicPr>
        <p:blipFill>
          <a:blip r:embed="rId3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1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DCA8-CF16-4619-8CB0-3A50B6B72BCE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285920" y="5616720"/>
            <a:ext cx="655308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V. Some key messages before we star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496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Arial Black"/>
                <a:ea typeface="MS PGothic"/>
              </a:rPr>
              <a:t>THE TWINNING TEAM: WHO DOES WHAT</a:t>
            </a:r>
            <a:br>
              <a:rPr sz="18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00000" y="1866960"/>
          <a:ext cx="5113440" cy="1735200"/>
        </p:xfrm>
        <a:graphic>
          <a:graphicData uri="http://schemas.openxmlformats.org/drawingml/2006/table">
            <a:tbl>
              <a:tblPr/>
              <a:tblGrid>
                <a:gridCol w="1729080"/>
                <a:gridCol w="1728720"/>
                <a:gridCol w="165564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ristophe (1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nja (0,5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ucia (0,5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ba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me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er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38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larus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 former Yugoslav Republic of Macedo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zerbaija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snia &amp; Herzegovina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rael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ypt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ldov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lestine**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ebano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orgia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kraine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rda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osovo*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rb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occo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rkey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tenegro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nis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</a:tbl>
          </a:graphicData>
        </a:graphic>
      </p:graphicFrame>
      <p:sp>
        <p:nvSpPr>
          <p:cNvPr id="112" name="TextBox 8"/>
          <p:cNvSpPr/>
          <p:nvPr/>
        </p:nvSpPr>
        <p:spPr>
          <a:xfrm>
            <a:off x="971640" y="3716280"/>
            <a:ext cx="7416720" cy="28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  <a:ea typeface="Arial"/>
              </a:rPr>
              <a:t>Horizontal areas of responsibility assigned to each Task Manager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Mandated Bodies: Christophe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Pipeline Coordination and bi-annual info to NCPs: Christophe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Harmonisation all internal tools and new Twinning Database: Lucia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IBD coordination: Sanja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RTA Training coordination: Sanja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Twinning Functional Mailbox: Birgit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Maintenance and Updates of NCP-lists for webpage etc.: Birgit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Ex-IPA HQ coordination SC procedure Old Manual: Birgit/Claus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Focus Group Coordin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Horizontal Twinning Evaluation coordin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Problem cases requiring litig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Coordination CFA/Legal Units and/or EUD/MS/PC triangle dialogues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Communication/Visibility issues and Twinning Newsletter: Stefania (assigned to C3 management)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1"/>
          <a:stretch/>
        </p:blipFill>
        <p:spPr>
          <a:xfrm>
            <a:off x="6254640" y="170028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"/>
          <p:cNvSpPr/>
          <p:nvPr/>
        </p:nvSpPr>
        <p:spPr>
          <a:xfrm>
            <a:off x="81000" y="6383160"/>
            <a:ext cx="864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f5494"/>
                </a:solidFill>
                <a:latin typeface="Verdana"/>
                <a:ea typeface="Arial"/>
              </a:rPr>
              <a:t>* This designation is without prejudice to positions on status and is in line with UNSCR 1244/1999 and the ICJ Opinion on the Kosovo Declaration of Independence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f5494"/>
                </a:solidFill>
                <a:latin typeface="Verdana"/>
                <a:ea typeface="Arial"/>
              </a:rPr>
              <a:t>** This designation shall not be construed as recognition of a State of Palestine and is without prejudice to the individual positions of the Member States on this issue.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C:\Users\banesan\Desktop\Footer Box NEAR.jpg"/>
          <p:cNvPicPr/>
          <p:nvPr/>
        </p:nvPicPr>
        <p:blipFill>
          <a:blip r:embed="rId1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1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622C-D4FD-4A3C-8713-B40F04414940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2"/>
          <a:stretch/>
        </p:blipFill>
        <p:spPr>
          <a:xfrm>
            <a:off x="2489040" y="3429000"/>
            <a:ext cx="4146840" cy="25923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1106640" y="173196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Verdana"/>
                <a:ea typeface="Arial"/>
              </a:rPr>
              <a:t>HAVE A GOOD START!</a:t>
            </a:r>
            <a:endParaRPr b="0" lang="en-US" sz="4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MILINOVIC Sanja (ELARG)</cp:lastModifiedBy>
  <cp:lastPrinted>2017-11-29T08:38:47Z</cp:lastPrinted>
  <dcterms:modified xsi:type="dcterms:W3CDTF">2017-12-12T12:21:27Z</dcterms:modified>
  <cp:revision>322</cp:revision>
  <dc:subject/>
  <dc:title>Slide 1</dc:title>
</cp:coreProperties>
</file>