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EA18-A2DF-40B5-B4CD-1277B3F681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093A-4C8D-44EE-81B7-836F0FCFC1B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FFE3-E157-4D1D-BE81-673F33F4556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50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1A9A-5D05-4FE5-9211-ECB69C4033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6DE0-D8BF-408B-9CDE-E00E79657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DACE-D03F-49E4-8DA2-E7186A3C0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400A-426C-455C-8BD0-A7271BD47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959F-AF90-4FF2-B474-F932F2F10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034F4-776B-4ECC-A9FA-DBEE76D5A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B781-F67B-4E8E-9953-CFE8BF70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80BB7-2E28-4F6A-BB37-7ED52F2F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D1CE-A29B-4E26-B239-569C6E41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15CB-8184-4276-A4AF-4BAE7085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C65D5-0B37-4BDF-9503-D3EB4146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25C8-6330-4558-B70B-5A55E7CE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AD5B-DCEF-4E20-B270-35E21AF3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34027-0A37-4C33-8435-3D6BC9D2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D473-E2FC-453A-9C67-A834A7E6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0CE0-E291-4C46-980C-2B0A9D2CB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D7EA-1F42-4A82-A634-0F3F0FF3E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63CD0-63D6-48A4-ABD1-1F6B4F75D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DC63-6073-4107-9A53-B3721DA1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49A1-7194-4B61-8091-C798EA0B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37B1-1DBA-46DE-BAD3-3E8D37E5A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309B-2B32-48AE-83A2-FD2C91EC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9F98-67E6-4D11-BE8B-D14F00E3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A1EC-694C-4DDD-8467-6370EE63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9824-3F54-49B5-8BED-AACDC7DA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2FDD4-D0C0-4D10-AFCC-33173F4037C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AFA80-740F-4F09-97C9-E34B670457D9}" type="slidenum">
              <a:rPr b="0" lang="en-GB" sz="14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7640" y="1989000"/>
            <a:ext cx="893124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60</a:t>
            </a:r>
            <a:r>
              <a:rPr b="1" lang="en-GB" sz="2800" spc="-1" strike="noStrike" baseline="30000">
                <a:solidFill>
                  <a:srgbClr val="ff6600"/>
                </a:solidFill>
                <a:latin typeface="Verdana"/>
              </a:rPr>
              <a:t>TH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 RESIDENT TWINNING ADVISERS (RTA) TRAINING AND 7</a:t>
            </a:r>
            <a:r>
              <a:rPr b="1" lang="en-GB" sz="2800" spc="-1" strike="noStrike" baseline="30000">
                <a:solidFill>
                  <a:srgbClr val="ff6600"/>
                </a:solidFill>
                <a:latin typeface="Verdana"/>
              </a:rPr>
              <a:t>TH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 JOINT TRAINING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826920" y="4662360"/>
            <a:ext cx="1441440" cy="1430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1"/>
          <p:cNvSpPr/>
          <p:nvPr/>
        </p:nvSpPr>
        <p:spPr>
          <a:xfrm>
            <a:off x="3635280" y="5016600"/>
            <a:ext cx="53262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Claus LECH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Team Leader Twinning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Unit C3 – Institution Building, TAIEX, Twinning</a:t>
            </a:r>
            <a:br>
              <a:rPr sz="1600"/>
            </a:br>
            <a:r>
              <a:rPr b="0" lang="en-GB" sz="1600" spc="-1" strike="noStrike">
                <a:solidFill>
                  <a:srgbClr val="002060"/>
                </a:solidFill>
                <a:latin typeface="Verdana"/>
                <a:ea typeface="Arial"/>
              </a:rPr>
              <a:t>DG Neighbourhood and Enlargement Negotiations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8" name="Picture 6" descr="C:\Users\banesan\Desktop\Footer Box NEAR.jpg"/>
          <p:cNvPicPr/>
          <p:nvPr/>
        </p:nvPicPr>
        <p:blipFill>
          <a:blip r:embed="rId2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9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C87D-0C7E-482D-AC73-592921D6FCC4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TextBox 1"/>
          <p:cNvSpPr/>
          <p:nvPr/>
        </p:nvSpPr>
        <p:spPr>
          <a:xfrm>
            <a:off x="2627280" y="3573360"/>
            <a:ext cx="45370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Verdana"/>
                <a:ea typeface="Arial"/>
              </a:rPr>
              <a:t>Brussels, 30/11/2017 – 01/12/2017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2060"/>
                </a:solidFill>
                <a:latin typeface="Verdana"/>
                <a:ea typeface="Arial"/>
              </a:rPr>
              <a:t>Centre Albert Borschette (CCAB), Rue Froissart, 36 –Brussels, Room 0.B</a:t>
            </a: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0" descr=""/>
          <p:cNvPicPr/>
          <p:nvPr/>
        </p:nvPicPr>
        <p:blipFill>
          <a:blip r:embed="rId1"/>
          <a:stretch/>
        </p:blipFill>
        <p:spPr>
          <a:xfrm>
            <a:off x="487440" y="1609560"/>
            <a:ext cx="8169120" cy="511524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27280" y="1484280"/>
            <a:ext cx="338472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OVERVIEW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en-GB" sz="28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295280" y="3500280"/>
            <a:ext cx="655344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. Welcome Not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295280" y="4241880"/>
            <a:ext cx="6553440" cy="533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lvl="1" marL="59436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I. What's new in IPA, ENI East and ENI South regions – recent decisions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305000" y="4941720"/>
            <a:ext cx="655308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3000"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        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   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II. Overview of the programme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 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6" name="Picture 6" descr=""/>
          <p:cNvPicPr/>
          <p:nvPr/>
        </p:nvPicPr>
        <p:blipFill>
          <a:blip r:embed="rId2"/>
          <a:stretch/>
        </p:blipFill>
        <p:spPr>
          <a:xfrm>
            <a:off x="3486240" y="2193840"/>
            <a:ext cx="1512720" cy="1158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C:\Users\banesan\Desktop\Footer Box NEAR.jpg"/>
          <p:cNvPicPr/>
          <p:nvPr/>
        </p:nvPicPr>
        <p:blipFill>
          <a:blip r:embed="rId3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10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AC97-37BF-46F8-AA76-55A8D6B5C4A1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1285920" y="5616720"/>
            <a:ext cx="6553080" cy="5331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	</a:t>
            </a:r>
            <a:r>
              <a:rPr b="0" lang="en-GB" sz="1800" spc="-1" strike="noStrike">
                <a:solidFill>
                  <a:srgbClr val="ff6600"/>
                </a:solidFill>
                <a:latin typeface="Arial Black"/>
                <a:ea typeface="MS PGothic"/>
              </a:rPr>
              <a:t>IV. Some key messages before we start</a:t>
            </a:r>
            <a:endParaRPr b="0" lang="en-US" sz="1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1268280"/>
            <a:ext cx="84960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6600"/>
                </a:solidFill>
                <a:latin typeface="Arial Black"/>
                <a:ea typeface="MS PGothic"/>
              </a:rPr>
              <a:t>THE TWINNING TEAM: WHO DOES WHAT</a:t>
            </a:r>
            <a:br>
              <a:rPr sz="1800"/>
            </a:b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00000" y="1866960"/>
          <a:ext cx="5113440" cy="1735200"/>
        </p:xfrm>
        <a:graphic>
          <a:graphicData uri="http://schemas.openxmlformats.org/drawingml/2006/table">
            <a:tbl>
              <a:tblPr/>
              <a:tblGrid>
                <a:gridCol w="1729080"/>
                <a:gridCol w="1728720"/>
                <a:gridCol w="165564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Christophe (1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anja (0,5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ucia (0,5 FTE)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ba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rme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er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385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Belarus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he former Yugoslav Republic of Macedon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zerbaija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snia &amp; Herzegovina 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rael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gypt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ldov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alestine**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Lebano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orgia 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kraine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rdan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  <a:tr h="19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Kosovo*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erb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orocco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f5494"/>
                    </a:solidFill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rkey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tenegro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nisia</a:t>
                      </a:r>
                      <a:endParaRPr b="0" lang="en-US" sz="1100" spc="-1" strike="noStrike">
                        <a:solidFill>
                          <a:srgbClr val="0f5494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ddeff"/>
                    </a:solidFill>
                  </a:tcPr>
                </a:tc>
              </a:tr>
            </a:tbl>
          </a:graphicData>
        </a:graphic>
      </p:graphicFrame>
      <p:sp>
        <p:nvSpPr>
          <p:cNvPr id="112" name="TextBox 8"/>
          <p:cNvSpPr/>
          <p:nvPr/>
        </p:nvSpPr>
        <p:spPr>
          <a:xfrm>
            <a:off x="971640" y="3716280"/>
            <a:ext cx="7416720" cy="28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f5494"/>
                </a:solidFill>
                <a:latin typeface="Verdana"/>
                <a:ea typeface="Arial"/>
              </a:rPr>
              <a:t>Horizontal areas of responsibility assigned to each Task Manager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Mandated Bodies: Christophe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Pipeline Coordination and bi-annual info to NCPs: Christophe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Harmonisation all internal tools and new Twinning Database: Lucia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IBD coordination: Sanja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RTA Training coordination: Sanja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Twinning Functional Mailbox: Birgit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Maintenance and Updates of NCP-lists for webpage etc.: Birgit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Ex-IPA HQ coordination SC procedure Old Manual: Birgit/Claus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Focus Group Coordin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Horizontal Twinning Evaluation coordin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Problem cases requiring litigation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Coordination CFA/Legal Units and/or EUD/MS/PC triangle dialogues: Claus 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• </a:t>
            </a:r>
            <a:r>
              <a:rPr b="0" lang="en-GB" sz="1100" spc="-1" strike="noStrike">
                <a:solidFill>
                  <a:srgbClr val="0f5494"/>
                </a:solidFill>
                <a:latin typeface="Verdana"/>
                <a:ea typeface="Arial"/>
              </a:rPr>
              <a:t>Communication/Visibility issues and Twinning Newsletter: Stefania (assigned to C3 management)</a:t>
            </a: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1"/>
          <a:stretch/>
        </p:blipFill>
        <p:spPr>
          <a:xfrm>
            <a:off x="6254640" y="1700280"/>
            <a:ext cx="2467080" cy="18478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1"/>
          <p:cNvSpPr/>
          <p:nvPr/>
        </p:nvSpPr>
        <p:spPr>
          <a:xfrm>
            <a:off x="81000" y="6383160"/>
            <a:ext cx="864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f5494"/>
                </a:solidFill>
                <a:latin typeface="Verdana"/>
                <a:ea typeface="Arial"/>
              </a:rPr>
              <a:t>* This designation is without prejudice to positions on status and is in line with UNSCR 1244/1999 and the ICJ Opinion on the Kosovo Declaration of Independence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f5494"/>
                </a:solidFill>
                <a:latin typeface="Verdana"/>
                <a:ea typeface="Arial"/>
              </a:rPr>
              <a:t>** This designation shall not be construed as recognition of a State of Palestine and is without prejudice to the individual positions of the Member States on this issue.</a:t>
            </a:r>
            <a:endParaRPr b="0" lang="en-US" sz="8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C:\Users\banesan\Desktop\Footer Box NEAR.jpg"/>
          <p:cNvPicPr/>
          <p:nvPr/>
        </p:nvPicPr>
        <p:blipFill>
          <a:blip r:embed="rId1"/>
          <a:stretch/>
        </p:blipFill>
        <p:spPr>
          <a:xfrm>
            <a:off x="4211640" y="6416640"/>
            <a:ext cx="701640" cy="468360"/>
          </a:xfrm>
          <a:prstGeom prst="rect">
            <a:avLst/>
          </a:prstGeom>
          <a:ln w="0">
            <a:noFill/>
          </a:ln>
        </p:spPr>
      </p:pic>
      <p:sp>
        <p:nvSpPr>
          <p:cNvPr id="116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9A38-6E6E-4699-8B25-98F4BC5BE4BC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7" name="Picture 1" descr=""/>
          <p:cNvPicPr/>
          <p:nvPr/>
        </p:nvPicPr>
        <p:blipFill>
          <a:blip r:embed="rId2"/>
          <a:stretch/>
        </p:blipFill>
        <p:spPr>
          <a:xfrm>
            <a:off x="2489040" y="3429000"/>
            <a:ext cx="4146840" cy="2592360"/>
          </a:xfrm>
          <a:prstGeom prst="rect">
            <a:avLst/>
          </a:prstGeom>
          <a:ln w="0">
            <a:noFill/>
          </a:ln>
        </p:spPr>
      </p:pic>
      <p:sp>
        <p:nvSpPr>
          <p:cNvPr id="118" name="TextBox 3"/>
          <p:cNvSpPr/>
          <p:nvPr/>
        </p:nvSpPr>
        <p:spPr>
          <a:xfrm>
            <a:off x="1106640" y="173196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6600"/>
                </a:solidFill>
                <a:latin typeface="Verdana"/>
                <a:ea typeface="Arial"/>
              </a:rPr>
              <a:t>HAVE A GOOD START!</a:t>
            </a:r>
            <a:endParaRPr b="0" lang="en-US" sz="4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turneem</dc:creator>
  <dc:description/>
  <dc:language>en-US</dc:language>
  <cp:lastModifiedBy>MILINOVIC Sanja (ELARG)</cp:lastModifiedBy>
  <cp:lastPrinted>2017-11-29T08:38:47Z</cp:lastPrinted>
  <dcterms:modified xsi:type="dcterms:W3CDTF">2017-12-12T12:21:27Z</dcterms:modified>
  <cp:revision>322</cp:revision>
  <dc:subject/>
  <dc:title>Slide 1</dc:title>
</cp:coreProperties>
</file>