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6522-585C-42F6-9279-75576EA8FA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0AAA-5892-4418-85F3-45622F971CF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0BF1-1230-41F4-BB82-DD9E1726AFB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33F5-DFE2-463A-B563-3655E9361E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4FE0-DA4D-49B0-AD1D-058BC0EA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E734-4C48-463C-96D3-76A9CBE6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F4BD-453E-4032-9A2A-657F9A30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C0FA-50B9-4951-9E59-EC4A412EE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3F3D-4039-4AF8-BEA0-78F1207B4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C8EC-21A8-4625-8758-55EDC4B4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CDF6-0E3A-4FBA-B469-1765ED69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B139-D24F-47FF-8220-112D46EC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F6F3-34F7-4F90-8A39-B28B963E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0B42-192C-46AF-8486-76DC6579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064B-921D-4E6B-8B96-A5C5C1C1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16B9-0268-4CD2-B7AC-29A6C26A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4A7A-4DCE-492B-817C-C6C7461A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0DA2-AB89-4F20-8209-ED0CDE14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E7CF-6404-40C1-BF01-229B7DD2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03B5-1D41-400D-BCF8-7AC2753E6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F000-8F3E-482D-990B-DDB1B963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F81F-9998-4CC3-BF33-913EB885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FE70-E03B-4EFA-9540-13DC540F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B248-9CF7-46B1-BB21-9605C44F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9DAA-02EE-4992-820C-178D6865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A81A-17B1-4422-832C-BF78B9E8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20F0-709B-40AA-ADD7-753D2BE8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93EC-F5A1-41D9-84CF-7B908A10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071B-5011-4972-B77E-DF864181FE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D438-3FE6-48D4-9938-BD50BB4D34D0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640" y="1989000"/>
            <a:ext cx="893124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60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RESIDENT TWINNING ADVISERS (RTA) TRAINING AND 7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JOINT TRAINING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826920" y="4662360"/>
            <a:ext cx="1441440" cy="1430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3635280" y="5016600"/>
            <a:ext cx="5326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Claus LECH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Team Leader Twinn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Unit C3 – Institution Building, TAIEX, Twinning</a:t>
            </a:r>
            <a:br>
              <a:rPr sz="1600"/>
            </a:b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DG Neighbourhood and Enlargement Negotiatio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8" name="Picture 6" descr="C:\Users\banesan\Desktop\Footer Box NEAR.jpg"/>
          <p:cNvPicPr/>
          <p:nvPr/>
        </p:nvPicPr>
        <p:blipFill>
          <a:blip r:embed="rId2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2108-4E44-46C4-9E58-5DC61E72EC32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2627280" y="3573360"/>
            <a:ext cx="4537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  <a:ea typeface="Arial"/>
              </a:rPr>
              <a:t>Brussels, 30/11/2017 – 01/12/2017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2060"/>
                </a:solidFill>
                <a:latin typeface="Verdana"/>
                <a:ea typeface="Arial"/>
              </a:rPr>
              <a:t>Centre Albert Borschette (CCAB), Rue Froissart, 36 –Brussels, Room 0.B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"/>
          <p:cNvPicPr/>
          <p:nvPr/>
        </p:nvPicPr>
        <p:blipFill>
          <a:blip r:embed="rId1"/>
          <a:stretch/>
        </p:blipFill>
        <p:spPr>
          <a:xfrm>
            <a:off x="487440" y="1609560"/>
            <a:ext cx="8169120" cy="51152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27280" y="1484280"/>
            <a:ext cx="338472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OVERVIEW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295280" y="3500280"/>
            <a:ext cx="655344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. Welcome Not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295280" y="4241880"/>
            <a:ext cx="655344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lvl="1" marL="59436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. What's new in IPA, ENI East and ENI South regions – recent decision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305000" y="4941720"/>
            <a:ext cx="655308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     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I. Overview of the programm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3486240" y="2193840"/>
            <a:ext cx="1512720" cy="1158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C:\Users\banesan\Desktop\Footer Box NEAR.jpg"/>
          <p:cNvPicPr/>
          <p:nvPr/>
        </p:nvPicPr>
        <p:blipFill>
          <a:blip r:embed="rId3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BD86-B8DF-41F6-BA26-1FA64608B594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285920" y="5616720"/>
            <a:ext cx="655308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V. Some key messages before we star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496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Arial Black"/>
                <a:ea typeface="MS PGothic"/>
              </a:rPr>
              <a:t>THE TWINNING TEAM: WHO DOES WHAT</a:t>
            </a:r>
            <a:br>
              <a:rPr sz="18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00000" y="1866960"/>
          <a:ext cx="5113440" cy="1735200"/>
        </p:xfrm>
        <a:graphic>
          <a:graphicData uri="http://schemas.openxmlformats.org/drawingml/2006/table">
            <a:tbl>
              <a:tblPr/>
              <a:tblGrid>
                <a:gridCol w="1729080"/>
                <a:gridCol w="1728720"/>
                <a:gridCol w="165564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ristophe (1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nj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uci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ba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me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er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38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larus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 former Yugoslav Republic of Macedo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zerbaij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snia &amp; Herzegovin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rael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ypt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ldov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lestine*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ebano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orgi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kraine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rd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osovo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rb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occ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rkey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tenegr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nis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</a:tbl>
          </a:graphicData>
        </a:graphic>
      </p:graphicFrame>
      <p:sp>
        <p:nvSpPr>
          <p:cNvPr id="112" name="TextBox 8"/>
          <p:cNvSpPr/>
          <p:nvPr/>
        </p:nvSpPr>
        <p:spPr>
          <a:xfrm>
            <a:off x="971640" y="3716280"/>
            <a:ext cx="7416720" cy="28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  <a:ea typeface="Arial"/>
              </a:rPr>
              <a:t>Horizontal areas of responsibility assigned to each Task Manager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ndated Bodie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ipeline Coordination and bi-annual info to NCP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armonisation all internal tools and new Twinning Database: Lucia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IBD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RTA Training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Twinning Functional Mailbox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intenance and Updates of NCP-lists for webpage etc.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Ex-IPA HQ coordination SC procedure Old Manual: Birgit/Claus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Focus Group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orizontal Twinning Evaluation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roblem cases requiring litig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ordination CFA/Legal Units and/or EUD/MS/PC triangle dialogues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mmunication/Visibility issues and Twinning Newsletter: Stefania (assigned to C3 management)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"/>
          <a:stretch/>
        </p:blipFill>
        <p:spPr>
          <a:xfrm>
            <a:off x="6254640" y="170028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81000" y="6383160"/>
            <a:ext cx="864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 This designation is without prejudice to positions on status and is in line with UNSCR 1244/1999 and the ICJ Opinion on the Kosovo Declaration of Independence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* This designation shall not be construed as recognition of a State of Palestine and is without prejudice to the individual positions of the Member States on this issue.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C:\Users\banesan\Desktop\Footer Box NEAR.jpg"/>
          <p:cNvPicPr/>
          <p:nvPr/>
        </p:nvPicPr>
        <p:blipFill>
          <a:blip r:embed="rId1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7833-61F4-46CD-AB3B-F11E8A217AEF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2"/>
          <a:stretch/>
        </p:blipFill>
        <p:spPr>
          <a:xfrm>
            <a:off x="2489040" y="3429000"/>
            <a:ext cx="4146840" cy="25923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1106640" y="173196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Verdana"/>
                <a:ea typeface="Arial"/>
              </a:rPr>
              <a:t>HAVE A GOOD START!</a:t>
            </a:r>
            <a:endParaRPr b="0" lang="en-US" sz="4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MILINOVIC Sanja (ELARG)</cp:lastModifiedBy>
  <cp:lastPrinted>2017-11-29T08:38:47Z</cp:lastPrinted>
  <dcterms:modified xsi:type="dcterms:W3CDTF">2017-12-12T12:21:27Z</dcterms:modified>
  <cp:revision>322</cp:revision>
  <dc:subject/>
  <dc:title>Slide 1</dc:title>
</cp:coreProperties>
</file>