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3BFB0F-42AC-4F05-877E-63231D21BE4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0B264-9D75-4DE4-922D-20139BDB9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8FAF1E-1775-41F6-8CBE-0ADF73E66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40E32D-A2BD-4029-8B19-12DF7C04884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7C43E9-E822-4C6B-AC91-066B6F3B4DC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F1E3C9-B95C-4191-BCAC-732C4137A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C46B1A-D2C8-4AD5-9FDB-F70E7573A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1F90D8-9539-4C6D-A0FC-4590A5FAA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F814DF-4CBE-4C40-91AB-441A7053E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A2FC72-D64E-4AEF-863F-FD732BADC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A604EB-AAF9-42AA-93EC-2E52A2D0B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CD451B-958A-45AD-BEBE-4442C569D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E3ED08-5C0D-4246-B36E-1A1A908A3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065727-E830-4780-8E02-F0C16B871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DB2EEF-FEBA-4D6C-90BB-133AEAB37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35B5D9-91A6-493D-8B22-A14E4C1A5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AA702D-16F2-4220-9493-1E8A6472D05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56CC7-C9ED-4928-A721-6A364696083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AE13E-C6B4-4C83-9E53-B66913C59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12504-4D73-42F4-B237-13682E9BA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07395-77A5-42E4-97D5-CB464EF0A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DA3F0-B7BA-4DED-819D-902D821BD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3EA976-79BA-487C-B1CE-5A17873B0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55BE4-1867-45BC-8CB6-AFFC2D9F3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686C8-3075-4614-B3D9-2A0ED0493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1996B-FFE0-4C6B-857B-874FE98A8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0E15C-2C96-40D9-8075-EF19DE98F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D5AA9-6CD5-49D1-AD79-088B7228F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D4447-98AF-4806-B8F7-E2D69E260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2D50D-B0E2-4635-9965-F186A3B4BF4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F2EBBD-6382-4268-97E4-E7DBC7D039B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4AECE9-FB1F-4F37-8F57-B44EFFDF6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022DD7-EED2-4958-90A0-9F7075E64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66EC22-43D3-40D2-B3AB-BAAC607EB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224BA6-2302-41C8-9CE3-9658E9112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42F45A-4C38-448B-B536-9BCD38B84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C87F62-CE75-4E7D-9466-ED5C735B1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954591-3BB1-4A49-902E-8A9F52FE0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FE58F1-0FB6-40A3-B028-A04358F2E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4DEB13-9895-4C8A-8B4A-4C1C15F09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E1DA25-362D-4FF9-B544-8E53E9683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69CA7D-8AAB-42D3-94EE-75702CCFD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970305-E1FE-4D96-B305-7EF4BB33590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F22588-E619-4601-8E29-CE7A5D5A0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23F93-C05E-42C0-ADDB-6940BBD12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85A803-1C2D-4F7C-A3D0-EB6B2C0CF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219143-A8B1-4FE7-891E-28948952E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D8810B-AF7E-4702-8EF4-88EF43F70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fc5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3997E-E8FF-427F-9EB3-EF692266636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5"/>
          <p:cNvSpPr/>
          <p:nvPr/>
        </p:nvSpPr>
        <p:spPr>
          <a:xfrm>
            <a:off x="0" y="1125360"/>
            <a:ext cx="9144000" cy="5732640"/>
          </a:xfrm>
          <a:prstGeom prst="rect">
            <a:avLst/>
          </a:prstGeom>
          <a:solidFill>
            <a:srgbClr val="0f5494"/>
          </a:solidFill>
          <a:ln w="633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41" name="Picture 2" descr="C:\DOCUME~1\lenain\LOCALS~1\Temp\7zEBB7.tmp\LOGO-CE for Sanco EN Positive.png"/>
          <p:cNvPicPr/>
          <p:nvPr/>
        </p:nvPicPr>
        <p:blipFill>
          <a:blip r:embed="rId2"/>
          <a:stretch/>
        </p:blipFill>
        <p:spPr>
          <a:xfrm>
            <a:off x="3649680" y="324000"/>
            <a:ext cx="1812960" cy="13968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fc5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45684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655272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C4681-4E74-4706-BFB8-CB87FB849518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5"/>
          <p:cNvSpPr/>
          <p:nvPr/>
        </p:nvSpPr>
        <p:spPr>
          <a:xfrm>
            <a:off x="0" y="-27000"/>
            <a:ext cx="9144000" cy="1130400"/>
          </a:xfrm>
          <a:prstGeom prst="rect">
            <a:avLst/>
          </a:prstGeom>
          <a:solidFill>
            <a:srgbClr val="afc5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83" name="Picture 3" descr="C:\DOCUME~1\lenain\LOCALS~1\Temp\7zED59.tmp\LOGO-CE for Sanco EN Negative.png"/>
          <p:cNvPicPr/>
          <p:nvPr/>
        </p:nvPicPr>
        <p:blipFill>
          <a:blip r:embed="rId2"/>
          <a:stretch/>
        </p:blipFill>
        <p:spPr>
          <a:xfrm>
            <a:off x="3656160" y="324000"/>
            <a:ext cx="1814400" cy="13968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fc5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5"/>
          </p:nvPr>
        </p:nvSpPr>
        <p:spPr>
          <a:xfrm>
            <a:off x="45684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6"/>
          </p:nvPr>
        </p:nvSpPr>
        <p:spPr>
          <a:xfrm>
            <a:off x="655272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7FF00-DFB7-4FE8-867B-ED20173979C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C:\DOCUME~1\lenain\LOCALS~1\Temp\7zEB8.tmp\LOGO-CE for Sanco EN Landscape Positive.png"/>
          <p:cNvPicPr/>
          <p:nvPr/>
        </p:nvPicPr>
        <p:blipFill>
          <a:blip r:embed="rId2"/>
          <a:stretch/>
        </p:blipFill>
        <p:spPr>
          <a:xfrm>
            <a:off x="6576840" y="5940360"/>
            <a:ext cx="2243160" cy="5968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fc5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7"/>
          </p:nvPr>
        </p:nvSpPr>
        <p:spPr>
          <a:xfrm>
            <a:off x="45684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sldNum" idx="8"/>
          </p:nvPr>
        </p:nvSpPr>
        <p:spPr>
          <a:xfrm>
            <a:off x="655272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CD627-83B8-44F4-8AA0-32713260E64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050560" y="1268280"/>
            <a:ext cx="7272360" cy="208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d624"/>
                </a:solidFill>
                <a:latin typeface="Arial"/>
              </a:rPr>
              <a:t>Feedback by a former </a:t>
            </a:r>
            <a:br>
              <a:rPr sz="3600"/>
            </a:br>
            <a:r>
              <a:rPr b="1" lang="en-US" sz="3600" spc="-1" strike="noStrike">
                <a:solidFill>
                  <a:srgbClr val="ffd624"/>
                </a:solidFill>
                <a:latin typeface="Arial"/>
              </a:rPr>
              <a:t>Resident Twinning Adviser </a:t>
            </a:r>
            <a:endParaRPr b="1" lang="en-US" sz="36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39280" y="4076280"/>
            <a:ext cx="827892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Lessons learned and recommendations </a:t>
            </a:r>
            <a:endParaRPr b="0" i="1" lang="en-US" sz="3200" spc="-1" strike="noStrike">
              <a:solidFill>
                <a:srgbClr val="0f5494"/>
              </a:solidFill>
              <a:latin typeface="Arial"/>
            </a:endParaRPr>
          </a:p>
          <a:p>
            <a:pPr marL="260640" indent="-2606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f5494"/>
              </a:solidFill>
              <a:latin typeface="Arial"/>
            </a:endParaRPr>
          </a:p>
          <a:p>
            <a:pPr marL="260640" indent="-2606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Brussels, 03  March 2016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60640" indent="-2606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60640" indent="-2606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Rudolf SPA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First steps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Accommodation - Hotel =&gt; apartment for ren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Office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Contact - EU Deleg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Contact - own Embassy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Car registr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Health insurance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Doctors etc.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D5786-6FCF-4646-9339-0B76FDBBB19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First steps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Beneficiary institution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    </a:t>
            </a: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Hierarchy and counterparts in the beneficiary institu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Other relevant institution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Assistant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Interpretation / Translation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Financial Uni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National expert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2D970-9D74-4964-A2BF-A9D126FF4B1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03" name="Picture 2" descr=""/>
          <p:cNvPicPr/>
          <p:nvPr/>
        </p:nvPicPr>
        <p:blipFill>
          <a:blip r:embed="rId1"/>
          <a:stretch/>
        </p:blipFill>
        <p:spPr>
          <a:xfrm>
            <a:off x="4859280" y="4076640"/>
            <a:ext cx="274644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Assistants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0320" indent="-31032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Early selection</a:t>
            </a:r>
            <a:br>
              <a:rPr sz="2400"/>
            </a:b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10320" indent="-31032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Cooperative behavior is important</a:t>
            </a:r>
            <a:br>
              <a:rPr sz="2400"/>
            </a:b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10320" indent="-31032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Be careful with recommendations</a:t>
            </a:r>
            <a:br>
              <a:rPr sz="2400"/>
            </a:b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10320" indent="-31032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Translation vs. interpretation</a:t>
            </a:r>
            <a:br>
              <a:rPr sz="2400"/>
            </a:b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10320" indent="-31032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hare of work between assistant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93D87-7D14-4ECE-A7FE-F0BFD8B77D6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07" name="Picture 2" descr=""/>
          <p:cNvPicPr/>
          <p:nvPr/>
        </p:nvPicPr>
        <p:blipFill>
          <a:blip r:embed="rId1"/>
          <a:stretch/>
        </p:blipFill>
        <p:spPr>
          <a:xfrm>
            <a:off x="4788000" y="1484280"/>
            <a:ext cx="4216320" cy="16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Kick-off meeting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68360" y="278100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The first very official appearance of the RTA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High level guest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It has to be well organised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Start in due time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A crucial opportunity for visibility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Press release / press-conference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Presentation of the project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Presentation of the team (MS, BC, office)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DA3D3-A9FB-4048-BF64-742C14769B4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Kick-off meeting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7600" indent="-3276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7600" indent="-327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It has to take place </a:t>
            </a:r>
            <a:r>
              <a:rPr b="0" i="1" lang="en-GB" sz="2400" spc="-1" strike="noStrike" u="sng">
                <a:solidFill>
                  <a:srgbClr val="0f5494"/>
                </a:solidFill>
                <a:uFillTx/>
                <a:latin typeface="Arial"/>
              </a:rPr>
              <a:t>as soon as possible but not to early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7600" indent="-3276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already something to present, what can attract the press and the quest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7600" indent="-3276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Overview about the start of the projec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7600" indent="-3276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Presentation of the work plan + implementation tool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7600" indent="-3276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Visibility materia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7600" indent="-3276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Website!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7600" indent="-3276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FEE0A-61AB-4285-8707-D91BAB2F95F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Your new environment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2636640"/>
            <a:ext cx="822960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- The country - history, culture, </a:t>
            </a:r>
            <a:br>
              <a:rPr sz="2400"/>
            </a:b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- Language, Behaviour 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- Political parties - Parliament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- Gouvernemen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- Justice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- Media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- Economy, Trade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- Socialsecurity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3E871-ED33-4B32-B69A-D67F55C40C9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17" name="Picture 2" descr=""/>
          <p:cNvPicPr/>
          <p:nvPr/>
        </p:nvPicPr>
        <p:blipFill>
          <a:blip r:embed="rId1"/>
          <a:stretch/>
        </p:blipFill>
        <p:spPr>
          <a:xfrm>
            <a:off x="4716360" y="4300560"/>
            <a:ext cx="3235320" cy="21528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3" descr=""/>
          <p:cNvPicPr/>
          <p:nvPr/>
        </p:nvPicPr>
        <p:blipFill>
          <a:blip r:embed="rId2"/>
          <a:stretch/>
        </p:blipFill>
        <p:spPr>
          <a:xfrm>
            <a:off x="6040440" y="1898640"/>
            <a:ext cx="2960640" cy="19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International context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International relations of the beneficiary country (BC)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European Union (Accession negotiations, benchmarks, progress reports, IPA program, Association agreements, country strategies, support programs)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EU Member States </a:t>
            </a:r>
            <a:r>
              <a:rPr b="0" lang="en-US" sz="2400" spc="-1" strike="noStrike">
                <a:solidFill>
                  <a:srgbClr val="0f5494"/>
                </a:solidFill>
                <a:latin typeface="Wingdings"/>
                <a:ea typeface="Wingdings"/>
              </a:rPr>
              <a:t></a:t>
            </a: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BC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Your country of origin </a:t>
            </a:r>
            <a:r>
              <a:rPr b="0" lang="en-US" sz="2400" spc="-1" strike="noStrike">
                <a:solidFill>
                  <a:srgbClr val="0f5494"/>
                </a:solidFill>
                <a:latin typeface="Wingdings"/>
                <a:ea typeface="Wingdings"/>
              </a:rPr>
              <a:t></a:t>
            </a: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 BC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Arial"/>
              </a:rPr>
              <a:t>Neighbours</a:t>
            </a: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f5494"/>
                </a:solidFill>
                <a:latin typeface="Wingdings"/>
                <a:ea typeface="Wingdings"/>
              </a:rPr>
              <a:t></a:t>
            </a: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BC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2A910-23F0-4406-8EAA-2BDD230AA42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22" name="Picture 2" descr=""/>
          <p:cNvPicPr/>
          <p:nvPr/>
        </p:nvPicPr>
        <p:blipFill>
          <a:blip r:embed="rId1"/>
          <a:stretch/>
        </p:blipFill>
        <p:spPr>
          <a:xfrm>
            <a:off x="5796000" y="4149720"/>
            <a:ext cx="295272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Your professional environment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EU projects (previous, current, future)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Other projects (bilateral cooperation, world bank, etc.)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TAIEX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Resident expert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Stakeholders – international </a:t>
            </a:r>
            <a:br>
              <a:rPr sz="2400"/>
            </a:b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       and nationa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EFF1B-B532-46B2-AEE8-F5166E0B940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26" name="Picture 2" descr=""/>
          <p:cNvPicPr/>
          <p:nvPr/>
        </p:nvPicPr>
        <p:blipFill>
          <a:blip r:embed="rId1"/>
          <a:stretch/>
        </p:blipFill>
        <p:spPr>
          <a:xfrm>
            <a:off x="5076720" y="4149720"/>
            <a:ext cx="303228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The institution to be supported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68360" y="321300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Get familiar with the structure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Organisational chart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Budget, infrastructure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Regional, local structure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Competencie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Cooperation and competition with other institution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73E59-6BD7-4B8F-815D-7E53D264CDC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30" name="Picture 3" descr=""/>
          <p:cNvPicPr/>
          <p:nvPr/>
        </p:nvPicPr>
        <p:blipFill>
          <a:blip r:embed="rId1"/>
          <a:stretch/>
        </p:blipFill>
        <p:spPr>
          <a:xfrm>
            <a:off x="4859280" y="2276640"/>
            <a:ext cx="3971880" cy="29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Get familiar with the structure </a:t>
            </a:r>
            <a:br>
              <a:rPr sz="3000"/>
            </a:b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Who is who?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Job security  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Behaviour, habit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Workhour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Public holiday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Communication tool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11B33-A389-45C6-BA7C-7C460F72868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34" name="Picture 2" descr=""/>
          <p:cNvPicPr/>
          <p:nvPr/>
        </p:nvPicPr>
        <p:blipFill>
          <a:blip r:embed="rId1"/>
          <a:stretch/>
        </p:blipFill>
        <p:spPr>
          <a:xfrm>
            <a:off x="4908600" y="3284640"/>
            <a:ext cx="2092320" cy="15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My Twinning-experience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24000" y="347184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50000"/>
              </a:lnSpc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2005 - 2007 </a:t>
            </a: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Short-Term Expert - Romania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2007 - 2009 </a:t>
            </a: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Resident Twinning Advisor - RO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2010 – 2011 </a:t>
            </a: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Resident Twinning Advisor - RO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2011  - 2012</a:t>
            </a: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Short-Term Expert – Kosovo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69" name="Slide Number Placeholder 1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F694F-422D-4FDB-BD98-3EB87D51DC2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5437080" y="1125360"/>
            <a:ext cx="3706920" cy="23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Current status? </a:t>
            </a:r>
            <a:br>
              <a:rPr sz="3000"/>
            </a:b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pic>
        <p:nvPicPr>
          <p:cNvPr id="236" name="Picture 2" descr=""/>
          <p:cNvPicPr/>
          <p:nvPr/>
        </p:nvPicPr>
        <p:blipFill>
          <a:blip r:embed="rId1"/>
          <a:stretch/>
        </p:blipFill>
        <p:spPr>
          <a:xfrm>
            <a:off x="7524720" y="1197000"/>
            <a:ext cx="1322280" cy="1727280"/>
          </a:xfrm>
          <a:prstGeom prst="rect">
            <a:avLst/>
          </a:prstGeom>
          <a:ln w="0">
            <a:noFill/>
          </a:ln>
        </p:spPr>
      </p:pic>
      <p:sp>
        <p:nvSpPr>
          <p:cNvPr id="237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A3130-52D0-42B6-8558-9CFC0A17F79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38" name="TextBox 5"/>
          <p:cNvSpPr/>
          <p:nvPr/>
        </p:nvSpPr>
        <p:spPr>
          <a:xfrm>
            <a:off x="81000" y="2351160"/>
            <a:ext cx="7586640" cy="36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 u="sng">
                <a:solidFill>
                  <a:srgbClr val="0f5494"/>
                </a:solidFill>
                <a:uFillTx/>
                <a:latin typeface="Arial"/>
              </a:rPr>
              <a:t>'Current</a:t>
            </a:r>
            <a:r>
              <a:rPr b="1" lang="de-DE" sz="2200" spc="-1" strike="noStrike" u="sng">
                <a:solidFill>
                  <a:srgbClr val="0f5494"/>
                </a:solidFill>
                <a:uFillTx/>
                <a:latin typeface="Arial"/>
              </a:rPr>
              <a:t> Situation Report'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ffd6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5494"/>
                </a:solidFill>
                <a:latin typeface="Arial"/>
              </a:rPr>
              <a:t>Situation changed since the fiche was drafted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ffd6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5494"/>
                </a:solidFill>
                <a:latin typeface="Arial"/>
              </a:rPr>
              <a:t>You need more details and additional special data</a:t>
            </a:r>
            <a:r>
              <a:rPr b="0" lang="de-DE" sz="2200" spc="-1" strike="noStrike">
                <a:solidFill>
                  <a:srgbClr val="0f5494"/>
                </a:solidFill>
                <a:latin typeface="Arial"/>
              </a:rPr>
              <a:t>.  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ffd6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5494"/>
                </a:solidFill>
                <a:latin typeface="Arial"/>
              </a:rPr>
              <a:t>Contact the leadership of the relevant institutions, </a:t>
            </a:r>
            <a:br>
              <a:rPr sz="2200"/>
            </a:br>
            <a:r>
              <a:rPr b="0" lang="en-GB" sz="2200" spc="-1" strike="noStrike">
                <a:solidFill>
                  <a:srgbClr val="0f5494"/>
                </a:solidFill>
                <a:latin typeface="Arial"/>
              </a:rPr>
              <a:t>units</a:t>
            </a:r>
            <a:r>
              <a:rPr b="0" lang="de-DE" sz="2200" spc="-1" strike="noStrike">
                <a:solidFill>
                  <a:srgbClr val="0f5494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f5494"/>
                </a:solidFill>
                <a:latin typeface="Arial"/>
              </a:rPr>
              <a:t>and stakeholders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ffd6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5494"/>
                </a:solidFill>
                <a:latin typeface="Arial"/>
              </a:rPr>
              <a:t>Work together with the leaders of the working groups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ffd6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Reports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853C6-C690-4565-95D5-60DEB2D6F21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2636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f5494"/>
                </a:solidFill>
                <a:latin typeface="Arial"/>
              </a:rPr>
              <a:t>As specified in the Twinning contract!!!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RTA Office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f5494"/>
                </a:solidFill>
                <a:latin typeface="Arial"/>
              </a:rPr>
              <a:t>Current Situation Report /Inception Repor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f5494"/>
                </a:solidFill>
                <a:latin typeface="Arial"/>
              </a:rPr>
              <a:t>Monthly Report / Technical Progress Repor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f5494"/>
                </a:solidFill>
                <a:latin typeface="Arial"/>
              </a:rPr>
              <a:t>Quarterly Report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f5494"/>
                </a:solidFill>
                <a:latin typeface="Arial"/>
              </a:rPr>
              <a:t>Final Report </a:t>
            </a:r>
            <a:br>
              <a:rPr sz="2400"/>
            </a:br>
            <a:r>
              <a:rPr b="0" i="1" lang="de-DE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f5494"/>
                </a:solidFill>
                <a:latin typeface="Arial"/>
              </a:rPr>
              <a:t>Short-term expert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f5494"/>
                </a:solidFill>
                <a:latin typeface="Arial"/>
              </a:rPr>
              <a:t>Mission Repor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pic>
        <p:nvPicPr>
          <p:cNvPr id="242" name="Picture 2" descr=""/>
          <p:cNvPicPr/>
          <p:nvPr/>
        </p:nvPicPr>
        <p:blipFill>
          <a:blip r:embed="rId1"/>
          <a:stretch/>
        </p:blipFill>
        <p:spPr>
          <a:xfrm>
            <a:off x="4716360" y="4581360"/>
            <a:ext cx="300852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Management meetings</a:t>
            </a:r>
            <a:br>
              <a:rPr sz="3000"/>
            </a:b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Steering committee meetings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0840" indent="-3308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Directors, head of department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0840" indent="-3308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BC project leader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0840" indent="-3308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regularly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0840" indent="-3308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discussing the progres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0840" indent="-3308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based on an activity plan</a:t>
            </a:r>
            <a:br>
              <a:rPr sz="2400"/>
            </a:b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0840" indent="-3308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EU-Deleg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0840" indent="-3308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Central Financial and Contracting Uni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6187D-E2DA-42B5-A37B-71F0E8A6AE6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46" name="Picture 2" descr=""/>
          <p:cNvPicPr/>
          <p:nvPr/>
        </p:nvPicPr>
        <p:blipFill>
          <a:blip r:embed="rId1"/>
          <a:stretch/>
        </p:blipFill>
        <p:spPr>
          <a:xfrm>
            <a:off x="6691320" y="2637000"/>
            <a:ext cx="186696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EU Delegation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68360" y="2420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 u="sng">
                <a:solidFill>
                  <a:srgbClr val="0f5494"/>
                </a:solidFill>
                <a:uFillTx/>
                <a:latin typeface="Arial"/>
              </a:rPr>
              <a:t>What do the EU Delegations do?</a:t>
            </a:r>
            <a:endParaRPr b="0" i="1" lang="en-US" sz="20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Arial"/>
              </a:rPr>
              <a:t>a key role in presenting, explaining and </a:t>
            </a:r>
            <a:br>
              <a:rPr sz="2000"/>
            </a:br>
            <a:r>
              <a:rPr b="0" i="1" lang="en-GB" sz="2000" spc="-1" strike="noStrike">
                <a:solidFill>
                  <a:srgbClr val="0f5494"/>
                </a:solidFill>
                <a:latin typeface="Arial"/>
              </a:rPr>
              <a:t>      implementing EU’s foreign policies; </a:t>
            </a:r>
            <a:endParaRPr b="0" i="1" lang="en-US" sz="20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Arial"/>
              </a:rPr>
              <a:t>analyse and report on the policies and </a:t>
            </a:r>
            <a:br>
              <a:rPr sz="2000"/>
            </a:br>
            <a:r>
              <a:rPr b="0" i="1" lang="en-GB" sz="2000" spc="-1" strike="noStrike">
                <a:solidFill>
                  <a:srgbClr val="0f5494"/>
                </a:solidFill>
                <a:latin typeface="Arial"/>
              </a:rPr>
              <a:t>     developments of their host countries; </a:t>
            </a:r>
            <a:endParaRPr b="0" i="1" lang="en-US" sz="20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Arial"/>
              </a:rPr>
              <a:t>conduct negotiations in accordance with given mandates.</a:t>
            </a:r>
            <a:br>
              <a:rPr sz="2000"/>
            </a:br>
            <a:r>
              <a:rPr b="0" i="1" lang="en-GB" sz="20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0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 u="sng">
                <a:solidFill>
                  <a:srgbClr val="0f5494"/>
                </a:solidFill>
                <a:uFillTx/>
                <a:latin typeface="Arial"/>
              </a:rPr>
              <a:t>How do the Delegations operate?</a:t>
            </a:r>
            <a:endParaRPr b="0" i="1" lang="en-US" sz="20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Arial"/>
              </a:rPr>
              <a:t>Maintaining political dialogue; </a:t>
            </a:r>
            <a:endParaRPr b="0" i="1" lang="en-US" sz="20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Arial"/>
              </a:rPr>
              <a:t>administering development aid; </a:t>
            </a:r>
            <a:endParaRPr b="0" i="1" lang="en-US" sz="20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Arial"/>
              </a:rPr>
              <a:t>supervision of EU trade issues and building cultural contacts. </a:t>
            </a:r>
            <a:endParaRPr b="0" i="1" lang="en-US" sz="20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F7B05-2FAD-4C54-BA24-0FA58BD7A3A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50" name="Picture 2" descr=""/>
          <p:cNvPicPr/>
          <p:nvPr/>
        </p:nvPicPr>
        <p:blipFill>
          <a:blip r:embed="rId1"/>
          <a:stretch/>
        </p:blipFill>
        <p:spPr>
          <a:xfrm>
            <a:off x="6012000" y="1206360"/>
            <a:ext cx="2862000" cy="29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EU Delegation – support and monitoring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Close cooperation with the EU-Delegation is beneficial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General support in the implement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Support in the collaboration with the BC-administr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Participation of the EU-Delegation at all important events     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Kick-off, Steering Committee meetings, Final meeting etc.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00406-F61A-461E-B6D2-C65CBCAB22E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54" name="Picture 5" descr=""/>
          <p:cNvPicPr/>
          <p:nvPr/>
        </p:nvPicPr>
        <p:blipFill>
          <a:blip r:embed="rId1"/>
          <a:stretch/>
        </p:blipFill>
        <p:spPr>
          <a:xfrm>
            <a:off x="6227640" y="2421000"/>
            <a:ext cx="274176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Implementing a project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Arial"/>
              </a:rPr>
              <a:t>Working group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set up working group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BC official as leader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set up up of rule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activity plan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regular meeting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discussing the progres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C2336-D979-4F07-9082-38C31592D4E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58" name="Picture 2" descr=""/>
          <p:cNvPicPr/>
          <p:nvPr/>
        </p:nvPicPr>
        <p:blipFill>
          <a:blip r:embed="rId1"/>
          <a:stretch/>
        </p:blipFill>
        <p:spPr>
          <a:xfrm>
            <a:off x="4411800" y="2565360"/>
            <a:ext cx="426852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Activity plans</a:t>
            </a:r>
            <a:br>
              <a:rPr sz="3000"/>
            </a:b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follow up of the benchmark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clear time schedule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what needs to be done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by whom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until whe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calendar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expert-mission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tudy visit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2F20E-2F83-4C37-919D-CA0C6E09E69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62" name="Picture 5" descr=""/>
          <p:cNvPicPr/>
          <p:nvPr/>
        </p:nvPicPr>
        <p:blipFill>
          <a:blip r:embed="rId1"/>
          <a:stretch/>
        </p:blipFill>
        <p:spPr>
          <a:xfrm>
            <a:off x="3708360" y="4149720"/>
            <a:ext cx="438156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Additional useful documentation</a:t>
            </a:r>
            <a:br>
              <a:rPr sz="3000"/>
            </a:b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results of discussion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minutes of the meeting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to be circulated to the beneficiarie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recommendations made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reminder for yourself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informal character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D8C4E-FBDD-4935-81D9-4291893748D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Managing the experts</a:t>
            </a:r>
            <a:br>
              <a:rPr sz="3000"/>
            </a:b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193680" y="2857320"/>
            <a:ext cx="5184720" cy="34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RTA shall be the bridge and the   </a:t>
            </a:r>
            <a:br>
              <a:rPr sz="2400"/>
            </a:b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    catalytic agent </a:t>
            </a:r>
            <a:br>
              <a:rPr sz="2400"/>
            </a:b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overview and detail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understanding the contex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continuity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input – absorption capacity BC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no need to separate by M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71A09-6C99-4269-8990-FD4B0F9877D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69" name="Picture 2" descr=""/>
          <p:cNvPicPr/>
          <p:nvPr/>
        </p:nvPicPr>
        <p:blipFill>
          <a:blip r:embed="rId1"/>
          <a:stretch/>
        </p:blipFill>
        <p:spPr>
          <a:xfrm>
            <a:off x="6184800" y="2997360"/>
            <a:ext cx="235764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Managing the experts</a:t>
            </a:r>
            <a:br>
              <a:rPr sz="3000"/>
            </a:b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596520" y="220500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prepare objectives, terms of reference and agenda of the       missions in due time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don’t waste expert day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allow the beneficiaries to evaluate the expert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mission reports of the experts in due time!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72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BBBBC-089E-405B-B1C6-BC1559AFE73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73" name="Picture 3" descr=""/>
          <p:cNvPicPr/>
          <p:nvPr/>
        </p:nvPicPr>
        <p:blipFill>
          <a:blip r:embed="rId1"/>
          <a:stretch/>
        </p:blipFill>
        <p:spPr>
          <a:xfrm>
            <a:off x="5899320" y="2421000"/>
            <a:ext cx="298260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1125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f5494"/>
                </a:solidFill>
                <a:latin typeface="Arial"/>
              </a:rPr>
              <a:t>   </a:t>
            </a:r>
            <a:br>
              <a:rPr sz="3000"/>
            </a:br>
            <a:r>
              <a:rPr b="0" lang="en-GB" sz="3000" spc="-1" strike="noStrike">
                <a:solidFill>
                  <a:srgbClr val="0f5494"/>
                </a:solidFill>
                <a:latin typeface="Arial"/>
              </a:rPr>
              <a:t>Let‘s start our excursion! </a:t>
            </a:r>
            <a:br>
              <a:rPr sz="3000"/>
            </a:br>
            <a:r>
              <a:rPr b="0" lang="en-GB" sz="30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0f5494"/>
                </a:solidFill>
                <a:latin typeface="Arial"/>
              </a:rPr>
              <a:t>What comes next?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pic>
        <p:nvPicPr>
          <p:cNvPr id="172" name="Picture 3" descr=""/>
          <p:cNvPicPr/>
          <p:nvPr/>
        </p:nvPicPr>
        <p:blipFill>
          <a:blip r:embed="rId1"/>
          <a:stretch/>
        </p:blipFill>
        <p:spPr>
          <a:xfrm>
            <a:off x="1692360" y="2481120"/>
            <a:ext cx="5616360" cy="4116600"/>
          </a:xfrm>
          <a:prstGeom prst="rect">
            <a:avLst/>
          </a:prstGeom>
          <a:ln w="0">
            <a:noFill/>
          </a:ln>
        </p:spPr>
      </p:pic>
      <p:sp>
        <p:nvSpPr>
          <p:cNvPr id="173" name="Slide Number Placeholder 4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98042-9994-41E3-964A-2AC90D75D22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Communication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Web based Intranet / share poin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Access: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-   Management of the projec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Experts MS and BC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Working group members etc.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87C33-0D01-4D8C-9790-653A0D4A4F2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Share point - Intranet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A0D5E-BB0D-476D-B24D-54D7A5D316E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79" name="Picture 2" descr=""/>
          <p:cNvPicPr/>
          <p:nvPr/>
        </p:nvPicPr>
        <p:blipFill>
          <a:blip r:embed="rId1"/>
          <a:stretch/>
        </p:blipFill>
        <p:spPr>
          <a:xfrm>
            <a:off x="395280" y="981000"/>
            <a:ext cx="83329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Communication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Arial"/>
              </a:rPr>
              <a:t>Visibility – communication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Arial"/>
              </a:rPr>
              <a:t>Website – open for the public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Information for the stakeholders and for the citizens</a:t>
            </a:r>
            <a:br>
              <a:rPr sz="2400"/>
            </a:b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It takes time but is essential </a:t>
            </a:r>
            <a:r>
              <a:rPr b="1" lang="en-US" sz="2400" spc="-1" strike="noStrike">
                <a:solidFill>
                  <a:srgbClr val="0f5494"/>
                </a:solidFill>
                <a:latin typeface="Arial"/>
              </a:rPr>
              <a:t>during the implementation</a:t>
            </a:r>
            <a:br>
              <a:rPr sz="2400"/>
            </a:b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added value </a:t>
            </a:r>
            <a:r>
              <a:rPr b="1" lang="en-US" sz="2400" spc="-1" strike="noStrike">
                <a:solidFill>
                  <a:srgbClr val="0f5494"/>
                </a:solidFill>
                <a:latin typeface="Arial"/>
              </a:rPr>
              <a:t>after finalization </a:t>
            </a: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of the project as well!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37FD6-20BE-41EF-A06D-5A075240BCF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Website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DDD2B-7E9F-472D-ACD2-4A6939EE7AA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85" name="Picture 2" descr=""/>
          <p:cNvPicPr/>
          <p:nvPr/>
        </p:nvPicPr>
        <p:blipFill>
          <a:blip r:embed="rId1"/>
          <a:stretch/>
        </p:blipFill>
        <p:spPr>
          <a:xfrm>
            <a:off x="395280" y="2565360"/>
            <a:ext cx="837720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Visibility – start without delay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87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FA649-3AD9-4CED-A655-E98FC2D7D4C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88" name="Picture 2" descr=""/>
          <p:cNvPicPr/>
          <p:nvPr/>
        </p:nvPicPr>
        <p:blipFill>
          <a:blip r:embed="rId1"/>
          <a:stretch/>
        </p:blipFill>
        <p:spPr>
          <a:xfrm>
            <a:off x="2843280" y="3716280"/>
            <a:ext cx="2786040" cy="3029040"/>
          </a:xfrm>
          <a:prstGeom prst="rect">
            <a:avLst/>
          </a:prstGeom>
          <a:ln w="9360">
            <a:solidFill>
              <a:srgbClr val="bbe0e3">
                <a:alpha val="99000"/>
              </a:srgbClr>
            </a:solidFill>
            <a:miter/>
          </a:ln>
        </p:spPr>
      </p:pic>
      <p:pic>
        <p:nvPicPr>
          <p:cNvPr id="289" name="Picture 2" descr=""/>
          <p:cNvPicPr/>
          <p:nvPr/>
        </p:nvPicPr>
        <p:blipFill>
          <a:blip r:embed="rId2"/>
          <a:stretch/>
        </p:blipFill>
        <p:spPr>
          <a:xfrm>
            <a:off x="6012000" y="2174760"/>
            <a:ext cx="2447640" cy="4657680"/>
          </a:xfrm>
          <a:prstGeom prst="rect">
            <a:avLst/>
          </a:prstGeom>
          <a:ln w="0">
            <a:noFill/>
          </a:ln>
        </p:spPr>
      </p:pic>
      <p:sp>
        <p:nvSpPr>
          <p:cNvPr id="290" name="TextBox 6"/>
          <p:cNvSpPr/>
          <p:nvPr/>
        </p:nvSpPr>
        <p:spPr>
          <a:xfrm>
            <a:off x="365040" y="2565360"/>
            <a:ext cx="3457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Arial"/>
              </a:rPr>
              <a:t>Flyer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Arial"/>
              </a:rPr>
              <a:t>Brochures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Arial"/>
              </a:rPr>
              <a:t>Roll-up banners 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Arial"/>
              </a:rPr>
              <a:t>Folders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Arial"/>
              </a:rPr>
              <a:t>USB-Sticks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Arial"/>
              </a:rPr>
              <a:t>Pencils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f5494"/>
                </a:solidFill>
                <a:latin typeface="Arial"/>
              </a:rPr>
              <a:t>etc. 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68360" y="170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During the implementation</a:t>
            </a:r>
            <a:br>
              <a:rPr sz="3000"/>
            </a:b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Support the needs of the BC</a:t>
            </a:r>
            <a:br>
              <a:rPr sz="3000"/>
            </a:b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Benchmarks!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Output orient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RTA shall provide additional inpu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Help the partners to contribute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Be realistic with your expect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Remain optimistic and motivated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Develop plan B’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2A15F-378D-4FDA-BE96-A3438807E76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Challenges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0240" indent="-3002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Political instability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00240" indent="-3002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Continuity in the BC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00240" indent="-3002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Absorption capacity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00240" indent="-3002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Other working stiles, </a:t>
            </a:r>
            <a:br>
              <a:rPr sz="2400"/>
            </a:b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    behaviours,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00240" indent="-3002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00240" indent="-300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You need </a:t>
            </a:r>
            <a:br>
              <a:rPr sz="2400"/>
            </a:b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- patient, intercultural skills, enthusiasm, </a:t>
            </a:r>
            <a:br>
              <a:rPr sz="2400"/>
            </a:b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- target-oriented work, not forget the goals! 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00240" indent="-3002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00240" indent="-3002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00240" indent="-3002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4BDD1-71E1-4C13-9B1D-7AF8C707E45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97" name="Picture 2" descr=""/>
          <p:cNvPicPr/>
          <p:nvPr/>
        </p:nvPicPr>
        <p:blipFill>
          <a:blip r:embed="rId1"/>
          <a:stretch/>
        </p:blipFill>
        <p:spPr>
          <a:xfrm>
            <a:off x="5003640" y="1341360"/>
            <a:ext cx="3929400" cy="35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Finalisation of the project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68360" y="306864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Final quarterly report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Final meeting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Final repor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Focus on results/achievement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Recommendation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D39BE-838E-4668-9E33-80F6FADEEC0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301" name="Picture 3" descr=""/>
          <p:cNvPicPr/>
          <p:nvPr/>
        </p:nvPicPr>
        <p:blipFill>
          <a:blip r:embed="rId1"/>
          <a:stretch/>
        </p:blipFill>
        <p:spPr>
          <a:xfrm>
            <a:off x="5457960" y="2349360"/>
            <a:ext cx="353988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Networking and follow up </a:t>
            </a:r>
            <a:br>
              <a:rPr sz="3000"/>
            </a:b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Website!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Ensure that all contact details are available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Keep outputs of the project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Continue your support so far possible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Keep in touch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Lesssons learned?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Future cooperation?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66455-68D6-42BC-8C07-416D3BCC5BE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305" name="Picture 2" descr=""/>
          <p:cNvPicPr/>
          <p:nvPr/>
        </p:nvPicPr>
        <p:blipFill>
          <a:blip r:embed="rId1"/>
          <a:stretch/>
        </p:blipFill>
        <p:spPr>
          <a:xfrm>
            <a:off x="4932360" y="4581360"/>
            <a:ext cx="2820960" cy="18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Added value for the RTA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95280" y="2349360"/>
            <a:ext cx="734544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3400" indent="-2934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A meaningful activity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93400" indent="-2934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Cooperation, collegiality,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93400" indent="-2934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Additional huge professional and life experience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93400" indent="-2934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Diplomatic and intercultural skill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93400" indent="-2934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International Management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93400" indent="-2934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EU Institution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93400" indent="-2934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Visibility</a:t>
            </a:r>
            <a:br>
              <a:rPr sz="2400"/>
            </a:b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93400" indent="-2934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But: it is hard work !!!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93400" indent="-2934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08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D86C4-705B-4EED-8F3F-A0BBDF7C527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Content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5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000" spc="-1" strike="noStrike">
                <a:solidFill>
                  <a:srgbClr val="0f5494"/>
                </a:solidFill>
                <a:latin typeface="Arial"/>
              </a:rPr>
              <a:t>The Resident Twinning </a:t>
            </a:r>
            <a:r>
              <a:rPr b="0" i="1" lang="en-GB" sz="3000" spc="-1" strike="noStrike">
                <a:solidFill>
                  <a:srgbClr val="0f5494"/>
                </a:solidFill>
                <a:latin typeface="Arial"/>
              </a:rPr>
              <a:t>Advisor</a:t>
            </a:r>
            <a:r>
              <a:rPr b="0" i="1" lang="de-DE" sz="3000" spc="-1" strike="noStrike">
                <a:solidFill>
                  <a:srgbClr val="0f5494"/>
                </a:solidFill>
                <a:latin typeface="Arial"/>
              </a:rPr>
              <a:t> (RTA)</a:t>
            </a:r>
            <a:endParaRPr b="0" i="1" lang="en-US" sz="30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75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0f5494"/>
                </a:solidFill>
                <a:latin typeface="Arial"/>
              </a:rPr>
              <a:t>Environment of the RTA </a:t>
            </a:r>
            <a:endParaRPr b="0" i="1" lang="en-US" sz="30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75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0f5494"/>
                </a:solidFill>
                <a:latin typeface="Arial"/>
              </a:rPr>
              <a:t>Implementation of the project</a:t>
            </a:r>
            <a:endParaRPr b="0" i="1" lang="en-US" sz="30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75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0f5494"/>
                </a:solidFill>
                <a:latin typeface="Arial"/>
              </a:rPr>
              <a:t>Conclusions</a:t>
            </a:r>
            <a:endParaRPr b="0" i="1" lang="en-US" sz="30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F9734-523A-4AC8-B6DC-188F967086E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468360" y="1699920"/>
            <a:ext cx="82296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Arial"/>
              </a:rPr>
              <a:t>THANK YOU FOR YOUR ATTENTION!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10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74E50-96AD-4664-BF44-2E752706FF9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311" name="Picture 4" descr=""/>
          <p:cNvPicPr/>
          <p:nvPr/>
        </p:nvPicPr>
        <p:blipFill>
          <a:blip r:embed="rId1"/>
          <a:stretch/>
        </p:blipFill>
        <p:spPr>
          <a:xfrm>
            <a:off x="2124000" y="2349360"/>
            <a:ext cx="5276880" cy="2652840"/>
          </a:xfrm>
          <a:prstGeom prst="rect">
            <a:avLst/>
          </a:prstGeom>
          <a:ln w="0">
            <a:noFill/>
          </a:ln>
        </p:spPr>
      </p:pic>
      <p:sp>
        <p:nvSpPr>
          <p:cNvPr id="312" name="TextBox 1"/>
          <p:cNvSpPr/>
          <p:nvPr/>
        </p:nvSpPr>
        <p:spPr>
          <a:xfrm>
            <a:off x="1042920" y="5229360"/>
            <a:ext cx="66978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Arial"/>
              </a:rPr>
              <a:t>GOOD  LUCK  AND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f5494"/>
                </a:solidFill>
                <a:latin typeface="Arial"/>
              </a:rPr>
              <a:t>SUCCESS! 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f5494"/>
                </a:solidFill>
                <a:latin typeface="Verdana"/>
              </a:rPr>
              <a:t>Rudolf.Span@ec.europa.eu</a:t>
            </a: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The Resident Twinning Advisor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f5494"/>
                </a:solidFill>
                <a:latin typeface="Arial"/>
              </a:rPr>
              <a:t>Task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Coordination of the implementation of the projec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Achievement of the mandatory result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Professional support for the beneficiary </a:t>
            </a:r>
            <a:br>
              <a:rPr sz="2400"/>
            </a:b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    institution – a real colleague!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DADEA-F7AC-4EB6-8BC1-845E522A1CB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80" name="Picture 2" descr=""/>
          <p:cNvPicPr/>
          <p:nvPr/>
        </p:nvPicPr>
        <p:blipFill>
          <a:blip r:embed="rId1"/>
          <a:stretch/>
        </p:blipFill>
        <p:spPr>
          <a:xfrm>
            <a:off x="7380360" y="1916280"/>
            <a:ext cx="1253880" cy="13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The Resident Twinning Advisor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f5494"/>
                </a:solidFill>
                <a:latin typeface="Arial"/>
              </a:rPr>
              <a:t>Behaviour - Diplomatic skill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An 'ambassador' of your country of origine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An 'ambassador' of the European Union</a:t>
            </a:r>
            <a:br>
              <a:rPr sz="2400"/>
            </a:b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Collaboration on very high level: </a:t>
            </a:r>
            <a:br>
              <a:rPr sz="2400"/>
            </a:b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-Ambassadors, Ministers, State Secretary, </a:t>
            </a:r>
            <a:br>
              <a:rPr sz="2400"/>
            </a:b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-EU-Delegation/Representation, EU-Commission,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-Executive board of different stakeholders </a:t>
            </a:r>
            <a:br>
              <a:rPr sz="2400"/>
            </a:b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-e.g. industry, associations, NGOs. </a:t>
            </a:r>
            <a:br>
              <a:rPr sz="2400"/>
            </a:b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9DA5D-74C2-4703-926B-4F707486D21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The Resident Twinning Advisor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f5494"/>
                </a:solidFill>
                <a:latin typeface="Arial"/>
              </a:rPr>
              <a:t>Skill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Managemen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Professional Expertise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Union legisl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EU - structure and functioning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Intercultural competence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Communic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B0C60-7915-4FCC-9AED-1310D236384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87" name="Picture 2" descr=""/>
          <p:cNvPicPr/>
          <p:nvPr/>
        </p:nvPicPr>
        <p:blipFill>
          <a:blip r:embed="rId1"/>
          <a:stretch/>
        </p:blipFill>
        <p:spPr>
          <a:xfrm>
            <a:off x="5219640" y="2637000"/>
            <a:ext cx="3301920" cy="31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The start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f5494"/>
                </a:solidFill>
                <a:latin typeface="Arial"/>
              </a:rPr>
              <a:t>Your expectation?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C8AF6-7D36-4D26-89C7-105E66C0DD6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91" name="Picture 5" descr=""/>
          <p:cNvPicPr/>
          <p:nvPr/>
        </p:nvPicPr>
        <p:blipFill>
          <a:blip r:embed="rId1"/>
          <a:stretch/>
        </p:blipFill>
        <p:spPr>
          <a:xfrm>
            <a:off x="4788000" y="1628640"/>
            <a:ext cx="4176720" cy="25401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6" descr=""/>
          <p:cNvPicPr/>
          <p:nvPr/>
        </p:nvPicPr>
        <p:blipFill>
          <a:blip r:embed="rId2"/>
          <a:stretch/>
        </p:blipFill>
        <p:spPr>
          <a:xfrm>
            <a:off x="498600" y="3645000"/>
            <a:ext cx="416088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The reality?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D4DF4-7494-4D3F-AF89-27686A11E8F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95" name="Content Placeholder 4" descr=""/>
          <p:cNvPicPr/>
          <p:nvPr/>
        </p:nvPicPr>
        <p:blipFill>
          <a:blip r:embed="rId1"/>
          <a:stretch/>
        </p:blipFill>
        <p:spPr>
          <a:xfrm>
            <a:off x="1547640" y="2421000"/>
            <a:ext cx="2592720" cy="38466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" descr=""/>
          <p:cNvPicPr/>
          <p:nvPr/>
        </p:nvPicPr>
        <p:blipFill>
          <a:blip r:embed="rId2"/>
          <a:stretch/>
        </p:blipFill>
        <p:spPr>
          <a:xfrm>
            <a:off x="4913280" y="1778040"/>
            <a:ext cx="3760920" cy="28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European Commission</dc:creator>
  <dc:description/>
  <dc:language>en-US</dc:language>
  <cp:lastModifiedBy>SANTUCCIONE Lucia (DEVCO)</cp:lastModifiedBy>
  <cp:lastPrinted>2012-07-17T17:07:43Z</cp:lastPrinted>
  <dcterms:modified xsi:type="dcterms:W3CDTF">2016-02-29T12:32:31Z</dcterms:modified>
  <cp:revision>260</cp:revision>
  <dc:subject/>
  <dc:title>PowerPoint Presentation</dc:title>
</cp:coreProperties>
</file>