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2DF81-BEA7-45CD-BFC4-86FAB7C439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230A8-A908-46F2-B0E6-12468658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142FD-E2B7-475B-9A12-C1CBB5A7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FA249-B172-4702-9EDD-E8E88F5908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489BE-3A07-47A7-A1E6-B2B1802148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4E942-C8B8-42F6-B5E5-C2AD8EBC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188AD-BAEC-4900-A560-3A32266F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29540-8C42-4FD9-9C24-DDC3B5D8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F13FC-F7C6-4E0D-833F-ACB34544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E41AE-1DCE-44A8-855F-B7014C01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70511-D923-4824-BEA0-0457D2AD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52877-4BBE-4902-8BFD-787DE49F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87F96-64F6-4B01-B05B-2681AD1A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0443E-E85F-47C1-9A9C-D403DF46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3A943-B875-45B7-A88A-F93182DB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805B5-F945-45AE-A1F8-BC013E5D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1BEAC-86D0-41A7-BA16-803D7C6126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0EC4-DAC3-4BF4-9F92-05EE504485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5EFE-9BE7-4D57-8613-EB7807E6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4F72-F47E-4B6E-A4BF-F73A44C5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9EC1-6C7C-4967-A0DC-2FC6563A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ED0F-C373-41A8-9557-322E6D29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12614-2E0B-4FD8-B3D7-80540AA9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2FF2-292E-4343-A152-9BB96D14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9791-1FCB-42CC-8D80-C504C0C7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2354-7DDD-404F-AD78-0D169EA6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015D-9F4A-45A3-A9EE-B9ABED57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26AD-F634-451B-87F3-3D1CEADF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44DE-9D93-471C-8B01-314808D0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5BF3-2992-4068-BD81-F8761E1C40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A44B1-E2C5-4EE0-A5F5-CA2CB8987C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6F0893-335A-4E66-8B8A-43BDC971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3BF23F-2FD2-4AD3-B723-7CE32F11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D45A5-1DB1-452B-95DA-4C48251A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ABAFD-E498-49D5-8250-436C13CA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D4C0C-2635-4A09-B05A-F925EAA2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15F43-D41D-4008-8BFF-9BF78277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C6BD6-CC6C-41FF-9C70-B79CEA70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07724-5304-4EB9-9F12-66E7B405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99D38-9AD3-4B35-924A-93EE4347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309F4-DCDD-4D0B-A982-F1BF8AE7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F4127-830B-4D5E-98E1-7130B15E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B2728-C118-4B35-B2A6-0C78664AC2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AB124-011A-4ACB-8D6B-AEA78CB0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66590-158C-493F-91A0-015E9A29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5F87A-4582-4625-B072-61CA0ED5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27B37-A7E6-45A8-BE00-362BA519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27459-73F6-4F2C-B843-656C38F3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CE98-AB3C-4E44-A5F7-7AC5185E3A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C482-DF07-4B8F-A1F5-7C7D2E17B66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A8B2-00EE-4351-B94B-9769CAB615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E6C5-94E9-4D84-AF83-E01390805D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056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03  March 2016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9FE4-F26E-473D-BA75-2606BEC760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pretation / Transla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Financial Uni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8966-C39D-4390-9701-F0B49FD22E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4859280" y="4076640"/>
            <a:ext cx="27464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ranslation vs. interpretation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hare of work between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2115-D36A-451D-96FA-922347D8A6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421632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ver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2AB6-9BDE-40AD-A9B8-4063E85FC2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</a:t>
            </a:r>
            <a:r>
              <a:rPr b="0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to present, what can attract the press and the ques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star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2B43-E205-487E-84E5-2452D9B348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The country - history, culture,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Language, Behaviour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Political parties - Parliam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Gouvern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Just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Medi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Socialsecur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428F-1C53-4656-88FB-A4A5164D41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716360" y="430056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6040440" y="1898640"/>
            <a:ext cx="296064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2D67-CD7C-4FE6-9856-90ECBAA3DC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62D5-4E42-4763-843F-7FECD50437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, local structur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and competition with other institu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C122-2AE5-49DD-909B-85E19076D1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ob security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Work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A6AB-C8F1-4618-8A33-6B2A6D4669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C46D-A900-4D71-9C4D-827D7BEECB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tatus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3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8356-A75E-4762-AF15-CA89D677FD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81000" y="2351160"/>
            <a:ext cx="75866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changed since the fiche was drafted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.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27F3-E891-43DB-825A-6374048565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As specified in the Twinning contract!!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Monthly Report / Technical Progress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400"/>
            </a:b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departme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ased on an activity plan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9A77-86DE-4364-B332-D7A3B2938E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6691320" y="2637000"/>
            <a:ext cx="18669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955A-21F3-44A7-8CF8-860471BA2E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beneficial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4603-B725-4BB7-8196-EA6D2A4103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up of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A273-4D40-4D06-8494-C75810D65D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til whe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-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1CC9-1023-49F2-B04B-D09D5939A6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881F-38F9-480C-A075-B712B26296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ing the expert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93680" y="2857320"/>
            <a:ext cx="51847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 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catalytic agent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 – absorption capacity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738C-AAC1-4F4C-B27B-EBF0C83CCC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6184800" y="2997360"/>
            <a:ext cx="2357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ing the expert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96520" y="220500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objectives, terms of reference and agenda of the       missions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expert 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evaluate the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ssion reports of the experts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CB4E-77B3-4AD7-8C95-ED2C897CCB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5899320" y="2421000"/>
            <a:ext cx="2982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C9D0-00D7-4823-B9BA-C00822B53F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DC9B-9D99-43DA-9D03-4C3FB859FB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231F-5E73-4B33-A17E-2B35272926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– communica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z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 as well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FE9E-ED68-46CC-9A24-2E2C542DF5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AC16-9C6F-4F66-A5B2-61D057913A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639A-62BF-4ADA-8F78-F9FCD6A03A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2843280" y="3716280"/>
            <a:ext cx="2786040" cy="302904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6012000" y="2174760"/>
            <a:ext cx="2447640" cy="4657680"/>
          </a:xfrm>
          <a:prstGeom prst="rect">
            <a:avLst/>
          </a:prstGeom>
          <a:ln w="0">
            <a:noFill/>
          </a:ln>
        </p:spPr>
      </p:pic>
      <p:sp>
        <p:nvSpPr>
          <p:cNvPr id="290" name="TextBox 6"/>
          <p:cNvSpPr/>
          <p:nvPr/>
        </p:nvSpPr>
        <p:spPr>
          <a:xfrm>
            <a:off x="365040" y="2565360"/>
            <a:ext cx="34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old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utput ori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evelop plan B’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6564-7A56-4032-BA69-50E9A39FC8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behaviour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t, intercultural skills, enthusiasm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BFD9-9819-4A36-A0C4-18F6D2DC66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39294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/achievemen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9DB6-45C5-4D72-972F-90FD1E8F87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5457960" y="234936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Networking and follow up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possi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54D6-2FEB-477B-BF43-FD125FF2C7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4932360" y="458136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meaningful activ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huge professional and life experi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iplomatic and intercultural 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national Managem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Institu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hard work !!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82BA-800E-4767-A6A4-FFB793877A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F651-BB22-47F4-A5E1-B3CE3E0983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6836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9B2B-F2F4-4F97-B1E4-58E9DE297A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276880" cy="26528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CB57-7F66-40B3-A340-FCBD89515B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very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tate Secretary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industry, associations, NGOs. 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23C4-E13A-40A1-8847-F39B416B4B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E060-2C10-4524-9851-84A6421EAF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C6BD-F5DF-4A7E-8D3D-FBF5E74C42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4176720" cy="2540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498600" y="364500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7185-E1D8-4143-8BB7-84104C5C4E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SANTUCCIONE Lucia (DEVCO)</cp:lastModifiedBy>
  <cp:lastPrinted>2012-07-17T17:07:43Z</cp:lastPrinted>
  <dcterms:modified xsi:type="dcterms:W3CDTF">2016-02-29T12:32:31Z</dcterms:modified>
  <cp:revision>260</cp:revision>
  <dc:subject/>
  <dc:title>PowerPoint Presentation</dc:title>
</cp:coreProperties>
</file>