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E3EC-4847-44F6-BECB-84415D6490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19F2-ECA0-4733-8B6F-BE9DAF37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5D75-A47F-4A16-BBC2-7E8A1C8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0B57-866B-42D0-8D63-65ECDFB3E8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48B4F-3661-491B-991A-999F35F13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1DD17-2EA4-45B0-9860-30DF140A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18F4E-176C-4ADA-8458-DB4ADAE6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C2607-D896-4BE1-9C73-F4BE3A60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52345-5ECB-456D-A0D6-E6BE8F45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F4841-1365-4216-AA83-3C2CE5AB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8E9A9-7459-4DBA-B79A-6786359B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47F7-5EB5-468A-AAFC-F2516756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6414B-9B95-4FF6-826F-E20A9077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6DBE7-AB0E-4A49-94F2-2E1E68A9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5A1CA-B82C-4B10-AACD-BC354F7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A87C3-D6CD-4158-A129-E0A5549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4748A-8734-4AE9-A4E1-97A31027D7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3106-9D5D-4A9C-A473-C62AC0084B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FB6A-B2EE-43AF-A432-7D97F722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2FD0-67A4-405C-98EC-5BBCB06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3756-9322-42F8-B226-B785D7A9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EAAE-5CA2-4E41-830B-C79C20A5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3130-FA26-4DE6-98DB-3E949482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09B6-39FC-490B-B490-E87EED03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55FE-1342-46EA-864F-558904B7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F2A3-A540-425E-9E7C-D2164DCD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DF52-928A-4B43-BA1A-6340F74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0BFA-BE01-429C-BC65-3FE95293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DB8C-7541-4813-8B7D-0EE67DB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89EC-253B-491C-B363-E936FC858F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4F5EF-5B9D-475E-8B34-68751C9DE3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DFDB7-4F5F-4D8F-9B6E-E5DBBFDB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EEFC3-84BF-4F9E-9C96-1AA1499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A260-7151-4993-B816-9D23FC86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C9305-FE92-49ED-93E6-750D2C88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F9815-1275-42DE-A535-C99AB090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956DE-3381-432F-B745-7705EB96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88980-7308-4067-B21E-6021BD2F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816B0-023C-4AC8-B1F5-CA981694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33BDC-8A28-4823-83C4-0CEAF223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6EC63-E3B2-4BBD-B9CE-53500B91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9EB72-B687-49C6-8516-E1F5D538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209FA-566E-4F8D-97A7-AD1BEF0B10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53EC-B2BF-44E2-AC73-A6963DE5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ED4B-E448-4B42-A276-02320D3C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EA7A-0BFA-4E33-A68C-CA834780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E64F-ED98-44E4-9F8E-7F9AFDB7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0FFD-01C3-4226-B4A0-961E6671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814A-D7F8-4FA5-8199-54A7D9F5E0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262F-CBD3-44F5-9DC3-275F4B24E81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853B-3713-4E6E-86D3-FC41B9FD33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E918-FE0E-4308-AB39-C90A5E5BC1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03  March 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3D9D-121C-47EF-85E1-F98052E436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pretation / Transl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Financial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CEBB-960C-4E6F-A442-3F2EB08720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7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ranslation vs. interpreta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hare of work between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EAE7-242F-40BC-A4DD-9F849032FA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216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ver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60F8-1B6B-4030-826D-D41694C8A5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to present, what can attract the press and the ques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star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433C-C486-4742-ACF7-C55A487F0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The country - history, culture,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Language, Behaviour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Political parties - Parlia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Gouvern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Just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Medi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Socialsecur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DB50-E0EB-4049-A26C-6EBCC62D6B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716360" y="430056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040440" y="1898640"/>
            <a:ext cx="29606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2354-BBEE-4477-8763-B18DCFB5A8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BCCD-88B5-49E9-AFC9-89A94EA47E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, local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and competition with other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DE55-0721-4590-9615-94B0766A4F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ob security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ork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1FB7-8C26-4FD9-ADBB-8ABEB017F3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0E63-66E8-47F6-A356-182C7C96CB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tatus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DCE2-9AF9-4D3E-A2FF-ABE98A1231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1000" y="2351160"/>
            <a:ext cx="7586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changed since the fiche was drafted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.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A197-0BEA-4B26-A0D8-C87D7BE73B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As specified in the Twinning contract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onthly Report / Technical Progress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400"/>
            </a:b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departme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ased on an activity pla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E95B-96D4-44F1-A885-B95E13F74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691320" y="2637000"/>
            <a:ext cx="186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5305-FA44-4028-9662-BF1A5E128E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beneficial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3C36-2938-47B2-A5BE-31369C2736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up of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2C4-3A9F-4891-9499-4B5E1B547D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til whe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-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8F10-A6F2-4F41-B2F6-02FDA49A9A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C26C-B557-43EC-AC49-7D1B0F4ACF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93680" y="2857320"/>
            <a:ext cx="51847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 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catalytic agent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 – absorption capacity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B1A1-9D76-462A-8FDE-AA3C9EF551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6184800" y="2997360"/>
            <a:ext cx="2357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6520" y="220500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objectives, terms of reference and agenda of the       missions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expert 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evaluate the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ssion reports of the experts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35A2-983B-4BCF-9F44-19710E1D66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899320" y="2421000"/>
            <a:ext cx="298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4FF1-FAD3-44BC-882E-7614D71438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434D-909E-4547-A3FA-63D7EAC2F8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783C-E11B-4D86-896E-550CCAEB39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– communic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 as well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F4BD-5CA1-4943-AB26-5725733CDC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252C-D725-4E1C-80F8-A71DA5CA84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B5E2-6B02-47D0-AF1B-5781F46EF5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786040" cy="302904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6012000" y="2174760"/>
            <a:ext cx="2447640" cy="4657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65040" y="2565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old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utput ori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evelop plan B’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EE7E-EA28-417D-B81E-19FC3BC4B7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behaviour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t, intercultural skills, enthusiasm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DB1F-05A9-4550-8445-EC83701564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9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/achievemen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2130-FC69-4C04-BC8D-36C6D2C844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457960" y="234936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Networking and follow up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possi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1B21-B5F7-436E-8E2E-32E2F818F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932360" y="458136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meaningful activ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huge professional and life experi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iplomatic and intercultural 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national Manage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hard work 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C4D0-2FF7-4473-AC1F-D26FD90358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09D4-9AE5-4003-BE22-E2497298C1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5D68-A2D2-4CA9-9D50-1AE1D40C93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F04B-B5A0-49E2-A48D-E9EAFC24CC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very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tate Secretary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industry, associations, NGOs. 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65FA-C4B5-4DA4-B8F6-F8608F7A4F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C341-B4FA-4919-BDAF-1C285F51C9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B95E-A425-41CA-988C-D47B5D4188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76720" cy="254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98600" y="364500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2257-D15E-4DA8-A615-CCA018B991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ANTUCCIONE Lucia (DEVCO)</cp:lastModifiedBy>
  <cp:lastPrinted>2012-07-17T17:07:43Z</cp:lastPrinted>
  <dcterms:modified xsi:type="dcterms:W3CDTF">2016-02-29T12:32:31Z</dcterms:modified>
  <cp:revision>260</cp:revision>
  <dc:subject/>
  <dc:title>PowerPoint Presentation</dc:title>
</cp:coreProperties>
</file>