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2C28A-D23D-4535-8FEB-2C4B184E57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43FB1-3A9C-45B8-820A-EF941D2D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DEF10-D7BB-4D6C-A6BF-D4C6C073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228AB-3565-4197-BB7E-6E76930FE6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11457E-DDD3-43B2-95CA-6BC7934FFE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73647-C4EA-4C2F-97D2-6FF8EE1C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5DF022-0A7C-42A9-A74E-CFB5011A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06D4B-3983-4FE9-A97F-7AF62077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CACD48-B906-40D4-8C75-CD6877205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08BEF7-2ECA-4913-90C8-ACBB22D67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852C6A-FA13-42A1-80CA-6E8BF2E50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0EE04-7C62-49D9-95D8-BA797569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599D4-71F9-4749-BCD3-6B621C6C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5C658-D02D-4B57-BE80-C46EDA1E8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149AF-734B-4370-9F60-160F0EE2B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6E8B24-4939-4A25-929A-155E4562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D090E-391D-48D5-AA18-9F6A42885DB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A4C5-0632-44FE-A30A-5B35BC7B0C2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03CC-496A-457D-9D8B-7B226AF2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0325-4743-47E6-BE9B-73AF7687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612B-EB17-43E0-B081-55A92E45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D643B-4436-4EC7-A5D5-E785B2B2B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098FB-1AD8-4A3B-91A5-A602FB560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2FC9D-2FC6-45D5-8616-C91632C8A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0072-16A5-4D20-9E0E-0407AC1E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091C-1DF0-4E45-BEFB-87A5866A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81E4-6A7A-48F1-85F1-84EB4E997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948D-554D-4176-BDA7-A7E4321AB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E6DE-830F-4D0A-A3FC-A3E952D6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E4B4-040A-4836-B597-B9D96C59CA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720501-3D50-4746-BF5C-685685EF12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01DCE6-5F50-4218-B890-E6639796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C37970-80AF-4EEB-9AC3-2874095B1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AD1A1-FDEE-46D5-B330-E026A356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07B359-0498-4675-9DEE-4027EC37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D5EA6-590F-4ED1-AFD7-8313B8164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46BF5B-34DF-418B-B280-85B56D09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3AB61-8959-43E8-B45E-10253226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59BEE-D56A-4B1D-8577-9DF2D30C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B6BDB-2280-4449-8181-71B2D3C48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32F855-D5A9-447D-9007-AC41FB64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7001DF-8BD7-416C-B431-1182EA831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401CDB-F5F1-4311-AFF8-37C9B3BD071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AA9DA-2B36-4D60-9905-0B2E62407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B86A2-48BB-4E78-8D5B-12C82339D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ADC4D-557C-4CE1-B30A-57FCFCAD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9ED18-5A93-4280-BD1A-EECBD42A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BCA25-97B3-4004-B6C1-04AD9E52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A17A-FC6C-4815-A149-78A325CD62B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1" name="Picture 2" descr="C:\DOCUME~1\lenain\LOCALS~1\Temp\7zEBB7.tmp\LOGO-CE for Sanco EN Positive.png"/>
          <p:cNvPicPr/>
          <p:nvPr/>
        </p:nvPicPr>
        <p:blipFill>
          <a:blip r:embed="rId2"/>
          <a:stretch/>
        </p:blipFill>
        <p:spPr>
          <a:xfrm>
            <a:off x="3649680" y="324000"/>
            <a:ext cx="1812960" cy="1396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8629B-11C9-4537-8C10-5DE005776BBC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0" y="-27000"/>
            <a:ext cx="9144000" cy="1130400"/>
          </a:xfrm>
          <a:prstGeom prst="rect">
            <a:avLst/>
          </a:prstGeom>
          <a:solidFill>
            <a:srgbClr val="afc55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3" name="Picture 3" descr="C:\DOCUME~1\lenain\LOCALS~1\Temp\7zED59.tmp\LOGO-CE for Sanco EN Negative.png"/>
          <p:cNvPicPr/>
          <p:nvPr/>
        </p:nvPicPr>
        <p:blipFill>
          <a:blip r:embed="rId2"/>
          <a:stretch/>
        </p:blipFill>
        <p:spPr>
          <a:xfrm>
            <a:off x="3656160" y="324000"/>
            <a:ext cx="1814400" cy="13968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5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3757-E638-46A0-BCD6-8D9DC8DCF1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DOCUME~1\lenain\LOCALS~1\Temp\7zEB8.tmp\LOGO-CE for Sanco EN Landscape Positive.png"/>
          <p:cNvPicPr/>
          <p:nvPr/>
        </p:nvPicPr>
        <p:blipFill>
          <a:blip r:embed="rId2"/>
          <a:stretch/>
        </p:blipFill>
        <p:spPr>
          <a:xfrm>
            <a:off x="6576840" y="5940360"/>
            <a:ext cx="2243160" cy="596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fc5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8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B8CE4-294A-405E-8C4B-B6F97872E2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050560" y="1268280"/>
            <a:ext cx="7272360" cy="208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Feedback by a former </a:t>
            </a:r>
            <a:br>
              <a:rPr sz="3600"/>
            </a:br>
            <a:r>
              <a:rPr b="1" lang="en-US" sz="3600" spc="-1" strike="noStrike">
                <a:solidFill>
                  <a:srgbClr val="ffd624"/>
                </a:solidFill>
                <a:latin typeface="Arial"/>
              </a:rPr>
              <a:t>Resident Twinning Adviser </a:t>
            </a:r>
            <a:endParaRPr b="1" lang="en-US" sz="36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39280" y="4076280"/>
            <a:ext cx="827892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Lessons learned and recommendations </a:t>
            </a:r>
            <a:endParaRPr b="0" i="1" lang="en-US" sz="32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Brussels, 03  March 2016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60640" indent="-2606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ffff"/>
                </a:solidFill>
                <a:latin typeface="Arial"/>
              </a:rPr>
              <a:t>Rudolf SPA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commodation - Hotel =&gt; apartment for r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ff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EU 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act - own Embass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ar reg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ealth insura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octo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6D60-A9AC-4B7E-93AA-B853EA5DF4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rst step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eneficiary institu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erarchy and counterparts in the beneficiary institu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relevant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pretation / Transl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Financial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National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3B7A-8954-424B-82FB-866424D154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4859280" y="4076640"/>
            <a:ext cx="27464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Assistan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arly selec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operative behavior is important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careful with recommendations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ranslation vs. interpretatio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10320" indent="-31032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hare of work between assista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C205-DE41-4E2C-BD9E-D1C50B03368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07" name="Picture 2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21632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278100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The first very official appearance of the RT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High level gues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be well organis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tart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crucial opportunity for visi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s release / press-confer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team (MS, BC, office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F33F3-B744-466D-8949-A8F6C58269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Kick-off meeting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t has to take place </a:t>
            </a:r>
            <a:r>
              <a:rPr b="0" i="1" lang="en-GB" sz="2400" spc="-1" strike="noStrike" u="sng">
                <a:solidFill>
                  <a:srgbClr val="0f5494"/>
                </a:solidFill>
                <a:uFillTx/>
                <a:latin typeface="Arial"/>
              </a:rPr>
              <a:t>as soon as possible but not to e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lready something to present, what can attract the press and the ques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verview about the star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esentation of the work plan + implement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 materi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Website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7600" indent="-3276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19B0-37E4-4254-9737-927C7F920E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new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636640"/>
            <a:ext cx="822960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The country - history, culture,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Language, Behaviour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Political parties - Parlia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Gouvern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Justic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Media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Economy, Trad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- Socialsecur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283D-EE9A-45BF-8C96-29A7FB785E7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4716360" y="4300560"/>
            <a:ext cx="3235320" cy="21528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6040440" y="1898640"/>
            <a:ext cx="296064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nternational contex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International relations of the beneficiary country (BC)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ropean Union (Accession negotiations, benchmarks, progress reports, IPA program, Association agreements, country strategies, support programs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U Member States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Your country of origin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BC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Arial"/>
              </a:rPr>
              <a:t>Neighbours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f5494"/>
                </a:solidFill>
                <a:latin typeface="Wingdings"/>
                <a:ea typeface="Wingdings"/>
              </a:rPr>
              <a:t>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FF5C2-29F5-4F2C-95BE-06CECA0148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2" name="Picture 2" descr=""/>
          <p:cNvPicPr/>
          <p:nvPr/>
        </p:nvPicPr>
        <p:blipFill>
          <a:blip r:embed="rId1"/>
          <a:stretch/>
        </p:blipFill>
        <p:spPr>
          <a:xfrm>
            <a:off x="5796000" y="4149720"/>
            <a:ext cx="295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Your professional environmen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EU projects (previous, current, future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ther projects (bilateral cooperation, world bank, etc.)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TAIEX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sident exper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Stakeholders – international </a:t>
            </a:r>
            <a:br>
              <a:rPr sz="2400"/>
            </a:b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       and national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3DDF-47E0-4F1C-8CE6-5F84E26056C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5076720" y="4149720"/>
            <a:ext cx="303228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The institution to be supported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68360" y="321300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Organisational cha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udget, infra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gional, local structur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petenci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operation and competition with other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3ADD-4876-4719-9D24-53CB2FF712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4859280" y="2276640"/>
            <a:ext cx="397188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Get familiar with the structure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Who is who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Job security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Behaviour, hab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Workhou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Public holi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Communication too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5337-404A-43FE-BEF4-6571433250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1"/>
          <a:stretch/>
        </p:blipFill>
        <p:spPr>
          <a:xfrm>
            <a:off x="4908600" y="3284640"/>
            <a:ext cx="209232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My Twinning-experience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24000" y="34718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5 - 2007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- Romania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07 - 2009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0 – 2011 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esident Twinning Advisor - R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2011  - 2012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Short-Term Expert – Kosovo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DD53-0E74-4EA3-BBDB-C7954FCE53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5437080" y="1125360"/>
            <a:ext cx="3706920" cy="23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urrent status?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7524720" y="1197000"/>
            <a:ext cx="1322280" cy="1727280"/>
          </a:xfrm>
          <a:prstGeom prst="rect">
            <a:avLst/>
          </a:prstGeom>
          <a:ln w="0">
            <a:noFill/>
          </a:ln>
        </p:spPr>
      </p:pic>
      <p:sp>
        <p:nvSpPr>
          <p:cNvPr id="23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E699-897B-4F0D-AD92-D8277AC433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81000" y="2351160"/>
            <a:ext cx="75866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f5494"/>
                </a:solidFill>
                <a:uFillTx/>
                <a:latin typeface="Arial"/>
              </a:rPr>
              <a:t>'Current</a:t>
            </a:r>
            <a:r>
              <a:rPr b="1" lang="de-DE" sz="2200" spc="-1" strike="noStrike" u="sng">
                <a:solidFill>
                  <a:srgbClr val="0f5494"/>
                </a:solidFill>
                <a:uFillTx/>
                <a:latin typeface="Arial"/>
              </a:rPr>
              <a:t> Situation Report'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Situation changed since the fiche was drafted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You need more details and additional special data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.  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Contact the leadership of the relevant institutions, </a:t>
            </a:r>
            <a:br>
              <a:rPr sz="2200"/>
            </a:b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units</a:t>
            </a:r>
            <a:r>
              <a:rPr b="0" lang="de-DE" sz="22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and stakeholder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f5494"/>
                </a:solidFill>
                <a:latin typeface="Arial"/>
              </a:rPr>
              <a:t>Work together with the leaders of the working groups</a:t>
            </a: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50000"/>
              </a:lnSpc>
              <a:buClr>
                <a:srgbClr val="ffd62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Report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AE7F-A266-41B7-A273-8AF8D9305B2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2636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As specified in the Twinning contract!!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400" spc="-1" strike="noStrike">
                <a:solidFill>
                  <a:srgbClr val="0f5494"/>
                </a:solidFill>
                <a:latin typeface="Arial"/>
              </a:rPr>
              <a:t>RTA Offi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Current Situation Report /Incept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onthly Report / Technical Progress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Final Report </a:t>
            </a:r>
            <a:br>
              <a:rPr sz="2400"/>
            </a:b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hort-term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0f5494"/>
                </a:solidFill>
                <a:latin typeface="Arial"/>
              </a:rPr>
              <a:t>Mission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4716360" y="4581360"/>
            <a:ext cx="3008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ement meetings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teering committee meetings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rectors, head of departmen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C project lead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gularl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ased on an activity plan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U-Deleg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30840" indent="-3308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entral Financial and Contracting Uni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FE05-D043-40C8-8A9D-F9435E81A7E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6691320" y="2637000"/>
            <a:ext cx="18669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68360" y="2420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What do the EU Delegations do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 key role in presenting, explaining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 implementing EU’s foreign polic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nalyse and report on the policies and 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    developments of their host countries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conduct negotiations in accordance with given mandates.</a:t>
            </a:r>
            <a:br>
              <a:rPr sz="2000"/>
            </a:b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0f5494"/>
                </a:solidFill>
                <a:uFillTx/>
                <a:latin typeface="Arial"/>
              </a:rPr>
              <a:t>How do the Delegations operate?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Maintaining political dialogue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administering development aid;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f5494"/>
                </a:solidFill>
                <a:latin typeface="Arial"/>
              </a:rPr>
              <a:t>supervision of EU trade issues and building cultural contacts. </a:t>
            </a: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6848E-A906-4309-9F1C-7D509577BFB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6012000" y="1206360"/>
            <a:ext cx="2862000" cy="29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EU Delegation – support and monitoring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lose cooperation with the EU-Delegation is beneficial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General support in the implem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Support in the collaboration with the BC-administr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articipation of the EU-Delegation at all important events    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Kick-off, Steering Committee meetings, Final meeting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EB04-D40A-48FC-B1E1-3E0F230C66E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4" name="Picture 5" descr=""/>
          <p:cNvPicPr/>
          <p:nvPr/>
        </p:nvPicPr>
        <p:blipFill>
          <a:blip r:embed="rId1"/>
          <a:stretch/>
        </p:blipFill>
        <p:spPr>
          <a:xfrm>
            <a:off x="6227640" y="2421000"/>
            <a:ext cx="274176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Implementing a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orking group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working group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BC official as leader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set up up of rul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tivity pla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regular meeting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discussing the progres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56BE-1C56-43B0-9C88-C2568F9CE15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4411800" y="2565360"/>
            <a:ext cx="42685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ctivity plan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follow up of the benchmar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lear time schedu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what needs to be do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y whom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til whe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alendar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expert-mi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study visi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24000" indent="-3240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706A-87F9-4746-AA4A-092252F1660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3708360" y="4149720"/>
            <a:ext cx="438156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Additional useful documentation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sults of discuss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nutes of the meeting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to be circulated to the beneficiarie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commendations mad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inder for yourself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formal character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649C9-836E-48C9-81DD-F7C7014A01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expert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93680" y="2857320"/>
            <a:ext cx="518472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be the bridge and the  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   catalytic agent </a:t>
            </a:r>
            <a:br>
              <a:rPr sz="2400"/>
            </a:b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verview and detai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understanding the contex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continu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input – absorption capacity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no need to separate by M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51DE8-937B-4EC1-A4C9-6B5A1543EE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1"/>
          <a:stretch/>
        </p:blipFill>
        <p:spPr>
          <a:xfrm>
            <a:off x="6184800" y="2997360"/>
            <a:ext cx="23576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Managing the experts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96520" y="2205000"/>
            <a:ext cx="5127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prepare objectives, terms of reference and agenda of the       missions in due tim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on’t waste expert day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allow the beneficiaries to evaluate the expert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mission reports of the experts in due tim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D24A-67E5-44A9-94DD-18E7DCC5323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5899320" y="2421000"/>
            <a:ext cx="29826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f5494"/>
                </a:solidFill>
                <a:latin typeface="Arial"/>
              </a:rPr>
              <a:t>  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Let‘s start our excursion! </a:t>
            </a:r>
            <a:br>
              <a:rPr sz="3000"/>
            </a:b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lang="en-GB" sz="3000" spc="-1" strike="noStrike">
                <a:solidFill>
                  <a:srgbClr val="0f5494"/>
                </a:solidFill>
                <a:latin typeface="Arial"/>
              </a:rPr>
              <a:t>What comes next?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1692360" y="2481120"/>
            <a:ext cx="5616360" cy="4116600"/>
          </a:xfrm>
          <a:prstGeom prst="rect">
            <a:avLst/>
          </a:prstGeom>
          <a:ln w="0">
            <a:noFill/>
          </a:ln>
        </p:spPr>
      </p:pic>
      <p:sp>
        <p:nvSpPr>
          <p:cNvPr id="173" name="Slide Number Placeholder 4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2459-513B-4A88-B32F-6BEFC861965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 based Intranet / share poi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ccess: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-   Management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xperts MS and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orking group members etc.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E789B-DCA4-49A3-A2F2-743B4A2E976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Share point - Intrane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200C-B614-425E-A02A-86A1402A3B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332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Visibility – communication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Website – open for the publi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nformation for the stakeholders and for the citizens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It takes time but is essential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2400"/>
            </a:b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added value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after finalization </a:t>
            </a: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of the project as well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FC5F-53A9-4BCE-8C0A-E256AB3398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Website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535E-D825-41D0-A02B-0300D9B011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837720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Visibility – start without delay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515A-470C-4A1C-99B1-F5C7754FD4D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2843280" y="3716280"/>
            <a:ext cx="2786040" cy="3029040"/>
          </a:xfrm>
          <a:prstGeom prst="rect">
            <a:avLst/>
          </a:prstGeom>
          <a:ln w="9360">
            <a:solidFill>
              <a:srgbClr val="bbe0e3">
                <a:alpha val="99000"/>
              </a:srgbClr>
            </a:solidFill>
            <a:miter/>
          </a:ln>
        </p:spPr>
      </p:pic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6012000" y="2174760"/>
            <a:ext cx="2447640" cy="46576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6"/>
          <p:cNvSpPr/>
          <p:nvPr/>
        </p:nvSpPr>
        <p:spPr>
          <a:xfrm>
            <a:off x="365040" y="2565360"/>
            <a:ext cx="345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lyer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Brochure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Roll-up banners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Folder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USB-Stick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Arial"/>
              </a:rPr>
              <a:t>Pencils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f549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etc.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70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During the implementation</a:t>
            </a:r>
            <a:br>
              <a:rPr sz="3000"/>
            </a:br>
            <a:r>
              <a:rPr b="1" lang="en-US" sz="3000" spc="-1" strike="noStrike">
                <a:solidFill>
                  <a:srgbClr val="0f5494"/>
                </a:solidFill>
                <a:latin typeface="Arial"/>
              </a:rPr>
              <a:t>Support the needs of the BC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nchmarks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Output orien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TA shall provide additional inpu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Help the partners to contribut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Be realistic with your expect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Remain optimistic and motivated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Arial"/>
              </a:rPr>
              <a:t>Develop plan B’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12DA-4AC8-419A-8D39-45323FD3F7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Challenges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olitical instabil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ntinuity in the BC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bsorption capacity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Other working stiles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behaviours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You need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patient, intercultural skills, enthusiasm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 target-oriented work, not forget the goals! 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00240" indent="-30024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3DF6-5453-4C85-B0DB-82F3B27984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5003640" y="1341360"/>
            <a:ext cx="39294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Finalisation of the projec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68360" y="3068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quarterly repor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meeting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inal repor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ocus on results/achievemen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Recommendation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ED01-B9F5-4747-AC69-2F7B69AB18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5457960" y="2349360"/>
            <a:ext cx="3539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Networking and follow up </a:t>
            </a:r>
            <a:br>
              <a:rPr sz="3000"/>
            </a:b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Websit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Ensure that all contact details are availa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Keep outputs of the projec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f5494"/>
                </a:solidFill>
                <a:latin typeface="Arial"/>
              </a:rPr>
              <a:t>Continue your support so far possible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Keep in touch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Lesssons learned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f5494"/>
                </a:solidFill>
                <a:latin typeface="Arial"/>
              </a:rPr>
              <a:t>Future cooperation?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459AF-0E2E-470B-BB79-660D1E9A07A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05" name="Picture 2" descr=""/>
          <p:cNvPicPr/>
          <p:nvPr/>
        </p:nvPicPr>
        <p:blipFill>
          <a:blip r:embed="rId1"/>
          <a:stretch/>
        </p:blipFill>
        <p:spPr>
          <a:xfrm>
            <a:off x="4932360" y="4581360"/>
            <a:ext cx="282096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Added value for the RTA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95280" y="2349360"/>
            <a:ext cx="7345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 meaningful activity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peration, collegiality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dditional huge professional and life experienc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Diplomatic and intercultural 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national Management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Institution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Visibility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But: it is hard work !!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293400" indent="-29340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2722-CD2B-4427-98D4-F8059EE8CEC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Content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The Resident Twinning </a:t>
            </a: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Advisor</a:t>
            </a:r>
            <a:r>
              <a:rPr b="0" i="1" lang="de-DE" sz="3000" spc="-1" strike="noStrike">
                <a:solidFill>
                  <a:srgbClr val="0f5494"/>
                </a:solidFill>
                <a:latin typeface="Arial"/>
              </a:rPr>
              <a:t> (RTA)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Environment of the RTA 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Implementation of the project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lnSpc>
                <a:spcPct val="150000"/>
              </a:lnSpc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000" spc="-1" strike="noStrike">
                <a:solidFill>
                  <a:srgbClr val="0f5494"/>
                </a:solidFill>
                <a:latin typeface="Arial"/>
              </a:rPr>
              <a:t>Conclusions</a:t>
            </a: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E32A-11DC-4FAC-B22F-A7DAFFE83D8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468360" y="169992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THANK YOU FOR YOUR ATTENTION!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9E6D5-8D66-4389-BE65-1156025021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311" name="Picture 4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276880" cy="2652840"/>
          </a:xfrm>
          <a:prstGeom prst="rect">
            <a:avLst/>
          </a:prstGeom>
          <a:ln w="0">
            <a:noFill/>
          </a:ln>
        </p:spPr>
      </p:pic>
      <p:sp>
        <p:nvSpPr>
          <p:cNvPr id="312" name="TextBox 1"/>
          <p:cNvSpPr/>
          <p:nvPr/>
        </p:nvSpPr>
        <p:spPr>
          <a:xfrm>
            <a:off x="1042920" y="5229360"/>
            <a:ext cx="66978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GOOD  LUCK  AND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f5494"/>
                </a:solidFill>
                <a:latin typeface="Arial"/>
              </a:rPr>
              <a:t>SUCCESS! 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f5494"/>
                </a:solidFill>
                <a:latin typeface="Verdana"/>
              </a:rPr>
              <a:t>Rudolf.Span@ec.europa.eu</a:t>
            </a: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Task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ordination of the implementation of the projec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chievement of the mandatory result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support for the beneficiary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   institution – a real colleague!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757A-1106-42C3-8215-9AF0C64F8EA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380360" y="1916280"/>
            <a:ext cx="125388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Behaviour - Diplomatic skill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your country of origin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An 'ambassador' of the European Union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llaboration on very high level: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Ambassadors, Ministers, State Secretary,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U-Delegation/Representation, EU-Commission,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xecutive board of different stakeholders </a:t>
            </a:r>
            <a:br>
              <a:rPr sz="2400"/>
            </a:b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	</a:t>
            </a: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-e.g. industry, associations, NGOs. </a:t>
            </a:r>
            <a:br>
              <a:rPr sz="2400"/>
            </a:b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C324-DC9A-45DB-8BE3-224649DADD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f5494"/>
                </a:solidFill>
                <a:latin typeface="Arial"/>
              </a:rPr>
              <a:t>The Resident Twinning Advisor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f5494"/>
                </a:solidFill>
                <a:latin typeface="Arial"/>
              </a:rPr>
              <a:t>Skills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Management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Professional Expertise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Union legisl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EU - structure and functioning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Intercultural competences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Arial"/>
              </a:rPr>
              <a:t>Communication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6C6E-C4BF-4EEF-9C04-A6C0143E61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5219640" y="2637000"/>
            <a:ext cx="330192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start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2636640"/>
            <a:ext cx="82296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f5494"/>
                </a:solidFill>
                <a:latin typeface="Arial"/>
              </a:rPr>
              <a:t>Your expectation? </a:t>
            </a: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f5494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6D9EA-980F-4D09-B38E-1484E86047D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4788000" y="1628640"/>
            <a:ext cx="4176720" cy="2540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"/>
          <p:cNvPicPr/>
          <p:nvPr/>
        </p:nvPicPr>
        <p:blipFill>
          <a:blip r:embed="rId2"/>
          <a:stretch/>
        </p:blipFill>
        <p:spPr>
          <a:xfrm>
            <a:off x="498600" y="3645000"/>
            <a:ext cx="41608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360" y="155556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0f5494"/>
                </a:solidFill>
                <a:latin typeface="Arial"/>
              </a:rPr>
              <a:t>The reality? </a:t>
            </a:r>
            <a:endParaRPr b="1" lang="en-US" sz="3000" spc="-1" strike="noStrike">
              <a:solidFill>
                <a:srgbClr val="0f5494"/>
              </a:solidFill>
              <a:latin typeface="Arial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655308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C0C99-5E00-4B84-8602-8EB00FCCFA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95" name="Content Placeholder 4" descr=""/>
          <p:cNvPicPr/>
          <p:nvPr/>
        </p:nvPicPr>
        <p:blipFill>
          <a:blip r:embed="rId1"/>
          <a:stretch/>
        </p:blipFill>
        <p:spPr>
          <a:xfrm>
            <a:off x="1547640" y="2421000"/>
            <a:ext cx="2592720" cy="38466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"/>
          <p:cNvPicPr/>
          <p:nvPr/>
        </p:nvPicPr>
        <p:blipFill>
          <a:blip r:embed="rId2"/>
          <a:stretch/>
        </p:blipFill>
        <p:spPr>
          <a:xfrm>
            <a:off x="4913280" y="1778040"/>
            <a:ext cx="3760920" cy="28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European Commission</dc:creator>
  <dc:description/>
  <dc:language>en-US</dc:language>
  <cp:lastModifiedBy>SANTUCCIONE Lucia (DEVCO)</cp:lastModifiedBy>
  <cp:lastPrinted>2012-07-17T17:07:43Z</cp:lastPrinted>
  <dcterms:modified xsi:type="dcterms:W3CDTF">2016-02-29T12:32:31Z</dcterms:modified>
  <cp:revision>260</cp:revision>
  <dc:subject/>
  <dc:title>PowerPoint Presentation</dc:title>
</cp:coreProperties>
</file>