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3"/>
          </p:nvPr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863280" y="76176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040" y="4723920"/>
            <a:ext cx="4876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4"/>
          </p:nvPr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5"/>
          </p:nvPr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B4A8-63C2-4FDF-BA20-5BAFB2945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BCCA-8C7C-4EB1-8D5D-503EDC4F5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70EB-92AD-4115-8D40-C19933704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9970-D901-464C-B87E-708655DD2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B354-450D-476C-8715-1BC365C32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WORK CONTAR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ONE OFF CONTRACTS IF NECESS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B2612-8F9E-44A8-8D49-0F3414EC7C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4C9DC-7052-431F-A269-9755D81DB6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DF5AF-8E5F-4049-B3D3-40B026029B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46B1A-4362-40E3-9BB4-2244A37A63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11EE9-D228-4451-B1A6-C91CDA6022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A3660-662B-438B-8634-02B2BFBF0E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9E061-A666-4950-BBC4-65E7C260AB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DCC4F-1BC0-4039-A132-A97782EC5D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93F1C-EC83-45B1-B676-06A765BC48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71CDE-C1AE-4797-8DB4-C163BF6095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ACA96-A6AF-43D7-BC85-19B9DBD534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B2ED7-FBED-444E-BC65-5737ADEF7F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2B297-1753-4D99-B003-E2143E7464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D89B3-E743-44EA-B6A2-8D005F85A5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88963-1C6C-49C9-BFF4-64883B6552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72D28-EAEA-4ABF-853B-2260778062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AF874-8E62-4B6D-BED6-25DE7F2BC5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A44B3-FD28-48AA-946B-41C749AB31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578F9-08AE-455B-BF5A-B0CB395453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97C71-41E4-43EF-A079-8ED7B9BD98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2BEDE-BF4E-40DE-9E40-8A7DB2D346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4C300-1F72-4B50-A1A3-0A8040228C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2D00E-7702-4BFE-8685-BF7B421DEE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AC3AB-2D30-4319-A169-4D126E9931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74328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F3CF-3689-4671-BC5E-9E1F06455BCF}" type="slidenum">
              <a:rPr b="0" lang="en-US" sz="1400" spc="-1" strike="noStrike">
                <a:solidFill>
                  <a:srgbClr val="ffff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6477120" y="304920"/>
          <a:ext cx="1981080" cy="80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7120" y="304920"/>
                    <a:ext cx="198108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74328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9465-F786-4526-AF55-2229C32EECB3}" type="slidenum">
              <a:rPr b="0" lang="en-US" sz="1400" spc="-1" strike="noStrike">
                <a:solidFill>
                  <a:srgbClr val="ffff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4572000"/>
            <a:ext cx="86104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6095880"/>
            <a:ext cx="3886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38080" y="152280"/>
            <a:ext cx="7620120" cy="978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838080" y="1143000"/>
          <a:ext cx="7620120" cy="310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143000"/>
                    <a:ext cx="7620120" cy="31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50920" y="4581000"/>
            <a:ext cx="8642160" cy="15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ation on JASPERS To IFI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ussels – March 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76360" y="549360"/>
            <a:ext cx="446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involvement in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34136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39640" y="1916280"/>
          <a:ext cx="7473600" cy="3254040"/>
        </p:xfrm>
        <a:graphic>
          <a:graphicData uri="http://schemas.openxmlformats.org/drawingml/2006/table">
            <a:tbl>
              <a:tblPr/>
              <a:tblGrid>
                <a:gridCol w="2495880"/>
                <a:gridCol w="1259280"/>
                <a:gridCol w="2201760"/>
                <a:gridCol w="151668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Type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Type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Water/Waste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a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olid was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o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il and g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Urban Tran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ner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o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rownfield Reh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he total no. of projects is 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759CE-9A9C-417C-B1B4-990A0157D1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619280" y="476280"/>
            <a:ext cx="48387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xample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523880"/>
            <a:ext cx="8447040" cy="45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OLAND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Warsaw Ring Road, Public Transport in Krakow and Lublin, Flood Protection, Broadb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OMANI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Rolling Stock, River Navigation, Multi-modal terminals, Regional Airports, Regionalisation of Water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ULGARI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PPP Motorway, River Navi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HUNGARY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Provincial Urban Transport, 8 Water schem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LOVAKI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Motorways, Water Supply and Trea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ALT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Port upgrade, restoration of ancient build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YPRUS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– Urban Transport in Nico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D7552-3B10-4A2B-94D8-A667A819A0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5943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Times New Roman"/>
              </a:rPr>
              <a:t>What is JASP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 Joint Assistance to Support Projects in European Reg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tnership between Commission (DG REGIO), EIB and EB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primary Beneficiaries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he 12 new Member States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vailable EU funds for new MS for period 2007-13: EUR 308b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ASPERS  has experience and knowledge to provid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echnical Assistance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o help that beneficiaries submit complete, structured and well prepared applications/studi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A49AE-52EF-4CD5-BF67-7193FB0B18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5943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hy was JASPERS created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52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Incomplete absorption of EU funds during previous funding periods for various reasons , 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Incomplete applications submitted by Member States (MS), causing delays in approval and implementation of projec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Delays during implementation also caused by issues not properly identified during the application ph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JASPERS can help the beneficiary countries to increase their absorption of EU funding and use it efficien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core Technical Assistance teams comprise experienced economists and engineers who will assist MS to ensure submission of high quality applications, (including EIAs, FS, necessary ToRs,…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660B4-1EC8-4DA3-BA93-C3F032D993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55640" y="5084640"/>
            <a:ext cx="7416720" cy="1557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B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H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3429000"/>
            <a:ext cx="7416720" cy="1584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C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L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4140360" y="6307920"/>
            <a:ext cx="7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59280" y="1052640"/>
            <a:ext cx="649440" cy="15127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700000" y="1052640"/>
            <a:ext cx="576360" cy="14396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76360" y="2565360"/>
            <a:ext cx="2808360" cy="576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59280" y="2565360"/>
            <a:ext cx="2735280" cy="576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nvironment  &amp;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565360"/>
            <a:ext cx="1476360" cy="576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Reg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076640"/>
            <a:ext cx="755640" cy="360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No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516640"/>
            <a:ext cx="755640" cy="360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So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94200" y="549360"/>
            <a:ext cx="36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76360" y="3141720"/>
            <a:ext cx="2806560" cy="37162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Air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Urban Tr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59280" y="3141720"/>
            <a:ext cx="2737080" cy="37162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Waste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Solid wa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ehab on l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estoration of build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enewable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2565360"/>
            <a:ext cx="432000" cy="429264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162864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SEC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2E2CA-7EFD-44E3-8BA6-B0C87C8F5E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5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5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743200" y="2438280"/>
            <a:ext cx="3581280" cy="152424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91920" y="2743200"/>
            <a:ext cx="24300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JAS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66 professional STA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1219320"/>
            <a:ext cx="1143000" cy="16002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1143000"/>
            <a:ext cx="0" cy="12952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562360" y="1143000"/>
            <a:ext cx="1143000" cy="14479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6360" y="183024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32 expe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+ 10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1447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16 professio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09360" y="179064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5 to 8 professio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19640" y="4508640"/>
            <a:ext cx="2133360" cy="6094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UXEMBO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3962520"/>
            <a:ext cx="0" cy="5331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5661000"/>
            <a:ext cx="2376360" cy="6778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ARS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pened Nov 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19640" y="5661000"/>
            <a:ext cx="2214360" cy="6555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VIEN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pened Mar 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12000" y="5661000"/>
            <a:ext cx="2520720" cy="72072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UCHA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pened Mar 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268360" y="5084280"/>
            <a:ext cx="1224000" cy="505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5084640"/>
            <a:ext cx="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08720" y="5084640"/>
            <a:ext cx="79200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7620120" cy="97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09332-A093-4898-A15C-10509F1FE2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258920" y="549360"/>
            <a:ext cx="5184720" cy="7189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 project portfol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1268280"/>
            <a:ext cx="8351640" cy="4969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2360" indent="-651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only accepts projects financed by EU Fu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gives priority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320" indent="-792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jor projects (project cost over €25 M for environment projects and over €50 M for transport and other project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320" indent="-7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jects covered by the MS Operational Program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320" indent="-79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orizontal Tasks relating to issues covering more than one project, country or se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0E0EB-D981-4878-9572-FE230EE1C9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7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26920" y="549360"/>
            <a:ext cx="5542200" cy="9903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asis of Ass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125360"/>
            <a:ext cx="9144000" cy="4896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lvl="1" marL="653760" indent="-2512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assistance is provided free of charge; there is no obligation to use JASP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dditional funding may or may not be obtained from EIB/EBRD; projects still qualify for JASPERS assistan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mber States are the owners of the project, not JASP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is only an input to the preparation of applications for EU fund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eparation of a project by JASPERS does not guarantee approval of the project by the Commi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85531-F06A-403E-9DF2-62C24E7971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3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71640" y="549360"/>
            <a:ext cx="54734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anaging the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125360"/>
            <a:ext cx="889308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Managing Authority co-ordinates between JASPERS country officers and the line minist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jects identified by annual Actions Pl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Annual Action Plans “formalises” the Projects and Horizontal Tasks where the Managing Authority requires JASPERS assi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536FE-0D81-45E0-80DD-093E0C7E83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39640" y="1916280"/>
          <a:ext cx="7488360" cy="4092480"/>
        </p:xfrm>
        <a:graphic>
          <a:graphicData uri="http://schemas.openxmlformats.org/drawingml/2006/table">
            <a:tbl>
              <a:tblPr/>
              <a:tblGrid>
                <a:gridCol w="1871640"/>
                <a:gridCol w="1873440"/>
                <a:gridCol w="1871640"/>
                <a:gridCol w="1871640"/>
              </a:tblGrid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Coun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Coun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oma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lovak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ol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love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zech Republ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ypr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Hung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atv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ulga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sto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al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ithua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he total no. of projects is 9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476360" y="549360"/>
            <a:ext cx="446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involvement in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0CA26-B815-4156-8232-D7ECA82FB2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13:15:24Z</dcterms:created>
  <dc:creator>DELAGUAR</dc:creator>
  <dc:description/>
  <dc:language>en-US</dc:language>
  <cp:lastModifiedBy>MURPHYJA</cp:lastModifiedBy>
  <dcterms:modified xsi:type="dcterms:W3CDTF">2007-03-13T14:52:58Z</dcterms:modified>
  <cp:revision>5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24236374</vt:r8>
  </property>
  <property fmtid="{D5CDD505-2E9C-101B-9397-08002B2CF9AE}" pid="3" name="_AuthorEmail">
    <vt:lpwstr>Anna.VEZYROGLOU@ec.europa.eu</vt:lpwstr>
  </property>
  <property fmtid="{D5CDD505-2E9C-101B-9397-08002B2CF9AE}" pid="4" name="_AuthorEmailDisplayName">
    <vt:lpwstr>VEZYROGLOU Anna (ELARG)</vt:lpwstr>
  </property>
  <property fmtid="{D5CDD505-2E9C-101B-9397-08002B2CF9AE}" pid="5" name="_EmailSubject">
    <vt:lpwstr>Slides I</vt:lpwstr>
  </property>
  <property fmtid="{D5CDD505-2E9C-101B-9397-08002B2CF9AE}" pid="6" name="_NewReviewCycle">
    <vt:lpwstr/>
  </property>
</Properties>
</file>