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2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3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4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3852-535D-47E6-A573-98B5B6E45A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6965-AD60-4B03-B7DC-2CD47662A2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7DBC-F8E5-4285-AD81-61893BDEAC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B01A-03B8-4176-98DA-13B664196F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40BD-8EC4-4D70-9C0B-5DB3D2D59B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203A-BA1F-4184-880F-DA5018444C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30C8-C956-4A40-8EF2-5B9210B691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5950-8286-48AC-8FBC-B2F49D0974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194A-ED58-48AE-8CC8-E812D47529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779-37F3-48D0-B025-2F0A8CD2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E7A7-0029-46D9-A4DE-80B3D6C3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838-70F2-45D8-A5E0-607C20AE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3C28-ABE8-4C22-A8C1-D1141FEE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B090-3BAF-492B-8389-E7DD3A66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F9B2-BD15-4A15-B163-C9399D10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1E7C-869B-4288-91C1-5BA93ABB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3238-8E1D-4298-8BD1-CC8C40AE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7314-8F0B-4A27-8672-5A3C8B73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BA20-37EA-4E37-BC13-6D747B1C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930F-8358-4988-89FF-72B54762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7C92-B1AD-4DD2-8515-3896635B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9B2A-1A3A-42C1-A97B-B9EA85C9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AB7C-94F6-4368-BE0E-60A91314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C225-6C95-4725-8720-C0C7B2A3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EF87-E600-436C-9B1E-5B0FCA27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84EA-6C14-45C0-9F6E-C217B6A8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5C326-2E7C-4DED-8064-F2EDCAAC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DD74D-6C24-4F5A-B5C9-08213CCD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81763-BDE2-4307-9D2D-0430F998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EBFB7-8D14-47B3-B53A-EF89D332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9D122-1D8E-4F74-9152-1E665F12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563-E63D-4CB7-A02C-D9CB2733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2133D-18E1-4108-9142-B6FCB2C5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A099F-7F4A-43F1-A9FF-B2DCDCA3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27FBF-BF1A-4637-B951-E1B0F8F9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4C637-6BCE-466F-8BAD-DEAFD3AE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99ACF-87AD-4035-94C8-2303D501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329FA-FE67-4460-B3C1-49CB7D92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F9222-4E1C-404C-99F1-8D4994E1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327E6C-2A64-4BC4-89CA-0018EE5DC8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31744C-827E-49BF-8F53-3BB04D87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EB7362-ACA9-4337-8CAF-6D120C40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3963-129B-479E-9968-79BDFDEF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330BB7-4467-4080-A83D-777FC295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04898B-5677-4B4C-A8ED-EC8A3F51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27DE3E-7097-4205-8265-AE8762A2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0C84AF-F74A-42BC-8A97-15E62EA6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C5BC72-5E18-43B7-8065-BF00FCDB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52B377-4FAB-42BC-899D-1FA7915D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5BD3D-0AA9-40EB-8E2E-28B3DE3F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C2397B-0FA3-4697-A2A5-60B116E4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2FC64F-8A3B-41A5-8DEE-864ED76C40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7C6-F8B2-44A6-8515-8338C985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128-298B-4A3B-8EA8-BD68C40B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71C-F6A1-4E66-9C85-399015E8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F55-32FD-49CB-A85A-685805D2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A79-962A-4D39-A132-55366D31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5E72-5D27-4941-9F1B-87D01BB308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7640" cy="14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4233960" y="6445080"/>
            <a:ext cx="676080" cy="45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86B6-E7A6-4FCE-983B-FC961703EF3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lupasst\Desktop\Graphics\Footer Box NEAR2.jpg"/>
          <p:cNvPicPr/>
          <p:nvPr/>
        </p:nvPicPr>
        <p:blipFill>
          <a:blip r:embed="rId4"/>
          <a:stretch/>
        </p:blipFill>
        <p:spPr>
          <a:xfrm>
            <a:off x="4233960" y="6437160"/>
            <a:ext cx="630000" cy="42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5"/>
          <a:stretch/>
        </p:blipFill>
        <p:spPr>
          <a:xfrm>
            <a:off x="4229280" y="6416640"/>
            <a:ext cx="67608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AEDF-09E3-4385-964D-5E980B08D3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3673440" cy="561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516360" y="475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468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F7BD-D845-414A-AAE2-D3D45C4665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neighbourhood/eastern-partnership/index_en.htm" TargetMode="External"/><Relationship Id="rId2" Type="http://schemas.openxmlformats.org/officeDocument/2006/relationships/hyperlink" Target="http://www.enpi-info.eu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1640" y="436572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EU cooperation with the Eastern Neighbourhood</a:t>
            </a:r>
            <a:br>
              <a:rPr sz="4000"/>
            </a:br>
            <a:br>
              <a:rPr sz="4000"/>
            </a:b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Mathieu Bousquet, NEAR.C2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027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18960" y="1087560"/>
            <a:ext cx="850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353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cc3300"/>
                </a:solidFill>
                <a:latin typeface="Verdana"/>
              </a:rPr>
              <a:t>Thank you for your attention! </a:t>
            </a:r>
            <a:br>
              <a:rPr sz="26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24000" y="2538360"/>
            <a:ext cx="842616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r more information 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DG NEAR websit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(Eastern Partnership and country pages): </a:t>
            </a:r>
            <a:br>
              <a:rPr sz="1600"/>
            </a:b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1"/>
              </a:rPr>
              <a:t>ec.europa.eu/enlargement/neighbourhood/eastern-partnership/index_en.htm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EU Neighbourhood</a:t>
            </a:r>
            <a:r>
              <a:rPr b="1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 Info Centre</a:t>
            </a:r>
            <a:r>
              <a:rPr b="0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2"/>
              </a:rPr>
              <a:t>www.enpi-info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llow us: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Facebook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EU Neighbourhood &amp; Enlargement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Twitter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@eu_near </a:t>
            </a:r>
            <a:br>
              <a:rPr sz="1600"/>
            </a:b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cc3300"/>
                </a:solidFill>
                <a:latin typeface="Verdana"/>
                <a:ea typeface="Arial"/>
              </a:rPr>
              <a:t>	</a:t>
            </a:r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422280" y="-2338560"/>
            <a:ext cx="4876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8" descr="http://www.shinsuzuma.com/assets/facebook_icon.jpg"/>
          <p:cNvPicPr/>
          <p:nvPr/>
        </p:nvPicPr>
        <p:blipFill>
          <a:blip r:embed="rId3"/>
          <a:stretch/>
        </p:blipFill>
        <p:spPr>
          <a:xfrm>
            <a:off x="719280" y="501660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http://www.mariosbowl.com/images/TBD5PBA/Twitter-symbol.jpg"/>
          <p:cNvPicPr/>
          <p:nvPr/>
        </p:nvPicPr>
        <p:blipFill>
          <a:blip r:embed="rId4"/>
          <a:stretch/>
        </p:blipFill>
        <p:spPr>
          <a:xfrm>
            <a:off x="719280" y="533412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473040" y="1538280"/>
            <a:ext cx="791532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What is it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olicy launched in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04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?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countries (10 in the South, 6 in the East without Russia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Aim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 prosperity, stability, security and good neighbourhood, avoid new diving lines in Europe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P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eview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ongoing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3300"/>
                </a:solidFill>
                <a:latin typeface="Verdana"/>
              </a:rPr>
              <a:t>European Neighbourhood Policy (ENP)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68360" y="2349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hat is it? </a:t>
            </a: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Eastern dimension of the EN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Joint policy launched in 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2009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to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bring Eastern neighbours closer to the EU. Based on: common interests and shared values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For whom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? 6 countries: Armenia, Azerbaijan, Belarus, Georgia, Moldova, Ukraine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Main goals - EaP is about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: 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closer relation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political associ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more trade, business, job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economic integ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people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mobility, contacts between people, civil society 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reforms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sector coope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astern Partnership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395280" y="2565360"/>
            <a:ext cx="8229600" cy="35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H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ow is it financed?</a:t>
            </a:r>
            <a:br>
              <a:rPr sz="32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2707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European Neighbourhood Instrument (ENI) - Key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inancial instrument for ENP and EaP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Where: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ENP countries</a:t>
            </a: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no more bilateral cooperation with Russia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Budget:</a:t>
            </a:r>
            <a:r>
              <a:rPr b="1" lang="pl-PL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0f5494"/>
                </a:solidFill>
                <a:latin typeface="Verdana"/>
              </a:rPr>
              <a:t>EU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15.4</a:t>
            </a:r>
            <a:r>
              <a:rPr b="1" lang="pl-PL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bill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14</a:t>
            </a:r>
            <a:r>
              <a:rPr b="1" lang="pl-PL" sz="18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20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total figur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: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inl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artner governments and civil society organisations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inal beneficiaries =&gt;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citizen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f partner countries !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assistance: How it works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95280" y="2421000"/>
            <a:ext cx="82296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ENI assistance is provided fo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3 types of cooperation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275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Bilateral cooperation programm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Largest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part of ENI fund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Focused on 3 priority sector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+ complementary support for implementation of agreements and civil societ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Differentiation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Tailor-made for each country according to needs, situation, ambition, progres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Regional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Initiatives demanding regional approach, challenges across borders, e.g. transport, energy, environment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Cross border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Content Placeholder 4" descr=""/>
          <p:cNvPicPr/>
          <p:nvPr/>
        </p:nvPicPr>
        <p:blipFill>
          <a:blip r:embed="rId1"/>
          <a:stretch/>
        </p:blipFill>
        <p:spPr>
          <a:xfrm>
            <a:off x="341280" y="2133720"/>
            <a:ext cx="8332920" cy="1944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East - Priority sectors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Content Placeholder 4" descr=""/>
          <p:cNvPicPr/>
          <p:nvPr/>
        </p:nvPicPr>
        <p:blipFill>
          <a:blip r:embed="rId2"/>
          <a:stretch/>
        </p:blipFill>
        <p:spPr>
          <a:xfrm>
            <a:off x="341280" y="4200480"/>
            <a:ext cx="8332920" cy="1693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2"/>
          <p:cNvSpPr/>
          <p:nvPr/>
        </p:nvSpPr>
        <p:spPr>
          <a:xfrm>
            <a:off x="426960" y="6021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+ complementary support: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to support implementation of agreements and civil society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68000" y="2637000"/>
            <a:ext cx="8147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Regional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: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address common challeng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and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promote regional cooperation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on themes which cannot be sufficiently addressed by countries individually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mplementarity with bilateral programm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– avoid overlap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3 Pri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Support the political association proces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ntribute to economic integration and sector cooper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Enhance civil society’s role as a vector for refor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6 Flagship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initiativ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68360" y="1413000"/>
            <a:ext cx="79912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Regional Programmes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</a:rPr>
              <a:t>6 Flagship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8" name="Content Placeholder 4" descr=""/>
          <p:cNvPicPr/>
          <p:nvPr/>
        </p:nvPicPr>
        <p:blipFill>
          <a:blip r:embed="rId1"/>
          <a:stretch/>
        </p:blipFill>
        <p:spPr>
          <a:xfrm>
            <a:off x="444600" y="2639880"/>
            <a:ext cx="5352840" cy="345600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CABD-2243-403E-B79A-2CA14BF0D8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0" name="Rounded Rectangle 6"/>
          <p:cNvSpPr/>
          <p:nvPr/>
        </p:nvSpPr>
        <p:spPr>
          <a:xfrm>
            <a:off x="6443640" y="2924280"/>
            <a:ext cx="1152720" cy="23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2376360"/>
              <a:gd name="textAreaBottom" fmla="*/ 2320200 h 2376360"/>
            </a:gdLst>
            <a:ahLst/>
            <a:rect l="textAreaLeft" t="textAreaTop" r="textAreaRight" b="textAreaBottom"/>
            <a:pathLst>
              <a:path w="21600" h="44522">
                <a:moveTo>
                  <a:pt x="3600" y="0"/>
                </a:moveTo>
                <a:arcTo wR="3600" hR="3600" stAng="16200000" swAng="-5400000"/>
                <a:lnTo>
                  <a:pt x="0" y="40922"/>
                </a:lnTo>
                <a:arcTo wR="3600" hR="3600" stAng="10800000" swAng="-5400000"/>
                <a:lnTo>
                  <a:pt x="18000" y="44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651640" y="2781360"/>
            <a:ext cx="26654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ransport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Governance and rule of law Youth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Information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erritorial cooper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ivil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ulture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ommunic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5086440" y="1628640"/>
            <a:ext cx="381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  <a:ea typeface="Arial"/>
              </a:rPr>
              <a:t>Other EaP Programmes</a:t>
            </a:r>
            <a:r>
              <a:rPr b="1" lang="en-GB" sz="2800" spc="-1" strike="noStrike">
                <a:solidFill>
                  <a:srgbClr val="7575d1"/>
                </a:solidFill>
                <a:latin typeface="Verdana"/>
                <a:ea typeface="Arial"/>
              </a:rPr>
              <a:t>: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TUCCIONE Lucia (DEVCO)</cp:lastModifiedBy>
  <cp:lastPrinted>2015-02-11T15:25:35Z</cp:lastPrinted>
  <dcterms:modified xsi:type="dcterms:W3CDTF">2015-10-14T10:49:06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