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2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3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4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CF9E-F7D6-4DED-BE93-2386BF63D3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72B6-7040-4A50-8640-184E775098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3034-30F9-4844-9A37-14C155918B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AE40-D3E0-4EED-93DB-E60BA248D7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4CE4-8AE8-4668-AB2F-7ABC15B881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F23E-921C-43A3-BE83-401F61F292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9383-795C-4462-A321-A3989BC455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F58C-0CC5-468E-9664-ACACC518D8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0F04-56EF-485A-B791-CBC770BE75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8CD-422F-4F9D-872B-BB19655D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5996-65A6-455E-8CC0-20F55D34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45A-2F67-4253-BE6B-AB559068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E53A-24F1-449F-819E-EC33E317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8833-32A1-494B-9B78-DB96AF84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5C9E-FC01-4E0A-989C-3F80A14D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4A43-71C7-4C00-B821-5686C982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E6EA-26F9-43FF-9E92-22B47091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E733-6D7A-4F43-AE2A-DF1FADD7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7F4A-5084-4FFF-BBE1-AB4CBD55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8E17-9FC7-4D36-895C-8FA992A5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671E-D095-48E4-ABEB-F32FB9B9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65AB-2EBC-4F7E-8F34-96B366D8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E496-7F2B-47A1-925E-0EA9574B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431C-6A08-4F5C-B89A-D715A269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43E6-60B8-4ADE-847E-9B539409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EB2D-ED6F-4820-B3E4-94AE9192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2C8CD-0AEC-46B5-B89F-A169E0F3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B6FD4-AC47-4464-84F7-A4843E01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8474D-8509-4BB4-9C04-EF333FA4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6DEB5-766B-471C-8398-2EE45ADA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B4AD0-6D7B-4F8A-A4DD-3C03B40C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B5D0-8386-44B5-979D-39930617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A659D-FED3-41EA-92BF-EB688124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BA838-84E8-4E0A-9065-E9D7B784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ACCEE-E2D1-4BC2-8131-79CBE0A9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F5862-0E9D-4A24-A37A-EC145BA2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46AB2-9E0B-4CD4-BDCD-E2DDB271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2AE6E-DFFB-4F96-8FE6-0DF8AEDF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03A51-DCAF-4AAD-95A3-EAA36A5E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13389D-B852-45BF-8A1E-F11AEE48A5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5613EA-B331-4AEB-8AE1-6E6D2BB8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D834BA-FCAC-4B8E-9A04-4A1D2FF9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66C-F55B-4267-BBA5-A13DC7E4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EB1E65-51EB-43D6-A237-4B1525DF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0C90E7-B754-45EF-9CDF-85326402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9A8D69-597F-4B55-A332-B8DACFBB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4FA846-7868-46C8-BB8C-320EEBA9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4DB09F-3A0F-4C49-A0F7-7A0D7703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FA2127-833A-4FE4-8396-4BE33953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7A348A-5F3B-434E-9B3F-078FC69F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63498A-24EB-4C66-8144-1ABCFA58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B490FA-232A-4788-93D2-FC6288AD5E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C35C-5B11-41E7-B116-C1D2D843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135-9F85-4E79-A3F3-E66CC1FB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FC13-3131-4848-A1C9-FC3C2ADB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D5E1-63B8-4943-BC95-52CA2D2A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17DD-D27B-46E6-9555-9BF85D20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2757-C084-488A-A0DA-C74604BD43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7640" cy="140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4233960" y="6445080"/>
            <a:ext cx="676080" cy="45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4267-15AF-440E-BF79-C4547D1AB37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4249800" y="6453360"/>
            <a:ext cx="609480" cy="40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lupasst\Desktop\Graphics\Footer Box NEAR2.jpg"/>
          <p:cNvPicPr/>
          <p:nvPr/>
        </p:nvPicPr>
        <p:blipFill>
          <a:blip r:embed="rId4"/>
          <a:stretch/>
        </p:blipFill>
        <p:spPr>
          <a:xfrm>
            <a:off x="4233960" y="6437160"/>
            <a:ext cx="630000" cy="42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5"/>
          <a:stretch/>
        </p:blipFill>
        <p:spPr>
          <a:xfrm>
            <a:off x="4229280" y="6416640"/>
            <a:ext cx="67608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0C25-38D2-489F-9A77-1BFF2A2242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3673440" cy="561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516360" y="475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468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9CC8-BBA3-4898-A001-29FBB926E2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neighbourhood/eastern-partnership/index_en.htm" TargetMode="External"/><Relationship Id="rId2" Type="http://schemas.openxmlformats.org/officeDocument/2006/relationships/hyperlink" Target="http://www.enpi-info.eu/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1640" y="4365720"/>
            <a:ext cx="7632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EU cooperation with the Eastern Neighbourhood</a:t>
            </a:r>
            <a:br>
              <a:rPr sz="4000"/>
            </a:br>
            <a:br>
              <a:rPr sz="4000"/>
            </a:b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Mathieu Bousquet, NEAR.C2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027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18960" y="1087560"/>
            <a:ext cx="850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353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cc3300"/>
                </a:solidFill>
                <a:latin typeface="Verdana"/>
              </a:rPr>
              <a:t>Thank you for your attention! </a:t>
            </a:r>
            <a:br>
              <a:rPr sz="26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24000" y="2538360"/>
            <a:ext cx="842616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r more information :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DG NEAR websit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(Eastern Partnership and country pages): </a:t>
            </a:r>
            <a:br>
              <a:rPr sz="1600"/>
            </a:b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1"/>
              </a:rPr>
              <a:t>ec.europa.eu/enlargement/neighbourhood/eastern-partnership/index_en.htm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EU Neighbourhood</a:t>
            </a:r>
            <a:r>
              <a:rPr b="1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 Info Centre</a:t>
            </a:r>
            <a:r>
              <a:rPr b="0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r>
              <a:rPr b="0" lang="fr-BE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2"/>
              </a:rPr>
              <a:t>www.enpi-info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llow us: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Facebook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EU Neighbourhood &amp; Enlargement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Twitter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@eu_near </a:t>
            </a:r>
            <a:br>
              <a:rPr sz="1600"/>
            </a:b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cc3300"/>
                </a:solidFill>
                <a:latin typeface="Verdana"/>
                <a:ea typeface="Arial"/>
              </a:rPr>
              <a:t>	</a:t>
            </a:r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422280" y="-2338560"/>
            <a:ext cx="4876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8" descr="http://www.shinsuzuma.com/assets/facebook_icon.jpg"/>
          <p:cNvPicPr/>
          <p:nvPr/>
        </p:nvPicPr>
        <p:blipFill>
          <a:blip r:embed="rId3"/>
          <a:stretch/>
        </p:blipFill>
        <p:spPr>
          <a:xfrm>
            <a:off x="719280" y="501660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http://www.mariosbowl.com/images/TBD5PBA/Twitter-symbol.jpg"/>
          <p:cNvPicPr/>
          <p:nvPr/>
        </p:nvPicPr>
        <p:blipFill>
          <a:blip r:embed="rId4"/>
          <a:stretch/>
        </p:blipFill>
        <p:spPr>
          <a:xfrm>
            <a:off x="719280" y="5334120"/>
            <a:ext cx="3175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473040" y="1538280"/>
            <a:ext cx="7915320" cy="49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What is it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olicy launched in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04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?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countries (10 in the South, 6 in the East without Russia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Aim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 prosperity, stability, security and good neighbourhood, avoid new diving lines in Europe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P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review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ongoing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7120" y="13568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3300"/>
                </a:solidFill>
                <a:latin typeface="Verdana"/>
              </a:rPr>
              <a:t>European Neighbourhood Policy (ENP)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68360" y="2349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hat is it? </a:t>
            </a:r>
            <a:r>
              <a:rPr b="1" lang="en-GB" sz="2000" spc="-1" strike="noStrike">
                <a:solidFill>
                  <a:srgbClr val="cc3300"/>
                </a:solidFill>
                <a:latin typeface="Verdana"/>
              </a:rPr>
              <a:t>Eastern dimension of the ENP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Joint policy launched in 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2009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to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bring Eastern neighbours closer to the EU. Based on: common interests and shared values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For whom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? 6 countries: Armenia, Azerbaijan, Belarus, Georgia, Moldova, Ukraine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Main goals - EaP is about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: 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closer relation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political associ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more trade, business, job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economic integ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people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mobility, contacts between people, civil society 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reforms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sector coope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astern Partnership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395280" y="2565360"/>
            <a:ext cx="8229600" cy="35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H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ow is it financed?</a:t>
            </a:r>
            <a:br>
              <a:rPr sz="32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2707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European Neighbourhood Instrument (ENI) - Key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inancial instrument for ENP and EaP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Where:</a:t>
            </a: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ENP countries</a:t>
            </a: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no more bilateral cooperation with Russia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Budget:</a:t>
            </a:r>
            <a:r>
              <a:rPr b="1" lang="pl-PL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0f5494"/>
                </a:solidFill>
                <a:latin typeface="Verdana"/>
              </a:rPr>
              <a:t>EU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15.4</a:t>
            </a:r>
            <a:r>
              <a:rPr b="1" lang="pl-PL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billio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or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14</a:t>
            </a:r>
            <a:r>
              <a:rPr b="1" lang="pl-PL" sz="1800" spc="-1" strike="noStrike">
                <a:solidFill>
                  <a:srgbClr val="0f5494"/>
                </a:solidFill>
                <a:latin typeface="Verdana"/>
              </a:rPr>
              <a:t>-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20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total figure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: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inly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artner governments and civil society organisations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inal beneficiaries =&gt;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citizen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f partner countries !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assistance: How it works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95280" y="2421000"/>
            <a:ext cx="822960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ENI assistance is provided fo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3 types of cooperation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275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Bilateral cooperation programm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Largest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part of ENI fund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Focused on 3 priority sector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+ complementary support for implementation of agreements and civil society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Differentiation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Tailor-made for each country according to needs, situation, ambition, progres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Regional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Initiatives demanding regional approach, challenges across borders, e.g. transport, energy, environment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Cross border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Content Placeholder 4" descr=""/>
          <p:cNvPicPr/>
          <p:nvPr/>
        </p:nvPicPr>
        <p:blipFill>
          <a:blip r:embed="rId1"/>
          <a:stretch/>
        </p:blipFill>
        <p:spPr>
          <a:xfrm>
            <a:off x="341280" y="2133720"/>
            <a:ext cx="8332920" cy="1944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East - Priority sectors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3" name="Content Placeholder 4" descr=""/>
          <p:cNvPicPr/>
          <p:nvPr/>
        </p:nvPicPr>
        <p:blipFill>
          <a:blip r:embed="rId2"/>
          <a:stretch/>
        </p:blipFill>
        <p:spPr>
          <a:xfrm>
            <a:off x="341280" y="4200480"/>
            <a:ext cx="8332920" cy="1693800"/>
          </a:xfrm>
          <a:prstGeom prst="rect">
            <a:avLst/>
          </a:prstGeom>
          <a:ln w="0">
            <a:noFill/>
          </a:ln>
        </p:spPr>
      </p:pic>
      <p:sp>
        <p:nvSpPr>
          <p:cNvPr id="194" name="Content Placeholder 2"/>
          <p:cNvSpPr/>
          <p:nvPr/>
        </p:nvSpPr>
        <p:spPr>
          <a:xfrm>
            <a:off x="426960" y="6021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+ complementary support: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to support implementation of agreements and civil society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68000" y="2637000"/>
            <a:ext cx="8147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Regional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: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address common challeng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and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promote regional cooperation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on themes which cannot be sufficiently addressed by countries individually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mplementarity with bilateral programm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– avoid overlap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3 Priorit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Support the political association proces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ntribute to economic integration and sector cooper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Enhance civil society’s role as a vector for refor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6 Flagship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initiativ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68360" y="1413000"/>
            <a:ext cx="79912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Regional Programmes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</a:rPr>
              <a:t>6 Flagship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8" name="Content Placeholder 4" descr=""/>
          <p:cNvPicPr/>
          <p:nvPr/>
        </p:nvPicPr>
        <p:blipFill>
          <a:blip r:embed="rId1"/>
          <a:stretch/>
        </p:blipFill>
        <p:spPr>
          <a:xfrm>
            <a:off x="444600" y="2639880"/>
            <a:ext cx="5352840" cy="345600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19FF-DF02-452B-90A7-CE271A33D1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0" name="Rounded Rectangle 6"/>
          <p:cNvSpPr/>
          <p:nvPr/>
        </p:nvSpPr>
        <p:spPr>
          <a:xfrm>
            <a:off x="6443640" y="2924280"/>
            <a:ext cx="1152720" cy="23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2376360"/>
              <a:gd name="textAreaBottom" fmla="*/ 2320200 h 2376360"/>
            </a:gdLst>
            <a:ahLst/>
            <a:rect l="textAreaLeft" t="textAreaTop" r="textAreaRight" b="textAreaBottom"/>
            <a:pathLst>
              <a:path w="21600" h="44522">
                <a:moveTo>
                  <a:pt x="3600" y="0"/>
                </a:moveTo>
                <a:arcTo wR="3600" hR="3600" stAng="16200000" swAng="-5400000"/>
                <a:lnTo>
                  <a:pt x="0" y="40922"/>
                </a:lnTo>
                <a:arcTo wR="3600" hR="3600" stAng="10800000" swAng="-5400000"/>
                <a:lnTo>
                  <a:pt x="18000" y="44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5651640" y="2781360"/>
            <a:ext cx="266544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ransport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Governance and rule of law Youth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Information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erritorial cooper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ivil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ulture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ommunic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5086440" y="1628640"/>
            <a:ext cx="381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  <a:ea typeface="Arial"/>
              </a:rPr>
              <a:t>Other EaP Programmes</a:t>
            </a:r>
            <a:r>
              <a:rPr b="1" lang="en-GB" sz="2800" spc="-1" strike="noStrike">
                <a:solidFill>
                  <a:srgbClr val="7575d1"/>
                </a:solidFill>
                <a:latin typeface="Verdana"/>
                <a:ea typeface="Arial"/>
              </a:rPr>
              <a:t>: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TUCCIONE Lucia (DEVCO)</cp:lastModifiedBy>
  <cp:lastPrinted>2015-02-11T15:25:35Z</cp:lastPrinted>
  <dcterms:modified xsi:type="dcterms:W3CDTF">2015-10-14T10:49:06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ACF183991F324A8C5B7AC362704265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