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2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3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4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09CC-A6E7-4E45-A29E-2D6AE6D7FF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E58A-31DD-4258-80CF-AC2DC5F7ED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86A5-0B90-4530-BC9A-5230C23C1E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A778-8429-41D2-B253-8FC7C43B66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57E4-B6A0-4DCC-9C95-D291094618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A865-B391-467E-B7F1-0085322E03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075F-482B-42F0-A365-E2DC43225A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2960-1909-4D6C-B1AB-CF51C74132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80F5-C3F5-4887-89F6-1A8D318A77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AE62-4A3B-416E-AE4A-4FDA8711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77E3-B284-4034-A4B4-A5C4079D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2939-4501-48E2-8C67-83A54053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837B-71F8-4380-A4CD-4375F2E3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BFE3-E443-43A0-B272-363AC4E1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0106-95DA-44FF-9582-012B8EA1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6F84-C614-438F-9C79-ABF348F8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93DA-6C5C-4293-861C-F2722A6E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5590-75A3-4B65-BBA5-AAE379E7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F092-7929-4AEB-866A-C49D5C00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0EFD-03EF-467B-BCA6-C5CE9A88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F960-440B-4D70-89E4-0B9CFDFD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987E-D103-498E-8C0A-C0A1161C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B843-D1C3-4F70-BA26-3015F5AC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45E5-E5D9-460D-8332-6A53E8C8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3F55-4B1E-483C-AC62-38F67A41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9066-61B6-4914-9038-1306F840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9EF2C-DB77-4DED-B966-32BBBBCE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34E30-A287-4419-A874-9C99BB76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96EBF-C285-43F2-AEAD-598D9697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A0EA4-0418-49E9-B414-8D6ECA98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B65C6-4F32-4F7C-9CC2-AFD6821A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8CFD-7FED-4C39-9567-94BA27EF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E2476-C139-4253-8282-20A809D6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7F048-71AB-4F42-8B89-DA1DCF0B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5226C-FA81-40B1-B5DD-0682507B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4331F-715F-457B-865B-5CD63D2C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78CA5-F1C7-4BE5-802D-5D3E7614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776C4-1557-40D2-AC85-B5E7271F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DCB44-D668-4D5B-8BED-80EE83D5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FEAB2E-0B51-4A48-9B59-DDE5B2C580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114D85-1009-48C4-B77F-B6672288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A2000A-43E2-4961-8AD4-670E17E6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D30B-EA87-4B74-BAE9-FF34B78B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3E78C6-96DE-40B4-95CC-066C6F0C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55B21A-4399-4C34-96F1-1F7D37F3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711B0C-DAA7-4058-A398-A7581965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B93A8C-C071-413C-9FB6-366623EF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E1C25B-A292-4C23-AF7C-8B2BD76C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76C943-17A4-49E0-AAB3-0754422D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C8714E-F2C4-45E3-8989-A3FC5332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A0993C-F5F8-489C-A83B-2146AD36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BEE473-8282-45CE-955C-9AD51842E0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A4BB-04DE-4251-B753-2F5CBDA9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A2B2-63E4-4808-BA28-67086016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268D-60D5-4E51-BD1F-FA5FA14B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567D-BEEA-4C5D-96BD-2E3577BB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AC87-D02A-43BA-80AE-110F2353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A367-9664-4935-8D17-322E904712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7640" cy="1400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4233960" y="6445080"/>
            <a:ext cx="676080" cy="45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8AFF-5D19-4ADC-9927-F8BA4E29BEF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3"/>
          <a:stretch/>
        </p:blipFill>
        <p:spPr>
          <a:xfrm>
            <a:off x="4249800" y="6453360"/>
            <a:ext cx="609480" cy="40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lupasst\Desktop\Graphics\Footer Box NEAR2.jpg"/>
          <p:cNvPicPr/>
          <p:nvPr/>
        </p:nvPicPr>
        <p:blipFill>
          <a:blip r:embed="rId4"/>
          <a:stretch/>
        </p:blipFill>
        <p:spPr>
          <a:xfrm>
            <a:off x="4233960" y="6437160"/>
            <a:ext cx="630000" cy="42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5"/>
          <a:stretch/>
        </p:blipFill>
        <p:spPr>
          <a:xfrm>
            <a:off x="4229280" y="6416640"/>
            <a:ext cx="67608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CA49-F8A4-4CB8-8FC3-C4FA704B99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3673440" cy="5619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516360" y="475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1"/>
          </p:nvPr>
        </p:nvSpPr>
        <p:spPr>
          <a:xfrm>
            <a:off x="468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849D-9F46-4D14-B00C-D50080A203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neighbourhood/eastern-partnership/index_en.htm" TargetMode="External"/><Relationship Id="rId2" Type="http://schemas.openxmlformats.org/officeDocument/2006/relationships/hyperlink" Target="http://www.enpi-info.eu/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01640" y="4365720"/>
            <a:ext cx="7632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EU cooperation with the Eastern Neighbourhood</a:t>
            </a:r>
            <a:br>
              <a:rPr sz="4000"/>
            </a:br>
            <a:br>
              <a:rPr sz="4000"/>
            </a:b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Mathieu Bousquet, NEAR.C2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0278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18960" y="1087560"/>
            <a:ext cx="850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353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3000" spc="-1" strike="noStrike">
                <a:solidFill>
                  <a:srgbClr val="cc3300"/>
                </a:solidFill>
                <a:latin typeface="Verdana"/>
              </a:rPr>
              <a:t>Thank you for your attention! </a:t>
            </a:r>
            <a:br>
              <a:rPr sz="26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24000" y="2538360"/>
            <a:ext cx="842616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r more information :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DG NEAR websit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(Eastern Partnership and country pages): </a:t>
            </a:r>
            <a:br>
              <a:rPr sz="1600"/>
            </a:b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1"/>
              </a:rPr>
              <a:t>ec.europa.eu/enlargement/neighbourhood/eastern-partnership/index_en.htm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EU Neighbourhood</a:t>
            </a:r>
            <a:r>
              <a:rPr b="1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 Info Centre</a:t>
            </a:r>
            <a:r>
              <a:rPr b="0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r>
              <a:rPr b="0" lang="fr-BE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2"/>
              </a:rPr>
              <a:t>www.enpi-info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llow us: 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Facebook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EU Neighbourhood &amp; Enlargement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Twitter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@eu_near </a:t>
            </a:r>
            <a:br>
              <a:rPr sz="1600"/>
            </a:b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cc3300"/>
                </a:solidFill>
                <a:latin typeface="Verdana"/>
                <a:ea typeface="Arial"/>
              </a:rPr>
              <a:t>	</a:t>
            </a:r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422280" y="-2338560"/>
            <a:ext cx="4876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8" descr="http://www.shinsuzuma.com/assets/facebook_icon.jpg"/>
          <p:cNvPicPr/>
          <p:nvPr/>
        </p:nvPicPr>
        <p:blipFill>
          <a:blip r:embed="rId3"/>
          <a:stretch/>
        </p:blipFill>
        <p:spPr>
          <a:xfrm>
            <a:off x="719280" y="501660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http://www.mariosbowl.com/images/TBD5PBA/Twitter-symbol.jpg"/>
          <p:cNvPicPr/>
          <p:nvPr/>
        </p:nvPicPr>
        <p:blipFill>
          <a:blip r:embed="rId4"/>
          <a:stretch/>
        </p:blipFill>
        <p:spPr>
          <a:xfrm>
            <a:off x="719280" y="5334120"/>
            <a:ext cx="3175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473040" y="1538280"/>
            <a:ext cx="7915320" cy="49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6836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What is it?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olicy launched in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04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?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countries (10 in the South, 6 in the East without Russia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Aim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 prosperity, stability, security and good neighbourhood, avoid new diving lines in Europe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P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review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ongoing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7120" y="13568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3300"/>
                </a:solidFill>
                <a:latin typeface="Verdana"/>
              </a:rPr>
              <a:t>European Neighbourhood Policy (ENP)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68360" y="2349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What is it? </a:t>
            </a:r>
            <a:r>
              <a:rPr b="1" lang="en-GB" sz="2000" spc="-1" strike="noStrike">
                <a:solidFill>
                  <a:srgbClr val="cc3300"/>
                </a:solidFill>
                <a:latin typeface="Verdana"/>
              </a:rPr>
              <a:t>Eastern dimension of the ENP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Joint policy launched in 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2009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to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bring Eastern neighbours closer to the EU. Based on: common interests and shared values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For whom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? 6 countries: Armenia, Azerbaijan, Belarus, Georgia, Moldova, Ukraine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Main goals - EaP is about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: 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closer relation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political associ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more trade, business, job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economic integ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people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mobility, contacts between people, civil society 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reforms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sector coope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astern Partnership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395280" y="2565360"/>
            <a:ext cx="8229600" cy="35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H</a:t>
            </a: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ow is it financed?</a:t>
            </a:r>
            <a:br>
              <a:rPr sz="32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8360" y="2707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European Neighbourhood Instrument (ENI) - Key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inancial instrument for ENP and EaP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Where:</a:t>
            </a: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ENP countries</a:t>
            </a: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no more bilateral cooperation with Russia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Budget:</a:t>
            </a:r>
            <a:r>
              <a:rPr b="1" lang="pl-PL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0f5494"/>
                </a:solidFill>
                <a:latin typeface="Verdana"/>
              </a:rPr>
              <a:t>EU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15.4</a:t>
            </a:r>
            <a:r>
              <a:rPr b="1" lang="pl-PL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billion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or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14</a:t>
            </a:r>
            <a:r>
              <a:rPr b="1" lang="pl-PL" sz="1800" spc="-1" strike="noStrike">
                <a:solidFill>
                  <a:srgbClr val="0f5494"/>
                </a:solidFill>
                <a:latin typeface="Verdana"/>
              </a:rPr>
              <a:t>-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20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total figure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: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inly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artner governments and civil society organisations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inal beneficiaries =&gt;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citizen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f partner countries !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assistance: How it works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95280" y="2421000"/>
            <a:ext cx="822960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ENI assistance is provided fo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3 types of cooperation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275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Bilateral cooperation programme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Largest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 part of ENI fund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Focused on 3 priority sector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+ complementary support for implementation of agreements and civil society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Differentiation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Tailor-made for each country according to needs, situation, ambition, progres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Regional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Initiatives demanding regional approach, challenges across borders, e.g. transport, energy, environment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Cross border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Content Placeholder 4" descr=""/>
          <p:cNvPicPr/>
          <p:nvPr/>
        </p:nvPicPr>
        <p:blipFill>
          <a:blip r:embed="rId1"/>
          <a:stretch/>
        </p:blipFill>
        <p:spPr>
          <a:xfrm>
            <a:off x="341280" y="2133720"/>
            <a:ext cx="8332920" cy="1944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East - Priority sectors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3" name="Content Placeholder 4" descr=""/>
          <p:cNvPicPr/>
          <p:nvPr/>
        </p:nvPicPr>
        <p:blipFill>
          <a:blip r:embed="rId2"/>
          <a:stretch/>
        </p:blipFill>
        <p:spPr>
          <a:xfrm>
            <a:off x="341280" y="4200480"/>
            <a:ext cx="8332920" cy="1693800"/>
          </a:xfrm>
          <a:prstGeom prst="rect">
            <a:avLst/>
          </a:prstGeom>
          <a:ln w="0">
            <a:noFill/>
          </a:ln>
        </p:spPr>
      </p:pic>
      <p:sp>
        <p:nvSpPr>
          <p:cNvPr id="194" name="Content Placeholder 2"/>
          <p:cNvSpPr/>
          <p:nvPr/>
        </p:nvSpPr>
        <p:spPr>
          <a:xfrm>
            <a:off x="426960" y="602136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+ complementary support: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to support implementation of agreements and civil society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68000" y="2637000"/>
            <a:ext cx="8147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Regional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: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address common challeng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and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promote regional cooperation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on themes which cannot be sufficiently addressed by countries individually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mplementarity with bilateral programm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– avoid overlap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3 Priorit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Support the political association proces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ntribute to economic integration and sector cooper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Enhance civil society’s role as a vector for refor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6 Flagship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initiativ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68360" y="1413000"/>
            <a:ext cx="79912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Regional Programmes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</a:rPr>
              <a:t>6 Flagship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8" name="Content Placeholder 4" descr=""/>
          <p:cNvPicPr/>
          <p:nvPr/>
        </p:nvPicPr>
        <p:blipFill>
          <a:blip r:embed="rId1"/>
          <a:stretch/>
        </p:blipFill>
        <p:spPr>
          <a:xfrm>
            <a:off x="444600" y="2639880"/>
            <a:ext cx="5352840" cy="3456000"/>
          </a:xfrm>
          <a:prstGeom prst="rect">
            <a:avLst/>
          </a:prstGeom>
          <a:ln w="0">
            <a:noFill/>
          </a:ln>
        </p:spPr>
      </p:pic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E6B8-11F2-4AE9-9400-D4F7A476E4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0" name="Rounded Rectangle 6"/>
          <p:cNvSpPr/>
          <p:nvPr/>
        </p:nvSpPr>
        <p:spPr>
          <a:xfrm>
            <a:off x="6443640" y="2924280"/>
            <a:ext cx="1152720" cy="23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2376360"/>
              <a:gd name="textAreaBottom" fmla="*/ 2320200 h 2376360"/>
            </a:gdLst>
            <a:ahLst/>
            <a:rect l="textAreaLeft" t="textAreaTop" r="textAreaRight" b="textAreaBottom"/>
            <a:pathLst>
              <a:path w="21600" h="44522">
                <a:moveTo>
                  <a:pt x="3600" y="0"/>
                </a:moveTo>
                <a:arcTo wR="3600" hR="3600" stAng="16200000" swAng="-5400000"/>
                <a:lnTo>
                  <a:pt x="0" y="40922"/>
                </a:lnTo>
                <a:arcTo wR="3600" hR="3600" stAng="10800000" swAng="-5400000"/>
                <a:lnTo>
                  <a:pt x="18000" y="445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5651640" y="2781360"/>
            <a:ext cx="266544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ransport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Governance and rule of law Youth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Information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erritorial cooper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ivil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ulture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ommunic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5086440" y="1628640"/>
            <a:ext cx="381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  <a:ea typeface="Arial"/>
              </a:rPr>
              <a:t>Other EaP Programmes</a:t>
            </a:r>
            <a:r>
              <a:rPr b="1" lang="en-GB" sz="2800" spc="-1" strike="noStrike">
                <a:solidFill>
                  <a:srgbClr val="7575d1"/>
                </a:solidFill>
                <a:latin typeface="Verdana"/>
                <a:ea typeface="Arial"/>
              </a:rPr>
              <a:t>: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SANTUCCIONE Lucia (DEVCO)</cp:lastModifiedBy>
  <cp:lastPrinted>2015-02-11T15:25:35Z</cp:lastPrinted>
  <dcterms:modified xsi:type="dcterms:W3CDTF">2015-10-14T10:49:06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1ACF183991F324A8C5B7AC362704265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