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1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0C10-B118-4661-87C2-46781E3FEB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51C4-83FD-4ED4-95EC-4A1A77260D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B76-8394-4F93-8740-3038767C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E13-06FD-4E95-8DAF-5BE06ED5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C5C-4F3B-4929-8009-B4B1D750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220-E1EC-44BA-9833-59AC7C53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D529-02FB-4326-BE37-493A1F2C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C660-73C2-464F-AD2D-34F54AD0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E4A-1DF1-4349-BC15-CB915155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D54-A088-40AE-B63E-D55B4087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878-A491-448D-AAD2-730C98D8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586-A03F-4F97-8BBB-BBB4E3E6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FAA-49DB-4CBE-A17F-2337CEB8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0D5-E71B-48B3-86A0-D3D35799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LOGO CE-EN-NEG-quadri.ai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russels, 14 Jun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1636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E1E6-54BC-469D-A383-CAC1C10850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s://www.fotocent.de/imgp/c6c3295a274583eaabd43ac7f64e1c83.jpg&amp;imgrefurl=http://www.fotocent.de/foto_detail.php%3FStockImageID%3D75128%26foto%3DJunge%2520Frau%2520sieht%2520mit%2520Fernglas%2520in%2520die%2520Zukunft&amp;usg=__P8vekZxgaIbHB8g_zOEWlVe3eSY=&amp;h=1400&amp;w=934&amp;sz=370&amp;hl=de&amp;start=10&amp;zoom=1&amp;tbnid=1cOq6XSe0ofYMM:&amp;tbnh=150&amp;tbnw=100&amp;ei=fQk9T6qhF4TPhAedhL3DBQ&amp;prev=/search%3Fq%3Dfernglas%2Bausblick%26um%3D1%26hl%3Dde%26sa%3DN%26gbv%3D2%26tbs%3Disz:l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madeusbuergel.de/bilder/Wiese2_1024.jpg&amp;imgrefurl=http://amadeusbuergel.de/bilder/index.php%3Frubrik%3Dwelt_gruen&amp;usg=__QJiJsz6zEMx4wuUyztZb-Mt-5rA=&amp;h=768&amp;w=1024&amp;sz=392&amp;hl=de&amp;start=4&amp;zoom=1&amp;tbnid=TYKpHfIWEh8FlM:&amp;tbnh=113&amp;tbnw=150&amp;ei=6Qk9T-y1D8qAhQf13oS6BQ&amp;prev=/search%3Fq%3Dgruene%2Bwiese%26um%3D1%26hl%3Dde%26sa%3DN%26gbv%3D2%26tbs%3Disz:l%26tbm%3Disch&amp;um=1&amp;itb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de/imgres?imgurl=http://www.fotos.sc/img2/u/gartenfee/h/bau_haus_hausbau_bauland_dach_fenster_rohbau_copy.jpg&amp;imgrefurl=http://www.fotos.sc/PHPSESSID%3D576d2c990c7927fdf20bdc46981f943a/popi%2B974373/mediafile.html&amp;usg=__uoqVjCUnToHZJEXl_0yqeWiShIQ=&amp;h=1125&amp;w=1500&amp;sz=987&amp;hl=de&amp;start=18&amp;zoom=1&amp;tbnid=HWory08NJERc6M:&amp;tbnh=113&amp;tbnw=150&amp;ei=-wk9T5zmIoWZhQf827nnBQ&amp;prev=/search%3Fq%3Dhaus%2Bim%2Bbau%26um%3D1%26hl%3Dde%26sa%3DN%26gbv%3D2%26tbs%3Disz:l%26tbm%3Disch&amp;um=1&amp;itb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de/imgres?imgurl=http://static.panoramio.com/photos/original/38844576.jpg&amp;imgrefurl=http://www.panoramio.com/photo/38844576&amp;usg=__O-wUsMwMBmGErR1w9kBfHRIZoq0=&amp;h=1874&amp;w=2500&amp;sz=2783&amp;hl=de&amp;start=32&amp;zoom=1&amp;tbnid=0BZZ5cqjOlF4AM:&amp;tbnh=112&amp;tbnw=150&amp;ei=Vgo9T6ixGJOxhAft36nuBQ&amp;prev=/search%3Fq%3Druine%2Brenovieren%26start%3D21%26um%3D1%26hl%3Dde%26sa%3DN%26gbv%3D2%26tbs%3Disz:l%26tbm%3Disch&amp;um=1&amp;itbs=1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st-josef-heudorf.de/template/dir_images/Organigramm/Organigramm_2.jpg&amp;imgrefurl=http://www.st-josef-heudorf.de/index.php%3Fpid%3D116%26loc%3Dde&amp;usg=__7ezEapG-RY3lRVkEFAjkIMFsFXo=&amp;h=697&amp;w=1186&amp;sz=146&amp;hl=de&amp;start=2&amp;zoom=1&amp;tbnid=xuU6e9p1HGM7iM:&amp;tbnh=88&amp;tbnw=150&amp;ei=MQw9T5GYIIiJhQe0lZnUBQ&amp;prev=/search%3Fq%3Dorganigramm%26um%3D1%26hl%3Dde%26gbv%3D2%26tbs%3Disz:l%26tbm%3Disch&amp;um=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jonmell.co.uk/wp-content/uploads/2008/12/find-people.jpg&amp;imgrefurl=http://jonmell.co.uk/find-people-you-need/&amp;usg=__4VWeJkMKiCryToe6mezUoItu-jM=&amp;h=1200&amp;w=1600&amp;sz=607&amp;hl=de&amp;start=6&amp;zoom=1&amp;tbnid=G5NkH-eqcWLoRM:&amp;tbnh=113&amp;tbnw=150&amp;ei=GAw9T8S8NIi2hQep_Ny8BQ&amp;prev=/search%3Fq%3Dthe%2Bpeople%26um%3D1%26hl%3Dde%26gbv%3D2%26tbs%3Disz:l%26tbm%3Disch&amp;um=1&amp;itbs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liechtenecker.at/wp-content/themes/uploads/kommunikation.png&amp;imgrefurl=http://liechtenecker.at/corporate-blog-und-integrierte-kommunikation/&amp;usg=__xpCRT4QAVKenYJNdEwabQUgRA5k=&amp;h=305&amp;w=460&amp;sz=68&amp;hl=de&amp;start=13&amp;zoom=1&amp;tbnid=57pQwACpiGc-tM:&amp;tbnh=85&amp;tbnw=128&amp;ei=VQ89T9qsKcSXhQeo_aC1BQ&amp;prev=/search%3Fq%3Dkommunikation%26um%3D1%26hl%3Dde%26gbv%3D2%26tbas%3D0%26tbm%3Disch&amp;um=1&amp;itb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zef.de/fileadmin/webfiles/downloads/conferences/photos_ws_teeb_09/IMG_0568_working_group.jpg&amp;imgrefurl=http://www.zef.de/1462.html&amp;usg=__SVLs2T1juvh2jchtkHB25LWUJPo=&amp;h=2448&amp;w=3264&amp;sz=3979&amp;hl=de&amp;start=2&amp;zoom=1&amp;tbnid=t2eSqD4s6avzSM:&amp;tbnh=113&amp;tbnw=150&amp;ei=jxw9T7XRKsqa-wakhOXnBQ&amp;prev=/search%3Fq%3Dworking%2Bgroup%26hl%3Dde%26sa%3DX%26gbv%3D2%26tbs%3Disz:l%26tbm%3Disch&amp;itbs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finishlinecatering.com/yahoo_site_admin/assets/images/meeting.139202626.JPG&amp;imgrefurl=http://www.finishlinecatering.com/meeting_services&amp;usg=__GS_b9FXz0chloZZ1RrJ9xuPJ350=&amp;h=1024&amp;w=1024&amp;sz=60&amp;hl=de&amp;start=4&amp;zoom=1&amp;tbnid=0Kllp46fNB0OjM:&amp;tbnh=150&amp;tbnw=150&amp;ei=fRU9T9_1HoGA-wa1_fDxBQ&amp;prev=/search%3Fq%3Dmeeting%26hl%3Dde%26sa%3DX%26gbv%3D2%26tbs%3Disz:l%26tbm%3Disch&amp;itbs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rrowheadaddict.com/files/2011/04/checklist.jpg&amp;imgrefurl=http://arrowheadaddict.com/2011/04/19/the-hopeful-fans-pre-draft-checklist/&amp;usg=__ssRcsxQ3KripU_Fty4GPxDdaGkg=&amp;h=1200&amp;w=1600&amp;sz=623&amp;hl=de&amp;start=1&amp;zoom=1&amp;tbnid=lEzca-wa3-x60M:&amp;tbnh=113&amp;tbnw=150&amp;ei=Lh09T8zuG4ah-Qa7wsTRBQ&amp;prev=/search%3Fq%3Dcheck%2Blist%26hl%3Dde%26sa%3DN%26gbv%3D2%26tbs%3Disz:l%26tbm%3Disch&amp;itbs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grundstueckszertifizierung.de/images/uploads/WasserfallWarnschild_Rainer-Sturm_pixeliode.jpg&amp;imgrefurl=http://www.grundstueckszertifizierung.de/blog/eintrag/luenener-quartierbeiraete-in-startposition-kontrollbeirat-gewaehlt/&amp;usg=__9OHFYOoUI9IRuIYaAALZk__MNgw=&amp;h=2616&amp;w=3488&amp;sz=972&amp;hl=de&amp;start=7&amp;zoom=1&amp;tbnid=xHkMcn63wzl0hM:&amp;tbnh=113&amp;tbnw=150&amp;ei=4R49T_HFO8S6-Ab9seTPBQ&amp;prev=/search%3Fq%3Dausrutschen%26hl%3Dde%26gbv%3D2%26tbas%3D0%26tbs%3Disz:l%26tbm%3Disch&amp;itbs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static.panoramio.com/photos/original/36163345.jpg&amp;imgrefurl=http://www.panoramio.com/photo/36163345&amp;usg=__l1okVLzRWz7geSeON0YVDVJDVDc=&amp;h=2976&amp;w=3968&amp;sz=4328&amp;hl=de&amp;start=18&amp;zoom=1&amp;tbnid=I4r64zMuHYP2xM:&amp;tbnh=113&amp;tbnw=150&amp;ei=mB89T-GFOoqg-wbpnrHGBQ&amp;prev=/search%3Fq%3Dbridge%2Bistanbul%26hl%3Dde%26sa%3DX%26gbv%3D2%26tbas%3D0%26tbs%3Disz:l%26tbm%3Disch&amp;itbs=1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tiptoptens.com/wp-content/uploads/2011/02/Useless-and-Funny-Signs-4.jpg&amp;imgrefurl=http://www.tiptoptens.com/2011/02/25/10-completely-useless-funny-signs/&amp;usg=__7IZtRHpjmDHwoZ9mubM_qgjE_N4=&amp;h=869&amp;w=620&amp;sz=84&amp;hl=de&amp;start=64&amp;zoom=1&amp;tbnid=NhCFad95D85izM:&amp;tbnh=145&amp;tbnw=103&amp;ei=pyQ9T96QCMmS-watgpzWBQ&amp;prev=/search%3Fq%3Duseless%26start%3D63%26hl%3Dde%26sa%3DN%26gbv%3D2%26tbas%3D0%26tbm%3Disch&amp;itbs=1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us.123rf.com/400wm/400/400/iko/iko1111/iko111100002/11130905-frau-zeigt-eine-leere-durchscheinendes-papier-mit-einem-fragezeichen-vor-ihr-gesicht.jpg&amp;imgrefurl=http://de.123rf.com/photo_11130905_frau-zeigt-eine-leere-durchscheinendes-papier-mit-einem-fragezeichen-vor-ihr-gesicht.html&amp;usg=__R6QhWLSpbbaCaMoYI2lWeYTNyYs=&amp;h=400&amp;w=400&amp;sz=17&amp;hl=fr&amp;start=21&amp;zoom=1&amp;tbnid=qINuJmoyl7w6KM:&amp;tbnh=124&amp;tbnw=124&amp;ei=Tto8T4kGg-k5n-6dwQo&amp;prev=/search%3Fq%3Dfragezeichen%2Bim%2Bgesicht%26hl%3Dfr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de/imgres?imgurl=http://img.fotowelt.chip.de/imgserver/communityimages/823400/823457/original_13A609EAFA6046BE22C59671FC2C5938.jpg&amp;imgrefurl=http://fotowelt.chip.de/k/wettbewerb/rot/roter_teppich/823457/&amp;usg=__7ttrfTqTZM011FmaWumfvzgwTd8=&amp;h=2874&amp;w=4621&amp;sz=5394&amp;hl=de&amp;start=28&amp;zoom=1&amp;tbnid=lbOstOTh-DUk0M:&amp;tbnh=93&amp;tbnw=150&amp;ei=-t48T5TQEc6VOtD8-MAK&amp;prev=/search%3Fq%3Droter%2Bteppich%26start%3D21%26hl%3Dde%26sa%3DN%26gbv%3D2%26tbs%3Disz:l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ssively.com/category/where-am-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Feedback by a former </a:t>
            </a:r>
            <a:br>
              <a:rPr sz="3500"/>
            </a:b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Resident Twinning Adviser </a:t>
            </a:r>
            <a:br>
              <a:rPr sz="35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essons learned and recommendations  </a:t>
            </a:r>
            <a:br>
              <a:rPr sz="3200"/>
            </a:br>
            <a:br>
              <a:rPr sz="3200"/>
            </a:b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Brussels, 15 October 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95280" y="1484280"/>
            <a:ext cx="7643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SAA, Accession negotiations, benchmarks, progress reports, IPA program, Association agreements, country strategies, support progra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Member States and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eighb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00720" y="1496880"/>
            <a:ext cx="2325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previous, current, fu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Other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bilateral cooperation, world bank, UNDP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AI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si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567400" y="2735280"/>
            <a:ext cx="2544840" cy="214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5522760" y="4878360"/>
            <a:ext cx="321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complementarity sy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urrent stat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ANd9GcTlyLUDG4pfOTFuJIIJsITLvdkakjonoFr34ICiTzkWhtES1vbgR-R1oy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21000"/>
            <a:ext cx="2013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RMPyazuqLJ-9OEPW2pBNjczJ9lJXZYNWZeYYzmSAJV7j1DSzBTCdLnC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484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ANd9GcT2LwXAKrkU_L2Ziz90eVzUit5Pf8hF0R9Kyb1faNmlokRiZMGUZaVW9SMq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56536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ANd9GcSt391v8_blZzy0O3OILNRFsjxGQnk-N5OCDboa3Z2yqfchj8LX-AAEQy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3024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dget,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gional, lo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operation and competition with othe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ANd9GcS5jSr8Mmf2djH4gjpqj7GKOMPg8vg7Vmit61K1dreCMhXUn2AGXXaZ5-R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168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5435640" y="4584600"/>
            <a:ext cx="3267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o is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la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ehaviour to hierar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ANd9GcRPQ21eZo3EwEHzqx8jjM5b6VBSQwYe1c5Ao_dNZNSYZM6fL_LlFNSsRF2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85800"/>
            <a:ext cx="280836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1700280"/>
            <a:ext cx="6877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mmunication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use of a web ba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ntranet/sharepoint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web page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ANd9GcSbD4mY2NSPELJzEx5kzut6teAMwB8A6syXOEVNk9eSv-7RWtAX8NWtb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060640"/>
            <a:ext cx="24829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Working group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etting up of rul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 meet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official as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ANd9GcSUqaFSiCUsV4xWX3rnfHZjEALjX0htLppRBBQbRUuXKOtyosLVUwUOh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06864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ement meeting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rectors, head of departments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project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ly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ANd9GcSd-ElsDzqYgnRIt7u_sxMpZAgm9fsVEshz1K0xMZd7tpxqFydas8I11Z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1860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ctivity plan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what needs to be don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y whom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until whe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ark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follow up of the benchmark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RmUU1AHTTCLQORitveO9tWk7P4bjxpDELOKcl5zdZopDM5Dfs06okDFD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844640"/>
            <a:ext cx="2664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y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429080" y="3716280"/>
            <a:ext cx="4498920" cy="2536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winning project manag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0-200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TA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ject Leader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8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id-term expert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nce 2011 TAIEX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34936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Recommendation paper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sults of discuss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commendat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pecific warn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hort notes (1-2 pages)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to be circulated to the beneficiari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inder for yourself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informal character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Nd9GcQJPCSAOFr0v8-NAuuwo2aD4NLwyYIrug93uYXpAKDNOBoTA8qKrTEOp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214720"/>
            <a:ext cx="25812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2708280"/>
            <a:ext cx="8281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ing the experts </a:t>
            </a:r>
            <a:br>
              <a:rPr sz="40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input depends on availability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understanding the context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no need to separate by M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RTA shall be the bridge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prepare objectives and agenda of mission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don’t waste expert days 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allow the beneficiaries to evaluate the experts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ANd9GcRKXZvEcwFMaG_vCLZ7fR5xFdlP0o0WHARlFc7F0KCeohLQJsnzVJhKrq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528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0920" y="2133720"/>
            <a:ext cx="6877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upport the need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output orien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TA shall provide additional input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help the partners to produc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evelop plan B’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lower your expec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e realistic but optimistic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TxTjONq1iek3U1JGYNK-6F-hOkATB9-QdGt3a6wiwFUZtgWQS_wNXOj8y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37000"/>
            <a:ext cx="1841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0920" y="1700280"/>
            <a:ext cx="68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inal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ocus on results/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referably final quarterly report plus a final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hank your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651640" y="4022640"/>
            <a:ext cx="3146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84360" y="1989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Networking and 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sure that all contact details are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outputs of the projec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tinue your support so far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in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7044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6910560" y="4508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76040" y="1917720"/>
            <a:ext cx="8359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is the little brother of T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hort term assistance by EU MS public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orkshops, expert missions and study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entral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 flexible instrument driven b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ogistics supported by a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News on 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0440" y="1444680"/>
            <a:ext cx="8359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AIEX between EU Member St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eer to peer EU MS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onal policy and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)Partnership Instrument (P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Canada, India, Brazil, Korea first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Funded by the EU and requested by EU Del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ttps://myintracomm.ec.europa.eu/dg/fpi/whoweare/about_fpi/Pages/Index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courage all experts to register as a TAIEX expe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is simple using an online tool (renewed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does not mean any commi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82520" y="1660680"/>
            <a:ext cx="828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xperts may be contacted by the TAIEX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Or have the possibility to show interest in a specific activ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ditions (per diems, compensation) similar to Twi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Logistics centrally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THANK YOU FOR YOUR ATTENTION, GOOD LUCK IN YOUR NEW ENVIRONMENT 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AND MANY SUCCESS IN BUILDING YOUR INSTITUTION!!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9GcRC8joxvSQ9Mzt3oXATukt5Cbo1CFdL3XbMY34UCYdRlcuY96kiWkc1BZkDbw"/>
          <p:cNvPicPr/>
          <p:nvPr/>
        </p:nvPicPr>
        <p:blipFill>
          <a:blip r:embed="rId1"/>
          <a:stretch/>
        </p:blipFill>
        <p:spPr>
          <a:xfrm>
            <a:off x="39528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AIEX team leader agriculture  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Institution Building Unit, TAIEX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DG N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+32 29 63626 </a:t>
            </a:r>
            <a:r>
              <a:rPr b="1" lang="fr-BE" sz="1400" spc="-1" strike="noStrike">
                <a:solidFill>
                  <a:srgbClr val="333399"/>
                </a:solidFill>
                <a:latin typeface="Arial"/>
              </a:rPr>
              <a:t>dieter.goertz@ec.europa.eu</a:t>
            </a:r>
            <a:r>
              <a:rPr b="1" lang="fr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ANd9GcSQ1QeSzRHre9N0SOn2kVbw7fSjwI5WtccVPV6tD7-nPLuBWphB-220hMnJ"/>
          <p:cNvPicPr/>
          <p:nvPr/>
        </p:nvPicPr>
        <p:blipFill>
          <a:blip r:embed="rId2"/>
          <a:stretch/>
        </p:blipFill>
        <p:spPr>
          <a:xfrm>
            <a:off x="6372360" y="3860640"/>
            <a:ext cx="2447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come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tar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mplemen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naging the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our special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ANd9GcTAvwktR3RKbyeQt9vOqaz09bZ5xddwvXGupBbAUOLqZl-uOPZ_Bvnxt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9228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oto2_profil"/>
          <p:cNvPicPr/>
          <p:nvPr/>
        </p:nvPicPr>
        <p:blipFill>
          <a:blip r:embed="rId1"/>
          <a:stretch/>
        </p:blipFill>
        <p:spPr>
          <a:xfrm>
            <a:off x="4643280" y="2852640"/>
            <a:ext cx="396108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ANd9GcS5GAylKLGU63wqBJTUpCyB3eqIKUUEQETJNdMjDu_MTarCk9PoRFw5bS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85264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395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expec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mall-Office-Pictures-5"/>
          <p:cNvPicPr/>
          <p:nvPr/>
        </p:nvPicPr>
        <p:blipFill>
          <a:blip r:embed="rId1"/>
          <a:stretch/>
        </p:blipFill>
        <p:spPr>
          <a:xfrm>
            <a:off x="3635280" y="1700280"/>
            <a:ext cx="289584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drid07a0026"/>
          <p:cNvPicPr/>
          <p:nvPr/>
        </p:nvPicPr>
        <p:blipFill>
          <a:blip r:embed="rId2"/>
          <a:stretch/>
        </p:blipFill>
        <p:spPr>
          <a:xfrm>
            <a:off x="395280" y="1700280"/>
            <a:ext cx="324180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2050920" y="0"/>
            <a:ext cx="35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re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ergsteigen im Allgäu"/>
          <p:cNvPicPr/>
          <p:nvPr/>
        </p:nvPicPr>
        <p:blipFill>
          <a:blip r:embed="rId1"/>
          <a:stretch/>
        </p:blipFill>
        <p:spPr>
          <a:xfrm>
            <a:off x="611280" y="1989000"/>
            <a:ext cx="81914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26920" y="119700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arl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operative behaviour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e careful with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ranslation vs.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hare of work between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ergsteigen im Allgäu"/>
          <p:cNvPicPr/>
          <p:nvPr/>
        </p:nvPicPr>
        <p:blipFill>
          <a:blip r:embed="rId1"/>
          <a:stretch/>
        </p:blipFill>
        <p:spPr>
          <a:xfrm>
            <a:off x="755640" y="4076640"/>
            <a:ext cx="5904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hereamiheader-sms-0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55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country - history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conomy,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2100240" cy="139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595840" y="2276640"/>
            <a:ext cx="212904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960560" cy="130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294080" y="407664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23:06Z</dcterms:created>
  <dc:creator>Dieter Goertz</dc:creator>
  <dc:description/>
  <dc:language>en-US</dc:language>
  <cp:lastModifiedBy>SANTUCCIONE Lucia (DEVCO)</cp:lastModifiedBy>
  <cp:lastPrinted>2015-06-03T14:52:43Z</cp:lastPrinted>
  <dcterms:modified xsi:type="dcterms:W3CDTF">2015-10-07T15:27:31Z</dcterms:modified>
  <cp:revision>88</cp:revision>
  <dc:subject/>
  <dc:title>Institution building support in the field of agriculture and food safety in 2011</dc:title>
</cp:coreProperties>
</file>