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png" ContentType="image/png"/>
  <Override PartName="/ppt/media/image34.png" ContentType="image/pn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28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7.jpeg" ContentType="image/jpeg"/>
  <Override PartName="/ppt/media/image1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C4E2-3098-434A-8DAE-6C114CF38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6760" y="94312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510C-E3BB-4138-A6A4-5C29AD8A8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4580-F28D-4168-B226-A59A4910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238-4DFD-4ECE-B4EF-67214C5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FEB-7D87-4417-A70C-25EAB4B4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05D-C313-4EAB-95DB-A7FE4B41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000-A11F-4965-8E91-B41D4E0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D4F-3DD5-4A4E-B5FB-8987C6C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414-A688-4F38-8311-443ABD6D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18D-56ED-4F89-B757-FC50997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C552-793D-4515-BDC8-4F3EE9F7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7AE-0EF3-4F6D-98D7-4FEC13A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DC1-A581-452C-8B14-F2FCC73F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2C5-E7AD-477E-8F6D-B2CBAC8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LOGO CE-EN-NEG-quadri.ai"/>
          <p:cNvPicPr/>
          <p:nvPr/>
        </p:nvPicPr>
        <p:blipFill>
          <a:blip r:embed="rId2"/>
          <a:stretch/>
        </p:blipFill>
        <p:spPr>
          <a:xfrm>
            <a:off x="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russels, 14 Jun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1636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D4B-1C8B-4219-8E80-4C6A79A54E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s://www.fotocent.de/imgp/c6c3295a274583eaabd43ac7f64e1c83.jpg&amp;imgrefurl=http://www.fotocent.de/foto_detail.php%3FStockImageID%3D75128%26foto%3DJunge%2520Frau%2520sieht%2520mit%2520Fernglas%2520in%2520die%2520Zukunft&amp;usg=__P8vekZxgaIbHB8g_zOEWlVe3eSY=&amp;h=1400&amp;w=934&amp;sz=370&amp;hl=de&amp;start=10&amp;zoom=1&amp;tbnid=1cOq6XSe0ofYMM:&amp;tbnh=150&amp;tbnw=100&amp;ei=fQk9T6qhF4TPhAedhL3DBQ&amp;prev=/search%3Fq%3Dfernglas%2Bausblick%26um%3D1%26hl%3Dde%26sa%3DN%26gbv%3D2%26tbs%3Disz:l%26tbm%3Disch&amp;um=1&amp;itbs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madeusbuergel.de/bilder/Wiese2_1024.jpg&amp;imgrefurl=http://amadeusbuergel.de/bilder/index.php%3Frubrik%3Dwelt_gruen&amp;usg=__QJiJsz6zEMx4wuUyztZb-Mt-5rA=&amp;h=768&amp;w=1024&amp;sz=392&amp;hl=de&amp;start=4&amp;zoom=1&amp;tbnid=TYKpHfIWEh8FlM:&amp;tbnh=113&amp;tbnw=150&amp;ei=6Qk9T-y1D8qAhQf13oS6BQ&amp;prev=/search%3Fq%3Dgruene%2Bwiese%26um%3D1%26hl%3Dde%26sa%3DN%26gbv%3D2%26tbs%3Disz:l%26tbm%3Disch&amp;um=1&amp;itb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de/imgres?imgurl=http://www.fotos.sc/img2/u/gartenfee/h/bau_haus_hausbau_bauland_dach_fenster_rohbau_copy.jpg&amp;imgrefurl=http://www.fotos.sc/PHPSESSID%3D576d2c990c7927fdf20bdc46981f943a/popi%2B974373/mediafile.html&amp;usg=__uoqVjCUnToHZJEXl_0yqeWiShIQ=&amp;h=1125&amp;w=1500&amp;sz=987&amp;hl=de&amp;start=18&amp;zoom=1&amp;tbnid=HWory08NJERc6M:&amp;tbnh=113&amp;tbnw=150&amp;ei=-wk9T5zmIoWZhQf827nnBQ&amp;prev=/search%3Fq%3Dhaus%2Bim%2Bbau%26um%3D1%26hl%3Dde%26sa%3DN%26gbv%3D2%26tbs%3Disz:l%26tbm%3Disch&amp;um=1&amp;itb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de/imgres?imgurl=http://static.panoramio.com/photos/original/38844576.jpg&amp;imgrefurl=http://www.panoramio.com/photo/38844576&amp;usg=__O-wUsMwMBmGErR1w9kBfHRIZoq0=&amp;h=1874&amp;w=2500&amp;sz=2783&amp;hl=de&amp;start=32&amp;zoom=1&amp;tbnid=0BZZ5cqjOlF4AM:&amp;tbnh=112&amp;tbnw=150&amp;ei=Vgo9T6ixGJOxhAft36nuBQ&amp;prev=/search%3Fq%3Druine%2Brenovieren%26start%3D21%26um%3D1%26hl%3Dde%26sa%3DN%26gbv%3D2%26tbs%3Disz:l%26tbm%3Disch&amp;um=1&amp;itbs=1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st-josef-heudorf.de/template/dir_images/Organigramm/Organigramm_2.jpg&amp;imgrefurl=http://www.st-josef-heudorf.de/index.php%3Fpid%3D116%26loc%3Dde&amp;usg=__7ezEapG-RY3lRVkEFAjkIMFsFXo=&amp;h=697&amp;w=1186&amp;sz=146&amp;hl=de&amp;start=2&amp;zoom=1&amp;tbnid=xuU6e9p1HGM7iM:&amp;tbnh=88&amp;tbnw=150&amp;ei=MQw9T5GYIIiJhQe0lZnUBQ&amp;prev=/search%3Fq%3Dorganigramm%26um%3D1%26hl%3Dde%26gbv%3D2%26tbs%3Disz:l%26tbm%3Disch&amp;um=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jonmell.co.uk/wp-content/uploads/2008/12/find-people.jpg&amp;imgrefurl=http://jonmell.co.uk/find-people-you-need/&amp;usg=__4VWeJkMKiCryToe6mezUoItu-jM=&amp;h=1200&amp;w=1600&amp;sz=607&amp;hl=de&amp;start=6&amp;zoom=1&amp;tbnid=G5NkH-eqcWLoRM:&amp;tbnh=113&amp;tbnw=150&amp;ei=GAw9T8S8NIi2hQep_Ny8BQ&amp;prev=/search%3Fq%3Dthe%2Bpeople%26um%3D1%26hl%3Dde%26gbv%3D2%26tbs%3Disz:l%26tbm%3Disch&amp;um=1&amp;itbs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liechtenecker.at/wp-content/themes/uploads/kommunikation.png&amp;imgrefurl=http://liechtenecker.at/corporate-blog-und-integrierte-kommunikation/&amp;usg=__xpCRT4QAVKenYJNdEwabQUgRA5k=&amp;h=305&amp;w=460&amp;sz=68&amp;hl=de&amp;start=13&amp;zoom=1&amp;tbnid=57pQwACpiGc-tM:&amp;tbnh=85&amp;tbnw=128&amp;ei=VQ89T9qsKcSXhQeo_aC1BQ&amp;prev=/search%3Fq%3Dkommunikation%26um%3D1%26hl%3Dde%26gbv%3D2%26tbas%3D0%26tbm%3Disch&amp;um=1&amp;itbs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zef.de/fileadmin/webfiles/downloads/conferences/photos_ws_teeb_09/IMG_0568_working_group.jpg&amp;imgrefurl=http://www.zef.de/1462.html&amp;usg=__SVLs2T1juvh2jchtkHB25LWUJPo=&amp;h=2448&amp;w=3264&amp;sz=3979&amp;hl=de&amp;start=2&amp;zoom=1&amp;tbnid=t2eSqD4s6avzSM:&amp;tbnh=113&amp;tbnw=150&amp;ei=jxw9T7XRKsqa-wakhOXnBQ&amp;prev=/search%3Fq%3Dworking%2Bgroup%26hl%3Dde%26sa%3DX%26gbv%3D2%26tbs%3Disz:l%26tbm%3Disch&amp;itbs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finishlinecatering.com/yahoo_site_admin/assets/images/meeting.139202626.JPG&amp;imgrefurl=http://www.finishlinecatering.com/meeting_services&amp;usg=__GS_b9FXz0chloZZ1RrJ9xuPJ350=&amp;h=1024&amp;w=1024&amp;sz=60&amp;hl=de&amp;start=4&amp;zoom=1&amp;tbnid=0Kllp46fNB0OjM:&amp;tbnh=150&amp;tbnw=150&amp;ei=fRU9T9_1HoGA-wa1_fDxBQ&amp;prev=/search%3Fq%3Dmeeting%26hl%3Dde%26sa%3DX%26gbv%3D2%26tbs%3Disz:l%26tbm%3Disch&amp;itbs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arrowheadaddict.com/files/2011/04/checklist.jpg&amp;imgrefurl=http://arrowheadaddict.com/2011/04/19/the-hopeful-fans-pre-draft-checklist/&amp;usg=__ssRcsxQ3KripU_Fty4GPxDdaGkg=&amp;h=1200&amp;w=1600&amp;sz=623&amp;hl=de&amp;start=1&amp;zoom=1&amp;tbnid=lEzca-wa3-x60M:&amp;tbnh=113&amp;tbnw=150&amp;ei=Lh09T8zuG4ah-Qa7wsTRBQ&amp;prev=/search%3Fq%3Dcheck%2Blist%26hl%3Dde%26sa%3DN%26gbv%3D2%26tbs%3Disz:l%26tbm%3Disch&amp;itbs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grundstueckszertifizierung.de/images/uploads/WasserfallWarnschild_Rainer-Sturm_pixeliode.jpg&amp;imgrefurl=http://www.grundstueckszertifizierung.de/blog/eintrag/luenener-quartierbeiraete-in-startposition-kontrollbeirat-gewaehlt/&amp;usg=__9OHFYOoUI9IRuIYaAALZk__MNgw=&amp;h=2616&amp;w=3488&amp;sz=972&amp;hl=de&amp;start=7&amp;zoom=1&amp;tbnid=xHkMcn63wzl0hM:&amp;tbnh=113&amp;tbnw=150&amp;ei=4R49T_HFO8S6-Ab9seTPBQ&amp;prev=/search%3Fq%3Dausrutschen%26hl%3Dde%26gbv%3D2%26tbas%3D0%26tbs%3Disz:l%26tbm%3Disch&amp;itbs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static.panoramio.com/photos/original/36163345.jpg&amp;imgrefurl=http://www.panoramio.com/photo/36163345&amp;usg=__l1okVLzRWz7geSeON0YVDVJDVDc=&amp;h=2976&amp;w=3968&amp;sz=4328&amp;hl=de&amp;start=18&amp;zoom=1&amp;tbnid=I4r64zMuHYP2xM:&amp;tbnh=113&amp;tbnw=150&amp;ei=mB89T-GFOoqg-wbpnrHGBQ&amp;prev=/search%3Fq%3Dbridge%2Bistanbul%26hl%3Dde%26sa%3DX%26gbv%3D2%26tbas%3D0%26tbs%3Disz:l%26tbm%3Disch&amp;itbs=1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www.tiptoptens.com/wp-content/uploads/2011/02/Useless-and-Funny-Signs-4.jpg&amp;imgrefurl=http://www.tiptoptens.com/2011/02/25/10-completely-useless-funny-signs/&amp;usg=__7IZtRHpjmDHwoZ9mubM_qgjE_N4=&amp;h=869&amp;w=620&amp;sz=84&amp;hl=de&amp;start=64&amp;zoom=1&amp;tbnid=NhCFad95D85izM:&amp;tbnh=145&amp;tbnw=103&amp;ei=pyQ9T96QCMmS-watgpzWBQ&amp;prev=/search%3Fq%3Duseless%26start%3D63%26hl%3Dde%26sa%3DN%26gbv%3D2%26tbas%3D0%26tbm%3Disch&amp;itbs=1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taiex/experts/edb/registration-request_en.htm" TargetMode="External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de/imgres?imgurl=http://us.123rf.com/400wm/400/400/iko/iko1111/iko111100002/11130905-frau-zeigt-eine-leere-durchscheinendes-papier-mit-einem-fragezeichen-vor-ihr-gesicht.jpg&amp;imgrefurl=http://de.123rf.com/photo_11130905_frau-zeigt-eine-leere-durchscheinendes-papier-mit-einem-fragezeichen-vor-ihr-gesicht.html&amp;usg=__R6QhWLSpbbaCaMoYI2lWeYTNyYs=&amp;h=400&amp;w=400&amp;sz=17&amp;hl=fr&amp;start=21&amp;zoom=1&amp;tbnid=qINuJmoyl7w6KM:&amp;tbnh=124&amp;tbnw=124&amp;ei=Tto8T4kGg-k5n-6dwQo&amp;prev=/search%3Fq%3Dfragezeichen%2Bim%2Bgesicht%26hl%3Dfr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de/imgres?imgurl=http://img.fotowelt.chip.de/imgserver/communityimages/823400/823457/original_13A609EAFA6046BE22C59671FC2C5938.jpg&amp;imgrefurl=http://fotowelt.chip.de/k/wettbewerb/rot/roter_teppich/823457/&amp;usg=__7ttrfTqTZM011FmaWumfvzgwTd8=&amp;h=2874&amp;w=4621&amp;sz=5394&amp;hl=de&amp;start=28&amp;zoom=1&amp;tbnid=lbOstOTh-DUk0M:&amp;tbnh=93&amp;tbnw=150&amp;ei=-t48T5TQEc6VOtD8-MAK&amp;prev=/search%3Fq%3Droter%2Bteppich%26start%3D21%26hl%3Dde%26sa%3DN%26gbv%3D2%26tbs%3Disz:l%26tbm%3Disch&amp;itbs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ssively.com/category/where-am-i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Feedback by a former </a:t>
            </a:r>
            <a:br>
              <a:rPr sz="3500"/>
            </a:br>
            <a:r>
              <a:rPr b="1" lang="en-GB" sz="3500" spc="-1" strike="noStrike">
                <a:solidFill>
                  <a:srgbClr val="333399"/>
                </a:solidFill>
                <a:latin typeface="Arial"/>
              </a:rPr>
              <a:t>Resident Twinning Adviser </a:t>
            </a:r>
            <a:br>
              <a:rPr sz="3500"/>
            </a:b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Lessons learned and recommendations  </a:t>
            </a:r>
            <a:br>
              <a:rPr sz="3200"/>
            </a:br>
            <a:br>
              <a:rPr sz="3200"/>
            </a:b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Brussels, 15 October 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4008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95280" y="1484280"/>
            <a:ext cx="7643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SAA, Accession negotiations, benchmarks, progress reports, IPA program, Association agreements, country strategies, support progra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Member States and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Neighb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6300720" y="1496880"/>
            <a:ext cx="232560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U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previous, current, fu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3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Other projects 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(bilateral cooperation, world bank, UNDP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AI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ident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567400" y="2735280"/>
            <a:ext cx="2544840" cy="214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5522760" y="4878360"/>
            <a:ext cx="321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complementarity sy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urrent stat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ANd9GcTlyLUDG4pfOTFuJIIJsITLvdkakjonoFr34ICiTzkWhtES1vbgR-R1oy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421000"/>
            <a:ext cx="2013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Nd9GcRMPyazuqLJ-9OEPW2pBNjczJ9lJXZYNWZeYYzmSAJV7j1DSzBTCdLnCb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48428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ANd9GcT2LwXAKrkU_L2Ziz90eVzUit5Pf8hF0R9Kyb1faNmlokRiZMGUZaVW9SMq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56536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ANd9GcSt391v8_blZzy0O3OILNRFsjxGQnk-N5OCDboa3Z2yqfchj8LX-AAEQy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4149720"/>
            <a:ext cx="3024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rganis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udget,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Regional, lo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mpe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operation and competition with othe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ANd9GcS5jSr8Mmf2djH4gjpqj7GKOMPg8vg7Vmit61K1dreCMhXUn2AGXXaZ5-R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484280"/>
            <a:ext cx="2880000" cy="168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5435640" y="4584600"/>
            <a:ext cx="32670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Get familiar with th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ho is 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alar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Job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Behaviour to hierarc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institution to be buil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ANd9GcRPQ21eZo3EwEHzqx8jjM5b6VBSQwYe1c5Ao_dNZNSYZM6fL_LlFNSsRF2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585800"/>
            <a:ext cx="2808360" cy="21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1700280"/>
            <a:ext cx="68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mmunication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use of a web bas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ntranet/sharepoint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- web page of th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ANd9GcSbD4mY2NSPELJzEx5kzut6teAMwB8A6syXOEVNk9eSv-7RWtAX8NWtbK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060640"/>
            <a:ext cx="24829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Working group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etting up of rul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 meet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official as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ANd9GcSUqaFSiCUsV4xWX3rnfHZjEALjX0htLppRBBQbRUuXKOtyosLVUwUOh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306864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ement meetings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rectors, head of departments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C project leader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gularly 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iscussing the progres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ased on an activity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2" descr="ANd9GcSd-ElsDzqYgnRIt7u_sxMpZAgm9fsVEshz1K0xMZd7tpxqFydas8I11Za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284640"/>
            <a:ext cx="1860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684360" y="191628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Activity plan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what needs to be don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y whom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until whe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ark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follow up of the benchmark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ANd9GcQRmUU1AHTTCLQORitveO9tWk7P4bjxpDELOKcl5zdZopDM5Dfs06okDFD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1844640"/>
            <a:ext cx="2664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y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429080" y="3716280"/>
            <a:ext cx="4498920" cy="2536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winning project manag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0-200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TA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4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oject Leader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08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id-term expert Croa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2010-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ince 2011 TAIEX Team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349360"/>
            <a:ext cx="687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Recommendation paper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sults of discuss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commendation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pecific warning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short notes (1-2 pages)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to be circulated to the beneficiarie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eminder for yourself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informal character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ANd9GcQJPCSAOFr0v8-NAuuwo2aD4NLwyYIrug93uYXpAKDNOBoTA8qKrTEOp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2214720"/>
            <a:ext cx="25812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2708280"/>
            <a:ext cx="8281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Managing the experts </a:t>
            </a:r>
            <a:br>
              <a:rPr sz="40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input depends on availability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understanding the context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no need to separate by M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RTA shall be the bridge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prepare objectives and agenda of missions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don’t waste expert days </a:t>
            </a:r>
            <a:br>
              <a:rPr sz="2600"/>
            </a:br>
            <a:r>
              <a:rPr b="0" lang="en-GB" sz="2600" spc="-1" strike="noStrike">
                <a:solidFill>
                  <a:srgbClr val="333399"/>
                </a:solidFill>
                <a:latin typeface="Arial"/>
              </a:rPr>
              <a:t>- allow the beneficiaries to evaluate the experts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ANd9GcRKXZvEcwFMaG_vCLZ7fR5xFdlP0o0WHARlFc7F0KCeohLQJsnzVJhKrq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844640"/>
            <a:ext cx="26528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mplementing 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0920" y="2133720"/>
            <a:ext cx="68770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Support the needs </a:t>
            </a: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output orien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RTA shall provide additional input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help the partners to produce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develop plan B’s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lower your expectation</a:t>
            </a:r>
            <a:br>
              <a:rPr sz="3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- be realistic but optimistic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ANd9GcTxTjONq1iek3U1JGYNK-6F-hOkATB9-QdGt3a6wiwFUZtgWQS_wNXOj8y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37000"/>
            <a:ext cx="1841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50920" y="1700280"/>
            <a:ext cx="68770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inal repo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Focus on results/achiev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referably final quarterly report plus a final re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hank your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651640" y="4022640"/>
            <a:ext cx="31464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nalisation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84360" y="1989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Networking and follow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sure that all contact details are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outputs of the projec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tinue your support so far 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Keep in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770440" y="43657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6910560" y="450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76040" y="1917720"/>
            <a:ext cx="8359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AIEX is the little brother of Tw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hort term assistance by EU MS public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Workshops, expert missions and study vis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entral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Very flexible instrument driven by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Logistics supported by a service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News on TAI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0440" y="1444680"/>
            <a:ext cx="8359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TAIEX between EU Member St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Peer to peer EU MS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onal policy and trans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2)Partnership Instrument (P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Canada, India, Brazil, Korea first req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333399"/>
                </a:solidFill>
                <a:latin typeface="Arial"/>
              </a:rPr>
              <a:t>Funded by the EU and requested by EU Del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ttps://myintracomm.ec.europa.eu/dg/fpi/whoweare/about_fpi/Pages/Index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76040" y="2133720"/>
            <a:ext cx="82821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ncourage all experts to register as a TAIEX expe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is simple using an online tool (renewed s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Registration does not mean any commi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AIEX EXPERT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50920" y="155736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82520" y="1660680"/>
            <a:ext cx="82821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Experts may be contacted by the TAIEX un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Or have the possibility to show interest in a specific activ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Conditions (per diems, compensation) similar to Twi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99"/>
                </a:solidFill>
                <a:latin typeface="Arial"/>
              </a:rPr>
              <a:t>Logistics centrally man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932360"/>
            <a:ext cx="28958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68360" y="1989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THANK YOU FOR YOUR ATTENTION, GOOD LUCK IN YOUR NEW ENVIRONMENT </a:t>
            </a:r>
            <a:br>
              <a:rPr sz="3000"/>
            </a:br>
            <a:r>
              <a:rPr b="1" lang="en-GB" sz="3000" spc="-1" strike="noStrike">
                <a:solidFill>
                  <a:srgbClr val="333399"/>
                </a:solidFill>
                <a:latin typeface="Arial"/>
              </a:rPr>
              <a:t>AND MANY SUCCESS IN BUILDING YOUR INSTITUTION!!!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d9GcRC8joxvSQ9Mzt3oXATukt5Cbo1CFdL3XbMY34UCYdRlcuY96kiWkc1BZkDbw"/>
          <p:cNvPicPr/>
          <p:nvPr/>
        </p:nvPicPr>
        <p:blipFill>
          <a:blip r:embed="rId1"/>
          <a:stretch/>
        </p:blipFill>
        <p:spPr>
          <a:xfrm>
            <a:off x="39528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Dieter Goe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TAIEX team leader agriculture  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Institution Building Unit, TAIEX</a:t>
            </a:r>
            <a:br>
              <a:rPr sz="1400"/>
            </a:b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DG NE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+32 29 63626 </a:t>
            </a:r>
            <a:r>
              <a:rPr b="1" lang="fr-BE" sz="1400" spc="-1" strike="noStrike">
                <a:solidFill>
                  <a:srgbClr val="333399"/>
                </a:solidFill>
                <a:latin typeface="Arial"/>
              </a:rPr>
              <a:t>dieter.goertz@ec.europa.eu</a:t>
            </a:r>
            <a:r>
              <a:rPr b="1" lang="fr-B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ANd9GcSQ1QeSzRHre9N0SOn2kVbw7fSjwI5WtccVPV6tD7-nPLuBWphB-220hMnJ"/>
          <p:cNvPicPr/>
          <p:nvPr/>
        </p:nvPicPr>
        <p:blipFill>
          <a:blip r:embed="rId2"/>
          <a:stretch/>
        </p:blipFill>
        <p:spPr>
          <a:xfrm>
            <a:off x="6372360" y="3860640"/>
            <a:ext cx="2447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comes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Star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mplementing a twinn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naging the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your special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ANd9GcTAvwktR3RKbyeQt9vOqaz09bZ5xddwvXGupBbAUOLqZl-uOPZ_Bvnxt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492280"/>
            <a:ext cx="2262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foto2_profil"/>
          <p:cNvPicPr/>
          <p:nvPr/>
        </p:nvPicPr>
        <p:blipFill>
          <a:blip r:embed="rId1"/>
          <a:stretch/>
        </p:blipFill>
        <p:spPr>
          <a:xfrm>
            <a:off x="4643280" y="2852640"/>
            <a:ext cx="3961080" cy="26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ANd9GcS5GAylKLGU63wqBJTUpCyB3eqIKUUEQETJNdMjDu_MTarCk9PoRFw5bS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85264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6"/>
          <p:cNvSpPr/>
          <p:nvPr/>
        </p:nvSpPr>
        <p:spPr>
          <a:xfrm>
            <a:off x="39528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Your expec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8360" y="1844640"/>
            <a:ext cx="7643880" cy="41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Small-Office-Pictures-5"/>
          <p:cNvPicPr/>
          <p:nvPr/>
        </p:nvPicPr>
        <p:blipFill>
          <a:blip r:embed="rId1"/>
          <a:stretch/>
        </p:blipFill>
        <p:spPr>
          <a:xfrm>
            <a:off x="3635280" y="1700280"/>
            <a:ext cx="2895840" cy="42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madrid07a0026"/>
          <p:cNvPicPr/>
          <p:nvPr/>
        </p:nvPicPr>
        <p:blipFill>
          <a:blip r:embed="rId2"/>
          <a:stretch/>
        </p:blipFill>
        <p:spPr>
          <a:xfrm>
            <a:off x="395280" y="1700280"/>
            <a:ext cx="324180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2050920" y="0"/>
            <a:ext cx="35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he rea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ergsteigen im Allgäu"/>
          <p:cNvPicPr/>
          <p:nvPr/>
        </p:nvPicPr>
        <p:blipFill>
          <a:blip r:embed="rId1"/>
          <a:stretch/>
        </p:blipFill>
        <p:spPr>
          <a:xfrm>
            <a:off x="611280" y="1989000"/>
            <a:ext cx="81914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26920" y="1197000"/>
            <a:ext cx="7643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arly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ooperative behaviour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Be careful with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ranslation vs.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hare of work between assi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ergsteigen im Allgäu"/>
          <p:cNvPicPr/>
          <p:nvPr/>
        </p:nvPicPr>
        <p:blipFill>
          <a:blip r:embed="rId1"/>
          <a:stretch/>
        </p:blipFill>
        <p:spPr>
          <a:xfrm>
            <a:off x="755640" y="4076640"/>
            <a:ext cx="59040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whereamiheader-sms-07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553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RTA SEMI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Your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1413000"/>
            <a:ext cx="7643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country - history,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Ju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Civil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conomy,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2100240" cy="139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595840" y="2276640"/>
            <a:ext cx="212904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5148360" y="3141720"/>
            <a:ext cx="1960560" cy="130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294080" y="4076640"/>
            <a:ext cx="2163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6:23:06Z</dcterms:created>
  <dc:creator>Dieter Goertz</dc:creator>
  <dc:description/>
  <dc:language>en-US</dc:language>
  <cp:lastModifiedBy>SANTUCCIONE Lucia (DEVCO)</cp:lastModifiedBy>
  <cp:lastPrinted>2015-06-03T14:52:43Z</cp:lastPrinted>
  <dcterms:modified xsi:type="dcterms:W3CDTF">2015-10-07T15:27:31Z</dcterms:modified>
  <cp:revision>88</cp:revision>
  <dc:subject/>
  <dc:title>Institution building support in the field of agriculture and food safety in 2011</dc:title>
</cp:coreProperties>
</file>