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2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3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4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3F61-1439-4EC4-B55E-7FC60E55A3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7BE2-E397-4573-A063-EC17ED7E60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C320-90D9-4C50-81B0-F590257BCC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84A7-E112-4200-ACE6-95328CA024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B969-44FE-4464-8451-492D0649E0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2727-3B90-487B-B7D5-0981B76277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B202-004E-477D-8BD8-D0CE37FB77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12DE-BE3F-4FEF-8BDF-A9AA2064DA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BE66-3FB5-40BE-9612-5D1542022E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9F38-3F1E-4B93-8F6D-F3A09B56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829E-ECAF-4F2C-830E-8716F916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AB17-AB5F-4806-A47C-A6DF518E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C252-6802-46B9-A917-EE1CC012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0882-E728-49EB-91B0-87BAFF57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EF9C-F0E1-4331-A4F8-ABE5D1AE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EDA4-F51D-4867-8D5B-1D89DFC9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C9D2-8A5E-44C2-84CC-61DD7AAC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B234-DA93-4407-B3A7-A366E1EF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BEE2-B8B3-4048-A080-BFE6CEBF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D8AA-CB0C-4DC1-BDC7-C28E4A6E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F361-3843-4522-B64B-94E9D96F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9DBF-6867-447C-B6D1-6AF3A592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F6A1-1C46-456E-9CC1-D3B995F9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681C-6E89-4CC3-80C5-883B4421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56BA-0D9E-4404-A988-26097724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70A2-13CC-44F7-87FE-2F0419AF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20D86-A38C-4BC3-86C8-8BEFE9BE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5BF02-13BA-459F-AEF9-9180291D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475C9-67C8-4E5E-809B-2235A0E8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6BBEB-D502-4416-9CC0-DD9DBD56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C5D0C-0E9E-412C-AAEE-4D9126E2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71DE-6759-4BD1-B23A-991D7BFC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BFDAD-63AE-4C4C-B259-E33C7222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B31F9-66D7-4CED-B19A-4180587A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B0138-7A2E-4E90-95CD-B8A66E07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65559-682F-424D-A357-F75EC3C7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7E079-0245-4C10-B766-EECA4217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EF63D-D52F-433F-A902-842A7A37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E315F-13EB-449D-B31A-A30DEC94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DAD233-280D-4399-9BA1-A62E04AEE9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377892-8ED3-4928-BCE2-BA326F52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CF23DD-4982-4858-9BDF-FCED7F03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F14C-1DA8-4645-9058-BAF1BD81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5F4C4B-6DBC-4E1B-A545-957E4EE8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8304C8-D61C-4BF1-A8AE-D0F28F69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2D4778-4885-4A14-B82D-6ADEA373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D05BCD-086E-4DA1-9E2C-0AA764E7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7D4142-F375-4A3A-91D2-036AE609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68E3E3-CA01-493C-B988-3FB80402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DD015B-A5FD-4B4E-A299-551F6E1E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F8D2F1-4DEA-47EB-ADB8-64B5188E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1A348A-244C-4039-86C1-7E030FFA1A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BF65-36AB-4820-9EFE-D9B3EEAF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50D7-EFBF-47BE-8355-5DEB1EA8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A34D-77FC-422D-B62E-F0518222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22F4-1E46-414D-A617-0F7EA1B4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5FC2-1E8D-4F58-AE25-77CD259B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E8EA-3784-4283-9156-57930CD554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7640" cy="1400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4233960" y="6445080"/>
            <a:ext cx="676080" cy="45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B5E5-E5AC-4AE5-A3E1-0BE1C116883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3"/>
          <a:stretch/>
        </p:blipFill>
        <p:spPr>
          <a:xfrm>
            <a:off x="4249800" y="6453360"/>
            <a:ext cx="609480" cy="40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lupasst\Desktop\Graphics\Footer Box NEAR2.jpg"/>
          <p:cNvPicPr/>
          <p:nvPr/>
        </p:nvPicPr>
        <p:blipFill>
          <a:blip r:embed="rId4"/>
          <a:stretch/>
        </p:blipFill>
        <p:spPr>
          <a:xfrm>
            <a:off x="4233960" y="6437160"/>
            <a:ext cx="630000" cy="42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5"/>
          <a:stretch/>
        </p:blipFill>
        <p:spPr>
          <a:xfrm>
            <a:off x="4229280" y="6416640"/>
            <a:ext cx="67608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BCEC-EA31-4930-BEF1-8FED6EB426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3673440" cy="5619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516360" y="475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1"/>
          </p:nvPr>
        </p:nvSpPr>
        <p:spPr>
          <a:xfrm>
            <a:off x="468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B3F4-5978-448C-BEE8-B1FC018011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neighbourhood/eastern-partnership/index_en.htm" TargetMode="External"/><Relationship Id="rId2" Type="http://schemas.openxmlformats.org/officeDocument/2006/relationships/hyperlink" Target="http://www.enpi-info.eu/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01640" y="4365720"/>
            <a:ext cx="7632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EU cooperation with the Eastern Neighbourhood</a:t>
            </a:r>
            <a:br>
              <a:rPr sz="4000"/>
            </a:br>
            <a:br>
              <a:rPr sz="4000"/>
            </a:br>
            <a:r>
              <a:rPr b="1" lang="en-GB" sz="1800" spc="-1" strike="noStrike">
                <a:solidFill>
                  <a:srgbClr val="ffd624"/>
                </a:solidFill>
                <a:latin typeface="Verdana"/>
              </a:rPr>
              <a:t>Mathieu Bousquet, NEAR.C2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0278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18960" y="1087560"/>
            <a:ext cx="850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353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3000" spc="-1" strike="noStrike">
                <a:solidFill>
                  <a:srgbClr val="cc3300"/>
                </a:solidFill>
                <a:latin typeface="Verdana"/>
              </a:rPr>
              <a:t>Thank you for your attention! </a:t>
            </a:r>
            <a:br>
              <a:rPr sz="26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24000" y="2538360"/>
            <a:ext cx="842616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r more information :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DG NEAR website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(Eastern Partnership and country pages): </a:t>
            </a:r>
            <a:br>
              <a:rPr sz="1600"/>
            </a:br>
            <a:r>
              <a:rPr b="0" lang="en-GB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1"/>
              </a:rPr>
              <a:t>ec.europa.eu/enlargement/neighbourhood/eastern-partnership/index_en.htm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EU Neighbourhood</a:t>
            </a:r>
            <a:r>
              <a:rPr b="1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 Info Centre</a:t>
            </a:r>
            <a:r>
              <a:rPr b="0" lang="fr-BE" sz="16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r>
              <a:rPr b="0" lang="fr-BE" sz="1600" spc="-1" strike="noStrike" u="sng">
                <a:solidFill>
                  <a:srgbClr val="009999"/>
                </a:solidFill>
                <a:uFillTx/>
                <a:latin typeface="Verdana"/>
                <a:ea typeface="Arial"/>
                <a:hlinkClick r:id="rId2"/>
              </a:rPr>
              <a:t>www.enpi-info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ollow us: 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Facebook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EU Neighbourhood &amp; Enlargement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         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Twitter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  <a:ea typeface="Arial"/>
              </a:rPr>
              <a:t>: @eu_near </a:t>
            </a:r>
            <a:br>
              <a:rPr sz="1600"/>
            </a:b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300" spc="-1" strike="noStrike">
                <a:solidFill>
                  <a:srgbClr val="cc3300"/>
                </a:solidFill>
                <a:latin typeface="Verdana"/>
                <a:ea typeface="Arial"/>
              </a:rPr>
              <a:t>	</a:t>
            </a:r>
            <a:endParaRPr b="1" lang="en-US" sz="13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422280" y="-2338560"/>
            <a:ext cx="4876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8" descr="http://www.shinsuzuma.com/assets/facebook_icon.jpg"/>
          <p:cNvPicPr/>
          <p:nvPr/>
        </p:nvPicPr>
        <p:blipFill>
          <a:blip r:embed="rId3"/>
          <a:stretch/>
        </p:blipFill>
        <p:spPr>
          <a:xfrm>
            <a:off x="719280" y="501660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http://www.mariosbowl.com/images/TBD5PBA/Twitter-symbol.jpg"/>
          <p:cNvPicPr/>
          <p:nvPr/>
        </p:nvPicPr>
        <p:blipFill>
          <a:blip r:embed="rId4"/>
          <a:stretch/>
        </p:blipFill>
        <p:spPr>
          <a:xfrm>
            <a:off x="719280" y="5334120"/>
            <a:ext cx="3175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473040" y="1538280"/>
            <a:ext cx="7915320" cy="49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6836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What is it?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olicy launched in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04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?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countries (10 in the South, 6 in the East without Russia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Aim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 prosperity, stability, security and good neighbourhood, avoid new diving lines in Europe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NP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review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ongoing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7120" y="13568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3300"/>
                </a:solidFill>
                <a:latin typeface="Verdana"/>
              </a:rPr>
              <a:t>European Neighbourhood Policy (ENP)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68360" y="2349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What is it? </a:t>
            </a:r>
            <a:r>
              <a:rPr b="1" lang="en-GB" sz="2000" spc="-1" strike="noStrike">
                <a:solidFill>
                  <a:srgbClr val="cc3300"/>
                </a:solidFill>
                <a:latin typeface="Verdana"/>
              </a:rPr>
              <a:t>Eastern dimension of the ENP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120000"/>
              <a:buFont typeface="Verdana"/>
              <a:buChar char="•"/>
              <a:tabLst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Joint policy launched in 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2009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to</a:t>
            </a: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bring Eastern neighbours closer to the EU. Based on: common interests and shared values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For whom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? 6 countries: Armenia, Azerbaijan, Belarus, Georgia, Moldova, Ukraine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1" marL="809640" indent="-266760">
              <a:spcBef>
                <a:spcPts val="425"/>
              </a:spcBef>
              <a:buClr>
                <a:srgbClr val="cc3300"/>
              </a:buClr>
              <a:buFont typeface="Verdana"/>
              <a:buChar char="•"/>
              <a:tabLst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Main goals - EaP is about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: 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closer relation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political associ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more trade, business, jobs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economic integ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people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mobility, contacts between people, civil society 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 lvl="2" marL="1209600" indent="-266760">
              <a:spcBef>
                <a:spcPts val="425"/>
              </a:spcBef>
              <a:buClr>
                <a:srgbClr val="cc3300"/>
              </a:buClr>
              <a:buFont typeface="Verdana"/>
              <a:buChar char="-"/>
              <a:tabLst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GB" sz="1700" spc="-1" strike="noStrike">
                <a:solidFill>
                  <a:srgbClr val="c00000"/>
                </a:solidFill>
                <a:latin typeface="Verdana"/>
              </a:rPr>
              <a:t>reforms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f5494"/>
                </a:solidFill>
                <a:latin typeface="Verdana"/>
              </a:rPr>
              <a:t> sector cooperation</a:t>
            </a:r>
            <a:endParaRPr b="0" lang="en-US" sz="17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1080"/>
                <a:tab algn="l" pos="361800"/>
                <a:tab algn="l" pos="542880"/>
                <a:tab algn="l" pos="723960"/>
                <a:tab algn="l" pos="90504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</a:tabLst>
            </a:pPr>
            <a:endParaRPr b="0" i="1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astern Partnership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395280" y="2565360"/>
            <a:ext cx="8229600" cy="35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H</a:t>
            </a: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ow is it financed?</a:t>
            </a:r>
            <a:br>
              <a:rPr sz="32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8360" y="2707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European Neighbourhood Instrument (ENI) - Key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inancial instrument for ENP and EaP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Where:</a:t>
            </a: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16 ENP countries</a:t>
            </a:r>
            <a:r>
              <a:rPr b="0" lang="en-GB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no more bilateral cooperation with Russia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Budget:</a:t>
            </a:r>
            <a:r>
              <a:rPr b="1" lang="pl-PL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0f5494"/>
                </a:solidFill>
                <a:latin typeface="Verdana"/>
              </a:rPr>
              <a:t>EU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15.4</a:t>
            </a:r>
            <a:r>
              <a:rPr b="1" lang="pl-PL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</a:rPr>
              <a:t>billion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or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14</a:t>
            </a:r>
            <a:r>
              <a:rPr b="1" lang="pl-PL" sz="1800" spc="-1" strike="noStrike">
                <a:solidFill>
                  <a:srgbClr val="0f5494"/>
                </a:solidFill>
                <a:latin typeface="Verdana"/>
              </a:rPr>
              <a:t>-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2020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total figure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or whom: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inly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artner governments and civil society organisations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inal beneficiaries =&gt;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citizen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f partner countries !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45520" indent="-24552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assistance: How it works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95280" y="2421000"/>
            <a:ext cx="822960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ENI assistance is provided for </a:t>
            </a:r>
            <a:r>
              <a:rPr b="1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3 types of cooperation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275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Bilateral cooperation programme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Largest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 part of ENI fund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Focused on 3 priority sector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+ complementary support for implementation of agreements and civil society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Verdana"/>
                <a:ea typeface="Arial"/>
              </a:rPr>
              <a:t>Differentiation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: Tailor-made for each country according to needs, situation, ambition, progres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73000"/>
              </a:lnSpc>
              <a:spcBef>
                <a:spcPts val="388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Regional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Initiatives demanding regional approach, challenges across borders, e.g. transport, energy, environment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3366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Cross border Cooper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234a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Content Placeholder 4" descr=""/>
          <p:cNvPicPr/>
          <p:nvPr/>
        </p:nvPicPr>
        <p:blipFill>
          <a:blip r:embed="rId1"/>
          <a:stretch/>
        </p:blipFill>
        <p:spPr>
          <a:xfrm>
            <a:off x="341280" y="2133720"/>
            <a:ext cx="8332920" cy="1944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East - Priority sectors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3" name="Content Placeholder 4" descr=""/>
          <p:cNvPicPr/>
          <p:nvPr/>
        </p:nvPicPr>
        <p:blipFill>
          <a:blip r:embed="rId2"/>
          <a:stretch/>
        </p:blipFill>
        <p:spPr>
          <a:xfrm>
            <a:off x="341280" y="4200480"/>
            <a:ext cx="8332920" cy="1693800"/>
          </a:xfrm>
          <a:prstGeom prst="rect">
            <a:avLst/>
          </a:prstGeom>
          <a:ln w="0">
            <a:noFill/>
          </a:ln>
        </p:spPr>
      </p:pic>
      <p:sp>
        <p:nvSpPr>
          <p:cNvPr id="194" name="Content Placeholder 2"/>
          <p:cNvSpPr/>
          <p:nvPr/>
        </p:nvSpPr>
        <p:spPr>
          <a:xfrm>
            <a:off x="426960" y="602136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+ complementary support: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Arial"/>
              </a:rPr>
              <a:t>to support implementation of agreements and civil society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68000" y="2637000"/>
            <a:ext cx="8147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Regional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: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address common challeng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and </a:t>
            </a:r>
            <a:r>
              <a:rPr b="1" lang="en-GB" sz="1800" spc="-1" strike="noStrike">
                <a:solidFill>
                  <a:srgbClr val="ff3399"/>
                </a:solidFill>
                <a:latin typeface="Tahoma"/>
                <a:ea typeface="Tahoma"/>
              </a:rPr>
              <a:t>promote regional cooperation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on themes which cannot be sufficiently addressed by countries individually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mplementarity with bilateral programmes 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– avoid overlap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10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3 Priorit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Support the political association proces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Contribute to economic integration and sector cooper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spcBef>
                <a:spcPts val="90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Enhance civil society’s role as a vector for refor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6 Flagship</a:t>
            </a:r>
            <a:r>
              <a:rPr b="0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Tahoma"/>
                <a:ea typeface="Tahoma"/>
              </a:rPr>
              <a:t>initiativ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676080" indent="-259920">
              <a:lnSpc>
                <a:spcPct val="80000"/>
              </a:lnSpc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68360" y="1413000"/>
            <a:ext cx="79912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Verdana"/>
              </a:rPr>
              <a:t>ENI Regional Programmes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</a:rPr>
              <a:t>6 Flagship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8" name="Content Placeholder 4" descr=""/>
          <p:cNvPicPr/>
          <p:nvPr/>
        </p:nvPicPr>
        <p:blipFill>
          <a:blip r:embed="rId1"/>
          <a:stretch/>
        </p:blipFill>
        <p:spPr>
          <a:xfrm>
            <a:off x="444600" y="2639880"/>
            <a:ext cx="5352840" cy="3456000"/>
          </a:xfrm>
          <a:prstGeom prst="rect">
            <a:avLst/>
          </a:prstGeom>
          <a:ln w="0">
            <a:noFill/>
          </a:ln>
        </p:spPr>
      </p:pic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E6AB-9AEB-491B-B63C-5A8FCFEEF4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0" name="Rounded Rectangle 6"/>
          <p:cNvSpPr/>
          <p:nvPr/>
        </p:nvSpPr>
        <p:spPr>
          <a:xfrm>
            <a:off x="6443640" y="2924280"/>
            <a:ext cx="1152720" cy="23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2376360"/>
              <a:gd name="textAreaBottom" fmla="*/ 2320200 h 2376360"/>
            </a:gdLst>
            <a:ahLst/>
            <a:rect l="textAreaLeft" t="textAreaTop" r="textAreaRight" b="textAreaBottom"/>
            <a:pathLst>
              <a:path w="21600" h="44522">
                <a:moveTo>
                  <a:pt x="3600" y="0"/>
                </a:moveTo>
                <a:arcTo wR="3600" hR="3600" stAng="16200000" swAng="-5400000"/>
                <a:lnTo>
                  <a:pt x="0" y="40922"/>
                </a:lnTo>
                <a:arcTo wR="3600" hR="3600" stAng="10800000" swAng="-5400000"/>
                <a:lnTo>
                  <a:pt x="18000" y="445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5651640" y="2781360"/>
            <a:ext cx="266544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ransport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Governance and rule of law Youth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Information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Territorial cooper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ivil society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ulture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9ed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7575d1"/>
                </a:solidFill>
                <a:latin typeface="Verdana"/>
              </a:rPr>
              <a:t>Communication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5086440" y="1628640"/>
            <a:ext cx="381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Verdana"/>
                <a:ea typeface="Arial"/>
              </a:rPr>
              <a:t>Other EaP Programmes</a:t>
            </a:r>
            <a:r>
              <a:rPr b="1" lang="en-GB" sz="2800" spc="-1" strike="noStrike">
                <a:solidFill>
                  <a:srgbClr val="7575d1"/>
                </a:solidFill>
                <a:latin typeface="Verdana"/>
                <a:ea typeface="Arial"/>
              </a:rPr>
              <a:t>: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marL="35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SANTUCCIONE Lucia (DEVCO)</cp:lastModifiedBy>
  <cp:lastPrinted>2015-02-11T15:25:35Z</cp:lastPrinted>
  <dcterms:modified xsi:type="dcterms:W3CDTF">2015-10-14T10:49:06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1ACF183991F324A8C5B7AC362704265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