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7282-11B7-40F5-86C6-DF71E41FA3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590B4-2B61-48F2-9673-336F70F6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72966-E52D-4271-A7DC-000AC674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D6FD5-3889-4176-8A51-A1EF1F6801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E7A46-C6EA-4B63-862E-DED5431B35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AF498-5135-4597-BAAB-F4A42540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FF8B2-F6AB-4B1C-AB2D-95016462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9080C-2592-4F94-8EF5-727D9D41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EF9AC-56C6-4EF3-82F3-9178F548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CDFA8-1DC2-42D9-88C4-884A45A1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16017-2B34-4B98-B1F1-58052D69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BE912-7B46-4962-8197-2DC9A0D7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A3D11-9DF5-4C0A-A391-EADC99E6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3CB29-CC7E-4432-9894-4C96900F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CEC6A-E083-4FBC-90D5-250BF108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20A26-25FD-4F43-BDBC-59F348CA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DA778-3B75-422B-B01C-8D28E6024A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0254-C291-46AC-ACE0-4E9545903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2837-2A47-4926-BF76-A6BFD39B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FD2D-24E1-4ADD-AC94-153E582F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3024-8243-452C-AD97-5AB096E5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6D5E-D131-45D2-85DB-6F758B23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58CE-D81C-4779-BF43-E7529778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5A2F-3BEF-43F6-8442-9123E11B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01E5-ECB4-400F-997E-5BD8A86A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232B-0656-465E-86C7-9A8315B5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E997-4AF2-41A6-8CE9-DE405202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CAB6-790A-4029-8242-2E638A04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342B-33C0-4CF9-A1FB-0357E1F9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C4F1-3CA1-46E9-9EB2-15F61CB3A0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BBB23-FCF8-4607-BB8E-6A9DF9DEE7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F1A0C-607F-4C14-8FEB-47537D43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BCEEB-6ADB-4450-8D3B-8326DC34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579C0-0901-444B-A907-2D574D87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BB5F5-22D1-440A-8EDC-DFE068CF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2CCD2-98C1-481E-971D-2E2589A6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745E6-4001-4BB3-8277-CE9C0673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7DAB8-5343-4998-8178-C61C4F78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D3730-AA67-4D7D-9886-BCB4A38C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89D93-5B62-4F4C-BBAB-78836B57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6153A-F5CB-435A-93C9-E432675B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33B6B-F4C6-45B8-93EB-2944B3E3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24668-5983-4C0A-A45E-E4EB791A6C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D6D3-4319-4FCE-938E-E32D6FDE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83B7E-4D9F-40D2-948F-0375C68F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DE9D8-D5CE-4F0B-81F4-94E6F936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21A7-DB3B-4902-9044-71EF5661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A634-C0FF-4A1B-A5E3-59144AD2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FA61-CC33-411F-8C13-C49E405FBA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893E-AF34-41AE-9AD1-1975B21DB3D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02A5-947B-401E-A3BD-7C89BE7F47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A585-B7A9-4DA8-A514-81F4B80F16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16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2017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289D-A804-40F6-95FF-D21F994444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8CCC-85D4-4859-9CE1-B29B278589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16760" y="3645000"/>
            <a:ext cx="23130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F088-0443-4DA1-A537-4383E7FC6C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E208-F0AF-473E-B50B-924D419912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1B5F-08B8-4B02-9044-AA7885C040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FF86-EE19-47BA-BF1D-7ECDDA4036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752D-45F5-4D08-81F4-BB674BCEAE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CAD2-28BD-4201-A707-15596350D5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8CEC-1435-4A89-91CE-A3F0500F52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4167-B9AE-4CAE-954F-94A1055778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9166-3E33-4DC8-B25D-133F9BE19B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7937-B253-4A8C-A800-0240365D44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746A-E624-433E-90E6-DBE3B7B016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E2B0-BCDF-43BD-A18B-90AA750CD0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C6DF-56E0-4E56-9EF0-724009F386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5FCC-2871-4A1C-A9FE-AD8C0225E5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07F6-0E68-4273-98A6-DA3F532F97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AEB1-2AA6-41B3-8DEA-BE0094B0EB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529A-74A5-401F-B262-CB4919BC51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D3C3-021B-4F13-9279-DDE358A556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8F23-CE08-4AA9-AB17-ECC9253548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76C5-48D0-4D10-8EF1-03C76D92B8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28EF-9838-4A61-ACA1-39E8906A9F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AB40-E4F8-425C-BC65-EB39ACCE29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B847-1C2A-40DB-9472-7052136D8B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D6BE-3A9C-4824-9483-BDE0827808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0B16-1E6A-4AED-9A37-D34CB9CC83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A23E-E0B1-4BD7-A1CF-DFAE0E82C0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FB06-C03C-48B2-B983-063880A341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EB45-1B7E-4618-90B6-3BC5294623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3C99-5086-4E09-8720-C26D9E5963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186D-4565-414E-9733-4BAF3C8028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93AF-9263-489C-823E-7774DBD45C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6542-413E-4130-8E07-F74069FA2C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720"/>
            <a:ext cx="215640" cy="165240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36360" y="6018120"/>
            <a:ext cx="208620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378400" y="51577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515960" y="5126040"/>
            <a:ext cx="1560600" cy="91692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Update 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Situ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635280" y="5248440"/>
            <a:ext cx="159408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Late feedback from the BC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ED67-40DB-400C-BCF7-8279EEEF9F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84D0-69C3-44F8-ACB4-AFC40B6374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964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A68C-60E2-48DB-B2F4-661FE68B5B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583160" cy="23036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EBEF-963D-4356-9D4B-F8EAC0C304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6278-98CA-4912-A358-20856BE7CB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E47B-3BE0-4A1C-9B3D-4B0D02B5C5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0072-F951-460A-AEA0-890E86CB45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0DF4-EAE7-413A-8FC7-41315FCD5E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PAN Rudolf (SANCO)</cp:lastModifiedBy>
  <cp:lastPrinted>2012-07-17T17:07:43Z</cp:lastPrinted>
  <dcterms:modified xsi:type="dcterms:W3CDTF">2017-05-12T15:37:52Z</dcterms:modified>
  <cp:revision>311</cp:revision>
  <dc:subject/>
  <dc:title>PowerPoint Presentation</dc:title>
</cp:coreProperties>
</file>