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126B3-4946-45C2-8580-F8BF476BA1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5C97D-65DF-4898-98BD-8B19FBE2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5ED2F-A655-47B7-A7F4-AE47BAEC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C6693-A44E-42E1-939C-E90CC5F5D7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D5F2A-F4DA-420D-B8C7-D06E1B5311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79399-2842-4214-A79F-8B66B2AE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27F2F-2ECC-4D78-A40A-E6DD3700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27AF4-8957-4834-BF03-B688D432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7DCB8-8039-4A7A-939F-A9C66975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CAFAC-C4B7-454B-B7F8-177080C97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9B0FA-18D2-4531-8C05-D05849E0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8F33F-5F23-47CB-86C0-BF7D2246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1D3B7-722E-4B49-8E7B-E541AA20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FB572-1012-453B-B461-E11CB59C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82DE7-8B8B-4CA3-BBF2-AE64BAFB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2FD0E-623B-4484-B6BF-08A07A14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47B9E-EB25-4F75-9C54-E48B76C324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3AA0-E70F-4CB6-8F0B-9CA6691BEB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7472-6EAE-49A0-8CAF-FF462F13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9B0C-B8F0-47BE-BB3C-5236B3AC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3D4A-2518-41EA-8609-23E981ED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6538-BB08-4335-B782-236451D0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16D1D-1B93-4678-9916-ECF11085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A187-799E-4C17-BA20-809F104C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D20E-A187-4C1C-BCB3-EF4EB00C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F244-CB49-4636-ACA8-840DA3C9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E154-26E0-448E-A6B6-AE453DDF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FCCD-57B4-48EC-A485-F55C2A00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B8FC-1486-4892-882C-D2BDABA2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2E1E-F8FA-47B8-AACA-A215951ECC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FCEB5-A3BB-4B62-9227-FE0EAF93F0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5110AC-7BFC-47DE-BD13-F89B4FC7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703928-2554-4327-8A84-2473B9F6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17810-0F97-423A-9C42-E21850D0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C83C9F-E1A1-4D03-B15C-83E7E37F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C2611-5D9A-4D44-A34C-ABD866C0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07E038-4EEB-45A4-B08A-E6AAA480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14BAB0-482C-4A8B-834B-8BD03A07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C29930-6C5D-47CF-8F9E-E0973180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F0C2CD-EE14-43E2-84D5-5F5FAB71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55D1B9-E7E5-4A72-8053-998F6129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7D1D06-6F9B-4C82-BFC4-7CB41F7E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C9F43-4D4C-48E8-A25D-B608C11DBC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9343B-BD1F-4E71-8CFA-AF51D859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89B52-0A4B-4EB0-94CD-540D4222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2F0CB-459B-4A30-B599-0C40F2F4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F6EF4-AD4A-4944-90FB-99F2ED5D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18E43-EA31-43F5-9498-418D3069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C934-0E39-4B9D-A03D-9832A029B7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1" name="Picture 2" descr="C:\DOCUME~1\lenain\LOCALS~1\Temp\7zEBB7.tmp\LOGO-CE for Sanco EN Positive.png"/>
          <p:cNvPicPr/>
          <p:nvPr/>
        </p:nvPicPr>
        <p:blipFill>
          <a:blip r:embed="rId2"/>
          <a:stretch/>
        </p:blipFill>
        <p:spPr>
          <a:xfrm>
            <a:off x="3649680" y="324000"/>
            <a:ext cx="181296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1FC3-3A09-4E59-BC65-317FDA5EF00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-27000"/>
            <a:ext cx="9144000" cy="113040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3" name="Picture 3" descr="C:\DOCUME~1\lenain\LOCALS~1\Temp\7zED59.tmp\LOGO-CE for Sanco EN Negative.png"/>
          <p:cNvPicPr/>
          <p:nvPr/>
        </p:nvPicPr>
        <p:blipFill>
          <a:blip r:embed="rId2"/>
          <a:stretch/>
        </p:blipFill>
        <p:spPr>
          <a:xfrm>
            <a:off x="3656160" y="324000"/>
            <a:ext cx="1814400" cy="1396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EF57-9CC4-4921-ABD6-C23088653F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~1\lenain\LOCALS~1\Temp\7zEB8.tmp\LOGO-CE for Sanco EN Landscape Positive.png"/>
          <p:cNvPicPr/>
          <p:nvPr/>
        </p:nvPicPr>
        <p:blipFill>
          <a:blip r:embed="rId2"/>
          <a:stretch/>
        </p:blipFill>
        <p:spPr>
          <a:xfrm>
            <a:off x="6576840" y="5940360"/>
            <a:ext cx="2243160" cy="596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3DDC-71A3-4E0C-BF87-E3BD2D8196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63280" y="1268280"/>
            <a:ext cx="727236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Feedback by a former </a:t>
            </a:r>
            <a:br>
              <a:rPr sz="3600"/>
            </a:b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Resident Twinning Adviser </a:t>
            </a:r>
            <a:endParaRPr b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280" y="4076280"/>
            <a:ext cx="8278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and recommendations </a:t>
            </a:r>
            <a:endParaRPr b="0" i="1" lang="en-US" sz="32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russels, 16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y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2017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udolf SP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commodation - Hotel =&gt; apartment for r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own Embass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ar reg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ealth insura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octo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AF39-4566-44A5-8405-5778F58190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neficiary institu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erarchy and counterparts in the beneficiary institution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relevant institutions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National experts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e and Contracts Uni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18F8-8788-43D7-A47B-386DEA07EB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6116760" y="3645000"/>
            <a:ext cx="231300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ssista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terpretation vs. tran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arly selec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lection procedure for 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dvertisement in public media, on the website of the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   EU-Delegation and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F822-F849-4FC7-98A9-5FB12ECD43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421632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careful with recommenda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hoice of the RTA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an involve the EU-Delegation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BC – no need to be in the panel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4FCA-DDEC-4B89-9ACF-E495494BB6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stribution of tasks between assistants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operative behavior is important - no competition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ttendance at missions outside of the capital c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A7FC-632E-4BDB-A441-D251575584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360" y="2565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be well organised - start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The first highly official appearance of the RT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gh level guests - Invit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ssential for technical presentations and discu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crucial opportunity for 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take place as soon as possible but not to e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lready something concrete to pres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6092-8A92-4961-9657-18D81DA4F0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team (MS, BC, office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verview about the launching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work plan + implement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 materi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ebsite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s release / press-confer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F9DF-275D-4E7B-A75A-2712061E12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new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The country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History, cultur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Gouvernemen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Political parties – Parliamen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Justi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conomy, Trad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anguag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ehaviour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Media etc.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69B2-F0B6-41B3-9254-917A1AEDDD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235320" cy="2152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26352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nternational contex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International relations of the beneficiary country (BC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ropean Union (Accession negotiations, benchmarks, progress reports, IPA program, Association agreements, country strategies, support programs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 Member States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Your country of origin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Neighbours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675F-8143-4BC3-B809-91AAD01875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952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professional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U projects (previous, current, future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ther projects (bilateral cooperations, World Bank, etc.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TAIEX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sident exper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Stakeholders – international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      and nation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ABF0-89DC-47D1-8D3E-F77651F8FA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032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My Twinning-experience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4000" y="34718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5 - 2007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- Romani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7 - 2009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0 – 2011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1  - 2012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– Kosov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2D98-1476-4439-AAB1-EA2B816B92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437080" y="1125360"/>
            <a:ext cx="370692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The institution to be supported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3213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Get familiar with the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Organisational char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udget, infrastructur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gional office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ocal authorit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petenc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operation with other institution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7FAB-67DD-4AB9-9C53-4B54C79ABA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9718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234792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ho is who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Behaviour, hab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orking hou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Public holi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Communic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8283-C97C-40B9-8C89-8168C5D2A7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908600" y="3284640"/>
            <a:ext cx="20923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urrent situation?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7524720" y="1197000"/>
            <a:ext cx="1322280" cy="172728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D143-F3BF-4078-9636-7E4C0AE13C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81000" y="2351160"/>
            <a:ext cx="88120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f5494"/>
                </a:solidFill>
                <a:uFillTx/>
                <a:latin typeface="Arial"/>
              </a:rPr>
              <a:t>'Current</a:t>
            </a:r>
            <a:r>
              <a:rPr b="1" lang="de-DE" sz="2200" spc="-1" strike="noStrike" u="sng">
                <a:solidFill>
                  <a:srgbClr val="0f5494"/>
                </a:solidFill>
                <a:uFillTx/>
                <a:latin typeface="Arial"/>
              </a:rPr>
              <a:t> Situation Report'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Situation probably changed since the twinning-fiche was drafted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You need more details and additional special data,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Contact the leadership of the relevant institutions, units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and stakeholders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Work together with the leaders of the Working Groups.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Repor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86B9-2C15-41F9-88F9-ACA56AA584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63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As specified in the Twinning contract!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600" spc="-1" strike="noStrike">
                <a:solidFill>
                  <a:srgbClr val="0f5494"/>
                </a:solidFill>
                <a:latin typeface="Arial"/>
              </a:rPr>
              <a:t>RTA Office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Current Situation Report /Inception Report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(can be part of the first Quarterly report)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Quarterly Reports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Final Report 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Short-term experts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Mission Report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4716360" y="4581360"/>
            <a:ext cx="3008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ement meetings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teering committee meeting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1608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C project leader, RTA counterpar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rectors, Head of Unit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U-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ial and Contracting Unit (CFCU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(PAO)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gularly, discussing the progress - activity pl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owever, try to solve the problems before the meeting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4B13-9177-4781-AC47-3A4F99F424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6681960" y="1844640"/>
            <a:ext cx="1866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What do the EU Delegations do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 key role in presenting, explaining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 implementing EU’s foreign polic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nalyse and report on the policies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developments of their host countr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conduct negotiations in accordance with given mandates.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How do the Delegations operate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Maintaining political dialogue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dministering development aid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supervision of EU trade issues and building cultural contacts.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488E-8901-4B4C-B16E-BA1278CD4C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6012000" y="1206360"/>
            <a:ext cx="28620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 – support and monitoring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lose cooperation with the EU-Delegation is essential and of course beneficial for you as RTA and for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General support in the implem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upport in the collaboration with the BC-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articipation of the EU-Delegation at all important events   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Kick-off, Steering Committee meetings, Final meeting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BBC1-227D-4D95-B8D2-168C5282DB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7417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mplementing a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orking group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working group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for each compon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official as leader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rul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tivity pla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regular meeting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AA3D-492C-452F-BCEF-C6B62F5744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4411800" y="2565360"/>
            <a:ext cx="4268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ctivity pla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llow up of the benchmar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ear time schedu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what needs to be done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om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e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alenda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xpert mi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tudy vis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A793-1E2E-4CC2-AD75-B4DF07B5EC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4381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dditional useful documentation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nutes of the meeting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sults of discuss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commendations mad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formal or formal charact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o be circulated to the beneficiaries – transparency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inder for yourself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1DB0-E0A2-4D86-830B-C837BC0AE9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f5494"/>
                </a:solidFill>
                <a:latin typeface="Arial"/>
              </a:rPr>
              <a:t>  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Let‘s start our excursion!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What comes next?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692360" y="2481120"/>
            <a:ext cx="5616360" cy="411660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4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AB90-1235-4DD8-9576-546DB10AB0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hort Time Experts (STEs)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2349360"/>
            <a:ext cx="835344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be the bridge and the catalytic agent between the STEs and the national experts/working group members etc. (be proactive!)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put, briefing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verview and detai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derstanding the contex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bsorption capacity of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no need to separate the experts by M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ntinuity makes sense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1DB6-1E8E-4E93-B059-86C4FEFDB5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5651640" y="3500280"/>
            <a:ext cx="2357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TE-missio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9640" y="227664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terms of reference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, objectives and agenda of the missions in due time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on’t waste 'expert days'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llow the beneficiaries to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evaluate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e experts – feedback is added value!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mission reports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f the experts have to be done in due tim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E27B-7189-4DEA-8942-F34E0943E7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5925960" y="2276640"/>
            <a:ext cx="29829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 based Intranet / share poi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eveloped with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cluded on the website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cess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-   Managemen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xperts MS and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orking Group membe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2720-CF7D-4459-818A-8FA8B2E522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Share point - Intrane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D1FF-4E49-4781-8A04-BCF154DCFB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32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ebsite – open for the publi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formation for the stakeholders and for the citizens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t takes time but it is essential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dded value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after finalization 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f the project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676F-5D24-4344-ACF0-7424521381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0D42-E9F8-4995-9EC7-03F6A9E74E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3772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Visibility – start without delay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EAEB-726A-46E5-8388-92845665EE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3822840" y="3386160"/>
            <a:ext cx="2441520" cy="2654280"/>
          </a:xfrm>
          <a:prstGeom prst="rect">
            <a:avLst/>
          </a:prstGeom>
          <a:ln w="9360">
            <a:solidFill>
              <a:srgbClr val="bbe0e3">
                <a:alpha val="99000"/>
              </a:srgbClr>
            </a:solidFill>
            <a:miter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6659640" y="2276640"/>
            <a:ext cx="1977840" cy="37638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6"/>
          <p:cNvSpPr/>
          <p:nvPr/>
        </p:nvSpPr>
        <p:spPr>
          <a:xfrm>
            <a:off x="365040" y="2565360"/>
            <a:ext cx="34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lyer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Brochure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Roll-up banner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eful gifts: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B-Stick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Pencil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etc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During implementation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upport the needs of the BC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cope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nchmarks - Output orien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elp the partners to contribut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provide additional inpu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realistic with your expec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ain optimistic and motivated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alternatives for the emergency case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5805-5F6D-4687-8A02-BE3080BCDA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5508720" y="2565360"/>
            <a:ext cx="35686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hallenge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olitical instability - Continuity in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bsorption capacity – prioritis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orking stiles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You need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patience, enthusiasm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intercultural skills,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target-oriented work, not forget the goals!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E4C0-2DE6-41BE-97CC-4F25116D5F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nalisation of the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meeting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cus on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commend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llow up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2EE5-8072-46B1-A4F3-27AB448682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3539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The Resident Twinning </a:t>
            </a: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Advisor</a:t>
            </a: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 (RTA)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Environment of the RTA 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Implementation of the project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Conclusions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945A-1B1E-4486-90EA-D1BF1590BB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ime tabl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39040" y="61578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5CC2-EA12-40EC-A6A0-F37874D6C6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0" name="Straight Connector 5"/>
          <p:cNvSpPr/>
          <p:nvPr/>
        </p:nvSpPr>
        <p:spPr>
          <a:xfrm>
            <a:off x="1042920" y="4076640"/>
            <a:ext cx="540072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1" name="Straight Connector 7"/>
          <p:cNvSpPr/>
          <p:nvPr/>
        </p:nvSpPr>
        <p:spPr>
          <a:xfrm flipV="1">
            <a:off x="1476360" y="4149360"/>
            <a:ext cx="489600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2" name="Straight Connector 9"/>
          <p:cNvSpPr/>
          <p:nvPr/>
        </p:nvSpPr>
        <p:spPr>
          <a:xfrm>
            <a:off x="1079640" y="4365720"/>
            <a:ext cx="6516720" cy="0"/>
          </a:xfrm>
          <a:prstGeom prst="line">
            <a:avLst/>
          </a:prstGeom>
          <a:ln w="69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3" name="Down Arrow 10"/>
          <p:cNvSpPr/>
          <p:nvPr/>
        </p:nvSpPr>
        <p:spPr>
          <a:xfrm>
            <a:off x="1079640" y="2968560"/>
            <a:ext cx="215640" cy="1324080"/>
          </a:xfrm>
          <a:prstGeom prst="downArrow">
            <a:avLst>
              <a:gd name="adj1" fmla="val 50000"/>
              <a:gd name="adj2" fmla="val 50060"/>
            </a:avLst>
          </a:prstGeom>
          <a:solidFill>
            <a:srgbClr val="afc551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4" name="Down Arrow 12"/>
          <p:cNvSpPr/>
          <p:nvPr/>
        </p:nvSpPr>
        <p:spPr>
          <a:xfrm rot="10800000">
            <a:off x="1199880" y="4365720"/>
            <a:ext cx="215640" cy="165240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00b0f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5" name="Down Arrow 13"/>
          <p:cNvSpPr/>
          <p:nvPr/>
        </p:nvSpPr>
        <p:spPr>
          <a:xfrm>
            <a:off x="8317080" y="3641760"/>
            <a:ext cx="215640" cy="64764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92d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6" name="Down Arrow 14"/>
          <p:cNvSpPr/>
          <p:nvPr/>
        </p:nvSpPr>
        <p:spPr>
          <a:xfrm>
            <a:off x="6012000" y="3530520"/>
            <a:ext cx="215640" cy="777960"/>
          </a:xfrm>
          <a:prstGeom prst="downArrow">
            <a:avLst>
              <a:gd name="adj1" fmla="val 50000"/>
              <a:gd name="adj2" fmla="val 5007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7" name="Down Arrow 15"/>
          <p:cNvSpPr/>
          <p:nvPr/>
        </p:nvSpPr>
        <p:spPr>
          <a:xfrm>
            <a:off x="4643280" y="3625920"/>
            <a:ext cx="216000" cy="69696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8" name="Down Arrow 18"/>
          <p:cNvSpPr/>
          <p:nvPr/>
        </p:nvSpPr>
        <p:spPr>
          <a:xfrm>
            <a:off x="1631880" y="367344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9" name="Down Arrow 19"/>
          <p:cNvSpPr/>
          <p:nvPr/>
        </p:nvSpPr>
        <p:spPr>
          <a:xfrm>
            <a:off x="3276720" y="3530520"/>
            <a:ext cx="215640" cy="8002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0" name="Down Arrow 20"/>
          <p:cNvSpPr/>
          <p:nvPr/>
        </p:nvSpPr>
        <p:spPr>
          <a:xfrm>
            <a:off x="1938240" y="3530520"/>
            <a:ext cx="141480" cy="777960"/>
          </a:xfrm>
          <a:prstGeom prst="downArrow">
            <a:avLst>
              <a:gd name="adj1" fmla="val 79981"/>
              <a:gd name="adj2" fmla="val 49947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1" name="Down Arrow 23"/>
          <p:cNvSpPr/>
          <p:nvPr/>
        </p:nvSpPr>
        <p:spPr>
          <a:xfrm>
            <a:off x="7885080" y="365112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Down Arrow 24"/>
          <p:cNvSpPr/>
          <p:nvPr/>
        </p:nvSpPr>
        <p:spPr>
          <a:xfrm>
            <a:off x="7467480" y="3530520"/>
            <a:ext cx="216000" cy="75744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3" name="Down Arrow 25"/>
          <p:cNvSpPr/>
          <p:nvPr/>
        </p:nvSpPr>
        <p:spPr>
          <a:xfrm>
            <a:off x="7020000" y="3637080"/>
            <a:ext cx="216000" cy="6490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4" name="TextBox 26"/>
          <p:cNvSpPr/>
          <p:nvPr/>
        </p:nvSpPr>
        <p:spPr>
          <a:xfrm>
            <a:off x="142920" y="2538360"/>
            <a:ext cx="2665440" cy="42912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Arrival RTA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5" name="TextBox 28"/>
          <p:cNvSpPr/>
          <p:nvPr/>
        </p:nvSpPr>
        <p:spPr>
          <a:xfrm>
            <a:off x="36360" y="6018120"/>
            <a:ext cx="2086200" cy="764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Assistant Interpreter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6" name="Down Arrow 30"/>
          <p:cNvSpPr/>
          <p:nvPr/>
        </p:nvSpPr>
        <p:spPr>
          <a:xfrm rot="10800000">
            <a:off x="1471680" y="4365720"/>
            <a:ext cx="216000" cy="8827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d624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7" name="Down Arrow 31"/>
          <p:cNvSpPr/>
          <p:nvPr/>
        </p:nvSpPr>
        <p:spPr>
          <a:xfrm rot="10800000">
            <a:off x="1752480" y="440820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8" name="TextBox 33"/>
          <p:cNvSpPr/>
          <p:nvPr/>
        </p:nvSpPr>
        <p:spPr>
          <a:xfrm>
            <a:off x="5378400" y="5157720"/>
            <a:ext cx="1203480" cy="764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Verdana"/>
              </a:rPr>
              <a:t>Study visit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9" name="TextBox 34"/>
          <p:cNvSpPr/>
          <p:nvPr/>
        </p:nvSpPr>
        <p:spPr>
          <a:xfrm>
            <a:off x="1515960" y="5126040"/>
            <a:ext cx="1560600" cy="916920"/>
          </a:xfrm>
          <a:prstGeom prst="rect">
            <a:avLst/>
          </a:prstGeom>
          <a:solidFill>
            <a:srgbClr val="ffd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Update </a:t>
            </a:r>
            <a:r>
              <a:rPr b="1" i="1" lang="en-GB" sz="1800" spc="-1" strike="noStrike">
                <a:solidFill>
                  <a:srgbClr val="0f5494"/>
                </a:solidFill>
                <a:latin typeface="Verdana"/>
              </a:rPr>
              <a:t>Current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f5494"/>
                </a:solidFill>
                <a:latin typeface="Verdana"/>
              </a:rPr>
              <a:t>Situ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0" name="TextBox 35"/>
          <p:cNvSpPr/>
          <p:nvPr/>
        </p:nvSpPr>
        <p:spPr>
          <a:xfrm>
            <a:off x="1515960" y="3100320"/>
            <a:ext cx="1560600" cy="429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Kick-off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1" name="TextBox 36"/>
          <p:cNvSpPr/>
          <p:nvPr/>
        </p:nvSpPr>
        <p:spPr>
          <a:xfrm>
            <a:off x="3635280" y="5248440"/>
            <a:ext cx="1594080" cy="764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STE-Mission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2" name="TextBox 38"/>
          <p:cNvSpPr/>
          <p:nvPr/>
        </p:nvSpPr>
        <p:spPr>
          <a:xfrm>
            <a:off x="3311640" y="2517840"/>
            <a:ext cx="2203200" cy="1099440"/>
          </a:xfrm>
          <a:prstGeom prst="rect">
            <a:avLst/>
          </a:prstGeom>
          <a:solidFill>
            <a:srgbClr val="38d4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C-Meeting</a:t>
            </a:r>
            <a:br>
              <a:rPr sz="22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+ Quarterly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Reports!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3" name="Down Arrow 40"/>
          <p:cNvSpPr/>
          <p:nvPr/>
        </p:nvSpPr>
        <p:spPr>
          <a:xfrm rot="10800000">
            <a:off x="3886200" y="4431960"/>
            <a:ext cx="216000" cy="8161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4" name="Down Arrow 41"/>
          <p:cNvSpPr/>
          <p:nvPr/>
        </p:nvSpPr>
        <p:spPr>
          <a:xfrm rot="10800000">
            <a:off x="6156360" y="438912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5" name="Down Arrow 43"/>
          <p:cNvSpPr/>
          <p:nvPr/>
        </p:nvSpPr>
        <p:spPr>
          <a:xfrm rot="10800000">
            <a:off x="6379920" y="4414680"/>
            <a:ext cx="215640" cy="648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6" name="Down Arrow 45"/>
          <p:cNvSpPr/>
          <p:nvPr/>
        </p:nvSpPr>
        <p:spPr>
          <a:xfrm rot="10800000">
            <a:off x="4413240" y="440820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Down Arrow 46"/>
          <p:cNvSpPr/>
          <p:nvPr/>
        </p:nvSpPr>
        <p:spPr>
          <a:xfrm rot="10800000">
            <a:off x="55641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Down Arrow 47"/>
          <p:cNvSpPr/>
          <p:nvPr/>
        </p:nvSpPr>
        <p:spPr>
          <a:xfrm rot="10800000">
            <a:off x="4983120" y="4421160"/>
            <a:ext cx="216000" cy="8272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9" name="TextBox 49"/>
          <p:cNvSpPr/>
          <p:nvPr/>
        </p:nvSpPr>
        <p:spPr>
          <a:xfrm>
            <a:off x="7020000" y="2762280"/>
            <a:ext cx="15127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Final meeting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0" name="TextBox 50"/>
          <p:cNvSpPr/>
          <p:nvPr/>
        </p:nvSpPr>
        <p:spPr>
          <a:xfrm>
            <a:off x="7683480" y="4365720"/>
            <a:ext cx="12096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Final report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1" name="TextBox 51"/>
          <p:cNvSpPr/>
          <p:nvPr/>
        </p:nvSpPr>
        <p:spPr>
          <a:xfrm>
            <a:off x="6707160" y="5419800"/>
            <a:ext cx="244800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Late feedback from the BC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2" name="Down Arrow 60"/>
          <p:cNvSpPr/>
          <p:nvPr/>
        </p:nvSpPr>
        <p:spPr>
          <a:xfrm rot="10800000">
            <a:off x="27003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3" name="Down Arrow 62"/>
          <p:cNvSpPr/>
          <p:nvPr/>
        </p:nvSpPr>
        <p:spPr>
          <a:xfrm rot="10800000">
            <a:off x="2435040" y="4414320"/>
            <a:ext cx="215640" cy="606600"/>
          </a:xfrm>
          <a:prstGeom prst="downArrow">
            <a:avLst>
              <a:gd name="adj1" fmla="val 50000"/>
              <a:gd name="adj2" fmla="val 50074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4" name="Down Arrow 64"/>
          <p:cNvSpPr/>
          <p:nvPr/>
        </p:nvSpPr>
        <p:spPr>
          <a:xfrm rot="10800000">
            <a:off x="5780160" y="439884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5" name="Down Arrow 65"/>
          <p:cNvSpPr/>
          <p:nvPr/>
        </p:nvSpPr>
        <p:spPr>
          <a:xfrm rot="10800000">
            <a:off x="668340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6" name="Down Arrow 48"/>
          <p:cNvSpPr/>
          <p:nvPr/>
        </p:nvSpPr>
        <p:spPr>
          <a:xfrm rot="10800000">
            <a:off x="363528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ollow up </a:t>
            </a:r>
            <a:br>
              <a:rPr sz="3000"/>
            </a:b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360" y="21492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Keep outputs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Networking – Keep in touch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nsure that all contact details are availa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ntinue your support so far as possibl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essons learned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uture cooperatio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79D5-1767-4B4C-A02C-55F9439558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5508720" y="4549680"/>
            <a:ext cx="28209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Added value for the RTA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95280" y="2349360"/>
            <a:ext cx="7345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eaningful activity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peration, collegiality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dditional professional and life experienc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and diplomatic skill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 experien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 familiar with the EU Institution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9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ut: it is </a:t>
            </a:r>
            <a:r>
              <a:rPr b="1" i="1" lang="en-GB" sz="2400" spc="-1" strike="noStrike" u="sng">
                <a:solidFill>
                  <a:srgbClr val="0f5494"/>
                </a:solidFill>
                <a:uFillTx/>
                <a:latin typeface="Arial"/>
              </a:rPr>
              <a:t>hard work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!!!   </a:t>
            </a:r>
            <a:r>
              <a:rPr b="0" lang="en-GB" sz="3600" spc="-1" strike="noStrike">
                <a:solidFill>
                  <a:srgbClr val="0f5494"/>
                </a:solidFill>
                <a:latin typeface="Wingdings"/>
                <a:ea typeface="Wingdings"/>
              </a:rPr>
              <a:t></a:t>
            </a: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lnSpc>
                <a:spcPct val="100000"/>
              </a:lnSpc>
              <a:spcBef>
                <a:spcPts val="901"/>
              </a:spcBef>
              <a:buClr>
                <a:srgbClr val="0f5494"/>
              </a:buClr>
              <a:buSzPct val="12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3D54-F164-41AE-9638-C5300F626F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53964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THANK YOU FOR YOUR ATTENTION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7206-E75E-4B2C-B684-6A40EBA386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4583160" cy="230364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"/>
          <p:cNvSpPr/>
          <p:nvPr/>
        </p:nvSpPr>
        <p:spPr>
          <a:xfrm>
            <a:off x="1042920" y="5229360"/>
            <a:ext cx="6697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GOOD  LUCK  AND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SUCCESS!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Rudolf.Span@ec.europa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Tas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rdination of the implementation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hievement of the mandatory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support for the beneficiary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institution – a real colleagu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AB02-A8C9-4DEF-B2B3-92D25CAF16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2538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Behaviour - Diplomatic skill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your country of origi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the European Union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llaboration on high level: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Ambassadors, Ministers, Secretaries of State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U-Delegation/Representation, EU-Commiss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xecutive board of different stakeholder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.g. associations, NGOs, industry etc.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198D-99A1-42CB-B306-7F2DEA538E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competenc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expertis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Union legi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- structure and functioning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35E4-5FAF-4BD1-AD5C-DC5EDD68E7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019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star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Your expectation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E1F7-BE0B-4D41-8E72-D88942D4F2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3456000" cy="2101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4160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reality?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64EE-C349-47D2-9875-B90BB38DAC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5" name="Content Placeholder 4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592720" cy="384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4913280" y="1778040"/>
            <a:ext cx="376092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European Commission</dc:creator>
  <dc:description/>
  <dc:language>en-US</dc:language>
  <cp:lastModifiedBy>SPAN Rudolf (SANCO)</cp:lastModifiedBy>
  <cp:lastPrinted>2012-07-17T17:07:43Z</cp:lastPrinted>
  <dcterms:modified xsi:type="dcterms:W3CDTF">2017-05-12T15:37:52Z</dcterms:modified>
  <cp:revision>311</cp:revision>
  <dc:subject/>
  <dc:title>PowerPoint Presentation</dc:title>
</cp:coreProperties>
</file>