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D39B-E3DD-48DE-889A-6D40830000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CA07-4993-4BC7-8F46-0A728B3C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9644-44E0-4D38-9A8E-45001FC1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7FF1-221C-465D-BC8E-851B2C6701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4AFED-7882-4DF3-99D5-FA905F454A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5764F-4D5A-4FEA-8319-8EB73FA9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91FB1-2629-4AA2-8A51-7F211855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A6B19-2A24-445F-9277-3354913E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1B710-30C1-498A-BF3D-BA784308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B6E5C-CA3A-4EA6-9395-D4AE4891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E6F1B-C8F2-4C71-9361-9A121C16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CFFA-B080-478F-8E52-E4A3DD84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9AF31-1C08-4D21-936F-951465DC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926E3-A6C1-40A9-B09E-06188EBA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65D35-9C82-4139-9981-24DD33C6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816C0-5F3D-4D59-844A-ABAF6713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E6EAD-E7CF-4740-A977-17D920FFE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CE64-0FC9-45BA-A7BC-B931EDF3B7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2248-71EA-4647-B5AD-02F46E33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B80D-5DFA-4B2E-9EDD-B1F407FB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CFD4-0DAD-4E6F-B80D-E15D2A05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AD1C-EC4C-4266-925C-BC5948CB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7BCB-20F7-4853-B109-1AEE981B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649C-E8B4-4F56-936D-56317D6B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E419-31AF-495C-9581-613C20BF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E7AA-4A3A-4EC0-B3D7-43439C41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F0E4-E53C-4862-8644-3FB663AA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BCE8-4A31-4B36-A138-ACB19C33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B930-9B16-4906-9AF2-61E8D7D3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A248-41BF-4225-84EB-C0302FAEBF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F5186-F73B-4F4C-A28B-433D397D08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D7516-5E52-4C45-A1F7-039B8B71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59540-6EFD-4277-8F9B-7D7DEE58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D85AD-1CF1-47C6-8814-BD4FC265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88F67-BA58-4BED-81B4-2A14D8CF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D6FA8-DF0E-4992-BA79-0F3C47DB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56A9D-579B-4B3E-82B7-079C3B60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FD3A7-05C2-40D6-B127-CABB899A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2FF7B-6A94-44E8-9A01-563BC41E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E9578-63D7-4924-B535-3BAB19CC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50543-9919-4D71-A498-440EAC25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7C3DB-462C-494E-B5EF-02AC283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1A47D-5D09-4472-AE45-B63F0BE22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312D-8160-4468-BA57-A8144FE5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1C8B-749D-4156-9522-A7DD92C7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03B5-0CE1-46CC-8B37-A99D6425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B0CC-6849-4FE3-85FE-9CB3A5F4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FE656-BDED-48CD-B37E-AA5B1E4A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7974-6B29-4B43-B736-8CAF54B458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1DDE-7FEF-4090-9217-ABEAE3D6B69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1EA8-6154-4B66-8A20-F35D41CBC5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51D8-B4DD-42FE-A5E7-844200CE75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16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7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819C-61BD-42A7-9E07-B33DA71B9C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78DE-B90D-44D7-BC7C-7B279AD2E0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1DA2-AF39-498A-B82A-9ED2AA348E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490F-9769-447E-AD2E-4D33C4BB8F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F7A3-FB59-47CE-A918-2105AD8F5E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23C4-B2BB-4456-888E-47BB435857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8839-797A-4E03-92DC-818B6717B0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E838-A730-4571-A73B-A458D71AC2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FAA4-0972-4D08-987E-A1F09CC345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8608-BF4D-410E-A4B8-BE9C113B5D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47B8-3107-42B9-B00A-94FB27D2C9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5D69-7AE4-4FCD-9CFD-F116749DA3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BB4F-2034-40FF-AFC5-04E12EDD81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3B3D-E8E3-4969-BE15-61206F2126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A56C-4AB6-4CB9-8380-7112948AF8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D375-A320-49A9-A0C2-9D4B207956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8041-965F-424D-90DC-CC33BEE2B6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16BD-8EBD-4CAF-928F-3450558C6D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70DB-EBD5-480F-91CC-3377F44C0D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B9E1-424B-4436-B605-4FD466A1E7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791D-2662-489E-8415-327C474232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79CB-AC8A-4903-97F8-981CC5EA0D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983B-9715-468F-9EE7-68F1AB6043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81C7-794A-43A7-832B-B9411EDCED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CBA9-C6A0-428F-BD09-37524157D6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E1B9-65E1-48B6-B3E9-97E7E0EE4D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A15B-9746-4857-B735-C15CD1E484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F005-15B3-4F29-9198-05FDD9EF7C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7E16-5DBB-483C-90BE-8F2A55A956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ECBC-A738-4A8A-8EAD-D697772BBE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192A-289A-41C5-97CF-3AD0EA8A3C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8EE6-3CF5-4367-9426-90C15C88EF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ADFB-5166-4BE1-B9F2-327A4F4A4A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0FC4-4891-41A3-B08A-6E8589BAE8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720"/>
            <a:ext cx="215640" cy="16524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6360" y="6018120"/>
            <a:ext cx="208620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378400" y="51577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515960" y="5126040"/>
            <a:ext cx="1560600" cy="91692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pdate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Sit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635280" y="5248440"/>
            <a:ext cx="159408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AA2A-B99C-4D80-86C8-DB46D008D8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0F2B-4965-40E3-B21C-43F73BF138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C7EF-AD33-4439-81E7-C95FC816C0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83160" cy="2303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5910-B9BD-474C-AFF7-78407707DB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B21F-76A0-4CE8-9C35-37C502ED2E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C9EB-A97F-4563-A249-035B545FE0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10C2-A64C-48A7-8FEE-B80D7EC281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0A24-C079-4A9D-A8FB-A08CEA13C8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PAN Rudolf (SANCO)</cp:lastModifiedBy>
  <cp:lastPrinted>2012-07-17T17:07:43Z</cp:lastPrinted>
  <dcterms:modified xsi:type="dcterms:W3CDTF">2017-05-12T15:37:52Z</dcterms:modified>
  <cp:revision>311</cp:revision>
  <dc:subject/>
  <dc:title>PowerPoint Presentation</dc:title>
</cp:coreProperties>
</file>