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8FED-2A53-498B-8554-BC4D880E41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AB3F-3CFA-4864-BAC3-E2E9F55D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94B7-5C25-43E9-B75C-124F3B82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50CC-9935-4271-BC73-BDCD028D70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C172D-5967-4C25-B0B2-79E7A528F8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62804-27FD-45C1-A3AB-B273B5E6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00802-AF14-4B5A-9276-CF41B33E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2B2CE-C54C-4359-8AD3-4F35C1B6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B1D3B-D29C-406B-B11E-1A2B8A7F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390FA-EDD3-4B13-96FA-FE354D0F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812D7-FFA5-4392-B1C6-50E72277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12C6-F00E-4721-9A91-4D9D0464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CAEBF-010B-46F0-A04E-7BC9111A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25840-CCD9-4CAD-A2E3-6D130E1E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A5C51-81D2-4ABE-BB9D-84638F90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06228-32B2-4C22-A8E5-B17855C4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0B4B7-AF77-42EA-AC0A-AA56AF0790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8FE5-35F0-4FCE-A8B6-84635F5E7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8E07-1C05-48C1-AB75-CDC75F3F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EC41-53F7-4130-B9C8-6A8E982A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AA9A-1C28-4F0E-8CFF-F92EE9EA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0F2C-818F-4B1B-A242-392BF123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FA09-5DE9-4CD5-829E-5F79CD48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D843-F7D8-4EE5-852E-17A71B40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4A2F-7E4F-4192-A496-E365B3FF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5B28-2C5A-444D-984F-553A7146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E058-2D4E-4EE7-A0DC-EA373C74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9132-4E21-4739-B634-100CD83B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8D4A-E7EB-4CEA-8B7C-6BA8CAF7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A75B-ED9A-4B65-8935-48EDA2D3E5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383B0-0D1B-4E05-BDA7-BEC04DCF69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CC4B6-A6B2-44F7-BFEB-566E6429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DA402-366E-4446-BBD9-76994247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A38E-4C0C-43DE-9495-7D4F57AC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5692D-ADAC-458D-B61F-740BCC89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54C00-57E9-444D-BDD2-A5DD9070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8269E-CB3C-412E-A0B4-A4B285E1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6D27B-3E4C-4088-8EBE-372F5813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5836F-3BF3-4D79-8CE5-032C4A5C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82B59-3D19-423A-9CA0-BBED769F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ABBC5-3E7A-4CA3-BA5D-795DA523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E7477-1D6F-40C6-92C5-B4C96DF3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1F91A-CEF0-4A62-ADE4-0157CBF14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9BCF-4185-46E4-A19C-CB54B0B4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5902-90D2-4EA7-9ADE-0CA1B375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52F8-0AD4-4F84-9159-E75EC5C3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8D42C-4EA9-4E7D-A884-60D36F0F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26245-5D88-49A2-BD61-B11491F8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2E3D-4400-4EE9-B1EB-4CEB28C456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DDB3-BBFA-4F77-8656-E68F92849C6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E406-6715-4B2F-B987-C56ED92DC4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DCCF-8904-44BB-8F9D-ED7E64DBBB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16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7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023D-828B-45BF-A195-2C9737A7E6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40CC-E34F-4D3E-8B75-A2DBA0ECB7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A064-D08D-4FA1-9B8B-13E1425B68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5831-D0E2-462D-B99C-9F733ED7E2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5014-F304-4EE2-B7C1-A8F79DAF5E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C457-AFC0-4D72-A903-6F515B310B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796F-BCDC-4CE4-8191-1D4FCE8816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3435-2C03-4B43-9B2D-F601401F34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706E-EE94-4EBF-A554-D60118D2AA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D532-4F96-4AEB-84FC-5D06C3C574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3B7F-0EF4-42F4-ABF8-A2302523B7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990E-6C99-4B7A-B147-3D6E21880A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0AAD-FB9E-4BCC-9045-B7F5206B4E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B4A2-7426-48DF-B5AB-FEADD1D317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E61A-1022-4AB2-A055-33F5D9FCFA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63B9-D26F-45EF-B983-69B138B203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C35E-D12E-49D0-9665-4E91D32A02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C7EE-8A96-48BF-89B2-72F9002E66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E886-9F57-49FF-BEAF-46A445140E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87D5-6C94-4296-9629-55EAD11F01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B44E-FCC6-480C-8E2C-953BA406E7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1CE2-9018-4383-8B23-8EAA9BD46B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DA87-EF39-4471-8D4B-FD38AF56BE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9C74-30C8-4C8C-9C18-EA77363AC6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8653-EB9A-43EA-AFED-4DEA8BFB0E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D809-6D25-459E-95BD-FF9085F623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19E5-F704-428C-B0ED-10723D7127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C63C-07F2-4B10-9365-00E549FB67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EB84-4FAE-45BB-9528-FF0E5AD3AA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E211-0218-4D14-8ACD-F7FDFE1264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9616-D5A4-424C-977A-EAB385A8C0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1953-23F9-40B9-8A91-BA9EBB08E2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EA91-4D7E-435C-A6D9-A094FE4295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31F8-2519-4C47-AF8A-79DD400F0E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720"/>
            <a:ext cx="215640" cy="16524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6360" y="6018120"/>
            <a:ext cx="208620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378400" y="51577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515960" y="5126040"/>
            <a:ext cx="1560600" cy="91692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pdate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Sit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635280" y="5248440"/>
            <a:ext cx="159408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1970-A72B-4D3A-8984-D1839354CA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8E63-2629-44A7-9EA6-227EB4DB13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D250-B913-4FC5-B5ED-39EA43BA72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83160" cy="2303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46E7-D528-4AD8-ADB9-0EA4E664A5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2BE9-A537-4A6E-911C-2608A6F4F2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AA4E-8AC5-4538-B818-B131597F56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19A0-08D1-46A7-9D61-F4F5FF92BC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AFBA-10DB-48C5-9445-E8DDB4D5F4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PAN Rudolf (SANCO)</cp:lastModifiedBy>
  <cp:lastPrinted>2012-07-17T17:07:43Z</cp:lastPrinted>
  <dcterms:modified xsi:type="dcterms:W3CDTF">2017-05-12T15:37:52Z</dcterms:modified>
  <cp:revision>311</cp:revision>
  <dc:subject/>
  <dc:title>PowerPoint Presentation</dc:title>
</cp:coreProperties>
</file>