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68393-F150-4FBF-AB83-DF1291DDDF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6BE88-5707-4248-952D-10070325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C5B9F-4C8D-4E8B-8273-CCC45350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F0B8F-B521-4A01-BC2F-2FEB6D3E7A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7BAD6-764A-4179-BD66-6A6BFD25C7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72EAE-CC7F-4907-8766-C85FCA84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1EAF9-2DCD-4F2C-A6AE-C33AEC3D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2700C-6F7A-4CAE-9A5C-C4F7036C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73590-9EA9-497F-8886-20449FC3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C9F87-FE8B-4809-B2E9-79C15E17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EE02E-B1FF-4375-8267-D4FB9D27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6461-6C89-4638-8801-E389FD8E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1885F-0F56-4E3A-8DB3-3131C2E2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39279-5795-44FB-BA4B-AD014D98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03D89-D0A1-4A68-8C1C-BCE2AF9C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AEEB6-7706-4DE0-994A-0E3B31B4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CBAB6-F0BB-4A13-8259-190C6C53ED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375C-7CB8-4990-8208-FB93226CCF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C9B0-74C8-468F-A06B-E47D75C1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D89C-D863-4B7B-BBF9-FD2EABD1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D47E-F416-43E8-A0B6-270B9795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5D8D-F135-4390-9CE8-8A4A9608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C474-9CF5-417D-9DCD-8F5CC92E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A946-BC57-4091-9A46-ECB069EB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5384-168A-49A3-B817-1F00F31A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C66C-0FE5-4C49-97E3-A243581B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9BA3-7853-40BF-9553-6DB3C11A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CEAA-65AB-4E26-B7A4-FDF7E951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FD7E-D83A-43BD-ADF8-5FB9F69C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41DB-2919-4CBD-AE62-A9B300C19F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7047F-64E7-4944-B60A-EB36ECD1AF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0BDB0-5648-4AE9-8209-10271CEC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3CCE5-4DE4-43F6-86B9-621948D6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5F9CD-2A19-4860-B2C4-9B806E7D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7EB89-D541-43B7-8174-E1500889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2D424-A6B7-449E-AFA3-7D05E4B5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2B449-FFCC-497B-9C29-9FACC727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749E9-85FC-4299-961F-179EE364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6104B-15CD-447C-A3FA-7C39FAF7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F0EEB-B021-46EA-9D29-9BF2B0EA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128F9-1944-45BB-8A01-31453F84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1F29A-9EFD-4D0B-823E-0C375CF1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84214-3B20-4D6B-8CB7-E2C1DCAB3D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70CC-8FD0-4090-9AFE-8080C737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34060-1224-4A76-B469-7DD00B87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4A18-DCEB-4498-A284-E18EF3EB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FDC89-5C70-4B58-A6CF-175EECF6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DDF7-28F4-408D-976A-914B85D9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72BB-E38C-4AC6-A9F3-990D5C20B3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C269-1EB8-4C71-B610-F77E1B166B6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2C5D-68E6-409C-B799-8B2298ADA7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015E-BB47-4E55-91CB-0E8B401F11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 December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EA9D-AF7B-4DCE-A3DF-ADB8477599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360" y="19522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(CFCU) / IP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 / ENI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E31D-437D-4852-966B-3A9AC235A7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56360" y="2852640"/>
            <a:ext cx="231300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0260-0329-4547-9779-81DCE55908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2821-AFD1-421C-BF37-70707B2FD7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DBBA-9A8B-4FFF-9D2F-7B48B1E97E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125D-8750-49C8-8F42-BC2FB10AA1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D34E-93BD-40D8-B26A-60EBC796A1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CDA8-B525-4F8C-84F1-AAF04109C8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3CD2-8994-4C6F-A8CA-07C711AF2D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511C-FDAE-41D7-9767-845C20DDF8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3003-3CBE-4F8B-AF24-7B16D42AFD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B7EE-7915-46AE-96DA-7C109C8C2A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02AA-C3F4-45F5-9B88-3C11E3C3DF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0344-3A7B-46A4-BA94-3F6AF8F790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6E65-ED8A-419F-AB6F-F50C9D6353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6B78-9432-4006-B3BC-7226DDB6C6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F477-B416-492E-9F5A-8C66316FBC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5013-549F-45EC-92D7-D2E4408868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E891-C5A5-400C-AB8A-646D70BA60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90CA-D171-4CDC-BA8C-3E6B0F09D5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8414-8B5A-4EA6-BA72-92454DA510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5021-0528-4454-8E2D-F9A44B74E4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5C14-6CAB-457D-9984-D23DF405DC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0320-A624-4161-BCA8-4E790AF2F9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2C31-A758-4422-BC8F-CD3EEE789B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43F1-6926-449A-98D1-6FF4CC0F2D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s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412D-6640-4B7B-BB32-73F88EF419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F352-0D6E-4538-8CC4-BE261251A8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4A7C-AC3C-4C34-A747-F309C344EC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A980-5CEA-4AE8-A38B-DA8BC6D76D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E47B-0AE4-4130-9465-892A33DBB1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730C-83D1-4CBB-84B2-C5632BFAE6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46BD-2E62-4D22-93C1-A86C47C0AD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0387-8111-4B17-87AF-6F9520B5E5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360"/>
            <a:ext cx="215640" cy="157788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81000" y="5921280"/>
            <a:ext cx="208764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479920" y="51325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471680" y="5173560"/>
            <a:ext cx="2359080" cy="76428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ituation rep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886200" y="5248440"/>
            <a:ext cx="159372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109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Twinning Review Mission (TRM)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3FCC-E8FB-4397-94F4-94AC24B0B2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A2B4-65EA-4049-AAAF-003F8A1EB1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5C45-2809-4C3A-8E59-2658F25D1B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8F80-1C54-467E-88DD-F7B800669E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EA23-9804-439D-A859-B330085BE7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C124-B3AF-47DE-B9DB-844401005F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2BF3-924A-49EF-9010-A0C6C40E8E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4BAF-8FFB-4592-A4E8-8CBCBA8AB5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CASILLAS VACHER Christophe (NEAR)</cp:lastModifiedBy>
  <cp:lastPrinted>2016-12-07T09:39:50Z</cp:lastPrinted>
  <dcterms:modified xsi:type="dcterms:W3CDTF">2016-12-08T14:56:41Z</dcterms:modified>
  <cp:revision>312</cp:revision>
  <dc:subject/>
  <dc:title>PowerPoint Presentation</dc:title>
</cp:coreProperties>
</file>