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30.png" ContentType="image/png"/>
  <Override PartName="/ppt/media/image28.png" ContentType="image/png"/>
  <Override PartName="/ppt/media/image10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</p:sldIdLst>
  <p:sldSz cx="9144000" cy="6858000"/>
  <p:notesSz cx="6804025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EB60A3-E2C9-4EC0-A3D6-8031B42BF31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E0E8F6-43BC-4F75-AD29-3C7A65E2D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76E6F7-3558-41E7-951D-FBB0BCC83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6F01DF-9219-4822-935A-F6B1055E844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90A440-E804-4314-BBDD-B0514266388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B9E9B6-7255-4155-BD10-D5F72FB6F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AA6BFA-EF12-492A-8A91-CB596EBDB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780AD4-340B-4B6C-A925-D58C5A9C7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0DE6A0-B88E-43B4-B3C6-0F92DCB65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F20F09-1830-4F9F-81E8-902C2032E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2F5F22-141F-4056-954B-6409ED995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71B916-6980-4075-A474-11554BCD0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BA6BE1-B9D6-4A9C-B749-DDA0786F5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6BD8F0-41D9-4DBC-B1FB-3F9FFABAD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289271-C2DE-482B-8854-2917C0398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180110-D50B-4504-BD5A-125164BBE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9E0275-41DC-4A03-8CDC-7CA1C4DE195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18467-F339-41BC-899A-2DEEB68D1A1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163C0-4C1F-4674-8D83-6D16E3BA6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F04DB-B09A-4B03-A4D1-065999CB2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5C67D-DFD2-42A0-8DFF-A706551CE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C8CD6-C4D6-446A-8B24-6FF99B656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EB30B4-7EC1-4312-B226-7AC1CFD78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CC99C-8D34-41B7-B8F1-F7B4448B3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134A4-5E78-4A1A-8797-0DCE4C36E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C49C8-025C-490F-8D69-C9A1DC6F6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1E8E5-E29B-40FC-B8CF-BE07E7102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9B109-F1E3-4E05-B114-55BA556DB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A0E92-67D6-4D3E-A28C-4533E902E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8C7BF-D757-4633-939E-05A647D7969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7DC8454-9008-4E91-AADC-A37E44F2129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FDD51C5-E309-41FF-BCB7-ECA56D1CC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A6B5AF-9469-4293-B821-9FF9CA05E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1C4CFF-EFFE-4F8B-99EE-DDF5C8248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AC4525B-B103-4E95-84D0-B225897DC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7EA97F5-C266-4BB2-80BC-834152660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A5D8357-9B55-41DF-9D25-F870D81BD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0037927-EC09-4771-875E-66B745864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D9E5DDA-8742-4AC5-8442-D1E9EC6B4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AB7728B-A8BF-4607-80D6-AC350B2AB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5B18901-ADD1-44DE-9191-4566371A2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E9BA149-B1C7-4AD5-A998-13DC0E262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03B0A2A-8201-4F79-A594-7E7C0B75E07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0507C1-6134-4C14-8922-83804B0A6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B50585-E4B1-4814-9B4D-3FED6BCAC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DEF2B2-54EA-425B-886D-E313F63EF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95E2C5-7479-4B8E-AC6B-F5B7C34DD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8F8073-88F6-4236-A26A-892723D48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fc5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8C2D2-097B-40F0-8D1D-254F6E27E75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5"/>
          <p:cNvSpPr/>
          <p:nvPr/>
        </p:nvSpPr>
        <p:spPr>
          <a:xfrm>
            <a:off x="0" y="1125360"/>
            <a:ext cx="9144000" cy="5732640"/>
          </a:xfrm>
          <a:prstGeom prst="rect">
            <a:avLst/>
          </a:prstGeom>
          <a:solidFill>
            <a:srgbClr val="0f5494"/>
          </a:solidFill>
          <a:ln w="633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41" name="Picture 2" descr="C:\DOCUME~1\lenain\LOCALS~1\Temp\7zEBB7.tmp\LOGO-CE for Sanco EN Positive.png"/>
          <p:cNvPicPr/>
          <p:nvPr/>
        </p:nvPicPr>
        <p:blipFill>
          <a:blip r:embed="rId2"/>
          <a:stretch/>
        </p:blipFill>
        <p:spPr>
          <a:xfrm>
            <a:off x="3649680" y="324000"/>
            <a:ext cx="1812960" cy="13968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fc5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3"/>
          </p:nvPr>
        </p:nvSpPr>
        <p:spPr>
          <a:xfrm>
            <a:off x="45684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4"/>
          </p:nvPr>
        </p:nvSpPr>
        <p:spPr>
          <a:xfrm>
            <a:off x="655272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79F19-45A5-4F78-B23B-F4A3C165FC3C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5"/>
          <p:cNvSpPr/>
          <p:nvPr/>
        </p:nvSpPr>
        <p:spPr>
          <a:xfrm>
            <a:off x="0" y="-27000"/>
            <a:ext cx="9144000" cy="1130400"/>
          </a:xfrm>
          <a:prstGeom prst="rect">
            <a:avLst/>
          </a:prstGeom>
          <a:solidFill>
            <a:srgbClr val="afc5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83" name="Picture 3" descr="C:\DOCUME~1\lenain\LOCALS~1\Temp\7zED59.tmp\LOGO-CE for Sanco EN Negative.png"/>
          <p:cNvPicPr/>
          <p:nvPr/>
        </p:nvPicPr>
        <p:blipFill>
          <a:blip r:embed="rId2"/>
          <a:stretch/>
        </p:blipFill>
        <p:spPr>
          <a:xfrm>
            <a:off x="3656160" y="324000"/>
            <a:ext cx="1814400" cy="13968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fc5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5"/>
          </p:nvPr>
        </p:nvSpPr>
        <p:spPr>
          <a:xfrm>
            <a:off x="45684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6"/>
          </p:nvPr>
        </p:nvSpPr>
        <p:spPr>
          <a:xfrm>
            <a:off x="655272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58446-E403-4C37-8B3D-58648468B4D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C:\DOCUME~1\lenain\LOCALS~1\Temp\7zEB8.tmp\LOGO-CE for Sanco EN Landscape Positive.png"/>
          <p:cNvPicPr/>
          <p:nvPr/>
        </p:nvPicPr>
        <p:blipFill>
          <a:blip r:embed="rId2"/>
          <a:stretch/>
        </p:blipFill>
        <p:spPr>
          <a:xfrm>
            <a:off x="6576840" y="5940360"/>
            <a:ext cx="2243160" cy="5968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fc5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7"/>
          </p:nvPr>
        </p:nvSpPr>
        <p:spPr>
          <a:xfrm>
            <a:off x="45684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sldNum" idx="8"/>
          </p:nvPr>
        </p:nvSpPr>
        <p:spPr>
          <a:xfrm>
            <a:off x="655272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480B8-0023-4041-B15D-F1D832017AF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763280" y="1268280"/>
            <a:ext cx="7272360" cy="208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d624"/>
                </a:solidFill>
                <a:latin typeface="Arial"/>
              </a:rPr>
              <a:t>Feedback by a former </a:t>
            </a:r>
            <a:br>
              <a:rPr sz="3600"/>
            </a:br>
            <a:r>
              <a:rPr b="1" lang="en-US" sz="3600" spc="-1" strike="noStrike">
                <a:solidFill>
                  <a:srgbClr val="ffd624"/>
                </a:solidFill>
                <a:latin typeface="Arial"/>
              </a:rPr>
              <a:t>Resident Twinning Adviser </a:t>
            </a:r>
            <a:endParaRPr b="1" lang="en-US" sz="36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539280" y="4076280"/>
            <a:ext cx="827892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-260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Lessons learned and recommendations </a:t>
            </a:r>
            <a:endParaRPr b="0" i="1" lang="en-US" sz="3200" spc="-1" strike="noStrike">
              <a:solidFill>
                <a:srgbClr val="0f5494"/>
              </a:solidFill>
              <a:latin typeface="Arial"/>
            </a:endParaRPr>
          </a:p>
          <a:p>
            <a:pPr marL="260640" indent="-2606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f5494"/>
              </a:solidFill>
              <a:latin typeface="Arial"/>
            </a:endParaRPr>
          </a:p>
          <a:p>
            <a:pPr marL="260640" indent="-26064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Brussels,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8 December 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2016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260640" indent="-26064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260640" indent="-26064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Rudolf SPAN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Arial"/>
              </a:rPr>
              <a:t>First steps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Accommodation - Hotel =&gt; apartment for rent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Office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Contact - EU Delegation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Contact - own Embassy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Car registration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Health insurance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Doctors etc.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B9BDC-2845-4C4A-8070-05D27613EB5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9640" y="112536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Arial"/>
              </a:rPr>
              <a:t>First steps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68360" y="1952280"/>
            <a:ext cx="8229600" cy="47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Beneficiary institution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    </a:t>
            </a: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Hierarchy and counterparts in the beneficiary institution</a:t>
            </a:r>
            <a:br>
              <a:rPr sz="2400"/>
            </a:b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Other relevant institutions</a:t>
            </a:r>
            <a:br>
              <a:rPr sz="2400"/>
            </a:b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National expert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Central Finance and Contracts Unit (CFCU) / IPA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Project Administration Office (PAO) / ENI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2400" spc="-1" strike="noStrike">
                <a:solidFill>
                  <a:srgbClr val="0f5494"/>
                </a:solidFill>
                <a:latin typeface="Arial"/>
              </a:rPr>
              <a:t>EU Delegation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02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6686D-D534-46B6-90E7-959D1C7952C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03" name="Picture 2" descr=""/>
          <p:cNvPicPr/>
          <p:nvPr/>
        </p:nvPicPr>
        <p:blipFill>
          <a:blip r:embed="rId1"/>
          <a:stretch/>
        </p:blipFill>
        <p:spPr>
          <a:xfrm>
            <a:off x="6156360" y="2852640"/>
            <a:ext cx="2313000" cy="17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Arial"/>
              </a:rPr>
              <a:t>Assistants 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68360" y="3068640"/>
            <a:ext cx="822960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Assistant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Interpretation vs. translation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Early selection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Selection procedure for assistant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Advertisement in public media, on the website of the </a:t>
            </a:r>
            <a:br>
              <a:rPr sz="2400"/>
            </a:b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    EU-Delegation and of the Beneficiary Administration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06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60219-3590-4997-9C02-6C5E95D3CA1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07" name="Picture 2" descr=""/>
          <p:cNvPicPr/>
          <p:nvPr/>
        </p:nvPicPr>
        <p:blipFill>
          <a:blip r:embed="rId1"/>
          <a:stretch/>
        </p:blipFill>
        <p:spPr>
          <a:xfrm>
            <a:off x="4788000" y="1557360"/>
            <a:ext cx="4216320" cy="168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Arial"/>
              </a:rPr>
              <a:t>Assistants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Be careful with recommendation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f5494"/>
                </a:solidFill>
                <a:latin typeface="Arial"/>
              </a:rPr>
              <a:t>Choice of the RTA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f5494"/>
                </a:solidFill>
                <a:latin typeface="Arial"/>
              </a:rPr>
              <a:t>Can involve the EU-Delegation,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f5494"/>
                </a:solidFill>
                <a:latin typeface="Arial"/>
              </a:rPr>
              <a:t>BC – no need to be in the panel.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F7BC3-D9A4-492E-975D-FF757194D56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Arial"/>
              </a:rPr>
              <a:t>Assistants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Distribution of tasks between assistants</a:t>
            </a:r>
            <a:br>
              <a:rPr sz="2400"/>
            </a:b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Cooperative behavior is important - no competition </a:t>
            </a:r>
            <a:br>
              <a:rPr sz="2400"/>
            </a:b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Attendance at missions outside of the capital city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13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D22AF-5790-4F0A-B63D-246CA012A83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Arial"/>
              </a:rPr>
              <a:t>Kick-off meeting 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68360" y="2565360"/>
            <a:ext cx="822960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It has to be well organised - start in due time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The first highly official appearance of the RTA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High level guests - Invitations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Essential for technical presentations and discussion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A crucial opportunity for visibility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It has to take place as soon as possible but not to early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Already something concrete to present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06C18-19D5-4566-B08E-164B0777045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Arial"/>
              </a:rPr>
              <a:t>Kick-off meeting 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Presentation of the project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Presentation of the team (MS, BC, office)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Overview about the launching of the project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Presentation of the work plan + implementation tool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Visibility materia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Website!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Press release / press-conference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19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85448-7968-49E5-AFE6-5E2A6B50EEE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Arial"/>
              </a:rPr>
              <a:t>Your new environment 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2636640"/>
            <a:ext cx="8229600" cy="36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f5494"/>
                </a:solidFill>
                <a:latin typeface="Arial"/>
              </a:rPr>
              <a:t>The country</a:t>
            </a: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: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History, culture,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Gouvernement,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Political parties – Parliament,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Justice,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Economy, Trade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Language,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Behaviour,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Media etc.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F4F55-7AED-4C3F-B675-682DC8420C0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23" name="Picture 2" descr=""/>
          <p:cNvPicPr/>
          <p:nvPr/>
        </p:nvPicPr>
        <p:blipFill>
          <a:blip r:embed="rId1"/>
          <a:stretch/>
        </p:blipFill>
        <p:spPr>
          <a:xfrm>
            <a:off x="5076720" y="3933720"/>
            <a:ext cx="3235320" cy="215280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3" descr=""/>
          <p:cNvPicPr/>
          <p:nvPr/>
        </p:nvPicPr>
        <p:blipFill>
          <a:blip r:embed="rId2"/>
          <a:stretch/>
        </p:blipFill>
        <p:spPr>
          <a:xfrm>
            <a:off x="5940360" y="1628640"/>
            <a:ext cx="2635200" cy="17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Arial"/>
              </a:rPr>
              <a:t>International context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International relations of the beneficiary country (BC)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European Union (Accession negotiations, benchmarks, progress reports, IPA program, Association agreements, country strategies, support programs)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EU Member States </a:t>
            </a:r>
            <a:r>
              <a:rPr b="0" lang="en-US" sz="2400" spc="-1" strike="noStrike">
                <a:solidFill>
                  <a:srgbClr val="0f5494"/>
                </a:solidFill>
                <a:latin typeface="Wingdings"/>
                <a:ea typeface="Wingdings"/>
              </a:rPr>
              <a:t></a:t>
            </a: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BC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Your country of origin </a:t>
            </a:r>
            <a:r>
              <a:rPr b="0" lang="en-US" sz="2400" spc="-1" strike="noStrike">
                <a:solidFill>
                  <a:srgbClr val="0f5494"/>
                </a:solidFill>
                <a:latin typeface="Wingdings"/>
                <a:ea typeface="Wingdings"/>
              </a:rPr>
              <a:t></a:t>
            </a: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 BC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Arial"/>
              </a:rPr>
              <a:t>Neighbours</a:t>
            </a: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f5494"/>
                </a:solidFill>
                <a:latin typeface="Wingdings"/>
                <a:ea typeface="Wingdings"/>
              </a:rPr>
              <a:t></a:t>
            </a: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BC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C162F-E74D-496B-9366-48DAC9131EC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28" name="Picture 2" descr=""/>
          <p:cNvPicPr/>
          <p:nvPr/>
        </p:nvPicPr>
        <p:blipFill>
          <a:blip r:embed="rId1"/>
          <a:stretch/>
        </p:blipFill>
        <p:spPr>
          <a:xfrm>
            <a:off x="5796000" y="4149720"/>
            <a:ext cx="2952720" cy="16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Arial"/>
              </a:rPr>
              <a:t>Your professional environment 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EU projects (previous, current, future)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Other projects (bilateral cooperations, World Bank, etc.)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TAIEX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Resident experts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Stakeholders – international </a:t>
            </a:r>
            <a:br>
              <a:rPr sz="2400"/>
            </a:b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       and nationa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31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9C5EB-1256-4A09-A0C4-BBE2E032259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32" name="Picture 2" descr=""/>
          <p:cNvPicPr/>
          <p:nvPr/>
        </p:nvPicPr>
        <p:blipFill>
          <a:blip r:embed="rId1"/>
          <a:stretch/>
        </p:blipFill>
        <p:spPr>
          <a:xfrm>
            <a:off x="5076720" y="4149720"/>
            <a:ext cx="303228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Arial"/>
              </a:rPr>
              <a:t>My Twinning-experience 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24000" y="3471840"/>
            <a:ext cx="822960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50000"/>
              </a:lnSpc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f5494"/>
                </a:solidFill>
                <a:latin typeface="Arial"/>
              </a:rPr>
              <a:t>2005 - 2007 </a:t>
            </a:r>
            <a:r>
              <a:rPr b="1" i="1" lang="de-DE" sz="24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1" i="1" lang="de-DE" sz="2400" spc="-1" strike="noStrike">
                <a:solidFill>
                  <a:srgbClr val="0f5494"/>
                </a:solidFill>
                <a:latin typeface="Arial"/>
              </a:rPr>
              <a:t>Short-Term Expert - Romania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lnSpc>
                <a:spcPct val="150000"/>
              </a:lnSpc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f5494"/>
                </a:solidFill>
                <a:latin typeface="Arial"/>
              </a:rPr>
              <a:t>2007 - 2009 </a:t>
            </a:r>
            <a:r>
              <a:rPr b="1" i="1" lang="de-DE" sz="24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1" i="1" lang="de-DE" sz="2400" spc="-1" strike="noStrike">
                <a:solidFill>
                  <a:srgbClr val="0f5494"/>
                </a:solidFill>
                <a:latin typeface="Arial"/>
              </a:rPr>
              <a:t>Resident Twinning Advisor - RO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lnSpc>
                <a:spcPct val="150000"/>
              </a:lnSpc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f5494"/>
                </a:solidFill>
                <a:latin typeface="Arial"/>
              </a:rPr>
              <a:t>2010 – 2011 </a:t>
            </a:r>
            <a:r>
              <a:rPr b="1" i="1" lang="de-DE" sz="24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1" i="1" lang="de-DE" sz="2400" spc="-1" strike="noStrike">
                <a:solidFill>
                  <a:srgbClr val="0f5494"/>
                </a:solidFill>
                <a:latin typeface="Arial"/>
              </a:rPr>
              <a:t>Resident Twinning Advisor - RO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lnSpc>
                <a:spcPct val="150000"/>
              </a:lnSpc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f5494"/>
                </a:solidFill>
                <a:latin typeface="Arial"/>
              </a:rPr>
              <a:t>2011  - 2012</a:t>
            </a:r>
            <a:r>
              <a:rPr b="1" i="1" lang="de-DE" sz="24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1" i="1" lang="de-DE" sz="2400" spc="-1" strike="noStrike">
                <a:solidFill>
                  <a:srgbClr val="0f5494"/>
                </a:solidFill>
                <a:latin typeface="Arial"/>
              </a:rPr>
              <a:t>Short-Term Expert – Kosovo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69" name="Slide Number Placeholder 1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24276-FDC1-418A-81EC-88FDCF5A19C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170" name="Picture 2" descr=""/>
          <p:cNvPicPr/>
          <p:nvPr/>
        </p:nvPicPr>
        <p:blipFill>
          <a:blip r:embed="rId1"/>
          <a:stretch/>
        </p:blipFill>
        <p:spPr>
          <a:xfrm>
            <a:off x="5437080" y="1125360"/>
            <a:ext cx="3706920" cy="23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Arial"/>
              </a:rPr>
              <a:t>The institution to be supported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68360" y="3213000"/>
            <a:ext cx="822960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Get familiar with the: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Organisational chart,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Budget, infrastructure,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Regional offices,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Local authorities,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Competencies,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Cooperation with other institutions.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86F2E-9F65-4D15-AFED-108F4375752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36" name="Picture 3" descr=""/>
          <p:cNvPicPr/>
          <p:nvPr/>
        </p:nvPicPr>
        <p:blipFill>
          <a:blip r:embed="rId1"/>
          <a:stretch/>
        </p:blipFill>
        <p:spPr>
          <a:xfrm>
            <a:off x="4859280" y="2276640"/>
            <a:ext cx="3971880" cy="29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Arial"/>
              </a:rPr>
              <a:t>Get familiar with the structure </a:t>
            </a:r>
            <a:br>
              <a:rPr sz="3000"/>
            </a:b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68360" y="2347920"/>
            <a:ext cx="822960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2880" indent="-2728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Arial"/>
              </a:rPr>
              <a:t>Who is who?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Arial"/>
              </a:rPr>
              <a:t>Behaviour, habit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Arial"/>
              </a:rPr>
              <a:t>Working hour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Arial"/>
              </a:rPr>
              <a:t>Public holiday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Arial"/>
              </a:rPr>
              <a:t>Communication tool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39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DFECF-9BC3-4B73-BBBC-F279C047589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40" name="Picture 2" descr=""/>
          <p:cNvPicPr/>
          <p:nvPr/>
        </p:nvPicPr>
        <p:blipFill>
          <a:blip r:embed="rId1"/>
          <a:stretch/>
        </p:blipFill>
        <p:spPr>
          <a:xfrm>
            <a:off x="4908600" y="3284640"/>
            <a:ext cx="2092320" cy="151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Arial"/>
              </a:rPr>
              <a:t>Current situation? </a:t>
            </a:r>
            <a:br>
              <a:rPr sz="3000"/>
            </a:b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pic>
        <p:nvPicPr>
          <p:cNvPr id="242" name="Picture 2" descr=""/>
          <p:cNvPicPr/>
          <p:nvPr/>
        </p:nvPicPr>
        <p:blipFill>
          <a:blip r:embed="rId1"/>
          <a:stretch/>
        </p:blipFill>
        <p:spPr>
          <a:xfrm>
            <a:off x="7524720" y="1197000"/>
            <a:ext cx="1322280" cy="1727280"/>
          </a:xfrm>
          <a:prstGeom prst="rect">
            <a:avLst/>
          </a:prstGeom>
          <a:ln w="0">
            <a:noFill/>
          </a:ln>
        </p:spPr>
      </p:pic>
      <p:sp>
        <p:nvSpPr>
          <p:cNvPr id="243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8E52F-E278-4C67-A338-1C96398777A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44" name="TextBox 5"/>
          <p:cNvSpPr/>
          <p:nvPr/>
        </p:nvSpPr>
        <p:spPr>
          <a:xfrm>
            <a:off x="81000" y="2351160"/>
            <a:ext cx="8812080" cy="36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 u="sng">
                <a:solidFill>
                  <a:srgbClr val="0f5494"/>
                </a:solidFill>
                <a:uFillTx/>
                <a:latin typeface="Arial"/>
              </a:rPr>
              <a:t>'Current</a:t>
            </a:r>
            <a:r>
              <a:rPr b="1" lang="de-DE" sz="2200" spc="-1" strike="noStrike" u="sng">
                <a:solidFill>
                  <a:srgbClr val="0f5494"/>
                </a:solidFill>
                <a:uFillTx/>
                <a:latin typeface="Arial"/>
              </a:rPr>
              <a:t> Situation Report'</a:t>
            </a:r>
            <a:endParaRPr b="1" lang="en-US" sz="22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150000"/>
              </a:lnSpc>
              <a:buClr>
                <a:srgbClr val="ffd62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f5494"/>
                </a:solidFill>
                <a:latin typeface="Arial"/>
              </a:rPr>
              <a:t>Situation probably changed since the twinning-fiche was drafted,</a:t>
            </a:r>
            <a:endParaRPr b="1" lang="en-US" sz="22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150000"/>
              </a:lnSpc>
              <a:buClr>
                <a:srgbClr val="ffd62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f5494"/>
                </a:solidFill>
                <a:latin typeface="Arial"/>
              </a:rPr>
              <a:t>You need more details and additional special data,</a:t>
            </a:r>
            <a:r>
              <a:rPr b="0" lang="de-DE" sz="2200" spc="-1" strike="noStrike">
                <a:solidFill>
                  <a:srgbClr val="0f5494"/>
                </a:solidFill>
                <a:latin typeface="Arial"/>
              </a:rPr>
              <a:t>  </a:t>
            </a:r>
            <a:endParaRPr b="1" lang="en-US" sz="22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150000"/>
              </a:lnSpc>
              <a:buClr>
                <a:srgbClr val="ffd62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f5494"/>
                </a:solidFill>
                <a:latin typeface="Arial"/>
              </a:rPr>
              <a:t>Contact the leadership of the relevant institutions, units</a:t>
            </a:r>
            <a:r>
              <a:rPr b="0" lang="de-DE" sz="2200" spc="-1" strike="noStrike">
                <a:solidFill>
                  <a:srgbClr val="0f5494"/>
                </a:solidFill>
                <a:latin typeface="Arial"/>
              </a:rPr>
              <a:t> </a:t>
            </a:r>
            <a:r>
              <a:rPr b="0" lang="en-GB" sz="2200" spc="-1" strike="noStrike">
                <a:solidFill>
                  <a:srgbClr val="0f5494"/>
                </a:solidFill>
                <a:latin typeface="Arial"/>
              </a:rPr>
              <a:t>and stakeholders,</a:t>
            </a:r>
            <a:endParaRPr b="1" lang="en-US" sz="22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150000"/>
              </a:lnSpc>
              <a:buClr>
                <a:srgbClr val="ffd62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f5494"/>
                </a:solidFill>
                <a:latin typeface="Arial"/>
              </a:rPr>
              <a:t>Work together with the leaders of the Working Groups.</a:t>
            </a:r>
            <a:endParaRPr b="1" lang="en-US" sz="22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150000"/>
              </a:lnSpc>
              <a:buClr>
                <a:srgbClr val="ffd62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Arial"/>
              </a:rPr>
              <a:t>Reports 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13742-1156-42A2-9948-29806188674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263664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600" spc="-1" strike="noStrike">
                <a:solidFill>
                  <a:srgbClr val="0f5494"/>
                </a:solidFill>
                <a:latin typeface="Arial"/>
              </a:rPr>
              <a:t>As specified in the Twinning contract!</a:t>
            </a:r>
            <a:endParaRPr b="0" i="1" lang="en-US" sz="2600" spc="-1" strike="noStrike">
              <a:solidFill>
                <a:srgbClr val="0f5494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600" spc="-1" strike="noStrike">
              <a:solidFill>
                <a:srgbClr val="0f5494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600" spc="-1" strike="noStrike">
                <a:solidFill>
                  <a:srgbClr val="0f5494"/>
                </a:solidFill>
                <a:latin typeface="Arial"/>
              </a:rPr>
              <a:t>RTA Office</a:t>
            </a:r>
            <a:endParaRPr b="0" i="1" lang="en-US" sz="2600" spc="-1" strike="noStrike">
              <a:solidFill>
                <a:srgbClr val="0f5494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600" spc="-1" strike="noStrike">
                <a:solidFill>
                  <a:srgbClr val="0f5494"/>
                </a:solidFill>
                <a:latin typeface="Arial"/>
              </a:rPr>
              <a:t>Current Situation Report /Inception Report</a:t>
            </a:r>
            <a:br>
              <a:rPr sz="2600"/>
            </a:br>
            <a:r>
              <a:rPr b="0" i="1" lang="de-DE" sz="26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0" i="1" lang="de-DE" sz="2600" spc="-1" strike="noStrike">
                <a:solidFill>
                  <a:srgbClr val="0f5494"/>
                </a:solidFill>
                <a:latin typeface="Arial"/>
              </a:rPr>
              <a:t>(can be part of the first Quarterly report)</a:t>
            </a:r>
            <a:endParaRPr b="0" i="1" lang="en-US" sz="2600" spc="-1" strike="noStrike">
              <a:solidFill>
                <a:srgbClr val="0f5494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600" spc="-1" strike="noStrike">
                <a:solidFill>
                  <a:srgbClr val="0f5494"/>
                </a:solidFill>
                <a:latin typeface="Arial"/>
              </a:rPr>
              <a:t>Quarterly Reports </a:t>
            </a:r>
            <a:endParaRPr b="0" i="1" lang="en-US" sz="2600" spc="-1" strike="noStrike">
              <a:solidFill>
                <a:srgbClr val="0f5494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600" spc="-1" strike="noStrike">
                <a:solidFill>
                  <a:srgbClr val="0f5494"/>
                </a:solidFill>
                <a:latin typeface="Arial"/>
              </a:rPr>
              <a:t>Final Report </a:t>
            </a:r>
            <a:br>
              <a:rPr sz="2600"/>
            </a:br>
            <a:r>
              <a:rPr b="0" i="1" lang="de-DE" sz="2600" spc="-1" strike="noStrike">
                <a:solidFill>
                  <a:srgbClr val="0f5494"/>
                </a:solidFill>
                <a:latin typeface="Arial"/>
              </a:rPr>
              <a:t> </a:t>
            </a:r>
            <a:endParaRPr b="0" i="1" lang="en-US" sz="2600" spc="-1" strike="noStrike">
              <a:solidFill>
                <a:srgbClr val="0f5494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600" spc="-1" strike="noStrike">
                <a:solidFill>
                  <a:srgbClr val="0f5494"/>
                </a:solidFill>
                <a:latin typeface="Arial"/>
              </a:rPr>
              <a:t>Short-term experts</a:t>
            </a:r>
            <a:endParaRPr b="0" i="1" lang="en-US" sz="2600" spc="-1" strike="noStrike">
              <a:solidFill>
                <a:srgbClr val="0f5494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600" spc="-1" strike="noStrike">
                <a:solidFill>
                  <a:srgbClr val="0f5494"/>
                </a:solidFill>
                <a:latin typeface="Arial"/>
              </a:rPr>
              <a:t>Mission Report</a:t>
            </a:r>
            <a:endParaRPr b="0" i="1" lang="en-US" sz="2600" spc="-1" strike="noStrike">
              <a:solidFill>
                <a:srgbClr val="0f5494"/>
              </a:solidFill>
              <a:latin typeface="Arial"/>
            </a:endParaRPr>
          </a:p>
        </p:txBody>
      </p:sp>
      <p:pic>
        <p:nvPicPr>
          <p:cNvPr id="248" name="Picture 2" descr=""/>
          <p:cNvPicPr/>
          <p:nvPr/>
        </p:nvPicPr>
        <p:blipFill>
          <a:blip r:embed="rId1"/>
          <a:stretch/>
        </p:blipFill>
        <p:spPr>
          <a:xfrm>
            <a:off x="4716360" y="4581360"/>
            <a:ext cx="300852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Arial"/>
              </a:rPr>
              <a:t>Management meetings</a:t>
            </a:r>
            <a:br>
              <a:rPr sz="3000"/>
            </a:br>
            <a:r>
              <a:rPr b="1" lang="en-US" sz="3000" spc="-1" strike="noStrike">
                <a:solidFill>
                  <a:srgbClr val="0f5494"/>
                </a:solidFill>
                <a:latin typeface="Arial"/>
              </a:rPr>
              <a:t>Steering committee meetings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31608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0840" indent="-33084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BC project leader, RTA counterpart,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30840" indent="-33084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Directors, Head of Units,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30840" indent="-33084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EU-Delegation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30840" indent="-33084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Central Financial and Contracting Unit (CFCU)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30840" indent="-33084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Project Administration Office (PAO)</a:t>
            </a:r>
            <a:br>
              <a:rPr sz="2400"/>
            </a:b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30840" indent="-33084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regularly, discussing the progress - activity plan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30840" indent="-33084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However, try to solve the problems before the meeting!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30840" indent="-33084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51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2BDB5-1664-4996-AEDE-C46B7915C2F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52" name="Picture 2" descr=""/>
          <p:cNvPicPr/>
          <p:nvPr/>
        </p:nvPicPr>
        <p:blipFill>
          <a:blip r:embed="rId1"/>
          <a:stretch/>
        </p:blipFill>
        <p:spPr>
          <a:xfrm>
            <a:off x="6681960" y="1844640"/>
            <a:ext cx="186660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Arial"/>
              </a:rPr>
              <a:t>EU Delegation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68360" y="2420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 u="sng">
                <a:solidFill>
                  <a:srgbClr val="0f5494"/>
                </a:solidFill>
                <a:uFillTx/>
                <a:latin typeface="Arial"/>
              </a:rPr>
              <a:t>What do the EU Delegations do?</a:t>
            </a:r>
            <a:endParaRPr b="0" i="1" lang="en-US" sz="20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f5494"/>
                </a:solidFill>
                <a:latin typeface="Arial"/>
              </a:rPr>
              <a:t>a key role in presenting, explaining and </a:t>
            </a:r>
            <a:br>
              <a:rPr sz="2000"/>
            </a:br>
            <a:r>
              <a:rPr b="0" i="1" lang="en-GB" sz="2000" spc="-1" strike="noStrike">
                <a:solidFill>
                  <a:srgbClr val="0f5494"/>
                </a:solidFill>
                <a:latin typeface="Arial"/>
              </a:rPr>
              <a:t>      implementing EU’s foreign policies; </a:t>
            </a:r>
            <a:endParaRPr b="0" i="1" lang="en-US" sz="20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f5494"/>
                </a:solidFill>
                <a:latin typeface="Arial"/>
              </a:rPr>
              <a:t>analyse and report on the policies and </a:t>
            </a:r>
            <a:br>
              <a:rPr sz="2000"/>
            </a:br>
            <a:r>
              <a:rPr b="0" i="1" lang="en-GB" sz="2000" spc="-1" strike="noStrike">
                <a:solidFill>
                  <a:srgbClr val="0f5494"/>
                </a:solidFill>
                <a:latin typeface="Arial"/>
              </a:rPr>
              <a:t>     developments of their host countries; </a:t>
            </a:r>
            <a:endParaRPr b="0" i="1" lang="en-US" sz="20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f5494"/>
                </a:solidFill>
                <a:latin typeface="Arial"/>
              </a:rPr>
              <a:t>conduct negotiations in accordance with given mandates.</a:t>
            </a:r>
            <a:br>
              <a:rPr sz="2000"/>
            </a:br>
            <a:r>
              <a:rPr b="0" i="1" lang="en-GB" sz="2000" spc="-1" strike="noStrike">
                <a:solidFill>
                  <a:srgbClr val="0f5494"/>
                </a:solidFill>
                <a:latin typeface="Arial"/>
              </a:rPr>
              <a:t> </a:t>
            </a:r>
            <a:endParaRPr b="0" i="1" lang="en-US" sz="20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 u="sng">
                <a:solidFill>
                  <a:srgbClr val="0f5494"/>
                </a:solidFill>
                <a:uFillTx/>
                <a:latin typeface="Arial"/>
              </a:rPr>
              <a:t>How do the Delegations operate?</a:t>
            </a:r>
            <a:endParaRPr b="0" i="1" lang="en-US" sz="20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f5494"/>
                </a:solidFill>
                <a:latin typeface="Arial"/>
              </a:rPr>
              <a:t>Maintaining political dialogue; </a:t>
            </a:r>
            <a:endParaRPr b="0" i="1" lang="en-US" sz="20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f5494"/>
                </a:solidFill>
                <a:latin typeface="Arial"/>
              </a:rPr>
              <a:t>administering development aid; </a:t>
            </a:r>
            <a:endParaRPr b="0" i="1" lang="en-US" sz="20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f5494"/>
                </a:solidFill>
                <a:latin typeface="Arial"/>
              </a:rPr>
              <a:t>supervision of EU trade issues and building cultural contacts. </a:t>
            </a:r>
            <a:endParaRPr b="0" i="1" lang="en-US" sz="20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55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896FE-6B2E-4DA1-A905-7F4F43ECBC1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56" name="Picture 2" descr=""/>
          <p:cNvPicPr/>
          <p:nvPr/>
        </p:nvPicPr>
        <p:blipFill>
          <a:blip r:embed="rId1"/>
          <a:stretch/>
        </p:blipFill>
        <p:spPr>
          <a:xfrm>
            <a:off x="6012000" y="1206360"/>
            <a:ext cx="2862000" cy="29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Arial"/>
              </a:rPr>
              <a:t>EU Delegation – support and monitoring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0760" indent="-3207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0760" indent="-3207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0760" indent="-3207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Close cooperation with the EU-Delegation is essential and of course beneficial for you as RTA and for the project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0760" indent="-3207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General support in the implementation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0760" indent="-3207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Support in the collaboration with the BC-administration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0760" indent="-3207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Participation of the EU-Delegation at all important events     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0760" indent="-3207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Kick-off, Steering Committee meetings, Final meeting etc.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0760" indent="-3207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0760" indent="-3207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0760" indent="-3207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E4996-6B9F-46B6-9F93-3E5F7A1F0B4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60" name="Picture 5" descr=""/>
          <p:cNvPicPr/>
          <p:nvPr/>
        </p:nvPicPr>
        <p:blipFill>
          <a:blip r:embed="rId1"/>
          <a:stretch/>
        </p:blipFill>
        <p:spPr>
          <a:xfrm>
            <a:off x="6227640" y="2421000"/>
            <a:ext cx="274176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Arial"/>
              </a:rPr>
              <a:t>Implementing a project 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5494"/>
                </a:solidFill>
                <a:latin typeface="Arial"/>
              </a:rPr>
              <a:t>Working groups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set up working group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for each component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BC official as leader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set up rules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activity plan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regular meetings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discussing the progres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63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7DEED-4C23-4203-918B-6F5EBEF9E32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64" name="Picture 2" descr=""/>
          <p:cNvPicPr/>
          <p:nvPr/>
        </p:nvPicPr>
        <p:blipFill>
          <a:blip r:embed="rId1"/>
          <a:stretch/>
        </p:blipFill>
        <p:spPr>
          <a:xfrm>
            <a:off x="4411800" y="2565360"/>
            <a:ext cx="426852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Arial"/>
              </a:rPr>
              <a:t>Activity plans</a:t>
            </a:r>
            <a:br>
              <a:rPr sz="3000"/>
            </a:b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4000" indent="-3240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follow up of the benchmark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4000" indent="-3240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clear time schedule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4000" indent="-3240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what needs to be done?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4000" indent="-3240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by whom?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4000" indent="-3240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by when?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4000" indent="-3240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calendar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4000" indent="-3240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expert mission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4000" indent="-3240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study visit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4000" indent="-3240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67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37CC4-82BA-42D8-8388-235D1C67E13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68" name="Picture 5" descr=""/>
          <p:cNvPicPr/>
          <p:nvPr/>
        </p:nvPicPr>
        <p:blipFill>
          <a:blip r:embed="rId1"/>
          <a:stretch/>
        </p:blipFill>
        <p:spPr>
          <a:xfrm>
            <a:off x="3708360" y="4149720"/>
            <a:ext cx="438156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Arial"/>
              </a:rPr>
              <a:t>Additional useful documentation</a:t>
            </a:r>
            <a:br>
              <a:rPr sz="3000"/>
            </a:b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minutes of the meeting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results of discussions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recommendations made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informal or formal character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to be circulated to the beneficiaries – transparency!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reminder for yourself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7266C-3636-494A-A7B8-F953DFE7EE6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112536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0f5494"/>
                </a:solidFill>
                <a:latin typeface="Arial"/>
              </a:rPr>
              <a:t>   </a:t>
            </a:r>
            <a:br>
              <a:rPr sz="3000"/>
            </a:br>
            <a:r>
              <a:rPr b="0" lang="en-GB" sz="3000" spc="-1" strike="noStrike">
                <a:solidFill>
                  <a:srgbClr val="0f5494"/>
                </a:solidFill>
                <a:latin typeface="Arial"/>
              </a:rPr>
              <a:t>Let‘s start our excursion! </a:t>
            </a:r>
            <a:br>
              <a:rPr sz="3000"/>
            </a:br>
            <a:r>
              <a:rPr b="0" lang="en-GB" sz="30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0" lang="en-GB" sz="30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0" lang="en-GB" sz="30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0" lang="en-GB" sz="30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0" lang="en-GB" sz="30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0" lang="en-GB" sz="3000" spc="-1" strike="noStrike">
                <a:solidFill>
                  <a:srgbClr val="0f5494"/>
                </a:solidFill>
                <a:latin typeface="Arial"/>
              </a:rPr>
              <a:t>What comes next?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pic>
        <p:nvPicPr>
          <p:cNvPr id="172" name="Picture 3" descr=""/>
          <p:cNvPicPr/>
          <p:nvPr/>
        </p:nvPicPr>
        <p:blipFill>
          <a:blip r:embed="rId1"/>
          <a:stretch/>
        </p:blipFill>
        <p:spPr>
          <a:xfrm>
            <a:off x="1692360" y="2481120"/>
            <a:ext cx="5616360" cy="4116600"/>
          </a:xfrm>
          <a:prstGeom prst="rect">
            <a:avLst/>
          </a:prstGeom>
          <a:ln w="0">
            <a:noFill/>
          </a:ln>
        </p:spPr>
      </p:pic>
      <p:sp>
        <p:nvSpPr>
          <p:cNvPr id="173" name="Slide Number Placeholder 4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6871A-1CCA-4FB1-82B2-2898DBE61D4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9640" y="134136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Arial"/>
              </a:rPr>
              <a:t>Coordination of the Short Time Experts (STEs)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250920" y="2349360"/>
            <a:ext cx="8353440" cy="348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6560" indent="-2865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RTA shall be the bridge and the catalytic agent between the STEs and the national experts/working group members etc. (be proactive!)</a:t>
            </a:r>
            <a:br>
              <a:rPr sz="2400"/>
            </a:b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286560" indent="-2865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input, briefings,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286560" indent="-2865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overview and detail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286560" indent="-2865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understanding the context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286560" indent="-2865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absorption capacity of the BC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286560" indent="-2865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no need to separate the experts by M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286560" indent="-2865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continuity makes sense.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286560" indent="-2865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4D518-3A4F-4F44-BE66-683E1BEBA87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75" name="Picture 2" descr=""/>
          <p:cNvPicPr/>
          <p:nvPr/>
        </p:nvPicPr>
        <p:blipFill>
          <a:blip r:embed="rId1"/>
          <a:stretch/>
        </p:blipFill>
        <p:spPr>
          <a:xfrm>
            <a:off x="5651640" y="3500280"/>
            <a:ext cx="235728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Arial"/>
              </a:rPr>
              <a:t>Coordination of the STE-missions</a:t>
            </a:r>
            <a:br>
              <a:rPr sz="3000"/>
            </a:b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539640" y="2276640"/>
            <a:ext cx="54864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7600" indent="-3276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prepare </a:t>
            </a:r>
            <a:r>
              <a:rPr b="1" i="1" lang="en-US" sz="2400" spc="-1" strike="noStrike">
                <a:solidFill>
                  <a:srgbClr val="0f5494"/>
                </a:solidFill>
                <a:latin typeface="Arial"/>
              </a:rPr>
              <a:t>terms of reference</a:t>
            </a: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, objectives and agenda of the missions in due time</a:t>
            </a:r>
            <a:br>
              <a:rPr sz="2400"/>
            </a:b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7600" indent="-3276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don’t waste 'expert days'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7600" indent="-3276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allow the beneficiaries to </a:t>
            </a:r>
            <a:r>
              <a:rPr b="1" i="1" lang="en-US" sz="2400" spc="-1" strike="noStrike">
                <a:solidFill>
                  <a:srgbClr val="0f5494"/>
                </a:solidFill>
                <a:latin typeface="Arial"/>
              </a:rPr>
              <a:t>evaluate </a:t>
            </a: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the experts – feedback is added value!</a:t>
            </a:r>
            <a:br>
              <a:rPr sz="2400"/>
            </a:b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7600" indent="-3276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f5494"/>
                </a:solidFill>
                <a:latin typeface="Arial"/>
              </a:rPr>
              <a:t>mission reports </a:t>
            </a: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of the experts have to be done in due time!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7600" indent="-3276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78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BDE57-083C-4AA6-A0CF-715E4639583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79" name="Picture 3" descr=""/>
          <p:cNvPicPr/>
          <p:nvPr/>
        </p:nvPicPr>
        <p:blipFill>
          <a:blip r:embed="rId1"/>
          <a:stretch/>
        </p:blipFill>
        <p:spPr>
          <a:xfrm>
            <a:off x="5925960" y="2276640"/>
            <a:ext cx="298296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Arial"/>
              </a:rPr>
              <a:t>Communication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Web based Intranet / share point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Developed with the beneficiary administration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Included on the website of the beneficiary administration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Access: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-   Management of the project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Experts MS and BC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Working Group members etc.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BD6D8-1ACB-4D92-8AB4-35C84A87750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Arial"/>
              </a:rPr>
              <a:t>Share point - Intranet 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84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CA6FF-243D-4BAF-9BE0-D050728BAD4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85" name="Picture 2" descr=""/>
          <p:cNvPicPr/>
          <p:nvPr/>
        </p:nvPicPr>
        <p:blipFill>
          <a:blip r:embed="rId1"/>
          <a:stretch/>
        </p:blipFill>
        <p:spPr>
          <a:xfrm>
            <a:off x="395280" y="981000"/>
            <a:ext cx="833292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Arial"/>
              </a:rPr>
              <a:t>Communication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5494"/>
                </a:solidFill>
                <a:latin typeface="Arial"/>
              </a:rPr>
              <a:t>Visibility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5494"/>
                </a:solidFill>
                <a:latin typeface="Arial"/>
              </a:rPr>
              <a:t>Website – open for the public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Information for the stakeholders and for the citizens</a:t>
            </a:r>
            <a:br>
              <a:rPr sz="2400"/>
            </a:b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It takes time but it is essential </a:t>
            </a:r>
            <a:r>
              <a:rPr b="1" lang="en-US" sz="2400" spc="-1" strike="noStrike">
                <a:solidFill>
                  <a:srgbClr val="0f5494"/>
                </a:solidFill>
                <a:latin typeface="Arial"/>
              </a:rPr>
              <a:t>during the implementation</a:t>
            </a:r>
            <a:br>
              <a:rPr sz="2400"/>
            </a:b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Added value </a:t>
            </a:r>
            <a:r>
              <a:rPr b="1" lang="en-US" sz="2400" spc="-1" strike="noStrike">
                <a:solidFill>
                  <a:srgbClr val="0f5494"/>
                </a:solidFill>
                <a:latin typeface="Arial"/>
              </a:rPr>
              <a:t>after finalisation </a:t>
            </a: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of the project.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88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A9C13-812A-4FBD-801F-F438F7B4AA3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Arial"/>
              </a:rPr>
              <a:t>Website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90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B9F55-B067-488A-80E2-C71D5FCFF19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91" name="Picture 2" descr=""/>
          <p:cNvPicPr/>
          <p:nvPr/>
        </p:nvPicPr>
        <p:blipFill>
          <a:blip r:embed="rId1"/>
          <a:stretch/>
        </p:blipFill>
        <p:spPr>
          <a:xfrm>
            <a:off x="395280" y="2565360"/>
            <a:ext cx="8377200" cy="38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Arial"/>
              </a:rPr>
              <a:t>Visibility – start without delay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93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406D6-8879-4FD9-9690-109C465CCFA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94" name="Picture 2" descr=""/>
          <p:cNvPicPr/>
          <p:nvPr/>
        </p:nvPicPr>
        <p:blipFill>
          <a:blip r:embed="rId1"/>
          <a:stretch/>
        </p:blipFill>
        <p:spPr>
          <a:xfrm>
            <a:off x="3822840" y="3386160"/>
            <a:ext cx="2441520" cy="2654280"/>
          </a:xfrm>
          <a:prstGeom prst="rect">
            <a:avLst/>
          </a:prstGeom>
          <a:ln w="9360">
            <a:solidFill>
              <a:srgbClr val="bbe0e3">
                <a:alpha val="99000"/>
              </a:srgbClr>
            </a:solidFill>
            <a:miter/>
          </a:ln>
        </p:spPr>
      </p:pic>
      <p:pic>
        <p:nvPicPr>
          <p:cNvPr id="295" name="Picture 2" descr=""/>
          <p:cNvPicPr/>
          <p:nvPr/>
        </p:nvPicPr>
        <p:blipFill>
          <a:blip r:embed="rId2"/>
          <a:stretch/>
        </p:blipFill>
        <p:spPr>
          <a:xfrm>
            <a:off x="6659640" y="2276640"/>
            <a:ext cx="1977840" cy="3763800"/>
          </a:xfrm>
          <a:prstGeom prst="rect">
            <a:avLst/>
          </a:prstGeom>
          <a:ln w="0">
            <a:noFill/>
          </a:ln>
        </p:spPr>
      </p:pic>
      <p:sp>
        <p:nvSpPr>
          <p:cNvPr id="296" name="TextBox 6"/>
          <p:cNvSpPr/>
          <p:nvPr/>
        </p:nvSpPr>
        <p:spPr>
          <a:xfrm>
            <a:off x="365040" y="2565360"/>
            <a:ext cx="34578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f5494"/>
                </a:solidFill>
                <a:latin typeface="Arial"/>
              </a:rPr>
              <a:t>Flyer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f5494"/>
                </a:solidFill>
                <a:latin typeface="Arial"/>
              </a:rPr>
              <a:t>Brochures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f5494"/>
                </a:solidFill>
                <a:latin typeface="Arial"/>
              </a:rPr>
              <a:t>Roll-up banners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f5494"/>
                </a:solidFill>
                <a:latin typeface="Arial"/>
              </a:rPr>
              <a:t>Useful gifts: 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f5494"/>
                </a:solidFill>
                <a:latin typeface="Arial"/>
              </a:rPr>
              <a:t>USB-Sticks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f5494"/>
                </a:solidFill>
                <a:latin typeface="Arial"/>
              </a:rPr>
              <a:t>Pencils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0f5494"/>
                </a:solidFill>
                <a:latin typeface="Arial"/>
              </a:rPr>
              <a:t>etc. 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68360" y="1700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Arial"/>
              </a:rPr>
              <a:t>During implementation</a:t>
            </a:r>
            <a:br>
              <a:rPr sz="3000"/>
            </a:br>
            <a:r>
              <a:rPr b="1" lang="en-US" sz="3000" spc="-1" strike="noStrike">
                <a:solidFill>
                  <a:srgbClr val="0f5494"/>
                </a:solidFill>
                <a:latin typeface="Arial"/>
              </a:rPr>
              <a:t>Support the needs of the BC</a:t>
            </a:r>
            <a:br>
              <a:rPr sz="3000"/>
            </a:b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0760" indent="-3207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0760" indent="-3207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Scope of the project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0760" indent="-3207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Benchmarks - Output orientation,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0760" indent="-3207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Help the partners to contribute,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0760" indent="-3207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RTA shall provide additional input,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0760" indent="-3207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Be realistic with your expectation,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0760" indent="-3207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Remain optimistic and motivated,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0760" indent="-3207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Prepare alternatives for the emergency cases.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0760" indent="-3207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99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DD68A-E4CB-49F0-9FDD-7933D94D79C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300" name="Picture 2" descr=""/>
          <p:cNvPicPr/>
          <p:nvPr/>
        </p:nvPicPr>
        <p:blipFill>
          <a:blip r:embed="rId1"/>
          <a:stretch/>
        </p:blipFill>
        <p:spPr>
          <a:xfrm>
            <a:off x="5508720" y="2565360"/>
            <a:ext cx="3568680" cy="32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Arial"/>
              </a:rPr>
              <a:t>Challenges 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7680" indent="-3376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Political instability - Continuity in the BC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37680" indent="-3376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Absorption capacity – prioritisation of the project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37680" indent="-3376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Working stiles, </a:t>
            </a:r>
            <a:br>
              <a:rPr sz="2400"/>
            </a:b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37680" indent="-337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You need: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37680" indent="-337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- patience, enthusiasm,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37680" indent="-337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- intercultural skills,</a:t>
            </a:r>
            <a:br>
              <a:rPr sz="2400"/>
            </a:b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- target-oriented work, not forget the goals! 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37680" indent="-3376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37680" indent="-3376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37680" indent="-3376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03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E4F82-746A-404F-ADF6-F2BBD80285D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Arial"/>
              </a:rPr>
              <a:t>Finalisation of the project 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468360" y="3068640"/>
            <a:ext cx="822960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Final quarterly report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Final meeting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Final report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Focus on results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Recommendations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Follow up.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06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F1996-565C-44BB-A868-13A37AFC174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307" name="Picture 3" descr=""/>
          <p:cNvPicPr/>
          <p:nvPr/>
        </p:nvPicPr>
        <p:blipFill>
          <a:blip r:embed="rId1"/>
          <a:stretch/>
        </p:blipFill>
        <p:spPr>
          <a:xfrm>
            <a:off x="4788000" y="2708280"/>
            <a:ext cx="353988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Arial"/>
              </a:rPr>
              <a:t>Content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5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000" spc="-1" strike="noStrike">
                <a:solidFill>
                  <a:srgbClr val="0f5494"/>
                </a:solidFill>
                <a:latin typeface="Arial"/>
              </a:rPr>
              <a:t>The Resident Twinning </a:t>
            </a:r>
            <a:r>
              <a:rPr b="0" i="1" lang="en-GB" sz="3000" spc="-1" strike="noStrike">
                <a:solidFill>
                  <a:srgbClr val="0f5494"/>
                </a:solidFill>
                <a:latin typeface="Arial"/>
              </a:rPr>
              <a:t>Advisor</a:t>
            </a:r>
            <a:r>
              <a:rPr b="0" i="1" lang="de-DE" sz="3000" spc="-1" strike="noStrike">
                <a:solidFill>
                  <a:srgbClr val="0f5494"/>
                </a:solidFill>
                <a:latin typeface="Arial"/>
              </a:rPr>
              <a:t> (RTA)</a:t>
            </a:r>
            <a:endParaRPr b="0" i="1" lang="en-US" sz="30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lnSpc>
                <a:spcPct val="150000"/>
              </a:lnSpc>
              <a:spcBef>
                <a:spcPts val="75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000" spc="-1" strike="noStrike">
                <a:solidFill>
                  <a:srgbClr val="0f5494"/>
                </a:solidFill>
                <a:latin typeface="Arial"/>
              </a:rPr>
              <a:t>Environment of the RTA </a:t>
            </a:r>
            <a:endParaRPr b="0" i="1" lang="en-US" sz="30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lnSpc>
                <a:spcPct val="150000"/>
              </a:lnSpc>
              <a:spcBef>
                <a:spcPts val="75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000" spc="-1" strike="noStrike">
                <a:solidFill>
                  <a:srgbClr val="0f5494"/>
                </a:solidFill>
                <a:latin typeface="Arial"/>
              </a:rPr>
              <a:t>Implementation of the project</a:t>
            </a:r>
            <a:endParaRPr b="0" i="1" lang="en-US" sz="30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lnSpc>
                <a:spcPct val="150000"/>
              </a:lnSpc>
              <a:spcBef>
                <a:spcPts val="75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000" spc="-1" strike="noStrike">
                <a:solidFill>
                  <a:srgbClr val="0f5494"/>
                </a:solidFill>
                <a:latin typeface="Arial"/>
              </a:rPr>
              <a:t>Conclusions</a:t>
            </a:r>
            <a:endParaRPr b="0" i="1" lang="en-US" sz="30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75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3C488-541E-4DCD-BB97-091180EA03D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Arial"/>
              </a:rPr>
              <a:t>Time table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09" name="Slide Number Placeholder 3"/>
          <p:cNvSpPr/>
          <p:nvPr/>
        </p:nvSpPr>
        <p:spPr>
          <a:xfrm>
            <a:off x="6539040" y="61578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299CF-29AA-483A-B878-12A813AC764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10" name="Straight Connector 5"/>
          <p:cNvSpPr/>
          <p:nvPr/>
        </p:nvSpPr>
        <p:spPr>
          <a:xfrm>
            <a:off x="1042920" y="4076640"/>
            <a:ext cx="5400720" cy="73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11" name="Straight Connector 7"/>
          <p:cNvSpPr/>
          <p:nvPr/>
        </p:nvSpPr>
        <p:spPr>
          <a:xfrm flipV="1">
            <a:off x="1476360" y="4149360"/>
            <a:ext cx="4896000" cy="1429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12" name="Straight Connector 9"/>
          <p:cNvSpPr/>
          <p:nvPr/>
        </p:nvSpPr>
        <p:spPr>
          <a:xfrm>
            <a:off x="1079640" y="4365720"/>
            <a:ext cx="6516720" cy="0"/>
          </a:xfrm>
          <a:prstGeom prst="line">
            <a:avLst/>
          </a:prstGeom>
          <a:ln w="698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13" name="Down Arrow 10"/>
          <p:cNvSpPr/>
          <p:nvPr/>
        </p:nvSpPr>
        <p:spPr>
          <a:xfrm>
            <a:off x="1079640" y="2968560"/>
            <a:ext cx="215640" cy="1324080"/>
          </a:xfrm>
          <a:prstGeom prst="downArrow">
            <a:avLst>
              <a:gd name="adj1" fmla="val 50000"/>
              <a:gd name="adj2" fmla="val 50060"/>
            </a:avLst>
          </a:prstGeom>
          <a:solidFill>
            <a:srgbClr val="afc551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14" name="Down Arrow 12"/>
          <p:cNvSpPr/>
          <p:nvPr/>
        </p:nvSpPr>
        <p:spPr>
          <a:xfrm rot="10800000">
            <a:off x="1199880" y="4365360"/>
            <a:ext cx="215640" cy="1577880"/>
          </a:xfrm>
          <a:prstGeom prst="downArrow">
            <a:avLst>
              <a:gd name="adj1" fmla="val 50000"/>
              <a:gd name="adj2" fmla="val 50069"/>
            </a:avLst>
          </a:prstGeom>
          <a:solidFill>
            <a:srgbClr val="00b0f0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15" name="Down Arrow 13"/>
          <p:cNvSpPr/>
          <p:nvPr/>
        </p:nvSpPr>
        <p:spPr>
          <a:xfrm>
            <a:off x="8317080" y="3641760"/>
            <a:ext cx="215640" cy="647640"/>
          </a:xfrm>
          <a:prstGeom prst="downArrow">
            <a:avLst>
              <a:gd name="adj1" fmla="val 50000"/>
              <a:gd name="adj2" fmla="val 50056"/>
            </a:avLst>
          </a:prstGeom>
          <a:solidFill>
            <a:srgbClr val="92d050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16" name="Down Arrow 14"/>
          <p:cNvSpPr/>
          <p:nvPr/>
        </p:nvSpPr>
        <p:spPr>
          <a:xfrm>
            <a:off x="6012000" y="3530520"/>
            <a:ext cx="215640" cy="777960"/>
          </a:xfrm>
          <a:prstGeom prst="downArrow">
            <a:avLst>
              <a:gd name="adj1" fmla="val 50000"/>
              <a:gd name="adj2" fmla="val 50073"/>
            </a:avLst>
          </a:prstGeom>
          <a:solidFill>
            <a:srgbClr val="38d4d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17" name="Down Arrow 15"/>
          <p:cNvSpPr/>
          <p:nvPr/>
        </p:nvSpPr>
        <p:spPr>
          <a:xfrm>
            <a:off x="4643280" y="3625920"/>
            <a:ext cx="216000" cy="696960"/>
          </a:xfrm>
          <a:prstGeom prst="downArrow">
            <a:avLst>
              <a:gd name="adj1" fmla="val 50000"/>
              <a:gd name="adj2" fmla="val 49983"/>
            </a:avLst>
          </a:prstGeom>
          <a:solidFill>
            <a:srgbClr val="38d4d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18" name="Down Arrow 18"/>
          <p:cNvSpPr/>
          <p:nvPr/>
        </p:nvSpPr>
        <p:spPr>
          <a:xfrm>
            <a:off x="1631880" y="3673440"/>
            <a:ext cx="216000" cy="647640"/>
          </a:xfrm>
          <a:prstGeom prst="downArrow">
            <a:avLst>
              <a:gd name="adj1" fmla="val 50000"/>
              <a:gd name="adj2" fmla="val 49972"/>
            </a:avLst>
          </a:prstGeom>
          <a:solidFill>
            <a:srgbClr val="38d4d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19" name="Down Arrow 19"/>
          <p:cNvSpPr/>
          <p:nvPr/>
        </p:nvSpPr>
        <p:spPr>
          <a:xfrm>
            <a:off x="3276720" y="3530520"/>
            <a:ext cx="215640" cy="800280"/>
          </a:xfrm>
          <a:prstGeom prst="downArrow">
            <a:avLst>
              <a:gd name="adj1" fmla="val 50000"/>
              <a:gd name="adj2" fmla="val 50067"/>
            </a:avLst>
          </a:prstGeom>
          <a:solidFill>
            <a:srgbClr val="38d4d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20" name="Down Arrow 20"/>
          <p:cNvSpPr/>
          <p:nvPr/>
        </p:nvSpPr>
        <p:spPr>
          <a:xfrm>
            <a:off x="1938240" y="3530520"/>
            <a:ext cx="141480" cy="777960"/>
          </a:xfrm>
          <a:prstGeom prst="downArrow">
            <a:avLst>
              <a:gd name="adj1" fmla="val 79981"/>
              <a:gd name="adj2" fmla="val 49947"/>
            </a:avLst>
          </a:prstGeom>
          <a:solidFill>
            <a:srgbClr val="ff0000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21" name="Down Arrow 23"/>
          <p:cNvSpPr/>
          <p:nvPr/>
        </p:nvSpPr>
        <p:spPr>
          <a:xfrm>
            <a:off x="7885080" y="3651120"/>
            <a:ext cx="216000" cy="6480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ff00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22" name="Down Arrow 24"/>
          <p:cNvSpPr/>
          <p:nvPr/>
        </p:nvSpPr>
        <p:spPr>
          <a:xfrm>
            <a:off x="7467480" y="3530520"/>
            <a:ext cx="216000" cy="757440"/>
          </a:xfrm>
          <a:prstGeom prst="downArrow">
            <a:avLst>
              <a:gd name="adj1" fmla="val 50000"/>
              <a:gd name="adj2" fmla="val 49986"/>
            </a:avLst>
          </a:prstGeom>
          <a:solidFill>
            <a:srgbClr val="ff0000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23" name="Down Arrow 25"/>
          <p:cNvSpPr/>
          <p:nvPr/>
        </p:nvSpPr>
        <p:spPr>
          <a:xfrm>
            <a:off x="7020000" y="3637080"/>
            <a:ext cx="216000" cy="649080"/>
          </a:xfrm>
          <a:prstGeom prst="downArrow">
            <a:avLst>
              <a:gd name="adj1" fmla="val 50000"/>
              <a:gd name="adj2" fmla="val 49958"/>
            </a:avLst>
          </a:prstGeom>
          <a:solidFill>
            <a:srgbClr val="38d4d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24" name="TextBox 26"/>
          <p:cNvSpPr/>
          <p:nvPr/>
        </p:nvSpPr>
        <p:spPr>
          <a:xfrm>
            <a:off x="142920" y="2538360"/>
            <a:ext cx="2665440" cy="429120"/>
          </a:xfrm>
          <a:prstGeom prst="rect">
            <a:avLst/>
          </a:prstGeom>
          <a:solidFill>
            <a:srgbClr val="afc5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f5494"/>
                </a:solidFill>
                <a:latin typeface="Verdana"/>
              </a:rPr>
              <a:t>Arrival RTA</a:t>
            </a:r>
            <a:endParaRPr b="1" lang="en-US" sz="22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25" name="TextBox 28"/>
          <p:cNvSpPr/>
          <p:nvPr/>
        </p:nvSpPr>
        <p:spPr>
          <a:xfrm>
            <a:off x="81000" y="5921280"/>
            <a:ext cx="2087640" cy="7642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Verdana"/>
              </a:rPr>
              <a:t>Assistant Interpreter</a:t>
            </a:r>
            <a:endParaRPr b="1" lang="en-US" sz="22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26" name="Down Arrow 30"/>
          <p:cNvSpPr/>
          <p:nvPr/>
        </p:nvSpPr>
        <p:spPr>
          <a:xfrm rot="10800000">
            <a:off x="1471680" y="4365720"/>
            <a:ext cx="216000" cy="882720"/>
          </a:xfrm>
          <a:prstGeom prst="downArrow">
            <a:avLst>
              <a:gd name="adj1" fmla="val 50000"/>
              <a:gd name="adj2" fmla="val 49986"/>
            </a:avLst>
          </a:prstGeom>
          <a:solidFill>
            <a:srgbClr val="ffd624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27" name="Down Arrow 31"/>
          <p:cNvSpPr/>
          <p:nvPr/>
        </p:nvSpPr>
        <p:spPr>
          <a:xfrm rot="10800000">
            <a:off x="1752480" y="4408200"/>
            <a:ext cx="216000" cy="647640"/>
          </a:xfrm>
          <a:prstGeom prst="downArrow">
            <a:avLst>
              <a:gd name="adj1" fmla="val 50000"/>
              <a:gd name="adj2" fmla="val 49972"/>
            </a:avLst>
          </a:prstGeom>
          <a:solidFill>
            <a:srgbClr val="00b050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28" name="TextBox 33"/>
          <p:cNvSpPr/>
          <p:nvPr/>
        </p:nvSpPr>
        <p:spPr>
          <a:xfrm>
            <a:off x="5479920" y="5132520"/>
            <a:ext cx="1203480" cy="764280"/>
          </a:xfrm>
          <a:prstGeom prst="rect">
            <a:avLst/>
          </a:prstGeom>
          <a:solidFill>
            <a:srgbClr val="9c9c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00"/>
                </a:solidFill>
                <a:latin typeface="Verdana"/>
              </a:rPr>
              <a:t>Study visits</a:t>
            </a:r>
            <a:endParaRPr b="1" lang="en-US" sz="22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29" name="TextBox 34"/>
          <p:cNvSpPr/>
          <p:nvPr/>
        </p:nvSpPr>
        <p:spPr>
          <a:xfrm>
            <a:off x="1471680" y="5173560"/>
            <a:ext cx="2359080" cy="764280"/>
          </a:xfrm>
          <a:prstGeom prst="rect">
            <a:avLst/>
          </a:prstGeom>
          <a:solidFill>
            <a:srgbClr val="ffd6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f5494"/>
                </a:solidFill>
                <a:latin typeface="Verdana"/>
              </a:rPr>
              <a:t>Current </a:t>
            </a:r>
            <a:endParaRPr b="1" lang="en-US" sz="22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f5494"/>
                </a:solidFill>
                <a:latin typeface="Verdana"/>
              </a:rPr>
              <a:t>Situation rep.</a:t>
            </a:r>
            <a:endParaRPr b="1" lang="en-US" sz="22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30" name="TextBox 35"/>
          <p:cNvSpPr/>
          <p:nvPr/>
        </p:nvSpPr>
        <p:spPr>
          <a:xfrm>
            <a:off x="1515960" y="3100320"/>
            <a:ext cx="1560600" cy="4291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Verdana"/>
              </a:rPr>
              <a:t>Kick-off</a:t>
            </a:r>
            <a:endParaRPr b="1" lang="en-US" sz="22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31" name="TextBox 36"/>
          <p:cNvSpPr/>
          <p:nvPr/>
        </p:nvSpPr>
        <p:spPr>
          <a:xfrm>
            <a:off x="3886200" y="5248440"/>
            <a:ext cx="1593720" cy="76428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Verdana"/>
              </a:rPr>
              <a:t>STE-Missions</a:t>
            </a:r>
            <a:endParaRPr b="1" lang="en-US" sz="22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32" name="TextBox 38"/>
          <p:cNvSpPr/>
          <p:nvPr/>
        </p:nvSpPr>
        <p:spPr>
          <a:xfrm>
            <a:off x="3311640" y="2517840"/>
            <a:ext cx="2203200" cy="1099440"/>
          </a:xfrm>
          <a:prstGeom prst="rect">
            <a:avLst/>
          </a:prstGeom>
          <a:solidFill>
            <a:srgbClr val="38d4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f5494"/>
                </a:solidFill>
                <a:latin typeface="Verdana"/>
              </a:rPr>
              <a:t>SC-Meeting</a:t>
            </a:r>
            <a:br>
              <a:rPr sz="2200"/>
            </a:br>
            <a:r>
              <a:rPr b="1" lang="en-GB" sz="2200" spc="-1" strike="noStrike">
                <a:solidFill>
                  <a:srgbClr val="0f5494"/>
                </a:solidFill>
                <a:latin typeface="Verdana"/>
              </a:rPr>
              <a:t>+ Quarterly</a:t>
            </a:r>
            <a:endParaRPr b="1" lang="en-US" sz="22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f5494"/>
                </a:solidFill>
                <a:latin typeface="Verdana"/>
              </a:rPr>
              <a:t>Reports!</a:t>
            </a:r>
            <a:endParaRPr b="1" lang="en-US" sz="22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33" name="Down Arrow 40"/>
          <p:cNvSpPr/>
          <p:nvPr/>
        </p:nvSpPr>
        <p:spPr>
          <a:xfrm rot="10800000">
            <a:off x="3886200" y="4431960"/>
            <a:ext cx="216000" cy="816120"/>
          </a:xfrm>
          <a:prstGeom prst="downArrow">
            <a:avLst>
              <a:gd name="adj1" fmla="val 50000"/>
              <a:gd name="adj2" fmla="val 49993"/>
            </a:avLst>
          </a:prstGeom>
          <a:solidFill>
            <a:srgbClr val="00b050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34" name="Down Arrow 41"/>
          <p:cNvSpPr/>
          <p:nvPr/>
        </p:nvSpPr>
        <p:spPr>
          <a:xfrm rot="10800000">
            <a:off x="6156360" y="4389120"/>
            <a:ext cx="216000" cy="765000"/>
          </a:xfrm>
          <a:prstGeom prst="downArrow">
            <a:avLst>
              <a:gd name="adj1" fmla="val 50000"/>
              <a:gd name="adj2" fmla="val 49960"/>
            </a:avLst>
          </a:prstGeom>
          <a:solidFill>
            <a:srgbClr val="9c9cdf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35" name="Down Arrow 43"/>
          <p:cNvSpPr/>
          <p:nvPr/>
        </p:nvSpPr>
        <p:spPr>
          <a:xfrm rot="10800000">
            <a:off x="6379920" y="4414680"/>
            <a:ext cx="215640" cy="648000"/>
          </a:xfrm>
          <a:prstGeom prst="downArrow">
            <a:avLst>
              <a:gd name="adj1" fmla="val 50000"/>
              <a:gd name="adj2" fmla="val 50083"/>
            </a:avLst>
          </a:prstGeom>
          <a:solidFill>
            <a:srgbClr val="00b050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36" name="Down Arrow 45"/>
          <p:cNvSpPr/>
          <p:nvPr/>
        </p:nvSpPr>
        <p:spPr>
          <a:xfrm rot="10800000">
            <a:off x="4413240" y="4408200"/>
            <a:ext cx="216000" cy="765000"/>
          </a:xfrm>
          <a:prstGeom prst="downArrow">
            <a:avLst>
              <a:gd name="adj1" fmla="val 50000"/>
              <a:gd name="adj2" fmla="val 49960"/>
            </a:avLst>
          </a:prstGeom>
          <a:solidFill>
            <a:srgbClr val="9c9cdf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37" name="Down Arrow 46"/>
          <p:cNvSpPr/>
          <p:nvPr/>
        </p:nvSpPr>
        <p:spPr>
          <a:xfrm rot="10800000">
            <a:off x="5564160" y="4406760"/>
            <a:ext cx="216000" cy="6480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b050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38" name="Down Arrow 47"/>
          <p:cNvSpPr/>
          <p:nvPr/>
        </p:nvSpPr>
        <p:spPr>
          <a:xfrm rot="10800000">
            <a:off x="4983120" y="4421160"/>
            <a:ext cx="216000" cy="827280"/>
          </a:xfrm>
          <a:prstGeom prst="downArrow">
            <a:avLst>
              <a:gd name="adj1" fmla="val 50000"/>
              <a:gd name="adj2" fmla="val 49985"/>
            </a:avLst>
          </a:prstGeom>
          <a:solidFill>
            <a:srgbClr val="00b050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39" name="TextBox 49"/>
          <p:cNvSpPr/>
          <p:nvPr/>
        </p:nvSpPr>
        <p:spPr>
          <a:xfrm>
            <a:off x="7020000" y="2762280"/>
            <a:ext cx="1512720" cy="764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Verdana"/>
              </a:rPr>
              <a:t>Final meeting</a:t>
            </a:r>
            <a:endParaRPr b="1" lang="en-US" sz="22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40" name="TextBox 50"/>
          <p:cNvSpPr/>
          <p:nvPr/>
        </p:nvSpPr>
        <p:spPr>
          <a:xfrm>
            <a:off x="7683480" y="4365720"/>
            <a:ext cx="1209600" cy="764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f5494"/>
                </a:solidFill>
                <a:latin typeface="Verdana"/>
              </a:rPr>
              <a:t>Final report</a:t>
            </a:r>
            <a:endParaRPr b="1" lang="en-US" sz="22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41" name="TextBox 51"/>
          <p:cNvSpPr/>
          <p:nvPr/>
        </p:nvSpPr>
        <p:spPr>
          <a:xfrm>
            <a:off x="6707160" y="5419800"/>
            <a:ext cx="2448000" cy="109944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f5494"/>
                </a:solidFill>
                <a:latin typeface="Verdana"/>
              </a:rPr>
              <a:t>Twinning Review Mission (TRM)</a:t>
            </a:r>
            <a:endParaRPr b="1" lang="en-US" sz="22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42" name="Down Arrow 60"/>
          <p:cNvSpPr/>
          <p:nvPr/>
        </p:nvSpPr>
        <p:spPr>
          <a:xfrm rot="10800000">
            <a:off x="2700360" y="4406760"/>
            <a:ext cx="216000" cy="6480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b050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43" name="Down Arrow 62"/>
          <p:cNvSpPr/>
          <p:nvPr/>
        </p:nvSpPr>
        <p:spPr>
          <a:xfrm rot="10800000">
            <a:off x="2435040" y="4414320"/>
            <a:ext cx="215640" cy="606600"/>
          </a:xfrm>
          <a:prstGeom prst="downArrow">
            <a:avLst>
              <a:gd name="adj1" fmla="val 50000"/>
              <a:gd name="adj2" fmla="val 50074"/>
            </a:avLst>
          </a:prstGeom>
          <a:solidFill>
            <a:srgbClr val="00b050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44" name="Down Arrow 64"/>
          <p:cNvSpPr/>
          <p:nvPr/>
        </p:nvSpPr>
        <p:spPr>
          <a:xfrm rot="10800000">
            <a:off x="5780160" y="4398840"/>
            <a:ext cx="216000" cy="6480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b050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45" name="Down Arrow 65"/>
          <p:cNvSpPr/>
          <p:nvPr/>
        </p:nvSpPr>
        <p:spPr>
          <a:xfrm rot="10800000">
            <a:off x="6683400" y="4406760"/>
            <a:ext cx="216000" cy="6480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b050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46" name="Down Arrow 48"/>
          <p:cNvSpPr/>
          <p:nvPr/>
        </p:nvSpPr>
        <p:spPr>
          <a:xfrm rot="10800000">
            <a:off x="3635280" y="4406760"/>
            <a:ext cx="216000" cy="6480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b050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Arial"/>
              </a:rPr>
              <a:t>Follow up </a:t>
            </a:r>
            <a:br>
              <a:rPr sz="3000"/>
            </a:br>
            <a:br>
              <a:rPr sz="3000"/>
            </a:b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468360" y="214920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Website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Keep outputs of the project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Networking – Keep in touch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Ensure that all contact details are available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Continue your support so far as possible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Lessons learned?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Future cooperation?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49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122E2-8C28-4FA3-A7A4-60161826CD0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350" name="Picture 2" descr=""/>
          <p:cNvPicPr/>
          <p:nvPr/>
        </p:nvPicPr>
        <p:blipFill>
          <a:blip r:embed="rId1"/>
          <a:stretch/>
        </p:blipFill>
        <p:spPr>
          <a:xfrm>
            <a:off x="5508720" y="4549680"/>
            <a:ext cx="2820960" cy="18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Arial"/>
              </a:rPr>
              <a:t>Added value for the RTA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395280" y="2349360"/>
            <a:ext cx="734544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0320" indent="-31032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Meaningful activity,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10320" indent="-31032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Cooperation, collegiality,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10320" indent="-31032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Additional professional and life experience,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10320" indent="-31032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Intercultural and diplomatic skills,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10320" indent="-31032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Management experience,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10320" indent="-31032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Be familiar with the EU Institutions </a:t>
            </a:r>
            <a:br>
              <a:rPr sz="2400"/>
            </a:b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10320" indent="-310320">
              <a:spcBef>
                <a:spcPts val="9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But: it is </a:t>
            </a:r>
            <a:r>
              <a:rPr b="1" i="1" lang="en-GB" sz="2400" spc="-1" strike="noStrike" u="sng">
                <a:solidFill>
                  <a:srgbClr val="0f5494"/>
                </a:solidFill>
                <a:uFillTx/>
                <a:latin typeface="Arial"/>
              </a:rPr>
              <a:t>hard work </a:t>
            </a: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!!!   </a:t>
            </a:r>
            <a:r>
              <a:rPr b="0" lang="en-GB" sz="3600" spc="-1" strike="noStrike">
                <a:solidFill>
                  <a:srgbClr val="0f5494"/>
                </a:solidFill>
                <a:latin typeface="Wingdings"/>
                <a:ea typeface="Wingdings"/>
              </a:rPr>
              <a:t></a:t>
            </a:r>
            <a:endParaRPr b="0" i="1" lang="en-US" sz="3600" spc="-1" strike="noStrike">
              <a:solidFill>
                <a:srgbClr val="0f5494"/>
              </a:solidFill>
              <a:latin typeface="Arial"/>
            </a:endParaRPr>
          </a:p>
          <a:p>
            <a:pPr marL="310320" indent="-310320">
              <a:lnSpc>
                <a:spcPct val="100000"/>
              </a:lnSpc>
              <a:spcBef>
                <a:spcPts val="901"/>
              </a:spcBef>
              <a:buClr>
                <a:srgbClr val="0f5494"/>
              </a:buClr>
              <a:buSzPct val="12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53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883C6-1360-4F2D-9A5F-076BB48609D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 txBox="1"/>
          <p:nvPr/>
        </p:nvSpPr>
        <p:spPr>
          <a:xfrm>
            <a:off x="468360" y="1699920"/>
            <a:ext cx="82296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5494"/>
                </a:solidFill>
                <a:latin typeface="Arial"/>
              </a:rPr>
              <a:t>THANK YOU FOR YOUR ATTENTION!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55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8A0A3-52B7-4665-9C55-78EAE2FFFD3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356" name="Picture 4" descr=""/>
          <p:cNvPicPr/>
          <p:nvPr/>
        </p:nvPicPr>
        <p:blipFill>
          <a:blip r:embed="rId1"/>
          <a:stretch/>
        </p:blipFill>
        <p:spPr>
          <a:xfrm>
            <a:off x="2124000" y="2349360"/>
            <a:ext cx="5276880" cy="2652840"/>
          </a:xfrm>
          <a:prstGeom prst="rect">
            <a:avLst/>
          </a:prstGeom>
          <a:ln w="0">
            <a:noFill/>
          </a:ln>
        </p:spPr>
      </p:pic>
      <p:sp>
        <p:nvSpPr>
          <p:cNvPr id="357" name="TextBox 1"/>
          <p:cNvSpPr/>
          <p:nvPr/>
        </p:nvSpPr>
        <p:spPr>
          <a:xfrm>
            <a:off x="1042920" y="5229360"/>
            <a:ext cx="669780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5494"/>
                </a:solidFill>
                <a:latin typeface="Arial"/>
              </a:rPr>
              <a:t>GOOD  LUCK  AND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5494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f5494"/>
                </a:solidFill>
                <a:latin typeface="Arial"/>
              </a:rPr>
              <a:t>SUCCESS! 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f5494"/>
                </a:solidFill>
                <a:latin typeface="Verdana"/>
              </a:rPr>
              <a:t>Rudolf.Span@ec.europa.eu</a:t>
            </a: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Arial"/>
              </a:rPr>
              <a:t>The Resident Twinning Advisor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f5494"/>
                </a:solidFill>
                <a:latin typeface="Arial"/>
              </a:rPr>
              <a:t>Task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Coordination of the implementation of the project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Achievement of the mandatory results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Professional support for the beneficiary </a:t>
            </a:r>
            <a:br>
              <a:rPr sz="2400"/>
            </a:b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    institution – a real colleague!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7F6E9-F7CF-41D2-8325-6120BF6C605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180" name="Picture 2" descr=""/>
          <p:cNvPicPr/>
          <p:nvPr/>
        </p:nvPicPr>
        <p:blipFill>
          <a:blip r:embed="rId1"/>
          <a:stretch/>
        </p:blipFill>
        <p:spPr>
          <a:xfrm>
            <a:off x="7380360" y="1916280"/>
            <a:ext cx="1253880" cy="136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Arial"/>
              </a:rPr>
              <a:t>The Resident Twinning Advisor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f5494"/>
                </a:solidFill>
                <a:latin typeface="Arial"/>
              </a:rPr>
              <a:t>Behaviour - Diplomatic skills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An 'ambassador' of your country of origin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An 'ambassador' of the European Union</a:t>
            </a:r>
            <a:br>
              <a:rPr sz="2400"/>
            </a:b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Collaboration on high level: </a:t>
            </a:r>
            <a:br>
              <a:rPr sz="2400"/>
            </a:b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-Ambassadors, Ministers, Secretaries of State, </a:t>
            </a:r>
            <a:br>
              <a:rPr sz="2400"/>
            </a:b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-EU-Delegation/Representation, EU-Commission,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-Executive board of different stakeholders </a:t>
            </a:r>
            <a:br>
              <a:rPr sz="2400"/>
            </a:b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-e.g. associations, NGOs, industry etc.</a:t>
            </a:r>
            <a:br>
              <a:rPr sz="2400"/>
            </a:b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3F5BA-ED12-43D0-9D26-9436E1837E7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Arial"/>
              </a:rPr>
              <a:t>The Resident Twinning Advisor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f5494"/>
                </a:solidFill>
                <a:latin typeface="Arial"/>
              </a:rPr>
              <a:t>Skill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Management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Communication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Intercultural competences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Professional expertise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Union legislation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EU - structure and functioning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EF46C-9B37-43DE-921B-4E35253F622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187" name="Picture 2" descr=""/>
          <p:cNvPicPr/>
          <p:nvPr/>
        </p:nvPicPr>
        <p:blipFill>
          <a:blip r:embed="rId1"/>
          <a:stretch/>
        </p:blipFill>
        <p:spPr>
          <a:xfrm>
            <a:off x="5219640" y="2637000"/>
            <a:ext cx="3301920" cy="31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Arial"/>
              </a:rPr>
              <a:t>The start 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f5494"/>
                </a:solidFill>
                <a:latin typeface="Arial"/>
              </a:rPr>
              <a:t>Your expectation?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8A0E5-DA89-498D-9F4C-7C69B269A75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191" name="Picture 5" descr=""/>
          <p:cNvPicPr/>
          <p:nvPr/>
        </p:nvPicPr>
        <p:blipFill>
          <a:blip r:embed="rId1"/>
          <a:stretch/>
        </p:blipFill>
        <p:spPr>
          <a:xfrm>
            <a:off x="5292720" y="1700280"/>
            <a:ext cx="3456000" cy="210168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6" descr=""/>
          <p:cNvPicPr/>
          <p:nvPr/>
        </p:nvPicPr>
        <p:blipFill>
          <a:blip r:embed="rId2"/>
          <a:stretch/>
        </p:blipFill>
        <p:spPr>
          <a:xfrm>
            <a:off x="826920" y="3357720"/>
            <a:ext cx="416088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Arial"/>
              </a:rPr>
              <a:t>The reality? 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478F7-33D5-48D2-8B32-431CAC94620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195" name="Content Placeholder 4" descr=""/>
          <p:cNvPicPr/>
          <p:nvPr/>
        </p:nvPicPr>
        <p:blipFill>
          <a:blip r:embed="rId1"/>
          <a:stretch/>
        </p:blipFill>
        <p:spPr>
          <a:xfrm>
            <a:off x="1547640" y="2421000"/>
            <a:ext cx="2592720" cy="384660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5" descr=""/>
          <p:cNvPicPr/>
          <p:nvPr/>
        </p:nvPicPr>
        <p:blipFill>
          <a:blip r:embed="rId2"/>
          <a:stretch/>
        </p:blipFill>
        <p:spPr>
          <a:xfrm>
            <a:off x="4913280" y="1778040"/>
            <a:ext cx="3760920" cy="280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8T10:25:18Z</dcterms:created>
  <dc:creator>European Commission</dc:creator>
  <dc:description/>
  <dc:language>en-US</dc:language>
  <cp:lastModifiedBy>CASILLAS VACHER Christophe (NEAR)</cp:lastModifiedBy>
  <cp:lastPrinted>2016-12-07T09:39:50Z</cp:lastPrinted>
  <dcterms:modified xsi:type="dcterms:W3CDTF">2016-12-08T14:56:41Z</dcterms:modified>
  <cp:revision>312</cp:revision>
  <dc:subject/>
  <dc:title>PowerPoint Presentation</dc:title>
</cp:coreProperties>
</file>