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56B1-7419-4C83-9262-E60305D67C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B8AA-BE5F-42D4-AFEA-81BC824F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3D8C-3723-4AA6-84A9-F0F2493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24090-F764-42EE-AA51-C9C14F958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A9E47-D9CA-4AAC-8FD5-9AB6A0839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012FB-D38D-46A4-99AE-B5AA37F6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9E1D5-9532-49EB-8E5E-934B965A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A2D37-C2E0-49F2-85F0-A24DD4A7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E0464-3125-41EA-8A75-6A2EEFB1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0A7A1-437B-4593-9F5B-F2097305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3BDCE-D1F9-43F9-A69F-26F211B1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B8B8-B5C4-40D8-B159-295A08C2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AB4CE-22F2-43FB-970F-0A42A207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2D3F2-7045-4601-A9A2-602E7111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F52E3-29C8-479D-8FCD-955025A3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8A9F9-1B83-4470-AB73-050303B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125C6-C631-4236-9EB7-876C7BF43E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EC9B-0222-4F55-98D5-CA0647402B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DF43-6255-402E-96D6-4BDF06A2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0ADB-0442-421D-9B85-BC4167A0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CCB2-A1BE-44CB-BBFD-918CD7AB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7418-F84E-497D-B178-9DB521EB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CF09-5DF8-4357-848C-76FA5544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E687-03CC-4EB4-A87B-6EAF1121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2106-4166-4AB9-809D-18C4381D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28E1-6313-478B-AA38-464C526B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8A4E-ED15-4794-A50F-C90B370E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4E8D-C14B-418C-8AF5-B5474C4A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2C3A-1F7F-445D-B28C-C6553451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B858-13EC-465C-A260-F021F2BC50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63C59-A915-425B-8080-3E248CC3A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95598-611D-479E-B318-6E917AA5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46968-69F4-43AA-B930-44ECA717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E40A-E719-4B07-9725-249C3B47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FBF5B-E10B-4DB7-AF16-CC5E9E85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759C2-C87E-4F28-89C0-41C0BEB1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DA8B2-7E23-4125-95BB-B810FF0B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9A3AA-E923-47D0-BA7B-4E45C5FA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DB2DC-4433-4660-A8C6-7553A635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4C2AD-0F5F-4112-AF0F-9A4AA2FD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EB2C5-0BEF-4C6B-8B50-84E95E51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69190-0BF9-461A-9E38-28FD23CC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973FE-E4EA-4110-96F8-321A1BFF47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9FCA-726E-490C-9A4B-3FDCF6A1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AE52-7A8D-46F3-94B9-46533102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ACA2-6F9B-480F-9C7B-3C9A7347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3F5E-D8CA-4476-9365-E379C118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F93E-96E3-4691-A23E-CC26266F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8FD0-78FB-45B2-B8E7-9FFF3B2618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54B3-6998-45D4-915C-0FF3E159BAF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C3FC-2118-44B8-8874-85C2980BB7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9497-B740-4A89-9E15-4DDF00012D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 December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3EAF-7CD2-4BED-BB49-307BC0A045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95228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(CFCU) / IP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 / ENI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645F-B39A-4274-938E-9390F7C539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3130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96ED-8070-4C96-A0F3-A0E04EAAC6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F9B3-6197-4227-BAE7-DD52E2B7B2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8AE3-DCFB-49C8-856C-F9732E3B9B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62EE-7189-4B82-83C6-C18B5340AF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E605-17F6-490A-A95B-FDFCAD390F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3908-3345-46FB-A37D-9E4A15CC3E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7FD7-91A9-4F0E-B852-22095E39CD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262C-10C7-45B4-A5B7-2F5671FF9E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9A77-EACB-4D36-9374-3E734EFF3D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3E39-6F40-4F0B-B81C-031F30C3FC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A514-5D8D-43BB-A303-C8843E235C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F941-F120-4D8E-93D7-556D29501D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977D-B8F4-4D02-9DA7-B9DA2B3D76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F79E-E89F-4CB5-B217-9A83E9FCF1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8EBE-8F1C-4758-B29B-340B0E236F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B159-80CF-4828-8A99-04148DF9EF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2B46-D6D9-4D66-B22C-51776A50C9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0493-C3AD-4DCB-A184-ECC4E190B4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C47F-EB7D-4E41-9515-302CF57528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736E-E680-477D-B758-9DF5A40DC7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9D12-5975-486D-9983-22896C5B69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D578-51DA-4FC6-9ED4-775FB38E5B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47F2-3BBA-4AE9-A6EA-2B00C32CD0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7228-8F15-4FC6-910D-C7BC528885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s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7041-F93F-4B21-AC0D-BB2F882780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3093-6F38-47E8-ABD3-B4DCA084C1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9F77-EA7F-4C92-B82C-A85B5CF9C0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526A-9567-479B-8B68-43D37816C7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BC78-D0BC-41A0-9291-78D77BF33A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AF85-DDED-43AE-969B-B4C3EE7521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166C-D811-4F60-82E8-5C7042D259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3CAF-D082-4D6F-9FC5-88ED8A1F41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360"/>
            <a:ext cx="215640" cy="1577880"/>
          </a:xfrm>
          <a:prstGeom prst="downArrow">
            <a:avLst>
              <a:gd name="adj1" fmla="val 50000"/>
              <a:gd name="adj2" fmla="val 50069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81000" y="5921280"/>
            <a:ext cx="208764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479920" y="51325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471680" y="5173560"/>
            <a:ext cx="2359080" cy="76428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ituation rep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886200" y="5248440"/>
            <a:ext cx="159372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109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Twinning Review Mission (TRM)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E867-E124-4B0F-94D2-690CC81151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45EE-F4DE-492D-A88F-03C1D19ECE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480A-ADDC-4FDF-809D-6B933CF5E0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9FAF-A918-49A4-B23C-BEE765E09D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2D95-3956-4EFC-AC1D-1D35A87C70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872F-2A73-43B9-A930-8C8E06C5D7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CA1A-587B-4CF1-BA3A-4F3BA0C2D9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7745-9312-408D-871C-C747A7516E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CASILLAS VACHER Christophe (NEAR)</cp:lastModifiedBy>
  <cp:lastPrinted>2016-12-07T09:39:50Z</cp:lastPrinted>
  <dcterms:modified xsi:type="dcterms:W3CDTF">2016-12-08T14:56:41Z</dcterms:modified>
  <cp:revision>312</cp:revision>
  <dc:subject/>
  <dc:title>PowerPoint Presentation</dc:title>
</cp:coreProperties>
</file>