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4293A-8A34-4608-9AA5-B4EA85168A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B4972-5588-47A3-855B-1E8BB75D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28E3-870D-4324-9F3E-8AF182FC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3A965-E52A-4640-AF8E-22B393D470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B4F5A-BD02-427E-B3CD-27EB3CD649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4DE8C-1F16-4ADD-A47A-9467A1FC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9B39D-C925-4BE1-ADAD-15E33C21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8476D-EB33-4FAD-81DF-5EC0572C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03EC0-4CB5-4DD1-8B5B-425FB541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58E22-F174-4BFE-88EE-5ADF2A2F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F72D7-5F7E-4FBE-9B03-AE4718E0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ACAD-5DB7-43F6-9903-E12327FA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3D491-59C3-4991-B4A4-E127305B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08B42-2F64-4265-83DF-2A7A4D12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B0104-5D92-4DB9-A604-691C1E7D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22C38-C7CD-4EC3-B00A-BDBDDE79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AC2ED-3C3D-4541-830B-8BFB605477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D753-36D6-42D3-B2B8-F0DE6D53FC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9C0F-DCEA-4604-BB3F-48B3A864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66DD-389E-461C-A5CB-130C569D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5191-1F31-4C3A-86A1-5B1308B4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50BD-292A-4198-B4EC-0381F392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8C46-0007-49A8-99B2-9A44F29B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3AFE-672B-487A-B98B-D1A69FAC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6F45-A49C-4421-8A18-25F247FF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5244-13B2-46CF-93EC-5A741DFB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88E6-E7CA-4E3A-8416-382E91BD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80BB-6815-402B-8479-8CCB9AA1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8065-7357-4E3E-A87A-444E8C35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F592-640A-4950-A468-748ED369E6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E87A2-68B3-431F-A575-EDFAF663B4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5B255-884E-446F-9D39-78F15B3C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4CE9A-A82A-4E39-A15F-F2ED2B98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09A77-8FEC-41A9-AC72-7F6172D7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D54A5-2787-4559-9F41-16850DAD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C5453-0A52-46F8-8337-85FDCC48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ACE4B-980C-4869-9716-B19019B4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19987-10BC-4B0A-9BCA-91C3EEC6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3A6E6-0D01-44E5-89EE-1D17F147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B9D1E-B78A-4225-9079-E0E32661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A5388-55AC-4226-A833-72710596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B7735-7CF7-444E-B90A-769192CD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412A0-79BD-46DA-A915-8CDCFB4E00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8D270-1359-4C50-A620-CA99743A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0EEEC-6D63-4B39-B24C-85881EAD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AA9A-945B-41A3-9088-B231B35D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0A4C-0752-4737-9A53-2365340B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3A27-7701-41AA-98AB-026525F6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1D1C-998F-41B3-9AD3-DE587A3F0F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C645-4D37-48E9-B902-BC2F9D70FB9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879E-656F-4669-8DFB-54190380E1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BE6D-FB2A-4E2D-A4B9-161D5180BF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 December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6E11-8B9D-430F-85DF-ED50387465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360" y="19522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(CFCU) / IP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 / ENI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7C29-A270-4E11-8421-EF365B48F5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56360" y="2852640"/>
            <a:ext cx="231300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7A9C-1A29-4A02-B444-74176DD369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117E-4BB8-4FF4-ABC4-D6E18604A2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A92E-C5E1-44D6-B3D0-E15DBC1C89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BC74-D9C5-4ABF-9B28-D8067F90FA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F2BC-7F56-4052-B0E2-D4EEB120EB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85B3-038D-49FD-B214-6B5B55D8D2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4636-9994-4EDD-80FD-04F3AE5088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0DF1-D7C7-4348-A506-C882F6A1E4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E181-4B61-4068-9718-12250849C1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AECE-5D77-4AA6-810A-95C5E4B8C9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F2BA-7F58-4F50-A2A2-6C1706C0E1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890A-3F1F-49DA-8257-064B4B64B1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405A-3F1E-4CA8-819B-7BDACB1DA6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2551-5CFB-41BE-B177-B8DAF8A66E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1D25-6406-4E31-995D-820D0A6BF9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4A9C-DDB0-4AE8-975B-C0024A7031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03B5-1975-4B3B-B78D-09ED5F4178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C24A-3A55-4FDA-8CCA-AE1BBFA869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F954-FA38-45BB-8C65-B96F8469E8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5253-C88F-42FB-8F06-B6DA61BE84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60D1-289C-4F58-89A9-97B3804B3B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21C2-BA85-4CD2-A2AC-72E17FFAF3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0215-75A2-4107-A90D-4776A968A2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AC93-1A07-41AB-A851-DC72C1678A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s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1579-8B09-49CE-9C30-8A40F085E8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F12D-4B56-46A8-B701-8AFC6150E7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96E4-50A6-493C-B8E4-9BB2BED174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1D99-FB9B-4649-A89D-6EC4456219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EBA8-5E44-485A-8E1D-B94011D882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AC03-2B86-43E3-8FD2-6349646F17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27C9-85FA-4924-A73E-734B7165BC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0E18-3DC4-45EA-8796-F1A2384246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360"/>
            <a:ext cx="215640" cy="157788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81000" y="5921280"/>
            <a:ext cx="208764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479920" y="51325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471680" y="5173560"/>
            <a:ext cx="2359080" cy="76428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ituation rep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886200" y="5248440"/>
            <a:ext cx="159372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109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Twinning Review Mission (TRM)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6758-133E-4433-9994-42A9A0ABBF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E2F3-D16B-4199-B8CE-C3FD0B72B1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B779-6176-411F-A27A-F147A76A14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E779-DE61-4F68-92AB-C5D500DCDC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8896-1BB2-4C4C-AC20-733FD7D9C4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3C3F-A8AE-42EF-90D8-B2467FFC2C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FC55-8EBD-43C8-844A-C05C13A07D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7B0D-3844-4F7C-8B27-6FEAE8AB84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CASILLAS VACHER Christophe (NEAR)</cp:lastModifiedBy>
  <cp:lastPrinted>2016-12-07T09:39:50Z</cp:lastPrinted>
  <dcterms:modified xsi:type="dcterms:W3CDTF">2016-12-08T14:56:41Z</dcterms:modified>
  <cp:revision>312</cp:revision>
  <dc:subject/>
  <dc:title>PowerPoint Presentation</dc:title>
</cp:coreProperties>
</file>