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</p:sldIdLst>
  <p:sldSz cx="9144000" cy="6858000"/>
  <p:notesSz cx="6804025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FA3421-268F-4173-80A5-FBED3A4FB2F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4FAC38-9446-4B7C-A72F-A5CED9A28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065C57-BF41-471E-9249-CE2091B5F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EF2E50-C007-45CA-8ACD-802E4383FFE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38A5AC-ECB1-40CC-9CFE-EB45AB40B72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C5CE99-058E-4BEB-843F-222B593AA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B86C0F-4A69-439B-ADF9-3AB647F9B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006575-71AF-4E78-B194-9B5DC81C6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F8AA78-3E9E-4551-93D0-E1DD630B5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BAEA7F-FF6A-408E-9573-ED2470DAF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AE7331-FE7F-41D2-9D40-42FF2AC17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4DE667-D9D9-4AD2-AC7F-413339F3C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422959-F8E8-44CB-B42C-D45D4A505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629D2E-BD2B-4C2D-A8C4-E291E7B06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F4E0B4-E1C6-4EAD-B877-CDA840085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587221-069E-4D9D-96AE-4EEE30DE2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745D8C-7B80-42E0-B962-2584AC5B927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B129A-CA48-4E55-A915-FCA5A28D860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028E5-4394-4EAE-96A8-0D7274322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81123-18AF-4963-A6F5-7BC0ED013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43DD2-0DC7-42F8-9321-CC4A17A31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8F638-533B-4032-BE2F-0439DB7FB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47ABD7-B874-430C-8961-1C30C1436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957E5-0A0B-4190-BF45-85FB61FA2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89346-7D1F-4B57-96B3-31E3EC055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2DE70-FC3C-4644-9583-DDEC7E58E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476BA-77E2-4A98-8802-2444EB33D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58DF5-B49D-4084-8449-D5D993588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A0870-2A3F-4EBD-89A8-A11FD0605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CBA49-A529-40AA-A49A-B7E41388604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490416-DA08-4495-8960-D103DF6BC5A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666691-7544-4A1D-9034-E72CCDA9D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8381DD-D0D2-44D8-998C-B0C8EB102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7A6F2C-F998-47C8-94BA-42614ED6E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224D53-1548-43C6-96C6-E3BAC4B90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6E11DF-9D25-4092-A73F-56D686371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C680AB-3BE5-40F5-9EED-0349B8547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F2C9D3-6631-4462-AD26-FBA18CEDE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8DA0C7-7A85-4E15-89B2-28EF3EF79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F21BED-BF89-48FA-AD77-FF7D38A35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F86E4D-558D-41C2-A054-D0F0D9A65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187D48-1F39-4BA6-9F96-A0F264191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3A6E15-DFBF-41DD-BF79-9E4D4857363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A22C8E-B060-4C31-B7A9-BF9FA0FF6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08FB62-54E5-4364-84E7-8C6A2B8AA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28B590-CCA6-49B3-ABFF-4F9376ACF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4276B8-337A-4CC5-AA5F-8AC13E68D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8731D0-A11F-4EF2-A479-3BDB1405E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fc5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F69FC-A50E-40B8-B0DF-53B58916911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5"/>
          <p:cNvSpPr/>
          <p:nvPr/>
        </p:nvSpPr>
        <p:spPr>
          <a:xfrm>
            <a:off x="0" y="1125360"/>
            <a:ext cx="9144000" cy="5732640"/>
          </a:xfrm>
          <a:prstGeom prst="rect">
            <a:avLst/>
          </a:prstGeom>
          <a:solidFill>
            <a:srgbClr val="0f5494"/>
          </a:solidFill>
          <a:ln w="633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41" name="Picture 2" descr="C:\DOCUME~1\lenain\LOCALS~1\Temp\7zEBB7.tmp\LOGO-CE for Sanco EN Positive.png"/>
          <p:cNvPicPr/>
          <p:nvPr/>
        </p:nvPicPr>
        <p:blipFill>
          <a:blip r:embed="rId2"/>
          <a:stretch/>
        </p:blipFill>
        <p:spPr>
          <a:xfrm>
            <a:off x="3649680" y="324000"/>
            <a:ext cx="1812960" cy="13968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fc5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45684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655272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4981E-9EB8-406E-9FAF-36E0586BFE56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5"/>
          <p:cNvSpPr/>
          <p:nvPr/>
        </p:nvSpPr>
        <p:spPr>
          <a:xfrm>
            <a:off x="0" y="-27000"/>
            <a:ext cx="9144000" cy="1130400"/>
          </a:xfrm>
          <a:prstGeom prst="rect">
            <a:avLst/>
          </a:prstGeom>
          <a:solidFill>
            <a:srgbClr val="afc5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83" name="Picture 3" descr="C:\DOCUME~1\lenain\LOCALS~1\Temp\7zED59.tmp\LOGO-CE for Sanco EN Negative.png"/>
          <p:cNvPicPr/>
          <p:nvPr/>
        </p:nvPicPr>
        <p:blipFill>
          <a:blip r:embed="rId2"/>
          <a:stretch/>
        </p:blipFill>
        <p:spPr>
          <a:xfrm>
            <a:off x="3656160" y="324000"/>
            <a:ext cx="1814400" cy="13968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fc5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5"/>
          </p:nvPr>
        </p:nvSpPr>
        <p:spPr>
          <a:xfrm>
            <a:off x="45684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6"/>
          </p:nvPr>
        </p:nvSpPr>
        <p:spPr>
          <a:xfrm>
            <a:off x="655272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8C13A-7842-405C-AF31-B9B3BD2370C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C:\DOCUME~1\lenain\LOCALS~1\Temp\7zEB8.tmp\LOGO-CE for Sanco EN Landscape Positive.png"/>
          <p:cNvPicPr/>
          <p:nvPr/>
        </p:nvPicPr>
        <p:blipFill>
          <a:blip r:embed="rId2"/>
          <a:stretch/>
        </p:blipFill>
        <p:spPr>
          <a:xfrm>
            <a:off x="6576840" y="5940360"/>
            <a:ext cx="2243160" cy="5968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fc5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7"/>
          </p:nvPr>
        </p:nvSpPr>
        <p:spPr>
          <a:xfrm>
            <a:off x="45684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sldNum" idx="8"/>
          </p:nvPr>
        </p:nvSpPr>
        <p:spPr>
          <a:xfrm>
            <a:off x="655272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1B1E6-04DA-40D1-8510-305339586E0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763280" y="1268280"/>
            <a:ext cx="7272360" cy="208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d624"/>
                </a:solidFill>
                <a:latin typeface="Arial"/>
              </a:rPr>
              <a:t>Feedback by a former </a:t>
            </a:r>
            <a:br>
              <a:rPr sz="3600"/>
            </a:br>
            <a:r>
              <a:rPr b="1" lang="en-US" sz="3600" spc="-1" strike="noStrike">
                <a:solidFill>
                  <a:srgbClr val="ffd624"/>
                </a:solidFill>
                <a:latin typeface="Arial"/>
              </a:rPr>
              <a:t>Resident Twinning Adviser </a:t>
            </a:r>
            <a:endParaRPr b="1" lang="en-US" sz="36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39280" y="4076280"/>
            <a:ext cx="827892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Lessons learned and recommendations </a:t>
            </a:r>
            <a:endParaRPr b="0" i="1" lang="en-US" sz="3200" spc="-1" strike="noStrike">
              <a:solidFill>
                <a:srgbClr val="0f5494"/>
              </a:solidFill>
              <a:latin typeface="Arial"/>
            </a:endParaRPr>
          </a:p>
          <a:p>
            <a:pPr marL="260640" indent="-2606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f5494"/>
              </a:solidFill>
              <a:latin typeface="Arial"/>
            </a:endParaRPr>
          </a:p>
          <a:p>
            <a:pPr marL="260640" indent="-2606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Brussels,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8 December 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2016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60640" indent="-2606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60640" indent="-2606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Rudolf SPA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First steps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Accommodation - Hotel =&gt; apartment for ren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Office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Contact - EU Deleg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Contact - own Embassy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Car registr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Health insurance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Doctors etc.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AB235-5B0C-4204-A79B-1780FE75663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1125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First steps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68360" y="1952280"/>
            <a:ext cx="8229600" cy="47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Beneficiary institution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    </a:t>
            </a: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Hierarchy and counterparts in the beneficiary institution</a:t>
            </a:r>
            <a:br>
              <a:rPr sz="2400"/>
            </a:b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Other relevant institutions</a:t>
            </a:r>
            <a:br>
              <a:rPr sz="2400"/>
            </a:b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National expert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Central Finance and Contracts Unit (CFCU) / IPA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Project Administration Office (PAO) / ENI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400" spc="-1" strike="noStrike">
                <a:solidFill>
                  <a:srgbClr val="0f5494"/>
                </a:solidFill>
                <a:latin typeface="Arial"/>
              </a:rPr>
              <a:t>EU Deleg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A7987-DB9D-4E3B-9F47-424B3085297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03" name="Picture 2" descr=""/>
          <p:cNvPicPr/>
          <p:nvPr/>
        </p:nvPicPr>
        <p:blipFill>
          <a:blip r:embed="rId1"/>
          <a:stretch/>
        </p:blipFill>
        <p:spPr>
          <a:xfrm>
            <a:off x="6156360" y="2852640"/>
            <a:ext cx="2313000" cy="17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Assistants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68360" y="306864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Assistan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Interpretation vs. transl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Early selection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election procedure for assistant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Advertisement in public media, on the website of the </a:t>
            </a:r>
            <a:br>
              <a:rPr sz="2400"/>
            </a:b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    EU-Delegation and of the Beneficiary Administr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EA8D8-0B4B-4D48-B66F-02019079503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07" name="Picture 2" descr=""/>
          <p:cNvPicPr/>
          <p:nvPr/>
        </p:nvPicPr>
        <p:blipFill>
          <a:blip r:embed="rId1"/>
          <a:stretch/>
        </p:blipFill>
        <p:spPr>
          <a:xfrm>
            <a:off x="4788000" y="1557360"/>
            <a:ext cx="4216320" cy="168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Assistants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Be careful with recommendation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f5494"/>
                </a:solidFill>
                <a:latin typeface="Arial"/>
              </a:rPr>
              <a:t>Choice of the RTA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f5494"/>
                </a:solidFill>
                <a:latin typeface="Arial"/>
              </a:rPr>
              <a:t>Can involve the EU-Delegation,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f5494"/>
                </a:solidFill>
                <a:latin typeface="Arial"/>
              </a:rPr>
              <a:t>BC – no need to be in the panel.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A621A-A42A-44E9-8F77-D139E06849F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Assistants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Distribution of tasks between assistants</a:t>
            </a:r>
            <a:br>
              <a:rPr sz="2400"/>
            </a:b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Cooperative behavior is important - no competition </a:t>
            </a:r>
            <a:br>
              <a:rPr sz="2400"/>
            </a:b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Attendance at missions outside of the capital city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3E10D-F412-414B-B671-B9D39449BBD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Kick-off meeting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68360" y="256536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It has to be well organised - start in due time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The first highly official appearance of the RTA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High level guests - Invitation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Essential for technical presentations and discussion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A crucial opportunity for visibility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It has to take place as soon as possible but not to early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Already something concrete to present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95F9C-6C21-42E7-9F3D-D63FDD4CA66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Kick-off meeting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Presentation of the project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Presentation of the team (MS, BC, office)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Overview about the launching of the projec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Presentation of the work plan + implementation tool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Visibility materia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Website!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Press release / press-conference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F0FCC-9F60-4DC8-8F81-82528EAB7A3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Your new environment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2636640"/>
            <a:ext cx="822960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f5494"/>
                </a:solidFill>
                <a:latin typeface="Arial"/>
              </a:rPr>
              <a:t>The country</a:t>
            </a: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: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History, culture,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Gouvernement,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Political parties – Parliament,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Justice,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Economy, Trade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Language,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Behaviour,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Media etc.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CF8E5-D426-40AF-AAF2-351325BFBFD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23" name="Picture 2" descr=""/>
          <p:cNvPicPr/>
          <p:nvPr/>
        </p:nvPicPr>
        <p:blipFill>
          <a:blip r:embed="rId1"/>
          <a:stretch/>
        </p:blipFill>
        <p:spPr>
          <a:xfrm>
            <a:off x="5076720" y="3933720"/>
            <a:ext cx="3235320" cy="21528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3" descr=""/>
          <p:cNvPicPr/>
          <p:nvPr/>
        </p:nvPicPr>
        <p:blipFill>
          <a:blip r:embed="rId2"/>
          <a:stretch/>
        </p:blipFill>
        <p:spPr>
          <a:xfrm>
            <a:off x="5940360" y="1628640"/>
            <a:ext cx="2635200" cy="17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International context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International relations of the beneficiary country (BC)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European Union (Accession negotiations, benchmarks, progress reports, IPA program, Association agreements, country strategies, support programs)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EU Member States </a:t>
            </a:r>
            <a:r>
              <a:rPr b="0" lang="en-US" sz="2400" spc="-1" strike="noStrike">
                <a:solidFill>
                  <a:srgbClr val="0f5494"/>
                </a:solidFill>
                <a:latin typeface="Wingdings"/>
                <a:ea typeface="Wingdings"/>
              </a:rPr>
              <a:t></a:t>
            </a: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BC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Your country of origin </a:t>
            </a:r>
            <a:r>
              <a:rPr b="0" lang="en-US" sz="2400" spc="-1" strike="noStrike">
                <a:solidFill>
                  <a:srgbClr val="0f5494"/>
                </a:solidFill>
                <a:latin typeface="Wingdings"/>
                <a:ea typeface="Wingdings"/>
              </a:rPr>
              <a:t></a:t>
            </a: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 BC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Arial"/>
              </a:rPr>
              <a:t>Neighbours</a:t>
            </a: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f5494"/>
                </a:solidFill>
                <a:latin typeface="Wingdings"/>
                <a:ea typeface="Wingdings"/>
              </a:rPr>
              <a:t></a:t>
            </a: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BC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023D3-27CB-43F6-9686-CB1DE06D188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28" name="Picture 2" descr=""/>
          <p:cNvPicPr/>
          <p:nvPr/>
        </p:nvPicPr>
        <p:blipFill>
          <a:blip r:embed="rId1"/>
          <a:stretch/>
        </p:blipFill>
        <p:spPr>
          <a:xfrm>
            <a:off x="5796000" y="4149720"/>
            <a:ext cx="295272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Your professional environment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EU projects (previous, current, future)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Other projects (bilateral cooperations, World Bank, etc.)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TAIEX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Resident expert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Stakeholders – international </a:t>
            </a:r>
            <a:br>
              <a:rPr sz="2400"/>
            </a:b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       and nationa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F3994-9923-4CD7-A837-4AFD3189CF2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32" name="Picture 2" descr=""/>
          <p:cNvPicPr/>
          <p:nvPr/>
        </p:nvPicPr>
        <p:blipFill>
          <a:blip r:embed="rId1"/>
          <a:stretch/>
        </p:blipFill>
        <p:spPr>
          <a:xfrm>
            <a:off x="5076720" y="4149720"/>
            <a:ext cx="303228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My Twinning-experience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24000" y="347184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50000"/>
              </a:lnSpc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2005 - 2007 </a:t>
            </a: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Short-Term Expert - Romania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2007 - 2009 </a:t>
            </a: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Resident Twinning Advisor - RO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2010 – 2011 </a:t>
            </a: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Resident Twinning Advisor - RO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2011  - 2012</a:t>
            </a: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Short-Term Expert – Kosovo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69" name="Slide Number Placeholder 1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950A5-5172-4A36-AFE6-C3D4C4300C6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5437080" y="1125360"/>
            <a:ext cx="3706920" cy="23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The institution to be supported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68360" y="321300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Get familiar with the: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Organisational chart,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Budget, infrastructure,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Regional offices,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Local authorities,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Competencies,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Cooperation with other institutions.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649E0-4EEE-47E2-B94B-A3934AA7EC6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36" name="Picture 3" descr=""/>
          <p:cNvPicPr/>
          <p:nvPr/>
        </p:nvPicPr>
        <p:blipFill>
          <a:blip r:embed="rId1"/>
          <a:stretch/>
        </p:blipFill>
        <p:spPr>
          <a:xfrm>
            <a:off x="4859280" y="2276640"/>
            <a:ext cx="3971880" cy="29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Get familiar with the structure </a:t>
            </a:r>
            <a:br>
              <a:rPr sz="3000"/>
            </a:b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68360" y="234792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2880" indent="-2728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Arial"/>
              </a:rPr>
              <a:t>Who is who?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Arial"/>
              </a:rPr>
              <a:t>Behaviour, habit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Arial"/>
              </a:rPr>
              <a:t>Working hour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Arial"/>
              </a:rPr>
              <a:t>Public holiday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Arial"/>
              </a:rPr>
              <a:t>Communication tool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2A55D-DA79-479B-904B-72973567A89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40" name="Picture 2" descr=""/>
          <p:cNvPicPr/>
          <p:nvPr/>
        </p:nvPicPr>
        <p:blipFill>
          <a:blip r:embed="rId1"/>
          <a:stretch/>
        </p:blipFill>
        <p:spPr>
          <a:xfrm>
            <a:off x="4908600" y="3284640"/>
            <a:ext cx="2092320" cy="15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Current situation? </a:t>
            </a:r>
            <a:br>
              <a:rPr sz="3000"/>
            </a:b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pic>
        <p:nvPicPr>
          <p:cNvPr id="242" name="Picture 2" descr=""/>
          <p:cNvPicPr/>
          <p:nvPr/>
        </p:nvPicPr>
        <p:blipFill>
          <a:blip r:embed="rId1"/>
          <a:stretch/>
        </p:blipFill>
        <p:spPr>
          <a:xfrm>
            <a:off x="7524720" y="1197000"/>
            <a:ext cx="1322280" cy="1727280"/>
          </a:xfrm>
          <a:prstGeom prst="rect">
            <a:avLst/>
          </a:prstGeom>
          <a:ln w="0">
            <a:noFill/>
          </a:ln>
        </p:spPr>
      </p:pic>
      <p:sp>
        <p:nvSpPr>
          <p:cNvPr id="243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76451-AEE4-488A-867C-87D5A10D0A9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44" name="TextBox 5"/>
          <p:cNvSpPr/>
          <p:nvPr/>
        </p:nvSpPr>
        <p:spPr>
          <a:xfrm>
            <a:off x="81000" y="2351160"/>
            <a:ext cx="8812080" cy="36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 u="sng">
                <a:solidFill>
                  <a:srgbClr val="0f5494"/>
                </a:solidFill>
                <a:uFillTx/>
                <a:latin typeface="Arial"/>
              </a:rPr>
              <a:t>'Current</a:t>
            </a:r>
            <a:r>
              <a:rPr b="1" lang="de-DE" sz="2200" spc="-1" strike="noStrike" u="sng">
                <a:solidFill>
                  <a:srgbClr val="0f5494"/>
                </a:solidFill>
                <a:uFillTx/>
                <a:latin typeface="Arial"/>
              </a:rPr>
              <a:t> Situation Report'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ffd6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5494"/>
                </a:solidFill>
                <a:latin typeface="Arial"/>
              </a:rPr>
              <a:t>Situation probably changed since the twinning-fiche was drafted,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ffd6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5494"/>
                </a:solidFill>
                <a:latin typeface="Arial"/>
              </a:rPr>
              <a:t>You need more details and additional special data,</a:t>
            </a:r>
            <a:r>
              <a:rPr b="0" lang="de-DE" sz="2200" spc="-1" strike="noStrike">
                <a:solidFill>
                  <a:srgbClr val="0f5494"/>
                </a:solidFill>
                <a:latin typeface="Arial"/>
              </a:rPr>
              <a:t>  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ffd6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5494"/>
                </a:solidFill>
                <a:latin typeface="Arial"/>
              </a:rPr>
              <a:t>Contact the leadership of the relevant institutions, units</a:t>
            </a:r>
            <a:r>
              <a:rPr b="0" lang="de-DE" sz="2200" spc="-1" strike="noStrike">
                <a:solidFill>
                  <a:srgbClr val="0f5494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f5494"/>
                </a:solidFill>
                <a:latin typeface="Arial"/>
              </a:rPr>
              <a:t>and stakeholders,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ffd6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5494"/>
                </a:solidFill>
                <a:latin typeface="Arial"/>
              </a:rPr>
              <a:t>Work together with the leaders of the Working Groups.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ffd6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Reports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8BAC1-04C9-48AF-8148-7878D4449AA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2636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600" spc="-1" strike="noStrike">
                <a:solidFill>
                  <a:srgbClr val="0f5494"/>
                </a:solidFill>
                <a:latin typeface="Arial"/>
              </a:rPr>
              <a:t>As specified in the Twinning contract!</a:t>
            </a:r>
            <a:endParaRPr b="0" i="1" lang="en-US" sz="2600" spc="-1" strike="noStrike">
              <a:solidFill>
                <a:srgbClr val="0f5494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600" spc="-1" strike="noStrike">
              <a:solidFill>
                <a:srgbClr val="0f5494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600" spc="-1" strike="noStrike">
                <a:solidFill>
                  <a:srgbClr val="0f5494"/>
                </a:solidFill>
                <a:latin typeface="Arial"/>
              </a:rPr>
              <a:t>RTA Office</a:t>
            </a:r>
            <a:endParaRPr b="0" i="1" lang="en-US" sz="2600" spc="-1" strike="noStrike">
              <a:solidFill>
                <a:srgbClr val="0f5494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600" spc="-1" strike="noStrike">
                <a:solidFill>
                  <a:srgbClr val="0f5494"/>
                </a:solidFill>
                <a:latin typeface="Arial"/>
              </a:rPr>
              <a:t>Current Situation Report /Inception Report</a:t>
            </a:r>
            <a:br>
              <a:rPr sz="2600"/>
            </a:br>
            <a:r>
              <a:rPr b="0" i="1" lang="de-DE" sz="26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i="1" lang="de-DE" sz="2600" spc="-1" strike="noStrike">
                <a:solidFill>
                  <a:srgbClr val="0f5494"/>
                </a:solidFill>
                <a:latin typeface="Arial"/>
              </a:rPr>
              <a:t>(can be part of the first Quarterly report)</a:t>
            </a:r>
            <a:endParaRPr b="0" i="1" lang="en-US" sz="2600" spc="-1" strike="noStrike">
              <a:solidFill>
                <a:srgbClr val="0f5494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600" spc="-1" strike="noStrike">
                <a:solidFill>
                  <a:srgbClr val="0f5494"/>
                </a:solidFill>
                <a:latin typeface="Arial"/>
              </a:rPr>
              <a:t>Quarterly Reports </a:t>
            </a:r>
            <a:endParaRPr b="0" i="1" lang="en-US" sz="2600" spc="-1" strike="noStrike">
              <a:solidFill>
                <a:srgbClr val="0f5494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600" spc="-1" strike="noStrike">
                <a:solidFill>
                  <a:srgbClr val="0f5494"/>
                </a:solidFill>
                <a:latin typeface="Arial"/>
              </a:rPr>
              <a:t>Final Report </a:t>
            </a:r>
            <a:br>
              <a:rPr sz="2600"/>
            </a:br>
            <a:r>
              <a:rPr b="0" i="1" lang="de-DE" sz="26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600" spc="-1" strike="noStrike">
              <a:solidFill>
                <a:srgbClr val="0f5494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600" spc="-1" strike="noStrike">
                <a:solidFill>
                  <a:srgbClr val="0f5494"/>
                </a:solidFill>
                <a:latin typeface="Arial"/>
              </a:rPr>
              <a:t>Short-term experts</a:t>
            </a:r>
            <a:endParaRPr b="0" i="1" lang="en-US" sz="2600" spc="-1" strike="noStrike">
              <a:solidFill>
                <a:srgbClr val="0f5494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600" spc="-1" strike="noStrike">
                <a:solidFill>
                  <a:srgbClr val="0f5494"/>
                </a:solidFill>
                <a:latin typeface="Arial"/>
              </a:rPr>
              <a:t>Mission Report</a:t>
            </a:r>
            <a:endParaRPr b="0" i="1" lang="en-US" sz="2600" spc="-1" strike="noStrike">
              <a:solidFill>
                <a:srgbClr val="0f5494"/>
              </a:solidFill>
              <a:latin typeface="Arial"/>
            </a:endParaRPr>
          </a:p>
        </p:txBody>
      </p:sp>
      <p:pic>
        <p:nvPicPr>
          <p:cNvPr id="248" name="Picture 2" descr=""/>
          <p:cNvPicPr/>
          <p:nvPr/>
        </p:nvPicPr>
        <p:blipFill>
          <a:blip r:embed="rId1"/>
          <a:stretch/>
        </p:blipFill>
        <p:spPr>
          <a:xfrm>
            <a:off x="4716360" y="4581360"/>
            <a:ext cx="300852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Management meetings</a:t>
            </a:r>
            <a:br>
              <a:rPr sz="3000"/>
            </a:b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Steering committee meetings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1608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0840" indent="-3308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BC project leader, RTA counterpart,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0840" indent="-3308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Directors, Head of Units,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0840" indent="-3308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EU-Deleg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0840" indent="-3308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Central Financial and Contracting Unit (CFCU)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0840" indent="-3308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Project Administration Office (PAO)</a:t>
            </a:r>
            <a:br>
              <a:rPr sz="2400"/>
            </a:b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0840" indent="-3308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regularly, discussing the progress - activity pla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0840" indent="-3308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However, try to solve the problems before the meeting!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0840" indent="-3308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1F530-DC65-47F4-A6BA-3662FEC4264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52" name="Picture 2" descr=""/>
          <p:cNvPicPr/>
          <p:nvPr/>
        </p:nvPicPr>
        <p:blipFill>
          <a:blip r:embed="rId1"/>
          <a:stretch/>
        </p:blipFill>
        <p:spPr>
          <a:xfrm>
            <a:off x="6681960" y="1844640"/>
            <a:ext cx="186660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EU Delegation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68360" y="2420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 u="sng">
                <a:solidFill>
                  <a:srgbClr val="0f5494"/>
                </a:solidFill>
                <a:uFillTx/>
                <a:latin typeface="Arial"/>
              </a:rPr>
              <a:t>What do the EU Delegations do?</a:t>
            </a:r>
            <a:endParaRPr b="0" i="1" lang="en-US" sz="20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Arial"/>
              </a:rPr>
              <a:t>a key role in presenting, explaining and </a:t>
            </a:r>
            <a:br>
              <a:rPr sz="2000"/>
            </a:br>
            <a:r>
              <a:rPr b="0" i="1" lang="en-GB" sz="2000" spc="-1" strike="noStrike">
                <a:solidFill>
                  <a:srgbClr val="0f5494"/>
                </a:solidFill>
                <a:latin typeface="Arial"/>
              </a:rPr>
              <a:t>      implementing EU’s foreign policies; </a:t>
            </a:r>
            <a:endParaRPr b="0" i="1" lang="en-US" sz="20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Arial"/>
              </a:rPr>
              <a:t>analyse and report on the policies and </a:t>
            </a:r>
            <a:br>
              <a:rPr sz="2000"/>
            </a:br>
            <a:r>
              <a:rPr b="0" i="1" lang="en-GB" sz="2000" spc="-1" strike="noStrike">
                <a:solidFill>
                  <a:srgbClr val="0f5494"/>
                </a:solidFill>
                <a:latin typeface="Arial"/>
              </a:rPr>
              <a:t>     developments of their host countries; </a:t>
            </a:r>
            <a:endParaRPr b="0" i="1" lang="en-US" sz="20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Arial"/>
              </a:rPr>
              <a:t>conduct negotiations in accordance with given mandates.</a:t>
            </a:r>
            <a:br>
              <a:rPr sz="2000"/>
            </a:br>
            <a:r>
              <a:rPr b="0" i="1" lang="en-GB" sz="20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0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 u="sng">
                <a:solidFill>
                  <a:srgbClr val="0f5494"/>
                </a:solidFill>
                <a:uFillTx/>
                <a:latin typeface="Arial"/>
              </a:rPr>
              <a:t>How do the Delegations operate?</a:t>
            </a:r>
            <a:endParaRPr b="0" i="1" lang="en-US" sz="20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Arial"/>
              </a:rPr>
              <a:t>Maintaining political dialogue; </a:t>
            </a:r>
            <a:endParaRPr b="0" i="1" lang="en-US" sz="20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Arial"/>
              </a:rPr>
              <a:t>administering development aid; </a:t>
            </a:r>
            <a:endParaRPr b="0" i="1" lang="en-US" sz="20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Arial"/>
              </a:rPr>
              <a:t>supervision of EU trade issues and building cultural contacts. </a:t>
            </a:r>
            <a:endParaRPr b="0" i="1" lang="en-US" sz="20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E23AD-7614-4E99-A962-D8FBF770E46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56" name="Picture 2" descr=""/>
          <p:cNvPicPr/>
          <p:nvPr/>
        </p:nvPicPr>
        <p:blipFill>
          <a:blip r:embed="rId1"/>
          <a:stretch/>
        </p:blipFill>
        <p:spPr>
          <a:xfrm>
            <a:off x="6012000" y="1206360"/>
            <a:ext cx="2862000" cy="29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EU Delegation – support and monitoring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Close cooperation with the EU-Delegation is essential and of course beneficial for you as RTA and for the projec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General support in the implement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Support in the collaboration with the BC-administr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Participation of the EU-Delegation at all important events     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Kick-off, Steering Committee meetings, Final meeting etc.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9458A-C2CD-4559-A49C-EF2FBB12964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60" name="Picture 5" descr=""/>
          <p:cNvPicPr/>
          <p:nvPr/>
        </p:nvPicPr>
        <p:blipFill>
          <a:blip r:embed="rId1"/>
          <a:stretch/>
        </p:blipFill>
        <p:spPr>
          <a:xfrm>
            <a:off x="6227640" y="2421000"/>
            <a:ext cx="274176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Implementing a project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Arial"/>
              </a:rPr>
              <a:t>Working group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set up working group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for each component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BC official as leader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set up rule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activity plan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regular meeting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discussing the progres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0C9F5-5D44-4E1E-8E2B-8F5599663ED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64" name="Picture 2" descr=""/>
          <p:cNvPicPr/>
          <p:nvPr/>
        </p:nvPicPr>
        <p:blipFill>
          <a:blip r:embed="rId1"/>
          <a:stretch/>
        </p:blipFill>
        <p:spPr>
          <a:xfrm>
            <a:off x="4411800" y="2565360"/>
            <a:ext cx="426852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Activity plans</a:t>
            </a:r>
            <a:br>
              <a:rPr sz="3000"/>
            </a:b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follow up of the benchmark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clear time schedule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what needs to be done?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by whom?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by when?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calendar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expert mission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tudy visit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41592-CF15-453C-A505-5CB49A3DAA9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68" name="Picture 5" descr=""/>
          <p:cNvPicPr/>
          <p:nvPr/>
        </p:nvPicPr>
        <p:blipFill>
          <a:blip r:embed="rId1"/>
          <a:stretch/>
        </p:blipFill>
        <p:spPr>
          <a:xfrm>
            <a:off x="3708360" y="4149720"/>
            <a:ext cx="438156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Additional useful documentation</a:t>
            </a:r>
            <a:br>
              <a:rPr sz="3000"/>
            </a:b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minutes of the meeting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results of discussion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recommendations made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informal or formal character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to be circulated to the beneficiaries – transparency!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reminder for yourself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1B4F4-B9F3-4276-9442-6B399C01DBC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1125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f5494"/>
                </a:solidFill>
                <a:latin typeface="Arial"/>
              </a:rPr>
              <a:t>   </a:t>
            </a:r>
            <a:br>
              <a:rPr sz="3000"/>
            </a:br>
            <a:r>
              <a:rPr b="0" lang="en-GB" sz="3000" spc="-1" strike="noStrike">
                <a:solidFill>
                  <a:srgbClr val="0f5494"/>
                </a:solidFill>
                <a:latin typeface="Arial"/>
              </a:rPr>
              <a:t>Let‘s start our excursion! </a:t>
            </a:r>
            <a:br>
              <a:rPr sz="3000"/>
            </a:br>
            <a:r>
              <a:rPr b="0" lang="en-GB" sz="30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0f5494"/>
                </a:solidFill>
                <a:latin typeface="Arial"/>
              </a:rPr>
              <a:t>What comes next?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pic>
        <p:nvPicPr>
          <p:cNvPr id="172" name="Picture 3" descr=""/>
          <p:cNvPicPr/>
          <p:nvPr/>
        </p:nvPicPr>
        <p:blipFill>
          <a:blip r:embed="rId1"/>
          <a:stretch/>
        </p:blipFill>
        <p:spPr>
          <a:xfrm>
            <a:off x="1692360" y="2481120"/>
            <a:ext cx="5616360" cy="4116600"/>
          </a:xfrm>
          <a:prstGeom prst="rect">
            <a:avLst/>
          </a:prstGeom>
          <a:ln w="0">
            <a:noFill/>
          </a:ln>
        </p:spPr>
      </p:pic>
      <p:sp>
        <p:nvSpPr>
          <p:cNvPr id="173" name="Slide Number Placeholder 4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D2DC6-0845-4B78-962C-C975B27772F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1341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Coordination of the Short Time Experts (STEs)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250920" y="2349360"/>
            <a:ext cx="8353440" cy="348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6560" indent="-2865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RTA shall be the bridge and the catalytic agent between the STEs and the national experts/working group members etc. (be proactive!)</a:t>
            </a:r>
            <a:br>
              <a:rPr sz="2400"/>
            </a:b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86560" indent="-2865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input, briefings,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86560" indent="-2865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overview and detail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86560" indent="-2865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understanding the contex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86560" indent="-2865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absorption capacity of the BC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86560" indent="-2865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no need to separate the experts by M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86560" indent="-2865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continuity makes sense.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86560" indent="-2865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43DA4-27CB-4C1D-B6A9-0CEAF5644BC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75" name="Picture 2" descr=""/>
          <p:cNvPicPr/>
          <p:nvPr/>
        </p:nvPicPr>
        <p:blipFill>
          <a:blip r:embed="rId1"/>
          <a:stretch/>
        </p:blipFill>
        <p:spPr>
          <a:xfrm>
            <a:off x="5651640" y="3500280"/>
            <a:ext cx="235728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Coordination of the STE-missions</a:t>
            </a:r>
            <a:br>
              <a:rPr sz="3000"/>
            </a:b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539640" y="227664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7600" indent="-3276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prepare </a:t>
            </a:r>
            <a:r>
              <a:rPr b="1" i="1" lang="en-US" sz="2400" spc="-1" strike="noStrike">
                <a:solidFill>
                  <a:srgbClr val="0f5494"/>
                </a:solidFill>
                <a:latin typeface="Arial"/>
              </a:rPr>
              <a:t>terms of reference</a:t>
            </a: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, objectives and agenda of the missions in due time</a:t>
            </a:r>
            <a:br>
              <a:rPr sz="2400"/>
            </a:b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7600" indent="-3276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don’t waste 'expert days'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7600" indent="-3276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allow the beneficiaries to </a:t>
            </a:r>
            <a:r>
              <a:rPr b="1" i="1" lang="en-US" sz="2400" spc="-1" strike="noStrike">
                <a:solidFill>
                  <a:srgbClr val="0f5494"/>
                </a:solidFill>
                <a:latin typeface="Arial"/>
              </a:rPr>
              <a:t>evaluate </a:t>
            </a: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the experts – feedback is added value!</a:t>
            </a:r>
            <a:br>
              <a:rPr sz="2400"/>
            </a:b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7600" indent="-3276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f5494"/>
                </a:solidFill>
                <a:latin typeface="Arial"/>
              </a:rPr>
              <a:t>mission reports </a:t>
            </a: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of the experts have to be done in due time!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7600" indent="-3276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0259E-92F2-4396-BE92-0C8EFFA1346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79" name="Picture 3" descr=""/>
          <p:cNvPicPr/>
          <p:nvPr/>
        </p:nvPicPr>
        <p:blipFill>
          <a:blip r:embed="rId1"/>
          <a:stretch/>
        </p:blipFill>
        <p:spPr>
          <a:xfrm>
            <a:off x="5925960" y="2276640"/>
            <a:ext cx="298296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Communication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Web based Intranet / share poin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Developed with the beneficiary administr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Included on the website of the beneficiary administr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Access: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-   Management of the projec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Experts MS and BC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Working Group members etc.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F8456-116F-407F-BB57-CA1E6DB2E21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Share point - Intranet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5D0CE-27DA-4357-B27E-3B1BF1488E5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85" name="Picture 2" descr=""/>
          <p:cNvPicPr/>
          <p:nvPr/>
        </p:nvPicPr>
        <p:blipFill>
          <a:blip r:embed="rId1"/>
          <a:stretch/>
        </p:blipFill>
        <p:spPr>
          <a:xfrm>
            <a:off x="395280" y="981000"/>
            <a:ext cx="83329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Communication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Arial"/>
              </a:rPr>
              <a:t>Visibility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Arial"/>
              </a:rPr>
              <a:t>Website – open for the public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Information for the stakeholders and for the citizens</a:t>
            </a:r>
            <a:br>
              <a:rPr sz="2400"/>
            </a:b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It takes time but it is essential </a:t>
            </a:r>
            <a:r>
              <a:rPr b="1" lang="en-US" sz="2400" spc="-1" strike="noStrike">
                <a:solidFill>
                  <a:srgbClr val="0f5494"/>
                </a:solidFill>
                <a:latin typeface="Arial"/>
              </a:rPr>
              <a:t>during the implementation</a:t>
            </a:r>
            <a:br>
              <a:rPr sz="2400"/>
            </a:b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Added value </a:t>
            </a:r>
            <a:r>
              <a:rPr b="1" lang="en-US" sz="2400" spc="-1" strike="noStrike">
                <a:solidFill>
                  <a:srgbClr val="0f5494"/>
                </a:solidFill>
                <a:latin typeface="Arial"/>
              </a:rPr>
              <a:t>after finalisation </a:t>
            </a: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of the project.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3795E-1EBD-43D3-958A-50A7625C51E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Website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5B60C-D552-494D-A4A6-064014B3769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91" name="Picture 2" descr=""/>
          <p:cNvPicPr/>
          <p:nvPr/>
        </p:nvPicPr>
        <p:blipFill>
          <a:blip r:embed="rId1"/>
          <a:stretch/>
        </p:blipFill>
        <p:spPr>
          <a:xfrm>
            <a:off x="395280" y="2565360"/>
            <a:ext cx="837720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Visibility – start without delay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BA2C8-3965-42B2-A37A-FAC28098752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94" name="Picture 2" descr=""/>
          <p:cNvPicPr/>
          <p:nvPr/>
        </p:nvPicPr>
        <p:blipFill>
          <a:blip r:embed="rId1"/>
          <a:stretch/>
        </p:blipFill>
        <p:spPr>
          <a:xfrm>
            <a:off x="3822840" y="3386160"/>
            <a:ext cx="2441520" cy="2654280"/>
          </a:xfrm>
          <a:prstGeom prst="rect">
            <a:avLst/>
          </a:prstGeom>
          <a:ln w="9360">
            <a:solidFill>
              <a:srgbClr val="bbe0e3">
                <a:alpha val="99000"/>
              </a:srgbClr>
            </a:solidFill>
            <a:miter/>
          </a:ln>
        </p:spPr>
      </p:pic>
      <p:pic>
        <p:nvPicPr>
          <p:cNvPr id="295" name="Picture 2" descr=""/>
          <p:cNvPicPr/>
          <p:nvPr/>
        </p:nvPicPr>
        <p:blipFill>
          <a:blip r:embed="rId2"/>
          <a:stretch/>
        </p:blipFill>
        <p:spPr>
          <a:xfrm>
            <a:off x="6659640" y="2276640"/>
            <a:ext cx="1977840" cy="3763800"/>
          </a:xfrm>
          <a:prstGeom prst="rect">
            <a:avLst/>
          </a:prstGeom>
          <a:ln w="0">
            <a:noFill/>
          </a:ln>
        </p:spPr>
      </p:pic>
      <p:sp>
        <p:nvSpPr>
          <p:cNvPr id="296" name="TextBox 6"/>
          <p:cNvSpPr/>
          <p:nvPr/>
        </p:nvSpPr>
        <p:spPr>
          <a:xfrm>
            <a:off x="365040" y="2565360"/>
            <a:ext cx="3457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Arial"/>
              </a:rPr>
              <a:t>Flyer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Arial"/>
              </a:rPr>
              <a:t>Brochures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Arial"/>
              </a:rPr>
              <a:t>Roll-up banners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Arial"/>
              </a:rPr>
              <a:t>Useful gifts: 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f5494"/>
                </a:solidFill>
                <a:latin typeface="Arial"/>
              </a:rPr>
              <a:t>USB-Sticks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f5494"/>
                </a:solidFill>
                <a:latin typeface="Arial"/>
              </a:rPr>
              <a:t>Pencils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f5494"/>
                </a:solidFill>
                <a:latin typeface="Arial"/>
              </a:rPr>
              <a:t>etc. 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170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During implementation</a:t>
            </a:r>
            <a:br>
              <a:rPr sz="3000"/>
            </a:b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Support the needs of the BC</a:t>
            </a:r>
            <a:br>
              <a:rPr sz="3000"/>
            </a:b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cope of the projec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Benchmarks - Output orientation,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Help the partners to contribute,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RTA shall provide additional input,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Be realistic with your expectation,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Remain optimistic and motivated,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Prepare alternatives for the emergency cases.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373AB-3BFE-46D3-9BCC-CDAA2CFF66F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300" name="Picture 2" descr=""/>
          <p:cNvPicPr/>
          <p:nvPr/>
        </p:nvPicPr>
        <p:blipFill>
          <a:blip r:embed="rId1"/>
          <a:stretch/>
        </p:blipFill>
        <p:spPr>
          <a:xfrm>
            <a:off x="5508720" y="2565360"/>
            <a:ext cx="3568680" cy="32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Challenges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7680" indent="-3376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Political instability - Continuity in the BC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7680" indent="-3376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Absorption capacity – prioritisation of the project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7680" indent="-3376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Working stiles, </a:t>
            </a:r>
            <a:br>
              <a:rPr sz="2400"/>
            </a:b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7680" indent="-337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You need: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7680" indent="-337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- patience, enthusiasm,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7680" indent="-337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- intercultural skills,</a:t>
            </a:r>
            <a:br>
              <a:rPr sz="2400"/>
            </a:b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- target-oriented work, not forget the goals! 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7680" indent="-3376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7680" indent="-3376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7680" indent="-3376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A99DC-CB8A-4218-8B94-75C2CC4C26D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Finalisation of the project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68360" y="306864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Final quarterly report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Final meeting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Final repor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Focus on result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Recommendation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Follow up.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34625-2FF9-4507-8CF9-9DA28C23744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307" name="Picture 3" descr=""/>
          <p:cNvPicPr/>
          <p:nvPr/>
        </p:nvPicPr>
        <p:blipFill>
          <a:blip r:embed="rId1"/>
          <a:stretch/>
        </p:blipFill>
        <p:spPr>
          <a:xfrm>
            <a:off x="4788000" y="2708280"/>
            <a:ext cx="353988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Content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5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000" spc="-1" strike="noStrike">
                <a:solidFill>
                  <a:srgbClr val="0f5494"/>
                </a:solidFill>
                <a:latin typeface="Arial"/>
              </a:rPr>
              <a:t>The Resident Twinning </a:t>
            </a:r>
            <a:r>
              <a:rPr b="0" i="1" lang="en-GB" sz="3000" spc="-1" strike="noStrike">
                <a:solidFill>
                  <a:srgbClr val="0f5494"/>
                </a:solidFill>
                <a:latin typeface="Arial"/>
              </a:rPr>
              <a:t>Advisor</a:t>
            </a:r>
            <a:r>
              <a:rPr b="0" i="1" lang="de-DE" sz="3000" spc="-1" strike="noStrike">
                <a:solidFill>
                  <a:srgbClr val="0f5494"/>
                </a:solidFill>
                <a:latin typeface="Arial"/>
              </a:rPr>
              <a:t> (RTA)</a:t>
            </a:r>
            <a:endParaRPr b="0" i="1" lang="en-US" sz="30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75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0f5494"/>
                </a:solidFill>
                <a:latin typeface="Arial"/>
              </a:rPr>
              <a:t>Environment of the RTA </a:t>
            </a:r>
            <a:endParaRPr b="0" i="1" lang="en-US" sz="30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75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0f5494"/>
                </a:solidFill>
                <a:latin typeface="Arial"/>
              </a:rPr>
              <a:t>Implementation of the project</a:t>
            </a:r>
            <a:endParaRPr b="0" i="1" lang="en-US" sz="30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75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0f5494"/>
                </a:solidFill>
                <a:latin typeface="Arial"/>
              </a:rPr>
              <a:t>Conclusions</a:t>
            </a:r>
            <a:endParaRPr b="0" i="1" lang="en-US" sz="30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E21EA-5CF5-4370-BBC4-C25161F53B7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Time table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6539040" y="61578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18603-1BA1-4BB1-93A9-C37AEDB42F7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10" name="Straight Connector 5"/>
          <p:cNvSpPr/>
          <p:nvPr/>
        </p:nvSpPr>
        <p:spPr>
          <a:xfrm>
            <a:off x="1042920" y="4076640"/>
            <a:ext cx="5400720" cy="73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11" name="Straight Connector 7"/>
          <p:cNvSpPr/>
          <p:nvPr/>
        </p:nvSpPr>
        <p:spPr>
          <a:xfrm flipV="1">
            <a:off x="1476360" y="4149360"/>
            <a:ext cx="4896000" cy="142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12" name="Straight Connector 9"/>
          <p:cNvSpPr/>
          <p:nvPr/>
        </p:nvSpPr>
        <p:spPr>
          <a:xfrm>
            <a:off x="1079640" y="4365720"/>
            <a:ext cx="6516720" cy="0"/>
          </a:xfrm>
          <a:prstGeom prst="line">
            <a:avLst/>
          </a:prstGeom>
          <a:ln w="698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13" name="Down Arrow 10"/>
          <p:cNvSpPr/>
          <p:nvPr/>
        </p:nvSpPr>
        <p:spPr>
          <a:xfrm>
            <a:off x="1079640" y="2968560"/>
            <a:ext cx="215640" cy="1324080"/>
          </a:xfrm>
          <a:prstGeom prst="downArrow">
            <a:avLst>
              <a:gd name="adj1" fmla="val 50000"/>
              <a:gd name="adj2" fmla="val 50060"/>
            </a:avLst>
          </a:prstGeom>
          <a:solidFill>
            <a:srgbClr val="afc551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14" name="Down Arrow 12"/>
          <p:cNvSpPr/>
          <p:nvPr/>
        </p:nvSpPr>
        <p:spPr>
          <a:xfrm rot="10800000">
            <a:off x="1199880" y="4365360"/>
            <a:ext cx="215640" cy="1577880"/>
          </a:xfrm>
          <a:prstGeom prst="downArrow">
            <a:avLst>
              <a:gd name="adj1" fmla="val 50000"/>
              <a:gd name="adj2" fmla="val 50069"/>
            </a:avLst>
          </a:prstGeom>
          <a:solidFill>
            <a:srgbClr val="00b0f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15" name="Down Arrow 13"/>
          <p:cNvSpPr/>
          <p:nvPr/>
        </p:nvSpPr>
        <p:spPr>
          <a:xfrm>
            <a:off x="8317080" y="3641760"/>
            <a:ext cx="215640" cy="647640"/>
          </a:xfrm>
          <a:prstGeom prst="downArrow">
            <a:avLst>
              <a:gd name="adj1" fmla="val 50000"/>
              <a:gd name="adj2" fmla="val 50056"/>
            </a:avLst>
          </a:prstGeom>
          <a:solidFill>
            <a:srgbClr val="92d05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16" name="Down Arrow 14"/>
          <p:cNvSpPr/>
          <p:nvPr/>
        </p:nvSpPr>
        <p:spPr>
          <a:xfrm>
            <a:off x="6012000" y="3530520"/>
            <a:ext cx="215640" cy="777960"/>
          </a:xfrm>
          <a:prstGeom prst="downArrow">
            <a:avLst>
              <a:gd name="adj1" fmla="val 50000"/>
              <a:gd name="adj2" fmla="val 50073"/>
            </a:avLst>
          </a:prstGeom>
          <a:solidFill>
            <a:srgbClr val="38d4d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17" name="Down Arrow 15"/>
          <p:cNvSpPr/>
          <p:nvPr/>
        </p:nvSpPr>
        <p:spPr>
          <a:xfrm>
            <a:off x="4643280" y="3625920"/>
            <a:ext cx="216000" cy="696960"/>
          </a:xfrm>
          <a:prstGeom prst="downArrow">
            <a:avLst>
              <a:gd name="adj1" fmla="val 50000"/>
              <a:gd name="adj2" fmla="val 49983"/>
            </a:avLst>
          </a:prstGeom>
          <a:solidFill>
            <a:srgbClr val="38d4d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18" name="Down Arrow 18"/>
          <p:cNvSpPr/>
          <p:nvPr/>
        </p:nvSpPr>
        <p:spPr>
          <a:xfrm>
            <a:off x="1631880" y="3673440"/>
            <a:ext cx="216000" cy="647640"/>
          </a:xfrm>
          <a:prstGeom prst="downArrow">
            <a:avLst>
              <a:gd name="adj1" fmla="val 50000"/>
              <a:gd name="adj2" fmla="val 49972"/>
            </a:avLst>
          </a:prstGeom>
          <a:solidFill>
            <a:srgbClr val="38d4d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19" name="Down Arrow 19"/>
          <p:cNvSpPr/>
          <p:nvPr/>
        </p:nvSpPr>
        <p:spPr>
          <a:xfrm>
            <a:off x="3276720" y="3530520"/>
            <a:ext cx="215640" cy="800280"/>
          </a:xfrm>
          <a:prstGeom prst="downArrow">
            <a:avLst>
              <a:gd name="adj1" fmla="val 50000"/>
              <a:gd name="adj2" fmla="val 50067"/>
            </a:avLst>
          </a:prstGeom>
          <a:solidFill>
            <a:srgbClr val="38d4d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20" name="Down Arrow 20"/>
          <p:cNvSpPr/>
          <p:nvPr/>
        </p:nvSpPr>
        <p:spPr>
          <a:xfrm>
            <a:off x="1938240" y="3530520"/>
            <a:ext cx="141480" cy="777960"/>
          </a:xfrm>
          <a:prstGeom prst="downArrow">
            <a:avLst>
              <a:gd name="adj1" fmla="val 79981"/>
              <a:gd name="adj2" fmla="val 49947"/>
            </a:avLst>
          </a:prstGeom>
          <a:solidFill>
            <a:srgbClr val="ff000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21" name="Down Arrow 23"/>
          <p:cNvSpPr/>
          <p:nvPr/>
        </p:nvSpPr>
        <p:spPr>
          <a:xfrm>
            <a:off x="7885080" y="3651120"/>
            <a:ext cx="216000" cy="648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22" name="Down Arrow 24"/>
          <p:cNvSpPr/>
          <p:nvPr/>
        </p:nvSpPr>
        <p:spPr>
          <a:xfrm>
            <a:off x="7467480" y="3530520"/>
            <a:ext cx="216000" cy="75744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000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23" name="Down Arrow 25"/>
          <p:cNvSpPr/>
          <p:nvPr/>
        </p:nvSpPr>
        <p:spPr>
          <a:xfrm>
            <a:off x="7020000" y="3637080"/>
            <a:ext cx="216000" cy="64908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38d4d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24" name="TextBox 26"/>
          <p:cNvSpPr/>
          <p:nvPr/>
        </p:nvSpPr>
        <p:spPr>
          <a:xfrm>
            <a:off x="142920" y="2538360"/>
            <a:ext cx="2665440" cy="429120"/>
          </a:xfrm>
          <a:prstGeom prst="rect">
            <a:avLst/>
          </a:prstGeom>
          <a:solidFill>
            <a:srgbClr val="afc5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f5494"/>
                </a:solidFill>
                <a:latin typeface="Verdana"/>
              </a:rPr>
              <a:t>Arrival RTA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25" name="TextBox 28"/>
          <p:cNvSpPr/>
          <p:nvPr/>
        </p:nvSpPr>
        <p:spPr>
          <a:xfrm>
            <a:off x="81000" y="5921280"/>
            <a:ext cx="2087640" cy="7642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Verdana"/>
              </a:rPr>
              <a:t>Assistant Interpreter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26" name="Down Arrow 30"/>
          <p:cNvSpPr/>
          <p:nvPr/>
        </p:nvSpPr>
        <p:spPr>
          <a:xfrm rot="10800000">
            <a:off x="1471680" y="4365720"/>
            <a:ext cx="216000" cy="88272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d624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27" name="Down Arrow 31"/>
          <p:cNvSpPr/>
          <p:nvPr/>
        </p:nvSpPr>
        <p:spPr>
          <a:xfrm rot="10800000">
            <a:off x="1752480" y="4408200"/>
            <a:ext cx="216000" cy="647640"/>
          </a:xfrm>
          <a:prstGeom prst="downArrow">
            <a:avLst>
              <a:gd name="adj1" fmla="val 50000"/>
              <a:gd name="adj2" fmla="val 49972"/>
            </a:avLst>
          </a:prstGeom>
          <a:solidFill>
            <a:srgbClr val="00b05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28" name="TextBox 33"/>
          <p:cNvSpPr/>
          <p:nvPr/>
        </p:nvSpPr>
        <p:spPr>
          <a:xfrm>
            <a:off x="5479920" y="5132520"/>
            <a:ext cx="1203480" cy="764280"/>
          </a:xfrm>
          <a:prstGeom prst="rect">
            <a:avLst/>
          </a:prstGeom>
          <a:solidFill>
            <a:srgbClr val="9c9c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00"/>
                </a:solidFill>
                <a:latin typeface="Verdana"/>
              </a:rPr>
              <a:t>Study visits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29" name="TextBox 34"/>
          <p:cNvSpPr/>
          <p:nvPr/>
        </p:nvSpPr>
        <p:spPr>
          <a:xfrm>
            <a:off x="1471680" y="5173560"/>
            <a:ext cx="2359080" cy="764280"/>
          </a:xfrm>
          <a:prstGeom prst="rect">
            <a:avLst/>
          </a:prstGeom>
          <a:solidFill>
            <a:srgbClr val="ffd6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f5494"/>
                </a:solidFill>
                <a:latin typeface="Verdana"/>
              </a:rPr>
              <a:t>Current 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f5494"/>
                </a:solidFill>
                <a:latin typeface="Verdana"/>
              </a:rPr>
              <a:t>Situation rep.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30" name="TextBox 35"/>
          <p:cNvSpPr/>
          <p:nvPr/>
        </p:nvSpPr>
        <p:spPr>
          <a:xfrm>
            <a:off x="1515960" y="3100320"/>
            <a:ext cx="1560600" cy="429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Verdana"/>
              </a:rPr>
              <a:t>Kick-off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31" name="TextBox 36"/>
          <p:cNvSpPr/>
          <p:nvPr/>
        </p:nvSpPr>
        <p:spPr>
          <a:xfrm>
            <a:off x="3886200" y="5248440"/>
            <a:ext cx="1593720" cy="76428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Verdana"/>
              </a:rPr>
              <a:t>STE-Missions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32" name="TextBox 38"/>
          <p:cNvSpPr/>
          <p:nvPr/>
        </p:nvSpPr>
        <p:spPr>
          <a:xfrm>
            <a:off x="3311640" y="2517840"/>
            <a:ext cx="2203200" cy="1099440"/>
          </a:xfrm>
          <a:prstGeom prst="rect">
            <a:avLst/>
          </a:prstGeom>
          <a:solidFill>
            <a:srgbClr val="38d4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f5494"/>
                </a:solidFill>
                <a:latin typeface="Verdana"/>
              </a:rPr>
              <a:t>SC-Meeting</a:t>
            </a:r>
            <a:br>
              <a:rPr sz="2200"/>
            </a:br>
            <a:r>
              <a:rPr b="1" lang="en-GB" sz="2200" spc="-1" strike="noStrike">
                <a:solidFill>
                  <a:srgbClr val="0f5494"/>
                </a:solidFill>
                <a:latin typeface="Verdana"/>
              </a:rPr>
              <a:t>+ Quarterly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f5494"/>
                </a:solidFill>
                <a:latin typeface="Verdana"/>
              </a:rPr>
              <a:t>Reports!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33" name="Down Arrow 40"/>
          <p:cNvSpPr/>
          <p:nvPr/>
        </p:nvSpPr>
        <p:spPr>
          <a:xfrm rot="10800000">
            <a:off x="3886200" y="4431960"/>
            <a:ext cx="216000" cy="816120"/>
          </a:xfrm>
          <a:prstGeom prst="downArrow">
            <a:avLst>
              <a:gd name="adj1" fmla="val 50000"/>
              <a:gd name="adj2" fmla="val 49993"/>
            </a:avLst>
          </a:prstGeom>
          <a:solidFill>
            <a:srgbClr val="00b05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34" name="Down Arrow 41"/>
          <p:cNvSpPr/>
          <p:nvPr/>
        </p:nvSpPr>
        <p:spPr>
          <a:xfrm rot="10800000">
            <a:off x="6156360" y="4389120"/>
            <a:ext cx="216000" cy="765000"/>
          </a:xfrm>
          <a:prstGeom prst="downArrow">
            <a:avLst>
              <a:gd name="adj1" fmla="val 50000"/>
              <a:gd name="adj2" fmla="val 49960"/>
            </a:avLst>
          </a:prstGeom>
          <a:solidFill>
            <a:srgbClr val="9c9cdf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35" name="Down Arrow 43"/>
          <p:cNvSpPr/>
          <p:nvPr/>
        </p:nvSpPr>
        <p:spPr>
          <a:xfrm rot="10800000">
            <a:off x="6379920" y="4414680"/>
            <a:ext cx="215640" cy="648000"/>
          </a:xfrm>
          <a:prstGeom prst="downArrow">
            <a:avLst>
              <a:gd name="adj1" fmla="val 50000"/>
              <a:gd name="adj2" fmla="val 50083"/>
            </a:avLst>
          </a:prstGeom>
          <a:solidFill>
            <a:srgbClr val="00b05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36" name="Down Arrow 45"/>
          <p:cNvSpPr/>
          <p:nvPr/>
        </p:nvSpPr>
        <p:spPr>
          <a:xfrm rot="10800000">
            <a:off x="4413240" y="4408200"/>
            <a:ext cx="216000" cy="765000"/>
          </a:xfrm>
          <a:prstGeom prst="downArrow">
            <a:avLst>
              <a:gd name="adj1" fmla="val 50000"/>
              <a:gd name="adj2" fmla="val 49960"/>
            </a:avLst>
          </a:prstGeom>
          <a:solidFill>
            <a:srgbClr val="9c9cdf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37" name="Down Arrow 46"/>
          <p:cNvSpPr/>
          <p:nvPr/>
        </p:nvSpPr>
        <p:spPr>
          <a:xfrm rot="10800000">
            <a:off x="5564160" y="4406760"/>
            <a:ext cx="216000" cy="648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b05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38" name="Down Arrow 47"/>
          <p:cNvSpPr/>
          <p:nvPr/>
        </p:nvSpPr>
        <p:spPr>
          <a:xfrm rot="10800000">
            <a:off x="4983120" y="4421160"/>
            <a:ext cx="216000" cy="827280"/>
          </a:xfrm>
          <a:prstGeom prst="downArrow">
            <a:avLst>
              <a:gd name="adj1" fmla="val 50000"/>
              <a:gd name="adj2" fmla="val 49985"/>
            </a:avLst>
          </a:prstGeom>
          <a:solidFill>
            <a:srgbClr val="00b05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39" name="TextBox 49"/>
          <p:cNvSpPr/>
          <p:nvPr/>
        </p:nvSpPr>
        <p:spPr>
          <a:xfrm>
            <a:off x="7020000" y="2762280"/>
            <a:ext cx="1512720" cy="764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Verdana"/>
              </a:rPr>
              <a:t>Final meeting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40" name="TextBox 50"/>
          <p:cNvSpPr/>
          <p:nvPr/>
        </p:nvSpPr>
        <p:spPr>
          <a:xfrm>
            <a:off x="7683480" y="4365720"/>
            <a:ext cx="1209600" cy="764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f5494"/>
                </a:solidFill>
                <a:latin typeface="Verdana"/>
              </a:rPr>
              <a:t>Final report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41" name="TextBox 51"/>
          <p:cNvSpPr/>
          <p:nvPr/>
        </p:nvSpPr>
        <p:spPr>
          <a:xfrm>
            <a:off x="6707160" y="5419800"/>
            <a:ext cx="2448000" cy="10994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f5494"/>
                </a:solidFill>
                <a:latin typeface="Verdana"/>
              </a:rPr>
              <a:t>Twinning Review Mission (TRM)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42" name="Down Arrow 60"/>
          <p:cNvSpPr/>
          <p:nvPr/>
        </p:nvSpPr>
        <p:spPr>
          <a:xfrm rot="10800000">
            <a:off x="2700360" y="4406760"/>
            <a:ext cx="216000" cy="648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b05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43" name="Down Arrow 62"/>
          <p:cNvSpPr/>
          <p:nvPr/>
        </p:nvSpPr>
        <p:spPr>
          <a:xfrm rot="10800000">
            <a:off x="2435040" y="4414320"/>
            <a:ext cx="215640" cy="606600"/>
          </a:xfrm>
          <a:prstGeom prst="downArrow">
            <a:avLst>
              <a:gd name="adj1" fmla="val 50000"/>
              <a:gd name="adj2" fmla="val 50074"/>
            </a:avLst>
          </a:prstGeom>
          <a:solidFill>
            <a:srgbClr val="00b05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44" name="Down Arrow 64"/>
          <p:cNvSpPr/>
          <p:nvPr/>
        </p:nvSpPr>
        <p:spPr>
          <a:xfrm rot="10800000">
            <a:off x="5780160" y="4398840"/>
            <a:ext cx="216000" cy="648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b05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45" name="Down Arrow 65"/>
          <p:cNvSpPr/>
          <p:nvPr/>
        </p:nvSpPr>
        <p:spPr>
          <a:xfrm rot="10800000">
            <a:off x="6683400" y="4406760"/>
            <a:ext cx="216000" cy="648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b05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46" name="Down Arrow 48"/>
          <p:cNvSpPr/>
          <p:nvPr/>
        </p:nvSpPr>
        <p:spPr>
          <a:xfrm rot="10800000">
            <a:off x="3635280" y="4406760"/>
            <a:ext cx="216000" cy="648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b05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Follow up </a:t>
            </a:r>
            <a:br>
              <a:rPr sz="3000"/>
            </a:br>
            <a:br>
              <a:rPr sz="3000"/>
            </a:b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468360" y="214920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Website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Keep outputs of the project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Networking – Keep in touch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Ensure that all contact details are available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Continue your support so far as possible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Lessons learned?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Future cooperation?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07956-B38C-4FE4-A00F-C8A4C5B3FE2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350" name="Picture 2" descr=""/>
          <p:cNvPicPr/>
          <p:nvPr/>
        </p:nvPicPr>
        <p:blipFill>
          <a:blip r:embed="rId1"/>
          <a:stretch/>
        </p:blipFill>
        <p:spPr>
          <a:xfrm>
            <a:off x="5508720" y="4549680"/>
            <a:ext cx="2820960" cy="18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Added value for the RTA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395280" y="2349360"/>
            <a:ext cx="734544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0320" indent="-31032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Meaningful activity,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10320" indent="-31032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Cooperation, collegiality,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10320" indent="-31032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Additional professional and life experience,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10320" indent="-31032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Intercultural and diplomatic skills,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10320" indent="-31032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Management experience,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10320" indent="-31032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Be familiar with the EU Institutions </a:t>
            </a:r>
            <a:br>
              <a:rPr sz="2400"/>
            </a:b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10320" indent="-310320">
              <a:spcBef>
                <a:spcPts val="9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But: it is </a:t>
            </a:r>
            <a:r>
              <a:rPr b="1" i="1" lang="en-GB" sz="2400" spc="-1" strike="noStrike" u="sng">
                <a:solidFill>
                  <a:srgbClr val="0f5494"/>
                </a:solidFill>
                <a:uFillTx/>
                <a:latin typeface="Arial"/>
              </a:rPr>
              <a:t>hard work </a:t>
            </a: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!!!   </a:t>
            </a:r>
            <a:r>
              <a:rPr b="0" lang="en-GB" sz="3600" spc="-1" strike="noStrike">
                <a:solidFill>
                  <a:srgbClr val="0f5494"/>
                </a:solidFill>
                <a:latin typeface="Wingdings"/>
                <a:ea typeface="Wingdings"/>
              </a:rPr>
              <a:t></a:t>
            </a:r>
            <a:endParaRPr b="0" i="1" lang="en-US" sz="3600" spc="-1" strike="noStrike">
              <a:solidFill>
                <a:srgbClr val="0f5494"/>
              </a:solidFill>
              <a:latin typeface="Arial"/>
            </a:endParaRPr>
          </a:p>
          <a:p>
            <a:pPr marL="310320" indent="-310320">
              <a:lnSpc>
                <a:spcPct val="100000"/>
              </a:lnSpc>
              <a:spcBef>
                <a:spcPts val="901"/>
              </a:spcBef>
              <a:buClr>
                <a:srgbClr val="0f5494"/>
              </a:buClr>
              <a:buSzPct val="12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63B7C-82AE-4E9A-A581-9D5D172374A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468360" y="1699920"/>
            <a:ext cx="82296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Arial"/>
              </a:rPr>
              <a:t>THANK YOU FOR YOUR ATTENTION!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55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3B232-B70D-446B-980D-9CBB049678F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356" name="Picture 4" descr=""/>
          <p:cNvPicPr/>
          <p:nvPr/>
        </p:nvPicPr>
        <p:blipFill>
          <a:blip r:embed="rId1"/>
          <a:stretch/>
        </p:blipFill>
        <p:spPr>
          <a:xfrm>
            <a:off x="2124000" y="2349360"/>
            <a:ext cx="5276880" cy="2652840"/>
          </a:xfrm>
          <a:prstGeom prst="rect">
            <a:avLst/>
          </a:prstGeom>
          <a:ln w="0">
            <a:noFill/>
          </a:ln>
        </p:spPr>
      </p:pic>
      <p:sp>
        <p:nvSpPr>
          <p:cNvPr id="357" name="TextBox 1"/>
          <p:cNvSpPr/>
          <p:nvPr/>
        </p:nvSpPr>
        <p:spPr>
          <a:xfrm>
            <a:off x="1042920" y="5229360"/>
            <a:ext cx="66978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Arial"/>
              </a:rPr>
              <a:t>GOOD  LUCK  AND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f5494"/>
                </a:solidFill>
                <a:latin typeface="Arial"/>
              </a:rPr>
              <a:t>SUCCESS! 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f5494"/>
                </a:solidFill>
                <a:latin typeface="Verdana"/>
              </a:rPr>
              <a:t>Rudolf.Span@ec.europa.eu</a:t>
            </a: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The Resident Twinning Advisor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f5494"/>
                </a:solidFill>
                <a:latin typeface="Arial"/>
              </a:rPr>
              <a:t>Task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Coordination of the implementation of the projec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Achievement of the mandatory result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Professional support for the beneficiary </a:t>
            </a:r>
            <a:br>
              <a:rPr sz="2400"/>
            </a:b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    institution – a real colleague!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E034F-45DF-4A21-A592-63484E2FEE1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80" name="Picture 2" descr=""/>
          <p:cNvPicPr/>
          <p:nvPr/>
        </p:nvPicPr>
        <p:blipFill>
          <a:blip r:embed="rId1"/>
          <a:stretch/>
        </p:blipFill>
        <p:spPr>
          <a:xfrm>
            <a:off x="7380360" y="1916280"/>
            <a:ext cx="1253880" cy="13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The Resident Twinning Advisor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f5494"/>
                </a:solidFill>
                <a:latin typeface="Arial"/>
              </a:rPr>
              <a:t>Behaviour - Diplomatic skill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An 'ambassador' of your country of origi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An 'ambassador' of the European Union</a:t>
            </a:r>
            <a:br>
              <a:rPr sz="2400"/>
            </a:b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Collaboration on high level: </a:t>
            </a:r>
            <a:br>
              <a:rPr sz="2400"/>
            </a:b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-Ambassadors, Ministers, Secretaries of State, </a:t>
            </a:r>
            <a:br>
              <a:rPr sz="2400"/>
            </a:b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-EU-Delegation/Representation, EU-Commission,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-Executive board of different stakeholders </a:t>
            </a:r>
            <a:br>
              <a:rPr sz="2400"/>
            </a:b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-e.g. associations, NGOs, industry etc.</a:t>
            </a:r>
            <a:br>
              <a:rPr sz="2400"/>
            </a:b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05C9B-8CE3-49F0-99AD-D6612A7056E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The Resident Twinning Advisor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f5494"/>
                </a:solidFill>
                <a:latin typeface="Arial"/>
              </a:rPr>
              <a:t>Skill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Managemen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Communic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Intercultural competence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Professional expertise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Union legisl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EU - structure and functioning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7D77D-A6F0-4F0C-B20A-538392BE9C7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87" name="Picture 2" descr=""/>
          <p:cNvPicPr/>
          <p:nvPr/>
        </p:nvPicPr>
        <p:blipFill>
          <a:blip r:embed="rId1"/>
          <a:stretch/>
        </p:blipFill>
        <p:spPr>
          <a:xfrm>
            <a:off x="5219640" y="2637000"/>
            <a:ext cx="3301920" cy="31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The start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f5494"/>
                </a:solidFill>
                <a:latin typeface="Arial"/>
              </a:rPr>
              <a:t>Your expectation?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4DEE9-F74F-45E4-B464-07FCD08C073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91" name="Picture 5" descr=""/>
          <p:cNvPicPr/>
          <p:nvPr/>
        </p:nvPicPr>
        <p:blipFill>
          <a:blip r:embed="rId1"/>
          <a:stretch/>
        </p:blipFill>
        <p:spPr>
          <a:xfrm>
            <a:off x="5292720" y="1700280"/>
            <a:ext cx="3456000" cy="21016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6" descr=""/>
          <p:cNvPicPr/>
          <p:nvPr/>
        </p:nvPicPr>
        <p:blipFill>
          <a:blip r:embed="rId2"/>
          <a:stretch/>
        </p:blipFill>
        <p:spPr>
          <a:xfrm>
            <a:off x="826920" y="3357720"/>
            <a:ext cx="416088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The reality?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172F8-B419-42B3-85D3-2640322358A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95" name="Content Placeholder 4" descr=""/>
          <p:cNvPicPr/>
          <p:nvPr/>
        </p:nvPicPr>
        <p:blipFill>
          <a:blip r:embed="rId1"/>
          <a:stretch/>
        </p:blipFill>
        <p:spPr>
          <a:xfrm>
            <a:off x="1547640" y="2421000"/>
            <a:ext cx="2592720" cy="38466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" descr=""/>
          <p:cNvPicPr/>
          <p:nvPr/>
        </p:nvPicPr>
        <p:blipFill>
          <a:blip r:embed="rId2"/>
          <a:stretch/>
        </p:blipFill>
        <p:spPr>
          <a:xfrm>
            <a:off x="4913280" y="1778040"/>
            <a:ext cx="3760920" cy="28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European Commission</dc:creator>
  <dc:description/>
  <dc:language>en-US</dc:language>
  <cp:lastModifiedBy>CASILLAS VACHER Christophe (NEAR)</cp:lastModifiedBy>
  <cp:lastPrinted>2016-12-07T09:39:50Z</cp:lastPrinted>
  <dcterms:modified xsi:type="dcterms:W3CDTF">2016-12-08T14:56:41Z</dcterms:modified>
  <cp:revision>312</cp:revision>
  <dc:subject/>
  <dc:title>PowerPoint Presentation</dc:title>
</cp:coreProperties>
</file>