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C56CC-1FBB-4BA4-8060-137C55804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capital cost is determined by the size of the power plant and this number is taken from PAD according to which it responds to the 600MW power plant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2 emission factor for Kosovo A and Kosovo B are 1.85 t/MWh and 1.47 t/MWh, respectively. These numbers are taken from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evelopment of Power Generation in South East Europe - Implications for Investments in Environmental Protec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(World Bank and SEEC). Amount of total CO2 emissions is calculated based on these factor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sovo C 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missions are based on the assumptions that it is employing supercritical technology with 0.84 t/MWh CO2 emission fact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e is still no standardized definition in regards to the proper meaning of ‘CCS Ready’, but this is considered to be the one that is understood in most cas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1F88-43E7-45BA-8085-4A7E8B008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69A1-95C7-43C2-BC50-FA1896DDC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B8AA-59A3-4C1F-B057-609BFB703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B997-47FE-4F86-BFBD-8757CDF5E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466CF-C9BA-4B4B-85B8-A43D7DCF5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2636E-BA54-4D1E-8DA1-005344349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6938B-9834-4117-BE1B-98A2B818F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5FD8D-09B5-4EE0-8D72-811A7C174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84F5B-3926-458E-9D1F-80EAEF79E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D9907-7CD5-4C39-A416-45E1B44FB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5D830-7EE3-4812-9E17-31BB64B4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CB56-E286-43D9-9B85-58721B158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D7431-52AE-4E50-B905-86E61A80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454C9-0E8A-4FAB-AC93-E9B91E88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3B68B-BBB6-45C8-BF84-BB8BB4522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5EB36-290F-4C16-847D-35A5CEDCB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B331E-6A00-4A1E-BB01-3BDA79AD0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9BEC-3D17-42C2-A250-F3F852BE5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1526-2BDB-4AA0-8B26-159FA88BB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72D4-EF52-473C-B3A2-A501B1A41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5340-DCFB-49FF-AF9A-2E8005083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403C-2CE5-43C2-947D-D585D8EE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CA31-7FDA-41D5-A10D-F4B44D34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F895-C71B-432A-876D-E11E12E9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1BD26-9B2D-4C38-B97B-10AADA8E3F0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413A5-EAF3-46B8-97A0-3882CE21106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rcRect l="2936" t="3292" r="2898" b="3452"/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56" name=""/>
          <p:cNvSpPr/>
          <p:nvPr/>
        </p:nvSpPr>
        <p:spPr>
          <a:xfrm>
            <a:off x="1371600" y="3886200"/>
            <a:ext cx="6400800" cy="24786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Mitigating Coal/Lignite Environmental Impacts: Kosovo C Case Stu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Charles Feinstein, World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itigation measures (2)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its efforts to minimize GHG emissions, World Bank is exploring offering the following guidance to Transaction Advisor for incorporation into RF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21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ation of technology type;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21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ation of minimum thermal efficiency;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21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ation of carbon shadow value or “tax” that would be applied in the bid level of emissions and factored into the evaluation of the bi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 view of Kosovo’s energy secto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07732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5000"/>
              </a:lnSpc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sovo is rich with low-cost lignite resources with proven reserves estimated at around 12 billion ton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5000"/>
              </a:lnSpc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ly it has two power plants Kosovo A and Kosovo B built in 1960s and 1980s, respective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5000"/>
              </a:lnSpc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otal 1513 MW installed generating capacity, Kosovo has only around 600 MW available capacity due to age, poor prior maintenance, and damage caused during the w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5000"/>
              </a:lnSpc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great amount of unmet demand for electricity both in Kosovo and SEE region-w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y do we need Kosovo C?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and mining sectors in Kosovo are regarded as future pillars of economic growth and poverty red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quently, Kosovo Provisional Institutions of Self-Government (PISG) has expressed interest in building new power plant that will increase electricity generation and lignite prod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SG has invited several donors like European Commission, World Bank, USAID and KfW to support its development agenda by facilitating private investments in energy and mining se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at are key facts?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sovo C power plant is expected to have an initial generating capacity of around 1000 MW.  The on-going SESA study will give more clarification in this regar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vernight capital cost of Kosovo C power plant is estimated a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2 billion and it will be the first foreign direct investment of this scope in the reg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requires 5 to 6 years for development and construction, with first unit(s) of Kosovo C power plant expected to come on-line around 201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sovo C represents an opportunity to adopt climate-friendly technology ahead of business-as-usual practice in the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w is World Bank involved in Kosovo C project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2100240"/>
            <a:ext cx="8686800" cy="39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 IDA grant of $10.5 million, World Bank is offer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ical assist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Kosovo C project, formally known as Lignite Power Technical Assistance Project (LPTAP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ld Bank support in Kosovo C is organized around three main components: support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a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g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vironment/social assess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dvis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ly, World Bank is working hard to ensure that the bidding process will b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, transpar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eti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ven technologies for lignite-fired power st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28600" y="1523880"/>
          <a:ext cx="8686800" cy="5052960"/>
        </p:xfrm>
        <a:graphic>
          <a:graphicData uri="http://schemas.openxmlformats.org/drawingml/2006/table">
            <a:tbl>
              <a:tblPr/>
              <a:tblGrid>
                <a:gridCol w="1752480"/>
                <a:gridCol w="1752840"/>
                <a:gridCol w="1828800"/>
                <a:gridCol w="1600200"/>
                <a:gridCol w="1752480"/>
              </a:tblGrid>
              <a:tr h="368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F sub-critical un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F 500MW supercritical un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FB 300MW sub-critical un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00 M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00M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pital 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$ 1,500 -2,000/k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$ 1,176 -1,764/k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$ 1,200 -1,800/k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$ 1,700 -2,200/k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gnite heat value (kJ/kg) (LHV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t efficiency (LHV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 - 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.2 – 40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 - 4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 - 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at rate (kJ/kWh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74 - 9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27 - 89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00 - 85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74 - 9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5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emission factor (tonnes/MWh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3-0.8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3-0.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9-0.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3-0.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ocal/Regional 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vironmental Impac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0010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issions Level for Kosovo A, Kosovo B, and forthcoming Kosovo C (in mg/N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838080" y="2743200"/>
          <a:ext cx="6629400" cy="3200400"/>
        </p:xfrm>
        <a:graphic>
          <a:graphicData uri="http://schemas.openxmlformats.org/drawingml/2006/table">
            <a:tbl>
              <a:tblPr/>
              <a:tblGrid>
                <a:gridCol w="2306880"/>
                <a:gridCol w="1463400"/>
                <a:gridCol w="1428840"/>
                <a:gridCol w="143028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</a:t>
                      </a:r>
                      <a:r>
                        <a:rPr b="0" lang="en-US" sz="22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t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7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sovo 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sovo 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sovo 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543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lobal Environmental Impac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609480" y="1905120"/>
          <a:ext cx="6858000" cy="452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05120"/>
                    <a:ext cx="6858000" cy="45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304920" y="1143000"/>
            <a:ext cx="7619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of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missions generated from Kosovo A, Kosovo B, and Kosovo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39000" y="612144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@ 610 M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191480" y="612144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@ 678 M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867280" y="6121440"/>
            <a:ext cx="113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@ 1000 M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itigation measures (1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rld Bank is currently exploring options for channeling this project through CDM mechanisms, possibly combining it with closure of Kosovo 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n Capture and Sequestration (CCS) technology is being considered as w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the power plant may not employ CCS technology in its early phase operation, it is expected that the plant will be CCS re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lnSpc>
                <a:spcPct val="90000"/>
              </a:lnSpc>
              <a:spcBef>
                <a:spcPts val="19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CS ready” =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nce CCS technology becomes commercially available, and necessary regulatory and economic drivers are in place, it should be capable for rapid retrofit*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22:59:37Z</dcterms:created>
  <dc:creator>Teuta Kacaniku</dc:creator>
  <dc:description/>
  <dc:language>en-US</dc:language>
  <cp:lastModifiedBy>Charles Feinsein</cp:lastModifiedBy>
  <dcterms:modified xsi:type="dcterms:W3CDTF">2007-09-24T14:40:08Z</dcterms:modified>
  <cp:revision>20</cp:revision>
  <dc:subject/>
  <dc:title>PowerPoint Presentation</dc:title>
</cp:coreProperties>
</file>