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5"/>
          </p:nvPr>
        </p:nvSpPr>
        <p:spPr>
          <a:xfrm>
            <a:off x="396504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6"/>
          </p:nvPr>
        </p:nvSpPr>
        <p:spPr>
          <a:xfrm>
            <a:off x="-36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7"/>
          </p:nvPr>
        </p:nvSpPr>
        <p:spPr>
          <a:xfrm>
            <a:off x="396504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1D329F1-B644-47EB-959A-961ABCF31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PENING REMARKS: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I would like to thank the organizers, the EC, for inviting me for this important event. It is always a pleasure to come her to this wonderful city and meet up with friends from the industry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those of you who I did not have a chance to meet, my name is Franz Gerner, and I am a senior energy economist with the World Bank, focusing in particular on natural gas project in the region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4B444-2874-403C-A9CC-01DA43778F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53115-09DA-4660-A645-E2A276AD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915F-7AF0-4470-902D-BE361742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4F835-9B76-4CFB-B681-85304321B3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D1599-FB7B-445F-B61D-2526FB81BE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019BC-5DE9-46DF-B4B6-E2F69C8E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23FF3-90A0-4B3B-A802-E648BB2A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E0698-D844-4ABA-8C91-D9E57853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C72DD-4EAF-4831-88B3-624251B0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A53A4-CAFA-41B5-8590-AEC38E24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652EA-62CE-4165-BCED-2A7361C0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4E611-29E0-437D-B58D-85AFEE90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B4A9E-98DA-4334-9818-6B1BF72F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E2B09-CE7F-4717-83B7-1E8238BD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97DB6-ED85-4D56-BBDE-30A7A6DF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894B4-A579-482B-AE9E-A493746D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C1461-B5AF-4FF6-86DC-4D06819F73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3E476-8D93-4355-8F62-6B4A7AF0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4A481-F09C-43CA-B65D-14F53E9E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586BC-E89C-40A2-B702-5F4AFDCB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BE27C-98BB-4B1D-80EE-DAFE80DD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6BA14-1AF8-401B-A70D-48D53B6C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32EA-5072-4227-8A37-F91B283A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4526A-449D-4DC1-9BDA-F2371164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974A-6047-4CD1-8943-1DCD017A1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4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B79F-F46C-4FCF-94D3-20515BF80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2856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Energy Community Gas Ring - </a:t>
            </a:r>
            <a:br>
              <a:rPr sz="3600"/>
            </a:b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A Vision for SEE Gasification: </a:t>
            </a:r>
            <a:br>
              <a:rPr sz="3600"/>
            </a:br>
            <a:r>
              <a:rPr b="0" i="1" lang="en-GB" sz="2400" spc="-1" strike="noStrike">
                <a:solidFill>
                  <a:srgbClr val="cc6600"/>
                </a:solidFill>
                <a:latin typeface="Times New Roman"/>
              </a:rPr>
              <a:t>A presentation on the</a:t>
            </a: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findings from the ongoing World Bank/Kfw SEE Gasification Study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77120" y="4724280"/>
            <a:ext cx="551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IFIAG Energy Group Me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September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1400" y="955800"/>
            <a:ext cx="8922960" cy="5640480"/>
            <a:chOff x="41400" y="955800"/>
            <a:chExt cx="8922960" cy="5640480"/>
          </a:xfrm>
        </p:grpSpPr>
        <p:grpSp>
          <p:nvGrpSpPr>
            <p:cNvPr id="411" name=""/>
            <p:cNvGrpSpPr/>
            <p:nvPr/>
          </p:nvGrpSpPr>
          <p:grpSpPr>
            <a:xfrm>
              <a:off x="41400" y="955800"/>
              <a:ext cx="8883720" cy="5640480"/>
              <a:chOff x="41400" y="955800"/>
              <a:chExt cx="8883720" cy="5640480"/>
            </a:xfrm>
          </p:grpSpPr>
          <p:pic>
            <p:nvPicPr>
              <p:cNvPr id="4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080" y="960480"/>
                <a:ext cx="8872560" cy="562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41400" y="955800"/>
                <a:ext cx="8883720" cy="5640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3616560" y="4010040"/>
              <a:ext cx="450720" cy="344520"/>
            </a:xfrm>
            <a:custGeom>
              <a:avLst/>
              <a:gdLst/>
              <a:ahLst/>
              <a:rect l="l" t="t" r="r" b="b"/>
              <a:pathLst>
                <a:path w="284" h="217">
                  <a:moveTo>
                    <a:pt x="284" y="217"/>
                  </a:moveTo>
                  <a:cubicBezTo>
                    <a:pt x="257" y="160"/>
                    <a:pt x="231" y="103"/>
                    <a:pt x="184" y="67"/>
                  </a:cubicBezTo>
                  <a:cubicBezTo>
                    <a:pt x="137" y="31"/>
                    <a:pt x="31" y="14"/>
                    <a:pt x="0" y="0"/>
                  </a:cubicBezTo>
                </a:path>
              </a:pathLst>
            </a:custGeom>
            <a:noFill/>
            <a:ln w="28440">
              <a:solidFill>
                <a:srgbClr val="b5e0e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20000">
              <a:off x="4934520" y="2381040"/>
              <a:ext cx="126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8000"/>
                  </a:solidFill>
                  <a:latin typeface="Arial Narrow"/>
                </a:rPr>
                <a:t>White Strea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924800">
              <a:off x="1454760" y="1604880"/>
              <a:ext cx="128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Nabucc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580000">
              <a:off x="2634840" y="1801800"/>
              <a:ext cx="544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Nor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76280" y="411660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8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62160" y="4730760"/>
              <a:ext cx="59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19840" y="4832640"/>
              <a:ext cx="38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8000"/>
                  </a:solidFill>
                  <a:latin typeface="Arial"/>
                </a:rPr>
                <a:t>TG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8247240" y="3017880"/>
              <a:ext cx="693720" cy="795600"/>
              <a:chOff x="8247240" y="3017880"/>
              <a:chExt cx="693720" cy="795600"/>
            </a:xfrm>
          </p:grpSpPr>
          <p:sp>
            <p:nvSpPr>
              <p:cNvPr id="422" name=""/>
              <p:cNvSpPr/>
              <p:nvPr/>
            </p:nvSpPr>
            <p:spPr>
              <a:xfrm>
                <a:off x="8247240" y="3017880"/>
                <a:ext cx="693720" cy="795600"/>
              </a:xfrm>
              <a:custGeom>
                <a:avLst/>
                <a:gdLst/>
                <a:ahLst/>
                <a:rect l="l" t="t" r="r" b="b"/>
                <a:pathLst>
                  <a:path w="437" h="501">
                    <a:moveTo>
                      <a:pt x="437" y="12"/>
                    </a:moveTo>
                    <a:lnTo>
                      <a:pt x="424" y="0"/>
                    </a:lnTo>
                    <a:lnTo>
                      <a:pt x="0" y="489"/>
                    </a:lnTo>
                    <a:lnTo>
                      <a:pt x="13" y="501"/>
                    </a:lnTo>
                    <a:lnTo>
                      <a:pt x="437" y="12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8540000">
                <a:off x="8379000" y="3303000"/>
                <a:ext cx="210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4d4d4d"/>
                    </a:solidFill>
                    <a:latin typeface="Arial"/>
                  </a:rPr>
                  <a:t>SCP</a:t>
                </a: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 rot="780000">
              <a:off x="1215720" y="21560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079400">
              <a:off x="1423440" y="2646000"/>
              <a:ext cx="886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Bluelin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80000">
              <a:off x="2136600" y="23828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87520" y="2320920"/>
              <a:ext cx="6010200" cy="2009880"/>
            </a:xfrm>
            <a:custGeom>
              <a:avLst/>
              <a:gdLst/>
              <a:ahLst/>
              <a:rect l="l" t="t" r="r" b="b"/>
              <a:pathLst>
                <a:path w="3786" h="1266">
                  <a:moveTo>
                    <a:pt x="3786" y="0"/>
                  </a:moveTo>
                  <a:lnTo>
                    <a:pt x="1704" y="636"/>
                  </a:lnTo>
                  <a:lnTo>
                    <a:pt x="0" y="1266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44920" y="1063800"/>
              <a:ext cx="2428560" cy="2257560"/>
            </a:xfrm>
            <a:custGeom>
              <a:avLst/>
              <a:gdLst/>
              <a:ahLst/>
              <a:rect l="l" t="t" r="r" b="b"/>
              <a:pathLst>
                <a:path w="1530" h="1422">
                  <a:moveTo>
                    <a:pt x="1530" y="1422"/>
                  </a:move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920" y="1882800"/>
              <a:ext cx="2604960" cy="1565280"/>
            </a:xfrm>
            <a:custGeom>
              <a:avLst/>
              <a:gdLst/>
              <a:ahLst/>
              <a:rect l="l" t="t" r="r" b="b"/>
              <a:pathLst>
                <a:path w="1641" h="986">
                  <a:moveTo>
                    <a:pt x="1641" y="986"/>
                  </a:moveTo>
                  <a:cubicBezTo>
                    <a:pt x="1599" y="965"/>
                    <a:pt x="1438" y="890"/>
                    <a:pt x="1389" y="861"/>
                  </a:cubicBezTo>
                  <a:cubicBezTo>
                    <a:pt x="1340" y="832"/>
                    <a:pt x="1360" y="827"/>
                    <a:pt x="1347" y="813"/>
                  </a:cubicBezTo>
                  <a:cubicBezTo>
                    <a:pt x="1334" y="799"/>
                    <a:pt x="1323" y="794"/>
                    <a:pt x="1313" y="778"/>
                  </a:cubicBezTo>
                  <a:cubicBezTo>
                    <a:pt x="1303" y="762"/>
                    <a:pt x="1296" y="734"/>
                    <a:pt x="1284" y="714"/>
                  </a:cubicBezTo>
                  <a:cubicBezTo>
                    <a:pt x="1272" y="694"/>
                    <a:pt x="1248" y="673"/>
                    <a:pt x="1239" y="657"/>
                  </a:cubicBezTo>
                  <a:cubicBezTo>
                    <a:pt x="1230" y="641"/>
                    <a:pt x="1241" y="629"/>
                    <a:pt x="1227" y="618"/>
                  </a:cubicBezTo>
                  <a:cubicBezTo>
                    <a:pt x="1213" y="607"/>
                    <a:pt x="1166" y="599"/>
                    <a:pt x="1152" y="588"/>
                  </a:cubicBezTo>
                  <a:cubicBezTo>
                    <a:pt x="1138" y="577"/>
                    <a:pt x="1149" y="557"/>
                    <a:pt x="1143" y="549"/>
                  </a:cubicBezTo>
                  <a:cubicBezTo>
                    <a:pt x="1137" y="541"/>
                    <a:pt x="1126" y="537"/>
                    <a:pt x="1117" y="538"/>
                  </a:cubicBezTo>
                  <a:cubicBezTo>
                    <a:pt x="1108" y="539"/>
                    <a:pt x="1097" y="553"/>
                    <a:pt x="1086" y="555"/>
                  </a:cubicBezTo>
                  <a:cubicBezTo>
                    <a:pt x="1075" y="557"/>
                    <a:pt x="1063" y="552"/>
                    <a:pt x="1053" y="552"/>
                  </a:cubicBezTo>
                  <a:cubicBezTo>
                    <a:pt x="1043" y="552"/>
                    <a:pt x="1033" y="559"/>
                    <a:pt x="1023" y="552"/>
                  </a:cubicBezTo>
                  <a:cubicBezTo>
                    <a:pt x="1013" y="545"/>
                    <a:pt x="1002" y="520"/>
                    <a:pt x="993" y="507"/>
                  </a:cubicBezTo>
                  <a:cubicBezTo>
                    <a:pt x="984" y="494"/>
                    <a:pt x="975" y="476"/>
                    <a:pt x="966" y="474"/>
                  </a:cubicBezTo>
                  <a:cubicBezTo>
                    <a:pt x="957" y="472"/>
                    <a:pt x="949" y="492"/>
                    <a:pt x="939" y="495"/>
                  </a:cubicBezTo>
                  <a:cubicBezTo>
                    <a:pt x="929" y="498"/>
                    <a:pt x="916" y="486"/>
                    <a:pt x="906" y="489"/>
                  </a:cubicBezTo>
                  <a:cubicBezTo>
                    <a:pt x="896" y="492"/>
                    <a:pt x="887" y="510"/>
                    <a:pt x="879" y="510"/>
                  </a:cubicBezTo>
                  <a:cubicBezTo>
                    <a:pt x="871" y="510"/>
                    <a:pt x="867" y="500"/>
                    <a:pt x="857" y="490"/>
                  </a:cubicBezTo>
                  <a:cubicBezTo>
                    <a:pt x="847" y="480"/>
                    <a:pt x="831" y="458"/>
                    <a:pt x="817" y="450"/>
                  </a:cubicBezTo>
                  <a:cubicBezTo>
                    <a:pt x="803" y="442"/>
                    <a:pt x="790" y="445"/>
                    <a:pt x="773" y="442"/>
                  </a:cubicBezTo>
                  <a:cubicBezTo>
                    <a:pt x="756" y="439"/>
                    <a:pt x="732" y="432"/>
                    <a:pt x="714" y="432"/>
                  </a:cubicBezTo>
                  <a:cubicBezTo>
                    <a:pt x="696" y="432"/>
                    <a:pt x="679" y="446"/>
                    <a:pt x="663" y="444"/>
                  </a:cubicBezTo>
                  <a:cubicBezTo>
                    <a:pt x="647" y="442"/>
                    <a:pt x="634" y="427"/>
                    <a:pt x="615" y="420"/>
                  </a:cubicBezTo>
                  <a:cubicBezTo>
                    <a:pt x="596" y="413"/>
                    <a:pt x="566" y="406"/>
                    <a:pt x="549" y="402"/>
                  </a:cubicBezTo>
                  <a:cubicBezTo>
                    <a:pt x="532" y="398"/>
                    <a:pt x="522" y="404"/>
                    <a:pt x="510" y="396"/>
                  </a:cubicBezTo>
                  <a:cubicBezTo>
                    <a:pt x="498" y="388"/>
                    <a:pt x="490" y="362"/>
                    <a:pt x="477" y="351"/>
                  </a:cubicBezTo>
                  <a:cubicBezTo>
                    <a:pt x="464" y="340"/>
                    <a:pt x="440" y="339"/>
                    <a:pt x="432" y="330"/>
                  </a:cubicBezTo>
                  <a:cubicBezTo>
                    <a:pt x="424" y="321"/>
                    <a:pt x="439" y="315"/>
                    <a:pt x="429" y="300"/>
                  </a:cubicBezTo>
                  <a:cubicBezTo>
                    <a:pt x="419" y="285"/>
                    <a:pt x="385" y="247"/>
                    <a:pt x="369" y="237"/>
                  </a:cubicBezTo>
                  <a:cubicBezTo>
                    <a:pt x="353" y="227"/>
                    <a:pt x="356" y="252"/>
                    <a:pt x="333" y="237"/>
                  </a:cubicBezTo>
                  <a:cubicBezTo>
                    <a:pt x="310" y="222"/>
                    <a:pt x="270" y="164"/>
                    <a:pt x="233" y="146"/>
                  </a:cubicBezTo>
                  <a:cubicBezTo>
                    <a:pt x="196" y="128"/>
                    <a:pt x="135" y="145"/>
                    <a:pt x="111" y="132"/>
                  </a:cubicBezTo>
                  <a:cubicBezTo>
                    <a:pt x="87" y="119"/>
                    <a:pt x="96" y="85"/>
                    <a:pt x="87" y="69"/>
                  </a:cubicBezTo>
                  <a:cubicBezTo>
                    <a:pt x="78" y="53"/>
                    <a:pt x="71" y="49"/>
                    <a:pt x="57" y="38"/>
                  </a:cubicBezTo>
                  <a:cubicBezTo>
                    <a:pt x="43" y="27"/>
                    <a:pt x="12" y="8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20482800">
              <a:off x="2727720" y="3500640"/>
              <a:ext cx="46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Su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20551200">
              <a:off x="4237560" y="3060360"/>
              <a:ext cx="163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South Stream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87520" y="4356360"/>
              <a:ext cx="1319400" cy="185760"/>
            </a:xfrm>
            <a:custGeom>
              <a:avLst/>
              <a:gdLst/>
              <a:ahLst/>
              <a:rect l="l" t="t" r="r" b="b"/>
              <a:pathLst>
                <a:path w="831" h="117">
                  <a:moveTo>
                    <a:pt x="831" y="5"/>
                  </a:moveTo>
                  <a:cubicBezTo>
                    <a:pt x="764" y="2"/>
                    <a:pt x="697" y="0"/>
                    <a:pt x="660" y="8"/>
                  </a:cubicBezTo>
                  <a:cubicBezTo>
                    <a:pt x="623" y="16"/>
                    <a:pt x="636" y="45"/>
                    <a:pt x="609" y="50"/>
                  </a:cubicBezTo>
                  <a:cubicBezTo>
                    <a:pt x="582" y="55"/>
                    <a:pt x="525" y="40"/>
                    <a:pt x="498" y="41"/>
                  </a:cubicBezTo>
                  <a:cubicBezTo>
                    <a:pt x="471" y="42"/>
                    <a:pt x="465" y="58"/>
                    <a:pt x="444" y="59"/>
                  </a:cubicBezTo>
                  <a:cubicBezTo>
                    <a:pt x="423" y="60"/>
                    <a:pt x="390" y="47"/>
                    <a:pt x="372" y="47"/>
                  </a:cubicBezTo>
                  <a:cubicBezTo>
                    <a:pt x="354" y="47"/>
                    <a:pt x="350" y="62"/>
                    <a:pt x="333" y="62"/>
                  </a:cubicBezTo>
                  <a:cubicBezTo>
                    <a:pt x="316" y="62"/>
                    <a:pt x="291" y="50"/>
                    <a:pt x="270" y="50"/>
                  </a:cubicBezTo>
                  <a:cubicBezTo>
                    <a:pt x="249" y="50"/>
                    <a:pt x="235" y="52"/>
                    <a:pt x="204" y="62"/>
                  </a:cubicBezTo>
                  <a:cubicBezTo>
                    <a:pt x="173" y="72"/>
                    <a:pt x="118" y="117"/>
                    <a:pt x="84" y="107"/>
                  </a:cubicBezTo>
                  <a:cubicBezTo>
                    <a:pt x="50" y="97"/>
                    <a:pt x="25" y="49"/>
                    <a:pt x="0" y="2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20805600">
              <a:off x="1498680" y="4330440"/>
              <a:ext cx="230040" cy="250920"/>
            </a:xfrm>
            <a:custGeom>
              <a:avLst/>
              <a:gdLst/>
              <a:ahLst/>
              <a:rect l="l" t="t" r="r" b="b"/>
              <a:pathLst>
                <a:path w="145" h="158">
                  <a:moveTo>
                    <a:pt x="145" y="72"/>
                  </a:moveTo>
                  <a:lnTo>
                    <a:pt x="0" y="0"/>
                  </a:lnTo>
                  <a:lnTo>
                    <a:pt x="29" y="158"/>
                  </a:lnTo>
                  <a:lnTo>
                    <a:pt x="145" y="7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78160" y="4078440"/>
              <a:ext cx="3333600" cy="880920"/>
            </a:xfrm>
            <a:custGeom>
              <a:avLst/>
              <a:gdLst/>
              <a:ahLst/>
              <a:rect l="l" t="t" r="r" b="b"/>
              <a:pathLst>
                <a:path w="2100" h="555">
                  <a:moveTo>
                    <a:pt x="2100" y="132"/>
                  </a:moveTo>
                  <a:lnTo>
                    <a:pt x="1647" y="168"/>
                  </a:lnTo>
                  <a:lnTo>
                    <a:pt x="1653" y="45"/>
                  </a:lnTo>
                  <a:lnTo>
                    <a:pt x="1545" y="9"/>
                  </a:lnTo>
                  <a:lnTo>
                    <a:pt x="1455" y="72"/>
                  </a:lnTo>
                  <a:lnTo>
                    <a:pt x="1428" y="3"/>
                  </a:lnTo>
                  <a:lnTo>
                    <a:pt x="1284" y="0"/>
                  </a:lnTo>
                  <a:lnTo>
                    <a:pt x="1194" y="57"/>
                  </a:lnTo>
                  <a:lnTo>
                    <a:pt x="912" y="63"/>
                  </a:lnTo>
                  <a:lnTo>
                    <a:pt x="924" y="159"/>
                  </a:lnTo>
                  <a:lnTo>
                    <a:pt x="891" y="153"/>
                  </a:lnTo>
                  <a:lnTo>
                    <a:pt x="828" y="183"/>
                  </a:lnTo>
                  <a:lnTo>
                    <a:pt x="330" y="555"/>
                  </a:lnTo>
                  <a:lnTo>
                    <a:pt x="246" y="501"/>
                  </a:lnTo>
                  <a:lnTo>
                    <a:pt x="156" y="438"/>
                  </a:lnTo>
                  <a:lnTo>
                    <a:pt x="120" y="300"/>
                  </a:lnTo>
                  <a:lnTo>
                    <a:pt x="0" y="177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73240" y="1273320"/>
              <a:ext cx="7758000" cy="3228840"/>
            </a:xfrm>
            <a:custGeom>
              <a:avLst/>
              <a:gdLst/>
              <a:ahLst/>
              <a:rect l="l" t="t" r="r" b="b"/>
              <a:pathLst>
                <a:path w="4887" h="2034">
                  <a:moveTo>
                    <a:pt x="4887" y="1137"/>
                  </a:moveTo>
                  <a:lnTo>
                    <a:pt x="4512" y="1569"/>
                  </a:lnTo>
                  <a:lnTo>
                    <a:pt x="4455" y="1587"/>
                  </a:lnTo>
                  <a:lnTo>
                    <a:pt x="4422" y="1641"/>
                  </a:lnTo>
                  <a:lnTo>
                    <a:pt x="4323" y="1683"/>
                  </a:lnTo>
                  <a:lnTo>
                    <a:pt x="4245" y="1683"/>
                  </a:lnTo>
                  <a:lnTo>
                    <a:pt x="4110" y="1764"/>
                  </a:lnTo>
                  <a:lnTo>
                    <a:pt x="3963" y="1794"/>
                  </a:lnTo>
                  <a:lnTo>
                    <a:pt x="3819" y="1740"/>
                  </a:lnTo>
                  <a:lnTo>
                    <a:pt x="3768" y="1800"/>
                  </a:lnTo>
                  <a:lnTo>
                    <a:pt x="3768" y="1842"/>
                  </a:lnTo>
                  <a:lnTo>
                    <a:pt x="3594" y="2004"/>
                  </a:lnTo>
                  <a:lnTo>
                    <a:pt x="3435" y="2034"/>
                  </a:lnTo>
                  <a:lnTo>
                    <a:pt x="3204" y="1992"/>
                  </a:lnTo>
                  <a:lnTo>
                    <a:pt x="3126" y="1944"/>
                  </a:lnTo>
                  <a:lnTo>
                    <a:pt x="3123" y="1836"/>
                  </a:lnTo>
                  <a:lnTo>
                    <a:pt x="2919" y="1866"/>
                  </a:lnTo>
                  <a:lnTo>
                    <a:pt x="2808" y="1851"/>
                  </a:lnTo>
                  <a:lnTo>
                    <a:pt x="2511" y="1866"/>
                  </a:lnTo>
                  <a:lnTo>
                    <a:pt x="2304" y="1908"/>
                  </a:lnTo>
                  <a:lnTo>
                    <a:pt x="2145" y="1941"/>
                  </a:lnTo>
                  <a:lnTo>
                    <a:pt x="1878" y="2034"/>
                  </a:lnTo>
                  <a:lnTo>
                    <a:pt x="1854" y="1920"/>
                  </a:lnTo>
                  <a:lnTo>
                    <a:pt x="1872" y="1782"/>
                  </a:lnTo>
                  <a:lnTo>
                    <a:pt x="1788" y="1542"/>
                  </a:lnTo>
                  <a:lnTo>
                    <a:pt x="1734" y="1389"/>
                  </a:lnTo>
                  <a:lnTo>
                    <a:pt x="1650" y="1356"/>
                  </a:lnTo>
                  <a:lnTo>
                    <a:pt x="1623" y="1290"/>
                  </a:lnTo>
                  <a:lnTo>
                    <a:pt x="1566" y="1239"/>
                  </a:lnTo>
                  <a:lnTo>
                    <a:pt x="1455" y="1263"/>
                  </a:lnTo>
                  <a:lnTo>
                    <a:pt x="1386" y="1158"/>
                  </a:lnTo>
                  <a:lnTo>
                    <a:pt x="1326" y="1173"/>
                  </a:lnTo>
                  <a:lnTo>
                    <a:pt x="1260" y="1176"/>
                  </a:lnTo>
                  <a:lnTo>
                    <a:pt x="1251" y="1089"/>
                  </a:lnTo>
                  <a:lnTo>
                    <a:pt x="1197" y="1011"/>
                  </a:lnTo>
                  <a:lnTo>
                    <a:pt x="1092" y="984"/>
                  </a:lnTo>
                  <a:lnTo>
                    <a:pt x="1080" y="918"/>
                  </a:lnTo>
                  <a:lnTo>
                    <a:pt x="1008" y="912"/>
                  </a:lnTo>
                  <a:lnTo>
                    <a:pt x="999" y="738"/>
                  </a:lnTo>
                  <a:lnTo>
                    <a:pt x="936" y="690"/>
                  </a:lnTo>
                  <a:lnTo>
                    <a:pt x="879" y="681"/>
                  </a:lnTo>
                  <a:lnTo>
                    <a:pt x="858" y="645"/>
                  </a:lnTo>
                  <a:lnTo>
                    <a:pt x="831" y="612"/>
                  </a:lnTo>
                  <a:lnTo>
                    <a:pt x="774" y="612"/>
                  </a:lnTo>
                  <a:lnTo>
                    <a:pt x="651" y="531"/>
                  </a:lnTo>
                  <a:lnTo>
                    <a:pt x="558" y="510"/>
                  </a:lnTo>
                  <a:lnTo>
                    <a:pt x="549" y="444"/>
                  </a:lnTo>
                  <a:lnTo>
                    <a:pt x="522" y="399"/>
                  </a:lnTo>
                  <a:lnTo>
                    <a:pt x="435" y="363"/>
                  </a:lnTo>
                  <a:lnTo>
                    <a:pt x="381" y="345"/>
                  </a:lnTo>
                  <a:lnTo>
                    <a:pt x="384" y="348"/>
                  </a:lnTo>
                  <a:lnTo>
                    <a:pt x="345" y="276"/>
                  </a:lnTo>
                  <a:lnTo>
                    <a:pt x="291" y="282"/>
                  </a:lnTo>
                  <a:lnTo>
                    <a:pt x="228" y="303"/>
                  </a:lnTo>
                  <a:lnTo>
                    <a:pt x="141" y="294"/>
                  </a:lnTo>
                  <a:lnTo>
                    <a:pt x="147" y="246"/>
                  </a:lnTo>
                  <a:lnTo>
                    <a:pt x="174" y="165"/>
                  </a:lnTo>
                  <a:lnTo>
                    <a:pt x="141" y="144"/>
                  </a:lnTo>
                  <a:lnTo>
                    <a:pt x="102" y="102"/>
                  </a:lnTo>
                  <a:lnTo>
                    <a:pt x="57" y="7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5440" y="2225880"/>
              <a:ext cx="4191120" cy="588960"/>
            </a:xfrm>
            <a:custGeom>
              <a:avLst/>
              <a:gdLst/>
              <a:ahLst/>
              <a:rect l="l" t="t" r="r" b="b"/>
              <a:pathLst>
                <a:path w="2640" h="371">
                  <a:moveTo>
                    <a:pt x="2640" y="264"/>
                  </a:moveTo>
                  <a:cubicBezTo>
                    <a:pt x="2573" y="269"/>
                    <a:pt x="2330" y="332"/>
                    <a:pt x="2214" y="342"/>
                  </a:cubicBezTo>
                  <a:cubicBezTo>
                    <a:pt x="2098" y="352"/>
                    <a:pt x="2013" y="320"/>
                    <a:pt x="1944" y="324"/>
                  </a:cubicBezTo>
                  <a:cubicBezTo>
                    <a:pt x="1875" y="328"/>
                    <a:pt x="1861" y="361"/>
                    <a:pt x="1800" y="366"/>
                  </a:cubicBezTo>
                  <a:cubicBezTo>
                    <a:pt x="1739" y="371"/>
                    <a:pt x="1634" y="362"/>
                    <a:pt x="1578" y="354"/>
                  </a:cubicBezTo>
                  <a:lnTo>
                    <a:pt x="1464" y="318"/>
                  </a:lnTo>
                  <a:cubicBezTo>
                    <a:pt x="1423" y="315"/>
                    <a:pt x="1425" y="328"/>
                    <a:pt x="1374" y="324"/>
                  </a:cubicBezTo>
                  <a:cubicBezTo>
                    <a:pt x="1323" y="317"/>
                    <a:pt x="1209" y="292"/>
                    <a:pt x="1158" y="288"/>
                  </a:cubicBezTo>
                  <a:cubicBezTo>
                    <a:pt x="1110" y="268"/>
                    <a:pt x="1084" y="253"/>
                    <a:pt x="1050" y="240"/>
                  </a:cubicBezTo>
                  <a:cubicBezTo>
                    <a:pt x="1016" y="227"/>
                    <a:pt x="989" y="216"/>
                    <a:pt x="954" y="210"/>
                  </a:cubicBezTo>
                  <a:cubicBezTo>
                    <a:pt x="919" y="204"/>
                    <a:pt x="888" y="205"/>
                    <a:pt x="840" y="204"/>
                  </a:cubicBezTo>
                  <a:cubicBezTo>
                    <a:pt x="764" y="190"/>
                    <a:pt x="742" y="217"/>
                    <a:pt x="666" y="204"/>
                  </a:cubicBezTo>
                  <a:cubicBezTo>
                    <a:pt x="618" y="188"/>
                    <a:pt x="587" y="186"/>
                    <a:pt x="552" y="162"/>
                  </a:cubicBezTo>
                  <a:cubicBezTo>
                    <a:pt x="520" y="146"/>
                    <a:pt x="519" y="118"/>
                    <a:pt x="474" y="108"/>
                  </a:cubicBezTo>
                  <a:cubicBezTo>
                    <a:pt x="429" y="98"/>
                    <a:pt x="339" y="101"/>
                    <a:pt x="282" y="102"/>
                  </a:cubicBezTo>
                  <a:cubicBezTo>
                    <a:pt x="208" y="96"/>
                    <a:pt x="179" y="131"/>
                    <a:pt x="132" y="114"/>
                  </a:cubicBezTo>
                  <a:cubicBezTo>
                    <a:pt x="85" y="97"/>
                    <a:pt x="27" y="24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008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399600">
              <a:off x="1543320" y="2217960"/>
              <a:ext cx="69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8000"/>
                  </a:solidFill>
                  <a:latin typeface="Arial Narrow"/>
                </a:rPr>
                <a:t>PEG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8287920" y="3654720"/>
              <a:ext cx="676440" cy="123840"/>
            </a:xfrm>
            <a:prstGeom prst="line">
              <a:avLst/>
            </a:prstGeom>
            <a:ln w="2844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35640" y="2644920"/>
              <a:ext cx="4400640" cy="142920"/>
            </a:xfrm>
            <a:custGeom>
              <a:avLst/>
              <a:gdLst/>
              <a:ahLst/>
              <a:rect l="l" t="t" r="r" b="b"/>
              <a:pathLst>
                <a:path w="2772" h="90">
                  <a:moveTo>
                    <a:pt x="2772" y="54"/>
                  </a:moveTo>
                  <a:lnTo>
                    <a:pt x="2736" y="24"/>
                  </a:lnTo>
                  <a:lnTo>
                    <a:pt x="2646" y="12"/>
                  </a:lnTo>
                  <a:lnTo>
                    <a:pt x="2466" y="42"/>
                  </a:lnTo>
                  <a:lnTo>
                    <a:pt x="2394" y="9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54560" y="1452600"/>
              <a:ext cx="1295280" cy="1287720"/>
            </a:xfrm>
            <a:custGeom>
              <a:avLst/>
              <a:gdLst/>
              <a:ahLst/>
              <a:rect l="l" t="t" r="r" b="b"/>
              <a:pathLst>
                <a:path w="816" h="811">
                  <a:moveTo>
                    <a:pt x="816" y="811"/>
                  </a:moveTo>
                  <a:cubicBezTo>
                    <a:pt x="731" y="697"/>
                    <a:pt x="442" y="254"/>
                    <a:pt x="306" y="127"/>
                  </a:cubicBezTo>
                  <a:cubicBezTo>
                    <a:pt x="170" y="0"/>
                    <a:pt x="64" y="65"/>
                    <a:pt x="0" y="49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02280" y="1816200"/>
              <a:ext cx="228600" cy="790560"/>
            </a:xfrm>
            <a:custGeom>
              <a:avLst/>
              <a:gdLst/>
              <a:ahLst/>
              <a:rect l="l" t="t" r="r" b="b"/>
              <a:pathLst>
                <a:path w="144" h="498">
                  <a:moveTo>
                    <a:pt x="144" y="498"/>
                  </a:moveTo>
                  <a:cubicBezTo>
                    <a:pt x="121" y="469"/>
                    <a:pt x="12" y="407"/>
                    <a:pt x="6" y="324"/>
                  </a:cubicBezTo>
                  <a:cubicBezTo>
                    <a:pt x="0" y="241"/>
                    <a:pt x="87" y="67"/>
                    <a:pt x="108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21520" y="4740480"/>
              <a:ext cx="148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cc3399"/>
                  </a:solidFill>
                  <a:latin typeface="Arial"/>
                </a:rPr>
                <a:t>Euro-Arab Mashreq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78720" y="4502160"/>
              <a:ext cx="797040" cy="2086200"/>
            </a:xfrm>
            <a:custGeom>
              <a:avLst/>
              <a:gdLst/>
              <a:ahLst/>
              <a:rect l="l" t="t" r="r" b="b"/>
              <a:pathLst>
                <a:path w="502" h="1314">
                  <a:moveTo>
                    <a:pt x="432" y="1314"/>
                  </a:moveTo>
                  <a:cubicBezTo>
                    <a:pt x="439" y="1301"/>
                    <a:pt x="463" y="1272"/>
                    <a:pt x="474" y="1236"/>
                  </a:cubicBezTo>
                  <a:cubicBezTo>
                    <a:pt x="485" y="1200"/>
                    <a:pt x="502" y="1146"/>
                    <a:pt x="498" y="1098"/>
                  </a:cubicBezTo>
                  <a:cubicBezTo>
                    <a:pt x="494" y="1050"/>
                    <a:pt x="474" y="1055"/>
                    <a:pt x="450" y="948"/>
                  </a:cubicBezTo>
                  <a:cubicBezTo>
                    <a:pt x="426" y="841"/>
                    <a:pt x="429" y="614"/>
                    <a:pt x="354" y="456"/>
                  </a:cubicBezTo>
                  <a:cubicBezTo>
                    <a:pt x="279" y="298"/>
                    <a:pt x="74" y="95"/>
                    <a:pt x="0" y="0"/>
                  </a:cubicBezTo>
                </a:path>
              </a:pathLst>
            </a:custGeom>
            <a:noFill/>
            <a:ln w="28440">
              <a:solidFill>
                <a:srgbClr val="cc33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59440" y="1225800"/>
              <a:ext cx="3238560" cy="1552320"/>
            </a:xfrm>
            <a:custGeom>
              <a:avLst/>
              <a:gdLst/>
              <a:ahLst/>
              <a:rect l="l" t="t" r="r" b="b"/>
              <a:pathLst>
                <a:path w="2040" h="978">
                  <a:moveTo>
                    <a:pt x="2040" y="978"/>
                  </a:moveTo>
                  <a:cubicBezTo>
                    <a:pt x="1836" y="905"/>
                    <a:pt x="1063" y="634"/>
                    <a:pt x="816" y="546"/>
                  </a:cubicBezTo>
                  <a:cubicBezTo>
                    <a:pt x="569" y="458"/>
                    <a:pt x="694" y="541"/>
                    <a:pt x="558" y="450"/>
                  </a:cubicBezTo>
                  <a:cubicBezTo>
                    <a:pt x="422" y="359"/>
                    <a:pt x="116" y="94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62360" y="997200"/>
              <a:ext cx="389160" cy="1253880"/>
            </a:xfrm>
            <a:custGeom>
              <a:avLst/>
              <a:gdLst/>
              <a:ahLst/>
              <a:rect l="l" t="t" r="r" b="b"/>
              <a:pathLst>
                <a:path w="245" h="790">
                  <a:moveTo>
                    <a:pt x="245" y="790"/>
                  </a:moveTo>
                  <a:cubicBezTo>
                    <a:pt x="207" y="731"/>
                    <a:pt x="38" y="564"/>
                    <a:pt x="19" y="432"/>
                  </a:cubicBezTo>
                  <a:cubicBezTo>
                    <a:pt x="0" y="300"/>
                    <a:pt x="109" y="90"/>
                    <a:pt x="133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87960" y="2692440"/>
              <a:ext cx="155520" cy="438120"/>
            </a:xfrm>
            <a:custGeom>
              <a:avLst/>
              <a:gdLst/>
              <a:ahLst/>
              <a:rect l="l" t="t" r="r" b="b"/>
              <a:pathLst>
                <a:path w="86" h="282">
                  <a:moveTo>
                    <a:pt x="84" y="0"/>
                  </a:moveTo>
                  <a:cubicBezTo>
                    <a:pt x="82" y="28"/>
                    <a:pt x="86" y="121"/>
                    <a:pt x="72" y="168"/>
                  </a:cubicBezTo>
                  <a:cubicBezTo>
                    <a:pt x="58" y="215"/>
                    <a:pt x="15" y="258"/>
                    <a:pt x="0" y="28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64080" y="2003400"/>
              <a:ext cx="1543320" cy="613080"/>
            </a:xfrm>
            <a:custGeom>
              <a:avLst/>
              <a:gdLst/>
              <a:ahLst/>
              <a:rect l="l" t="t" r="r" b="b"/>
              <a:pathLst>
                <a:path w="972" h="386">
                  <a:moveTo>
                    <a:pt x="972" y="20"/>
                  </a:moveTo>
                  <a:cubicBezTo>
                    <a:pt x="929" y="19"/>
                    <a:pt x="778" y="0"/>
                    <a:pt x="714" y="14"/>
                  </a:cubicBezTo>
                  <a:cubicBezTo>
                    <a:pt x="650" y="28"/>
                    <a:pt x="627" y="82"/>
                    <a:pt x="588" y="104"/>
                  </a:cubicBezTo>
                  <a:cubicBezTo>
                    <a:pt x="549" y="126"/>
                    <a:pt x="521" y="131"/>
                    <a:pt x="480" y="146"/>
                  </a:cubicBezTo>
                  <a:cubicBezTo>
                    <a:pt x="439" y="161"/>
                    <a:pt x="422" y="154"/>
                    <a:pt x="342" y="194"/>
                  </a:cubicBezTo>
                  <a:cubicBezTo>
                    <a:pt x="262" y="234"/>
                    <a:pt x="71" y="346"/>
                    <a:pt x="0" y="386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297440" y="5410080"/>
            <a:ext cx="55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99"/>
                </a:solidFill>
                <a:latin typeface="Times New Roman"/>
              </a:rPr>
              <a:t>Proposed New Gas Pip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" y="556272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5486400"/>
            <a:ext cx="6400800" cy="533520"/>
          </a:xfrm>
          <a:prstGeom prst="rect">
            <a:avLst/>
          </a:prstGeom>
          <a:solidFill>
            <a:srgbClr val="336699">
              <a:alpha val="16000"/>
            </a:srgbClr>
          </a:solidFill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0E7D3-63FA-41DD-8D4E-D47C627B0A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Energy Community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SE Gasification Study propo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ubstantial gas infrastructure development in SEE to meet future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he creation of a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‘Gas Ring’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o integrate Western Balkan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Currently various alternative Gas Ring routings being investi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concept of the Gas Ring is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conomically and financially v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525780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533520" y="5029200"/>
            <a:ext cx="75438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C1A13-14B2-464E-87D7-B5B6E85AD0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461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 rot="13470000">
            <a:off x="3396960" y="34092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 rot="13470000">
            <a:off x="2958840" y="4075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01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2130480" y="3311640"/>
            <a:ext cx="16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Md BT"/>
              </a:rPr>
              <a:t>Mix of gas via Croat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10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14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17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9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3254400" y="2965320"/>
            <a:ext cx="2593800" cy="2864160"/>
          </a:xfrm>
          <a:custGeom>
            <a:avLst/>
            <a:gdLst/>
            <a:ahLst/>
            <a:rect l="l" t="t" r="r" b="b"/>
            <a:pathLst>
              <a:path w="1634" h="1804">
                <a:moveTo>
                  <a:pt x="846" y="1804"/>
                </a:moveTo>
                <a:lnTo>
                  <a:pt x="733" y="1408"/>
                </a:lnTo>
                <a:lnTo>
                  <a:pt x="643" y="1221"/>
                </a:lnTo>
                <a:lnTo>
                  <a:pt x="546" y="1109"/>
                </a:lnTo>
                <a:cubicBezTo>
                  <a:pt x="499" y="1108"/>
                  <a:pt x="456" y="1102"/>
                  <a:pt x="359" y="1214"/>
                </a:cubicBezTo>
                <a:cubicBezTo>
                  <a:pt x="179" y="1075"/>
                  <a:pt x="0" y="937"/>
                  <a:pt x="0" y="937"/>
                </a:cubicBezTo>
                <a:lnTo>
                  <a:pt x="78" y="760"/>
                </a:lnTo>
                <a:lnTo>
                  <a:pt x="310" y="492"/>
                </a:lnTo>
                <a:lnTo>
                  <a:pt x="1074" y="0"/>
                </a:lnTo>
                <a:lnTo>
                  <a:pt x="1634" y="764"/>
                </a:lnTo>
                <a:lnTo>
                  <a:pt x="1358" y="1108"/>
                </a:lnTo>
                <a:lnTo>
                  <a:pt x="1458" y="1356"/>
                </a:lnTo>
                <a:lnTo>
                  <a:pt x="1478" y="1452"/>
                </a:lnTo>
                <a:lnTo>
                  <a:pt x="846" y="1804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152280" y="5029200"/>
            <a:ext cx="221004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726F-1D73-4239-AE7F-80E9557BD8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53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1" y="1455"/>
                </a:lnTo>
                <a:lnTo>
                  <a:pt x="700" y="1332"/>
                </a:lnTo>
                <a:lnTo>
                  <a:pt x="715" y="1171"/>
                </a:lnTo>
                <a:lnTo>
                  <a:pt x="489" y="938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69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78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82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85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7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"/>
          <p:cNvSpPr/>
          <p:nvPr/>
        </p:nvSpPr>
        <p:spPr>
          <a:xfrm rot="15265800">
            <a:off x="2041560" y="3409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7D066-84A0-4DB5-9D2B-94F370C8BE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60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85" y="1339"/>
                </a:lnTo>
                <a:lnTo>
                  <a:pt x="722" y="1157"/>
                </a:lnTo>
                <a:lnTo>
                  <a:pt x="649" y="1149"/>
                </a:lnTo>
                <a:lnTo>
                  <a:pt x="496" y="945"/>
                </a:lnTo>
                <a:lnTo>
                  <a:pt x="532" y="821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640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649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653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656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8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3265560" y="2979720"/>
            <a:ext cx="1697040" cy="1484280"/>
          </a:xfrm>
          <a:custGeom>
            <a:avLst/>
            <a:gdLst/>
            <a:ahLst/>
            <a:rect l="l" t="t" r="r" b="b"/>
            <a:pathLst>
              <a:path w="1069" h="935">
                <a:moveTo>
                  <a:pt x="1069" y="0"/>
                </a:moveTo>
                <a:lnTo>
                  <a:pt x="299" y="494"/>
                </a:lnTo>
                <a:lnTo>
                  <a:pt x="67" y="771"/>
                </a:lnTo>
                <a:lnTo>
                  <a:pt x="0" y="935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 rot="15265800">
            <a:off x="2019240" y="338724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 rot="13470000">
            <a:off x="2936520" y="41425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7D5E7-EEEF-4034-B6BF-A229B7A8E0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enefits of th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Unites 7 Balkan Energy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rings gas deep into currently ungasified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the development of gas tr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hances both diversity and technical security of supp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Links 7 Gas Markets with EU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ulgaria, Romania, Greece and Hung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Fosters regional economic co-operation in ener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nables the Development of Gas Fired-Power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Creates environmental benefi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diversification of power generation 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Provides access to a competitive fuel for new gen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e development of gas-fired ‘anchor customers’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ll be of key importance to realize the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533520" y="56386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5410080"/>
            <a:ext cx="84582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C1DD4-F4A7-4DDB-B844-00D8D1FD56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Estimate of Investment Requirement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C Gas Ring - about US$ 1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CCGT Anchor Load –  US$1.3–2.3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Gas Ring Transmission Tariff – US$23–35/Mcm, assum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Long-run demand of 7.3 Bcm/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33% initial anchor load (2.4 Bcm/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15 year build up to long-ru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Discounting at 15% over 25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EC Gas Ring could be developed in phases, but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needs to be synchronized with CCGT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tatio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502920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533520" y="4572000"/>
            <a:ext cx="8153280" cy="12193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68B66-7796-45B9-B488-9D44B7F702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1878" y="1992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016520" y="1827360"/>
            <a:ext cx="2490480" cy="3593520"/>
            <a:chOff x="4016520" y="1827360"/>
            <a:chExt cx="2490480" cy="3593520"/>
          </a:xfrm>
        </p:grpSpPr>
        <p:sp>
          <p:nvSpPr>
            <p:cNvPr id="687" name=""/>
            <p:cNvSpPr/>
            <p:nvPr/>
          </p:nvSpPr>
          <p:spPr>
            <a:xfrm>
              <a:off x="4016520" y="1827360"/>
              <a:ext cx="2490480" cy="318744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46600" y="4032000"/>
              <a:ext cx="1161720" cy="138888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2217600" y="2557440"/>
            <a:ext cx="226404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"/>
          <p:cNvSpPr/>
          <p:nvPr/>
        </p:nvSpPr>
        <p:spPr>
          <a:xfrm>
            <a:off x="4746600" y="4032360"/>
            <a:ext cx="1162080" cy="138888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"/>
          <p:cNvSpPr/>
          <p:nvPr/>
        </p:nvSpPr>
        <p:spPr>
          <a:xfrm>
            <a:off x="5423040" y="4165560"/>
            <a:ext cx="43164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27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597560" y="5270400"/>
            <a:ext cx="1022040" cy="559080"/>
          </a:xfrm>
          <a:custGeom>
            <a:avLst/>
            <a:gdLst/>
            <a:ahLst/>
            <a:rect l="l" t="t" r="r" b="b"/>
            <a:pathLst>
              <a:path w="644" h="352">
                <a:moveTo>
                  <a:pt x="644" y="0"/>
                </a:moveTo>
                <a:lnTo>
                  <a:pt x="0" y="35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5410080" y="4714920"/>
            <a:ext cx="190800" cy="552240"/>
          </a:xfrm>
          <a:custGeom>
            <a:avLst/>
            <a:gdLst/>
            <a:ahLst/>
            <a:rect l="l" t="t" r="r" b="b"/>
            <a:pathLst>
              <a:path w="120" h="348">
                <a:moveTo>
                  <a:pt x="120" y="348"/>
                </a:moveTo>
                <a:cubicBezTo>
                  <a:pt x="110" y="314"/>
                  <a:pt x="96" y="282"/>
                  <a:pt x="96" y="246"/>
                </a:cubicBez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4952880" y="2962440"/>
            <a:ext cx="876600" cy="1209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4257720" y="4905360"/>
            <a:ext cx="333360" cy="905040"/>
          </a:xfrm>
          <a:custGeom>
            <a:avLst/>
            <a:gdLst/>
            <a:ahLst/>
            <a:rect l="l" t="t" r="r" b="b"/>
            <a:pathLst>
              <a:path w="210" h="570">
                <a:moveTo>
                  <a:pt x="0" y="0"/>
                </a:moveTo>
                <a:lnTo>
                  <a:pt x="108" y="204"/>
                </a:lnTo>
                <a:lnTo>
                  <a:pt x="210" y="57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3289320" y="3759120"/>
            <a:ext cx="968400" cy="1146240"/>
          </a:xfrm>
          <a:custGeom>
            <a:avLst/>
            <a:gdLst/>
            <a:ahLst/>
            <a:rect l="l" t="t" r="r" b="b"/>
            <a:pathLst>
              <a:path w="610" h="722">
                <a:moveTo>
                  <a:pt x="288" y="0"/>
                </a:moveTo>
                <a:lnTo>
                  <a:pt x="56" y="264"/>
                </a:lnTo>
                <a:lnTo>
                  <a:pt x="0" y="408"/>
                </a:lnTo>
                <a:lnTo>
                  <a:pt x="478" y="554"/>
                </a:lnTo>
                <a:lnTo>
                  <a:pt x="610" y="72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3746520" y="2965320"/>
            <a:ext cx="1219320" cy="793800"/>
          </a:xfrm>
          <a:custGeom>
            <a:avLst/>
            <a:gdLst/>
            <a:ahLst/>
            <a:rect l="l" t="t" r="r" b="b"/>
            <a:pathLst>
              <a:path w="768" h="500">
                <a:moveTo>
                  <a:pt x="768" y="0"/>
                </a:moveTo>
                <a:lnTo>
                  <a:pt x="0" y="50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"/>
          <p:cNvSpPr/>
          <p:nvPr/>
        </p:nvSpPr>
        <p:spPr>
          <a:xfrm>
            <a:off x="4429080" y="56246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"/>
          <p:cNvSpPr/>
          <p:nvPr/>
        </p:nvSpPr>
        <p:spPr>
          <a:xfrm rot="2715000">
            <a:off x="4701960" y="59580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389320" y="38322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"/>
          <p:cNvSpPr/>
          <p:nvPr/>
        </p:nvSpPr>
        <p:spPr>
          <a:xfrm>
            <a:off x="5581800" y="5257800"/>
            <a:ext cx="176040" cy="430200"/>
          </a:xfrm>
          <a:custGeom>
            <a:avLst/>
            <a:gdLst/>
            <a:ahLst/>
            <a:rect l="l" t="t" r="r" b="b"/>
            <a:pathLst>
              <a:path w="111" h="271">
                <a:moveTo>
                  <a:pt x="111" y="2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"/>
          <p:cNvSpPr/>
          <p:nvPr/>
        </p:nvSpPr>
        <p:spPr>
          <a:xfrm>
            <a:off x="5564160" y="55022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 rot="2715000">
            <a:off x="5812920" y="585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4025880" y="468936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 rot="2715000">
            <a:off x="5820840" y="41893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 rot="18088800">
            <a:off x="4895640" y="25747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259240" y="45594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85800" y="1143000"/>
            <a:ext cx="7831080" cy="1008720"/>
            <a:chOff x="685800" y="1143000"/>
            <a:chExt cx="7831080" cy="1008720"/>
          </a:xfrm>
        </p:grpSpPr>
        <p:sp>
          <p:nvSpPr>
            <p:cNvPr id="738" name=""/>
            <p:cNvSpPr/>
            <p:nvPr/>
          </p:nvSpPr>
          <p:spPr>
            <a:xfrm>
              <a:off x="685800" y="1284480"/>
              <a:ext cx="539640" cy="539640"/>
            </a:xfrm>
            <a:prstGeom prst="rightArrow">
              <a:avLst>
                <a:gd name="adj1" fmla="val 50250"/>
                <a:gd name="adj2" fmla="val 4384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49200" y="1143000"/>
              <a:ext cx="7267680" cy="100872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2100 to 3000 MW of combined cycle gas turbine capacity in coastal and south-western Balkans required as anchor lo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124000" y="4851360"/>
            <a:ext cx="1819440" cy="181944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.3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3.7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bcm/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21112200">
            <a:off x="5108040" y="27874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1795320" y="2374920"/>
            <a:ext cx="3167280" cy="1639800"/>
          </a:xfrm>
          <a:custGeom>
            <a:avLst/>
            <a:gdLst/>
            <a:ahLst/>
            <a:rect l="l" t="t" r="r" b="b"/>
            <a:pathLst>
              <a:path w="1995" h="1033">
                <a:moveTo>
                  <a:pt x="1995" y="372"/>
                </a:moveTo>
                <a:lnTo>
                  <a:pt x="1700" y="260"/>
                </a:lnTo>
                <a:lnTo>
                  <a:pt x="815" y="127"/>
                </a:lnTo>
                <a:lnTo>
                  <a:pt x="506" y="0"/>
                </a:lnTo>
                <a:lnTo>
                  <a:pt x="0" y="28"/>
                </a:lnTo>
                <a:lnTo>
                  <a:pt x="98" y="218"/>
                </a:lnTo>
                <a:lnTo>
                  <a:pt x="49" y="365"/>
                </a:lnTo>
                <a:lnTo>
                  <a:pt x="126" y="506"/>
                </a:lnTo>
                <a:lnTo>
                  <a:pt x="274" y="597"/>
                </a:lnTo>
                <a:lnTo>
                  <a:pt x="239" y="780"/>
                </a:lnTo>
                <a:lnTo>
                  <a:pt x="288" y="892"/>
                </a:lnTo>
                <a:lnTo>
                  <a:pt x="499" y="1033"/>
                </a:ln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 rot="15288600">
            <a:off x="2050560" y="3484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50A41-C923-4498-93C9-7287BC9FB4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hallenges Ahead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viability of the Ring demonst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direct environmental, health, security of supply, diversification benefits not quan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However, major political and commercial ri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jeopardize/delay construction of Gas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potentially increase costs of construction as investors require higher retu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economic, social and environmental benefits of the Gas Ring                 justify public/grant financing in order to attract the required private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4724280"/>
            <a:ext cx="7848720" cy="152424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9EA1B-2F4D-42F7-ABD7-C5FAE20EA9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xt Steps to Realiz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esentation of final SEE Gasification Study at Gas Forum in Maribor, November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Discussion on EU, IFI, donor financing to mitigate commercial/political risks of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EE countries have to prioritize Ring inves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EC Ministerial in December 2007 – opportunity to discuss Ring at politic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45B58-62AA-4ADC-B6EA-A5460156EA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lectric Power Syst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Installed capacity of 45 GW needs significant investment/ upgr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22 GW of new/upgraded generation capacity required until 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vironmental upgrades to meet EU standards (incl. S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 and C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GIS Study shows ‘avoided investments’ of 4.5 GW if least cost regional approach for power generation development adopted</a:t>
            </a:r>
            <a:r>
              <a:rPr b="0" lang="en-US" sz="2000" spc="-1" strike="noStrike">
                <a:solidFill>
                  <a:srgbClr val="e5d09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Natural Gas Syste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ecurity of supply concerns (highly dependent on Russian g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Regional and national gas networks are underdevelop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ubstantial investment requirements for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and gas to close emerging energy supply and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emand g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EE Energy Challeng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53341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952880"/>
            <a:ext cx="8305920" cy="11430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11DB7-7487-4FF8-97CD-0403AC846F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SEE Gasification Stud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Objectiv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dentify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viable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regional, cross-border and country-specific gas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Financing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World Bank and KfW financed/supported by 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ception Report presented at Mini-Gas Forum in Vienna, October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terim Report presented at Mini-Gas Forum in Vienna, May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raft Final Report will be presented at Gas Forum in Maribor, November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54100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5181480"/>
            <a:ext cx="7924680" cy="9144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7E36B-EB09-4FDC-B3D7-11384B1A2E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tudy Approach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cludes ‘Nine’ Gas Mar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lbania, Bosnia and Herzegovina, Bulgaria, Croatia, Kosovo, Macedonia, Montenegro, Romania, Serb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Key Tasks of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ong term gas demand foreca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nalyze various piped gas sources (Russia,  Caspian and Middle E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new gas transmission pipe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compared to piped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egulatory and institutional b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D61DD-D7A4-41BF-8B4B-A59A007853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rojected Gas Demand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492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3246E-5AE0-4F44-83FA-A66075E0DB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Is Gas A Competitive Fuel for SEE?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netback calculations indicate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as is competitive for residential, commercial, industrial 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IS shows viability of installing 2-3 GW of new CCG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Benefits by ‘Internalizing’ Negative Extern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nvironmental/climate change benefits are substantial (eg lower emissions of CCGT pla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Health benefits (eg indoor pollution decreases by households switching to g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Other benefits (diversification of energy sources, security of suppl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35B58-1820-4960-B428-C42A57A38F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urrent Gas Situation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Partial Gas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roatia, Romania most extensiv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or no gas network in Bosnia and Herzegovina, Macedonia, Montenegro, Albania, Koso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parate National Syst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inter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No volume synergies and regional trading opport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Mostly Dependent on Russia 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ome domestic production - Croatia, Bulgaria, Rom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319E-97BD-4FED-890F-2C9E080CDB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772080" y="4022640"/>
            <a:ext cx="1196640" cy="1416240"/>
          </a:xfrm>
          <a:custGeom>
            <a:avLst/>
            <a:gdLst/>
            <a:ahLst/>
            <a:rect l="l" t="t" r="r" b="b"/>
            <a:pathLst>
              <a:path w="754" h="892">
                <a:moveTo>
                  <a:pt x="5" y="514"/>
                </a:moveTo>
                <a:lnTo>
                  <a:pt x="5" y="514"/>
                </a:lnTo>
                <a:lnTo>
                  <a:pt x="42" y="494"/>
                </a:lnTo>
                <a:lnTo>
                  <a:pt x="54" y="480"/>
                </a:lnTo>
                <a:lnTo>
                  <a:pt x="55" y="470"/>
                </a:lnTo>
                <a:lnTo>
                  <a:pt x="49" y="434"/>
                </a:lnTo>
                <a:lnTo>
                  <a:pt x="35" y="433"/>
                </a:lnTo>
                <a:lnTo>
                  <a:pt x="18" y="405"/>
                </a:lnTo>
                <a:lnTo>
                  <a:pt x="6" y="380"/>
                </a:lnTo>
                <a:lnTo>
                  <a:pt x="16" y="305"/>
                </a:lnTo>
                <a:lnTo>
                  <a:pt x="27" y="291"/>
                </a:lnTo>
                <a:lnTo>
                  <a:pt x="34" y="282"/>
                </a:lnTo>
                <a:lnTo>
                  <a:pt x="44" y="278"/>
                </a:lnTo>
                <a:lnTo>
                  <a:pt x="55" y="271"/>
                </a:lnTo>
                <a:lnTo>
                  <a:pt x="80" y="264"/>
                </a:lnTo>
                <a:lnTo>
                  <a:pt x="82" y="249"/>
                </a:lnTo>
                <a:lnTo>
                  <a:pt x="85" y="224"/>
                </a:lnTo>
                <a:lnTo>
                  <a:pt x="76" y="213"/>
                </a:lnTo>
                <a:lnTo>
                  <a:pt x="99" y="151"/>
                </a:lnTo>
                <a:lnTo>
                  <a:pt x="155" y="108"/>
                </a:lnTo>
                <a:lnTo>
                  <a:pt x="175" y="100"/>
                </a:lnTo>
                <a:lnTo>
                  <a:pt x="180" y="101"/>
                </a:lnTo>
                <a:lnTo>
                  <a:pt x="197" y="123"/>
                </a:lnTo>
                <a:lnTo>
                  <a:pt x="200" y="138"/>
                </a:lnTo>
                <a:lnTo>
                  <a:pt x="221" y="166"/>
                </a:lnTo>
                <a:lnTo>
                  <a:pt x="241" y="169"/>
                </a:lnTo>
                <a:lnTo>
                  <a:pt x="243" y="154"/>
                </a:lnTo>
                <a:lnTo>
                  <a:pt x="251" y="130"/>
                </a:lnTo>
                <a:lnTo>
                  <a:pt x="231" y="57"/>
                </a:lnTo>
                <a:lnTo>
                  <a:pt x="221" y="55"/>
                </a:lnTo>
                <a:lnTo>
                  <a:pt x="211" y="49"/>
                </a:lnTo>
                <a:lnTo>
                  <a:pt x="196" y="47"/>
                </a:lnTo>
                <a:lnTo>
                  <a:pt x="199" y="23"/>
                </a:lnTo>
                <a:lnTo>
                  <a:pt x="217" y="0"/>
                </a:lnTo>
                <a:lnTo>
                  <a:pt x="300" y="16"/>
                </a:lnTo>
                <a:lnTo>
                  <a:pt x="300" y="16"/>
                </a:lnTo>
                <a:lnTo>
                  <a:pt x="326" y="4"/>
                </a:lnTo>
                <a:lnTo>
                  <a:pt x="334" y="32"/>
                </a:lnTo>
                <a:lnTo>
                  <a:pt x="340" y="56"/>
                </a:lnTo>
                <a:lnTo>
                  <a:pt x="364" y="68"/>
                </a:lnTo>
                <a:lnTo>
                  <a:pt x="397" y="71"/>
                </a:lnTo>
                <a:lnTo>
                  <a:pt x="418" y="98"/>
                </a:lnTo>
                <a:lnTo>
                  <a:pt x="439" y="116"/>
                </a:lnTo>
                <a:lnTo>
                  <a:pt x="487" y="140"/>
                </a:lnTo>
                <a:lnTo>
                  <a:pt x="523" y="149"/>
                </a:lnTo>
                <a:lnTo>
                  <a:pt x="568" y="173"/>
                </a:lnTo>
                <a:lnTo>
                  <a:pt x="595" y="200"/>
                </a:lnTo>
                <a:lnTo>
                  <a:pt x="640" y="212"/>
                </a:lnTo>
                <a:lnTo>
                  <a:pt x="676" y="248"/>
                </a:lnTo>
                <a:lnTo>
                  <a:pt x="724" y="263"/>
                </a:lnTo>
                <a:lnTo>
                  <a:pt x="742" y="287"/>
                </a:lnTo>
                <a:lnTo>
                  <a:pt x="754" y="323"/>
                </a:lnTo>
                <a:lnTo>
                  <a:pt x="736" y="335"/>
                </a:lnTo>
                <a:lnTo>
                  <a:pt x="709" y="338"/>
                </a:lnTo>
                <a:lnTo>
                  <a:pt x="697" y="356"/>
                </a:lnTo>
                <a:lnTo>
                  <a:pt x="694" y="383"/>
                </a:lnTo>
                <a:lnTo>
                  <a:pt x="709" y="404"/>
                </a:lnTo>
                <a:lnTo>
                  <a:pt x="706" y="425"/>
                </a:lnTo>
                <a:lnTo>
                  <a:pt x="694" y="431"/>
                </a:lnTo>
                <a:lnTo>
                  <a:pt x="670" y="422"/>
                </a:lnTo>
                <a:lnTo>
                  <a:pt x="640" y="407"/>
                </a:lnTo>
                <a:lnTo>
                  <a:pt x="616" y="383"/>
                </a:lnTo>
                <a:lnTo>
                  <a:pt x="583" y="392"/>
                </a:lnTo>
                <a:lnTo>
                  <a:pt x="568" y="413"/>
                </a:lnTo>
                <a:lnTo>
                  <a:pt x="592" y="437"/>
                </a:lnTo>
                <a:lnTo>
                  <a:pt x="625" y="446"/>
                </a:lnTo>
                <a:lnTo>
                  <a:pt x="637" y="482"/>
                </a:lnTo>
                <a:lnTo>
                  <a:pt x="631" y="516"/>
                </a:lnTo>
                <a:lnTo>
                  <a:pt x="631" y="516"/>
                </a:lnTo>
                <a:lnTo>
                  <a:pt x="578" y="544"/>
                </a:lnTo>
                <a:lnTo>
                  <a:pt x="530" y="564"/>
                </a:lnTo>
                <a:lnTo>
                  <a:pt x="526" y="563"/>
                </a:lnTo>
                <a:lnTo>
                  <a:pt x="517" y="552"/>
                </a:lnTo>
                <a:lnTo>
                  <a:pt x="505" y="525"/>
                </a:lnTo>
                <a:lnTo>
                  <a:pt x="513" y="501"/>
                </a:lnTo>
                <a:lnTo>
                  <a:pt x="512" y="476"/>
                </a:lnTo>
                <a:lnTo>
                  <a:pt x="493" y="464"/>
                </a:lnTo>
                <a:lnTo>
                  <a:pt x="465" y="485"/>
                </a:lnTo>
                <a:lnTo>
                  <a:pt x="455" y="494"/>
                </a:lnTo>
                <a:lnTo>
                  <a:pt x="453" y="509"/>
                </a:lnTo>
                <a:lnTo>
                  <a:pt x="451" y="529"/>
                </a:lnTo>
                <a:lnTo>
                  <a:pt x="414" y="579"/>
                </a:lnTo>
                <a:lnTo>
                  <a:pt x="328" y="718"/>
                </a:lnTo>
                <a:lnTo>
                  <a:pt x="346" y="731"/>
                </a:lnTo>
                <a:lnTo>
                  <a:pt x="359" y="747"/>
                </a:lnTo>
                <a:lnTo>
                  <a:pt x="372" y="759"/>
                </a:lnTo>
                <a:lnTo>
                  <a:pt x="365" y="773"/>
                </a:lnTo>
                <a:lnTo>
                  <a:pt x="348" y="841"/>
                </a:lnTo>
                <a:lnTo>
                  <a:pt x="355" y="857"/>
                </a:lnTo>
                <a:lnTo>
                  <a:pt x="356" y="892"/>
                </a:lnTo>
                <a:lnTo>
                  <a:pt x="334" y="869"/>
                </a:lnTo>
                <a:lnTo>
                  <a:pt x="330" y="864"/>
                </a:lnTo>
                <a:lnTo>
                  <a:pt x="305" y="861"/>
                </a:lnTo>
                <a:lnTo>
                  <a:pt x="282" y="848"/>
                </a:lnTo>
                <a:lnTo>
                  <a:pt x="274" y="837"/>
                </a:lnTo>
                <a:lnTo>
                  <a:pt x="266" y="820"/>
                </a:lnTo>
                <a:lnTo>
                  <a:pt x="267" y="807"/>
                </a:lnTo>
                <a:lnTo>
                  <a:pt x="270" y="787"/>
                </a:lnTo>
                <a:lnTo>
                  <a:pt x="244" y="753"/>
                </a:lnTo>
                <a:lnTo>
                  <a:pt x="235" y="742"/>
                </a:lnTo>
                <a:lnTo>
                  <a:pt x="222" y="731"/>
                </a:lnTo>
                <a:lnTo>
                  <a:pt x="204" y="713"/>
                </a:lnTo>
                <a:lnTo>
                  <a:pt x="169" y="670"/>
                </a:lnTo>
                <a:lnTo>
                  <a:pt x="155" y="668"/>
                </a:lnTo>
                <a:lnTo>
                  <a:pt x="146" y="667"/>
                </a:lnTo>
                <a:lnTo>
                  <a:pt x="78" y="613"/>
                </a:lnTo>
                <a:lnTo>
                  <a:pt x="66" y="622"/>
                </a:lnTo>
                <a:lnTo>
                  <a:pt x="53" y="610"/>
                </a:lnTo>
                <a:lnTo>
                  <a:pt x="41" y="583"/>
                </a:lnTo>
                <a:lnTo>
                  <a:pt x="56" y="585"/>
                </a:lnTo>
                <a:lnTo>
                  <a:pt x="69" y="597"/>
                </a:lnTo>
                <a:lnTo>
                  <a:pt x="103" y="601"/>
                </a:lnTo>
                <a:lnTo>
                  <a:pt x="104" y="591"/>
                </a:lnTo>
                <a:lnTo>
                  <a:pt x="92" y="575"/>
                </a:lnTo>
                <a:lnTo>
                  <a:pt x="23" y="576"/>
                </a:lnTo>
                <a:lnTo>
                  <a:pt x="23" y="576"/>
                </a:lnTo>
                <a:lnTo>
                  <a:pt x="23" y="576"/>
                </a:lnTo>
                <a:lnTo>
                  <a:pt x="9" y="564"/>
                </a:lnTo>
                <a:lnTo>
                  <a:pt x="0" y="553"/>
                </a:lnTo>
                <a:lnTo>
                  <a:pt x="2" y="538"/>
                </a:lnTo>
                <a:lnTo>
                  <a:pt x="5" y="514"/>
                </a:lnTo>
              </a:path>
            </a:pathLst>
          </a:custGeom>
          <a:solidFill>
            <a:srgbClr val="003300"/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4014720" y="1836720"/>
            <a:ext cx="2490840" cy="3187800"/>
          </a:xfrm>
          <a:custGeom>
            <a:avLst/>
            <a:gdLst/>
            <a:ahLst/>
            <a:rect l="l" t="t" r="r" b="b"/>
            <a:pathLst>
              <a:path w="1569" h="2008">
                <a:moveTo>
                  <a:pt x="377" y="1599"/>
                </a:moveTo>
                <a:lnTo>
                  <a:pt x="365" y="1605"/>
                </a:lnTo>
                <a:lnTo>
                  <a:pt x="350" y="1586"/>
                </a:lnTo>
                <a:lnTo>
                  <a:pt x="335" y="1560"/>
                </a:lnTo>
                <a:lnTo>
                  <a:pt x="323" y="1571"/>
                </a:lnTo>
                <a:lnTo>
                  <a:pt x="296" y="1560"/>
                </a:lnTo>
                <a:lnTo>
                  <a:pt x="281" y="1533"/>
                </a:lnTo>
                <a:lnTo>
                  <a:pt x="254" y="1524"/>
                </a:lnTo>
                <a:lnTo>
                  <a:pt x="253" y="1500"/>
                </a:lnTo>
                <a:lnTo>
                  <a:pt x="224" y="1476"/>
                </a:lnTo>
                <a:lnTo>
                  <a:pt x="213" y="1447"/>
                </a:lnTo>
                <a:lnTo>
                  <a:pt x="187" y="1445"/>
                </a:lnTo>
                <a:lnTo>
                  <a:pt x="173" y="1427"/>
                </a:lnTo>
                <a:lnTo>
                  <a:pt x="142" y="1419"/>
                </a:lnTo>
                <a:lnTo>
                  <a:pt x="130" y="1388"/>
                </a:lnTo>
                <a:lnTo>
                  <a:pt x="152" y="1386"/>
                </a:lnTo>
                <a:lnTo>
                  <a:pt x="160" y="1350"/>
                </a:lnTo>
                <a:lnTo>
                  <a:pt x="197" y="1347"/>
                </a:lnTo>
                <a:lnTo>
                  <a:pt x="220" y="1380"/>
                </a:lnTo>
                <a:lnTo>
                  <a:pt x="235" y="1358"/>
                </a:lnTo>
                <a:lnTo>
                  <a:pt x="253" y="1359"/>
                </a:lnTo>
                <a:lnTo>
                  <a:pt x="250" y="1328"/>
                </a:lnTo>
                <a:lnTo>
                  <a:pt x="266" y="1313"/>
                </a:lnTo>
                <a:lnTo>
                  <a:pt x="257" y="1293"/>
                </a:lnTo>
                <a:lnTo>
                  <a:pt x="250" y="1272"/>
                </a:lnTo>
                <a:lnTo>
                  <a:pt x="245" y="1267"/>
                </a:lnTo>
                <a:lnTo>
                  <a:pt x="247" y="1257"/>
                </a:lnTo>
                <a:lnTo>
                  <a:pt x="229" y="1245"/>
                </a:lnTo>
                <a:lnTo>
                  <a:pt x="202" y="1216"/>
                </a:lnTo>
                <a:lnTo>
                  <a:pt x="160" y="1162"/>
                </a:lnTo>
                <a:lnTo>
                  <a:pt x="155" y="1136"/>
                </a:lnTo>
                <a:lnTo>
                  <a:pt x="177" y="1139"/>
                </a:lnTo>
                <a:lnTo>
                  <a:pt x="200" y="1151"/>
                </a:lnTo>
                <a:lnTo>
                  <a:pt x="221" y="1155"/>
                </a:lnTo>
                <a:lnTo>
                  <a:pt x="240" y="1158"/>
                </a:lnTo>
                <a:lnTo>
                  <a:pt x="259" y="1159"/>
                </a:lnTo>
                <a:lnTo>
                  <a:pt x="277" y="1139"/>
                </a:lnTo>
                <a:lnTo>
                  <a:pt x="293" y="1128"/>
                </a:lnTo>
                <a:lnTo>
                  <a:pt x="295" y="1113"/>
                </a:lnTo>
                <a:lnTo>
                  <a:pt x="291" y="1102"/>
                </a:lnTo>
                <a:lnTo>
                  <a:pt x="245" y="1071"/>
                </a:lnTo>
                <a:lnTo>
                  <a:pt x="201" y="1027"/>
                </a:lnTo>
                <a:lnTo>
                  <a:pt x="153" y="1006"/>
                </a:lnTo>
                <a:lnTo>
                  <a:pt x="121" y="992"/>
                </a:lnTo>
                <a:lnTo>
                  <a:pt x="108" y="975"/>
                </a:lnTo>
                <a:lnTo>
                  <a:pt x="100" y="954"/>
                </a:lnTo>
                <a:lnTo>
                  <a:pt x="102" y="939"/>
                </a:lnTo>
                <a:lnTo>
                  <a:pt x="122" y="911"/>
                </a:lnTo>
                <a:lnTo>
                  <a:pt x="111" y="865"/>
                </a:lnTo>
                <a:lnTo>
                  <a:pt x="129" y="842"/>
                </a:lnTo>
                <a:lnTo>
                  <a:pt x="168" y="773"/>
                </a:lnTo>
                <a:lnTo>
                  <a:pt x="185" y="750"/>
                </a:lnTo>
                <a:lnTo>
                  <a:pt x="192" y="735"/>
                </a:lnTo>
                <a:lnTo>
                  <a:pt x="198" y="686"/>
                </a:lnTo>
                <a:lnTo>
                  <a:pt x="197" y="666"/>
                </a:lnTo>
                <a:lnTo>
                  <a:pt x="176" y="659"/>
                </a:lnTo>
                <a:lnTo>
                  <a:pt x="144" y="657"/>
                </a:lnTo>
                <a:lnTo>
                  <a:pt x="127" y="653"/>
                </a:lnTo>
                <a:lnTo>
                  <a:pt x="102" y="664"/>
                </a:lnTo>
                <a:lnTo>
                  <a:pt x="78" y="676"/>
                </a:lnTo>
                <a:lnTo>
                  <a:pt x="72" y="667"/>
                </a:lnTo>
                <a:lnTo>
                  <a:pt x="82" y="657"/>
                </a:lnTo>
                <a:lnTo>
                  <a:pt x="110" y="647"/>
                </a:lnTo>
                <a:lnTo>
                  <a:pt x="134" y="639"/>
                </a:lnTo>
                <a:lnTo>
                  <a:pt x="128" y="625"/>
                </a:lnTo>
                <a:lnTo>
                  <a:pt x="96" y="625"/>
                </a:lnTo>
                <a:lnTo>
                  <a:pt x="105" y="600"/>
                </a:lnTo>
                <a:lnTo>
                  <a:pt x="99" y="564"/>
                </a:lnTo>
                <a:lnTo>
                  <a:pt x="102" y="539"/>
                </a:lnTo>
                <a:lnTo>
                  <a:pt x="130" y="543"/>
                </a:lnTo>
                <a:lnTo>
                  <a:pt x="142" y="517"/>
                </a:lnTo>
                <a:lnTo>
                  <a:pt x="136" y="501"/>
                </a:lnTo>
                <a:lnTo>
                  <a:pt x="155" y="511"/>
                </a:lnTo>
                <a:lnTo>
                  <a:pt x="176" y="505"/>
                </a:lnTo>
                <a:lnTo>
                  <a:pt x="193" y="516"/>
                </a:lnTo>
                <a:lnTo>
                  <a:pt x="213" y="518"/>
                </a:lnTo>
                <a:lnTo>
                  <a:pt x="216" y="494"/>
                </a:lnTo>
                <a:lnTo>
                  <a:pt x="217" y="489"/>
                </a:lnTo>
                <a:lnTo>
                  <a:pt x="207" y="487"/>
                </a:lnTo>
                <a:lnTo>
                  <a:pt x="193" y="491"/>
                </a:lnTo>
                <a:lnTo>
                  <a:pt x="183" y="489"/>
                </a:lnTo>
                <a:lnTo>
                  <a:pt x="168" y="483"/>
                </a:lnTo>
                <a:lnTo>
                  <a:pt x="158" y="481"/>
                </a:lnTo>
                <a:lnTo>
                  <a:pt x="135" y="468"/>
                </a:lnTo>
                <a:lnTo>
                  <a:pt x="112" y="456"/>
                </a:lnTo>
                <a:lnTo>
                  <a:pt x="102" y="454"/>
                </a:lnTo>
                <a:lnTo>
                  <a:pt x="109" y="435"/>
                </a:lnTo>
                <a:lnTo>
                  <a:pt x="73" y="423"/>
                </a:lnTo>
                <a:lnTo>
                  <a:pt x="54" y="408"/>
                </a:lnTo>
                <a:lnTo>
                  <a:pt x="83" y="396"/>
                </a:lnTo>
                <a:lnTo>
                  <a:pt x="67" y="380"/>
                </a:lnTo>
                <a:lnTo>
                  <a:pt x="70" y="360"/>
                </a:lnTo>
                <a:lnTo>
                  <a:pt x="66" y="350"/>
                </a:lnTo>
                <a:lnTo>
                  <a:pt x="85" y="352"/>
                </a:lnTo>
                <a:lnTo>
                  <a:pt x="100" y="349"/>
                </a:lnTo>
                <a:lnTo>
                  <a:pt x="91" y="338"/>
                </a:lnTo>
                <a:lnTo>
                  <a:pt x="64" y="320"/>
                </a:lnTo>
                <a:lnTo>
                  <a:pt x="54" y="323"/>
                </a:lnTo>
                <a:lnTo>
                  <a:pt x="43" y="332"/>
                </a:lnTo>
                <a:lnTo>
                  <a:pt x="39" y="322"/>
                </a:lnTo>
                <a:lnTo>
                  <a:pt x="32" y="309"/>
                </a:lnTo>
                <a:lnTo>
                  <a:pt x="35" y="299"/>
                </a:lnTo>
                <a:lnTo>
                  <a:pt x="44" y="282"/>
                </a:lnTo>
                <a:lnTo>
                  <a:pt x="52" y="259"/>
                </a:lnTo>
                <a:lnTo>
                  <a:pt x="34" y="233"/>
                </a:lnTo>
                <a:lnTo>
                  <a:pt x="24" y="197"/>
                </a:lnTo>
                <a:lnTo>
                  <a:pt x="18" y="177"/>
                </a:lnTo>
                <a:lnTo>
                  <a:pt x="0" y="152"/>
                </a:lnTo>
                <a:lnTo>
                  <a:pt x="8" y="140"/>
                </a:lnTo>
                <a:lnTo>
                  <a:pt x="35" y="132"/>
                </a:lnTo>
                <a:lnTo>
                  <a:pt x="61" y="134"/>
                </a:lnTo>
                <a:lnTo>
                  <a:pt x="73" y="114"/>
                </a:lnTo>
                <a:lnTo>
                  <a:pt x="100" y="111"/>
                </a:lnTo>
                <a:lnTo>
                  <a:pt x="98" y="90"/>
                </a:lnTo>
                <a:lnTo>
                  <a:pt x="113" y="72"/>
                </a:lnTo>
                <a:lnTo>
                  <a:pt x="117" y="91"/>
                </a:lnTo>
                <a:lnTo>
                  <a:pt x="149" y="96"/>
                </a:lnTo>
                <a:lnTo>
                  <a:pt x="184" y="93"/>
                </a:lnTo>
                <a:lnTo>
                  <a:pt x="178" y="83"/>
                </a:lnTo>
                <a:lnTo>
                  <a:pt x="202" y="71"/>
                </a:lnTo>
                <a:lnTo>
                  <a:pt x="224" y="66"/>
                </a:lnTo>
                <a:lnTo>
                  <a:pt x="224" y="74"/>
                </a:lnTo>
                <a:lnTo>
                  <a:pt x="248" y="44"/>
                </a:lnTo>
                <a:lnTo>
                  <a:pt x="262" y="33"/>
                </a:lnTo>
                <a:lnTo>
                  <a:pt x="250" y="23"/>
                </a:lnTo>
                <a:lnTo>
                  <a:pt x="278" y="5"/>
                </a:lnTo>
                <a:lnTo>
                  <a:pt x="295" y="9"/>
                </a:lnTo>
                <a:lnTo>
                  <a:pt x="313" y="0"/>
                </a:lnTo>
                <a:lnTo>
                  <a:pt x="326" y="2"/>
                </a:lnTo>
                <a:lnTo>
                  <a:pt x="341" y="15"/>
                </a:lnTo>
                <a:lnTo>
                  <a:pt x="368" y="29"/>
                </a:lnTo>
                <a:lnTo>
                  <a:pt x="394" y="12"/>
                </a:lnTo>
                <a:lnTo>
                  <a:pt x="424" y="3"/>
                </a:lnTo>
                <a:lnTo>
                  <a:pt x="449" y="23"/>
                </a:lnTo>
                <a:lnTo>
                  <a:pt x="461" y="0"/>
                </a:lnTo>
                <a:lnTo>
                  <a:pt x="487" y="20"/>
                </a:lnTo>
                <a:lnTo>
                  <a:pt x="514" y="12"/>
                </a:lnTo>
                <a:lnTo>
                  <a:pt x="514" y="15"/>
                </a:lnTo>
                <a:lnTo>
                  <a:pt x="535" y="43"/>
                </a:lnTo>
                <a:lnTo>
                  <a:pt x="552" y="69"/>
                </a:lnTo>
                <a:lnTo>
                  <a:pt x="565" y="86"/>
                </a:lnTo>
                <a:lnTo>
                  <a:pt x="609" y="127"/>
                </a:lnTo>
                <a:lnTo>
                  <a:pt x="625" y="119"/>
                </a:lnTo>
                <a:lnTo>
                  <a:pt x="644" y="131"/>
                </a:lnTo>
                <a:lnTo>
                  <a:pt x="664" y="164"/>
                </a:lnTo>
                <a:lnTo>
                  <a:pt x="666" y="184"/>
                </a:lnTo>
                <a:lnTo>
                  <a:pt x="688" y="211"/>
                </a:lnTo>
                <a:lnTo>
                  <a:pt x="698" y="212"/>
                </a:lnTo>
                <a:lnTo>
                  <a:pt x="711" y="195"/>
                </a:lnTo>
                <a:lnTo>
                  <a:pt x="725" y="209"/>
                </a:lnTo>
                <a:lnTo>
                  <a:pt x="718" y="255"/>
                </a:lnTo>
                <a:lnTo>
                  <a:pt x="713" y="270"/>
                </a:lnTo>
                <a:lnTo>
                  <a:pt x="703" y="284"/>
                </a:lnTo>
                <a:lnTo>
                  <a:pt x="718" y="305"/>
                </a:lnTo>
                <a:lnTo>
                  <a:pt x="736" y="325"/>
                </a:lnTo>
                <a:lnTo>
                  <a:pt x="721" y="350"/>
                </a:lnTo>
                <a:lnTo>
                  <a:pt x="746" y="369"/>
                </a:lnTo>
                <a:lnTo>
                  <a:pt x="758" y="391"/>
                </a:lnTo>
                <a:lnTo>
                  <a:pt x="787" y="414"/>
                </a:lnTo>
                <a:lnTo>
                  <a:pt x="810" y="436"/>
                </a:lnTo>
                <a:lnTo>
                  <a:pt x="852" y="451"/>
                </a:lnTo>
                <a:lnTo>
                  <a:pt x="864" y="439"/>
                </a:lnTo>
                <a:lnTo>
                  <a:pt x="874" y="473"/>
                </a:lnTo>
                <a:lnTo>
                  <a:pt x="910" y="489"/>
                </a:lnTo>
                <a:lnTo>
                  <a:pt x="928" y="481"/>
                </a:lnTo>
                <a:lnTo>
                  <a:pt x="948" y="484"/>
                </a:lnTo>
                <a:lnTo>
                  <a:pt x="972" y="497"/>
                </a:lnTo>
                <a:lnTo>
                  <a:pt x="976" y="497"/>
                </a:lnTo>
                <a:lnTo>
                  <a:pt x="993" y="523"/>
                </a:lnTo>
                <a:lnTo>
                  <a:pt x="963" y="570"/>
                </a:lnTo>
                <a:lnTo>
                  <a:pt x="940" y="592"/>
                </a:lnTo>
                <a:lnTo>
                  <a:pt x="958" y="610"/>
                </a:lnTo>
                <a:lnTo>
                  <a:pt x="960" y="620"/>
                </a:lnTo>
                <a:lnTo>
                  <a:pt x="972" y="611"/>
                </a:lnTo>
                <a:lnTo>
                  <a:pt x="982" y="613"/>
                </a:lnTo>
                <a:lnTo>
                  <a:pt x="1005" y="626"/>
                </a:lnTo>
                <a:lnTo>
                  <a:pt x="1008" y="640"/>
                </a:lnTo>
                <a:lnTo>
                  <a:pt x="1007" y="650"/>
                </a:lnTo>
                <a:lnTo>
                  <a:pt x="991" y="658"/>
                </a:lnTo>
                <a:lnTo>
                  <a:pt x="981" y="662"/>
                </a:lnTo>
                <a:lnTo>
                  <a:pt x="976" y="661"/>
                </a:lnTo>
                <a:lnTo>
                  <a:pt x="956" y="659"/>
                </a:lnTo>
                <a:lnTo>
                  <a:pt x="941" y="667"/>
                </a:lnTo>
                <a:lnTo>
                  <a:pt x="938" y="692"/>
                </a:lnTo>
                <a:lnTo>
                  <a:pt x="950" y="708"/>
                </a:lnTo>
                <a:lnTo>
                  <a:pt x="974" y="712"/>
                </a:lnTo>
                <a:lnTo>
                  <a:pt x="984" y="713"/>
                </a:lnTo>
                <a:lnTo>
                  <a:pt x="999" y="715"/>
                </a:lnTo>
                <a:lnTo>
                  <a:pt x="1018" y="717"/>
                </a:lnTo>
                <a:lnTo>
                  <a:pt x="1023" y="718"/>
                </a:lnTo>
                <a:lnTo>
                  <a:pt x="1030" y="744"/>
                </a:lnTo>
                <a:lnTo>
                  <a:pt x="1037" y="765"/>
                </a:lnTo>
                <a:lnTo>
                  <a:pt x="1042" y="769"/>
                </a:lnTo>
                <a:lnTo>
                  <a:pt x="1077" y="773"/>
                </a:lnTo>
                <a:lnTo>
                  <a:pt x="1091" y="771"/>
                </a:lnTo>
                <a:lnTo>
                  <a:pt x="1141" y="777"/>
                </a:lnTo>
                <a:lnTo>
                  <a:pt x="1174" y="781"/>
                </a:lnTo>
                <a:lnTo>
                  <a:pt x="1186" y="807"/>
                </a:lnTo>
                <a:lnTo>
                  <a:pt x="1186" y="807"/>
                </a:lnTo>
                <a:lnTo>
                  <a:pt x="1194" y="823"/>
                </a:lnTo>
                <a:lnTo>
                  <a:pt x="1215" y="851"/>
                </a:lnTo>
                <a:lnTo>
                  <a:pt x="1229" y="863"/>
                </a:lnTo>
                <a:lnTo>
                  <a:pt x="1250" y="855"/>
                </a:lnTo>
                <a:lnTo>
                  <a:pt x="1272" y="797"/>
                </a:lnTo>
                <a:lnTo>
                  <a:pt x="1283" y="795"/>
                </a:lnTo>
                <a:lnTo>
                  <a:pt x="1290" y="775"/>
                </a:lnTo>
                <a:lnTo>
                  <a:pt x="1295" y="766"/>
                </a:lnTo>
                <a:lnTo>
                  <a:pt x="1316" y="762"/>
                </a:lnTo>
                <a:lnTo>
                  <a:pt x="1335" y="741"/>
                </a:lnTo>
                <a:lnTo>
                  <a:pt x="1347" y="739"/>
                </a:lnTo>
                <a:lnTo>
                  <a:pt x="1356" y="750"/>
                </a:lnTo>
                <a:lnTo>
                  <a:pt x="1364" y="750"/>
                </a:lnTo>
                <a:lnTo>
                  <a:pt x="1375" y="761"/>
                </a:lnTo>
                <a:lnTo>
                  <a:pt x="1394" y="773"/>
                </a:lnTo>
                <a:lnTo>
                  <a:pt x="1409" y="775"/>
                </a:lnTo>
                <a:lnTo>
                  <a:pt x="1419" y="776"/>
                </a:lnTo>
                <a:lnTo>
                  <a:pt x="1424" y="777"/>
                </a:lnTo>
                <a:lnTo>
                  <a:pt x="1441" y="789"/>
                </a:lnTo>
                <a:lnTo>
                  <a:pt x="1463" y="817"/>
                </a:lnTo>
                <a:lnTo>
                  <a:pt x="1453" y="820"/>
                </a:lnTo>
                <a:lnTo>
                  <a:pt x="1442" y="828"/>
                </a:lnTo>
                <a:lnTo>
                  <a:pt x="1437" y="828"/>
                </a:lnTo>
                <a:lnTo>
                  <a:pt x="1419" y="815"/>
                </a:lnTo>
                <a:lnTo>
                  <a:pt x="1414" y="815"/>
                </a:lnTo>
                <a:lnTo>
                  <a:pt x="1396" y="811"/>
                </a:lnTo>
                <a:lnTo>
                  <a:pt x="1382" y="825"/>
                </a:lnTo>
                <a:lnTo>
                  <a:pt x="1380" y="855"/>
                </a:lnTo>
                <a:lnTo>
                  <a:pt x="1362" y="853"/>
                </a:lnTo>
                <a:lnTo>
                  <a:pt x="1346" y="875"/>
                </a:lnTo>
                <a:lnTo>
                  <a:pt x="1366" y="907"/>
                </a:lnTo>
                <a:lnTo>
                  <a:pt x="1378" y="943"/>
                </a:lnTo>
                <a:lnTo>
                  <a:pt x="1408" y="957"/>
                </a:lnTo>
                <a:lnTo>
                  <a:pt x="1422" y="951"/>
                </a:lnTo>
                <a:lnTo>
                  <a:pt x="1427" y="951"/>
                </a:lnTo>
                <a:lnTo>
                  <a:pt x="1437" y="953"/>
                </a:lnTo>
                <a:lnTo>
                  <a:pt x="1445" y="964"/>
                </a:lnTo>
                <a:lnTo>
                  <a:pt x="1442" y="989"/>
                </a:lnTo>
                <a:lnTo>
                  <a:pt x="1442" y="989"/>
                </a:lnTo>
                <a:lnTo>
                  <a:pt x="1432" y="992"/>
                </a:lnTo>
                <a:lnTo>
                  <a:pt x="1419" y="1009"/>
                </a:lnTo>
                <a:lnTo>
                  <a:pt x="1409" y="1033"/>
                </a:lnTo>
                <a:lnTo>
                  <a:pt x="1415" y="1069"/>
                </a:lnTo>
                <a:lnTo>
                  <a:pt x="1392" y="1068"/>
                </a:lnTo>
                <a:lnTo>
                  <a:pt x="1383" y="1089"/>
                </a:lnTo>
                <a:lnTo>
                  <a:pt x="1354" y="1103"/>
                </a:lnTo>
                <a:lnTo>
                  <a:pt x="1335" y="1105"/>
                </a:lnTo>
                <a:lnTo>
                  <a:pt x="1335" y="1132"/>
                </a:lnTo>
                <a:lnTo>
                  <a:pt x="1335" y="1176"/>
                </a:lnTo>
                <a:lnTo>
                  <a:pt x="1321" y="1202"/>
                </a:lnTo>
                <a:lnTo>
                  <a:pt x="1333" y="1236"/>
                </a:lnTo>
                <a:lnTo>
                  <a:pt x="1339" y="1274"/>
                </a:lnTo>
                <a:lnTo>
                  <a:pt x="1369" y="1296"/>
                </a:lnTo>
                <a:lnTo>
                  <a:pt x="1370" y="1337"/>
                </a:lnTo>
                <a:lnTo>
                  <a:pt x="1388" y="1379"/>
                </a:lnTo>
                <a:lnTo>
                  <a:pt x="1426" y="1400"/>
                </a:lnTo>
                <a:lnTo>
                  <a:pt x="1405" y="1392"/>
                </a:lnTo>
                <a:lnTo>
                  <a:pt x="1437" y="1405"/>
                </a:lnTo>
                <a:lnTo>
                  <a:pt x="1443" y="1416"/>
                </a:lnTo>
                <a:lnTo>
                  <a:pt x="1458" y="1423"/>
                </a:lnTo>
                <a:lnTo>
                  <a:pt x="1481" y="1435"/>
                </a:lnTo>
                <a:lnTo>
                  <a:pt x="1506" y="1458"/>
                </a:lnTo>
                <a:lnTo>
                  <a:pt x="1517" y="1483"/>
                </a:lnTo>
                <a:lnTo>
                  <a:pt x="1533" y="1507"/>
                </a:lnTo>
                <a:lnTo>
                  <a:pt x="1568" y="1522"/>
                </a:lnTo>
                <a:lnTo>
                  <a:pt x="1569" y="1554"/>
                </a:lnTo>
                <a:lnTo>
                  <a:pt x="1559" y="1572"/>
                </a:lnTo>
                <a:lnTo>
                  <a:pt x="1547" y="1578"/>
                </a:lnTo>
                <a:lnTo>
                  <a:pt x="1538" y="1602"/>
                </a:lnTo>
                <a:lnTo>
                  <a:pt x="1519" y="1622"/>
                </a:lnTo>
                <a:lnTo>
                  <a:pt x="1504" y="1628"/>
                </a:lnTo>
                <a:lnTo>
                  <a:pt x="1493" y="1662"/>
                </a:lnTo>
                <a:lnTo>
                  <a:pt x="1477" y="1679"/>
                </a:lnTo>
                <a:lnTo>
                  <a:pt x="1456" y="1690"/>
                </a:lnTo>
                <a:lnTo>
                  <a:pt x="1433" y="1680"/>
                </a:lnTo>
                <a:lnTo>
                  <a:pt x="1415" y="1688"/>
                </a:lnTo>
                <a:lnTo>
                  <a:pt x="1402" y="1685"/>
                </a:lnTo>
                <a:lnTo>
                  <a:pt x="1388" y="1707"/>
                </a:lnTo>
                <a:lnTo>
                  <a:pt x="1367" y="1725"/>
                </a:lnTo>
                <a:lnTo>
                  <a:pt x="1388" y="1767"/>
                </a:lnTo>
                <a:lnTo>
                  <a:pt x="1378" y="1797"/>
                </a:lnTo>
                <a:lnTo>
                  <a:pt x="1376" y="1833"/>
                </a:lnTo>
                <a:lnTo>
                  <a:pt x="1364" y="1847"/>
                </a:lnTo>
                <a:lnTo>
                  <a:pt x="1390" y="1862"/>
                </a:lnTo>
                <a:lnTo>
                  <a:pt x="1406" y="1881"/>
                </a:lnTo>
                <a:lnTo>
                  <a:pt x="1420" y="1892"/>
                </a:lnTo>
                <a:lnTo>
                  <a:pt x="1411" y="1908"/>
                </a:lnTo>
                <a:lnTo>
                  <a:pt x="1406" y="1932"/>
                </a:lnTo>
                <a:lnTo>
                  <a:pt x="1388" y="1949"/>
                </a:lnTo>
                <a:lnTo>
                  <a:pt x="1378" y="1974"/>
                </a:lnTo>
                <a:lnTo>
                  <a:pt x="1363" y="1977"/>
                </a:lnTo>
                <a:lnTo>
                  <a:pt x="1351" y="1977"/>
                </a:lnTo>
                <a:lnTo>
                  <a:pt x="1337" y="1982"/>
                </a:lnTo>
                <a:lnTo>
                  <a:pt x="1307" y="1973"/>
                </a:lnTo>
                <a:lnTo>
                  <a:pt x="1274" y="1980"/>
                </a:lnTo>
                <a:lnTo>
                  <a:pt x="1229" y="1988"/>
                </a:lnTo>
                <a:lnTo>
                  <a:pt x="1180" y="1986"/>
                </a:lnTo>
                <a:lnTo>
                  <a:pt x="1155" y="2008"/>
                </a:lnTo>
                <a:lnTo>
                  <a:pt x="1133" y="2003"/>
                </a:lnTo>
                <a:lnTo>
                  <a:pt x="1116" y="1999"/>
                </a:lnTo>
                <a:lnTo>
                  <a:pt x="1107" y="1966"/>
                </a:lnTo>
                <a:lnTo>
                  <a:pt x="1149" y="1957"/>
                </a:lnTo>
                <a:lnTo>
                  <a:pt x="1155" y="1930"/>
                </a:lnTo>
                <a:lnTo>
                  <a:pt x="1140" y="1894"/>
                </a:lnTo>
                <a:lnTo>
                  <a:pt x="1164" y="1873"/>
                </a:lnTo>
                <a:lnTo>
                  <a:pt x="1170" y="1846"/>
                </a:lnTo>
                <a:lnTo>
                  <a:pt x="1179" y="1825"/>
                </a:lnTo>
                <a:lnTo>
                  <a:pt x="1197" y="1801"/>
                </a:lnTo>
                <a:lnTo>
                  <a:pt x="1176" y="1765"/>
                </a:lnTo>
                <a:lnTo>
                  <a:pt x="1152" y="1771"/>
                </a:lnTo>
                <a:lnTo>
                  <a:pt x="1134" y="1732"/>
                </a:lnTo>
                <a:lnTo>
                  <a:pt x="1116" y="1726"/>
                </a:lnTo>
                <a:lnTo>
                  <a:pt x="1089" y="1732"/>
                </a:lnTo>
                <a:lnTo>
                  <a:pt x="1080" y="1714"/>
                </a:lnTo>
                <a:lnTo>
                  <a:pt x="1092" y="1663"/>
                </a:lnTo>
                <a:lnTo>
                  <a:pt x="1065" y="1651"/>
                </a:lnTo>
                <a:lnTo>
                  <a:pt x="1044" y="1666"/>
                </a:lnTo>
                <a:lnTo>
                  <a:pt x="1008" y="1657"/>
                </a:lnTo>
                <a:lnTo>
                  <a:pt x="990" y="1633"/>
                </a:lnTo>
                <a:lnTo>
                  <a:pt x="984" y="1603"/>
                </a:lnTo>
                <a:lnTo>
                  <a:pt x="975" y="1579"/>
                </a:lnTo>
                <a:lnTo>
                  <a:pt x="960" y="1561"/>
                </a:lnTo>
                <a:lnTo>
                  <a:pt x="930" y="1573"/>
                </a:lnTo>
                <a:lnTo>
                  <a:pt x="912" y="1525"/>
                </a:lnTo>
                <a:lnTo>
                  <a:pt x="894" y="1513"/>
                </a:lnTo>
                <a:lnTo>
                  <a:pt x="870" y="1525"/>
                </a:lnTo>
                <a:lnTo>
                  <a:pt x="822" y="1495"/>
                </a:lnTo>
                <a:lnTo>
                  <a:pt x="798" y="1459"/>
                </a:lnTo>
                <a:lnTo>
                  <a:pt x="795" y="1444"/>
                </a:lnTo>
                <a:lnTo>
                  <a:pt x="810" y="1417"/>
                </a:lnTo>
                <a:lnTo>
                  <a:pt x="792" y="1399"/>
                </a:lnTo>
                <a:lnTo>
                  <a:pt x="771" y="1390"/>
                </a:lnTo>
                <a:lnTo>
                  <a:pt x="747" y="1405"/>
                </a:lnTo>
                <a:lnTo>
                  <a:pt x="726" y="1435"/>
                </a:lnTo>
                <a:lnTo>
                  <a:pt x="690" y="1447"/>
                </a:lnTo>
                <a:lnTo>
                  <a:pt x="672" y="1477"/>
                </a:lnTo>
                <a:lnTo>
                  <a:pt x="699" y="1498"/>
                </a:lnTo>
                <a:lnTo>
                  <a:pt x="702" y="1534"/>
                </a:lnTo>
                <a:lnTo>
                  <a:pt x="705" y="1585"/>
                </a:lnTo>
                <a:lnTo>
                  <a:pt x="690" y="1606"/>
                </a:lnTo>
                <a:lnTo>
                  <a:pt x="678" y="1633"/>
                </a:lnTo>
                <a:lnTo>
                  <a:pt x="651" y="1624"/>
                </a:lnTo>
                <a:lnTo>
                  <a:pt x="627" y="1630"/>
                </a:lnTo>
                <a:lnTo>
                  <a:pt x="609" y="1648"/>
                </a:lnTo>
                <a:lnTo>
                  <a:pt x="636" y="1669"/>
                </a:lnTo>
                <a:lnTo>
                  <a:pt x="619" y="1691"/>
                </a:lnTo>
                <a:lnTo>
                  <a:pt x="593" y="1704"/>
                </a:lnTo>
                <a:lnTo>
                  <a:pt x="560" y="1691"/>
                </a:lnTo>
                <a:lnTo>
                  <a:pt x="544" y="1677"/>
                </a:lnTo>
                <a:lnTo>
                  <a:pt x="521" y="1667"/>
                </a:lnTo>
                <a:lnTo>
                  <a:pt x="497" y="1667"/>
                </a:lnTo>
                <a:lnTo>
                  <a:pt x="482" y="1655"/>
                </a:lnTo>
                <a:lnTo>
                  <a:pt x="478" y="1640"/>
                </a:lnTo>
                <a:lnTo>
                  <a:pt x="430" y="1611"/>
                </a:lnTo>
                <a:lnTo>
                  <a:pt x="418" y="1589"/>
                </a:lnTo>
                <a:lnTo>
                  <a:pt x="397" y="1601"/>
                </a:lnTo>
                <a:lnTo>
                  <a:pt x="377" y="1599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 rot="420000">
            <a:off x="914040" y="1523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 rot="8672400">
            <a:off x="904320" y="25668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454560" y="933480"/>
            <a:ext cx="2393640" cy="3228840"/>
            <a:chOff x="3454560" y="933480"/>
            <a:chExt cx="2393640" cy="3228840"/>
          </a:xfrm>
        </p:grpSpPr>
        <p:sp>
          <p:nvSpPr>
            <p:cNvPr id="359" name=""/>
            <p:cNvSpPr/>
            <p:nvPr/>
          </p:nvSpPr>
          <p:spPr>
            <a:xfrm rot="16200000">
              <a:off x="4575240" y="15984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54560" y="2965320"/>
              <a:ext cx="1511280" cy="793800"/>
            </a:xfrm>
            <a:custGeom>
              <a:avLst/>
              <a:gdLst/>
              <a:ahLst/>
              <a:rect l="l" t="t" r="r" b="b"/>
              <a:pathLst>
                <a:path w="952" h="500">
                  <a:moveTo>
                    <a:pt x="952" y="0"/>
                  </a:moveTo>
                  <a:lnTo>
                    <a:pt x="184" y="500"/>
                  </a:lnTo>
                  <a:lnTo>
                    <a:pt x="0" y="3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52880" y="2962440"/>
              <a:ext cx="895320" cy="1199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05440" y="933480"/>
              <a:ext cx="1266840" cy="2438280"/>
            </a:xfrm>
            <a:custGeom>
              <a:avLst/>
              <a:gdLst/>
              <a:ahLst/>
              <a:rect l="l" t="t" r="r" b="b"/>
              <a:pathLst>
                <a:path w="798" h="1536">
                  <a:moveTo>
                    <a:pt x="0" y="0"/>
                  </a:moveTo>
                  <a:lnTo>
                    <a:pt x="282" y="282"/>
                  </a:lnTo>
                  <a:lnTo>
                    <a:pt x="420" y="528"/>
                  </a:lnTo>
                  <a:lnTo>
                    <a:pt x="372" y="966"/>
                  </a:lnTo>
                  <a:lnTo>
                    <a:pt x="540" y="1284"/>
                  </a:lnTo>
                  <a:lnTo>
                    <a:pt x="690" y="1260"/>
                  </a:lnTo>
                  <a:lnTo>
                    <a:pt x="798" y="1368"/>
                  </a:lnTo>
                  <a:lnTo>
                    <a:pt x="738" y="153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00480" y="2162160"/>
              <a:ext cx="501840" cy="371520"/>
            </a:xfrm>
            <a:custGeom>
              <a:avLst/>
              <a:gdLst/>
              <a:ahLst/>
              <a:rect l="l" t="t" r="r" b="b"/>
              <a:pathLst>
                <a:path w="316" h="234">
                  <a:moveTo>
                    <a:pt x="0" y="0"/>
                  </a:moveTo>
                  <a:cubicBezTo>
                    <a:pt x="28" y="18"/>
                    <a:pt x="170" y="51"/>
                    <a:pt x="222" y="84"/>
                  </a:cubicBezTo>
                  <a:cubicBezTo>
                    <a:pt x="274" y="117"/>
                    <a:pt x="316" y="173"/>
                    <a:pt x="312" y="198"/>
                  </a:cubicBezTo>
                  <a:cubicBezTo>
                    <a:pt x="285" y="206"/>
                    <a:pt x="231" y="234"/>
                    <a:pt x="198" y="23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1440" y="1378080"/>
              <a:ext cx="749160" cy="631800"/>
            </a:xfrm>
            <a:custGeom>
              <a:avLst/>
              <a:gdLst/>
              <a:ahLst/>
              <a:rect l="l" t="t" r="r" b="b"/>
              <a:pathLst>
                <a:path w="472" h="398">
                  <a:moveTo>
                    <a:pt x="472" y="0"/>
                  </a:moveTo>
                  <a:lnTo>
                    <a:pt x="372" y="200"/>
                  </a:lnTo>
                  <a:lnTo>
                    <a:pt x="0" y="39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"/>
          <p:cNvSpPr/>
          <p:nvPr/>
        </p:nvSpPr>
        <p:spPr>
          <a:xfrm rot="480000">
            <a:off x="4900680" y="-228600"/>
            <a:ext cx="5408640" cy="4106880"/>
          </a:xfrm>
          <a:custGeom>
            <a:avLst/>
            <a:gdLst/>
            <a:ahLst/>
            <a:rect l="l" t="t" r="r" b="b"/>
            <a:pathLst>
              <a:path w="708" h="521">
                <a:moveTo>
                  <a:pt x="344" y="514"/>
                </a:moveTo>
                <a:lnTo>
                  <a:pt x="344" y="514"/>
                </a:lnTo>
                <a:lnTo>
                  <a:pt x="342" y="514"/>
                </a:lnTo>
                <a:lnTo>
                  <a:pt x="339" y="516"/>
                </a:lnTo>
                <a:lnTo>
                  <a:pt x="337" y="516"/>
                </a:lnTo>
                <a:lnTo>
                  <a:pt x="334" y="518"/>
                </a:lnTo>
                <a:lnTo>
                  <a:pt x="332" y="518"/>
                </a:lnTo>
                <a:lnTo>
                  <a:pt x="329" y="518"/>
                </a:lnTo>
                <a:lnTo>
                  <a:pt x="326" y="516"/>
                </a:lnTo>
                <a:lnTo>
                  <a:pt x="319" y="514"/>
                </a:lnTo>
                <a:lnTo>
                  <a:pt x="301" y="513"/>
                </a:lnTo>
                <a:lnTo>
                  <a:pt x="291" y="514"/>
                </a:lnTo>
                <a:lnTo>
                  <a:pt x="289" y="514"/>
                </a:lnTo>
                <a:lnTo>
                  <a:pt x="286" y="514"/>
                </a:lnTo>
                <a:lnTo>
                  <a:pt x="282" y="513"/>
                </a:lnTo>
                <a:lnTo>
                  <a:pt x="281" y="511"/>
                </a:lnTo>
                <a:lnTo>
                  <a:pt x="276" y="511"/>
                </a:lnTo>
                <a:lnTo>
                  <a:pt x="274" y="511"/>
                </a:lnTo>
                <a:lnTo>
                  <a:pt x="264" y="513"/>
                </a:lnTo>
                <a:lnTo>
                  <a:pt x="262" y="514"/>
                </a:lnTo>
                <a:lnTo>
                  <a:pt x="259" y="516"/>
                </a:lnTo>
                <a:lnTo>
                  <a:pt x="257" y="516"/>
                </a:lnTo>
                <a:lnTo>
                  <a:pt x="254" y="518"/>
                </a:lnTo>
                <a:lnTo>
                  <a:pt x="254" y="519"/>
                </a:lnTo>
                <a:lnTo>
                  <a:pt x="247" y="521"/>
                </a:lnTo>
                <a:lnTo>
                  <a:pt x="241" y="521"/>
                </a:lnTo>
                <a:lnTo>
                  <a:pt x="234" y="519"/>
                </a:lnTo>
                <a:lnTo>
                  <a:pt x="232" y="519"/>
                </a:lnTo>
                <a:lnTo>
                  <a:pt x="231" y="518"/>
                </a:lnTo>
                <a:lnTo>
                  <a:pt x="229" y="514"/>
                </a:lnTo>
                <a:lnTo>
                  <a:pt x="231" y="504"/>
                </a:lnTo>
                <a:lnTo>
                  <a:pt x="232" y="503"/>
                </a:lnTo>
                <a:lnTo>
                  <a:pt x="236" y="501"/>
                </a:lnTo>
                <a:lnTo>
                  <a:pt x="239" y="501"/>
                </a:lnTo>
                <a:lnTo>
                  <a:pt x="241" y="496"/>
                </a:lnTo>
                <a:lnTo>
                  <a:pt x="241" y="493"/>
                </a:lnTo>
                <a:lnTo>
                  <a:pt x="239" y="491"/>
                </a:lnTo>
                <a:lnTo>
                  <a:pt x="237" y="491"/>
                </a:lnTo>
                <a:lnTo>
                  <a:pt x="234" y="491"/>
                </a:lnTo>
                <a:lnTo>
                  <a:pt x="231" y="491"/>
                </a:lnTo>
                <a:lnTo>
                  <a:pt x="212" y="483"/>
                </a:lnTo>
                <a:lnTo>
                  <a:pt x="211" y="483"/>
                </a:lnTo>
                <a:lnTo>
                  <a:pt x="211" y="478"/>
                </a:lnTo>
                <a:lnTo>
                  <a:pt x="209" y="476"/>
                </a:lnTo>
                <a:lnTo>
                  <a:pt x="207" y="476"/>
                </a:lnTo>
                <a:lnTo>
                  <a:pt x="206" y="476"/>
                </a:lnTo>
                <a:lnTo>
                  <a:pt x="202" y="476"/>
                </a:lnTo>
                <a:lnTo>
                  <a:pt x="199" y="473"/>
                </a:lnTo>
                <a:lnTo>
                  <a:pt x="197" y="471"/>
                </a:lnTo>
                <a:lnTo>
                  <a:pt x="191" y="461"/>
                </a:lnTo>
                <a:lnTo>
                  <a:pt x="191" y="458"/>
                </a:lnTo>
                <a:lnTo>
                  <a:pt x="197" y="449"/>
                </a:lnTo>
                <a:lnTo>
                  <a:pt x="201" y="449"/>
                </a:lnTo>
                <a:lnTo>
                  <a:pt x="202" y="449"/>
                </a:lnTo>
                <a:lnTo>
                  <a:pt x="206" y="451"/>
                </a:lnTo>
                <a:lnTo>
                  <a:pt x="207" y="451"/>
                </a:lnTo>
                <a:lnTo>
                  <a:pt x="209" y="449"/>
                </a:lnTo>
                <a:lnTo>
                  <a:pt x="211" y="448"/>
                </a:lnTo>
                <a:lnTo>
                  <a:pt x="206" y="443"/>
                </a:lnTo>
                <a:lnTo>
                  <a:pt x="202" y="441"/>
                </a:lnTo>
                <a:lnTo>
                  <a:pt x="201" y="441"/>
                </a:lnTo>
                <a:lnTo>
                  <a:pt x="199" y="441"/>
                </a:lnTo>
                <a:lnTo>
                  <a:pt x="196" y="441"/>
                </a:lnTo>
                <a:lnTo>
                  <a:pt x="192" y="439"/>
                </a:lnTo>
                <a:lnTo>
                  <a:pt x="191" y="436"/>
                </a:lnTo>
                <a:lnTo>
                  <a:pt x="189" y="434"/>
                </a:lnTo>
                <a:lnTo>
                  <a:pt x="186" y="434"/>
                </a:lnTo>
                <a:lnTo>
                  <a:pt x="184" y="434"/>
                </a:lnTo>
                <a:lnTo>
                  <a:pt x="175" y="441"/>
                </a:lnTo>
                <a:lnTo>
                  <a:pt x="175" y="444"/>
                </a:lnTo>
                <a:lnTo>
                  <a:pt x="174" y="448"/>
                </a:lnTo>
                <a:lnTo>
                  <a:pt x="172" y="449"/>
                </a:lnTo>
                <a:lnTo>
                  <a:pt x="169" y="461"/>
                </a:lnTo>
                <a:lnTo>
                  <a:pt x="165" y="463"/>
                </a:lnTo>
                <a:lnTo>
                  <a:pt x="162" y="461"/>
                </a:lnTo>
                <a:lnTo>
                  <a:pt x="157" y="456"/>
                </a:lnTo>
                <a:lnTo>
                  <a:pt x="155" y="453"/>
                </a:lnTo>
                <a:lnTo>
                  <a:pt x="155" y="453"/>
                </a:lnTo>
                <a:lnTo>
                  <a:pt x="152" y="448"/>
                </a:lnTo>
                <a:lnTo>
                  <a:pt x="145" y="448"/>
                </a:lnTo>
                <a:lnTo>
                  <a:pt x="135" y="448"/>
                </a:lnTo>
                <a:lnTo>
                  <a:pt x="132" y="449"/>
                </a:lnTo>
                <a:lnTo>
                  <a:pt x="125" y="449"/>
                </a:lnTo>
                <a:lnTo>
                  <a:pt x="124" y="448"/>
                </a:lnTo>
                <a:lnTo>
                  <a:pt x="122" y="444"/>
                </a:lnTo>
                <a:lnTo>
                  <a:pt x="120" y="439"/>
                </a:lnTo>
                <a:lnTo>
                  <a:pt x="119" y="439"/>
                </a:lnTo>
                <a:lnTo>
                  <a:pt x="115" y="439"/>
                </a:lnTo>
                <a:lnTo>
                  <a:pt x="112" y="439"/>
                </a:lnTo>
                <a:lnTo>
                  <a:pt x="110" y="439"/>
                </a:lnTo>
                <a:lnTo>
                  <a:pt x="105" y="439"/>
                </a:lnTo>
                <a:lnTo>
                  <a:pt x="102" y="436"/>
                </a:lnTo>
                <a:lnTo>
                  <a:pt x="102" y="431"/>
                </a:lnTo>
                <a:lnTo>
                  <a:pt x="105" y="429"/>
                </a:lnTo>
                <a:lnTo>
                  <a:pt x="109" y="429"/>
                </a:lnTo>
                <a:lnTo>
                  <a:pt x="110" y="429"/>
                </a:lnTo>
                <a:lnTo>
                  <a:pt x="112" y="428"/>
                </a:lnTo>
                <a:lnTo>
                  <a:pt x="115" y="426"/>
                </a:lnTo>
                <a:lnTo>
                  <a:pt x="115" y="424"/>
                </a:lnTo>
                <a:lnTo>
                  <a:pt x="114" y="421"/>
                </a:lnTo>
                <a:lnTo>
                  <a:pt x="109" y="419"/>
                </a:lnTo>
                <a:lnTo>
                  <a:pt x="107" y="419"/>
                </a:lnTo>
                <a:lnTo>
                  <a:pt x="105" y="421"/>
                </a:lnTo>
                <a:lnTo>
                  <a:pt x="104" y="419"/>
                </a:lnTo>
                <a:lnTo>
                  <a:pt x="100" y="416"/>
                </a:lnTo>
                <a:lnTo>
                  <a:pt x="104" y="411"/>
                </a:lnTo>
                <a:lnTo>
                  <a:pt x="109" y="401"/>
                </a:lnTo>
                <a:lnTo>
                  <a:pt x="105" y="396"/>
                </a:lnTo>
                <a:lnTo>
                  <a:pt x="104" y="396"/>
                </a:lnTo>
                <a:lnTo>
                  <a:pt x="99" y="394"/>
                </a:lnTo>
                <a:lnTo>
                  <a:pt x="95" y="394"/>
                </a:lnTo>
                <a:lnTo>
                  <a:pt x="89" y="394"/>
                </a:lnTo>
                <a:lnTo>
                  <a:pt x="70" y="388"/>
                </a:lnTo>
                <a:lnTo>
                  <a:pt x="65" y="384"/>
                </a:lnTo>
                <a:lnTo>
                  <a:pt x="50" y="373"/>
                </a:lnTo>
                <a:lnTo>
                  <a:pt x="49" y="369"/>
                </a:lnTo>
                <a:lnTo>
                  <a:pt x="45" y="359"/>
                </a:lnTo>
                <a:lnTo>
                  <a:pt x="45" y="357"/>
                </a:lnTo>
                <a:lnTo>
                  <a:pt x="47" y="354"/>
                </a:lnTo>
                <a:lnTo>
                  <a:pt x="45" y="344"/>
                </a:lnTo>
                <a:lnTo>
                  <a:pt x="44" y="342"/>
                </a:lnTo>
                <a:lnTo>
                  <a:pt x="42" y="346"/>
                </a:lnTo>
                <a:lnTo>
                  <a:pt x="40" y="346"/>
                </a:lnTo>
                <a:lnTo>
                  <a:pt x="35" y="341"/>
                </a:lnTo>
                <a:lnTo>
                  <a:pt x="34" y="337"/>
                </a:lnTo>
                <a:lnTo>
                  <a:pt x="29" y="331"/>
                </a:lnTo>
                <a:lnTo>
                  <a:pt x="25" y="329"/>
                </a:lnTo>
                <a:lnTo>
                  <a:pt x="22" y="331"/>
                </a:lnTo>
                <a:lnTo>
                  <a:pt x="12" y="324"/>
                </a:lnTo>
                <a:lnTo>
                  <a:pt x="9" y="321"/>
                </a:lnTo>
                <a:lnTo>
                  <a:pt x="5" y="316"/>
                </a:lnTo>
                <a:lnTo>
                  <a:pt x="0" y="311"/>
                </a:lnTo>
                <a:lnTo>
                  <a:pt x="2" y="309"/>
                </a:lnTo>
                <a:lnTo>
                  <a:pt x="5" y="306"/>
                </a:lnTo>
                <a:lnTo>
                  <a:pt x="17" y="302"/>
                </a:lnTo>
                <a:lnTo>
                  <a:pt x="20" y="302"/>
                </a:lnTo>
                <a:lnTo>
                  <a:pt x="22" y="302"/>
                </a:lnTo>
                <a:lnTo>
                  <a:pt x="24" y="304"/>
                </a:lnTo>
                <a:lnTo>
                  <a:pt x="27" y="306"/>
                </a:lnTo>
                <a:lnTo>
                  <a:pt x="32" y="304"/>
                </a:lnTo>
                <a:lnTo>
                  <a:pt x="34" y="301"/>
                </a:lnTo>
                <a:lnTo>
                  <a:pt x="34" y="301"/>
                </a:lnTo>
                <a:lnTo>
                  <a:pt x="34" y="299"/>
                </a:lnTo>
                <a:lnTo>
                  <a:pt x="35" y="292"/>
                </a:lnTo>
                <a:lnTo>
                  <a:pt x="37" y="291"/>
                </a:lnTo>
                <a:lnTo>
                  <a:pt x="37" y="289"/>
                </a:lnTo>
                <a:lnTo>
                  <a:pt x="39" y="289"/>
                </a:lnTo>
                <a:lnTo>
                  <a:pt x="40" y="287"/>
                </a:lnTo>
                <a:lnTo>
                  <a:pt x="42" y="287"/>
                </a:lnTo>
                <a:lnTo>
                  <a:pt x="52" y="289"/>
                </a:lnTo>
                <a:lnTo>
                  <a:pt x="55" y="289"/>
                </a:lnTo>
                <a:lnTo>
                  <a:pt x="59" y="289"/>
                </a:lnTo>
                <a:lnTo>
                  <a:pt x="64" y="282"/>
                </a:lnTo>
                <a:lnTo>
                  <a:pt x="64" y="279"/>
                </a:lnTo>
                <a:lnTo>
                  <a:pt x="64" y="274"/>
                </a:lnTo>
                <a:lnTo>
                  <a:pt x="65" y="272"/>
                </a:lnTo>
                <a:lnTo>
                  <a:pt x="65" y="271"/>
                </a:lnTo>
                <a:lnTo>
                  <a:pt x="70" y="264"/>
                </a:lnTo>
                <a:lnTo>
                  <a:pt x="69" y="256"/>
                </a:lnTo>
                <a:lnTo>
                  <a:pt x="69" y="251"/>
                </a:lnTo>
                <a:lnTo>
                  <a:pt x="70" y="247"/>
                </a:lnTo>
                <a:lnTo>
                  <a:pt x="79" y="239"/>
                </a:lnTo>
                <a:lnTo>
                  <a:pt x="80" y="237"/>
                </a:lnTo>
                <a:lnTo>
                  <a:pt x="80" y="237"/>
                </a:lnTo>
                <a:lnTo>
                  <a:pt x="82" y="234"/>
                </a:lnTo>
                <a:lnTo>
                  <a:pt x="80" y="231"/>
                </a:lnTo>
                <a:lnTo>
                  <a:pt x="80" y="222"/>
                </a:lnTo>
                <a:lnTo>
                  <a:pt x="85" y="216"/>
                </a:lnTo>
                <a:lnTo>
                  <a:pt x="89" y="207"/>
                </a:lnTo>
                <a:lnTo>
                  <a:pt x="90" y="202"/>
                </a:lnTo>
                <a:lnTo>
                  <a:pt x="87" y="201"/>
                </a:lnTo>
                <a:lnTo>
                  <a:pt x="87" y="201"/>
                </a:lnTo>
                <a:lnTo>
                  <a:pt x="90" y="194"/>
                </a:lnTo>
                <a:lnTo>
                  <a:pt x="92" y="191"/>
                </a:lnTo>
                <a:lnTo>
                  <a:pt x="94" y="189"/>
                </a:lnTo>
                <a:lnTo>
                  <a:pt x="97" y="179"/>
                </a:lnTo>
                <a:lnTo>
                  <a:pt x="97" y="177"/>
                </a:lnTo>
                <a:lnTo>
                  <a:pt x="97" y="169"/>
                </a:lnTo>
                <a:lnTo>
                  <a:pt x="100" y="162"/>
                </a:lnTo>
                <a:lnTo>
                  <a:pt x="102" y="160"/>
                </a:lnTo>
                <a:lnTo>
                  <a:pt x="105" y="159"/>
                </a:lnTo>
                <a:lnTo>
                  <a:pt x="105" y="157"/>
                </a:lnTo>
                <a:lnTo>
                  <a:pt x="105" y="154"/>
                </a:lnTo>
                <a:lnTo>
                  <a:pt x="105" y="150"/>
                </a:lnTo>
                <a:lnTo>
                  <a:pt x="104" y="149"/>
                </a:lnTo>
                <a:lnTo>
                  <a:pt x="104" y="144"/>
                </a:lnTo>
                <a:lnTo>
                  <a:pt x="105" y="142"/>
                </a:lnTo>
                <a:lnTo>
                  <a:pt x="110" y="135"/>
                </a:lnTo>
                <a:lnTo>
                  <a:pt x="114" y="134"/>
                </a:lnTo>
                <a:lnTo>
                  <a:pt x="114" y="134"/>
                </a:lnTo>
                <a:lnTo>
                  <a:pt x="114" y="132"/>
                </a:lnTo>
                <a:lnTo>
                  <a:pt x="114" y="130"/>
                </a:lnTo>
                <a:lnTo>
                  <a:pt x="115" y="124"/>
                </a:lnTo>
                <a:lnTo>
                  <a:pt x="119" y="119"/>
                </a:lnTo>
                <a:lnTo>
                  <a:pt x="120" y="115"/>
                </a:lnTo>
                <a:lnTo>
                  <a:pt x="129" y="109"/>
                </a:lnTo>
                <a:lnTo>
                  <a:pt x="132" y="109"/>
                </a:lnTo>
                <a:lnTo>
                  <a:pt x="132" y="109"/>
                </a:lnTo>
                <a:lnTo>
                  <a:pt x="137" y="110"/>
                </a:lnTo>
                <a:lnTo>
                  <a:pt x="140" y="110"/>
                </a:lnTo>
                <a:lnTo>
                  <a:pt x="142" y="110"/>
                </a:lnTo>
                <a:lnTo>
                  <a:pt x="144" y="109"/>
                </a:lnTo>
                <a:lnTo>
                  <a:pt x="150" y="100"/>
                </a:lnTo>
                <a:lnTo>
                  <a:pt x="157" y="87"/>
                </a:lnTo>
                <a:lnTo>
                  <a:pt x="157" y="87"/>
                </a:lnTo>
                <a:lnTo>
                  <a:pt x="159" y="85"/>
                </a:lnTo>
                <a:lnTo>
                  <a:pt x="167" y="82"/>
                </a:lnTo>
                <a:lnTo>
                  <a:pt x="169" y="79"/>
                </a:lnTo>
                <a:lnTo>
                  <a:pt x="170" y="75"/>
                </a:lnTo>
                <a:lnTo>
                  <a:pt x="170" y="74"/>
                </a:lnTo>
                <a:lnTo>
                  <a:pt x="170" y="70"/>
                </a:lnTo>
                <a:lnTo>
                  <a:pt x="172" y="69"/>
                </a:lnTo>
                <a:lnTo>
                  <a:pt x="174" y="67"/>
                </a:lnTo>
                <a:lnTo>
                  <a:pt x="181" y="69"/>
                </a:lnTo>
                <a:lnTo>
                  <a:pt x="182" y="70"/>
                </a:lnTo>
                <a:lnTo>
                  <a:pt x="184" y="72"/>
                </a:lnTo>
                <a:lnTo>
                  <a:pt x="187" y="74"/>
                </a:lnTo>
                <a:lnTo>
                  <a:pt x="192" y="75"/>
                </a:lnTo>
                <a:lnTo>
                  <a:pt x="199" y="77"/>
                </a:lnTo>
                <a:lnTo>
                  <a:pt x="199" y="75"/>
                </a:lnTo>
                <a:lnTo>
                  <a:pt x="202" y="74"/>
                </a:lnTo>
                <a:lnTo>
                  <a:pt x="222" y="74"/>
                </a:lnTo>
                <a:lnTo>
                  <a:pt x="232" y="72"/>
                </a:lnTo>
                <a:lnTo>
                  <a:pt x="236" y="72"/>
                </a:lnTo>
                <a:lnTo>
                  <a:pt x="241" y="74"/>
                </a:lnTo>
                <a:lnTo>
                  <a:pt x="244" y="75"/>
                </a:lnTo>
                <a:lnTo>
                  <a:pt x="252" y="75"/>
                </a:lnTo>
                <a:lnTo>
                  <a:pt x="257" y="70"/>
                </a:lnTo>
                <a:lnTo>
                  <a:pt x="262" y="67"/>
                </a:lnTo>
                <a:lnTo>
                  <a:pt x="266" y="67"/>
                </a:lnTo>
                <a:lnTo>
                  <a:pt x="272" y="65"/>
                </a:lnTo>
                <a:lnTo>
                  <a:pt x="274" y="65"/>
                </a:lnTo>
                <a:lnTo>
                  <a:pt x="276" y="65"/>
                </a:lnTo>
                <a:lnTo>
                  <a:pt x="277" y="67"/>
                </a:lnTo>
                <a:lnTo>
                  <a:pt x="282" y="70"/>
                </a:lnTo>
                <a:lnTo>
                  <a:pt x="282" y="74"/>
                </a:lnTo>
                <a:lnTo>
                  <a:pt x="284" y="74"/>
                </a:lnTo>
                <a:lnTo>
                  <a:pt x="286" y="75"/>
                </a:lnTo>
                <a:lnTo>
                  <a:pt x="291" y="77"/>
                </a:lnTo>
                <a:lnTo>
                  <a:pt x="292" y="75"/>
                </a:lnTo>
                <a:lnTo>
                  <a:pt x="294" y="77"/>
                </a:lnTo>
                <a:lnTo>
                  <a:pt x="297" y="82"/>
                </a:lnTo>
                <a:lnTo>
                  <a:pt x="301" y="85"/>
                </a:lnTo>
                <a:lnTo>
                  <a:pt x="304" y="85"/>
                </a:lnTo>
                <a:lnTo>
                  <a:pt x="306" y="84"/>
                </a:lnTo>
                <a:lnTo>
                  <a:pt x="307" y="84"/>
                </a:lnTo>
                <a:lnTo>
                  <a:pt x="309" y="84"/>
                </a:lnTo>
                <a:lnTo>
                  <a:pt x="311" y="82"/>
                </a:lnTo>
                <a:lnTo>
                  <a:pt x="311" y="82"/>
                </a:lnTo>
                <a:lnTo>
                  <a:pt x="314" y="80"/>
                </a:lnTo>
                <a:lnTo>
                  <a:pt x="316" y="77"/>
                </a:lnTo>
                <a:lnTo>
                  <a:pt x="317" y="74"/>
                </a:lnTo>
                <a:lnTo>
                  <a:pt x="317" y="70"/>
                </a:lnTo>
                <a:lnTo>
                  <a:pt x="321" y="64"/>
                </a:lnTo>
                <a:lnTo>
                  <a:pt x="322" y="62"/>
                </a:lnTo>
                <a:lnTo>
                  <a:pt x="327" y="59"/>
                </a:lnTo>
                <a:lnTo>
                  <a:pt x="339" y="54"/>
                </a:lnTo>
                <a:lnTo>
                  <a:pt x="341" y="54"/>
                </a:lnTo>
                <a:lnTo>
                  <a:pt x="342" y="52"/>
                </a:lnTo>
                <a:lnTo>
                  <a:pt x="344" y="52"/>
                </a:lnTo>
                <a:lnTo>
                  <a:pt x="349" y="52"/>
                </a:lnTo>
                <a:lnTo>
                  <a:pt x="358" y="49"/>
                </a:lnTo>
                <a:lnTo>
                  <a:pt x="359" y="47"/>
                </a:lnTo>
                <a:lnTo>
                  <a:pt x="361" y="45"/>
                </a:lnTo>
                <a:lnTo>
                  <a:pt x="366" y="44"/>
                </a:lnTo>
                <a:lnTo>
                  <a:pt x="374" y="40"/>
                </a:lnTo>
                <a:lnTo>
                  <a:pt x="379" y="40"/>
                </a:lnTo>
                <a:lnTo>
                  <a:pt x="379" y="40"/>
                </a:lnTo>
                <a:lnTo>
                  <a:pt x="383" y="39"/>
                </a:lnTo>
                <a:lnTo>
                  <a:pt x="384" y="37"/>
                </a:lnTo>
                <a:lnTo>
                  <a:pt x="388" y="27"/>
                </a:lnTo>
                <a:lnTo>
                  <a:pt x="389" y="15"/>
                </a:lnTo>
                <a:lnTo>
                  <a:pt x="398" y="9"/>
                </a:lnTo>
                <a:lnTo>
                  <a:pt x="401" y="9"/>
                </a:lnTo>
                <a:lnTo>
                  <a:pt x="403" y="9"/>
                </a:lnTo>
                <a:lnTo>
                  <a:pt x="404" y="7"/>
                </a:lnTo>
                <a:lnTo>
                  <a:pt x="409" y="2"/>
                </a:lnTo>
                <a:lnTo>
                  <a:pt x="413" y="0"/>
                </a:lnTo>
                <a:lnTo>
                  <a:pt x="421" y="0"/>
                </a:lnTo>
                <a:lnTo>
                  <a:pt x="433" y="5"/>
                </a:lnTo>
                <a:lnTo>
                  <a:pt x="436" y="7"/>
                </a:lnTo>
                <a:lnTo>
                  <a:pt x="451" y="22"/>
                </a:lnTo>
                <a:lnTo>
                  <a:pt x="456" y="30"/>
                </a:lnTo>
                <a:lnTo>
                  <a:pt x="458" y="37"/>
                </a:lnTo>
                <a:lnTo>
                  <a:pt x="461" y="42"/>
                </a:lnTo>
                <a:lnTo>
                  <a:pt x="468" y="50"/>
                </a:lnTo>
                <a:lnTo>
                  <a:pt x="469" y="54"/>
                </a:lnTo>
                <a:lnTo>
                  <a:pt x="471" y="55"/>
                </a:lnTo>
                <a:lnTo>
                  <a:pt x="474" y="57"/>
                </a:lnTo>
                <a:lnTo>
                  <a:pt x="481" y="62"/>
                </a:lnTo>
                <a:lnTo>
                  <a:pt x="486" y="69"/>
                </a:lnTo>
                <a:lnTo>
                  <a:pt x="496" y="80"/>
                </a:lnTo>
                <a:lnTo>
                  <a:pt x="501" y="85"/>
                </a:lnTo>
                <a:lnTo>
                  <a:pt x="504" y="85"/>
                </a:lnTo>
                <a:lnTo>
                  <a:pt x="508" y="85"/>
                </a:lnTo>
                <a:lnTo>
                  <a:pt x="509" y="89"/>
                </a:lnTo>
                <a:lnTo>
                  <a:pt x="514" y="94"/>
                </a:lnTo>
                <a:lnTo>
                  <a:pt x="516" y="99"/>
                </a:lnTo>
                <a:lnTo>
                  <a:pt x="523" y="102"/>
                </a:lnTo>
                <a:lnTo>
                  <a:pt x="530" y="107"/>
                </a:lnTo>
                <a:lnTo>
                  <a:pt x="535" y="109"/>
                </a:lnTo>
                <a:lnTo>
                  <a:pt x="536" y="109"/>
                </a:lnTo>
                <a:lnTo>
                  <a:pt x="541" y="112"/>
                </a:lnTo>
                <a:lnTo>
                  <a:pt x="545" y="117"/>
                </a:lnTo>
                <a:lnTo>
                  <a:pt x="546" y="120"/>
                </a:lnTo>
                <a:lnTo>
                  <a:pt x="546" y="124"/>
                </a:lnTo>
                <a:lnTo>
                  <a:pt x="548" y="125"/>
                </a:lnTo>
                <a:lnTo>
                  <a:pt x="555" y="135"/>
                </a:lnTo>
                <a:lnTo>
                  <a:pt x="556" y="139"/>
                </a:lnTo>
                <a:lnTo>
                  <a:pt x="560" y="140"/>
                </a:lnTo>
                <a:lnTo>
                  <a:pt x="563" y="147"/>
                </a:lnTo>
                <a:lnTo>
                  <a:pt x="568" y="165"/>
                </a:lnTo>
                <a:lnTo>
                  <a:pt x="566" y="177"/>
                </a:lnTo>
                <a:lnTo>
                  <a:pt x="566" y="192"/>
                </a:lnTo>
                <a:lnTo>
                  <a:pt x="566" y="202"/>
                </a:lnTo>
                <a:lnTo>
                  <a:pt x="565" y="206"/>
                </a:lnTo>
                <a:lnTo>
                  <a:pt x="568" y="214"/>
                </a:lnTo>
                <a:lnTo>
                  <a:pt x="570" y="216"/>
                </a:lnTo>
                <a:lnTo>
                  <a:pt x="571" y="221"/>
                </a:lnTo>
                <a:lnTo>
                  <a:pt x="580" y="241"/>
                </a:lnTo>
                <a:lnTo>
                  <a:pt x="581" y="246"/>
                </a:lnTo>
                <a:lnTo>
                  <a:pt x="581" y="251"/>
                </a:lnTo>
                <a:lnTo>
                  <a:pt x="581" y="251"/>
                </a:lnTo>
                <a:lnTo>
                  <a:pt x="576" y="256"/>
                </a:lnTo>
                <a:lnTo>
                  <a:pt x="588" y="266"/>
                </a:lnTo>
                <a:lnTo>
                  <a:pt x="590" y="267"/>
                </a:lnTo>
                <a:lnTo>
                  <a:pt x="591" y="267"/>
                </a:lnTo>
                <a:lnTo>
                  <a:pt x="591" y="267"/>
                </a:lnTo>
                <a:lnTo>
                  <a:pt x="596" y="269"/>
                </a:lnTo>
                <a:lnTo>
                  <a:pt x="596" y="272"/>
                </a:lnTo>
                <a:lnTo>
                  <a:pt x="600" y="276"/>
                </a:lnTo>
                <a:lnTo>
                  <a:pt x="601" y="277"/>
                </a:lnTo>
                <a:lnTo>
                  <a:pt x="603" y="279"/>
                </a:lnTo>
                <a:lnTo>
                  <a:pt x="606" y="281"/>
                </a:lnTo>
                <a:lnTo>
                  <a:pt x="621" y="282"/>
                </a:lnTo>
                <a:lnTo>
                  <a:pt x="631" y="282"/>
                </a:lnTo>
                <a:lnTo>
                  <a:pt x="638" y="279"/>
                </a:lnTo>
                <a:lnTo>
                  <a:pt x="640" y="271"/>
                </a:lnTo>
                <a:lnTo>
                  <a:pt x="648" y="267"/>
                </a:lnTo>
                <a:lnTo>
                  <a:pt x="663" y="251"/>
                </a:lnTo>
                <a:lnTo>
                  <a:pt x="670" y="247"/>
                </a:lnTo>
                <a:lnTo>
                  <a:pt x="676" y="246"/>
                </a:lnTo>
                <a:lnTo>
                  <a:pt x="685" y="247"/>
                </a:lnTo>
                <a:lnTo>
                  <a:pt x="690" y="247"/>
                </a:lnTo>
                <a:lnTo>
                  <a:pt x="693" y="249"/>
                </a:lnTo>
                <a:lnTo>
                  <a:pt x="697" y="251"/>
                </a:lnTo>
                <a:lnTo>
                  <a:pt x="698" y="252"/>
                </a:lnTo>
                <a:lnTo>
                  <a:pt x="700" y="256"/>
                </a:lnTo>
                <a:lnTo>
                  <a:pt x="700" y="257"/>
                </a:lnTo>
                <a:lnTo>
                  <a:pt x="702" y="264"/>
                </a:lnTo>
                <a:lnTo>
                  <a:pt x="698" y="266"/>
                </a:lnTo>
                <a:lnTo>
                  <a:pt x="702" y="269"/>
                </a:lnTo>
                <a:lnTo>
                  <a:pt x="705" y="274"/>
                </a:lnTo>
                <a:lnTo>
                  <a:pt x="707" y="289"/>
                </a:lnTo>
                <a:lnTo>
                  <a:pt x="708" y="304"/>
                </a:lnTo>
                <a:lnTo>
                  <a:pt x="705" y="307"/>
                </a:lnTo>
                <a:lnTo>
                  <a:pt x="698" y="311"/>
                </a:lnTo>
                <a:lnTo>
                  <a:pt x="693" y="312"/>
                </a:lnTo>
                <a:lnTo>
                  <a:pt x="690" y="312"/>
                </a:lnTo>
                <a:lnTo>
                  <a:pt x="683" y="316"/>
                </a:lnTo>
                <a:lnTo>
                  <a:pt x="681" y="316"/>
                </a:lnTo>
                <a:lnTo>
                  <a:pt x="670" y="316"/>
                </a:lnTo>
                <a:lnTo>
                  <a:pt x="666" y="314"/>
                </a:lnTo>
                <a:lnTo>
                  <a:pt x="665" y="306"/>
                </a:lnTo>
                <a:lnTo>
                  <a:pt x="666" y="304"/>
                </a:lnTo>
                <a:lnTo>
                  <a:pt x="668" y="301"/>
                </a:lnTo>
                <a:lnTo>
                  <a:pt x="663" y="297"/>
                </a:lnTo>
                <a:lnTo>
                  <a:pt x="658" y="299"/>
                </a:lnTo>
                <a:lnTo>
                  <a:pt x="653" y="304"/>
                </a:lnTo>
                <a:lnTo>
                  <a:pt x="651" y="307"/>
                </a:lnTo>
                <a:lnTo>
                  <a:pt x="653" y="314"/>
                </a:lnTo>
                <a:lnTo>
                  <a:pt x="655" y="316"/>
                </a:lnTo>
                <a:lnTo>
                  <a:pt x="660" y="317"/>
                </a:lnTo>
                <a:lnTo>
                  <a:pt x="660" y="324"/>
                </a:lnTo>
                <a:lnTo>
                  <a:pt x="660" y="326"/>
                </a:lnTo>
                <a:lnTo>
                  <a:pt x="656" y="327"/>
                </a:lnTo>
                <a:lnTo>
                  <a:pt x="653" y="332"/>
                </a:lnTo>
                <a:lnTo>
                  <a:pt x="651" y="334"/>
                </a:lnTo>
                <a:lnTo>
                  <a:pt x="653" y="339"/>
                </a:lnTo>
                <a:lnTo>
                  <a:pt x="653" y="341"/>
                </a:lnTo>
                <a:lnTo>
                  <a:pt x="655" y="341"/>
                </a:lnTo>
                <a:lnTo>
                  <a:pt x="658" y="339"/>
                </a:lnTo>
                <a:lnTo>
                  <a:pt x="661" y="334"/>
                </a:lnTo>
                <a:lnTo>
                  <a:pt x="661" y="332"/>
                </a:lnTo>
                <a:lnTo>
                  <a:pt x="660" y="331"/>
                </a:lnTo>
                <a:lnTo>
                  <a:pt x="663" y="331"/>
                </a:lnTo>
                <a:lnTo>
                  <a:pt x="665" y="331"/>
                </a:lnTo>
                <a:lnTo>
                  <a:pt x="668" y="332"/>
                </a:lnTo>
                <a:lnTo>
                  <a:pt x="666" y="336"/>
                </a:lnTo>
                <a:lnTo>
                  <a:pt x="666" y="339"/>
                </a:lnTo>
                <a:lnTo>
                  <a:pt x="666" y="334"/>
                </a:lnTo>
                <a:lnTo>
                  <a:pt x="665" y="332"/>
                </a:lnTo>
                <a:lnTo>
                  <a:pt x="656" y="342"/>
                </a:lnTo>
                <a:lnTo>
                  <a:pt x="655" y="341"/>
                </a:lnTo>
                <a:lnTo>
                  <a:pt x="653" y="342"/>
                </a:lnTo>
                <a:lnTo>
                  <a:pt x="655" y="354"/>
                </a:lnTo>
                <a:lnTo>
                  <a:pt x="658" y="351"/>
                </a:lnTo>
                <a:lnTo>
                  <a:pt x="665" y="341"/>
                </a:lnTo>
                <a:lnTo>
                  <a:pt x="665" y="344"/>
                </a:lnTo>
                <a:lnTo>
                  <a:pt x="663" y="349"/>
                </a:lnTo>
                <a:lnTo>
                  <a:pt x="661" y="354"/>
                </a:lnTo>
                <a:lnTo>
                  <a:pt x="661" y="356"/>
                </a:lnTo>
                <a:lnTo>
                  <a:pt x="660" y="359"/>
                </a:lnTo>
                <a:lnTo>
                  <a:pt x="656" y="362"/>
                </a:lnTo>
                <a:lnTo>
                  <a:pt x="651" y="376"/>
                </a:lnTo>
                <a:lnTo>
                  <a:pt x="651" y="379"/>
                </a:lnTo>
                <a:lnTo>
                  <a:pt x="651" y="381"/>
                </a:lnTo>
                <a:lnTo>
                  <a:pt x="655" y="393"/>
                </a:lnTo>
                <a:lnTo>
                  <a:pt x="663" y="411"/>
                </a:lnTo>
                <a:lnTo>
                  <a:pt x="661" y="414"/>
                </a:lnTo>
                <a:lnTo>
                  <a:pt x="661" y="423"/>
                </a:lnTo>
                <a:lnTo>
                  <a:pt x="661" y="428"/>
                </a:lnTo>
                <a:lnTo>
                  <a:pt x="661" y="431"/>
                </a:lnTo>
                <a:lnTo>
                  <a:pt x="661" y="434"/>
                </a:lnTo>
                <a:lnTo>
                  <a:pt x="663" y="436"/>
                </a:lnTo>
                <a:lnTo>
                  <a:pt x="655" y="439"/>
                </a:lnTo>
                <a:lnTo>
                  <a:pt x="650" y="439"/>
                </a:lnTo>
                <a:lnTo>
                  <a:pt x="638" y="441"/>
                </a:lnTo>
                <a:lnTo>
                  <a:pt x="636" y="441"/>
                </a:lnTo>
                <a:lnTo>
                  <a:pt x="631" y="439"/>
                </a:lnTo>
                <a:lnTo>
                  <a:pt x="628" y="439"/>
                </a:lnTo>
                <a:lnTo>
                  <a:pt x="620" y="438"/>
                </a:lnTo>
                <a:lnTo>
                  <a:pt x="616" y="436"/>
                </a:lnTo>
                <a:lnTo>
                  <a:pt x="611" y="428"/>
                </a:lnTo>
                <a:lnTo>
                  <a:pt x="610" y="424"/>
                </a:lnTo>
                <a:lnTo>
                  <a:pt x="606" y="423"/>
                </a:lnTo>
                <a:lnTo>
                  <a:pt x="603" y="426"/>
                </a:lnTo>
                <a:lnTo>
                  <a:pt x="601" y="428"/>
                </a:lnTo>
                <a:lnTo>
                  <a:pt x="600" y="428"/>
                </a:lnTo>
                <a:lnTo>
                  <a:pt x="595" y="431"/>
                </a:lnTo>
                <a:lnTo>
                  <a:pt x="593" y="429"/>
                </a:lnTo>
                <a:lnTo>
                  <a:pt x="591" y="428"/>
                </a:lnTo>
                <a:lnTo>
                  <a:pt x="588" y="424"/>
                </a:lnTo>
                <a:lnTo>
                  <a:pt x="586" y="423"/>
                </a:lnTo>
                <a:lnTo>
                  <a:pt x="585" y="426"/>
                </a:lnTo>
                <a:lnTo>
                  <a:pt x="573" y="429"/>
                </a:lnTo>
                <a:lnTo>
                  <a:pt x="568" y="429"/>
                </a:lnTo>
                <a:lnTo>
                  <a:pt x="558" y="426"/>
                </a:lnTo>
                <a:lnTo>
                  <a:pt x="556" y="424"/>
                </a:lnTo>
                <a:lnTo>
                  <a:pt x="556" y="421"/>
                </a:lnTo>
                <a:lnTo>
                  <a:pt x="555" y="423"/>
                </a:lnTo>
                <a:lnTo>
                  <a:pt x="553" y="423"/>
                </a:lnTo>
                <a:lnTo>
                  <a:pt x="550" y="423"/>
                </a:lnTo>
                <a:lnTo>
                  <a:pt x="548" y="423"/>
                </a:lnTo>
                <a:lnTo>
                  <a:pt x="543" y="423"/>
                </a:lnTo>
                <a:lnTo>
                  <a:pt x="538" y="424"/>
                </a:lnTo>
                <a:lnTo>
                  <a:pt x="530" y="428"/>
                </a:lnTo>
                <a:lnTo>
                  <a:pt x="528" y="428"/>
                </a:lnTo>
                <a:lnTo>
                  <a:pt x="525" y="431"/>
                </a:lnTo>
                <a:lnTo>
                  <a:pt x="521" y="433"/>
                </a:lnTo>
                <a:lnTo>
                  <a:pt x="513" y="438"/>
                </a:lnTo>
                <a:lnTo>
                  <a:pt x="498" y="443"/>
                </a:lnTo>
                <a:lnTo>
                  <a:pt x="496" y="444"/>
                </a:lnTo>
                <a:lnTo>
                  <a:pt x="494" y="444"/>
                </a:lnTo>
                <a:lnTo>
                  <a:pt x="491" y="446"/>
                </a:lnTo>
                <a:lnTo>
                  <a:pt x="486" y="448"/>
                </a:lnTo>
                <a:lnTo>
                  <a:pt x="474" y="456"/>
                </a:lnTo>
                <a:lnTo>
                  <a:pt x="473" y="458"/>
                </a:lnTo>
                <a:lnTo>
                  <a:pt x="471" y="461"/>
                </a:lnTo>
                <a:lnTo>
                  <a:pt x="463" y="473"/>
                </a:lnTo>
                <a:lnTo>
                  <a:pt x="459" y="479"/>
                </a:lnTo>
                <a:lnTo>
                  <a:pt x="454" y="489"/>
                </a:lnTo>
                <a:lnTo>
                  <a:pt x="453" y="491"/>
                </a:lnTo>
                <a:lnTo>
                  <a:pt x="451" y="493"/>
                </a:lnTo>
                <a:lnTo>
                  <a:pt x="448" y="494"/>
                </a:lnTo>
                <a:lnTo>
                  <a:pt x="443" y="498"/>
                </a:lnTo>
                <a:lnTo>
                  <a:pt x="438" y="501"/>
                </a:lnTo>
                <a:lnTo>
                  <a:pt x="433" y="503"/>
                </a:lnTo>
                <a:lnTo>
                  <a:pt x="429" y="504"/>
                </a:lnTo>
                <a:lnTo>
                  <a:pt x="426" y="506"/>
                </a:lnTo>
                <a:lnTo>
                  <a:pt x="423" y="506"/>
                </a:lnTo>
                <a:lnTo>
                  <a:pt x="421" y="504"/>
                </a:lnTo>
                <a:lnTo>
                  <a:pt x="416" y="503"/>
                </a:lnTo>
                <a:lnTo>
                  <a:pt x="413" y="501"/>
                </a:lnTo>
                <a:lnTo>
                  <a:pt x="398" y="503"/>
                </a:lnTo>
                <a:lnTo>
                  <a:pt x="386" y="504"/>
                </a:lnTo>
                <a:lnTo>
                  <a:pt x="379" y="506"/>
                </a:lnTo>
                <a:lnTo>
                  <a:pt x="374" y="506"/>
                </a:lnTo>
                <a:lnTo>
                  <a:pt x="373" y="506"/>
                </a:lnTo>
                <a:lnTo>
                  <a:pt x="364" y="504"/>
                </a:lnTo>
                <a:lnTo>
                  <a:pt x="361" y="504"/>
                </a:lnTo>
                <a:lnTo>
                  <a:pt x="359" y="504"/>
                </a:lnTo>
                <a:lnTo>
                  <a:pt x="358" y="504"/>
                </a:lnTo>
                <a:lnTo>
                  <a:pt x="354" y="508"/>
                </a:lnTo>
                <a:lnTo>
                  <a:pt x="353" y="509"/>
                </a:lnTo>
                <a:lnTo>
                  <a:pt x="351" y="511"/>
                </a:lnTo>
                <a:lnTo>
                  <a:pt x="347" y="514"/>
                </a:lnTo>
                <a:lnTo>
                  <a:pt x="344" y="514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 rot="480000">
            <a:off x="6025680" y="3168360"/>
            <a:ext cx="3591000" cy="2760480"/>
          </a:xfrm>
          <a:custGeom>
            <a:avLst/>
            <a:gdLst/>
            <a:ahLst/>
            <a:rect l="l" t="t" r="r" b="b"/>
            <a:pathLst>
              <a:path w="476" h="359">
                <a:moveTo>
                  <a:pt x="90" y="359"/>
                </a:moveTo>
                <a:lnTo>
                  <a:pt x="92" y="357"/>
                </a:lnTo>
                <a:lnTo>
                  <a:pt x="92" y="356"/>
                </a:lnTo>
                <a:lnTo>
                  <a:pt x="88" y="344"/>
                </a:lnTo>
                <a:lnTo>
                  <a:pt x="87" y="332"/>
                </a:lnTo>
                <a:lnTo>
                  <a:pt x="85" y="329"/>
                </a:lnTo>
                <a:lnTo>
                  <a:pt x="88" y="324"/>
                </a:lnTo>
                <a:lnTo>
                  <a:pt x="90" y="320"/>
                </a:lnTo>
                <a:lnTo>
                  <a:pt x="90" y="317"/>
                </a:lnTo>
                <a:lnTo>
                  <a:pt x="88" y="314"/>
                </a:lnTo>
                <a:lnTo>
                  <a:pt x="83" y="314"/>
                </a:lnTo>
                <a:lnTo>
                  <a:pt x="82" y="310"/>
                </a:lnTo>
                <a:lnTo>
                  <a:pt x="77" y="304"/>
                </a:lnTo>
                <a:lnTo>
                  <a:pt x="73" y="297"/>
                </a:lnTo>
                <a:lnTo>
                  <a:pt x="68" y="289"/>
                </a:lnTo>
                <a:lnTo>
                  <a:pt x="57" y="287"/>
                </a:lnTo>
                <a:lnTo>
                  <a:pt x="50" y="284"/>
                </a:lnTo>
                <a:lnTo>
                  <a:pt x="42" y="280"/>
                </a:lnTo>
                <a:lnTo>
                  <a:pt x="32" y="269"/>
                </a:lnTo>
                <a:lnTo>
                  <a:pt x="27" y="264"/>
                </a:lnTo>
                <a:lnTo>
                  <a:pt x="30" y="262"/>
                </a:lnTo>
                <a:lnTo>
                  <a:pt x="33" y="259"/>
                </a:lnTo>
                <a:lnTo>
                  <a:pt x="38" y="254"/>
                </a:lnTo>
                <a:lnTo>
                  <a:pt x="38" y="252"/>
                </a:lnTo>
                <a:lnTo>
                  <a:pt x="40" y="245"/>
                </a:lnTo>
                <a:lnTo>
                  <a:pt x="38" y="242"/>
                </a:lnTo>
                <a:lnTo>
                  <a:pt x="35" y="240"/>
                </a:lnTo>
                <a:lnTo>
                  <a:pt x="32" y="237"/>
                </a:lnTo>
                <a:lnTo>
                  <a:pt x="28" y="234"/>
                </a:lnTo>
                <a:lnTo>
                  <a:pt x="25" y="212"/>
                </a:lnTo>
                <a:lnTo>
                  <a:pt x="30" y="205"/>
                </a:lnTo>
                <a:lnTo>
                  <a:pt x="35" y="202"/>
                </a:lnTo>
                <a:lnTo>
                  <a:pt x="37" y="202"/>
                </a:lnTo>
                <a:lnTo>
                  <a:pt x="40" y="202"/>
                </a:lnTo>
                <a:lnTo>
                  <a:pt x="47" y="200"/>
                </a:lnTo>
                <a:lnTo>
                  <a:pt x="60" y="175"/>
                </a:lnTo>
                <a:lnTo>
                  <a:pt x="60" y="170"/>
                </a:lnTo>
                <a:lnTo>
                  <a:pt x="60" y="165"/>
                </a:lnTo>
                <a:lnTo>
                  <a:pt x="55" y="164"/>
                </a:lnTo>
                <a:lnTo>
                  <a:pt x="52" y="162"/>
                </a:lnTo>
                <a:lnTo>
                  <a:pt x="47" y="157"/>
                </a:lnTo>
                <a:lnTo>
                  <a:pt x="45" y="154"/>
                </a:lnTo>
                <a:lnTo>
                  <a:pt x="38" y="148"/>
                </a:lnTo>
                <a:lnTo>
                  <a:pt x="35" y="147"/>
                </a:lnTo>
                <a:lnTo>
                  <a:pt x="32" y="147"/>
                </a:lnTo>
                <a:lnTo>
                  <a:pt x="28" y="145"/>
                </a:lnTo>
                <a:lnTo>
                  <a:pt x="20" y="142"/>
                </a:lnTo>
                <a:lnTo>
                  <a:pt x="7" y="118"/>
                </a:lnTo>
                <a:lnTo>
                  <a:pt x="0" y="107"/>
                </a:lnTo>
                <a:lnTo>
                  <a:pt x="2" y="87"/>
                </a:lnTo>
                <a:lnTo>
                  <a:pt x="10" y="80"/>
                </a:lnTo>
                <a:lnTo>
                  <a:pt x="13" y="73"/>
                </a:lnTo>
                <a:lnTo>
                  <a:pt x="13" y="68"/>
                </a:lnTo>
                <a:lnTo>
                  <a:pt x="15" y="63"/>
                </a:lnTo>
                <a:lnTo>
                  <a:pt x="17" y="62"/>
                </a:lnTo>
                <a:lnTo>
                  <a:pt x="17" y="62"/>
                </a:lnTo>
                <a:lnTo>
                  <a:pt x="18" y="62"/>
                </a:lnTo>
                <a:lnTo>
                  <a:pt x="37" y="70"/>
                </a:lnTo>
                <a:lnTo>
                  <a:pt x="40" y="70"/>
                </a:lnTo>
                <a:lnTo>
                  <a:pt x="43" y="70"/>
                </a:lnTo>
                <a:lnTo>
                  <a:pt x="45" y="70"/>
                </a:lnTo>
                <a:lnTo>
                  <a:pt x="47" y="72"/>
                </a:lnTo>
                <a:lnTo>
                  <a:pt x="47" y="75"/>
                </a:lnTo>
                <a:lnTo>
                  <a:pt x="45" y="80"/>
                </a:lnTo>
                <a:lnTo>
                  <a:pt x="42" y="80"/>
                </a:lnTo>
                <a:lnTo>
                  <a:pt x="38" y="82"/>
                </a:lnTo>
                <a:lnTo>
                  <a:pt x="37" y="83"/>
                </a:lnTo>
                <a:lnTo>
                  <a:pt x="35" y="93"/>
                </a:lnTo>
                <a:lnTo>
                  <a:pt x="37" y="97"/>
                </a:lnTo>
                <a:lnTo>
                  <a:pt x="38" y="98"/>
                </a:lnTo>
                <a:lnTo>
                  <a:pt x="40" y="98"/>
                </a:lnTo>
                <a:lnTo>
                  <a:pt x="47" y="100"/>
                </a:lnTo>
                <a:lnTo>
                  <a:pt x="53" y="100"/>
                </a:lnTo>
                <a:lnTo>
                  <a:pt x="60" y="98"/>
                </a:lnTo>
                <a:lnTo>
                  <a:pt x="60" y="97"/>
                </a:lnTo>
                <a:lnTo>
                  <a:pt x="63" y="95"/>
                </a:lnTo>
                <a:lnTo>
                  <a:pt x="65" y="95"/>
                </a:lnTo>
                <a:lnTo>
                  <a:pt x="68" y="93"/>
                </a:lnTo>
                <a:lnTo>
                  <a:pt x="70" y="92"/>
                </a:lnTo>
                <a:lnTo>
                  <a:pt x="80" y="90"/>
                </a:lnTo>
                <a:lnTo>
                  <a:pt x="82" y="90"/>
                </a:lnTo>
                <a:lnTo>
                  <a:pt x="87" y="90"/>
                </a:lnTo>
                <a:lnTo>
                  <a:pt x="88" y="92"/>
                </a:lnTo>
                <a:lnTo>
                  <a:pt x="92" y="93"/>
                </a:lnTo>
                <a:lnTo>
                  <a:pt x="95" y="93"/>
                </a:lnTo>
                <a:lnTo>
                  <a:pt x="97" y="93"/>
                </a:lnTo>
                <a:lnTo>
                  <a:pt x="107" y="92"/>
                </a:lnTo>
                <a:lnTo>
                  <a:pt x="125" y="93"/>
                </a:lnTo>
                <a:lnTo>
                  <a:pt x="132" y="95"/>
                </a:lnTo>
                <a:lnTo>
                  <a:pt x="135" y="97"/>
                </a:lnTo>
                <a:lnTo>
                  <a:pt x="138" y="97"/>
                </a:lnTo>
                <a:lnTo>
                  <a:pt x="140" y="97"/>
                </a:lnTo>
                <a:lnTo>
                  <a:pt x="143" y="95"/>
                </a:lnTo>
                <a:lnTo>
                  <a:pt x="145" y="95"/>
                </a:lnTo>
                <a:lnTo>
                  <a:pt x="148" y="93"/>
                </a:lnTo>
                <a:lnTo>
                  <a:pt x="150" y="93"/>
                </a:lnTo>
                <a:lnTo>
                  <a:pt x="150" y="93"/>
                </a:lnTo>
                <a:lnTo>
                  <a:pt x="153" y="93"/>
                </a:lnTo>
                <a:lnTo>
                  <a:pt x="157" y="90"/>
                </a:lnTo>
                <a:lnTo>
                  <a:pt x="159" y="88"/>
                </a:lnTo>
                <a:lnTo>
                  <a:pt x="160" y="87"/>
                </a:lnTo>
                <a:lnTo>
                  <a:pt x="164" y="83"/>
                </a:lnTo>
                <a:lnTo>
                  <a:pt x="165" y="83"/>
                </a:lnTo>
                <a:lnTo>
                  <a:pt x="167" y="83"/>
                </a:lnTo>
                <a:lnTo>
                  <a:pt x="170" y="83"/>
                </a:lnTo>
                <a:lnTo>
                  <a:pt x="179" y="85"/>
                </a:lnTo>
                <a:lnTo>
                  <a:pt x="180" y="85"/>
                </a:lnTo>
                <a:lnTo>
                  <a:pt x="185" y="85"/>
                </a:lnTo>
                <a:lnTo>
                  <a:pt x="192" y="83"/>
                </a:lnTo>
                <a:lnTo>
                  <a:pt x="204" y="82"/>
                </a:lnTo>
                <a:lnTo>
                  <a:pt x="219" y="80"/>
                </a:lnTo>
                <a:lnTo>
                  <a:pt x="222" y="82"/>
                </a:lnTo>
                <a:lnTo>
                  <a:pt x="227" y="83"/>
                </a:lnTo>
                <a:lnTo>
                  <a:pt x="229" y="85"/>
                </a:lnTo>
                <a:lnTo>
                  <a:pt x="232" y="85"/>
                </a:lnTo>
                <a:lnTo>
                  <a:pt x="235" y="83"/>
                </a:lnTo>
                <a:lnTo>
                  <a:pt x="239" y="82"/>
                </a:lnTo>
                <a:lnTo>
                  <a:pt x="244" y="80"/>
                </a:lnTo>
                <a:lnTo>
                  <a:pt x="249" y="77"/>
                </a:lnTo>
                <a:lnTo>
                  <a:pt x="254" y="73"/>
                </a:lnTo>
                <a:lnTo>
                  <a:pt x="257" y="72"/>
                </a:lnTo>
                <a:lnTo>
                  <a:pt x="259" y="70"/>
                </a:lnTo>
                <a:lnTo>
                  <a:pt x="260" y="68"/>
                </a:lnTo>
                <a:lnTo>
                  <a:pt x="265" y="58"/>
                </a:lnTo>
                <a:lnTo>
                  <a:pt x="269" y="52"/>
                </a:lnTo>
                <a:lnTo>
                  <a:pt x="277" y="40"/>
                </a:lnTo>
                <a:lnTo>
                  <a:pt x="279" y="37"/>
                </a:lnTo>
                <a:lnTo>
                  <a:pt x="280" y="35"/>
                </a:lnTo>
                <a:lnTo>
                  <a:pt x="292" y="27"/>
                </a:lnTo>
                <a:lnTo>
                  <a:pt x="297" y="25"/>
                </a:lnTo>
                <a:lnTo>
                  <a:pt x="300" y="23"/>
                </a:lnTo>
                <a:lnTo>
                  <a:pt x="302" y="23"/>
                </a:lnTo>
                <a:lnTo>
                  <a:pt x="304" y="22"/>
                </a:lnTo>
                <a:lnTo>
                  <a:pt x="319" y="17"/>
                </a:lnTo>
                <a:lnTo>
                  <a:pt x="327" y="12"/>
                </a:lnTo>
                <a:lnTo>
                  <a:pt x="331" y="10"/>
                </a:lnTo>
                <a:lnTo>
                  <a:pt x="334" y="7"/>
                </a:lnTo>
                <a:lnTo>
                  <a:pt x="336" y="7"/>
                </a:lnTo>
                <a:lnTo>
                  <a:pt x="344" y="3"/>
                </a:lnTo>
                <a:lnTo>
                  <a:pt x="349" y="2"/>
                </a:lnTo>
                <a:lnTo>
                  <a:pt x="354" y="2"/>
                </a:lnTo>
                <a:lnTo>
                  <a:pt x="356" y="2"/>
                </a:lnTo>
                <a:lnTo>
                  <a:pt x="359" y="2"/>
                </a:lnTo>
                <a:lnTo>
                  <a:pt x="361" y="2"/>
                </a:lnTo>
                <a:lnTo>
                  <a:pt x="362" y="0"/>
                </a:lnTo>
                <a:lnTo>
                  <a:pt x="362" y="3"/>
                </a:lnTo>
                <a:lnTo>
                  <a:pt x="364" y="5"/>
                </a:lnTo>
                <a:lnTo>
                  <a:pt x="374" y="8"/>
                </a:lnTo>
                <a:lnTo>
                  <a:pt x="379" y="8"/>
                </a:lnTo>
                <a:lnTo>
                  <a:pt x="391" y="5"/>
                </a:lnTo>
                <a:lnTo>
                  <a:pt x="392" y="2"/>
                </a:lnTo>
                <a:lnTo>
                  <a:pt x="394" y="3"/>
                </a:lnTo>
                <a:lnTo>
                  <a:pt x="397" y="7"/>
                </a:lnTo>
                <a:lnTo>
                  <a:pt x="399" y="8"/>
                </a:lnTo>
                <a:lnTo>
                  <a:pt x="401" y="10"/>
                </a:lnTo>
                <a:lnTo>
                  <a:pt x="406" y="7"/>
                </a:lnTo>
                <a:lnTo>
                  <a:pt x="407" y="7"/>
                </a:lnTo>
                <a:lnTo>
                  <a:pt x="409" y="5"/>
                </a:lnTo>
                <a:lnTo>
                  <a:pt x="412" y="2"/>
                </a:lnTo>
                <a:lnTo>
                  <a:pt x="416" y="3"/>
                </a:lnTo>
                <a:lnTo>
                  <a:pt x="417" y="7"/>
                </a:lnTo>
                <a:lnTo>
                  <a:pt x="422" y="15"/>
                </a:lnTo>
                <a:lnTo>
                  <a:pt x="426" y="17"/>
                </a:lnTo>
                <a:lnTo>
                  <a:pt x="434" y="18"/>
                </a:lnTo>
                <a:lnTo>
                  <a:pt x="437" y="18"/>
                </a:lnTo>
                <a:lnTo>
                  <a:pt x="442" y="20"/>
                </a:lnTo>
                <a:lnTo>
                  <a:pt x="444" y="20"/>
                </a:lnTo>
                <a:lnTo>
                  <a:pt x="456" y="18"/>
                </a:lnTo>
                <a:lnTo>
                  <a:pt x="461" y="18"/>
                </a:lnTo>
                <a:lnTo>
                  <a:pt x="469" y="15"/>
                </a:lnTo>
                <a:lnTo>
                  <a:pt x="469" y="17"/>
                </a:lnTo>
                <a:lnTo>
                  <a:pt x="469" y="22"/>
                </a:lnTo>
                <a:lnTo>
                  <a:pt x="472" y="32"/>
                </a:lnTo>
                <a:lnTo>
                  <a:pt x="474" y="33"/>
                </a:lnTo>
                <a:lnTo>
                  <a:pt x="476" y="37"/>
                </a:lnTo>
                <a:lnTo>
                  <a:pt x="476" y="40"/>
                </a:lnTo>
                <a:lnTo>
                  <a:pt x="474" y="47"/>
                </a:lnTo>
                <a:lnTo>
                  <a:pt x="474" y="48"/>
                </a:lnTo>
                <a:lnTo>
                  <a:pt x="472" y="50"/>
                </a:lnTo>
                <a:lnTo>
                  <a:pt x="471" y="53"/>
                </a:lnTo>
                <a:lnTo>
                  <a:pt x="469" y="55"/>
                </a:lnTo>
                <a:lnTo>
                  <a:pt x="467" y="55"/>
                </a:lnTo>
                <a:lnTo>
                  <a:pt x="464" y="55"/>
                </a:lnTo>
                <a:lnTo>
                  <a:pt x="462" y="53"/>
                </a:lnTo>
                <a:lnTo>
                  <a:pt x="459" y="53"/>
                </a:lnTo>
                <a:lnTo>
                  <a:pt x="456" y="55"/>
                </a:lnTo>
                <a:lnTo>
                  <a:pt x="446" y="58"/>
                </a:lnTo>
                <a:lnTo>
                  <a:pt x="444" y="60"/>
                </a:lnTo>
                <a:lnTo>
                  <a:pt x="442" y="65"/>
                </a:lnTo>
                <a:lnTo>
                  <a:pt x="442" y="68"/>
                </a:lnTo>
                <a:lnTo>
                  <a:pt x="441" y="73"/>
                </a:lnTo>
                <a:lnTo>
                  <a:pt x="441" y="80"/>
                </a:lnTo>
                <a:lnTo>
                  <a:pt x="436" y="87"/>
                </a:lnTo>
                <a:lnTo>
                  <a:pt x="436" y="102"/>
                </a:lnTo>
                <a:lnTo>
                  <a:pt x="436" y="103"/>
                </a:lnTo>
                <a:lnTo>
                  <a:pt x="439" y="113"/>
                </a:lnTo>
                <a:lnTo>
                  <a:pt x="441" y="117"/>
                </a:lnTo>
                <a:lnTo>
                  <a:pt x="441" y="120"/>
                </a:lnTo>
                <a:lnTo>
                  <a:pt x="439" y="122"/>
                </a:lnTo>
                <a:lnTo>
                  <a:pt x="442" y="127"/>
                </a:lnTo>
                <a:lnTo>
                  <a:pt x="444" y="135"/>
                </a:lnTo>
                <a:lnTo>
                  <a:pt x="437" y="137"/>
                </a:lnTo>
                <a:lnTo>
                  <a:pt x="434" y="137"/>
                </a:lnTo>
                <a:lnTo>
                  <a:pt x="432" y="138"/>
                </a:lnTo>
                <a:lnTo>
                  <a:pt x="426" y="148"/>
                </a:lnTo>
                <a:lnTo>
                  <a:pt x="419" y="159"/>
                </a:lnTo>
                <a:lnTo>
                  <a:pt x="417" y="160"/>
                </a:lnTo>
                <a:lnTo>
                  <a:pt x="416" y="169"/>
                </a:lnTo>
                <a:lnTo>
                  <a:pt x="417" y="170"/>
                </a:lnTo>
                <a:lnTo>
                  <a:pt x="422" y="170"/>
                </a:lnTo>
                <a:lnTo>
                  <a:pt x="424" y="169"/>
                </a:lnTo>
                <a:lnTo>
                  <a:pt x="429" y="167"/>
                </a:lnTo>
                <a:lnTo>
                  <a:pt x="436" y="169"/>
                </a:lnTo>
                <a:lnTo>
                  <a:pt x="437" y="172"/>
                </a:lnTo>
                <a:lnTo>
                  <a:pt x="439" y="174"/>
                </a:lnTo>
                <a:lnTo>
                  <a:pt x="446" y="185"/>
                </a:lnTo>
                <a:lnTo>
                  <a:pt x="447" y="187"/>
                </a:lnTo>
                <a:lnTo>
                  <a:pt x="456" y="192"/>
                </a:lnTo>
                <a:lnTo>
                  <a:pt x="459" y="194"/>
                </a:lnTo>
                <a:lnTo>
                  <a:pt x="462" y="197"/>
                </a:lnTo>
                <a:lnTo>
                  <a:pt x="466" y="199"/>
                </a:lnTo>
                <a:lnTo>
                  <a:pt x="469" y="202"/>
                </a:lnTo>
                <a:lnTo>
                  <a:pt x="472" y="207"/>
                </a:lnTo>
                <a:lnTo>
                  <a:pt x="472" y="207"/>
                </a:lnTo>
                <a:lnTo>
                  <a:pt x="469" y="209"/>
                </a:lnTo>
                <a:lnTo>
                  <a:pt x="462" y="209"/>
                </a:lnTo>
                <a:lnTo>
                  <a:pt x="461" y="209"/>
                </a:lnTo>
                <a:lnTo>
                  <a:pt x="457" y="209"/>
                </a:lnTo>
                <a:lnTo>
                  <a:pt x="449" y="214"/>
                </a:lnTo>
                <a:lnTo>
                  <a:pt x="444" y="217"/>
                </a:lnTo>
                <a:lnTo>
                  <a:pt x="441" y="220"/>
                </a:lnTo>
                <a:lnTo>
                  <a:pt x="439" y="224"/>
                </a:lnTo>
                <a:lnTo>
                  <a:pt x="427" y="219"/>
                </a:lnTo>
                <a:lnTo>
                  <a:pt x="426" y="219"/>
                </a:lnTo>
                <a:lnTo>
                  <a:pt x="424" y="217"/>
                </a:lnTo>
                <a:lnTo>
                  <a:pt x="421" y="214"/>
                </a:lnTo>
                <a:lnTo>
                  <a:pt x="419" y="212"/>
                </a:lnTo>
                <a:lnTo>
                  <a:pt x="416" y="210"/>
                </a:lnTo>
                <a:lnTo>
                  <a:pt x="412" y="209"/>
                </a:lnTo>
                <a:lnTo>
                  <a:pt x="409" y="209"/>
                </a:lnTo>
                <a:lnTo>
                  <a:pt x="397" y="214"/>
                </a:lnTo>
                <a:lnTo>
                  <a:pt x="394" y="215"/>
                </a:lnTo>
                <a:lnTo>
                  <a:pt x="391" y="225"/>
                </a:lnTo>
                <a:lnTo>
                  <a:pt x="387" y="225"/>
                </a:lnTo>
                <a:lnTo>
                  <a:pt x="364" y="235"/>
                </a:lnTo>
                <a:lnTo>
                  <a:pt x="361" y="239"/>
                </a:lnTo>
                <a:lnTo>
                  <a:pt x="362" y="244"/>
                </a:lnTo>
                <a:lnTo>
                  <a:pt x="362" y="245"/>
                </a:lnTo>
                <a:lnTo>
                  <a:pt x="362" y="249"/>
                </a:lnTo>
                <a:lnTo>
                  <a:pt x="362" y="250"/>
                </a:lnTo>
                <a:lnTo>
                  <a:pt x="357" y="252"/>
                </a:lnTo>
                <a:lnTo>
                  <a:pt x="354" y="254"/>
                </a:lnTo>
                <a:lnTo>
                  <a:pt x="349" y="254"/>
                </a:lnTo>
                <a:lnTo>
                  <a:pt x="347" y="259"/>
                </a:lnTo>
                <a:lnTo>
                  <a:pt x="347" y="264"/>
                </a:lnTo>
                <a:lnTo>
                  <a:pt x="351" y="265"/>
                </a:lnTo>
                <a:lnTo>
                  <a:pt x="351" y="265"/>
                </a:lnTo>
                <a:lnTo>
                  <a:pt x="346" y="267"/>
                </a:lnTo>
                <a:lnTo>
                  <a:pt x="344" y="267"/>
                </a:lnTo>
                <a:lnTo>
                  <a:pt x="341" y="265"/>
                </a:lnTo>
                <a:lnTo>
                  <a:pt x="336" y="265"/>
                </a:lnTo>
                <a:lnTo>
                  <a:pt x="332" y="267"/>
                </a:lnTo>
                <a:lnTo>
                  <a:pt x="329" y="270"/>
                </a:lnTo>
                <a:lnTo>
                  <a:pt x="329" y="274"/>
                </a:lnTo>
                <a:lnTo>
                  <a:pt x="329" y="277"/>
                </a:lnTo>
                <a:lnTo>
                  <a:pt x="332" y="279"/>
                </a:lnTo>
                <a:lnTo>
                  <a:pt x="334" y="279"/>
                </a:lnTo>
                <a:lnTo>
                  <a:pt x="341" y="287"/>
                </a:lnTo>
                <a:lnTo>
                  <a:pt x="344" y="297"/>
                </a:lnTo>
                <a:lnTo>
                  <a:pt x="342" y="307"/>
                </a:lnTo>
                <a:lnTo>
                  <a:pt x="331" y="314"/>
                </a:lnTo>
                <a:lnTo>
                  <a:pt x="324" y="315"/>
                </a:lnTo>
                <a:lnTo>
                  <a:pt x="322" y="315"/>
                </a:lnTo>
                <a:lnTo>
                  <a:pt x="317" y="314"/>
                </a:lnTo>
                <a:lnTo>
                  <a:pt x="304" y="319"/>
                </a:lnTo>
                <a:lnTo>
                  <a:pt x="297" y="320"/>
                </a:lnTo>
                <a:lnTo>
                  <a:pt x="294" y="324"/>
                </a:lnTo>
                <a:lnTo>
                  <a:pt x="282" y="332"/>
                </a:lnTo>
                <a:lnTo>
                  <a:pt x="277" y="334"/>
                </a:lnTo>
                <a:lnTo>
                  <a:pt x="274" y="332"/>
                </a:lnTo>
                <a:lnTo>
                  <a:pt x="269" y="329"/>
                </a:lnTo>
                <a:lnTo>
                  <a:pt x="269" y="329"/>
                </a:lnTo>
                <a:lnTo>
                  <a:pt x="265" y="327"/>
                </a:lnTo>
                <a:lnTo>
                  <a:pt x="257" y="324"/>
                </a:lnTo>
                <a:lnTo>
                  <a:pt x="255" y="324"/>
                </a:lnTo>
                <a:lnTo>
                  <a:pt x="244" y="322"/>
                </a:lnTo>
                <a:lnTo>
                  <a:pt x="237" y="324"/>
                </a:lnTo>
                <a:lnTo>
                  <a:pt x="237" y="327"/>
                </a:lnTo>
                <a:lnTo>
                  <a:pt x="237" y="329"/>
                </a:lnTo>
                <a:lnTo>
                  <a:pt x="234" y="329"/>
                </a:lnTo>
                <a:lnTo>
                  <a:pt x="220" y="324"/>
                </a:lnTo>
                <a:lnTo>
                  <a:pt x="215" y="319"/>
                </a:lnTo>
                <a:lnTo>
                  <a:pt x="207" y="314"/>
                </a:lnTo>
                <a:lnTo>
                  <a:pt x="194" y="317"/>
                </a:lnTo>
                <a:lnTo>
                  <a:pt x="190" y="315"/>
                </a:lnTo>
                <a:lnTo>
                  <a:pt x="187" y="317"/>
                </a:lnTo>
                <a:lnTo>
                  <a:pt x="185" y="319"/>
                </a:lnTo>
                <a:lnTo>
                  <a:pt x="182" y="320"/>
                </a:lnTo>
                <a:lnTo>
                  <a:pt x="177" y="320"/>
                </a:lnTo>
                <a:lnTo>
                  <a:pt x="175" y="324"/>
                </a:lnTo>
                <a:lnTo>
                  <a:pt x="177" y="327"/>
                </a:lnTo>
                <a:lnTo>
                  <a:pt x="170" y="334"/>
                </a:lnTo>
                <a:lnTo>
                  <a:pt x="162" y="334"/>
                </a:lnTo>
                <a:lnTo>
                  <a:pt x="155" y="337"/>
                </a:lnTo>
                <a:lnTo>
                  <a:pt x="152" y="340"/>
                </a:lnTo>
                <a:lnTo>
                  <a:pt x="143" y="345"/>
                </a:lnTo>
                <a:lnTo>
                  <a:pt x="142" y="345"/>
                </a:lnTo>
                <a:lnTo>
                  <a:pt x="137" y="344"/>
                </a:lnTo>
                <a:lnTo>
                  <a:pt x="128" y="344"/>
                </a:lnTo>
                <a:lnTo>
                  <a:pt x="117" y="347"/>
                </a:lnTo>
                <a:lnTo>
                  <a:pt x="112" y="351"/>
                </a:lnTo>
                <a:lnTo>
                  <a:pt x="113" y="354"/>
                </a:lnTo>
                <a:lnTo>
                  <a:pt x="112" y="356"/>
                </a:lnTo>
                <a:lnTo>
                  <a:pt x="110" y="357"/>
                </a:lnTo>
                <a:lnTo>
                  <a:pt x="105" y="359"/>
                </a:lnTo>
                <a:lnTo>
                  <a:pt x="103" y="359"/>
                </a:lnTo>
                <a:lnTo>
                  <a:pt x="93" y="359"/>
                </a:lnTo>
                <a:lnTo>
                  <a:pt x="90" y="359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014800" y="4903560"/>
            <a:ext cx="2124360" cy="1297080"/>
            <a:chOff x="5014800" y="4903560"/>
            <a:chExt cx="2124360" cy="1297080"/>
          </a:xfrm>
        </p:grpSpPr>
        <p:sp>
          <p:nvSpPr>
            <p:cNvPr id="368" name=""/>
            <p:cNvSpPr/>
            <p:nvPr/>
          </p:nvSpPr>
          <p:spPr>
            <a:xfrm>
              <a:off x="5014800" y="4976640"/>
              <a:ext cx="1557360" cy="1224000"/>
            </a:xfrm>
            <a:custGeom>
              <a:avLst/>
              <a:gdLst/>
              <a:ahLst/>
              <a:rect l="l" t="t" r="r" b="b"/>
              <a:pathLst>
                <a:path w="981" h="771">
                  <a:moveTo>
                    <a:pt x="36" y="305"/>
                  </a:moveTo>
                  <a:lnTo>
                    <a:pt x="66" y="264"/>
                  </a:lnTo>
                  <a:lnTo>
                    <a:pt x="95" y="267"/>
                  </a:lnTo>
                  <a:lnTo>
                    <a:pt x="107" y="248"/>
                  </a:lnTo>
                  <a:lnTo>
                    <a:pt x="101" y="228"/>
                  </a:lnTo>
                  <a:lnTo>
                    <a:pt x="102" y="208"/>
                  </a:lnTo>
                  <a:lnTo>
                    <a:pt x="99" y="173"/>
                  </a:lnTo>
                  <a:lnTo>
                    <a:pt x="113" y="146"/>
                  </a:lnTo>
                  <a:lnTo>
                    <a:pt x="162" y="133"/>
                  </a:lnTo>
                  <a:lnTo>
                    <a:pt x="203" y="116"/>
                  </a:lnTo>
                  <a:lnTo>
                    <a:pt x="225" y="90"/>
                  </a:lnTo>
                  <a:lnTo>
                    <a:pt x="244" y="83"/>
                  </a:lnTo>
                  <a:lnTo>
                    <a:pt x="267" y="120"/>
                  </a:lnTo>
                  <a:lnTo>
                    <a:pt x="287" y="147"/>
                  </a:lnTo>
                  <a:lnTo>
                    <a:pt x="314" y="134"/>
                  </a:lnTo>
                  <a:lnTo>
                    <a:pt x="317" y="110"/>
                  </a:lnTo>
                  <a:lnTo>
                    <a:pt x="350" y="81"/>
                  </a:lnTo>
                  <a:lnTo>
                    <a:pt x="368" y="48"/>
                  </a:lnTo>
                  <a:lnTo>
                    <a:pt x="405" y="57"/>
                  </a:lnTo>
                  <a:lnTo>
                    <a:pt x="459" y="59"/>
                  </a:lnTo>
                  <a:lnTo>
                    <a:pt x="482" y="54"/>
                  </a:lnTo>
                  <a:lnTo>
                    <a:pt x="494" y="47"/>
                  </a:lnTo>
                  <a:lnTo>
                    <a:pt x="502" y="39"/>
                  </a:lnTo>
                  <a:lnTo>
                    <a:pt x="504" y="24"/>
                  </a:lnTo>
                  <a:lnTo>
                    <a:pt x="527" y="32"/>
                  </a:lnTo>
                  <a:lnTo>
                    <a:pt x="555" y="17"/>
                  </a:lnTo>
                  <a:lnTo>
                    <a:pt x="611" y="15"/>
                  </a:lnTo>
                  <a:lnTo>
                    <a:pt x="657" y="8"/>
                  </a:lnTo>
                  <a:lnTo>
                    <a:pt x="686" y="0"/>
                  </a:lnTo>
                  <a:lnTo>
                    <a:pt x="716" y="14"/>
                  </a:lnTo>
                  <a:lnTo>
                    <a:pt x="735" y="17"/>
                  </a:lnTo>
                  <a:lnTo>
                    <a:pt x="749" y="38"/>
                  </a:lnTo>
                  <a:lnTo>
                    <a:pt x="776" y="75"/>
                  </a:lnTo>
                  <a:lnTo>
                    <a:pt x="803" y="117"/>
                  </a:lnTo>
                  <a:lnTo>
                    <a:pt x="855" y="144"/>
                  </a:lnTo>
                  <a:lnTo>
                    <a:pt x="891" y="149"/>
                  </a:lnTo>
                  <a:lnTo>
                    <a:pt x="918" y="161"/>
                  </a:lnTo>
                  <a:lnTo>
                    <a:pt x="915" y="198"/>
                  </a:lnTo>
                  <a:lnTo>
                    <a:pt x="948" y="255"/>
                  </a:lnTo>
                  <a:lnTo>
                    <a:pt x="963" y="284"/>
                  </a:lnTo>
                  <a:lnTo>
                    <a:pt x="981" y="294"/>
                  </a:lnTo>
                  <a:lnTo>
                    <a:pt x="981" y="308"/>
                  </a:lnTo>
                  <a:lnTo>
                    <a:pt x="977" y="326"/>
                  </a:lnTo>
                  <a:lnTo>
                    <a:pt x="966" y="335"/>
                  </a:lnTo>
                  <a:lnTo>
                    <a:pt x="951" y="356"/>
                  </a:lnTo>
                  <a:lnTo>
                    <a:pt x="956" y="377"/>
                  </a:lnTo>
                  <a:lnTo>
                    <a:pt x="959" y="398"/>
                  </a:lnTo>
                  <a:lnTo>
                    <a:pt x="954" y="426"/>
                  </a:lnTo>
                  <a:lnTo>
                    <a:pt x="963" y="446"/>
                  </a:lnTo>
                  <a:lnTo>
                    <a:pt x="956" y="462"/>
                  </a:lnTo>
                  <a:lnTo>
                    <a:pt x="960" y="489"/>
                  </a:lnTo>
                  <a:lnTo>
                    <a:pt x="953" y="497"/>
                  </a:lnTo>
                  <a:lnTo>
                    <a:pt x="920" y="500"/>
                  </a:lnTo>
                  <a:lnTo>
                    <a:pt x="894" y="506"/>
                  </a:lnTo>
                  <a:lnTo>
                    <a:pt x="882" y="530"/>
                  </a:lnTo>
                  <a:lnTo>
                    <a:pt x="879" y="567"/>
                  </a:lnTo>
                  <a:lnTo>
                    <a:pt x="885" y="546"/>
                  </a:lnTo>
                  <a:lnTo>
                    <a:pt x="882" y="593"/>
                  </a:lnTo>
                  <a:lnTo>
                    <a:pt x="870" y="602"/>
                  </a:lnTo>
                  <a:lnTo>
                    <a:pt x="849" y="587"/>
                  </a:lnTo>
                  <a:lnTo>
                    <a:pt x="821" y="612"/>
                  </a:lnTo>
                  <a:lnTo>
                    <a:pt x="800" y="615"/>
                  </a:lnTo>
                  <a:lnTo>
                    <a:pt x="767" y="618"/>
                  </a:lnTo>
                  <a:lnTo>
                    <a:pt x="747" y="611"/>
                  </a:lnTo>
                  <a:lnTo>
                    <a:pt x="728" y="615"/>
                  </a:lnTo>
                  <a:lnTo>
                    <a:pt x="705" y="602"/>
                  </a:lnTo>
                  <a:lnTo>
                    <a:pt x="663" y="605"/>
                  </a:lnTo>
                  <a:lnTo>
                    <a:pt x="647" y="624"/>
                  </a:lnTo>
                  <a:lnTo>
                    <a:pt x="617" y="615"/>
                  </a:lnTo>
                  <a:lnTo>
                    <a:pt x="567" y="636"/>
                  </a:lnTo>
                  <a:lnTo>
                    <a:pt x="557" y="654"/>
                  </a:lnTo>
                  <a:lnTo>
                    <a:pt x="552" y="672"/>
                  </a:lnTo>
                  <a:lnTo>
                    <a:pt x="522" y="704"/>
                  </a:lnTo>
                  <a:lnTo>
                    <a:pt x="524" y="717"/>
                  </a:lnTo>
                  <a:lnTo>
                    <a:pt x="509" y="728"/>
                  </a:lnTo>
                  <a:lnTo>
                    <a:pt x="480" y="725"/>
                  </a:lnTo>
                  <a:lnTo>
                    <a:pt x="474" y="738"/>
                  </a:lnTo>
                  <a:lnTo>
                    <a:pt x="450" y="746"/>
                  </a:lnTo>
                  <a:lnTo>
                    <a:pt x="443" y="761"/>
                  </a:lnTo>
                  <a:lnTo>
                    <a:pt x="420" y="753"/>
                  </a:lnTo>
                  <a:lnTo>
                    <a:pt x="416" y="738"/>
                  </a:lnTo>
                  <a:lnTo>
                    <a:pt x="395" y="741"/>
                  </a:lnTo>
                  <a:lnTo>
                    <a:pt x="368" y="738"/>
                  </a:lnTo>
                  <a:lnTo>
                    <a:pt x="348" y="758"/>
                  </a:lnTo>
                  <a:lnTo>
                    <a:pt x="312" y="767"/>
                  </a:lnTo>
                  <a:lnTo>
                    <a:pt x="291" y="756"/>
                  </a:lnTo>
                  <a:lnTo>
                    <a:pt x="269" y="771"/>
                  </a:lnTo>
                  <a:lnTo>
                    <a:pt x="212" y="770"/>
                  </a:lnTo>
                  <a:lnTo>
                    <a:pt x="206" y="762"/>
                  </a:lnTo>
                  <a:lnTo>
                    <a:pt x="198" y="746"/>
                  </a:lnTo>
                  <a:lnTo>
                    <a:pt x="183" y="738"/>
                  </a:lnTo>
                  <a:lnTo>
                    <a:pt x="168" y="738"/>
                  </a:lnTo>
                  <a:lnTo>
                    <a:pt x="146" y="735"/>
                  </a:lnTo>
                  <a:lnTo>
                    <a:pt x="134" y="749"/>
                  </a:lnTo>
                  <a:lnTo>
                    <a:pt x="108" y="752"/>
                  </a:lnTo>
                  <a:lnTo>
                    <a:pt x="81" y="665"/>
                  </a:lnTo>
                  <a:lnTo>
                    <a:pt x="63" y="653"/>
                  </a:lnTo>
                  <a:lnTo>
                    <a:pt x="50" y="651"/>
                  </a:lnTo>
                  <a:lnTo>
                    <a:pt x="56" y="630"/>
                  </a:lnTo>
                  <a:lnTo>
                    <a:pt x="26" y="597"/>
                  </a:lnTo>
                  <a:lnTo>
                    <a:pt x="18" y="573"/>
                  </a:lnTo>
                  <a:lnTo>
                    <a:pt x="18" y="558"/>
                  </a:lnTo>
                  <a:lnTo>
                    <a:pt x="11" y="539"/>
                  </a:lnTo>
                  <a:lnTo>
                    <a:pt x="22" y="530"/>
                  </a:lnTo>
                  <a:lnTo>
                    <a:pt x="39" y="495"/>
                  </a:lnTo>
                  <a:lnTo>
                    <a:pt x="14" y="473"/>
                  </a:lnTo>
                  <a:lnTo>
                    <a:pt x="14" y="468"/>
                  </a:lnTo>
                  <a:lnTo>
                    <a:pt x="9" y="456"/>
                  </a:lnTo>
                  <a:lnTo>
                    <a:pt x="2" y="444"/>
                  </a:lnTo>
                  <a:lnTo>
                    <a:pt x="0" y="425"/>
                  </a:lnTo>
                  <a:lnTo>
                    <a:pt x="32" y="414"/>
                  </a:lnTo>
                  <a:lnTo>
                    <a:pt x="38" y="392"/>
                  </a:lnTo>
                  <a:lnTo>
                    <a:pt x="20" y="368"/>
                  </a:lnTo>
                  <a:lnTo>
                    <a:pt x="29" y="342"/>
                  </a:lnTo>
                  <a:lnTo>
                    <a:pt x="17" y="323"/>
                  </a:lnTo>
                  <a:lnTo>
                    <a:pt x="45" y="291"/>
                  </a:lnTo>
                </a:path>
              </a:pathLst>
            </a:custGeom>
            <a:solidFill>
              <a:srgbClr val="0033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0718600">
              <a:off x="6086520" y="49431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19600" y="4913280"/>
              <a:ext cx="1519560" cy="353880"/>
            </a:xfrm>
            <a:custGeom>
              <a:avLst/>
              <a:gdLst/>
              <a:ahLst/>
              <a:rect l="l" t="t" r="r" b="b"/>
              <a:pathLst>
                <a:path w="943" h="223">
                  <a:moveTo>
                    <a:pt x="943" y="0"/>
                  </a:moveTo>
                  <a:lnTo>
                    <a:pt x="0" y="22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133640" y="1704960"/>
            <a:ext cx="2981160" cy="1028880"/>
            <a:chOff x="1133640" y="1704960"/>
            <a:chExt cx="2981160" cy="1028880"/>
          </a:xfrm>
        </p:grpSpPr>
        <p:sp>
          <p:nvSpPr>
            <p:cNvPr id="372" name=""/>
            <p:cNvSpPr/>
            <p:nvPr/>
          </p:nvSpPr>
          <p:spPr>
            <a:xfrm>
              <a:off x="1133640" y="2048040"/>
              <a:ext cx="2981160" cy="685800"/>
            </a:xfrm>
            <a:custGeom>
              <a:avLst/>
              <a:gdLst/>
              <a:ahLst/>
              <a:rect l="l" t="t" r="r" b="b"/>
              <a:pathLst>
                <a:path w="1878" h="432">
                  <a:moveTo>
                    <a:pt x="0" y="432"/>
                  </a:moveTo>
                  <a:lnTo>
                    <a:pt x="222" y="252"/>
                  </a:lnTo>
                  <a:lnTo>
                    <a:pt x="360" y="252"/>
                  </a:lnTo>
                  <a:lnTo>
                    <a:pt x="546" y="240"/>
                  </a:lnTo>
                  <a:lnTo>
                    <a:pt x="594" y="198"/>
                  </a:lnTo>
                  <a:lnTo>
                    <a:pt x="654" y="192"/>
                  </a:lnTo>
                  <a:lnTo>
                    <a:pt x="690" y="114"/>
                  </a:lnTo>
                  <a:lnTo>
                    <a:pt x="786" y="26"/>
                  </a:lnTo>
                  <a:lnTo>
                    <a:pt x="882" y="30"/>
                  </a:lnTo>
                  <a:lnTo>
                    <a:pt x="966" y="0"/>
                  </a:lnTo>
                  <a:lnTo>
                    <a:pt x="1086" y="90"/>
                  </a:lnTo>
                  <a:lnTo>
                    <a:pt x="1212" y="204"/>
                  </a:lnTo>
                  <a:lnTo>
                    <a:pt x="1338" y="342"/>
                  </a:lnTo>
                  <a:lnTo>
                    <a:pt x="1632" y="378"/>
                  </a:lnTo>
                  <a:lnTo>
                    <a:pt x="1878" y="384"/>
                  </a:lnTo>
                  <a:lnTo>
                    <a:pt x="1872" y="30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57680" y="2028960"/>
              <a:ext cx="371160" cy="342720"/>
            </a:xfrm>
            <a:custGeom>
              <a:avLst/>
              <a:gdLst/>
              <a:ahLst/>
              <a:rect l="l" t="t" r="r" b="b"/>
              <a:pathLst>
                <a:path w="234" h="216">
                  <a:moveTo>
                    <a:pt x="132" y="0"/>
                  </a:moveTo>
                  <a:lnTo>
                    <a:pt x="0" y="108"/>
                  </a:lnTo>
                  <a:lnTo>
                    <a:pt x="132" y="216"/>
                  </a:lnTo>
                  <a:lnTo>
                    <a:pt x="234" y="6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276640" y="1752120"/>
              <a:ext cx="95040" cy="35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14440" y="1704960"/>
              <a:ext cx="1438560" cy="933480"/>
            </a:xfrm>
            <a:custGeom>
              <a:avLst/>
              <a:gdLst/>
              <a:ahLst/>
              <a:rect l="l" t="t" r="r" b="b"/>
              <a:pathLst>
                <a:path w="906" h="588">
                  <a:moveTo>
                    <a:pt x="0" y="122"/>
                  </a:moveTo>
                  <a:lnTo>
                    <a:pt x="265" y="0"/>
                  </a:lnTo>
                  <a:lnTo>
                    <a:pt x="474" y="198"/>
                  </a:lnTo>
                  <a:lnTo>
                    <a:pt x="582" y="270"/>
                  </a:lnTo>
                  <a:lnTo>
                    <a:pt x="690" y="300"/>
                  </a:lnTo>
                  <a:lnTo>
                    <a:pt x="906" y="330"/>
                  </a:lnTo>
                  <a:lnTo>
                    <a:pt x="888" y="58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33920" y="2238480"/>
              <a:ext cx="304560" cy="133200"/>
            </a:xfrm>
            <a:custGeom>
              <a:avLst/>
              <a:gdLst/>
              <a:ahLst/>
              <a:rect l="l" t="t" r="r" b="b"/>
              <a:pathLst>
                <a:path w="192" h="84">
                  <a:moveTo>
                    <a:pt x="192" y="78"/>
                  </a:moveTo>
                  <a:lnTo>
                    <a:pt x="120" y="8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6622920" y="22017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eb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7530480" y="42735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3729240" y="364824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near-rad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1787400" y="23194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5384880" y="52610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232960" y="253800"/>
            <a:ext cx="4244760" cy="3450240"/>
            <a:chOff x="5232960" y="253800"/>
            <a:chExt cx="4244760" cy="3450240"/>
          </a:xfrm>
        </p:grpSpPr>
        <p:sp>
          <p:nvSpPr>
            <p:cNvPr id="383" name=""/>
            <p:cNvSpPr/>
            <p:nvPr/>
          </p:nvSpPr>
          <p:spPr>
            <a:xfrm rot="441600">
              <a:off x="8795880" y="20682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3929600">
              <a:off x="6797160" y="9266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5232960" y="253800"/>
              <a:ext cx="4244760" cy="3450240"/>
              <a:chOff x="5232960" y="253800"/>
              <a:chExt cx="4244760" cy="3450240"/>
            </a:xfrm>
          </p:grpSpPr>
          <p:sp>
            <p:nvSpPr>
              <p:cNvPr id="386" name=""/>
              <p:cNvSpPr/>
              <p:nvPr/>
            </p:nvSpPr>
            <p:spPr>
              <a:xfrm rot="20760000">
                <a:off x="5410800" y="1600920"/>
                <a:ext cx="2670480" cy="1800360"/>
              </a:xfrm>
              <a:custGeom>
                <a:avLst/>
                <a:gdLst/>
                <a:ahLst/>
                <a:rect l="l" t="t" r="r" b="b"/>
                <a:pathLst>
                  <a:path w="1152" h="777">
                    <a:moveTo>
                      <a:pt x="0" y="90"/>
                    </a:moveTo>
                    <a:lnTo>
                      <a:pt x="139" y="118"/>
                    </a:lnTo>
                    <a:lnTo>
                      <a:pt x="195" y="208"/>
                    </a:lnTo>
                    <a:lnTo>
                      <a:pt x="396" y="229"/>
                    </a:lnTo>
                    <a:lnTo>
                      <a:pt x="424" y="145"/>
                    </a:lnTo>
                    <a:lnTo>
                      <a:pt x="555" y="69"/>
                    </a:lnTo>
                    <a:lnTo>
                      <a:pt x="736" y="0"/>
                    </a:lnTo>
                    <a:lnTo>
                      <a:pt x="916" y="277"/>
                    </a:lnTo>
                    <a:lnTo>
                      <a:pt x="1048" y="333"/>
                    </a:lnTo>
                    <a:lnTo>
                      <a:pt x="1062" y="513"/>
                    </a:lnTo>
                    <a:lnTo>
                      <a:pt x="1152" y="583"/>
                    </a:lnTo>
                    <a:lnTo>
                      <a:pt x="1152" y="777"/>
                    </a:lnTo>
                    <a:lnTo>
                      <a:pt x="812" y="638"/>
                    </a:lnTo>
                    <a:lnTo>
                      <a:pt x="555" y="534"/>
                    </a:lnTo>
                    <a:lnTo>
                      <a:pt x="479" y="548"/>
                    </a:lnTo>
                    <a:lnTo>
                      <a:pt x="555" y="714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760000">
                <a:off x="8447040" y="705600"/>
                <a:ext cx="836640" cy="1705680"/>
              </a:xfrm>
              <a:custGeom>
                <a:avLst/>
                <a:gdLst/>
                <a:ahLst/>
                <a:rect l="l" t="t" r="r" b="b"/>
                <a:pathLst>
                  <a:path w="361" h="736">
                    <a:moveTo>
                      <a:pt x="361" y="736"/>
                    </a:moveTo>
                    <a:cubicBezTo>
                      <a:pt x="301" y="713"/>
                      <a:pt x="324" y="724"/>
                      <a:pt x="292" y="708"/>
                    </a:cubicBezTo>
                    <a:lnTo>
                      <a:pt x="188" y="680"/>
                    </a:lnTo>
                    <a:lnTo>
                      <a:pt x="84" y="416"/>
                    </a:lnTo>
                    <a:lnTo>
                      <a:pt x="90" y="333"/>
                    </a:lnTo>
                    <a:lnTo>
                      <a:pt x="0" y="312"/>
                    </a:lnTo>
                    <a:lnTo>
                      <a:pt x="0" y="35"/>
                    </a:lnTo>
                    <a:lnTo>
                      <a:pt x="250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0760000">
                <a:off x="6896520" y="1288080"/>
                <a:ext cx="1511280" cy="514440"/>
              </a:xfrm>
              <a:custGeom>
                <a:avLst/>
                <a:gdLst/>
                <a:ahLst/>
                <a:rect l="l" t="t" r="r" b="b"/>
                <a:pathLst>
                  <a:path w="652" h="222">
                    <a:moveTo>
                      <a:pt x="652" y="173"/>
                    </a:moveTo>
                    <a:lnTo>
                      <a:pt x="479" y="222"/>
                    </a:lnTo>
                    <a:lnTo>
                      <a:pt x="278" y="97"/>
                    </a:lnTo>
                    <a:lnTo>
                      <a:pt x="49" y="0"/>
                    </a:lnTo>
                    <a:lnTo>
                      <a:pt x="0" y="28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760000">
                <a:off x="7245720" y="2176560"/>
                <a:ext cx="718560" cy="1462320"/>
              </a:xfrm>
              <a:custGeom>
                <a:avLst/>
                <a:gdLst/>
                <a:ahLst/>
                <a:rect l="l" t="t" r="r" b="b"/>
                <a:pathLst>
                  <a:path w="310" h="631">
                    <a:moveTo>
                      <a:pt x="310" y="0"/>
                    </a:moveTo>
                    <a:cubicBezTo>
                      <a:pt x="266" y="49"/>
                      <a:pt x="92" y="213"/>
                      <a:pt x="46" y="291"/>
                    </a:cubicBezTo>
                    <a:cubicBezTo>
                      <a:pt x="0" y="369"/>
                      <a:pt x="30" y="408"/>
                      <a:pt x="33" y="465"/>
                    </a:cubicBezTo>
                    <a:cubicBezTo>
                      <a:pt x="36" y="522"/>
                      <a:pt x="55" y="597"/>
                      <a:pt x="61" y="63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20760000">
                <a:off x="8172000" y="2239200"/>
                <a:ext cx="1047600" cy="660600"/>
              </a:xfrm>
              <a:custGeom>
                <a:avLst/>
                <a:gdLst/>
                <a:ahLst/>
                <a:rect l="l" t="t" r="r" b="b"/>
                <a:pathLst>
                  <a:path w="424" h="285">
                    <a:moveTo>
                      <a:pt x="361" y="0"/>
                    </a:moveTo>
                    <a:lnTo>
                      <a:pt x="0" y="285"/>
                    </a:lnTo>
                    <a:lnTo>
                      <a:pt x="278" y="229"/>
                    </a:lnTo>
                    <a:lnTo>
                      <a:pt x="424" y="132"/>
                    </a:lnTo>
                    <a:lnTo>
                      <a:pt x="361" y="0"/>
                    </a:ln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20760000">
                <a:off x="6374520" y="344520"/>
                <a:ext cx="980640" cy="1865520"/>
              </a:xfrm>
              <a:custGeom>
                <a:avLst/>
                <a:gdLst/>
                <a:ahLst/>
                <a:rect l="l" t="t" r="r" b="b"/>
                <a:pathLst>
                  <a:path w="423" h="805">
                    <a:moveTo>
                      <a:pt x="423" y="805"/>
                    </a:moveTo>
                    <a:cubicBezTo>
                      <a:pt x="408" y="738"/>
                      <a:pt x="409" y="764"/>
                      <a:pt x="409" y="729"/>
                    </a:cubicBezTo>
                    <a:lnTo>
                      <a:pt x="312" y="500"/>
                    </a:lnTo>
                    <a:lnTo>
                      <a:pt x="333" y="465"/>
                    </a:lnTo>
                    <a:lnTo>
                      <a:pt x="263" y="319"/>
                    </a:lnTo>
                    <a:lnTo>
                      <a:pt x="222" y="187"/>
                    </a:lnTo>
                    <a:lnTo>
                      <a:pt x="131" y="180"/>
                    </a:lnTo>
                    <a:lnTo>
                      <a:pt x="104" y="76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flipV="1">
                <a:off x="6251400" y="2176560"/>
                <a:ext cx="444240" cy="717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6464520" y="5048280"/>
            <a:ext cx="423360" cy="1061280"/>
            <a:chOff x="6464520" y="5048280"/>
            <a:chExt cx="423360" cy="1061280"/>
          </a:xfrm>
        </p:grpSpPr>
        <p:sp>
          <p:nvSpPr>
            <p:cNvPr id="394" name=""/>
            <p:cNvSpPr/>
            <p:nvPr/>
          </p:nvSpPr>
          <p:spPr>
            <a:xfrm rot="15530400">
              <a:off x="6495840" y="571752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54880" y="5048280"/>
              <a:ext cx="122400" cy="936720"/>
            </a:xfrm>
            <a:prstGeom prst="line">
              <a:avLst/>
            </a:prstGeom>
            <a:ln w="2844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" name=""/>
          <p:cNvSpPr/>
          <p:nvPr/>
        </p:nvSpPr>
        <p:spPr>
          <a:xfrm rot="15112800">
            <a:off x="8783280" y="4642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986520" y="950040"/>
            <a:ext cx="3799440" cy="4578840"/>
            <a:chOff x="6986520" y="950040"/>
            <a:chExt cx="3799440" cy="4578840"/>
          </a:xfrm>
        </p:grpSpPr>
        <p:sp>
          <p:nvSpPr>
            <p:cNvPr id="398" name=""/>
            <p:cNvSpPr/>
            <p:nvPr/>
          </p:nvSpPr>
          <p:spPr>
            <a:xfrm>
              <a:off x="8683560" y="37274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760000">
              <a:off x="8526240" y="1100160"/>
              <a:ext cx="1768320" cy="4278240"/>
            </a:xfrm>
            <a:custGeom>
              <a:avLst/>
              <a:gdLst/>
              <a:ahLst/>
              <a:rect l="l" t="t" r="r" b="b"/>
              <a:pathLst>
                <a:path w="763" h="1846">
                  <a:moveTo>
                    <a:pt x="763" y="0"/>
                  </a:moveTo>
                  <a:lnTo>
                    <a:pt x="513" y="521"/>
                  </a:lnTo>
                  <a:lnTo>
                    <a:pt x="520" y="659"/>
                  </a:lnTo>
                  <a:lnTo>
                    <a:pt x="347" y="1006"/>
                  </a:lnTo>
                  <a:lnTo>
                    <a:pt x="0" y="1423"/>
                  </a:lnTo>
                  <a:lnTo>
                    <a:pt x="34" y="1631"/>
                  </a:lnTo>
                  <a:lnTo>
                    <a:pt x="111" y="1749"/>
                  </a:lnTo>
                  <a:lnTo>
                    <a:pt x="194" y="1846"/>
                  </a:lnTo>
                </a:path>
              </a:pathLst>
            </a:custGeom>
            <a:noFill/>
            <a:ln w="57240">
              <a:solidFill>
                <a:srgbClr val="ccb37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86520" y="3887640"/>
              <a:ext cx="2157480" cy="1036800"/>
            </a:xfrm>
            <a:custGeom>
              <a:avLst/>
              <a:gdLst/>
              <a:ahLst/>
              <a:rect l="l" t="t" r="r" b="b"/>
              <a:pathLst>
                <a:path w="1359" h="653">
                  <a:moveTo>
                    <a:pt x="1359" y="9"/>
                  </a:moveTo>
                  <a:cubicBezTo>
                    <a:pt x="1300" y="13"/>
                    <a:pt x="1101" y="0"/>
                    <a:pt x="999" y="36"/>
                  </a:cubicBezTo>
                  <a:cubicBezTo>
                    <a:pt x="899" y="71"/>
                    <a:pt x="863" y="188"/>
                    <a:pt x="755" y="223"/>
                  </a:cubicBezTo>
                  <a:lnTo>
                    <a:pt x="352" y="239"/>
                  </a:lnTo>
                  <a:lnTo>
                    <a:pt x="66" y="353"/>
                  </a:lnTo>
                  <a:lnTo>
                    <a:pt x="0" y="546"/>
                  </a:lnTo>
                  <a:lnTo>
                    <a:pt x="96" y="65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0760000">
              <a:off x="7130520" y="4707000"/>
              <a:ext cx="1722600" cy="241200"/>
            </a:xfrm>
            <a:custGeom>
              <a:avLst/>
              <a:gdLst/>
              <a:ahLst/>
              <a:rect l="l" t="t" r="r" b="b"/>
              <a:pathLst>
                <a:path w="743" h="104">
                  <a:moveTo>
                    <a:pt x="0" y="0"/>
                  </a:moveTo>
                  <a:lnTo>
                    <a:pt x="83" y="56"/>
                  </a:lnTo>
                  <a:lnTo>
                    <a:pt x="160" y="63"/>
                  </a:lnTo>
                  <a:lnTo>
                    <a:pt x="257" y="104"/>
                  </a:lnTo>
                  <a:lnTo>
                    <a:pt x="437" y="63"/>
                  </a:lnTo>
                  <a:lnTo>
                    <a:pt x="562" y="35"/>
                  </a:lnTo>
                  <a:lnTo>
                    <a:pt x="646" y="49"/>
                  </a:lnTo>
                  <a:lnTo>
                    <a:pt x="743" y="21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63560" y="3962520"/>
            <a:ext cx="287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Current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Situ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380988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4343400"/>
            <a:ext cx="990720" cy="533520"/>
          </a:xfrm>
          <a:custGeom>
            <a:avLst/>
            <a:gdLst>
              <a:gd name="textAreaLeft" fmla="*/ 154800 w 990720"/>
              <a:gd name="textAreaRight" fmla="*/ 866880 w 990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52280" y="4038480"/>
            <a:ext cx="3429000" cy="1143000"/>
          </a:xfrm>
          <a:prstGeom prst="rect">
            <a:avLst/>
          </a:prstGeom>
          <a:solidFill>
            <a:srgbClr val="cc6600">
              <a:alpha val="20000"/>
            </a:srgbClr>
          </a:solidFill>
          <a:ln w="22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1EE39-524D-4077-8E53-238C0CA860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otential Supply Sources of Ga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ources of Future Gas Su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ussian, Caspian and Middle East ‘piped’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NG proposals along Adriatic coast and Black S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E Gasification Study indicates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aspian/Middle East gas competitive to Russian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for gasification of SEE currently being analy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any new pipelines are proposed but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not all will be built at on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762120" y="51814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4876920"/>
            <a:ext cx="7848720" cy="99036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0A9FE-CCD1-4A57-9F24-2F80002925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1T14:29:05Z</dcterms:created>
  <dc:creator>wb264733</dc:creator>
  <dc:description/>
  <dc:language>en-US</dc:language>
  <cp:lastModifiedBy>wb180718</cp:lastModifiedBy>
  <dcterms:modified xsi:type="dcterms:W3CDTF">2007-09-25T04:49:12Z</dcterms:modified>
  <cp:revision>268</cp:revision>
  <dc:subject/>
  <dc:title>Yemen</dc:title>
</cp:coreProperties>
</file>