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8CFC-9A8C-44F8-9D5B-930762167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apital cost is determined by the size of the power plant and this number is taken from PAD according to which it responds to the 600MW power plan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emission factor for Kosovo A and Kosovo B are 1.85 t/MWh and 1.47 t/MWh, respectively. These numbers are taken fro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velopment of Power Generation in South East Europe - Implications for Investments in Environmental Protec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(World Bank and SEEC). Amount of total CO2 emissions is calculated based on these facto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sovo C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missions are based on the assumptions that it is employing supercritical technology with 0.84 t/MWh CO2 emission fac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is still no standardized definition in regards to the proper meaning of ‘CCS Ready’, but this is considered to be the one that is understood in most cas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2D5B-01BF-48BF-A599-6F6026AB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5543-0993-4C02-85AE-A097DB4B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8785-823F-4F8D-836B-F1CA6B8A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47BA-41E6-404D-9F72-3CB16C391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080C-37B6-43D6-A327-7A1A0E5F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0A0D-F0C2-4AF1-8FB5-FAB1A961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558B-00E6-4051-B3AA-4426BF07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BB7B-D063-4C90-BA51-31B223EE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59F8-4786-4D1A-88C6-4EFEF9E9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F473-5945-43AC-B688-0D0A00E0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B561-3E89-492E-B095-B4638B0D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F72A-9A64-4CAF-B101-71F73B07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8CFD-ABE9-4419-9208-49DA98D8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F506-72D6-4B9A-AECE-0CCC2EBA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8F3C-318B-42BC-A34F-18652259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BECD-EA9A-463F-8EBC-EF83ED8D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840B-AC3A-4A5D-8DB8-E72D4B99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A0A3-7F2E-483E-9EAD-6AED7B57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B9AF-1347-4D68-9338-979F8E44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1A80-4A42-4D37-9A3F-D7327215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A622-E322-4B3B-ABF9-35A8FBBC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83C9-AC34-4DEF-85D8-2285ED76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C5BE-592F-422C-8958-E571AD92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F3C3-CF89-4742-A23C-C190AC14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1DFB-FAF2-4BED-9062-FE3EBBC704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1A78-9DC7-4F70-84E9-24EC1ABC46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2936" t="3292" r="2898" b="3452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1371600" y="3886200"/>
            <a:ext cx="6400800" cy="24786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itigating Coal/Lignite Environmental Impacts: Kosovo C Case St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harles Feinstein, World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tigation measures (2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ts efforts to minimize GHG emissions, World Bank is exploring offering the following guidance to Transaction Advisor for incorporation into RF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21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of technology type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21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of minimum thermal efficiency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21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of carbon shadow value or “tax” that would be applied in the bid level of emissions and factored into the evaluation of the bi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 view of Kosovo’s energy sect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ovo is rich with low-cost lignite resources with proven reserves estimated at around 12 billion ton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it has two power plants Kosovo A and Kosovo B built in 1960s and 1980s, respecti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otal 1513 MW installed generating capacity, Kosovo has only around 600 MW available capacity due to age, poor prior maintenance, and damage caused during the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great amount of unmet demand for electricity both in Kosovo and SEE region-w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y do we need Kosovo C?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and mining sectors in Kosovo are regarded as future pillars of economic growth and poverty re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tly, Kosovo Provisional Institutions of Self-Government (PISG) has expressed interest in building new power plant that will increase electricity generation and lignite pro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SG has invited several donors like European Commission, World Bank, USAID and KfW to support its development agenda by facilitating private investments in energy and mining s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are key facts?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ovo C power plant is expected to have an initial generating capacity of around 1000 MW.  The on-going SESA study will give more clarification in this rega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vernight capital cost of Kosovo C power plant is estimated 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 billion and it will be the first foreign direct investment of this scope in the reg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quires 5 to 6 years for development and construction, with first unit(s) of Kosovo C power plant expected to come on-line around 20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ovo C represents an opportunity to adopt climate-friendly technology ahead of business-as-usual practice in the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is World Bank involved in Kosovo C projec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2100240"/>
            <a:ext cx="868680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IDA grant of $10.5 million, World Bank is offer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ass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Kosovo C project, formally known as Lignite Power Technical Assistance Project (LPTA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Bank support in Kosovo C is organized around three main components: support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g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ironment/social assess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vis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ly, World Bank is working hard to ensure that the bidding process will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, transpa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i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ven technologies for lignite-fired power s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28600" y="1523880"/>
          <a:ext cx="8686800" cy="5052960"/>
        </p:xfrm>
        <a:graphic>
          <a:graphicData uri="http://schemas.openxmlformats.org/drawingml/2006/table">
            <a:tbl>
              <a:tblPr/>
              <a:tblGrid>
                <a:gridCol w="1752480"/>
                <a:gridCol w="1752840"/>
                <a:gridCol w="1828800"/>
                <a:gridCol w="1600200"/>
                <a:gridCol w="1752480"/>
              </a:tblGrid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F sub-crit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F 500MW supercrit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FB 300MW sub-crit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00 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00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pital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500 -2,000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176 -1,764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200 -1,800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700 -2,200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gnite heat value (kJ/kg) (LH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 efficiency (LH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- 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.2 – 4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 - 4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- 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t rate (kJ/kW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74 - 9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27 - 89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00 - 85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74 - 9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emission factor (tonnes/MWh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3-0.8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3-0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-0.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3-0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ocal/Regional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vironmental Impa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0010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ssions Level for Kosovo A, Kosovo B, and forthcoming Kosovo C (in mg/N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838080" y="2743200"/>
          <a:ext cx="6629400" cy="3200400"/>
        </p:xfrm>
        <a:graphic>
          <a:graphicData uri="http://schemas.openxmlformats.org/drawingml/2006/table">
            <a:tbl>
              <a:tblPr/>
              <a:tblGrid>
                <a:gridCol w="2306880"/>
                <a:gridCol w="1463400"/>
                <a:gridCol w="1428840"/>
                <a:gridCol w="14302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2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 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 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lobal Environmental Impa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09480" y="1905120"/>
          <a:ext cx="6858000" cy="452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05120"/>
                    <a:ext cx="6858000" cy="45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304920" y="1143000"/>
            <a:ext cx="7619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of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issions generated from Kosovo A, Kosovo B, and Kosovo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39000" y="612144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@ 610 M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91480" y="612144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@ 678 M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6121440"/>
            <a:ext cx="11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@ 1000 M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tigation measures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Bank is currently exploring options for channeling this project through CDM mechanisms, possibly combining it with closure of Kosovo 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Capture and Sequestration (CCS) technology is being considered as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the power plant may not employ CCS technology in its early phase operation, it is expected that the plant will be CCS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90000"/>
              </a:lnSpc>
              <a:spcBef>
                <a:spcPts val="19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CS ready” =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nce CCS technology becomes commercially available, and necessary regulatory and economic drivers are in place, it should be capable for rapid retrofit*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22:59:37Z</dcterms:created>
  <dc:creator>Teuta Kacaniku</dc:creator>
  <dc:description/>
  <dc:language>en-US</dc:language>
  <cp:lastModifiedBy>Charles Feinsein</cp:lastModifiedBy>
  <dcterms:modified xsi:type="dcterms:W3CDTF">2007-09-24T14:40:08Z</dcterms:modified>
  <cp:revision>20</cp:revision>
  <dc:subject/>
  <dc:title>PowerPoint Presentation</dc:title>
</cp:coreProperties>
</file>