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0" y="0"/>
            <a:ext cx="69984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228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dt" idx="5"/>
          </p:nvPr>
        </p:nvSpPr>
        <p:spPr>
          <a:xfrm>
            <a:off x="3965040" y="-360"/>
            <a:ext cx="303228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sldImg"/>
          </p:nvPr>
        </p:nvSpPr>
        <p:spPr>
          <a:xfrm>
            <a:off x="1190520" y="692280"/>
            <a:ext cx="4618080" cy="346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body"/>
          </p:nvPr>
        </p:nvSpPr>
        <p:spPr>
          <a:xfrm>
            <a:off x="933480" y="4385880"/>
            <a:ext cx="5130720" cy="41562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ftr" idx="6"/>
          </p:nvPr>
        </p:nvSpPr>
        <p:spPr>
          <a:xfrm>
            <a:off x="-360" y="8772120"/>
            <a:ext cx="303228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 type="sldNum" idx="7"/>
          </p:nvPr>
        </p:nvSpPr>
        <p:spPr>
          <a:xfrm>
            <a:off x="3965040" y="8772120"/>
            <a:ext cx="303228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0A9354A1-5A9E-4A66-ABDF-351E0A3629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sldImg"/>
          </p:nvPr>
        </p:nvSpPr>
        <p:spPr>
          <a:xfrm>
            <a:off x="119052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933480" y="4385880"/>
            <a:ext cx="5130720" cy="41562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OPENING REMARKS: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I would like to thank the organizers, the EC, for inviting me for this important event. It is always a pleasure to come her to this wonderful city and meet up with friends from the industry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or those of you who I did not have a chance to meet, my name is Franz Gerner, and I am a senior energy economist with the World Bank, focusing in particular on natural gas project in the region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9CC79C-6F07-410B-904F-E7A6061E28C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B519A3-2BEA-4830-8612-046BEAA71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D74192-DBBE-404A-9083-4A07B9CF2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58253F-C1EB-4FF9-A6AE-CD1BF08AEF9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4D697E-23DC-41C5-BAE1-4129A58A779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01EA9F-9F51-4EE7-B5BC-BBB7D751C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BA4141-3FB2-4FDD-8E69-9CC5559D5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314DBD-7335-4D25-B9FA-68CF45917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D0AB38-83F5-403C-8737-4E7501480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AE8FCB-50C1-4969-A975-8F85B4AFD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C7918B-BEB3-4ECC-BB90-931CC021A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69CAE4-8B74-4455-8F92-8B2F006AA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791E52-59A4-4E2F-B98A-E3C1301B8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E954C3-B968-4193-9FC7-74D3FD447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08C096-EB25-4309-8155-4E7201347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D8F234-E29D-411A-A5FF-81D64AD76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66B42B-3DB7-475F-B2D6-5BAA5D73A6D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8CB92A-D18C-4C48-B138-57B89E575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76F36F-A52A-4A24-8F80-82211BC73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4C73DA-EDE6-4DCF-A8CE-C50F9077B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BB2C4C-D55A-4D91-8AB0-268F17350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AEE89B-FDB1-4854-9972-19B9169AD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730BB4-927B-4FFB-9B08-0401F74FA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77A3CA-2C5D-4D1B-8A90-91FA9A207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BF002-24B7-43AB-B364-FCBC9E35A3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5" name="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6" name=""/>
              <p:cNvSpPr/>
              <p:nvPr/>
            </p:nvSpPr>
            <p:spPr>
              <a:xfrm>
                <a:off x="1054080" y="165240"/>
                <a:ext cx="7696080" cy="6858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8"/>
                    </a:moveTo>
                    <a:lnTo>
                      <a:pt x="4848" y="432"/>
                    </a:lnTo>
                    <a:cubicBezTo>
                      <a:pt x="4848" y="432"/>
                      <a:pt x="2424" y="432"/>
                      <a:pt x="0" y="432"/>
                    </a:cubicBezTo>
                    <a:cubicBezTo>
                      <a:pt x="161" y="345"/>
                      <a:pt x="169" y="61"/>
                      <a:pt x="0" y="0"/>
                    </a:cubicBezTo>
                    <a:cubicBezTo>
                      <a:pt x="2424" y="0"/>
                      <a:pt x="4848" y="0"/>
                      <a:pt x="4848" y="0"/>
                    </a:cubicBezTo>
                    <a:lnTo>
                      <a:pt x="4848" y="48"/>
                    </a:lnTo>
                    <a:close/>
                  </a:path>
                </a:pathLst>
              </a:custGeom>
              <a:solidFill>
                <a:srgbClr val="e5d09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7" name="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8" name="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9" name="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23">
                        <a:moveTo>
                          <a:pt x="5" y="11"/>
                        </a:moveTo>
                        <a:cubicBezTo>
                          <a:pt x="2" y="1"/>
                          <a:pt x="7" y="0"/>
                          <a:pt x="15" y="5"/>
                        </a:cubicBezTo>
                        <a:cubicBezTo>
                          <a:pt x="14" y="9"/>
                          <a:pt x="15" y="13"/>
                          <a:pt x="13" y="17"/>
                        </a:cubicBezTo>
                        <a:cubicBezTo>
                          <a:pt x="9" y="23"/>
                          <a:pt x="0" y="16"/>
                          <a:pt x="5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" name="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3">
                        <a:moveTo>
                          <a:pt x="3" y="13"/>
                        </a:moveTo>
                        <a:cubicBezTo>
                          <a:pt x="0" y="5"/>
                          <a:pt x="2" y="0"/>
                          <a:pt x="11" y="3"/>
                        </a:cubicBezTo>
                        <a:cubicBezTo>
                          <a:pt x="16" y="10"/>
                          <a:pt x="20" y="23"/>
                          <a:pt x="7" y="19"/>
                        </a:cubicBezTo>
                        <a:cubicBezTo>
                          <a:pt x="6" y="17"/>
                          <a:pt x="3" y="13"/>
                          <a:pt x="3" y="1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" name="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" name="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" name="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" name="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" name="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" name="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5" name="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2">
                        <a:moveTo>
                          <a:pt x="8" y="14"/>
                        </a:moveTo>
                        <a:cubicBezTo>
                          <a:pt x="5" y="6"/>
                          <a:pt x="5" y="3"/>
                          <a:pt x="14" y="0"/>
                        </a:cubicBezTo>
                        <a:cubicBezTo>
                          <a:pt x="26" y="4"/>
                          <a:pt x="23" y="16"/>
                          <a:pt x="14" y="22"/>
                        </a:cubicBezTo>
                        <a:cubicBezTo>
                          <a:pt x="0" y="17"/>
                          <a:pt x="13" y="3"/>
                          <a:pt x="8" y="1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7" name="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8" name="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0" name="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1" name="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custGeom>
                    <a:avLst/>
                    <a:gdLst/>
                    <a:ahLst/>
                    <a:rect l="l" t="t" r="r" b="b"/>
                    <a:pathLst>
                      <a:path w="471" h="281">
                        <a:moveTo>
                          <a:pt x="21" y="280"/>
                        </a:moveTo>
                        <a:cubicBezTo>
                          <a:pt x="32" y="281"/>
                          <a:pt x="25" y="253"/>
                          <a:pt x="24" y="250"/>
                        </a:cubicBezTo>
                        <a:cubicBezTo>
                          <a:pt x="23" y="248"/>
                          <a:pt x="22" y="245"/>
                          <a:pt x="22" y="245"/>
                        </a:cubicBezTo>
                        <a:cubicBezTo>
                          <a:pt x="21" y="243"/>
                          <a:pt x="20" y="221"/>
                          <a:pt x="16" y="218"/>
                        </a:cubicBezTo>
                        <a:cubicBezTo>
                          <a:pt x="13" y="216"/>
                          <a:pt x="4" y="215"/>
                          <a:pt x="4" y="215"/>
                        </a:cubicBezTo>
                        <a:cubicBezTo>
                          <a:pt x="0" y="207"/>
                          <a:pt x="3" y="200"/>
                          <a:pt x="0" y="191"/>
                        </a:cubicBezTo>
                        <a:cubicBezTo>
                          <a:pt x="2" y="185"/>
                          <a:pt x="7" y="186"/>
                          <a:pt x="12" y="180"/>
                        </a:cubicBezTo>
                        <a:cubicBezTo>
                          <a:pt x="14" y="172"/>
                          <a:pt x="14" y="169"/>
                          <a:pt x="6" y="165"/>
                        </a:cubicBezTo>
                        <a:cubicBezTo>
                          <a:pt x="4" y="163"/>
                          <a:pt x="2" y="162"/>
                          <a:pt x="2" y="160"/>
                        </a:cubicBezTo>
                        <a:cubicBezTo>
                          <a:pt x="2" y="150"/>
                          <a:pt x="16" y="123"/>
                          <a:pt x="28" y="120"/>
                        </a:cubicBezTo>
                        <a:cubicBezTo>
                          <a:pt x="32" y="111"/>
                          <a:pt x="40" y="105"/>
                          <a:pt x="44" y="96"/>
                        </a:cubicBezTo>
                        <a:cubicBezTo>
                          <a:pt x="39" y="83"/>
                          <a:pt x="38" y="85"/>
                          <a:pt x="42" y="70"/>
                        </a:cubicBezTo>
                        <a:cubicBezTo>
                          <a:pt x="38" y="60"/>
                          <a:pt x="34" y="48"/>
                          <a:pt x="24" y="43"/>
                        </a:cubicBezTo>
                        <a:cubicBezTo>
                          <a:pt x="18" y="36"/>
                          <a:pt x="10" y="37"/>
                          <a:pt x="20" y="32"/>
                        </a:cubicBezTo>
                        <a:cubicBezTo>
                          <a:pt x="27" y="34"/>
                          <a:pt x="26" y="32"/>
                          <a:pt x="26" y="36"/>
                        </a:cubicBezTo>
                        <a:cubicBezTo>
                          <a:pt x="34" y="41"/>
                          <a:pt x="39" y="39"/>
                          <a:pt x="48" y="35"/>
                        </a:cubicBezTo>
                        <a:cubicBezTo>
                          <a:pt x="45" y="22"/>
                          <a:pt x="48" y="14"/>
                          <a:pt x="64" y="11"/>
                        </a:cubicBezTo>
                        <a:cubicBezTo>
                          <a:pt x="71" y="8"/>
                          <a:pt x="75" y="3"/>
                          <a:pt x="82" y="0"/>
                        </a:cubicBezTo>
                        <a:cubicBezTo>
                          <a:pt x="84" y="1"/>
                          <a:pt x="88" y="0"/>
                          <a:pt x="88" y="2"/>
                        </a:cubicBezTo>
                        <a:cubicBezTo>
                          <a:pt x="90" y="12"/>
                          <a:pt x="75" y="13"/>
                          <a:pt x="92" y="9"/>
                        </a:cubicBezTo>
                        <a:cubicBezTo>
                          <a:pt x="94" y="8"/>
                          <a:pt x="96" y="5"/>
                          <a:pt x="98" y="5"/>
                        </a:cubicBezTo>
                        <a:cubicBezTo>
                          <a:pt x="102" y="4"/>
                          <a:pt x="106" y="7"/>
                          <a:pt x="110" y="8"/>
                        </a:cubicBezTo>
                        <a:cubicBezTo>
                          <a:pt x="112" y="8"/>
                          <a:pt x="116" y="9"/>
                          <a:pt x="116" y="9"/>
                        </a:cubicBezTo>
                        <a:cubicBezTo>
                          <a:pt x="122" y="16"/>
                          <a:pt x="129" y="13"/>
                          <a:pt x="141" y="14"/>
                        </a:cubicBezTo>
                        <a:cubicBezTo>
                          <a:pt x="143" y="21"/>
                          <a:pt x="147" y="22"/>
                          <a:pt x="155" y="24"/>
                        </a:cubicBezTo>
                        <a:cubicBezTo>
                          <a:pt x="159" y="22"/>
                          <a:pt x="163" y="20"/>
                          <a:pt x="167" y="17"/>
                        </a:cubicBezTo>
                        <a:cubicBezTo>
                          <a:pt x="169" y="16"/>
                          <a:pt x="173" y="14"/>
                          <a:pt x="173" y="14"/>
                        </a:cubicBezTo>
                        <a:cubicBezTo>
                          <a:pt x="195" y="26"/>
                          <a:pt x="175" y="20"/>
                          <a:pt x="195" y="14"/>
                        </a:cubicBezTo>
                        <a:cubicBezTo>
                          <a:pt x="207" y="17"/>
                          <a:pt x="201" y="26"/>
                          <a:pt x="211" y="32"/>
                        </a:cubicBezTo>
                        <a:cubicBezTo>
                          <a:pt x="214" y="38"/>
                          <a:pt x="224" y="55"/>
                          <a:pt x="231" y="59"/>
                        </a:cubicBezTo>
                        <a:cubicBezTo>
                          <a:pt x="241" y="70"/>
                          <a:pt x="235" y="67"/>
                          <a:pt x="245" y="70"/>
                        </a:cubicBezTo>
                        <a:cubicBezTo>
                          <a:pt x="249" y="69"/>
                          <a:pt x="253" y="69"/>
                          <a:pt x="257" y="68"/>
                        </a:cubicBezTo>
                        <a:cubicBezTo>
                          <a:pt x="261" y="67"/>
                          <a:pt x="270" y="65"/>
                          <a:pt x="270" y="65"/>
                        </a:cubicBezTo>
                        <a:cubicBezTo>
                          <a:pt x="278" y="66"/>
                          <a:pt x="283" y="67"/>
                          <a:pt x="290" y="71"/>
                        </a:cubicBezTo>
                        <a:cubicBezTo>
                          <a:pt x="304" y="88"/>
                          <a:pt x="282" y="62"/>
                          <a:pt x="300" y="81"/>
                        </a:cubicBezTo>
                        <a:cubicBezTo>
                          <a:pt x="302" y="84"/>
                          <a:pt x="308" y="90"/>
                          <a:pt x="308" y="90"/>
                        </a:cubicBezTo>
                        <a:cubicBezTo>
                          <a:pt x="311" y="98"/>
                          <a:pt x="315" y="103"/>
                          <a:pt x="318" y="111"/>
                        </a:cubicBezTo>
                        <a:cubicBezTo>
                          <a:pt x="319" y="114"/>
                          <a:pt x="321" y="117"/>
                          <a:pt x="322" y="120"/>
                        </a:cubicBezTo>
                        <a:cubicBezTo>
                          <a:pt x="323" y="122"/>
                          <a:pt x="324" y="125"/>
                          <a:pt x="324" y="125"/>
                        </a:cubicBezTo>
                        <a:cubicBezTo>
                          <a:pt x="321" y="132"/>
                          <a:pt x="313" y="134"/>
                          <a:pt x="310" y="142"/>
                        </a:cubicBezTo>
                        <a:cubicBezTo>
                          <a:pt x="313" y="151"/>
                          <a:pt x="317" y="146"/>
                          <a:pt x="322" y="141"/>
                        </a:cubicBezTo>
                        <a:cubicBezTo>
                          <a:pt x="341" y="143"/>
                          <a:pt x="339" y="142"/>
                          <a:pt x="342" y="155"/>
                        </a:cubicBezTo>
                        <a:cubicBezTo>
                          <a:pt x="351" y="150"/>
                          <a:pt x="355" y="152"/>
                          <a:pt x="364" y="157"/>
                        </a:cubicBezTo>
                        <a:cubicBezTo>
                          <a:pt x="369" y="162"/>
                          <a:pt x="372" y="166"/>
                          <a:pt x="380" y="168"/>
                        </a:cubicBezTo>
                        <a:cubicBezTo>
                          <a:pt x="381" y="169"/>
                          <a:pt x="383" y="171"/>
                          <a:pt x="382" y="172"/>
                        </a:cubicBezTo>
                        <a:cubicBezTo>
                          <a:pt x="380" y="176"/>
                          <a:pt x="368" y="172"/>
                          <a:pt x="382" y="176"/>
                        </a:cubicBezTo>
                        <a:cubicBezTo>
                          <a:pt x="386" y="175"/>
                          <a:pt x="390" y="173"/>
                          <a:pt x="394" y="172"/>
                        </a:cubicBezTo>
                        <a:cubicBezTo>
                          <a:pt x="396" y="172"/>
                          <a:pt x="400" y="171"/>
                          <a:pt x="400" y="171"/>
                        </a:cubicBezTo>
                        <a:cubicBezTo>
                          <a:pt x="413" y="177"/>
                          <a:pt x="427" y="179"/>
                          <a:pt x="439" y="185"/>
                        </a:cubicBezTo>
                        <a:cubicBezTo>
                          <a:pt x="441" y="190"/>
                          <a:pt x="445" y="194"/>
                          <a:pt x="447" y="199"/>
                        </a:cubicBezTo>
                        <a:cubicBezTo>
                          <a:pt x="453" y="198"/>
                          <a:pt x="460" y="195"/>
                          <a:pt x="465" y="201"/>
                        </a:cubicBezTo>
                        <a:cubicBezTo>
                          <a:pt x="468" y="205"/>
                          <a:pt x="471" y="215"/>
                          <a:pt x="471" y="215"/>
                        </a:cubicBezTo>
                        <a:cubicBezTo>
                          <a:pt x="468" y="231"/>
                          <a:pt x="469" y="248"/>
                          <a:pt x="451" y="258"/>
                        </a:cubicBezTo>
                        <a:cubicBezTo>
                          <a:pt x="447" y="262"/>
                          <a:pt x="437" y="275"/>
                          <a:pt x="435" y="281"/>
                        </a:cubicBezTo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3" name="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custGeom>
                    <a:avLst/>
                    <a:gdLst/>
                    <a:ahLst/>
                    <a:rect l="l" t="t" r="r" b="b"/>
                    <a:pathLst>
                      <a:path w="984" h="844">
                        <a:moveTo>
                          <a:pt x="82" y="38"/>
                        </a:moveTo>
                        <a:lnTo>
                          <a:pt x="406" y="6"/>
                        </a:lnTo>
                        <a:cubicBezTo>
                          <a:pt x="497" y="22"/>
                          <a:pt x="465" y="0"/>
                          <a:pt x="474" y="54"/>
                        </a:cubicBezTo>
                        <a:cubicBezTo>
                          <a:pt x="492" y="48"/>
                          <a:pt x="484" y="40"/>
                          <a:pt x="502" y="34"/>
                        </a:cubicBezTo>
                        <a:cubicBezTo>
                          <a:pt x="510" y="37"/>
                          <a:pt x="517" y="46"/>
                          <a:pt x="526" y="46"/>
                        </a:cubicBezTo>
                        <a:cubicBezTo>
                          <a:pt x="534" y="46"/>
                          <a:pt x="550" y="38"/>
                          <a:pt x="550" y="38"/>
                        </a:cubicBezTo>
                        <a:cubicBezTo>
                          <a:pt x="556" y="55"/>
                          <a:pt x="552" y="60"/>
                          <a:pt x="542" y="74"/>
                        </a:cubicBezTo>
                        <a:cubicBezTo>
                          <a:pt x="555" y="114"/>
                          <a:pt x="550" y="102"/>
                          <a:pt x="578" y="130"/>
                        </a:cubicBezTo>
                        <a:cubicBezTo>
                          <a:pt x="584" y="148"/>
                          <a:pt x="590" y="148"/>
                          <a:pt x="606" y="138"/>
                        </a:cubicBezTo>
                        <a:cubicBezTo>
                          <a:pt x="600" y="119"/>
                          <a:pt x="594" y="107"/>
                          <a:pt x="586" y="90"/>
                        </a:cubicBezTo>
                        <a:cubicBezTo>
                          <a:pt x="583" y="82"/>
                          <a:pt x="578" y="66"/>
                          <a:pt x="578" y="66"/>
                        </a:cubicBezTo>
                        <a:cubicBezTo>
                          <a:pt x="585" y="44"/>
                          <a:pt x="597" y="56"/>
                          <a:pt x="606" y="70"/>
                        </a:cubicBezTo>
                        <a:cubicBezTo>
                          <a:pt x="609" y="86"/>
                          <a:pt x="608" y="117"/>
                          <a:pt x="626" y="90"/>
                        </a:cubicBezTo>
                        <a:cubicBezTo>
                          <a:pt x="648" y="97"/>
                          <a:pt x="646" y="104"/>
                          <a:pt x="642" y="126"/>
                        </a:cubicBezTo>
                        <a:cubicBezTo>
                          <a:pt x="650" y="150"/>
                          <a:pt x="665" y="141"/>
                          <a:pt x="682" y="130"/>
                        </a:cubicBezTo>
                        <a:cubicBezTo>
                          <a:pt x="689" y="108"/>
                          <a:pt x="673" y="124"/>
                          <a:pt x="682" y="98"/>
                        </a:cubicBezTo>
                        <a:cubicBezTo>
                          <a:pt x="683" y="94"/>
                          <a:pt x="690" y="96"/>
                          <a:pt x="694" y="94"/>
                        </a:cubicBezTo>
                        <a:cubicBezTo>
                          <a:pt x="698" y="92"/>
                          <a:pt x="702" y="89"/>
                          <a:pt x="706" y="86"/>
                        </a:cubicBezTo>
                        <a:cubicBezTo>
                          <a:pt x="717" y="54"/>
                          <a:pt x="688" y="54"/>
                          <a:pt x="742" y="46"/>
                        </a:cubicBezTo>
                        <a:cubicBezTo>
                          <a:pt x="748" y="27"/>
                          <a:pt x="741" y="9"/>
                          <a:pt x="762" y="2"/>
                        </a:cubicBezTo>
                        <a:cubicBezTo>
                          <a:pt x="788" y="11"/>
                          <a:pt x="777" y="38"/>
                          <a:pt x="802" y="46"/>
                        </a:cubicBezTo>
                        <a:cubicBezTo>
                          <a:pt x="831" y="36"/>
                          <a:pt x="805" y="63"/>
                          <a:pt x="798" y="70"/>
                        </a:cubicBezTo>
                        <a:cubicBezTo>
                          <a:pt x="789" y="96"/>
                          <a:pt x="787" y="96"/>
                          <a:pt x="802" y="118"/>
                        </a:cubicBezTo>
                        <a:cubicBezTo>
                          <a:pt x="801" y="122"/>
                          <a:pt x="801" y="127"/>
                          <a:pt x="798" y="130"/>
                        </a:cubicBezTo>
                        <a:cubicBezTo>
                          <a:pt x="794" y="133"/>
                          <a:pt x="784" y="129"/>
                          <a:pt x="782" y="134"/>
                        </a:cubicBezTo>
                        <a:cubicBezTo>
                          <a:pt x="780" y="142"/>
                          <a:pt x="790" y="158"/>
                          <a:pt x="790" y="158"/>
                        </a:cubicBezTo>
                        <a:cubicBezTo>
                          <a:pt x="786" y="161"/>
                          <a:pt x="783" y="165"/>
                          <a:pt x="778" y="166"/>
                        </a:cubicBezTo>
                        <a:cubicBezTo>
                          <a:pt x="774" y="167"/>
                          <a:pt x="769" y="159"/>
                          <a:pt x="766" y="162"/>
                        </a:cubicBezTo>
                        <a:cubicBezTo>
                          <a:pt x="758" y="170"/>
                          <a:pt x="794" y="182"/>
                          <a:pt x="794" y="182"/>
                        </a:cubicBezTo>
                        <a:cubicBezTo>
                          <a:pt x="804" y="211"/>
                          <a:pt x="775" y="190"/>
                          <a:pt x="762" y="186"/>
                        </a:cubicBezTo>
                        <a:cubicBezTo>
                          <a:pt x="767" y="194"/>
                          <a:pt x="773" y="202"/>
                          <a:pt x="778" y="210"/>
                        </a:cubicBezTo>
                        <a:cubicBezTo>
                          <a:pt x="783" y="218"/>
                          <a:pt x="802" y="226"/>
                          <a:pt x="802" y="226"/>
                        </a:cubicBezTo>
                        <a:cubicBezTo>
                          <a:pt x="813" y="242"/>
                          <a:pt x="804" y="245"/>
                          <a:pt x="810" y="262"/>
                        </a:cubicBezTo>
                        <a:cubicBezTo>
                          <a:pt x="803" y="282"/>
                          <a:pt x="793" y="301"/>
                          <a:pt x="786" y="322"/>
                        </a:cubicBezTo>
                        <a:cubicBezTo>
                          <a:pt x="783" y="330"/>
                          <a:pt x="778" y="346"/>
                          <a:pt x="778" y="346"/>
                        </a:cubicBezTo>
                        <a:cubicBezTo>
                          <a:pt x="785" y="366"/>
                          <a:pt x="817" y="394"/>
                          <a:pt x="830" y="414"/>
                        </a:cubicBezTo>
                        <a:cubicBezTo>
                          <a:pt x="835" y="422"/>
                          <a:pt x="841" y="430"/>
                          <a:pt x="846" y="438"/>
                        </a:cubicBezTo>
                        <a:cubicBezTo>
                          <a:pt x="849" y="442"/>
                          <a:pt x="854" y="450"/>
                          <a:pt x="854" y="450"/>
                        </a:cubicBezTo>
                        <a:cubicBezTo>
                          <a:pt x="853" y="457"/>
                          <a:pt x="855" y="466"/>
                          <a:pt x="850" y="470"/>
                        </a:cubicBezTo>
                        <a:cubicBezTo>
                          <a:pt x="844" y="475"/>
                          <a:pt x="831" y="451"/>
                          <a:pt x="830" y="450"/>
                        </a:cubicBezTo>
                        <a:cubicBezTo>
                          <a:pt x="811" y="431"/>
                          <a:pt x="789" y="421"/>
                          <a:pt x="774" y="398"/>
                        </a:cubicBezTo>
                        <a:cubicBezTo>
                          <a:pt x="769" y="379"/>
                          <a:pt x="766" y="371"/>
                          <a:pt x="746" y="378"/>
                        </a:cubicBezTo>
                        <a:cubicBezTo>
                          <a:pt x="717" y="368"/>
                          <a:pt x="730" y="368"/>
                          <a:pt x="706" y="374"/>
                        </a:cubicBezTo>
                        <a:cubicBezTo>
                          <a:pt x="688" y="402"/>
                          <a:pt x="699" y="395"/>
                          <a:pt x="678" y="402"/>
                        </a:cubicBezTo>
                        <a:cubicBezTo>
                          <a:pt x="654" y="386"/>
                          <a:pt x="650" y="390"/>
                          <a:pt x="618" y="394"/>
                        </a:cubicBezTo>
                        <a:cubicBezTo>
                          <a:pt x="607" y="411"/>
                          <a:pt x="601" y="426"/>
                          <a:pt x="590" y="442"/>
                        </a:cubicBezTo>
                        <a:cubicBezTo>
                          <a:pt x="600" y="471"/>
                          <a:pt x="593" y="459"/>
                          <a:pt x="606" y="478"/>
                        </a:cubicBezTo>
                        <a:cubicBezTo>
                          <a:pt x="593" y="518"/>
                          <a:pt x="622" y="548"/>
                          <a:pt x="642" y="578"/>
                        </a:cubicBezTo>
                        <a:cubicBezTo>
                          <a:pt x="651" y="591"/>
                          <a:pt x="651" y="601"/>
                          <a:pt x="666" y="606"/>
                        </a:cubicBezTo>
                        <a:cubicBezTo>
                          <a:pt x="680" y="627"/>
                          <a:pt x="691" y="623"/>
                          <a:pt x="710" y="610"/>
                        </a:cubicBezTo>
                        <a:cubicBezTo>
                          <a:pt x="729" y="616"/>
                          <a:pt x="729" y="606"/>
                          <a:pt x="734" y="590"/>
                        </a:cubicBezTo>
                        <a:cubicBezTo>
                          <a:pt x="735" y="577"/>
                          <a:pt x="731" y="562"/>
                          <a:pt x="738" y="550"/>
                        </a:cubicBezTo>
                        <a:cubicBezTo>
                          <a:pt x="742" y="543"/>
                          <a:pt x="762" y="542"/>
                          <a:pt x="762" y="542"/>
                        </a:cubicBezTo>
                        <a:cubicBezTo>
                          <a:pt x="783" y="547"/>
                          <a:pt x="786" y="552"/>
                          <a:pt x="774" y="570"/>
                        </a:cubicBezTo>
                        <a:cubicBezTo>
                          <a:pt x="779" y="590"/>
                          <a:pt x="790" y="605"/>
                          <a:pt x="770" y="618"/>
                        </a:cubicBezTo>
                        <a:cubicBezTo>
                          <a:pt x="769" y="622"/>
                          <a:pt x="764" y="626"/>
                          <a:pt x="766" y="630"/>
                        </a:cubicBezTo>
                        <a:cubicBezTo>
                          <a:pt x="768" y="634"/>
                          <a:pt x="775" y="634"/>
                          <a:pt x="778" y="638"/>
                        </a:cubicBezTo>
                        <a:cubicBezTo>
                          <a:pt x="788" y="651"/>
                          <a:pt x="786" y="660"/>
                          <a:pt x="802" y="670"/>
                        </a:cubicBezTo>
                        <a:cubicBezTo>
                          <a:pt x="810" y="667"/>
                          <a:pt x="818" y="665"/>
                          <a:pt x="826" y="662"/>
                        </a:cubicBezTo>
                        <a:cubicBezTo>
                          <a:pt x="830" y="661"/>
                          <a:pt x="838" y="658"/>
                          <a:pt x="838" y="658"/>
                        </a:cubicBezTo>
                        <a:cubicBezTo>
                          <a:pt x="857" y="664"/>
                          <a:pt x="864" y="680"/>
                          <a:pt x="870" y="698"/>
                        </a:cubicBezTo>
                        <a:cubicBezTo>
                          <a:pt x="859" y="731"/>
                          <a:pt x="887" y="794"/>
                          <a:pt x="922" y="806"/>
                        </a:cubicBezTo>
                        <a:cubicBezTo>
                          <a:pt x="938" y="801"/>
                          <a:pt x="941" y="792"/>
                          <a:pt x="958" y="798"/>
                        </a:cubicBezTo>
                        <a:cubicBezTo>
                          <a:pt x="984" y="837"/>
                          <a:pt x="928" y="784"/>
                          <a:pt x="942" y="826"/>
                        </a:cubicBezTo>
                        <a:cubicBezTo>
                          <a:pt x="936" y="844"/>
                          <a:pt x="930" y="844"/>
                          <a:pt x="914" y="834"/>
                        </a:cubicBezTo>
                        <a:cubicBezTo>
                          <a:pt x="903" y="817"/>
                          <a:pt x="890" y="821"/>
                          <a:pt x="874" y="810"/>
                        </a:cubicBezTo>
                        <a:cubicBezTo>
                          <a:pt x="851" y="776"/>
                          <a:pt x="882" y="816"/>
                          <a:pt x="854" y="794"/>
                        </a:cubicBezTo>
                        <a:cubicBezTo>
                          <a:pt x="843" y="785"/>
                          <a:pt x="840" y="768"/>
                          <a:pt x="830" y="758"/>
                        </a:cubicBezTo>
                        <a:cubicBezTo>
                          <a:pt x="824" y="739"/>
                          <a:pt x="817" y="724"/>
                          <a:pt x="798" y="718"/>
                        </a:cubicBezTo>
                        <a:cubicBezTo>
                          <a:pt x="791" y="696"/>
                          <a:pt x="800" y="712"/>
                          <a:pt x="778" y="710"/>
                        </a:cubicBezTo>
                        <a:cubicBezTo>
                          <a:pt x="767" y="709"/>
                          <a:pt x="746" y="702"/>
                          <a:pt x="746" y="702"/>
                        </a:cubicBezTo>
                        <a:cubicBezTo>
                          <a:pt x="729" y="691"/>
                          <a:pt x="720" y="674"/>
                          <a:pt x="702" y="662"/>
                        </a:cubicBezTo>
                        <a:cubicBezTo>
                          <a:pt x="694" y="665"/>
                          <a:pt x="687" y="673"/>
                          <a:pt x="678" y="674"/>
                        </a:cubicBezTo>
                        <a:cubicBezTo>
                          <a:pt x="657" y="677"/>
                          <a:pt x="630" y="657"/>
                          <a:pt x="614" y="646"/>
                        </a:cubicBezTo>
                        <a:cubicBezTo>
                          <a:pt x="600" y="637"/>
                          <a:pt x="580" y="639"/>
                          <a:pt x="566" y="630"/>
                        </a:cubicBezTo>
                        <a:cubicBezTo>
                          <a:pt x="546" y="617"/>
                          <a:pt x="525" y="607"/>
                          <a:pt x="506" y="594"/>
                        </a:cubicBezTo>
                        <a:cubicBezTo>
                          <a:pt x="513" y="572"/>
                          <a:pt x="509" y="551"/>
                          <a:pt x="490" y="538"/>
                        </a:cubicBezTo>
                        <a:cubicBezTo>
                          <a:pt x="485" y="522"/>
                          <a:pt x="476" y="515"/>
                          <a:pt x="462" y="506"/>
                        </a:cubicBezTo>
                        <a:cubicBezTo>
                          <a:pt x="441" y="474"/>
                          <a:pt x="469" y="513"/>
                          <a:pt x="442" y="486"/>
                        </a:cubicBezTo>
                        <a:cubicBezTo>
                          <a:pt x="436" y="480"/>
                          <a:pt x="436" y="468"/>
                          <a:pt x="430" y="462"/>
                        </a:cubicBezTo>
                        <a:cubicBezTo>
                          <a:pt x="427" y="459"/>
                          <a:pt x="422" y="459"/>
                          <a:pt x="418" y="458"/>
                        </a:cubicBezTo>
                        <a:cubicBezTo>
                          <a:pt x="407" y="447"/>
                          <a:pt x="382" y="430"/>
                          <a:pt x="382" y="430"/>
                        </a:cubicBezTo>
                        <a:cubicBezTo>
                          <a:pt x="371" y="413"/>
                          <a:pt x="358" y="399"/>
                          <a:pt x="346" y="382"/>
                        </a:cubicBezTo>
                        <a:cubicBezTo>
                          <a:pt x="344" y="378"/>
                          <a:pt x="345" y="373"/>
                          <a:pt x="342" y="370"/>
                        </a:cubicBezTo>
                        <a:cubicBezTo>
                          <a:pt x="339" y="367"/>
                          <a:pt x="334" y="367"/>
                          <a:pt x="330" y="366"/>
                        </a:cubicBezTo>
                        <a:cubicBezTo>
                          <a:pt x="322" y="390"/>
                          <a:pt x="342" y="398"/>
                          <a:pt x="354" y="414"/>
                        </a:cubicBezTo>
                        <a:cubicBezTo>
                          <a:pt x="368" y="432"/>
                          <a:pt x="372" y="446"/>
                          <a:pt x="390" y="458"/>
                        </a:cubicBezTo>
                        <a:cubicBezTo>
                          <a:pt x="409" y="487"/>
                          <a:pt x="399" y="475"/>
                          <a:pt x="418" y="494"/>
                        </a:cubicBezTo>
                        <a:cubicBezTo>
                          <a:pt x="423" y="510"/>
                          <a:pt x="428" y="517"/>
                          <a:pt x="442" y="526"/>
                        </a:cubicBezTo>
                        <a:cubicBezTo>
                          <a:pt x="450" y="550"/>
                          <a:pt x="432" y="533"/>
                          <a:pt x="422" y="526"/>
                        </a:cubicBezTo>
                        <a:cubicBezTo>
                          <a:pt x="399" y="492"/>
                          <a:pt x="430" y="532"/>
                          <a:pt x="402" y="510"/>
                        </a:cubicBezTo>
                        <a:cubicBezTo>
                          <a:pt x="398" y="507"/>
                          <a:pt x="397" y="501"/>
                          <a:pt x="394" y="498"/>
                        </a:cubicBezTo>
                        <a:cubicBezTo>
                          <a:pt x="391" y="495"/>
                          <a:pt x="386" y="493"/>
                          <a:pt x="382" y="490"/>
                        </a:cubicBezTo>
                        <a:cubicBezTo>
                          <a:pt x="377" y="474"/>
                          <a:pt x="370" y="471"/>
                          <a:pt x="354" y="466"/>
                        </a:cubicBezTo>
                        <a:cubicBezTo>
                          <a:pt x="344" y="452"/>
                          <a:pt x="340" y="447"/>
                          <a:pt x="346" y="430"/>
                        </a:cubicBezTo>
                        <a:cubicBezTo>
                          <a:pt x="338" y="418"/>
                          <a:pt x="314" y="402"/>
                          <a:pt x="314" y="402"/>
                        </a:cubicBezTo>
                        <a:cubicBezTo>
                          <a:pt x="306" y="390"/>
                          <a:pt x="298" y="378"/>
                          <a:pt x="290" y="366"/>
                        </a:cubicBezTo>
                        <a:cubicBezTo>
                          <a:pt x="284" y="357"/>
                          <a:pt x="273" y="354"/>
                          <a:pt x="266" y="346"/>
                        </a:cubicBezTo>
                        <a:cubicBezTo>
                          <a:pt x="263" y="342"/>
                          <a:pt x="262" y="337"/>
                          <a:pt x="258" y="334"/>
                        </a:cubicBezTo>
                        <a:cubicBezTo>
                          <a:pt x="243" y="324"/>
                          <a:pt x="225" y="324"/>
                          <a:pt x="210" y="314"/>
                        </a:cubicBezTo>
                        <a:cubicBezTo>
                          <a:pt x="201" y="300"/>
                          <a:pt x="194" y="291"/>
                          <a:pt x="178" y="286"/>
                        </a:cubicBezTo>
                        <a:cubicBezTo>
                          <a:pt x="160" y="260"/>
                          <a:pt x="192" y="247"/>
                          <a:pt x="154" y="238"/>
                        </a:cubicBezTo>
                        <a:cubicBezTo>
                          <a:pt x="111" y="209"/>
                          <a:pt x="106" y="149"/>
                          <a:pt x="90" y="102"/>
                        </a:cubicBezTo>
                        <a:cubicBezTo>
                          <a:pt x="86" y="90"/>
                          <a:pt x="76" y="73"/>
                          <a:pt x="66" y="66"/>
                        </a:cubicBezTo>
                        <a:cubicBezTo>
                          <a:pt x="58" y="60"/>
                          <a:pt x="42" y="50"/>
                          <a:pt x="42" y="50"/>
                        </a:cubicBezTo>
                        <a:cubicBezTo>
                          <a:pt x="39" y="46"/>
                          <a:pt x="38" y="41"/>
                          <a:pt x="34" y="38"/>
                        </a:cubicBezTo>
                        <a:cubicBezTo>
                          <a:pt x="27" y="34"/>
                          <a:pt x="10" y="30"/>
                          <a:pt x="10" y="30"/>
                        </a:cubicBezTo>
                        <a:cubicBezTo>
                          <a:pt x="0" y="1"/>
                          <a:pt x="31" y="17"/>
                          <a:pt x="46" y="22"/>
                        </a:cubicBezTo>
                        <a:cubicBezTo>
                          <a:pt x="65" y="51"/>
                          <a:pt x="61" y="41"/>
                          <a:pt x="86" y="58"/>
                        </a:cubicBezTo>
                        <a:cubicBezTo>
                          <a:pt x="94" y="70"/>
                          <a:pt x="94" y="93"/>
                          <a:pt x="102" y="70"/>
                        </a:cubicBezTo>
                        <a:cubicBezTo>
                          <a:pt x="95" y="49"/>
                          <a:pt x="82" y="62"/>
                          <a:pt x="82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4" name="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8">
                        <a:moveTo>
                          <a:pt x="6" y="28"/>
                        </a:moveTo>
                        <a:cubicBezTo>
                          <a:pt x="25" y="0"/>
                          <a:pt x="36" y="31"/>
                          <a:pt x="10" y="48"/>
                        </a:cubicBezTo>
                        <a:cubicBezTo>
                          <a:pt x="0" y="34"/>
                          <a:pt x="0" y="40"/>
                          <a:pt x="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37">
                        <a:moveTo>
                          <a:pt x="0" y="5"/>
                        </a:moveTo>
                        <a:cubicBezTo>
                          <a:pt x="4" y="4"/>
                          <a:pt x="8" y="0"/>
                          <a:pt x="12" y="1"/>
                        </a:cubicBezTo>
                        <a:cubicBezTo>
                          <a:pt x="21" y="4"/>
                          <a:pt x="36" y="17"/>
                          <a:pt x="36" y="17"/>
                        </a:cubicBezTo>
                        <a:cubicBezTo>
                          <a:pt x="29" y="37"/>
                          <a:pt x="22" y="26"/>
                          <a:pt x="8" y="17"/>
                        </a:cubicBezTo>
                        <a:cubicBezTo>
                          <a:pt x="5" y="13"/>
                          <a:pt x="0" y="5"/>
                          <a:pt x="0" y="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6" name="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0" h="96">
                        <a:moveTo>
                          <a:pt x="0" y="49"/>
                        </a:moveTo>
                        <a:cubicBezTo>
                          <a:pt x="5" y="33"/>
                          <a:pt x="12" y="30"/>
                          <a:pt x="28" y="25"/>
                        </a:cubicBezTo>
                        <a:cubicBezTo>
                          <a:pt x="20" y="0"/>
                          <a:pt x="42" y="16"/>
                          <a:pt x="56" y="21"/>
                        </a:cubicBezTo>
                        <a:cubicBezTo>
                          <a:pt x="56" y="21"/>
                          <a:pt x="77" y="6"/>
                          <a:pt x="80" y="9"/>
                        </a:cubicBezTo>
                        <a:cubicBezTo>
                          <a:pt x="85" y="14"/>
                          <a:pt x="71" y="23"/>
                          <a:pt x="64" y="25"/>
                        </a:cubicBezTo>
                        <a:cubicBezTo>
                          <a:pt x="82" y="37"/>
                          <a:pt x="103" y="42"/>
                          <a:pt x="124" y="49"/>
                        </a:cubicBezTo>
                        <a:cubicBezTo>
                          <a:pt x="136" y="53"/>
                          <a:pt x="160" y="65"/>
                          <a:pt x="160" y="65"/>
                        </a:cubicBezTo>
                        <a:cubicBezTo>
                          <a:pt x="170" y="96"/>
                          <a:pt x="134" y="83"/>
                          <a:pt x="116" y="77"/>
                        </a:cubicBezTo>
                        <a:cubicBezTo>
                          <a:pt x="109" y="57"/>
                          <a:pt x="116" y="66"/>
                          <a:pt x="88" y="57"/>
                        </a:cubicBezTo>
                        <a:cubicBezTo>
                          <a:pt x="84" y="56"/>
                          <a:pt x="76" y="53"/>
                          <a:pt x="76" y="53"/>
                        </a:cubicBezTo>
                        <a:cubicBezTo>
                          <a:pt x="57" y="34"/>
                          <a:pt x="53" y="37"/>
                          <a:pt x="24" y="41"/>
                        </a:cubicBezTo>
                        <a:cubicBezTo>
                          <a:pt x="9" y="51"/>
                          <a:pt x="17" y="49"/>
                          <a:pt x="0" y="4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7" name="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44">
                        <a:moveTo>
                          <a:pt x="0" y="0"/>
                        </a:moveTo>
                        <a:cubicBezTo>
                          <a:pt x="19" y="3"/>
                          <a:pt x="35" y="10"/>
                          <a:pt x="52" y="4"/>
                        </a:cubicBezTo>
                        <a:cubicBezTo>
                          <a:pt x="87" y="11"/>
                          <a:pt x="61" y="15"/>
                          <a:pt x="88" y="24"/>
                        </a:cubicBezTo>
                        <a:cubicBezTo>
                          <a:pt x="96" y="23"/>
                          <a:pt x="104" y="19"/>
                          <a:pt x="112" y="20"/>
                        </a:cubicBezTo>
                        <a:cubicBezTo>
                          <a:pt x="138" y="23"/>
                          <a:pt x="118" y="41"/>
                          <a:pt x="108" y="44"/>
                        </a:cubicBezTo>
                        <a:cubicBezTo>
                          <a:pt x="78" y="34"/>
                          <a:pt x="92" y="34"/>
                          <a:pt x="64" y="40"/>
                        </a:cubicBezTo>
                        <a:cubicBezTo>
                          <a:pt x="41" y="37"/>
                          <a:pt x="22" y="41"/>
                          <a:pt x="0" y="36"/>
                        </a:cubicBezTo>
                        <a:cubicBezTo>
                          <a:pt x="6" y="11"/>
                          <a:pt x="7" y="27"/>
                          <a:pt x="28" y="20"/>
                        </a:cubicBezTo>
                        <a:cubicBezTo>
                          <a:pt x="17" y="13"/>
                          <a:pt x="0" y="13"/>
                          <a:pt x="0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42">
                        <a:moveTo>
                          <a:pt x="17" y="25"/>
                        </a:moveTo>
                        <a:cubicBezTo>
                          <a:pt x="0" y="0"/>
                          <a:pt x="21" y="9"/>
                          <a:pt x="37" y="13"/>
                        </a:cubicBezTo>
                        <a:cubicBezTo>
                          <a:pt x="57" y="42"/>
                          <a:pt x="30" y="25"/>
                          <a:pt x="1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9" name="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2">
                        <a:moveTo>
                          <a:pt x="19" y="32"/>
                        </a:moveTo>
                        <a:cubicBezTo>
                          <a:pt x="13" y="14"/>
                          <a:pt x="0" y="13"/>
                          <a:pt x="19" y="0"/>
                        </a:cubicBezTo>
                        <a:cubicBezTo>
                          <a:pt x="23" y="5"/>
                          <a:pt x="39" y="52"/>
                          <a:pt x="19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0" name="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80">
                        <a:moveTo>
                          <a:pt x="4" y="9"/>
                        </a:moveTo>
                        <a:cubicBezTo>
                          <a:pt x="9" y="17"/>
                          <a:pt x="18" y="24"/>
                          <a:pt x="20" y="33"/>
                        </a:cubicBezTo>
                        <a:cubicBezTo>
                          <a:pt x="21" y="38"/>
                          <a:pt x="21" y="45"/>
                          <a:pt x="24" y="49"/>
                        </a:cubicBezTo>
                        <a:cubicBezTo>
                          <a:pt x="27" y="52"/>
                          <a:pt x="32" y="52"/>
                          <a:pt x="36" y="53"/>
                        </a:cubicBezTo>
                        <a:cubicBezTo>
                          <a:pt x="41" y="68"/>
                          <a:pt x="44" y="80"/>
                          <a:pt x="24" y="73"/>
                        </a:cubicBezTo>
                        <a:cubicBezTo>
                          <a:pt x="19" y="55"/>
                          <a:pt x="11" y="37"/>
                          <a:pt x="0" y="21"/>
                        </a:cubicBezTo>
                        <a:cubicBezTo>
                          <a:pt x="4" y="4"/>
                          <a:pt x="4" y="0"/>
                          <a:pt x="4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3" h="64">
                        <a:moveTo>
                          <a:pt x="220" y="1"/>
                        </a:moveTo>
                        <a:cubicBezTo>
                          <a:pt x="215" y="12"/>
                          <a:pt x="225" y="17"/>
                          <a:pt x="231" y="8"/>
                        </a:cubicBezTo>
                        <a:cubicBezTo>
                          <a:pt x="235" y="0"/>
                          <a:pt x="229" y="7"/>
                          <a:pt x="235" y="0"/>
                        </a:cubicBezTo>
                        <a:lnTo>
                          <a:pt x="265" y="0"/>
                        </a:lnTo>
                        <a:cubicBezTo>
                          <a:pt x="277" y="6"/>
                          <a:pt x="276" y="11"/>
                          <a:pt x="287" y="17"/>
                        </a:cubicBezTo>
                        <a:cubicBezTo>
                          <a:pt x="308" y="11"/>
                          <a:pt x="293" y="7"/>
                          <a:pt x="319" y="10"/>
                        </a:cubicBezTo>
                        <a:cubicBezTo>
                          <a:pt x="323" y="19"/>
                          <a:pt x="321" y="22"/>
                          <a:pt x="314" y="29"/>
                        </a:cubicBezTo>
                        <a:cubicBezTo>
                          <a:pt x="312" y="39"/>
                          <a:pt x="313" y="50"/>
                          <a:pt x="298" y="46"/>
                        </a:cubicBezTo>
                        <a:cubicBezTo>
                          <a:pt x="297" y="40"/>
                          <a:pt x="298" y="34"/>
                          <a:pt x="295" y="29"/>
                        </a:cubicBezTo>
                        <a:cubicBezTo>
                          <a:pt x="294" y="27"/>
                          <a:pt x="290" y="31"/>
                          <a:pt x="287" y="31"/>
                        </a:cubicBezTo>
                        <a:cubicBezTo>
                          <a:pt x="284" y="31"/>
                          <a:pt x="282" y="30"/>
                          <a:pt x="279" y="29"/>
                        </a:cubicBezTo>
                        <a:cubicBezTo>
                          <a:pt x="274" y="27"/>
                          <a:pt x="263" y="21"/>
                          <a:pt x="263" y="21"/>
                        </a:cubicBezTo>
                        <a:cubicBezTo>
                          <a:pt x="249" y="23"/>
                          <a:pt x="241" y="31"/>
                          <a:pt x="228" y="38"/>
                        </a:cubicBezTo>
                        <a:cubicBezTo>
                          <a:pt x="220" y="41"/>
                          <a:pt x="209" y="42"/>
                          <a:pt x="201" y="44"/>
                        </a:cubicBezTo>
                        <a:cubicBezTo>
                          <a:pt x="193" y="54"/>
                          <a:pt x="200" y="53"/>
                          <a:pt x="212" y="57"/>
                        </a:cubicBezTo>
                        <a:cubicBezTo>
                          <a:pt x="200" y="62"/>
                          <a:pt x="199" y="57"/>
                          <a:pt x="188" y="63"/>
                        </a:cubicBezTo>
                        <a:cubicBezTo>
                          <a:pt x="181" y="62"/>
                          <a:pt x="174" y="64"/>
                          <a:pt x="169" y="61"/>
                        </a:cubicBezTo>
                        <a:cubicBezTo>
                          <a:pt x="166" y="59"/>
                          <a:pt x="175" y="59"/>
                          <a:pt x="177" y="57"/>
                        </a:cubicBezTo>
                        <a:cubicBezTo>
                          <a:pt x="181" y="48"/>
                          <a:pt x="149" y="28"/>
                          <a:pt x="171" y="40"/>
                        </a:cubicBezTo>
                        <a:cubicBezTo>
                          <a:pt x="184" y="55"/>
                          <a:pt x="184" y="36"/>
                          <a:pt x="169" y="31"/>
                        </a:cubicBezTo>
                        <a:cubicBezTo>
                          <a:pt x="167" y="27"/>
                          <a:pt x="167" y="22"/>
                          <a:pt x="158" y="23"/>
                        </a:cubicBezTo>
                        <a:cubicBezTo>
                          <a:pt x="153" y="23"/>
                          <a:pt x="142" y="27"/>
                          <a:pt x="142" y="27"/>
                        </a:cubicBezTo>
                        <a:cubicBezTo>
                          <a:pt x="136" y="39"/>
                          <a:pt x="143" y="31"/>
                          <a:pt x="134" y="27"/>
                        </a:cubicBezTo>
                        <a:cubicBezTo>
                          <a:pt x="130" y="25"/>
                          <a:pt x="126" y="25"/>
                          <a:pt x="123" y="25"/>
                        </a:cubicBezTo>
                        <a:cubicBezTo>
                          <a:pt x="117" y="11"/>
                          <a:pt x="100" y="6"/>
                          <a:pt x="83" y="2"/>
                        </a:cubicBezTo>
                        <a:cubicBezTo>
                          <a:pt x="70" y="4"/>
                          <a:pt x="69" y="9"/>
                          <a:pt x="59" y="14"/>
                        </a:cubicBezTo>
                        <a:cubicBezTo>
                          <a:pt x="45" y="14"/>
                          <a:pt x="0" y="12"/>
                          <a:pt x="1" y="0"/>
                        </a:cubicBezTo>
                        <a:lnTo>
                          <a:pt x="220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0" bIns="18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2" name="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31">
                        <a:moveTo>
                          <a:pt x="105" y="31"/>
                        </a:moveTo>
                        <a:cubicBezTo>
                          <a:pt x="83" y="19"/>
                          <a:pt x="0" y="6"/>
                          <a:pt x="30" y="1"/>
                        </a:cubicBezTo>
                        <a:lnTo>
                          <a:pt x="285" y="0"/>
                        </a:lnTo>
                        <a:cubicBezTo>
                          <a:pt x="296" y="4"/>
                          <a:pt x="300" y="5"/>
                          <a:pt x="296" y="14"/>
                        </a:cubicBezTo>
                        <a:cubicBezTo>
                          <a:pt x="285" y="11"/>
                          <a:pt x="276" y="16"/>
                          <a:pt x="264" y="16"/>
                        </a:cubicBezTo>
                        <a:lnTo>
                          <a:pt x="105" y="3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3" name="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6" h="152">
                        <a:moveTo>
                          <a:pt x="73" y="1"/>
                        </a:moveTo>
                        <a:lnTo>
                          <a:pt x="436" y="0"/>
                        </a:lnTo>
                        <a:cubicBezTo>
                          <a:pt x="430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5" name="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6" name="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8" name="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9" name="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1" name="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2" name="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4" name="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5" name="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7" name="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1" name="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3" name="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65" name="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6" name="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7" name="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" name="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" name="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1" name="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3" name="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4" name="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8" h="152">
                        <a:moveTo>
                          <a:pt x="73" y="1"/>
                        </a:moveTo>
                        <a:lnTo>
                          <a:pt x="438" y="0"/>
                        </a:lnTo>
                        <a:cubicBezTo>
                          <a:pt x="432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320" bIns="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9" name="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5" name="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8" name="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08" name="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09" name="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" name="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pic>
          <p:nvPicPr>
            <p:cNvPr id="156" name="" descr=""/>
            <p:cNvPicPr/>
            <p:nvPr/>
          </p:nvPicPr>
          <p:blipFill>
            <a:blip r:embed="rId4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"/>
          <p:cNvGrpSpPr/>
          <p:nvPr/>
        </p:nvGrpSpPr>
        <p:grpSpPr>
          <a:xfrm>
            <a:off x="0" y="-19080"/>
            <a:ext cx="9144000" cy="6877080"/>
            <a:chOff x="0" y="-19080"/>
            <a:chExt cx="9144000" cy="6877080"/>
          </a:xfrm>
        </p:grpSpPr>
        <p:sp>
          <p:nvSpPr>
            <p:cNvPr id="194" name=""/>
            <p:cNvSpPr/>
            <p:nvPr/>
          </p:nvSpPr>
          <p:spPr>
            <a:xfrm>
              <a:off x="1752480" y="1600200"/>
              <a:ext cx="7391520" cy="5257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5" name=""/>
            <p:cNvGrpSpPr/>
            <p:nvPr/>
          </p:nvGrpSpPr>
          <p:grpSpPr>
            <a:xfrm>
              <a:off x="0" y="-19080"/>
              <a:ext cx="9144000" cy="1658880"/>
              <a:chOff x="0" y="-19080"/>
              <a:chExt cx="9144000" cy="1658880"/>
            </a:xfrm>
          </p:grpSpPr>
          <p:sp>
            <p:nvSpPr>
              <p:cNvPr id="196" name=""/>
              <p:cNvSpPr/>
              <p:nvPr/>
            </p:nvSpPr>
            <p:spPr>
              <a:xfrm>
                <a:off x="0" y="1800"/>
                <a:ext cx="9144000" cy="16380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32"/>
                    </a:moveTo>
                    <a:lnTo>
                      <a:pt x="0" y="432"/>
                    </a:lnTo>
                    <a:lnTo>
                      <a:pt x="0" y="0"/>
                    </a:lnTo>
                    <a:lnTo>
                      <a:pt x="4848" y="0"/>
                    </a:lnTo>
                    <a:lnTo>
                      <a:pt x="4848" y="432"/>
                    </a:lnTo>
                    <a:close/>
                  </a:path>
                </a:pathLst>
              </a:cu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97" name=""/>
              <p:cNvGrpSpPr/>
              <p:nvPr/>
            </p:nvGrpSpPr>
            <p:grpSpPr>
              <a:xfrm>
                <a:off x="528480" y="-19080"/>
                <a:ext cx="8217000" cy="1657440"/>
                <a:chOff x="528480" y="-19080"/>
                <a:chExt cx="8217000" cy="1657440"/>
              </a:xfrm>
            </p:grpSpPr>
            <p:sp>
              <p:nvSpPr>
                <p:cNvPr id="198" name=""/>
                <p:cNvSpPr/>
                <p:nvPr/>
              </p:nvSpPr>
              <p:spPr>
                <a:xfrm>
                  <a:off x="5127480" y="150192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5407200" y="1606680"/>
                  <a:ext cx="33120" cy="3168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4618080" y="1436760"/>
                  <a:ext cx="49320" cy="5400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4049640" y="1487520"/>
                  <a:ext cx="39600" cy="1908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3878280" y="1509840"/>
                  <a:ext cx="103320" cy="6192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3770280" y="1506600"/>
                  <a:ext cx="108000" cy="6192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186000" y="1168560"/>
                  <a:ext cx="561960" cy="36180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3527280" y="1144800"/>
                  <a:ext cx="249480" cy="26496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3770280" y="1265400"/>
                  <a:ext cx="174600" cy="5076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3762360" y="1327320"/>
                  <a:ext cx="119160" cy="13320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3963960" y="1254240"/>
                  <a:ext cx="58680" cy="7776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3978360" y="1374840"/>
                  <a:ext cx="74520" cy="3816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4056120" y="1316160"/>
                  <a:ext cx="96840" cy="6660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4083120" y="1347840"/>
                  <a:ext cx="453960" cy="23652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4476600" y="1370160"/>
                  <a:ext cx="123840" cy="10152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4737240" y="1157400"/>
                  <a:ext cx="29880" cy="2232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4894200" y="1312920"/>
                  <a:ext cx="41400" cy="3024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4390920" y="963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4127400" y="1125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3836880" y="1074960"/>
                  <a:ext cx="127080" cy="10476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3795840" y="854280"/>
                  <a:ext cx="149040" cy="22536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3833640" y="1017720"/>
                  <a:ext cx="51120" cy="6516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3728880" y="1033560"/>
                  <a:ext cx="71640" cy="6516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7632720" y="943200"/>
                  <a:ext cx="1112760" cy="69516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6159600" y="-15840"/>
                  <a:ext cx="1562040" cy="109872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5678640" y="773280"/>
                  <a:ext cx="56880" cy="6192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634000" y="749520"/>
                  <a:ext cx="60480" cy="4608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7439040" y="620640"/>
                  <a:ext cx="271440" cy="12888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7726320" y="725400"/>
                  <a:ext cx="219240" cy="5904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7610400" y="757440"/>
                  <a:ext cx="88920" cy="5400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551720" y="590760"/>
                  <a:ext cx="58680" cy="6984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8023320" y="800280"/>
                  <a:ext cx="71280" cy="10476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6762600" y="4680"/>
                  <a:ext cx="762120" cy="15876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6087960" y="0"/>
                  <a:ext cx="708120" cy="7776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4529160" y="112680"/>
                  <a:ext cx="66600" cy="3996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2705040" y="0"/>
                  <a:ext cx="1622520" cy="59076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4332240" y="-19080"/>
                  <a:ext cx="74520" cy="2127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4287960" y="158760"/>
                  <a:ext cx="218880" cy="13356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4052880" y="284400"/>
                  <a:ext cx="297000" cy="27936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4249800" y="365040"/>
                  <a:ext cx="22320" cy="1620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2583000" y="555840"/>
                  <a:ext cx="1290600" cy="73332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2809800" y="1060560"/>
                  <a:ext cx="71640" cy="11268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3800520" y="679680"/>
                  <a:ext cx="66600" cy="9360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3989520" y="633600"/>
                  <a:ext cx="33120" cy="3816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528480" y="263520"/>
                  <a:ext cx="1611360" cy="137484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1154160" y="781200"/>
                  <a:ext cx="606240" cy="85716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2222640" y="1417680"/>
                  <a:ext cx="25200" cy="4608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2189160" y="974880"/>
                  <a:ext cx="33480" cy="270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719280" y="432000"/>
                  <a:ext cx="91800" cy="3816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1843200" y="74520"/>
                  <a:ext cx="1096920" cy="90360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1093680" y="4680"/>
                  <a:ext cx="2200320" cy="36864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1541520" y="139680"/>
                  <a:ext cx="47520" cy="399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1484280" y="193680"/>
                  <a:ext cx="71640" cy="4284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1716120" y="354240"/>
                  <a:ext cx="119160" cy="219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840" bIns="-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1920960" y="349200"/>
                  <a:ext cx="66600" cy="5904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1373040" y="190440"/>
                  <a:ext cx="52560" cy="381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4" name=""/>
              <p:cNvGrpSpPr/>
              <p:nvPr/>
            </p:nvGrpSpPr>
            <p:grpSpPr>
              <a:xfrm>
                <a:off x="11160" y="4680"/>
                <a:ext cx="9109800" cy="1621800"/>
                <a:chOff x="11160" y="4680"/>
                <a:chExt cx="9109800" cy="1621800"/>
              </a:xfrm>
            </p:grpSpPr>
            <p:sp>
              <p:nvSpPr>
                <p:cNvPr id="255" name=""/>
                <p:cNvSpPr/>
                <p:nvPr/>
              </p:nvSpPr>
              <p:spPr>
                <a:xfrm>
                  <a:off x="11160" y="862200"/>
                  <a:ext cx="91098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7477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15958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24447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32929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41410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49899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58381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6870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75351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83844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66" name=""/>
              <p:cNvGrpSpPr/>
              <p:nvPr/>
            </p:nvGrpSpPr>
            <p:grpSpPr>
              <a:xfrm>
                <a:off x="576360" y="-3240"/>
                <a:ext cx="7808040" cy="1640520"/>
                <a:chOff x="576360" y="-3240"/>
                <a:chExt cx="7808040" cy="1640520"/>
              </a:xfrm>
            </p:grpSpPr>
            <p:sp>
              <p:nvSpPr>
                <p:cNvPr id="267" name=""/>
                <p:cNvSpPr/>
                <p:nvPr/>
              </p:nvSpPr>
              <p:spPr>
                <a:xfrm>
                  <a:off x="6687360" y="0"/>
                  <a:ext cx="0" cy="55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7141320" y="861480"/>
                  <a:ext cx="2599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7535520" y="930960"/>
                  <a:ext cx="0" cy="109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8384400" y="1319040"/>
                  <a:ext cx="0" cy="307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4141080" y="15840"/>
                  <a:ext cx="0" cy="240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3292920" y="3600"/>
                  <a:ext cx="0" cy="13082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 flipH="1">
                  <a:off x="3195360" y="861480"/>
                  <a:ext cx="253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2697120" y="861480"/>
                  <a:ext cx="223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 flipH="1">
                  <a:off x="1953360" y="861480"/>
                  <a:ext cx="304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576360" y="861480"/>
                  <a:ext cx="1295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1587960" y="481320"/>
                  <a:ext cx="0" cy="11559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747360" y="550800"/>
                  <a:ext cx="0" cy="6051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 flipV="1">
                  <a:off x="1595520" y="-3240"/>
                  <a:ext cx="0" cy="1044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2444760" y="272160"/>
                  <a:ext cx="0" cy="3718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 flipV="1">
                  <a:off x="2444760" y="3240"/>
                  <a:ext cx="0" cy="85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pic>
          <p:nvPicPr>
            <p:cNvPr id="282" name="" descr=""/>
            <p:cNvPicPr/>
            <p:nvPr/>
          </p:nvPicPr>
          <p:blipFill>
            <a:blip r:embed="rId2"/>
            <a:stretch/>
          </p:blipFill>
          <p:spPr>
            <a:xfrm>
              <a:off x="533520" y="2486160"/>
              <a:ext cx="1095120" cy="1019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dt" idx="3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sldNum" idx="4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B6544-5797-4B86-92F2-128AE19E92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1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1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1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1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1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1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1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42640" y="2285640"/>
            <a:ext cx="76201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cc6600"/>
                </a:solidFill>
                <a:latin typeface="Times New Roman"/>
              </a:rPr>
              <a:t>Energy Community Gas Ring - </a:t>
            </a:r>
            <a:br>
              <a:rPr sz="3600"/>
            </a:br>
            <a:r>
              <a:rPr b="1" i="1" lang="en-GB" sz="3600" spc="-1" strike="noStrike">
                <a:solidFill>
                  <a:srgbClr val="cc6600"/>
                </a:solidFill>
                <a:latin typeface="Times New Roman"/>
              </a:rPr>
              <a:t>A Vision for SEE Gasification: </a:t>
            </a:r>
            <a:br>
              <a:rPr sz="3600"/>
            </a:br>
            <a:r>
              <a:rPr b="0" i="1" lang="en-GB" sz="2400" spc="-1" strike="noStrike">
                <a:solidFill>
                  <a:srgbClr val="cc6600"/>
                </a:solidFill>
                <a:latin typeface="Times New Roman"/>
              </a:rPr>
              <a:t>A presentation on the</a:t>
            </a:r>
            <a:r>
              <a:rPr b="1" i="1" lang="en-GB" sz="36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c6600"/>
                </a:solidFill>
                <a:latin typeface="Times New Roman"/>
              </a:rPr>
              <a:t>findings from the ongoing World Bank/Kfw SEE Gasification Study</a:t>
            </a:r>
            <a:endParaRPr b="0" i="1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977120" y="4724280"/>
            <a:ext cx="5510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Times New Roman"/>
              </a:rPr>
              <a:t>IFIAG Energy Group Mee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Times New Roman"/>
              </a:rPr>
              <a:t>September, 2007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0" name=""/>
          <p:cNvGrpSpPr/>
          <p:nvPr/>
        </p:nvGrpSpPr>
        <p:grpSpPr>
          <a:xfrm>
            <a:off x="41400" y="955800"/>
            <a:ext cx="8922960" cy="5640480"/>
            <a:chOff x="41400" y="955800"/>
            <a:chExt cx="8922960" cy="5640480"/>
          </a:xfrm>
        </p:grpSpPr>
        <p:grpSp>
          <p:nvGrpSpPr>
            <p:cNvPr id="411" name=""/>
            <p:cNvGrpSpPr/>
            <p:nvPr/>
          </p:nvGrpSpPr>
          <p:grpSpPr>
            <a:xfrm>
              <a:off x="41400" y="955800"/>
              <a:ext cx="8883720" cy="5640480"/>
              <a:chOff x="41400" y="955800"/>
              <a:chExt cx="8883720" cy="5640480"/>
            </a:xfrm>
          </p:grpSpPr>
          <p:pic>
            <p:nvPicPr>
              <p:cNvPr id="412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6080" y="960480"/>
                <a:ext cx="8872560" cy="5629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3" name=""/>
              <p:cNvSpPr/>
              <p:nvPr/>
            </p:nvSpPr>
            <p:spPr>
              <a:xfrm>
                <a:off x="41400" y="955800"/>
                <a:ext cx="8883720" cy="5640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14" name=""/>
            <p:cNvSpPr/>
            <p:nvPr/>
          </p:nvSpPr>
          <p:spPr>
            <a:xfrm>
              <a:off x="3616560" y="4010040"/>
              <a:ext cx="450720" cy="344520"/>
            </a:xfrm>
            <a:custGeom>
              <a:avLst/>
              <a:gdLst/>
              <a:ahLst/>
              <a:rect l="l" t="t" r="r" b="b"/>
              <a:pathLst>
                <a:path w="284" h="217">
                  <a:moveTo>
                    <a:pt x="284" y="217"/>
                  </a:moveTo>
                  <a:cubicBezTo>
                    <a:pt x="257" y="160"/>
                    <a:pt x="231" y="103"/>
                    <a:pt x="184" y="67"/>
                  </a:cubicBezTo>
                  <a:cubicBezTo>
                    <a:pt x="137" y="31"/>
                    <a:pt x="31" y="14"/>
                    <a:pt x="0" y="0"/>
                  </a:cubicBezTo>
                </a:path>
              </a:pathLst>
            </a:custGeom>
            <a:noFill/>
            <a:ln w="28440">
              <a:solidFill>
                <a:srgbClr val="b5e0e3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5" name=""/>
            <p:cNvSpPr/>
            <p:nvPr/>
          </p:nvSpPr>
          <p:spPr>
            <a:xfrm rot="120000">
              <a:off x="4934520" y="2381040"/>
              <a:ext cx="12625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8000"/>
                  </a:solidFill>
                  <a:latin typeface="Arial Narrow"/>
                </a:rPr>
                <a:t>White Stream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6" name=""/>
            <p:cNvSpPr/>
            <p:nvPr/>
          </p:nvSpPr>
          <p:spPr>
            <a:xfrm rot="1924800">
              <a:off x="1454760" y="1604880"/>
              <a:ext cx="12855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Nabucco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7" name=""/>
            <p:cNvSpPr/>
            <p:nvPr/>
          </p:nvSpPr>
          <p:spPr>
            <a:xfrm rot="2580000">
              <a:off x="2634840" y="1801800"/>
              <a:ext cx="5446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Arial Narrow"/>
                </a:rPr>
                <a:t>‘</a:t>
              </a:r>
              <a:r>
                <a:rPr b="0" i="1" lang="en-US" sz="2000" spc="-1" strike="noStrike">
                  <a:solidFill>
                    <a:srgbClr val="ff0000"/>
                  </a:solidFill>
                  <a:latin typeface="Arial Narrow"/>
                </a:rPr>
                <a:t>Nord’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76280" y="4116600"/>
              <a:ext cx="445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8000"/>
                  </a:solidFill>
                  <a:latin typeface="Arial"/>
                </a:rPr>
                <a:t>TAP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262160" y="4730760"/>
              <a:ext cx="5904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419840" y="4832640"/>
              <a:ext cx="383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8000"/>
                  </a:solidFill>
                  <a:latin typeface="Arial"/>
                </a:rPr>
                <a:t>TGI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21" name=""/>
            <p:cNvGrpSpPr/>
            <p:nvPr/>
          </p:nvGrpSpPr>
          <p:grpSpPr>
            <a:xfrm>
              <a:off x="8247240" y="3017880"/>
              <a:ext cx="693720" cy="795600"/>
              <a:chOff x="8247240" y="3017880"/>
              <a:chExt cx="693720" cy="795600"/>
            </a:xfrm>
          </p:grpSpPr>
          <p:sp>
            <p:nvSpPr>
              <p:cNvPr id="422" name=""/>
              <p:cNvSpPr/>
              <p:nvPr/>
            </p:nvSpPr>
            <p:spPr>
              <a:xfrm>
                <a:off x="8247240" y="3017880"/>
                <a:ext cx="693720" cy="795600"/>
              </a:xfrm>
              <a:custGeom>
                <a:avLst/>
                <a:gdLst/>
                <a:ahLst/>
                <a:rect l="l" t="t" r="r" b="b"/>
                <a:pathLst>
                  <a:path w="437" h="501">
                    <a:moveTo>
                      <a:pt x="437" y="12"/>
                    </a:moveTo>
                    <a:lnTo>
                      <a:pt x="424" y="0"/>
                    </a:lnTo>
                    <a:lnTo>
                      <a:pt x="0" y="489"/>
                    </a:lnTo>
                    <a:lnTo>
                      <a:pt x="13" y="501"/>
                    </a:lnTo>
                    <a:lnTo>
                      <a:pt x="437" y="12"/>
                    </a:lnTo>
                    <a:close/>
                  </a:path>
                </a:pathLst>
              </a:custGeom>
              <a:solidFill>
                <a:srgbClr val="66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rot="18540000">
                <a:off x="8379000" y="3303000"/>
                <a:ext cx="2109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4d4d4d"/>
                    </a:solidFill>
                    <a:latin typeface="Arial"/>
                  </a:rPr>
                  <a:t>SCP</a:t>
                </a:r>
                <a:endParaRPr b="0" lang="en-US" sz="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24" name=""/>
            <p:cNvSpPr/>
            <p:nvPr/>
          </p:nvSpPr>
          <p:spPr>
            <a:xfrm rot="780000">
              <a:off x="1215720" y="2156040"/>
              <a:ext cx="55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Arial Narrow"/>
                </a:rPr>
                <a:t>‘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"/>
            <p:cNvSpPr/>
            <p:nvPr/>
          </p:nvSpPr>
          <p:spPr>
            <a:xfrm rot="1079400">
              <a:off x="1423440" y="2646000"/>
              <a:ext cx="886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Arial Narrow"/>
                </a:rPr>
                <a:t>Blueline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"/>
            <p:cNvSpPr/>
            <p:nvPr/>
          </p:nvSpPr>
          <p:spPr>
            <a:xfrm rot="780000">
              <a:off x="2136600" y="2382840"/>
              <a:ext cx="55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Arial Narrow"/>
                </a:rPr>
                <a:t>’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487520" y="2320920"/>
              <a:ext cx="6010200" cy="2009880"/>
            </a:xfrm>
            <a:custGeom>
              <a:avLst/>
              <a:gdLst/>
              <a:ahLst/>
              <a:rect l="l" t="t" r="r" b="b"/>
              <a:pathLst>
                <a:path w="3786" h="1266">
                  <a:moveTo>
                    <a:pt x="3786" y="0"/>
                  </a:moveTo>
                  <a:lnTo>
                    <a:pt x="1704" y="636"/>
                  </a:lnTo>
                  <a:lnTo>
                    <a:pt x="0" y="1266"/>
                  </a:lnTo>
                </a:path>
              </a:pathLst>
            </a:custGeom>
            <a:noFill/>
            <a:ln cap="rnd" w="38160">
              <a:solidFill>
                <a:srgbClr val="ff0000"/>
              </a:solidFill>
              <a:custDash>
                <a:ds d="100000" sp="1000"/>
              </a:custDash>
              <a:round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744920" y="1063800"/>
              <a:ext cx="2428560" cy="2257560"/>
            </a:xfrm>
            <a:custGeom>
              <a:avLst/>
              <a:gdLst/>
              <a:ahLst/>
              <a:rect l="l" t="t" r="r" b="b"/>
              <a:pathLst>
                <a:path w="1530" h="1422">
                  <a:moveTo>
                    <a:pt x="1530" y="1422"/>
                  </a:moveTo>
                  <a:lnTo>
                    <a:pt x="0" y="0"/>
                  </a:lnTo>
                </a:path>
              </a:pathLst>
            </a:custGeom>
            <a:noFill/>
            <a:ln cap="rnd" w="38160">
              <a:solidFill>
                <a:srgbClr val="ff0000"/>
              </a:solidFill>
              <a:custDash>
                <a:ds d="100000" sp="1000"/>
              </a:custDash>
              <a:round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58920" y="1882800"/>
              <a:ext cx="2604960" cy="1565280"/>
            </a:xfrm>
            <a:custGeom>
              <a:avLst/>
              <a:gdLst/>
              <a:ahLst/>
              <a:rect l="l" t="t" r="r" b="b"/>
              <a:pathLst>
                <a:path w="1641" h="986">
                  <a:moveTo>
                    <a:pt x="1641" y="986"/>
                  </a:moveTo>
                  <a:cubicBezTo>
                    <a:pt x="1599" y="965"/>
                    <a:pt x="1438" y="890"/>
                    <a:pt x="1389" y="861"/>
                  </a:cubicBezTo>
                  <a:cubicBezTo>
                    <a:pt x="1340" y="832"/>
                    <a:pt x="1360" y="827"/>
                    <a:pt x="1347" y="813"/>
                  </a:cubicBezTo>
                  <a:cubicBezTo>
                    <a:pt x="1334" y="799"/>
                    <a:pt x="1323" y="794"/>
                    <a:pt x="1313" y="778"/>
                  </a:cubicBezTo>
                  <a:cubicBezTo>
                    <a:pt x="1303" y="762"/>
                    <a:pt x="1296" y="734"/>
                    <a:pt x="1284" y="714"/>
                  </a:cubicBezTo>
                  <a:cubicBezTo>
                    <a:pt x="1272" y="694"/>
                    <a:pt x="1248" y="673"/>
                    <a:pt x="1239" y="657"/>
                  </a:cubicBezTo>
                  <a:cubicBezTo>
                    <a:pt x="1230" y="641"/>
                    <a:pt x="1241" y="629"/>
                    <a:pt x="1227" y="618"/>
                  </a:cubicBezTo>
                  <a:cubicBezTo>
                    <a:pt x="1213" y="607"/>
                    <a:pt x="1166" y="599"/>
                    <a:pt x="1152" y="588"/>
                  </a:cubicBezTo>
                  <a:cubicBezTo>
                    <a:pt x="1138" y="577"/>
                    <a:pt x="1149" y="557"/>
                    <a:pt x="1143" y="549"/>
                  </a:cubicBezTo>
                  <a:cubicBezTo>
                    <a:pt x="1137" y="541"/>
                    <a:pt x="1126" y="537"/>
                    <a:pt x="1117" y="538"/>
                  </a:cubicBezTo>
                  <a:cubicBezTo>
                    <a:pt x="1108" y="539"/>
                    <a:pt x="1097" y="553"/>
                    <a:pt x="1086" y="555"/>
                  </a:cubicBezTo>
                  <a:cubicBezTo>
                    <a:pt x="1075" y="557"/>
                    <a:pt x="1063" y="552"/>
                    <a:pt x="1053" y="552"/>
                  </a:cubicBezTo>
                  <a:cubicBezTo>
                    <a:pt x="1043" y="552"/>
                    <a:pt x="1033" y="559"/>
                    <a:pt x="1023" y="552"/>
                  </a:cubicBezTo>
                  <a:cubicBezTo>
                    <a:pt x="1013" y="545"/>
                    <a:pt x="1002" y="520"/>
                    <a:pt x="993" y="507"/>
                  </a:cubicBezTo>
                  <a:cubicBezTo>
                    <a:pt x="984" y="494"/>
                    <a:pt x="975" y="476"/>
                    <a:pt x="966" y="474"/>
                  </a:cubicBezTo>
                  <a:cubicBezTo>
                    <a:pt x="957" y="472"/>
                    <a:pt x="949" y="492"/>
                    <a:pt x="939" y="495"/>
                  </a:cubicBezTo>
                  <a:cubicBezTo>
                    <a:pt x="929" y="498"/>
                    <a:pt x="916" y="486"/>
                    <a:pt x="906" y="489"/>
                  </a:cubicBezTo>
                  <a:cubicBezTo>
                    <a:pt x="896" y="492"/>
                    <a:pt x="887" y="510"/>
                    <a:pt x="879" y="510"/>
                  </a:cubicBezTo>
                  <a:cubicBezTo>
                    <a:pt x="871" y="510"/>
                    <a:pt x="867" y="500"/>
                    <a:pt x="857" y="490"/>
                  </a:cubicBezTo>
                  <a:cubicBezTo>
                    <a:pt x="847" y="480"/>
                    <a:pt x="831" y="458"/>
                    <a:pt x="817" y="450"/>
                  </a:cubicBezTo>
                  <a:cubicBezTo>
                    <a:pt x="803" y="442"/>
                    <a:pt x="790" y="445"/>
                    <a:pt x="773" y="442"/>
                  </a:cubicBezTo>
                  <a:cubicBezTo>
                    <a:pt x="756" y="439"/>
                    <a:pt x="732" y="432"/>
                    <a:pt x="714" y="432"/>
                  </a:cubicBezTo>
                  <a:cubicBezTo>
                    <a:pt x="696" y="432"/>
                    <a:pt x="679" y="446"/>
                    <a:pt x="663" y="444"/>
                  </a:cubicBezTo>
                  <a:cubicBezTo>
                    <a:pt x="647" y="442"/>
                    <a:pt x="634" y="427"/>
                    <a:pt x="615" y="420"/>
                  </a:cubicBezTo>
                  <a:cubicBezTo>
                    <a:pt x="596" y="413"/>
                    <a:pt x="566" y="406"/>
                    <a:pt x="549" y="402"/>
                  </a:cubicBezTo>
                  <a:cubicBezTo>
                    <a:pt x="532" y="398"/>
                    <a:pt x="522" y="404"/>
                    <a:pt x="510" y="396"/>
                  </a:cubicBezTo>
                  <a:cubicBezTo>
                    <a:pt x="498" y="388"/>
                    <a:pt x="490" y="362"/>
                    <a:pt x="477" y="351"/>
                  </a:cubicBezTo>
                  <a:cubicBezTo>
                    <a:pt x="464" y="340"/>
                    <a:pt x="440" y="339"/>
                    <a:pt x="432" y="330"/>
                  </a:cubicBezTo>
                  <a:cubicBezTo>
                    <a:pt x="424" y="321"/>
                    <a:pt x="439" y="315"/>
                    <a:pt x="429" y="300"/>
                  </a:cubicBezTo>
                  <a:cubicBezTo>
                    <a:pt x="419" y="285"/>
                    <a:pt x="385" y="247"/>
                    <a:pt x="369" y="237"/>
                  </a:cubicBezTo>
                  <a:cubicBezTo>
                    <a:pt x="353" y="227"/>
                    <a:pt x="356" y="252"/>
                    <a:pt x="333" y="237"/>
                  </a:cubicBezTo>
                  <a:cubicBezTo>
                    <a:pt x="310" y="222"/>
                    <a:pt x="270" y="164"/>
                    <a:pt x="233" y="146"/>
                  </a:cubicBezTo>
                  <a:cubicBezTo>
                    <a:pt x="196" y="128"/>
                    <a:pt x="135" y="145"/>
                    <a:pt x="111" y="132"/>
                  </a:cubicBezTo>
                  <a:cubicBezTo>
                    <a:pt x="87" y="119"/>
                    <a:pt x="96" y="85"/>
                    <a:pt x="87" y="69"/>
                  </a:cubicBezTo>
                  <a:cubicBezTo>
                    <a:pt x="78" y="53"/>
                    <a:pt x="71" y="49"/>
                    <a:pt x="57" y="38"/>
                  </a:cubicBezTo>
                  <a:cubicBezTo>
                    <a:pt x="43" y="27"/>
                    <a:pt x="12" y="8"/>
                    <a:pt x="0" y="0"/>
                  </a:cubicBezTo>
                </a:path>
              </a:pathLst>
            </a:custGeom>
            <a:noFill/>
            <a:ln cap="rnd" w="38160">
              <a:solidFill>
                <a:srgbClr val="ff0000"/>
              </a:solidFill>
              <a:custDash>
                <a:ds d="100000" sp="1000"/>
              </a:custDash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0" name=""/>
            <p:cNvSpPr/>
            <p:nvPr/>
          </p:nvSpPr>
          <p:spPr>
            <a:xfrm rot="20482800">
              <a:off x="2727720" y="3500640"/>
              <a:ext cx="462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Arial Narrow"/>
                </a:rPr>
                <a:t>‘</a:t>
              </a:r>
              <a:r>
                <a:rPr b="0" i="1" lang="en-US" sz="2000" spc="-1" strike="noStrike">
                  <a:solidFill>
                    <a:srgbClr val="ff0000"/>
                  </a:solidFill>
                  <a:latin typeface="Arial Narrow"/>
                </a:rPr>
                <a:t>Sud’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"/>
            <p:cNvSpPr/>
            <p:nvPr/>
          </p:nvSpPr>
          <p:spPr>
            <a:xfrm rot="20551200">
              <a:off x="4237560" y="3060360"/>
              <a:ext cx="16387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Arial Narrow"/>
                </a:rPr>
                <a:t>‘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Arial Narrow"/>
                </a:rPr>
                <a:t>South Stream’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487520" y="4356360"/>
              <a:ext cx="1319400" cy="185760"/>
            </a:xfrm>
            <a:custGeom>
              <a:avLst/>
              <a:gdLst/>
              <a:ahLst/>
              <a:rect l="l" t="t" r="r" b="b"/>
              <a:pathLst>
                <a:path w="831" h="117">
                  <a:moveTo>
                    <a:pt x="831" y="5"/>
                  </a:moveTo>
                  <a:cubicBezTo>
                    <a:pt x="764" y="2"/>
                    <a:pt x="697" y="0"/>
                    <a:pt x="660" y="8"/>
                  </a:cubicBezTo>
                  <a:cubicBezTo>
                    <a:pt x="623" y="16"/>
                    <a:pt x="636" y="45"/>
                    <a:pt x="609" y="50"/>
                  </a:cubicBezTo>
                  <a:cubicBezTo>
                    <a:pt x="582" y="55"/>
                    <a:pt x="525" y="40"/>
                    <a:pt x="498" y="41"/>
                  </a:cubicBezTo>
                  <a:cubicBezTo>
                    <a:pt x="471" y="42"/>
                    <a:pt x="465" y="58"/>
                    <a:pt x="444" y="59"/>
                  </a:cubicBezTo>
                  <a:cubicBezTo>
                    <a:pt x="423" y="60"/>
                    <a:pt x="390" y="47"/>
                    <a:pt x="372" y="47"/>
                  </a:cubicBezTo>
                  <a:cubicBezTo>
                    <a:pt x="354" y="47"/>
                    <a:pt x="350" y="62"/>
                    <a:pt x="333" y="62"/>
                  </a:cubicBezTo>
                  <a:cubicBezTo>
                    <a:pt x="316" y="62"/>
                    <a:pt x="291" y="50"/>
                    <a:pt x="270" y="50"/>
                  </a:cubicBezTo>
                  <a:cubicBezTo>
                    <a:pt x="249" y="50"/>
                    <a:pt x="235" y="52"/>
                    <a:pt x="204" y="62"/>
                  </a:cubicBezTo>
                  <a:cubicBezTo>
                    <a:pt x="173" y="72"/>
                    <a:pt x="118" y="117"/>
                    <a:pt x="84" y="107"/>
                  </a:cubicBezTo>
                  <a:cubicBezTo>
                    <a:pt x="50" y="97"/>
                    <a:pt x="25" y="49"/>
                    <a:pt x="0" y="2"/>
                  </a:cubicBezTo>
                </a:path>
              </a:pathLst>
            </a:custGeom>
            <a:noFill/>
            <a:ln w="28440">
              <a:solidFill>
                <a:srgbClr val="008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"/>
            <p:cNvSpPr/>
            <p:nvPr/>
          </p:nvSpPr>
          <p:spPr>
            <a:xfrm rot="20805600">
              <a:off x="1498680" y="4330440"/>
              <a:ext cx="230040" cy="250920"/>
            </a:xfrm>
            <a:custGeom>
              <a:avLst/>
              <a:gdLst/>
              <a:ahLst/>
              <a:rect l="l" t="t" r="r" b="b"/>
              <a:pathLst>
                <a:path w="145" h="158">
                  <a:moveTo>
                    <a:pt x="145" y="72"/>
                  </a:moveTo>
                  <a:lnTo>
                    <a:pt x="0" y="0"/>
                  </a:lnTo>
                  <a:lnTo>
                    <a:pt x="29" y="158"/>
                  </a:lnTo>
                  <a:lnTo>
                    <a:pt x="145" y="72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478160" y="4078440"/>
              <a:ext cx="3333600" cy="880920"/>
            </a:xfrm>
            <a:custGeom>
              <a:avLst/>
              <a:gdLst/>
              <a:ahLst/>
              <a:rect l="l" t="t" r="r" b="b"/>
              <a:pathLst>
                <a:path w="2100" h="555">
                  <a:moveTo>
                    <a:pt x="2100" y="132"/>
                  </a:moveTo>
                  <a:lnTo>
                    <a:pt x="1647" y="168"/>
                  </a:lnTo>
                  <a:lnTo>
                    <a:pt x="1653" y="45"/>
                  </a:lnTo>
                  <a:lnTo>
                    <a:pt x="1545" y="9"/>
                  </a:lnTo>
                  <a:lnTo>
                    <a:pt x="1455" y="72"/>
                  </a:lnTo>
                  <a:lnTo>
                    <a:pt x="1428" y="3"/>
                  </a:lnTo>
                  <a:lnTo>
                    <a:pt x="1284" y="0"/>
                  </a:lnTo>
                  <a:lnTo>
                    <a:pt x="1194" y="57"/>
                  </a:lnTo>
                  <a:lnTo>
                    <a:pt x="912" y="63"/>
                  </a:lnTo>
                  <a:lnTo>
                    <a:pt x="924" y="159"/>
                  </a:lnTo>
                  <a:lnTo>
                    <a:pt x="891" y="153"/>
                  </a:lnTo>
                  <a:lnTo>
                    <a:pt x="828" y="183"/>
                  </a:lnTo>
                  <a:lnTo>
                    <a:pt x="330" y="555"/>
                  </a:lnTo>
                  <a:lnTo>
                    <a:pt x="246" y="501"/>
                  </a:lnTo>
                  <a:lnTo>
                    <a:pt x="156" y="438"/>
                  </a:lnTo>
                  <a:lnTo>
                    <a:pt x="120" y="300"/>
                  </a:lnTo>
                  <a:lnTo>
                    <a:pt x="0" y="177"/>
                  </a:lnTo>
                </a:path>
              </a:pathLst>
            </a:custGeom>
            <a:noFill/>
            <a:ln w="28440">
              <a:solidFill>
                <a:srgbClr val="008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173240" y="1273320"/>
              <a:ext cx="7758000" cy="3228840"/>
            </a:xfrm>
            <a:custGeom>
              <a:avLst/>
              <a:gdLst/>
              <a:ahLst/>
              <a:rect l="l" t="t" r="r" b="b"/>
              <a:pathLst>
                <a:path w="4887" h="2034">
                  <a:moveTo>
                    <a:pt x="4887" y="1137"/>
                  </a:moveTo>
                  <a:lnTo>
                    <a:pt x="4512" y="1569"/>
                  </a:lnTo>
                  <a:lnTo>
                    <a:pt x="4455" y="1587"/>
                  </a:lnTo>
                  <a:lnTo>
                    <a:pt x="4422" y="1641"/>
                  </a:lnTo>
                  <a:lnTo>
                    <a:pt x="4323" y="1683"/>
                  </a:lnTo>
                  <a:lnTo>
                    <a:pt x="4245" y="1683"/>
                  </a:lnTo>
                  <a:lnTo>
                    <a:pt x="4110" y="1764"/>
                  </a:lnTo>
                  <a:lnTo>
                    <a:pt x="3963" y="1794"/>
                  </a:lnTo>
                  <a:lnTo>
                    <a:pt x="3819" y="1740"/>
                  </a:lnTo>
                  <a:lnTo>
                    <a:pt x="3768" y="1800"/>
                  </a:lnTo>
                  <a:lnTo>
                    <a:pt x="3768" y="1842"/>
                  </a:lnTo>
                  <a:lnTo>
                    <a:pt x="3594" y="2004"/>
                  </a:lnTo>
                  <a:lnTo>
                    <a:pt x="3435" y="2034"/>
                  </a:lnTo>
                  <a:lnTo>
                    <a:pt x="3204" y="1992"/>
                  </a:lnTo>
                  <a:lnTo>
                    <a:pt x="3126" y="1944"/>
                  </a:lnTo>
                  <a:lnTo>
                    <a:pt x="3123" y="1836"/>
                  </a:lnTo>
                  <a:lnTo>
                    <a:pt x="2919" y="1866"/>
                  </a:lnTo>
                  <a:lnTo>
                    <a:pt x="2808" y="1851"/>
                  </a:lnTo>
                  <a:lnTo>
                    <a:pt x="2511" y="1866"/>
                  </a:lnTo>
                  <a:lnTo>
                    <a:pt x="2304" y="1908"/>
                  </a:lnTo>
                  <a:lnTo>
                    <a:pt x="2145" y="1941"/>
                  </a:lnTo>
                  <a:lnTo>
                    <a:pt x="1878" y="2034"/>
                  </a:lnTo>
                  <a:lnTo>
                    <a:pt x="1854" y="1920"/>
                  </a:lnTo>
                  <a:lnTo>
                    <a:pt x="1872" y="1782"/>
                  </a:lnTo>
                  <a:lnTo>
                    <a:pt x="1788" y="1542"/>
                  </a:lnTo>
                  <a:lnTo>
                    <a:pt x="1734" y="1389"/>
                  </a:lnTo>
                  <a:lnTo>
                    <a:pt x="1650" y="1356"/>
                  </a:lnTo>
                  <a:lnTo>
                    <a:pt x="1623" y="1290"/>
                  </a:lnTo>
                  <a:lnTo>
                    <a:pt x="1566" y="1239"/>
                  </a:lnTo>
                  <a:lnTo>
                    <a:pt x="1455" y="1263"/>
                  </a:lnTo>
                  <a:lnTo>
                    <a:pt x="1386" y="1158"/>
                  </a:lnTo>
                  <a:lnTo>
                    <a:pt x="1326" y="1173"/>
                  </a:lnTo>
                  <a:lnTo>
                    <a:pt x="1260" y="1176"/>
                  </a:lnTo>
                  <a:lnTo>
                    <a:pt x="1251" y="1089"/>
                  </a:lnTo>
                  <a:lnTo>
                    <a:pt x="1197" y="1011"/>
                  </a:lnTo>
                  <a:lnTo>
                    <a:pt x="1092" y="984"/>
                  </a:lnTo>
                  <a:lnTo>
                    <a:pt x="1080" y="918"/>
                  </a:lnTo>
                  <a:lnTo>
                    <a:pt x="1008" y="912"/>
                  </a:lnTo>
                  <a:lnTo>
                    <a:pt x="999" y="738"/>
                  </a:lnTo>
                  <a:lnTo>
                    <a:pt x="936" y="690"/>
                  </a:lnTo>
                  <a:lnTo>
                    <a:pt x="879" y="681"/>
                  </a:lnTo>
                  <a:lnTo>
                    <a:pt x="858" y="645"/>
                  </a:lnTo>
                  <a:lnTo>
                    <a:pt x="831" y="612"/>
                  </a:lnTo>
                  <a:lnTo>
                    <a:pt x="774" y="612"/>
                  </a:lnTo>
                  <a:lnTo>
                    <a:pt x="651" y="531"/>
                  </a:lnTo>
                  <a:lnTo>
                    <a:pt x="558" y="510"/>
                  </a:lnTo>
                  <a:lnTo>
                    <a:pt x="549" y="444"/>
                  </a:lnTo>
                  <a:lnTo>
                    <a:pt x="522" y="399"/>
                  </a:lnTo>
                  <a:lnTo>
                    <a:pt x="435" y="363"/>
                  </a:lnTo>
                  <a:lnTo>
                    <a:pt x="381" y="345"/>
                  </a:lnTo>
                  <a:lnTo>
                    <a:pt x="384" y="348"/>
                  </a:lnTo>
                  <a:lnTo>
                    <a:pt x="345" y="276"/>
                  </a:lnTo>
                  <a:lnTo>
                    <a:pt x="291" y="282"/>
                  </a:lnTo>
                  <a:lnTo>
                    <a:pt x="228" y="303"/>
                  </a:lnTo>
                  <a:lnTo>
                    <a:pt x="141" y="294"/>
                  </a:lnTo>
                  <a:lnTo>
                    <a:pt x="147" y="246"/>
                  </a:lnTo>
                  <a:lnTo>
                    <a:pt x="174" y="165"/>
                  </a:lnTo>
                  <a:lnTo>
                    <a:pt x="141" y="144"/>
                  </a:lnTo>
                  <a:lnTo>
                    <a:pt x="102" y="102"/>
                  </a:lnTo>
                  <a:lnTo>
                    <a:pt x="57" y="78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8000"/>
              </a:solidFill>
              <a:prstDash val="lg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25440" y="2225880"/>
              <a:ext cx="4191120" cy="588960"/>
            </a:xfrm>
            <a:custGeom>
              <a:avLst/>
              <a:gdLst/>
              <a:ahLst/>
              <a:rect l="l" t="t" r="r" b="b"/>
              <a:pathLst>
                <a:path w="2640" h="371">
                  <a:moveTo>
                    <a:pt x="2640" y="264"/>
                  </a:moveTo>
                  <a:cubicBezTo>
                    <a:pt x="2573" y="269"/>
                    <a:pt x="2330" y="332"/>
                    <a:pt x="2214" y="342"/>
                  </a:cubicBezTo>
                  <a:cubicBezTo>
                    <a:pt x="2098" y="352"/>
                    <a:pt x="2013" y="320"/>
                    <a:pt x="1944" y="324"/>
                  </a:cubicBezTo>
                  <a:cubicBezTo>
                    <a:pt x="1875" y="328"/>
                    <a:pt x="1861" y="361"/>
                    <a:pt x="1800" y="366"/>
                  </a:cubicBezTo>
                  <a:cubicBezTo>
                    <a:pt x="1739" y="371"/>
                    <a:pt x="1634" y="362"/>
                    <a:pt x="1578" y="354"/>
                  </a:cubicBezTo>
                  <a:lnTo>
                    <a:pt x="1464" y="318"/>
                  </a:lnTo>
                  <a:cubicBezTo>
                    <a:pt x="1423" y="315"/>
                    <a:pt x="1425" y="328"/>
                    <a:pt x="1374" y="324"/>
                  </a:cubicBezTo>
                  <a:cubicBezTo>
                    <a:pt x="1323" y="317"/>
                    <a:pt x="1209" y="292"/>
                    <a:pt x="1158" y="288"/>
                  </a:cubicBezTo>
                  <a:cubicBezTo>
                    <a:pt x="1110" y="268"/>
                    <a:pt x="1084" y="253"/>
                    <a:pt x="1050" y="240"/>
                  </a:cubicBezTo>
                  <a:cubicBezTo>
                    <a:pt x="1016" y="227"/>
                    <a:pt x="989" y="216"/>
                    <a:pt x="954" y="210"/>
                  </a:cubicBezTo>
                  <a:cubicBezTo>
                    <a:pt x="919" y="204"/>
                    <a:pt x="888" y="205"/>
                    <a:pt x="840" y="204"/>
                  </a:cubicBezTo>
                  <a:cubicBezTo>
                    <a:pt x="764" y="190"/>
                    <a:pt x="742" y="217"/>
                    <a:pt x="666" y="204"/>
                  </a:cubicBezTo>
                  <a:cubicBezTo>
                    <a:pt x="618" y="188"/>
                    <a:pt x="587" y="186"/>
                    <a:pt x="552" y="162"/>
                  </a:cubicBezTo>
                  <a:cubicBezTo>
                    <a:pt x="520" y="146"/>
                    <a:pt x="519" y="118"/>
                    <a:pt x="474" y="108"/>
                  </a:cubicBezTo>
                  <a:cubicBezTo>
                    <a:pt x="429" y="98"/>
                    <a:pt x="339" y="101"/>
                    <a:pt x="282" y="102"/>
                  </a:cubicBezTo>
                  <a:cubicBezTo>
                    <a:pt x="208" y="96"/>
                    <a:pt x="179" y="131"/>
                    <a:pt x="132" y="114"/>
                  </a:cubicBezTo>
                  <a:cubicBezTo>
                    <a:pt x="85" y="97"/>
                    <a:pt x="27" y="24"/>
                    <a:pt x="0" y="0"/>
                  </a:cubicBezTo>
                </a:path>
              </a:pathLst>
            </a:custGeom>
            <a:noFill/>
            <a:ln cap="rnd" w="38160">
              <a:solidFill>
                <a:srgbClr val="008000"/>
              </a:solidFill>
              <a:custDash>
                <a:ds d="100000" sp="1000"/>
              </a:custDash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"/>
            <p:cNvSpPr/>
            <p:nvPr/>
          </p:nvSpPr>
          <p:spPr>
            <a:xfrm rot="399600">
              <a:off x="1543320" y="2217960"/>
              <a:ext cx="694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8000"/>
                  </a:solidFill>
                  <a:latin typeface="Arial Narrow"/>
                </a:rPr>
                <a:t>PEGP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"/>
            <p:cNvSpPr/>
            <p:nvPr/>
          </p:nvSpPr>
          <p:spPr>
            <a:xfrm flipH="1">
              <a:off x="8287920" y="3654720"/>
              <a:ext cx="676440" cy="123840"/>
            </a:xfrm>
            <a:prstGeom prst="line">
              <a:avLst/>
            </a:prstGeom>
            <a:ln w="28440">
              <a:solidFill>
                <a:srgbClr val="008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535640" y="2644920"/>
              <a:ext cx="4400640" cy="142920"/>
            </a:xfrm>
            <a:custGeom>
              <a:avLst/>
              <a:gdLst/>
              <a:ahLst/>
              <a:rect l="l" t="t" r="r" b="b"/>
              <a:pathLst>
                <a:path w="2772" h="90">
                  <a:moveTo>
                    <a:pt x="2772" y="54"/>
                  </a:moveTo>
                  <a:lnTo>
                    <a:pt x="2736" y="24"/>
                  </a:lnTo>
                  <a:lnTo>
                    <a:pt x="2646" y="12"/>
                  </a:lnTo>
                  <a:lnTo>
                    <a:pt x="2466" y="42"/>
                  </a:lnTo>
                  <a:lnTo>
                    <a:pt x="2394" y="9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8000"/>
              </a:solidFill>
              <a:prstDash val="sysDot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554560" y="1452600"/>
              <a:ext cx="1295280" cy="1287720"/>
            </a:xfrm>
            <a:custGeom>
              <a:avLst/>
              <a:gdLst/>
              <a:ahLst/>
              <a:rect l="l" t="t" r="r" b="b"/>
              <a:pathLst>
                <a:path w="816" h="811">
                  <a:moveTo>
                    <a:pt x="816" y="811"/>
                  </a:moveTo>
                  <a:cubicBezTo>
                    <a:pt x="731" y="697"/>
                    <a:pt x="442" y="254"/>
                    <a:pt x="306" y="127"/>
                  </a:cubicBezTo>
                  <a:cubicBezTo>
                    <a:pt x="170" y="0"/>
                    <a:pt x="64" y="65"/>
                    <a:pt x="0" y="49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prstDash val="sysDot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202280" y="1816200"/>
              <a:ext cx="228600" cy="790560"/>
            </a:xfrm>
            <a:custGeom>
              <a:avLst/>
              <a:gdLst/>
              <a:ahLst/>
              <a:rect l="l" t="t" r="r" b="b"/>
              <a:pathLst>
                <a:path w="144" h="498">
                  <a:moveTo>
                    <a:pt x="144" y="498"/>
                  </a:moveTo>
                  <a:cubicBezTo>
                    <a:pt x="121" y="469"/>
                    <a:pt x="12" y="407"/>
                    <a:pt x="6" y="324"/>
                  </a:cubicBezTo>
                  <a:cubicBezTo>
                    <a:pt x="0" y="241"/>
                    <a:pt x="87" y="67"/>
                    <a:pt x="108" y="0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prstDash val="sysDot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121520" y="4740480"/>
              <a:ext cx="1484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cc3399"/>
                  </a:solidFill>
                  <a:latin typeface="Arial"/>
                </a:rPr>
                <a:t>Euro-Arab Mashreq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678720" y="4502160"/>
              <a:ext cx="797040" cy="2086200"/>
            </a:xfrm>
            <a:custGeom>
              <a:avLst/>
              <a:gdLst/>
              <a:ahLst/>
              <a:rect l="l" t="t" r="r" b="b"/>
              <a:pathLst>
                <a:path w="502" h="1314">
                  <a:moveTo>
                    <a:pt x="432" y="1314"/>
                  </a:moveTo>
                  <a:cubicBezTo>
                    <a:pt x="439" y="1301"/>
                    <a:pt x="463" y="1272"/>
                    <a:pt x="474" y="1236"/>
                  </a:cubicBezTo>
                  <a:cubicBezTo>
                    <a:pt x="485" y="1200"/>
                    <a:pt x="502" y="1146"/>
                    <a:pt x="498" y="1098"/>
                  </a:cubicBezTo>
                  <a:cubicBezTo>
                    <a:pt x="494" y="1050"/>
                    <a:pt x="474" y="1055"/>
                    <a:pt x="450" y="948"/>
                  </a:cubicBezTo>
                  <a:cubicBezTo>
                    <a:pt x="426" y="841"/>
                    <a:pt x="429" y="614"/>
                    <a:pt x="354" y="456"/>
                  </a:cubicBezTo>
                  <a:cubicBezTo>
                    <a:pt x="279" y="298"/>
                    <a:pt x="74" y="95"/>
                    <a:pt x="0" y="0"/>
                  </a:cubicBezTo>
                </a:path>
              </a:pathLst>
            </a:custGeom>
            <a:noFill/>
            <a:ln w="28440">
              <a:solidFill>
                <a:srgbClr val="cc3399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059440" y="1225800"/>
              <a:ext cx="3238560" cy="1552320"/>
            </a:xfrm>
            <a:custGeom>
              <a:avLst/>
              <a:gdLst/>
              <a:ahLst/>
              <a:rect l="l" t="t" r="r" b="b"/>
              <a:pathLst>
                <a:path w="2040" h="978">
                  <a:moveTo>
                    <a:pt x="2040" y="978"/>
                  </a:moveTo>
                  <a:cubicBezTo>
                    <a:pt x="1836" y="905"/>
                    <a:pt x="1063" y="634"/>
                    <a:pt x="816" y="546"/>
                  </a:cubicBezTo>
                  <a:cubicBezTo>
                    <a:pt x="569" y="458"/>
                    <a:pt x="694" y="541"/>
                    <a:pt x="558" y="450"/>
                  </a:cubicBezTo>
                  <a:cubicBezTo>
                    <a:pt x="422" y="359"/>
                    <a:pt x="116" y="94"/>
                    <a:pt x="0" y="0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prstDash val="sysDot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762360" y="997200"/>
              <a:ext cx="389160" cy="1253880"/>
            </a:xfrm>
            <a:custGeom>
              <a:avLst/>
              <a:gdLst/>
              <a:ahLst/>
              <a:rect l="l" t="t" r="r" b="b"/>
              <a:pathLst>
                <a:path w="245" h="790">
                  <a:moveTo>
                    <a:pt x="245" y="790"/>
                  </a:moveTo>
                  <a:cubicBezTo>
                    <a:pt x="207" y="731"/>
                    <a:pt x="38" y="564"/>
                    <a:pt x="19" y="432"/>
                  </a:cubicBezTo>
                  <a:cubicBezTo>
                    <a:pt x="0" y="300"/>
                    <a:pt x="109" y="90"/>
                    <a:pt x="133" y="0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prstDash val="sysDot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287960" y="2692440"/>
              <a:ext cx="155520" cy="438120"/>
            </a:xfrm>
            <a:custGeom>
              <a:avLst/>
              <a:gdLst/>
              <a:ahLst/>
              <a:rect l="l" t="t" r="r" b="b"/>
              <a:pathLst>
                <a:path w="86" h="282">
                  <a:moveTo>
                    <a:pt x="84" y="0"/>
                  </a:moveTo>
                  <a:cubicBezTo>
                    <a:pt x="82" y="28"/>
                    <a:pt x="86" y="121"/>
                    <a:pt x="72" y="168"/>
                  </a:cubicBezTo>
                  <a:cubicBezTo>
                    <a:pt x="58" y="215"/>
                    <a:pt x="15" y="258"/>
                    <a:pt x="0" y="282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prstDash val="sysDot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564080" y="2003400"/>
              <a:ext cx="1543320" cy="613080"/>
            </a:xfrm>
            <a:custGeom>
              <a:avLst/>
              <a:gdLst/>
              <a:ahLst/>
              <a:rect l="l" t="t" r="r" b="b"/>
              <a:pathLst>
                <a:path w="972" h="386">
                  <a:moveTo>
                    <a:pt x="972" y="20"/>
                  </a:moveTo>
                  <a:cubicBezTo>
                    <a:pt x="929" y="19"/>
                    <a:pt x="778" y="0"/>
                    <a:pt x="714" y="14"/>
                  </a:cubicBezTo>
                  <a:cubicBezTo>
                    <a:pt x="650" y="28"/>
                    <a:pt x="627" y="82"/>
                    <a:pt x="588" y="104"/>
                  </a:cubicBezTo>
                  <a:cubicBezTo>
                    <a:pt x="549" y="126"/>
                    <a:pt x="521" y="131"/>
                    <a:pt x="480" y="146"/>
                  </a:cubicBezTo>
                  <a:cubicBezTo>
                    <a:pt x="439" y="161"/>
                    <a:pt x="422" y="154"/>
                    <a:pt x="342" y="194"/>
                  </a:cubicBezTo>
                  <a:cubicBezTo>
                    <a:pt x="262" y="234"/>
                    <a:pt x="71" y="346"/>
                    <a:pt x="0" y="386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8" name=""/>
          <p:cNvSpPr/>
          <p:nvPr/>
        </p:nvSpPr>
        <p:spPr>
          <a:xfrm>
            <a:off x="1297440" y="5410080"/>
            <a:ext cx="55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6699"/>
                </a:solidFill>
                <a:latin typeface="Times New Roman"/>
              </a:rPr>
              <a:t>Proposed New Gas Pip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"/>
          <p:cNvSpPr/>
          <p:nvPr/>
        </p:nvSpPr>
        <p:spPr>
          <a:xfrm>
            <a:off x="685800" y="5562720"/>
            <a:ext cx="609480" cy="380880"/>
          </a:xfrm>
          <a:custGeom>
            <a:avLst/>
            <a:gdLst>
              <a:gd name="textAreaLeft" fmla="*/ 95040 w 609480"/>
              <a:gd name="textAreaRight" fmla="*/ 533520 w 6094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"/>
          <p:cNvSpPr/>
          <p:nvPr/>
        </p:nvSpPr>
        <p:spPr>
          <a:xfrm>
            <a:off x="609480" y="5486400"/>
            <a:ext cx="6400800" cy="533520"/>
          </a:xfrm>
          <a:prstGeom prst="rect">
            <a:avLst/>
          </a:prstGeom>
          <a:solidFill>
            <a:srgbClr val="336699">
              <a:alpha val="16000"/>
            </a:srgbClr>
          </a:solidFill>
          <a:ln w="2232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550D1D-5B0B-4821-9737-E9A434CBF58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6600"/>
                </a:solidFill>
                <a:latin typeface="Times New Roman"/>
              </a:rPr>
              <a:t>The Energy Community Gas Ring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380520" y="18288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ahoma"/>
              </a:rPr>
              <a:t>SSE Gasification Study propos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Substantial gas infrastructure development in SEE to meet future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The creation of a </a:t>
            </a: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‘Gas Ring’ </a:t>
            </a: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to integrate Western Balkan mar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ahoma"/>
              </a:rPr>
              <a:t>Currently various alternative Gas Ring routings being investi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cc66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336699"/>
                </a:solidFill>
                <a:latin typeface="Tahoma"/>
              </a:rPr>
              <a:t>The overall concept of the Gas Ring is </a:t>
            </a:r>
            <a:r>
              <a:rPr b="1" lang="en-US" sz="2800" spc="-1" strike="noStrike">
                <a:solidFill>
                  <a:srgbClr val="336699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336699"/>
                </a:solidFill>
                <a:latin typeface="Tahoma"/>
              </a:rPr>
              <a:t>economically and financially v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"/>
          <p:cNvSpPr/>
          <p:nvPr/>
        </p:nvSpPr>
        <p:spPr>
          <a:xfrm>
            <a:off x="609480" y="5257800"/>
            <a:ext cx="609840" cy="380880"/>
          </a:xfrm>
          <a:custGeom>
            <a:avLst/>
            <a:gdLst>
              <a:gd name="textAreaLeft" fmla="*/ 95040 w 609840"/>
              <a:gd name="textAreaRight" fmla="*/ 533880 w 60984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"/>
          <p:cNvSpPr/>
          <p:nvPr/>
        </p:nvSpPr>
        <p:spPr>
          <a:xfrm>
            <a:off x="533520" y="5029200"/>
            <a:ext cx="7543800" cy="990720"/>
          </a:xfrm>
          <a:prstGeom prst="rect">
            <a:avLst/>
          </a:prstGeom>
          <a:noFill/>
          <a:ln w="2232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F08748-FE3D-4B42-9232-60DB9077E34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" descr=""/>
          <p:cNvPicPr/>
          <p:nvPr/>
        </p:nvPicPr>
        <p:blipFill>
          <a:blip r:embed="rId1"/>
          <a:stretch/>
        </p:blipFill>
        <p:spPr>
          <a:xfrm>
            <a:off x="0" y="903240"/>
            <a:ext cx="9144000" cy="5954760"/>
          </a:xfrm>
          <a:prstGeom prst="rect">
            <a:avLst/>
          </a:prstGeom>
          <a:ln w="0">
            <a:noFill/>
          </a:ln>
        </p:spPr>
      </p:pic>
      <p:sp>
        <p:nvSpPr>
          <p:cNvPr id="456" name=""/>
          <p:cNvSpPr/>
          <p:nvPr/>
        </p:nvSpPr>
        <p:spPr>
          <a:xfrm rot="20718600">
            <a:off x="6086520" y="494316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"/>
          <p:cNvSpPr/>
          <p:nvPr/>
        </p:nvSpPr>
        <p:spPr>
          <a:xfrm rot="16200000">
            <a:off x="3594240" y="184608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ffff">
              <a:alpha val="50000"/>
            </a:srgbClr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"/>
          <p:cNvSpPr/>
          <p:nvPr/>
        </p:nvSpPr>
        <p:spPr>
          <a:xfrm rot="16200000">
            <a:off x="2106720" y="138708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"/>
          <p:cNvSpPr/>
          <p:nvPr/>
        </p:nvSpPr>
        <p:spPr>
          <a:xfrm>
            <a:off x="0" y="905040"/>
            <a:ext cx="9144000" cy="5952960"/>
          </a:xfrm>
          <a:prstGeom prst="rect">
            <a:avLst/>
          </a:prstGeom>
          <a:solidFill>
            <a:srgbClr val="969696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4014720" y="1836720"/>
            <a:ext cx="2490840" cy="3594240"/>
            <a:chOff x="4014720" y="1836720"/>
            <a:chExt cx="2490840" cy="3594240"/>
          </a:xfrm>
        </p:grpSpPr>
        <p:sp>
          <p:nvSpPr>
            <p:cNvPr id="461" name=""/>
            <p:cNvSpPr/>
            <p:nvPr/>
          </p:nvSpPr>
          <p:spPr>
            <a:xfrm>
              <a:off x="4014720" y="1836720"/>
              <a:ext cx="2490840" cy="3187800"/>
            </a:xfrm>
            <a:custGeom>
              <a:avLst/>
              <a:gdLst/>
              <a:ahLst/>
              <a:rect l="l" t="t" r="r" b="b"/>
              <a:pathLst>
                <a:path w="1569" h="2008">
                  <a:moveTo>
                    <a:pt x="377" y="1599"/>
                  </a:moveTo>
                  <a:lnTo>
                    <a:pt x="365" y="1605"/>
                  </a:lnTo>
                  <a:lnTo>
                    <a:pt x="350" y="1586"/>
                  </a:lnTo>
                  <a:lnTo>
                    <a:pt x="335" y="1560"/>
                  </a:lnTo>
                  <a:lnTo>
                    <a:pt x="323" y="1571"/>
                  </a:lnTo>
                  <a:lnTo>
                    <a:pt x="296" y="1560"/>
                  </a:lnTo>
                  <a:lnTo>
                    <a:pt x="281" y="1533"/>
                  </a:lnTo>
                  <a:lnTo>
                    <a:pt x="254" y="1524"/>
                  </a:lnTo>
                  <a:lnTo>
                    <a:pt x="253" y="1500"/>
                  </a:lnTo>
                  <a:lnTo>
                    <a:pt x="224" y="1476"/>
                  </a:lnTo>
                  <a:lnTo>
                    <a:pt x="213" y="1447"/>
                  </a:lnTo>
                  <a:lnTo>
                    <a:pt x="187" y="1445"/>
                  </a:lnTo>
                  <a:lnTo>
                    <a:pt x="173" y="1427"/>
                  </a:lnTo>
                  <a:lnTo>
                    <a:pt x="142" y="1419"/>
                  </a:lnTo>
                  <a:lnTo>
                    <a:pt x="130" y="1388"/>
                  </a:lnTo>
                  <a:lnTo>
                    <a:pt x="152" y="1386"/>
                  </a:lnTo>
                  <a:lnTo>
                    <a:pt x="160" y="1350"/>
                  </a:lnTo>
                  <a:lnTo>
                    <a:pt x="197" y="1347"/>
                  </a:lnTo>
                  <a:lnTo>
                    <a:pt x="220" y="1380"/>
                  </a:lnTo>
                  <a:lnTo>
                    <a:pt x="235" y="1358"/>
                  </a:lnTo>
                  <a:lnTo>
                    <a:pt x="253" y="1359"/>
                  </a:lnTo>
                  <a:lnTo>
                    <a:pt x="250" y="1328"/>
                  </a:lnTo>
                  <a:lnTo>
                    <a:pt x="266" y="1313"/>
                  </a:lnTo>
                  <a:lnTo>
                    <a:pt x="257" y="1293"/>
                  </a:lnTo>
                  <a:lnTo>
                    <a:pt x="250" y="1272"/>
                  </a:lnTo>
                  <a:lnTo>
                    <a:pt x="245" y="1267"/>
                  </a:lnTo>
                  <a:lnTo>
                    <a:pt x="247" y="1257"/>
                  </a:lnTo>
                  <a:lnTo>
                    <a:pt x="229" y="1245"/>
                  </a:lnTo>
                  <a:lnTo>
                    <a:pt x="202" y="1216"/>
                  </a:lnTo>
                  <a:lnTo>
                    <a:pt x="160" y="1162"/>
                  </a:lnTo>
                  <a:lnTo>
                    <a:pt x="155" y="1136"/>
                  </a:lnTo>
                  <a:lnTo>
                    <a:pt x="177" y="1139"/>
                  </a:lnTo>
                  <a:lnTo>
                    <a:pt x="200" y="1151"/>
                  </a:lnTo>
                  <a:lnTo>
                    <a:pt x="221" y="1155"/>
                  </a:lnTo>
                  <a:lnTo>
                    <a:pt x="240" y="1158"/>
                  </a:lnTo>
                  <a:lnTo>
                    <a:pt x="259" y="1159"/>
                  </a:lnTo>
                  <a:lnTo>
                    <a:pt x="277" y="1139"/>
                  </a:lnTo>
                  <a:lnTo>
                    <a:pt x="293" y="1128"/>
                  </a:lnTo>
                  <a:lnTo>
                    <a:pt x="295" y="1113"/>
                  </a:lnTo>
                  <a:lnTo>
                    <a:pt x="291" y="1102"/>
                  </a:lnTo>
                  <a:lnTo>
                    <a:pt x="245" y="1071"/>
                  </a:lnTo>
                  <a:lnTo>
                    <a:pt x="201" y="1027"/>
                  </a:lnTo>
                  <a:lnTo>
                    <a:pt x="153" y="1006"/>
                  </a:lnTo>
                  <a:lnTo>
                    <a:pt x="121" y="992"/>
                  </a:lnTo>
                  <a:lnTo>
                    <a:pt x="108" y="975"/>
                  </a:lnTo>
                  <a:lnTo>
                    <a:pt x="100" y="954"/>
                  </a:lnTo>
                  <a:lnTo>
                    <a:pt x="102" y="939"/>
                  </a:lnTo>
                  <a:lnTo>
                    <a:pt x="122" y="911"/>
                  </a:lnTo>
                  <a:lnTo>
                    <a:pt x="111" y="865"/>
                  </a:lnTo>
                  <a:lnTo>
                    <a:pt x="129" y="842"/>
                  </a:lnTo>
                  <a:lnTo>
                    <a:pt x="168" y="773"/>
                  </a:lnTo>
                  <a:lnTo>
                    <a:pt x="185" y="750"/>
                  </a:lnTo>
                  <a:lnTo>
                    <a:pt x="192" y="735"/>
                  </a:lnTo>
                  <a:lnTo>
                    <a:pt x="198" y="686"/>
                  </a:lnTo>
                  <a:lnTo>
                    <a:pt x="197" y="666"/>
                  </a:lnTo>
                  <a:lnTo>
                    <a:pt x="176" y="659"/>
                  </a:lnTo>
                  <a:lnTo>
                    <a:pt x="144" y="657"/>
                  </a:lnTo>
                  <a:lnTo>
                    <a:pt x="127" y="653"/>
                  </a:lnTo>
                  <a:lnTo>
                    <a:pt x="102" y="664"/>
                  </a:lnTo>
                  <a:lnTo>
                    <a:pt x="78" y="676"/>
                  </a:lnTo>
                  <a:lnTo>
                    <a:pt x="72" y="667"/>
                  </a:lnTo>
                  <a:lnTo>
                    <a:pt x="82" y="657"/>
                  </a:lnTo>
                  <a:lnTo>
                    <a:pt x="110" y="647"/>
                  </a:lnTo>
                  <a:lnTo>
                    <a:pt x="134" y="639"/>
                  </a:lnTo>
                  <a:lnTo>
                    <a:pt x="128" y="625"/>
                  </a:lnTo>
                  <a:lnTo>
                    <a:pt x="96" y="625"/>
                  </a:lnTo>
                  <a:lnTo>
                    <a:pt x="105" y="600"/>
                  </a:lnTo>
                  <a:lnTo>
                    <a:pt x="99" y="564"/>
                  </a:lnTo>
                  <a:lnTo>
                    <a:pt x="102" y="539"/>
                  </a:lnTo>
                  <a:lnTo>
                    <a:pt x="130" y="543"/>
                  </a:lnTo>
                  <a:lnTo>
                    <a:pt x="142" y="517"/>
                  </a:lnTo>
                  <a:lnTo>
                    <a:pt x="136" y="501"/>
                  </a:lnTo>
                  <a:lnTo>
                    <a:pt x="155" y="511"/>
                  </a:lnTo>
                  <a:lnTo>
                    <a:pt x="176" y="505"/>
                  </a:lnTo>
                  <a:lnTo>
                    <a:pt x="193" y="516"/>
                  </a:lnTo>
                  <a:lnTo>
                    <a:pt x="213" y="518"/>
                  </a:lnTo>
                  <a:lnTo>
                    <a:pt x="216" y="494"/>
                  </a:lnTo>
                  <a:lnTo>
                    <a:pt x="217" y="489"/>
                  </a:lnTo>
                  <a:lnTo>
                    <a:pt x="207" y="487"/>
                  </a:lnTo>
                  <a:lnTo>
                    <a:pt x="193" y="491"/>
                  </a:lnTo>
                  <a:lnTo>
                    <a:pt x="183" y="489"/>
                  </a:lnTo>
                  <a:lnTo>
                    <a:pt x="168" y="483"/>
                  </a:lnTo>
                  <a:lnTo>
                    <a:pt x="158" y="481"/>
                  </a:lnTo>
                  <a:lnTo>
                    <a:pt x="135" y="468"/>
                  </a:lnTo>
                  <a:lnTo>
                    <a:pt x="112" y="456"/>
                  </a:lnTo>
                  <a:lnTo>
                    <a:pt x="102" y="454"/>
                  </a:lnTo>
                  <a:lnTo>
                    <a:pt x="109" y="435"/>
                  </a:lnTo>
                  <a:lnTo>
                    <a:pt x="73" y="423"/>
                  </a:lnTo>
                  <a:lnTo>
                    <a:pt x="54" y="408"/>
                  </a:lnTo>
                  <a:lnTo>
                    <a:pt x="83" y="396"/>
                  </a:lnTo>
                  <a:lnTo>
                    <a:pt x="67" y="380"/>
                  </a:lnTo>
                  <a:lnTo>
                    <a:pt x="70" y="360"/>
                  </a:lnTo>
                  <a:lnTo>
                    <a:pt x="66" y="350"/>
                  </a:lnTo>
                  <a:lnTo>
                    <a:pt x="85" y="352"/>
                  </a:lnTo>
                  <a:lnTo>
                    <a:pt x="100" y="349"/>
                  </a:lnTo>
                  <a:lnTo>
                    <a:pt x="91" y="338"/>
                  </a:lnTo>
                  <a:lnTo>
                    <a:pt x="64" y="320"/>
                  </a:lnTo>
                  <a:lnTo>
                    <a:pt x="54" y="323"/>
                  </a:lnTo>
                  <a:lnTo>
                    <a:pt x="43" y="332"/>
                  </a:lnTo>
                  <a:lnTo>
                    <a:pt x="39" y="322"/>
                  </a:lnTo>
                  <a:lnTo>
                    <a:pt x="32" y="309"/>
                  </a:lnTo>
                  <a:lnTo>
                    <a:pt x="35" y="299"/>
                  </a:lnTo>
                  <a:lnTo>
                    <a:pt x="44" y="282"/>
                  </a:lnTo>
                  <a:lnTo>
                    <a:pt x="52" y="259"/>
                  </a:lnTo>
                  <a:lnTo>
                    <a:pt x="34" y="233"/>
                  </a:lnTo>
                  <a:lnTo>
                    <a:pt x="24" y="197"/>
                  </a:lnTo>
                  <a:lnTo>
                    <a:pt x="18" y="177"/>
                  </a:lnTo>
                  <a:lnTo>
                    <a:pt x="0" y="152"/>
                  </a:lnTo>
                  <a:lnTo>
                    <a:pt x="8" y="140"/>
                  </a:lnTo>
                  <a:lnTo>
                    <a:pt x="35" y="132"/>
                  </a:lnTo>
                  <a:lnTo>
                    <a:pt x="61" y="134"/>
                  </a:lnTo>
                  <a:lnTo>
                    <a:pt x="73" y="114"/>
                  </a:lnTo>
                  <a:lnTo>
                    <a:pt x="100" y="111"/>
                  </a:lnTo>
                  <a:lnTo>
                    <a:pt x="98" y="90"/>
                  </a:lnTo>
                  <a:lnTo>
                    <a:pt x="113" y="72"/>
                  </a:lnTo>
                  <a:lnTo>
                    <a:pt x="117" y="91"/>
                  </a:lnTo>
                  <a:lnTo>
                    <a:pt x="149" y="96"/>
                  </a:lnTo>
                  <a:lnTo>
                    <a:pt x="184" y="93"/>
                  </a:lnTo>
                  <a:lnTo>
                    <a:pt x="178" y="83"/>
                  </a:lnTo>
                  <a:lnTo>
                    <a:pt x="202" y="71"/>
                  </a:lnTo>
                  <a:lnTo>
                    <a:pt x="224" y="66"/>
                  </a:lnTo>
                  <a:lnTo>
                    <a:pt x="224" y="74"/>
                  </a:lnTo>
                  <a:lnTo>
                    <a:pt x="248" y="44"/>
                  </a:lnTo>
                  <a:lnTo>
                    <a:pt x="262" y="33"/>
                  </a:lnTo>
                  <a:lnTo>
                    <a:pt x="250" y="23"/>
                  </a:lnTo>
                  <a:lnTo>
                    <a:pt x="278" y="5"/>
                  </a:lnTo>
                  <a:lnTo>
                    <a:pt x="295" y="9"/>
                  </a:lnTo>
                  <a:lnTo>
                    <a:pt x="313" y="0"/>
                  </a:lnTo>
                  <a:lnTo>
                    <a:pt x="326" y="2"/>
                  </a:lnTo>
                  <a:lnTo>
                    <a:pt x="341" y="15"/>
                  </a:lnTo>
                  <a:lnTo>
                    <a:pt x="368" y="29"/>
                  </a:lnTo>
                  <a:lnTo>
                    <a:pt x="394" y="12"/>
                  </a:lnTo>
                  <a:lnTo>
                    <a:pt x="424" y="3"/>
                  </a:lnTo>
                  <a:lnTo>
                    <a:pt x="449" y="23"/>
                  </a:lnTo>
                  <a:lnTo>
                    <a:pt x="461" y="0"/>
                  </a:lnTo>
                  <a:lnTo>
                    <a:pt x="487" y="20"/>
                  </a:lnTo>
                  <a:lnTo>
                    <a:pt x="514" y="12"/>
                  </a:lnTo>
                  <a:lnTo>
                    <a:pt x="514" y="15"/>
                  </a:lnTo>
                  <a:lnTo>
                    <a:pt x="535" y="43"/>
                  </a:lnTo>
                  <a:lnTo>
                    <a:pt x="552" y="69"/>
                  </a:lnTo>
                  <a:lnTo>
                    <a:pt x="565" y="86"/>
                  </a:lnTo>
                  <a:lnTo>
                    <a:pt x="609" y="127"/>
                  </a:lnTo>
                  <a:lnTo>
                    <a:pt x="625" y="119"/>
                  </a:lnTo>
                  <a:lnTo>
                    <a:pt x="644" y="131"/>
                  </a:lnTo>
                  <a:lnTo>
                    <a:pt x="664" y="164"/>
                  </a:lnTo>
                  <a:lnTo>
                    <a:pt x="666" y="184"/>
                  </a:lnTo>
                  <a:lnTo>
                    <a:pt x="688" y="211"/>
                  </a:lnTo>
                  <a:lnTo>
                    <a:pt x="698" y="212"/>
                  </a:lnTo>
                  <a:lnTo>
                    <a:pt x="711" y="195"/>
                  </a:lnTo>
                  <a:lnTo>
                    <a:pt x="725" y="209"/>
                  </a:lnTo>
                  <a:lnTo>
                    <a:pt x="718" y="255"/>
                  </a:lnTo>
                  <a:lnTo>
                    <a:pt x="713" y="270"/>
                  </a:lnTo>
                  <a:lnTo>
                    <a:pt x="703" y="284"/>
                  </a:lnTo>
                  <a:lnTo>
                    <a:pt x="718" y="305"/>
                  </a:lnTo>
                  <a:lnTo>
                    <a:pt x="736" y="325"/>
                  </a:lnTo>
                  <a:lnTo>
                    <a:pt x="721" y="350"/>
                  </a:lnTo>
                  <a:lnTo>
                    <a:pt x="746" y="369"/>
                  </a:lnTo>
                  <a:lnTo>
                    <a:pt x="758" y="391"/>
                  </a:lnTo>
                  <a:lnTo>
                    <a:pt x="787" y="414"/>
                  </a:lnTo>
                  <a:lnTo>
                    <a:pt x="810" y="436"/>
                  </a:lnTo>
                  <a:lnTo>
                    <a:pt x="852" y="451"/>
                  </a:lnTo>
                  <a:lnTo>
                    <a:pt x="864" y="439"/>
                  </a:lnTo>
                  <a:lnTo>
                    <a:pt x="874" y="473"/>
                  </a:lnTo>
                  <a:lnTo>
                    <a:pt x="910" y="489"/>
                  </a:lnTo>
                  <a:lnTo>
                    <a:pt x="928" y="481"/>
                  </a:lnTo>
                  <a:lnTo>
                    <a:pt x="948" y="484"/>
                  </a:lnTo>
                  <a:lnTo>
                    <a:pt x="972" y="497"/>
                  </a:lnTo>
                  <a:lnTo>
                    <a:pt x="976" y="497"/>
                  </a:lnTo>
                  <a:lnTo>
                    <a:pt x="993" y="523"/>
                  </a:lnTo>
                  <a:lnTo>
                    <a:pt x="963" y="570"/>
                  </a:lnTo>
                  <a:lnTo>
                    <a:pt x="940" y="592"/>
                  </a:lnTo>
                  <a:lnTo>
                    <a:pt x="958" y="610"/>
                  </a:lnTo>
                  <a:lnTo>
                    <a:pt x="960" y="620"/>
                  </a:lnTo>
                  <a:lnTo>
                    <a:pt x="972" y="611"/>
                  </a:lnTo>
                  <a:lnTo>
                    <a:pt x="982" y="613"/>
                  </a:lnTo>
                  <a:lnTo>
                    <a:pt x="1005" y="626"/>
                  </a:lnTo>
                  <a:lnTo>
                    <a:pt x="1008" y="640"/>
                  </a:lnTo>
                  <a:lnTo>
                    <a:pt x="1007" y="650"/>
                  </a:lnTo>
                  <a:lnTo>
                    <a:pt x="991" y="658"/>
                  </a:lnTo>
                  <a:lnTo>
                    <a:pt x="981" y="662"/>
                  </a:lnTo>
                  <a:lnTo>
                    <a:pt x="976" y="661"/>
                  </a:lnTo>
                  <a:lnTo>
                    <a:pt x="956" y="659"/>
                  </a:lnTo>
                  <a:lnTo>
                    <a:pt x="941" y="667"/>
                  </a:lnTo>
                  <a:lnTo>
                    <a:pt x="938" y="692"/>
                  </a:lnTo>
                  <a:lnTo>
                    <a:pt x="950" y="708"/>
                  </a:lnTo>
                  <a:lnTo>
                    <a:pt x="974" y="712"/>
                  </a:lnTo>
                  <a:lnTo>
                    <a:pt x="984" y="713"/>
                  </a:lnTo>
                  <a:lnTo>
                    <a:pt x="999" y="715"/>
                  </a:lnTo>
                  <a:lnTo>
                    <a:pt x="1018" y="717"/>
                  </a:lnTo>
                  <a:lnTo>
                    <a:pt x="1023" y="718"/>
                  </a:lnTo>
                  <a:lnTo>
                    <a:pt x="1030" y="744"/>
                  </a:lnTo>
                  <a:lnTo>
                    <a:pt x="1037" y="765"/>
                  </a:lnTo>
                  <a:lnTo>
                    <a:pt x="1042" y="769"/>
                  </a:lnTo>
                  <a:lnTo>
                    <a:pt x="1077" y="773"/>
                  </a:lnTo>
                  <a:lnTo>
                    <a:pt x="1091" y="771"/>
                  </a:lnTo>
                  <a:lnTo>
                    <a:pt x="1141" y="777"/>
                  </a:lnTo>
                  <a:lnTo>
                    <a:pt x="1174" y="781"/>
                  </a:lnTo>
                  <a:lnTo>
                    <a:pt x="1186" y="807"/>
                  </a:lnTo>
                  <a:lnTo>
                    <a:pt x="1186" y="807"/>
                  </a:lnTo>
                  <a:lnTo>
                    <a:pt x="1194" y="823"/>
                  </a:lnTo>
                  <a:lnTo>
                    <a:pt x="1215" y="851"/>
                  </a:lnTo>
                  <a:lnTo>
                    <a:pt x="1229" y="863"/>
                  </a:lnTo>
                  <a:lnTo>
                    <a:pt x="1250" y="855"/>
                  </a:lnTo>
                  <a:lnTo>
                    <a:pt x="1272" y="797"/>
                  </a:lnTo>
                  <a:lnTo>
                    <a:pt x="1283" y="795"/>
                  </a:lnTo>
                  <a:lnTo>
                    <a:pt x="1290" y="775"/>
                  </a:lnTo>
                  <a:lnTo>
                    <a:pt x="1295" y="766"/>
                  </a:lnTo>
                  <a:lnTo>
                    <a:pt x="1316" y="762"/>
                  </a:lnTo>
                  <a:lnTo>
                    <a:pt x="1335" y="741"/>
                  </a:lnTo>
                  <a:lnTo>
                    <a:pt x="1347" y="739"/>
                  </a:lnTo>
                  <a:lnTo>
                    <a:pt x="1356" y="750"/>
                  </a:lnTo>
                  <a:lnTo>
                    <a:pt x="1364" y="750"/>
                  </a:lnTo>
                  <a:lnTo>
                    <a:pt x="1375" y="761"/>
                  </a:lnTo>
                  <a:lnTo>
                    <a:pt x="1394" y="773"/>
                  </a:lnTo>
                  <a:lnTo>
                    <a:pt x="1409" y="775"/>
                  </a:lnTo>
                  <a:lnTo>
                    <a:pt x="1419" y="776"/>
                  </a:lnTo>
                  <a:lnTo>
                    <a:pt x="1424" y="777"/>
                  </a:lnTo>
                  <a:lnTo>
                    <a:pt x="1441" y="789"/>
                  </a:lnTo>
                  <a:lnTo>
                    <a:pt x="1463" y="817"/>
                  </a:lnTo>
                  <a:lnTo>
                    <a:pt x="1453" y="820"/>
                  </a:lnTo>
                  <a:lnTo>
                    <a:pt x="1442" y="828"/>
                  </a:lnTo>
                  <a:lnTo>
                    <a:pt x="1437" y="828"/>
                  </a:lnTo>
                  <a:lnTo>
                    <a:pt x="1419" y="815"/>
                  </a:lnTo>
                  <a:lnTo>
                    <a:pt x="1414" y="815"/>
                  </a:lnTo>
                  <a:lnTo>
                    <a:pt x="1396" y="811"/>
                  </a:lnTo>
                  <a:lnTo>
                    <a:pt x="1382" y="825"/>
                  </a:lnTo>
                  <a:lnTo>
                    <a:pt x="1380" y="855"/>
                  </a:lnTo>
                  <a:lnTo>
                    <a:pt x="1362" y="853"/>
                  </a:lnTo>
                  <a:lnTo>
                    <a:pt x="1346" y="875"/>
                  </a:lnTo>
                  <a:lnTo>
                    <a:pt x="1366" y="907"/>
                  </a:lnTo>
                  <a:lnTo>
                    <a:pt x="1378" y="943"/>
                  </a:lnTo>
                  <a:lnTo>
                    <a:pt x="1408" y="957"/>
                  </a:lnTo>
                  <a:lnTo>
                    <a:pt x="1422" y="951"/>
                  </a:lnTo>
                  <a:lnTo>
                    <a:pt x="1427" y="951"/>
                  </a:lnTo>
                  <a:lnTo>
                    <a:pt x="1437" y="953"/>
                  </a:lnTo>
                  <a:lnTo>
                    <a:pt x="1445" y="964"/>
                  </a:lnTo>
                  <a:lnTo>
                    <a:pt x="1442" y="989"/>
                  </a:lnTo>
                  <a:lnTo>
                    <a:pt x="1442" y="989"/>
                  </a:lnTo>
                  <a:lnTo>
                    <a:pt x="1432" y="992"/>
                  </a:lnTo>
                  <a:lnTo>
                    <a:pt x="1419" y="1009"/>
                  </a:lnTo>
                  <a:lnTo>
                    <a:pt x="1409" y="1033"/>
                  </a:lnTo>
                  <a:lnTo>
                    <a:pt x="1415" y="1069"/>
                  </a:lnTo>
                  <a:lnTo>
                    <a:pt x="1392" y="1068"/>
                  </a:lnTo>
                  <a:lnTo>
                    <a:pt x="1383" y="1089"/>
                  </a:lnTo>
                  <a:lnTo>
                    <a:pt x="1354" y="1103"/>
                  </a:lnTo>
                  <a:lnTo>
                    <a:pt x="1335" y="1105"/>
                  </a:lnTo>
                  <a:lnTo>
                    <a:pt x="1335" y="1132"/>
                  </a:lnTo>
                  <a:lnTo>
                    <a:pt x="1335" y="1176"/>
                  </a:lnTo>
                  <a:lnTo>
                    <a:pt x="1321" y="1202"/>
                  </a:lnTo>
                  <a:lnTo>
                    <a:pt x="1333" y="1236"/>
                  </a:lnTo>
                  <a:lnTo>
                    <a:pt x="1339" y="1274"/>
                  </a:lnTo>
                  <a:lnTo>
                    <a:pt x="1369" y="1296"/>
                  </a:lnTo>
                  <a:lnTo>
                    <a:pt x="1370" y="1337"/>
                  </a:lnTo>
                  <a:lnTo>
                    <a:pt x="1388" y="1379"/>
                  </a:lnTo>
                  <a:lnTo>
                    <a:pt x="1426" y="1400"/>
                  </a:lnTo>
                  <a:lnTo>
                    <a:pt x="1405" y="1392"/>
                  </a:lnTo>
                  <a:lnTo>
                    <a:pt x="1437" y="1405"/>
                  </a:lnTo>
                  <a:lnTo>
                    <a:pt x="1443" y="1416"/>
                  </a:lnTo>
                  <a:lnTo>
                    <a:pt x="1458" y="1423"/>
                  </a:lnTo>
                  <a:lnTo>
                    <a:pt x="1481" y="1435"/>
                  </a:lnTo>
                  <a:lnTo>
                    <a:pt x="1506" y="1458"/>
                  </a:lnTo>
                  <a:lnTo>
                    <a:pt x="1517" y="1483"/>
                  </a:lnTo>
                  <a:lnTo>
                    <a:pt x="1533" y="1507"/>
                  </a:lnTo>
                  <a:lnTo>
                    <a:pt x="1568" y="1522"/>
                  </a:lnTo>
                  <a:lnTo>
                    <a:pt x="1569" y="1554"/>
                  </a:lnTo>
                  <a:lnTo>
                    <a:pt x="1559" y="1572"/>
                  </a:lnTo>
                  <a:lnTo>
                    <a:pt x="1547" y="1578"/>
                  </a:lnTo>
                  <a:lnTo>
                    <a:pt x="1538" y="1602"/>
                  </a:lnTo>
                  <a:lnTo>
                    <a:pt x="1519" y="1622"/>
                  </a:lnTo>
                  <a:lnTo>
                    <a:pt x="1504" y="1628"/>
                  </a:lnTo>
                  <a:lnTo>
                    <a:pt x="1493" y="1662"/>
                  </a:lnTo>
                  <a:lnTo>
                    <a:pt x="1477" y="1679"/>
                  </a:lnTo>
                  <a:lnTo>
                    <a:pt x="1456" y="1690"/>
                  </a:lnTo>
                  <a:lnTo>
                    <a:pt x="1433" y="1680"/>
                  </a:lnTo>
                  <a:lnTo>
                    <a:pt x="1415" y="1688"/>
                  </a:lnTo>
                  <a:lnTo>
                    <a:pt x="1402" y="1685"/>
                  </a:lnTo>
                  <a:lnTo>
                    <a:pt x="1388" y="1707"/>
                  </a:lnTo>
                  <a:lnTo>
                    <a:pt x="1367" y="1725"/>
                  </a:lnTo>
                  <a:lnTo>
                    <a:pt x="1388" y="1767"/>
                  </a:lnTo>
                  <a:lnTo>
                    <a:pt x="1378" y="1797"/>
                  </a:lnTo>
                  <a:lnTo>
                    <a:pt x="1376" y="1833"/>
                  </a:lnTo>
                  <a:lnTo>
                    <a:pt x="1364" y="1847"/>
                  </a:lnTo>
                  <a:lnTo>
                    <a:pt x="1390" y="1862"/>
                  </a:lnTo>
                  <a:lnTo>
                    <a:pt x="1406" y="1881"/>
                  </a:lnTo>
                  <a:lnTo>
                    <a:pt x="1420" y="1892"/>
                  </a:lnTo>
                  <a:lnTo>
                    <a:pt x="1411" y="1908"/>
                  </a:lnTo>
                  <a:lnTo>
                    <a:pt x="1406" y="1932"/>
                  </a:lnTo>
                  <a:lnTo>
                    <a:pt x="1388" y="1949"/>
                  </a:lnTo>
                  <a:lnTo>
                    <a:pt x="1378" y="1974"/>
                  </a:lnTo>
                  <a:lnTo>
                    <a:pt x="1363" y="1977"/>
                  </a:lnTo>
                  <a:lnTo>
                    <a:pt x="1351" y="1977"/>
                  </a:lnTo>
                  <a:lnTo>
                    <a:pt x="1337" y="1982"/>
                  </a:lnTo>
                  <a:lnTo>
                    <a:pt x="1307" y="1973"/>
                  </a:lnTo>
                  <a:lnTo>
                    <a:pt x="1274" y="1980"/>
                  </a:lnTo>
                  <a:lnTo>
                    <a:pt x="1229" y="1988"/>
                  </a:lnTo>
                  <a:lnTo>
                    <a:pt x="1180" y="1986"/>
                  </a:lnTo>
                  <a:lnTo>
                    <a:pt x="1155" y="2008"/>
                  </a:lnTo>
                  <a:lnTo>
                    <a:pt x="1133" y="2003"/>
                  </a:lnTo>
                  <a:lnTo>
                    <a:pt x="1116" y="1999"/>
                  </a:lnTo>
                  <a:lnTo>
                    <a:pt x="1107" y="1966"/>
                  </a:lnTo>
                  <a:lnTo>
                    <a:pt x="1149" y="1957"/>
                  </a:lnTo>
                  <a:lnTo>
                    <a:pt x="1155" y="1930"/>
                  </a:lnTo>
                  <a:lnTo>
                    <a:pt x="1140" y="1894"/>
                  </a:lnTo>
                  <a:lnTo>
                    <a:pt x="1164" y="1873"/>
                  </a:lnTo>
                  <a:lnTo>
                    <a:pt x="1170" y="1846"/>
                  </a:lnTo>
                  <a:lnTo>
                    <a:pt x="1179" y="1825"/>
                  </a:lnTo>
                  <a:lnTo>
                    <a:pt x="1197" y="1801"/>
                  </a:lnTo>
                  <a:lnTo>
                    <a:pt x="1176" y="1765"/>
                  </a:lnTo>
                  <a:lnTo>
                    <a:pt x="1152" y="1771"/>
                  </a:lnTo>
                  <a:lnTo>
                    <a:pt x="1134" y="1732"/>
                  </a:lnTo>
                  <a:lnTo>
                    <a:pt x="1116" y="1726"/>
                  </a:lnTo>
                  <a:lnTo>
                    <a:pt x="1089" y="1732"/>
                  </a:lnTo>
                  <a:lnTo>
                    <a:pt x="1080" y="1714"/>
                  </a:lnTo>
                  <a:lnTo>
                    <a:pt x="1092" y="1663"/>
                  </a:lnTo>
                  <a:lnTo>
                    <a:pt x="1065" y="1651"/>
                  </a:lnTo>
                  <a:lnTo>
                    <a:pt x="1044" y="1666"/>
                  </a:lnTo>
                  <a:lnTo>
                    <a:pt x="1008" y="1657"/>
                  </a:lnTo>
                  <a:lnTo>
                    <a:pt x="990" y="1633"/>
                  </a:lnTo>
                  <a:lnTo>
                    <a:pt x="984" y="1603"/>
                  </a:lnTo>
                  <a:lnTo>
                    <a:pt x="975" y="1579"/>
                  </a:lnTo>
                  <a:lnTo>
                    <a:pt x="960" y="1561"/>
                  </a:lnTo>
                  <a:lnTo>
                    <a:pt x="930" y="1573"/>
                  </a:lnTo>
                  <a:lnTo>
                    <a:pt x="912" y="1525"/>
                  </a:lnTo>
                  <a:lnTo>
                    <a:pt x="894" y="1513"/>
                  </a:lnTo>
                  <a:lnTo>
                    <a:pt x="870" y="1525"/>
                  </a:lnTo>
                  <a:lnTo>
                    <a:pt x="822" y="1495"/>
                  </a:lnTo>
                  <a:lnTo>
                    <a:pt x="798" y="1459"/>
                  </a:lnTo>
                  <a:lnTo>
                    <a:pt x="795" y="1444"/>
                  </a:lnTo>
                  <a:lnTo>
                    <a:pt x="810" y="1417"/>
                  </a:lnTo>
                  <a:lnTo>
                    <a:pt x="792" y="1399"/>
                  </a:lnTo>
                  <a:lnTo>
                    <a:pt x="771" y="1390"/>
                  </a:lnTo>
                  <a:lnTo>
                    <a:pt x="747" y="1405"/>
                  </a:lnTo>
                  <a:lnTo>
                    <a:pt x="726" y="1435"/>
                  </a:lnTo>
                  <a:lnTo>
                    <a:pt x="690" y="1447"/>
                  </a:lnTo>
                  <a:lnTo>
                    <a:pt x="672" y="1477"/>
                  </a:lnTo>
                  <a:lnTo>
                    <a:pt x="699" y="1498"/>
                  </a:lnTo>
                  <a:lnTo>
                    <a:pt x="702" y="1534"/>
                  </a:lnTo>
                  <a:lnTo>
                    <a:pt x="705" y="1585"/>
                  </a:lnTo>
                  <a:lnTo>
                    <a:pt x="690" y="1606"/>
                  </a:lnTo>
                  <a:lnTo>
                    <a:pt x="678" y="1633"/>
                  </a:lnTo>
                  <a:lnTo>
                    <a:pt x="651" y="1624"/>
                  </a:lnTo>
                  <a:lnTo>
                    <a:pt x="627" y="1630"/>
                  </a:lnTo>
                  <a:lnTo>
                    <a:pt x="609" y="1648"/>
                  </a:lnTo>
                  <a:lnTo>
                    <a:pt x="636" y="1669"/>
                  </a:lnTo>
                  <a:lnTo>
                    <a:pt x="619" y="1691"/>
                  </a:lnTo>
                  <a:lnTo>
                    <a:pt x="593" y="1704"/>
                  </a:lnTo>
                  <a:lnTo>
                    <a:pt x="560" y="1691"/>
                  </a:lnTo>
                  <a:lnTo>
                    <a:pt x="544" y="1677"/>
                  </a:lnTo>
                  <a:lnTo>
                    <a:pt x="521" y="1667"/>
                  </a:lnTo>
                  <a:lnTo>
                    <a:pt x="497" y="1667"/>
                  </a:lnTo>
                  <a:lnTo>
                    <a:pt x="482" y="1655"/>
                  </a:lnTo>
                  <a:lnTo>
                    <a:pt x="478" y="1640"/>
                  </a:lnTo>
                  <a:lnTo>
                    <a:pt x="430" y="1611"/>
                  </a:lnTo>
                  <a:lnTo>
                    <a:pt x="418" y="1589"/>
                  </a:lnTo>
                  <a:lnTo>
                    <a:pt x="397" y="1601"/>
                  </a:lnTo>
                  <a:lnTo>
                    <a:pt x="377" y="1599"/>
                  </a:lnTo>
                  <a:close/>
                </a:path>
              </a:pathLst>
            </a:custGeom>
            <a:solidFill>
              <a:srgbClr val="009900">
                <a:alpha val="67000"/>
              </a:srgbClr>
            </a:solidFill>
            <a:ln w="4680">
              <a:solidFill>
                <a:srgbClr val="6e6e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745160" y="4041720"/>
              <a:ext cx="1162080" cy="1389240"/>
            </a:xfrm>
            <a:custGeom>
              <a:avLst/>
              <a:gdLst/>
              <a:ahLst/>
              <a:rect l="l" t="t" r="r" b="b"/>
              <a:pathLst>
                <a:path w="732" h="875">
                  <a:moveTo>
                    <a:pt x="208" y="875"/>
                  </a:moveTo>
                  <a:lnTo>
                    <a:pt x="205" y="860"/>
                  </a:lnTo>
                  <a:lnTo>
                    <a:pt x="216" y="845"/>
                  </a:lnTo>
                  <a:lnTo>
                    <a:pt x="210" y="828"/>
                  </a:lnTo>
                  <a:lnTo>
                    <a:pt x="232" y="812"/>
                  </a:lnTo>
                  <a:lnTo>
                    <a:pt x="222" y="777"/>
                  </a:lnTo>
                  <a:lnTo>
                    <a:pt x="204" y="740"/>
                  </a:lnTo>
                  <a:lnTo>
                    <a:pt x="204" y="708"/>
                  </a:lnTo>
                  <a:lnTo>
                    <a:pt x="189" y="689"/>
                  </a:lnTo>
                  <a:lnTo>
                    <a:pt x="165" y="645"/>
                  </a:lnTo>
                  <a:lnTo>
                    <a:pt x="141" y="627"/>
                  </a:lnTo>
                  <a:lnTo>
                    <a:pt x="105" y="611"/>
                  </a:lnTo>
                  <a:lnTo>
                    <a:pt x="91" y="612"/>
                  </a:lnTo>
                  <a:lnTo>
                    <a:pt x="74" y="611"/>
                  </a:lnTo>
                  <a:lnTo>
                    <a:pt x="65" y="582"/>
                  </a:lnTo>
                  <a:lnTo>
                    <a:pt x="67" y="568"/>
                  </a:lnTo>
                  <a:lnTo>
                    <a:pt x="51" y="528"/>
                  </a:lnTo>
                  <a:lnTo>
                    <a:pt x="62" y="551"/>
                  </a:lnTo>
                  <a:lnTo>
                    <a:pt x="38" y="513"/>
                  </a:lnTo>
                  <a:lnTo>
                    <a:pt x="18" y="498"/>
                  </a:lnTo>
                  <a:lnTo>
                    <a:pt x="12" y="508"/>
                  </a:lnTo>
                  <a:lnTo>
                    <a:pt x="15" y="468"/>
                  </a:lnTo>
                  <a:lnTo>
                    <a:pt x="30" y="447"/>
                  </a:lnTo>
                  <a:lnTo>
                    <a:pt x="8" y="422"/>
                  </a:lnTo>
                  <a:lnTo>
                    <a:pt x="0" y="413"/>
                  </a:lnTo>
                  <a:lnTo>
                    <a:pt x="2" y="399"/>
                  </a:lnTo>
                  <a:lnTo>
                    <a:pt x="14" y="392"/>
                  </a:lnTo>
                  <a:lnTo>
                    <a:pt x="27" y="395"/>
                  </a:lnTo>
                  <a:lnTo>
                    <a:pt x="41" y="408"/>
                  </a:lnTo>
                  <a:lnTo>
                    <a:pt x="57" y="401"/>
                  </a:lnTo>
                  <a:lnTo>
                    <a:pt x="71" y="396"/>
                  </a:lnTo>
                  <a:lnTo>
                    <a:pt x="66" y="377"/>
                  </a:lnTo>
                  <a:lnTo>
                    <a:pt x="92" y="366"/>
                  </a:lnTo>
                  <a:lnTo>
                    <a:pt x="104" y="369"/>
                  </a:lnTo>
                  <a:lnTo>
                    <a:pt x="120" y="348"/>
                  </a:lnTo>
                  <a:lnTo>
                    <a:pt x="132" y="322"/>
                  </a:lnTo>
                  <a:lnTo>
                    <a:pt x="166" y="304"/>
                  </a:lnTo>
                  <a:lnTo>
                    <a:pt x="171" y="277"/>
                  </a:lnTo>
                  <a:lnTo>
                    <a:pt x="142" y="258"/>
                  </a:lnTo>
                  <a:lnTo>
                    <a:pt x="162" y="240"/>
                  </a:lnTo>
                  <a:lnTo>
                    <a:pt x="190" y="235"/>
                  </a:lnTo>
                  <a:lnTo>
                    <a:pt x="214" y="241"/>
                  </a:lnTo>
                  <a:lnTo>
                    <a:pt x="223" y="216"/>
                  </a:lnTo>
                  <a:lnTo>
                    <a:pt x="240" y="198"/>
                  </a:lnTo>
                  <a:lnTo>
                    <a:pt x="237" y="106"/>
                  </a:lnTo>
                  <a:lnTo>
                    <a:pt x="208" y="90"/>
                  </a:lnTo>
                  <a:lnTo>
                    <a:pt x="226" y="58"/>
                  </a:lnTo>
                  <a:lnTo>
                    <a:pt x="264" y="45"/>
                  </a:lnTo>
                  <a:lnTo>
                    <a:pt x="280" y="15"/>
                  </a:lnTo>
                  <a:lnTo>
                    <a:pt x="310" y="0"/>
                  </a:lnTo>
                  <a:lnTo>
                    <a:pt x="330" y="9"/>
                  </a:lnTo>
                  <a:lnTo>
                    <a:pt x="343" y="28"/>
                  </a:lnTo>
                  <a:lnTo>
                    <a:pt x="333" y="51"/>
                  </a:lnTo>
                  <a:lnTo>
                    <a:pt x="334" y="70"/>
                  </a:lnTo>
                  <a:lnTo>
                    <a:pt x="360" y="108"/>
                  </a:lnTo>
                  <a:lnTo>
                    <a:pt x="406" y="135"/>
                  </a:lnTo>
                  <a:lnTo>
                    <a:pt x="432" y="127"/>
                  </a:lnTo>
                  <a:lnTo>
                    <a:pt x="450" y="136"/>
                  </a:lnTo>
                  <a:lnTo>
                    <a:pt x="466" y="184"/>
                  </a:lnTo>
                  <a:lnTo>
                    <a:pt x="499" y="171"/>
                  </a:lnTo>
                  <a:lnTo>
                    <a:pt x="510" y="193"/>
                  </a:lnTo>
                  <a:lnTo>
                    <a:pt x="516" y="208"/>
                  </a:lnTo>
                  <a:lnTo>
                    <a:pt x="523" y="240"/>
                  </a:lnTo>
                  <a:lnTo>
                    <a:pt x="538" y="264"/>
                  </a:lnTo>
                  <a:lnTo>
                    <a:pt x="583" y="279"/>
                  </a:lnTo>
                  <a:lnTo>
                    <a:pt x="603" y="261"/>
                  </a:lnTo>
                  <a:lnTo>
                    <a:pt x="630" y="274"/>
                  </a:lnTo>
                  <a:lnTo>
                    <a:pt x="613" y="327"/>
                  </a:lnTo>
                  <a:lnTo>
                    <a:pt x="624" y="346"/>
                  </a:lnTo>
                  <a:lnTo>
                    <a:pt x="648" y="337"/>
                  </a:lnTo>
                  <a:lnTo>
                    <a:pt x="672" y="342"/>
                  </a:lnTo>
                  <a:lnTo>
                    <a:pt x="687" y="382"/>
                  </a:lnTo>
                  <a:lnTo>
                    <a:pt x="714" y="376"/>
                  </a:lnTo>
                  <a:lnTo>
                    <a:pt x="732" y="414"/>
                  </a:lnTo>
                  <a:lnTo>
                    <a:pt x="715" y="438"/>
                  </a:lnTo>
                  <a:lnTo>
                    <a:pt x="705" y="457"/>
                  </a:lnTo>
                  <a:lnTo>
                    <a:pt x="700" y="484"/>
                  </a:lnTo>
                  <a:lnTo>
                    <a:pt x="676" y="505"/>
                  </a:lnTo>
                  <a:lnTo>
                    <a:pt x="691" y="541"/>
                  </a:lnTo>
                  <a:lnTo>
                    <a:pt x="684" y="570"/>
                  </a:lnTo>
                  <a:lnTo>
                    <a:pt x="643" y="576"/>
                  </a:lnTo>
                  <a:lnTo>
                    <a:pt x="651" y="609"/>
                  </a:lnTo>
                  <a:lnTo>
                    <a:pt x="668" y="613"/>
                  </a:lnTo>
                  <a:lnTo>
                    <a:pt x="662" y="625"/>
                  </a:lnTo>
                  <a:lnTo>
                    <a:pt x="643" y="636"/>
                  </a:lnTo>
                  <a:lnTo>
                    <a:pt x="616" y="639"/>
                  </a:lnTo>
                  <a:lnTo>
                    <a:pt x="575" y="640"/>
                  </a:lnTo>
                  <a:lnTo>
                    <a:pt x="550" y="628"/>
                  </a:lnTo>
                  <a:lnTo>
                    <a:pt x="531" y="629"/>
                  </a:lnTo>
                  <a:lnTo>
                    <a:pt x="522" y="647"/>
                  </a:lnTo>
                  <a:lnTo>
                    <a:pt x="507" y="668"/>
                  </a:lnTo>
                  <a:lnTo>
                    <a:pt x="481" y="695"/>
                  </a:lnTo>
                  <a:lnTo>
                    <a:pt x="483" y="719"/>
                  </a:lnTo>
                  <a:lnTo>
                    <a:pt x="456" y="729"/>
                  </a:lnTo>
                  <a:lnTo>
                    <a:pt x="444" y="702"/>
                  </a:lnTo>
                  <a:lnTo>
                    <a:pt x="417" y="668"/>
                  </a:lnTo>
                  <a:lnTo>
                    <a:pt x="388" y="674"/>
                  </a:lnTo>
                  <a:lnTo>
                    <a:pt x="372" y="701"/>
                  </a:lnTo>
                  <a:lnTo>
                    <a:pt x="309" y="722"/>
                  </a:lnTo>
                  <a:lnTo>
                    <a:pt x="279" y="729"/>
                  </a:lnTo>
                  <a:lnTo>
                    <a:pt x="261" y="762"/>
                  </a:lnTo>
                  <a:lnTo>
                    <a:pt x="262" y="791"/>
                  </a:lnTo>
                  <a:lnTo>
                    <a:pt x="264" y="810"/>
                  </a:lnTo>
                  <a:lnTo>
                    <a:pt x="259" y="825"/>
                  </a:lnTo>
                  <a:lnTo>
                    <a:pt x="271" y="839"/>
                  </a:lnTo>
                  <a:lnTo>
                    <a:pt x="253" y="851"/>
                  </a:lnTo>
                  <a:lnTo>
                    <a:pt x="241" y="846"/>
                  </a:lnTo>
                  <a:lnTo>
                    <a:pt x="208" y="875"/>
                  </a:lnTo>
                  <a:close/>
                </a:path>
              </a:pathLst>
            </a:custGeom>
            <a:solidFill>
              <a:srgbClr val="009900">
                <a:alpha val="6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63" name=""/>
          <p:cNvSpPr/>
          <p:nvPr/>
        </p:nvSpPr>
        <p:spPr>
          <a:xfrm>
            <a:off x="2216160" y="2567160"/>
            <a:ext cx="2263680" cy="2252520"/>
          </a:xfrm>
          <a:custGeom>
            <a:avLst/>
            <a:gdLst/>
            <a:ahLst/>
            <a:rect l="l" t="t" r="r" b="b"/>
            <a:pathLst>
              <a:path w="1426" h="1419">
                <a:moveTo>
                  <a:pt x="678" y="1245"/>
                </a:moveTo>
                <a:lnTo>
                  <a:pt x="647" y="1216"/>
                </a:lnTo>
                <a:lnTo>
                  <a:pt x="703" y="1203"/>
                </a:lnTo>
                <a:lnTo>
                  <a:pt x="687" y="1171"/>
                </a:lnTo>
                <a:lnTo>
                  <a:pt x="678" y="1165"/>
                </a:lnTo>
                <a:lnTo>
                  <a:pt x="670" y="1154"/>
                </a:lnTo>
                <a:lnTo>
                  <a:pt x="657" y="1137"/>
                </a:lnTo>
                <a:lnTo>
                  <a:pt x="647" y="1115"/>
                </a:lnTo>
                <a:lnTo>
                  <a:pt x="605" y="1088"/>
                </a:lnTo>
                <a:lnTo>
                  <a:pt x="589" y="1062"/>
                </a:lnTo>
                <a:lnTo>
                  <a:pt x="562" y="1041"/>
                </a:lnTo>
                <a:lnTo>
                  <a:pt x="556" y="1017"/>
                </a:lnTo>
                <a:lnTo>
                  <a:pt x="551" y="998"/>
                </a:lnTo>
                <a:lnTo>
                  <a:pt x="545" y="963"/>
                </a:lnTo>
                <a:lnTo>
                  <a:pt x="548" y="933"/>
                </a:lnTo>
                <a:lnTo>
                  <a:pt x="530" y="927"/>
                </a:lnTo>
                <a:lnTo>
                  <a:pt x="500" y="921"/>
                </a:lnTo>
                <a:lnTo>
                  <a:pt x="487" y="912"/>
                </a:lnTo>
                <a:lnTo>
                  <a:pt x="475" y="902"/>
                </a:lnTo>
                <a:lnTo>
                  <a:pt x="461" y="884"/>
                </a:lnTo>
                <a:lnTo>
                  <a:pt x="440" y="869"/>
                </a:lnTo>
                <a:lnTo>
                  <a:pt x="430" y="851"/>
                </a:lnTo>
                <a:lnTo>
                  <a:pt x="424" y="837"/>
                </a:lnTo>
                <a:lnTo>
                  <a:pt x="407" y="816"/>
                </a:lnTo>
                <a:lnTo>
                  <a:pt x="364" y="777"/>
                </a:lnTo>
                <a:lnTo>
                  <a:pt x="349" y="746"/>
                </a:lnTo>
                <a:lnTo>
                  <a:pt x="341" y="720"/>
                </a:lnTo>
                <a:lnTo>
                  <a:pt x="319" y="702"/>
                </a:lnTo>
                <a:lnTo>
                  <a:pt x="305" y="690"/>
                </a:lnTo>
                <a:lnTo>
                  <a:pt x="271" y="642"/>
                </a:lnTo>
                <a:lnTo>
                  <a:pt x="262" y="631"/>
                </a:lnTo>
                <a:lnTo>
                  <a:pt x="238" y="628"/>
                </a:lnTo>
                <a:lnTo>
                  <a:pt x="228" y="627"/>
                </a:lnTo>
                <a:lnTo>
                  <a:pt x="202" y="599"/>
                </a:lnTo>
                <a:lnTo>
                  <a:pt x="194" y="582"/>
                </a:lnTo>
                <a:lnTo>
                  <a:pt x="186" y="566"/>
                </a:lnTo>
                <a:lnTo>
                  <a:pt x="173" y="545"/>
                </a:lnTo>
                <a:lnTo>
                  <a:pt x="165" y="539"/>
                </a:lnTo>
                <a:lnTo>
                  <a:pt x="161" y="515"/>
                </a:lnTo>
                <a:lnTo>
                  <a:pt x="157" y="485"/>
                </a:lnTo>
                <a:lnTo>
                  <a:pt x="167" y="456"/>
                </a:lnTo>
                <a:lnTo>
                  <a:pt x="129" y="383"/>
                </a:lnTo>
                <a:lnTo>
                  <a:pt x="121" y="372"/>
                </a:lnTo>
                <a:lnTo>
                  <a:pt x="107" y="360"/>
                </a:lnTo>
                <a:lnTo>
                  <a:pt x="97" y="342"/>
                </a:lnTo>
                <a:lnTo>
                  <a:pt x="118" y="329"/>
                </a:lnTo>
                <a:lnTo>
                  <a:pt x="100" y="297"/>
                </a:lnTo>
                <a:lnTo>
                  <a:pt x="68" y="276"/>
                </a:lnTo>
                <a:lnTo>
                  <a:pt x="68" y="254"/>
                </a:lnTo>
                <a:lnTo>
                  <a:pt x="43" y="251"/>
                </a:lnTo>
                <a:lnTo>
                  <a:pt x="16" y="257"/>
                </a:lnTo>
                <a:lnTo>
                  <a:pt x="0" y="222"/>
                </a:lnTo>
                <a:lnTo>
                  <a:pt x="25" y="206"/>
                </a:lnTo>
                <a:lnTo>
                  <a:pt x="11" y="183"/>
                </a:lnTo>
                <a:lnTo>
                  <a:pt x="4" y="150"/>
                </a:lnTo>
                <a:lnTo>
                  <a:pt x="25" y="122"/>
                </a:lnTo>
                <a:lnTo>
                  <a:pt x="14" y="86"/>
                </a:lnTo>
                <a:lnTo>
                  <a:pt x="23" y="65"/>
                </a:lnTo>
                <a:lnTo>
                  <a:pt x="22" y="41"/>
                </a:lnTo>
                <a:lnTo>
                  <a:pt x="35" y="20"/>
                </a:lnTo>
                <a:lnTo>
                  <a:pt x="55" y="12"/>
                </a:lnTo>
                <a:lnTo>
                  <a:pt x="88" y="17"/>
                </a:lnTo>
                <a:lnTo>
                  <a:pt x="109" y="17"/>
                </a:lnTo>
                <a:lnTo>
                  <a:pt x="128" y="53"/>
                </a:lnTo>
                <a:lnTo>
                  <a:pt x="131" y="74"/>
                </a:lnTo>
                <a:lnTo>
                  <a:pt x="167" y="104"/>
                </a:lnTo>
                <a:lnTo>
                  <a:pt x="178" y="113"/>
                </a:lnTo>
                <a:lnTo>
                  <a:pt x="202" y="123"/>
                </a:lnTo>
                <a:lnTo>
                  <a:pt x="227" y="123"/>
                </a:lnTo>
                <a:lnTo>
                  <a:pt x="220" y="93"/>
                </a:lnTo>
                <a:lnTo>
                  <a:pt x="244" y="101"/>
                </a:lnTo>
                <a:lnTo>
                  <a:pt x="253" y="68"/>
                </a:lnTo>
                <a:lnTo>
                  <a:pt x="278" y="51"/>
                </a:lnTo>
                <a:lnTo>
                  <a:pt x="295" y="18"/>
                </a:lnTo>
                <a:lnTo>
                  <a:pt x="305" y="17"/>
                </a:lnTo>
                <a:lnTo>
                  <a:pt x="316" y="12"/>
                </a:lnTo>
                <a:lnTo>
                  <a:pt x="343" y="35"/>
                </a:lnTo>
                <a:lnTo>
                  <a:pt x="364" y="33"/>
                </a:lnTo>
                <a:lnTo>
                  <a:pt x="385" y="39"/>
                </a:lnTo>
                <a:lnTo>
                  <a:pt x="412" y="38"/>
                </a:lnTo>
                <a:lnTo>
                  <a:pt x="424" y="14"/>
                </a:lnTo>
                <a:lnTo>
                  <a:pt x="440" y="0"/>
                </a:lnTo>
                <a:lnTo>
                  <a:pt x="460" y="26"/>
                </a:lnTo>
                <a:lnTo>
                  <a:pt x="481" y="29"/>
                </a:lnTo>
                <a:lnTo>
                  <a:pt x="517" y="60"/>
                </a:lnTo>
                <a:lnTo>
                  <a:pt x="557" y="66"/>
                </a:lnTo>
                <a:lnTo>
                  <a:pt x="565" y="44"/>
                </a:lnTo>
                <a:lnTo>
                  <a:pt x="589" y="72"/>
                </a:lnTo>
                <a:lnTo>
                  <a:pt x="622" y="71"/>
                </a:lnTo>
                <a:lnTo>
                  <a:pt x="637" y="83"/>
                </a:lnTo>
                <a:lnTo>
                  <a:pt x="668" y="87"/>
                </a:lnTo>
                <a:lnTo>
                  <a:pt x="706" y="75"/>
                </a:lnTo>
                <a:lnTo>
                  <a:pt x="727" y="89"/>
                </a:lnTo>
                <a:lnTo>
                  <a:pt x="746" y="105"/>
                </a:lnTo>
                <a:lnTo>
                  <a:pt x="773" y="117"/>
                </a:lnTo>
                <a:lnTo>
                  <a:pt x="799" y="105"/>
                </a:lnTo>
                <a:lnTo>
                  <a:pt x="809" y="90"/>
                </a:lnTo>
                <a:lnTo>
                  <a:pt x="826" y="75"/>
                </a:lnTo>
                <a:lnTo>
                  <a:pt x="852" y="75"/>
                </a:lnTo>
                <a:lnTo>
                  <a:pt x="856" y="98"/>
                </a:lnTo>
                <a:lnTo>
                  <a:pt x="890" y="108"/>
                </a:lnTo>
                <a:lnTo>
                  <a:pt x="916" y="98"/>
                </a:lnTo>
                <a:lnTo>
                  <a:pt x="914" y="78"/>
                </a:lnTo>
                <a:lnTo>
                  <a:pt x="932" y="80"/>
                </a:lnTo>
                <a:lnTo>
                  <a:pt x="950" y="98"/>
                </a:lnTo>
                <a:lnTo>
                  <a:pt x="979" y="95"/>
                </a:lnTo>
                <a:lnTo>
                  <a:pt x="1003" y="117"/>
                </a:lnTo>
                <a:lnTo>
                  <a:pt x="1025" y="125"/>
                </a:lnTo>
                <a:lnTo>
                  <a:pt x="1034" y="108"/>
                </a:lnTo>
                <a:lnTo>
                  <a:pt x="1075" y="114"/>
                </a:lnTo>
                <a:lnTo>
                  <a:pt x="1087" y="134"/>
                </a:lnTo>
                <a:lnTo>
                  <a:pt x="1096" y="153"/>
                </a:lnTo>
                <a:lnTo>
                  <a:pt x="1114" y="158"/>
                </a:lnTo>
                <a:lnTo>
                  <a:pt x="1112" y="177"/>
                </a:lnTo>
                <a:lnTo>
                  <a:pt x="1105" y="188"/>
                </a:lnTo>
                <a:lnTo>
                  <a:pt x="1123" y="212"/>
                </a:lnTo>
                <a:lnTo>
                  <a:pt x="1156" y="227"/>
                </a:lnTo>
                <a:lnTo>
                  <a:pt x="1219" y="227"/>
                </a:lnTo>
                <a:lnTo>
                  <a:pt x="1184" y="230"/>
                </a:lnTo>
                <a:lnTo>
                  <a:pt x="1241" y="209"/>
                </a:lnTo>
                <a:lnTo>
                  <a:pt x="1264" y="206"/>
                </a:lnTo>
                <a:lnTo>
                  <a:pt x="1285" y="204"/>
                </a:lnTo>
                <a:lnTo>
                  <a:pt x="1307" y="209"/>
                </a:lnTo>
                <a:lnTo>
                  <a:pt x="1322" y="218"/>
                </a:lnTo>
                <a:lnTo>
                  <a:pt x="1318" y="246"/>
                </a:lnTo>
                <a:lnTo>
                  <a:pt x="1319" y="268"/>
                </a:lnTo>
                <a:lnTo>
                  <a:pt x="1309" y="288"/>
                </a:lnTo>
                <a:lnTo>
                  <a:pt x="1256" y="372"/>
                </a:lnTo>
                <a:lnTo>
                  <a:pt x="1234" y="399"/>
                </a:lnTo>
                <a:lnTo>
                  <a:pt x="1244" y="446"/>
                </a:lnTo>
                <a:lnTo>
                  <a:pt x="1231" y="467"/>
                </a:lnTo>
                <a:lnTo>
                  <a:pt x="1226" y="489"/>
                </a:lnTo>
                <a:lnTo>
                  <a:pt x="1237" y="527"/>
                </a:lnTo>
                <a:lnTo>
                  <a:pt x="1274" y="546"/>
                </a:lnTo>
                <a:lnTo>
                  <a:pt x="1301" y="563"/>
                </a:lnTo>
                <a:lnTo>
                  <a:pt x="1331" y="575"/>
                </a:lnTo>
                <a:lnTo>
                  <a:pt x="1364" y="606"/>
                </a:lnTo>
                <a:lnTo>
                  <a:pt x="1379" y="626"/>
                </a:lnTo>
                <a:lnTo>
                  <a:pt x="1397" y="641"/>
                </a:lnTo>
                <a:lnTo>
                  <a:pt x="1418" y="653"/>
                </a:lnTo>
                <a:lnTo>
                  <a:pt x="1426" y="648"/>
                </a:lnTo>
                <a:lnTo>
                  <a:pt x="1392" y="679"/>
                </a:lnTo>
                <a:lnTo>
                  <a:pt x="1375" y="686"/>
                </a:lnTo>
                <a:lnTo>
                  <a:pt x="1373" y="689"/>
                </a:lnTo>
                <a:lnTo>
                  <a:pt x="1354" y="689"/>
                </a:lnTo>
                <a:lnTo>
                  <a:pt x="1328" y="677"/>
                </a:lnTo>
                <a:lnTo>
                  <a:pt x="1303" y="662"/>
                </a:lnTo>
                <a:lnTo>
                  <a:pt x="1280" y="663"/>
                </a:lnTo>
                <a:lnTo>
                  <a:pt x="1282" y="701"/>
                </a:lnTo>
                <a:lnTo>
                  <a:pt x="1301" y="731"/>
                </a:lnTo>
                <a:lnTo>
                  <a:pt x="1334" y="773"/>
                </a:lnTo>
                <a:lnTo>
                  <a:pt x="1366" y="791"/>
                </a:lnTo>
                <a:lnTo>
                  <a:pt x="1378" y="819"/>
                </a:lnTo>
                <a:lnTo>
                  <a:pt x="1388" y="848"/>
                </a:lnTo>
                <a:lnTo>
                  <a:pt x="1370" y="867"/>
                </a:lnTo>
                <a:lnTo>
                  <a:pt x="1371" y="888"/>
                </a:lnTo>
                <a:lnTo>
                  <a:pt x="1352" y="900"/>
                </a:lnTo>
                <a:lnTo>
                  <a:pt x="1334" y="879"/>
                </a:lnTo>
                <a:lnTo>
                  <a:pt x="1289" y="879"/>
                </a:lnTo>
                <a:lnTo>
                  <a:pt x="1279" y="918"/>
                </a:lnTo>
                <a:lnTo>
                  <a:pt x="1252" y="918"/>
                </a:lnTo>
                <a:lnTo>
                  <a:pt x="1226" y="926"/>
                </a:lnTo>
                <a:lnTo>
                  <a:pt x="1196" y="902"/>
                </a:lnTo>
                <a:lnTo>
                  <a:pt x="1177" y="917"/>
                </a:lnTo>
                <a:lnTo>
                  <a:pt x="1157" y="933"/>
                </a:lnTo>
                <a:lnTo>
                  <a:pt x="1172" y="944"/>
                </a:lnTo>
                <a:lnTo>
                  <a:pt x="1181" y="959"/>
                </a:lnTo>
                <a:lnTo>
                  <a:pt x="1199" y="969"/>
                </a:lnTo>
                <a:lnTo>
                  <a:pt x="1205" y="983"/>
                </a:lnTo>
                <a:lnTo>
                  <a:pt x="1214" y="1032"/>
                </a:lnTo>
                <a:lnTo>
                  <a:pt x="1204" y="1038"/>
                </a:lnTo>
                <a:lnTo>
                  <a:pt x="1195" y="1056"/>
                </a:lnTo>
                <a:lnTo>
                  <a:pt x="1179" y="1041"/>
                </a:lnTo>
                <a:lnTo>
                  <a:pt x="1176" y="1025"/>
                </a:lnTo>
                <a:lnTo>
                  <a:pt x="1163" y="1002"/>
                </a:lnTo>
                <a:lnTo>
                  <a:pt x="1127" y="1001"/>
                </a:lnTo>
                <a:lnTo>
                  <a:pt x="1121" y="1020"/>
                </a:lnTo>
                <a:lnTo>
                  <a:pt x="1091" y="1034"/>
                </a:lnTo>
                <a:lnTo>
                  <a:pt x="1079" y="1054"/>
                </a:lnTo>
                <a:lnTo>
                  <a:pt x="1054" y="1100"/>
                </a:lnTo>
                <a:lnTo>
                  <a:pt x="1051" y="1128"/>
                </a:lnTo>
                <a:lnTo>
                  <a:pt x="1057" y="1143"/>
                </a:lnTo>
                <a:lnTo>
                  <a:pt x="1060" y="1166"/>
                </a:lnTo>
                <a:lnTo>
                  <a:pt x="1034" y="1173"/>
                </a:lnTo>
                <a:lnTo>
                  <a:pt x="1024" y="1172"/>
                </a:lnTo>
                <a:lnTo>
                  <a:pt x="1010" y="1176"/>
                </a:lnTo>
                <a:lnTo>
                  <a:pt x="998" y="1187"/>
                </a:lnTo>
                <a:lnTo>
                  <a:pt x="982" y="1205"/>
                </a:lnTo>
                <a:lnTo>
                  <a:pt x="985" y="1256"/>
                </a:lnTo>
                <a:lnTo>
                  <a:pt x="974" y="1278"/>
                </a:lnTo>
                <a:lnTo>
                  <a:pt x="985" y="1307"/>
                </a:lnTo>
                <a:lnTo>
                  <a:pt x="992" y="1332"/>
                </a:lnTo>
                <a:lnTo>
                  <a:pt x="1016" y="1346"/>
                </a:lnTo>
                <a:lnTo>
                  <a:pt x="1021" y="1373"/>
                </a:lnTo>
                <a:lnTo>
                  <a:pt x="1015" y="1383"/>
                </a:lnTo>
                <a:lnTo>
                  <a:pt x="1018" y="1403"/>
                </a:lnTo>
                <a:lnTo>
                  <a:pt x="995" y="1404"/>
                </a:lnTo>
                <a:lnTo>
                  <a:pt x="984" y="1419"/>
                </a:lnTo>
                <a:lnTo>
                  <a:pt x="984" y="1419"/>
                </a:lnTo>
                <a:lnTo>
                  <a:pt x="962" y="1401"/>
                </a:lnTo>
                <a:lnTo>
                  <a:pt x="948" y="1389"/>
                </a:lnTo>
                <a:lnTo>
                  <a:pt x="938" y="1388"/>
                </a:lnTo>
                <a:lnTo>
                  <a:pt x="932" y="1397"/>
                </a:lnTo>
                <a:lnTo>
                  <a:pt x="912" y="1395"/>
                </a:lnTo>
                <a:lnTo>
                  <a:pt x="901" y="1373"/>
                </a:lnTo>
                <a:lnTo>
                  <a:pt x="880" y="1359"/>
                </a:lnTo>
                <a:lnTo>
                  <a:pt x="868" y="1343"/>
                </a:lnTo>
                <a:lnTo>
                  <a:pt x="827" y="1317"/>
                </a:lnTo>
                <a:lnTo>
                  <a:pt x="805" y="1287"/>
                </a:lnTo>
                <a:lnTo>
                  <a:pt x="781" y="1280"/>
                </a:lnTo>
                <a:lnTo>
                  <a:pt x="761" y="1257"/>
                </a:lnTo>
                <a:lnTo>
                  <a:pt x="748" y="1224"/>
                </a:lnTo>
                <a:lnTo>
                  <a:pt x="734" y="1237"/>
                </a:lnTo>
                <a:lnTo>
                  <a:pt x="709" y="1224"/>
                </a:lnTo>
                <a:lnTo>
                  <a:pt x="696" y="1222"/>
                </a:lnTo>
                <a:lnTo>
                  <a:pt x="694" y="1232"/>
                </a:lnTo>
                <a:lnTo>
                  <a:pt x="678" y="1245"/>
                </a:lnTo>
              </a:path>
            </a:pathLst>
          </a:custGeom>
          <a:solidFill>
            <a:srgbClr val="336600">
              <a:alpha val="67000"/>
            </a:srgbClr>
          </a:solidFill>
          <a:ln w="46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"/>
          <p:cNvSpPr/>
          <p:nvPr/>
        </p:nvSpPr>
        <p:spPr>
          <a:xfrm>
            <a:off x="5014800" y="4976640"/>
            <a:ext cx="1557360" cy="1224000"/>
          </a:xfrm>
          <a:custGeom>
            <a:avLst/>
            <a:gdLst/>
            <a:ahLst/>
            <a:rect l="l" t="t" r="r" b="b"/>
            <a:pathLst>
              <a:path w="981" h="771">
                <a:moveTo>
                  <a:pt x="36" y="305"/>
                </a:moveTo>
                <a:lnTo>
                  <a:pt x="66" y="264"/>
                </a:lnTo>
                <a:lnTo>
                  <a:pt x="95" y="267"/>
                </a:lnTo>
                <a:lnTo>
                  <a:pt x="107" y="248"/>
                </a:lnTo>
                <a:lnTo>
                  <a:pt x="101" y="228"/>
                </a:lnTo>
                <a:lnTo>
                  <a:pt x="102" y="208"/>
                </a:lnTo>
                <a:lnTo>
                  <a:pt x="99" y="173"/>
                </a:lnTo>
                <a:lnTo>
                  <a:pt x="113" y="146"/>
                </a:lnTo>
                <a:lnTo>
                  <a:pt x="162" y="133"/>
                </a:lnTo>
                <a:lnTo>
                  <a:pt x="203" y="116"/>
                </a:lnTo>
                <a:lnTo>
                  <a:pt x="225" y="90"/>
                </a:lnTo>
                <a:lnTo>
                  <a:pt x="244" y="83"/>
                </a:lnTo>
                <a:lnTo>
                  <a:pt x="267" y="120"/>
                </a:lnTo>
                <a:lnTo>
                  <a:pt x="287" y="147"/>
                </a:lnTo>
                <a:lnTo>
                  <a:pt x="314" y="134"/>
                </a:lnTo>
                <a:lnTo>
                  <a:pt x="317" y="110"/>
                </a:lnTo>
                <a:lnTo>
                  <a:pt x="350" y="81"/>
                </a:lnTo>
                <a:lnTo>
                  <a:pt x="368" y="48"/>
                </a:lnTo>
                <a:lnTo>
                  <a:pt x="405" y="57"/>
                </a:lnTo>
                <a:lnTo>
                  <a:pt x="459" y="59"/>
                </a:lnTo>
                <a:lnTo>
                  <a:pt x="482" y="54"/>
                </a:lnTo>
                <a:lnTo>
                  <a:pt x="494" y="47"/>
                </a:lnTo>
                <a:lnTo>
                  <a:pt x="502" y="39"/>
                </a:lnTo>
                <a:lnTo>
                  <a:pt x="504" y="24"/>
                </a:lnTo>
                <a:lnTo>
                  <a:pt x="527" y="32"/>
                </a:lnTo>
                <a:lnTo>
                  <a:pt x="555" y="17"/>
                </a:lnTo>
                <a:lnTo>
                  <a:pt x="611" y="15"/>
                </a:lnTo>
                <a:lnTo>
                  <a:pt x="657" y="8"/>
                </a:lnTo>
                <a:lnTo>
                  <a:pt x="686" y="0"/>
                </a:lnTo>
                <a:lnTo>
                  <a:pt x="716" y="14"/>
                </a:lnTo>
                <a:lnTo>
                  <a:pt x="735" y="17"/>
                </a:lnTo>
                <a:lnTo>
                  <a:pt x="749" y="38"/>
                </a:lnTo>
                <a:lnTo>
                  <a:pt x="776" y="75"/>
                </a:lnTo>
                <a:lnTo>
                  <a:pt x="803" y="117"/>
                </a:lnTo>
                <a:lnTo>
                  <a:pt x="855" y="144"/>
                </a:lnTo>
                <a:lnTo>
                  <a:pt x="891" y="149"/>
                </a:lnTo>
                <a:lnTo>
                  <a:pt x="918" y="161"/>
                </a:lnTo>
                <a:lnTo>
                  <a:pt x="915" y="198"/>
                </a:lnTo>
                <a:lnTo>
                  <a:pt x="948" y="255"/>
                </a:lnTo>
                <a:lnTo>
                  <a:pt x="963" y="284"/>
                </a:lnTo>
                <a:lnTo>
                  <a:pt x="981" y="294"/>
                </a:lnTo>
                <a:lnTo>
                  <a:pt x="981" y="308"/>
                </a:lnTo>
                <a:lnTo>
                  <a:pt x="977" y="326"/>
                </a:lnTo>
                <a:lnTo>
                  <a:pt x="966" y="335"/>
                </a:lnTo>
                <a:lnTo>
                  <a:pt x="951" y="356"/>
                </a:lnTo>
                <a:lnTo>
                  <a:pt x="956" y="377"/>
                </a:lnTo>
                <a:lnTo>
                  <a:pt x="959" y="398"/>
                </a:lnTo>
                <a:lnTo>
                  <a:pt x="954" y="426"/>
                </a:lnTo>
                <a:lnTo>
                  <a:pt x="963" y="446"/>
                </a:lnTo>
                <a:lnTo>
                  <a:pt x="956" y="462"/>
                </a:lnTo>
                <a:lnTo>
                  <a:pt x="960" y="489"/>
                </a:lnTo>
                <a:lnTo>
                  <a:pt x="953" y="497"/>
                </a:lnTo>
                <a:lnTo>
                  <a:pt x="920" y="500"/>
                </a:lnTo>
                <a:lnTo>
                  <a:pt x="894" y="506"/>
                </a:lnTo>
                <a:lnTo>
                  <a:pt x="882" y="530"/>
                </a:lnTo>
                <a:lnTo>
                  <a:pt x="879" y="567"/>
                </a:lnTo>
                <a:lnTo>
                  <a:pt x="885" y="546"/>
                </a:lnTo>
                <a:lnTo>
                  <a:pt x="882" y="593"/>
                </a:lnTo>
                <a:lnTo>
                  <a:pt x="870" y="602"/>
                </a:lnTo>
                <a:lnTo>
                  <a:pt x="849" y="587"/>
                </a:lnTo>
                <a:lnTo>
                  <a:pt x="821" y="612"/>
                </a:lnTo>
                <a:lnTo>
                  <a:pt x="800" y="615"/>
                </a:lnTo>
                <a:lnTo>
                  <a:pt x="767" y="618"/>
                </a:lnTo>
                <a:lnTo>
                  <a:pt x="747" y="611"/>
                </a:lnTo>
                <a:lnTo>
                  <a:pt x="728" y="615"/>
                </a:lnTo>
                <a:lnTo>
                  <a:pt x="705" y="602"/>
                </a:lnTo>
                <a:lnTo>
                  <a:pt x="663" y="605"/>
                </a:lnTo>
                <a:lnTo>
                  <a:pt x="647" y="624"/>
                </a:lnTo>
                <a:lnTo>
                  <a:pt x="617" y="615"/>
                </a:lnTo>
                <a:lnTo>
                  <a:pt x="567" y="636"/>
                </a:lnTo>
                <a:lnTo>
                  <a:pt x="557" y="654"/>
                </a:lnTo>
                <a:lnTo>
                  <a:pt x="552" y="672"/>
                </a:lnTo>
                <a:lnTo>
                  <a:pt x="522" y="704"/>
                </a:lnTo>
                <a:lnTo>
                  <a:pt x="524" y="717"/>
                </a:lnTo>
                <a:lnTo>
                  <a:pt x="509" y="728"/>
                </a:lnTo>
                <a:lnTo>
                  <a:pt x="480" y="725"/>
                </a:lnTo>
                <a:lnTo>
                  <a:pt x="474" y="738"/>
                </a:lnTo>
                <a:lnTo>
                  <a:pt x="450" y="746"/>
                </a:lnTo>
                <a:lnTo>
                  <a:pt x="443" y="761"/>
                </a:lnTo>
                <a:lnTo>
                  <a:pt x="420" y="753"/>
                </a:lnTo>
                <a:lnTo>
                  <a:pt x="416" y="738"/>
                </a:lnTo>
                <a:lnTo>
                  <a:pt x="395" y="741"/>
                </a:lnTo>
                <a:lnTo>
                  <a:pt x="368" y="738"/>
                </a:lnTo>
                <a:lnTo>
                  <a:pt x="348" y="758"/>
                </a:lnTo>
                <a:lnTo>
                  <a:pt x="312" y="767"/>
                </a:lnTo>
                <a:lnTo>
                  <a:pt x="291" y="756"/>
                </a:lnTo>
                <a:lnTo>
                  <a:pt x="269" y="771"/>
                </a:lnTo>
                <a:lnTo>
                  <a:pt x="212" y="770"/>
                </a:lnTo>
                <a:lnTo>
                  <a:pt x="206" y="762"/>
                </a:lnTo>
                <a:lnTo>
                  <a:pt x="198" y="746"/>
                </a:lnTo>
                <a:lnTo>
                  <a:pt x="183" y="738"/>
                </a:lnTo>
                <a:lnTo>
                  <a:pt x="168" y="738"/>
                </a:lnTo>
                <a:lnTo>
                  <a:pt x="146" y="735"/>
                </a:lnTo>
                <a:lnTo>
                  <a:pt x="134" y="749"/>
                </a:lnTo>
                <a:lnTo>
                  <a:pt x="108" y="752"/>
                </a:lnTo>
                <a:lnTo>
                  <a:pt x="81" y="665"/>
                </a:lnTo>
                <a:lnTo>
                  <a:pt x="63" y="653"/>
                </a:lnTo>
                <a:lnTo>
                  <a:pt x="50" y="651"/>
                </a:lnTo>
                <a:lnTo>
                  <a:pt x="56" y="630"/>
                </a:lnTo>
                <a:lnTo>
                  <a:pt x="26" y="597"/>
                </a:lnTo>
                <a:lnTo>
                  <a:pt x="18" y="573"/>
                </a:lnTo>
                <a:lnTo>
                  <a:pt x="18" y="558"/>
                </a:lnTo>
                <a:lnTo>
                  <a:pt x="11" y="539"/>
                </a:lnTo>
                <a:lnTo>
                  <a:pt x="22" y="530"/>
                </a:lnTo>
                <a:lnTo>
                  <a:pt x="39" y="495"/>
                </a:lnTo>
                <a:lnTo>
                  <a:pt x="14" y="473"/>
                </a:lnTo>
                <a:lnTo>
                  <a:pt x="14" y="468"/>
                </a:lnTo>
                <a:lnTo>
                  <a:pt x="9" y="456"/>
                </a:lnTo>
                <a:lnTo>
                  <a:pt x="2" y="444"/>
                </a:lnTo>
                <a:lnTo>
                  <a:pt x="0" y="425"/>
                </a:lnTo>
                <a:lnTo>
                  <a:pt x="32" y="414"/>
                </a:lnTo>
                <a:lnTo>
                  <a:pt x="38" y="392"/>
                </a:lnTo>
                <a:lnTo>
                  <a:pt x="20" y="368"/>
                </a:lnTo>
                <a:lnTo>
                  <a:pt x="29" y="342"/>
                </a:lnTo>
                <a:lnTo>
                  <a:pt x="17" y="323"/>
                </a:lnTo>
                <a:lnTo>
                  <a:pt x="45" y="291"/>
                </a:lnTo>
              </a:path>
            </a:pathLst>
          </a:custGeom>
          <a:solidFill>
            <a:srgbClr val="003300">
              <a:alpha val="67000"/>
            </a:srgbClr>
          </a:solidFill>
          <a:ln w="46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"/>
          <p:cNvSpPr/>
          <p:nvPr/>
        </p:nvSpPr>
        <p:spPr>
          <a:xfrm rot="420000">
            <a:off x="885600" y="1496520"/>
            <a:ext cx="3402000" cy="3297240"/>
          </a:xfrm>
          <a:custGeom>
            <a:avLst/>
            <a:gdLst/>
            <a:ahLst/>
            <a:rect l="l" t="t" r="r" b="b"/>
            <a:pathLst>
              <a:path w="441" h="421">
                <a:moveTo>
                  <a:pt x="329" y="372"/>
                </a:moveTo>
                <a:lnTo>
                  <a:pt x="325" y="372"/>
                </a:lnTo>
                <a:lnTo>
                  <a:pt x="322" y="369"/>
                </a:lnTo>
                <a:lnTo>
                  <a:pt x="320" y="367"/>
                </a:lnTo>
                <a:lnTo>
                  <a:pt x="320" y="366"/>
                </a:lnTo>
                <a:lnTo>
                  <a:pt x="319" y="364"/>
                </a:lnTo>
                <a:lnTo>
                  <a:pt x="309" y="356"/>
                </a:lnTo>
                <a:lnTo>
                  <a:pt x="302" y="352"/>
                </a:lnTo>
                <a:lnTo>
                  <a:pt x="299" y="352"/>
                </a:lnTo>
                <a:lnTo>
                  <a:pt x="295" y="351"/>
                </a:lnTo>
                <a:lnTo>
                  <a:pt x="292" y="349"/>
                </a:lnTo>
                <a:lnTo>
                  <a:pt x="287" y="346"/>
                </a:lnTo>
                <a:lnTo>
                  <a:pt x="285" y="342"/>
                </a:lnTo>
                <a:lnTo>
                  <a:pt x="275" y="332"/>
                </a:lnTo>
                <a:lnTo>
                  <a:pt x="270" y="329"/>
                </a:lnTo>
                <a:lnTo>
                  <a:pt x="269" y="329"/>
                </a:lnTo>
                <a:lnTo>
                  <a:pt x="267" y="329"/>
                </a:lnTo>
                <a:lnTo>
                  <a:pt x="265" y="329"/>
                </a:lnTo>
                <a:lnTo>
                  <a:pt x="262" y="329"/>
                </a:lnTo>
                <a:lnTo>
                  <a:pt x="259" y="329"/>
                </a:lnTo>
                <a:lnTo>
                  <a:pt x="252" y="327"/>
                </a:lnTo>
                <a:lnTo>
                  <a:pt x="250" y="326"/>
                </a:lnTo>
                <a:lnTo>
                  <a:pt x="240" y="321"/>
                </a:lnTo>
                <a:lnTo>
                  <a:pt x="237" y="319"/>
                </a:lnTo>
                <a:lnTo>
                  <a:pt x="235" y="317"/>
                </a:lnTo>
                <a:lnTo>
                  <a:pt x="229" y="317"/>
                </a:lnTo>
                <a:lnTo>
                  <a:pt x="225" y="319"/>
                </a:lnTo>
                <a:lnTo>
                  <a:pt x="217" y="322"/>
                </a:lnTo>
                <a:lnTo>
                  <a:pt x="215" y="324"/>
                </a:lnTo>
                <a:lnTo>
                  <a:pt x="210" y="327"/>
                </a:lnTo>
                <a:lnTo>
                  <a:pt x="205" y="327"/>
                </a:lnTo>
                <a:lnTo>
                  <a:pt x="202" y="324"/>
                </a:lnTo>
                <a:lnTo>
                  <a:pt x="195" y="319"/>
                </a:lnTo>
                <a:lnTo>
                  <a:pt x="195" y="312"/>
                </a:lnTo>
                <a:lnTo>
                  <a:pt x="199" y="311"/>
                </a:lnTo>
                <a:lnTo>
                  <a:pt x="195" y="306"/>
                </a:lnTo>
                <a:lnTo>
                  <a:pt x="184" y="299"/>
                </a:lnTo>
                <a:lnTo>
                  <a:pt x="175" y="297"/>
                </a:lnTo>
                <a:lnTo>
                  <a:pt x="169" y="291"/>
                </a:lnTo>
                <a:lnTo>
                  <a:pt x="164" y="287"/>
                </a:lnTo>
                <a:lnTo>
                  <a:pt x="162" y="286"/>
                </a:lnTo>
                <a:lnTo>
                  <a:pt x="160" y="284"/>
                </a:lnTo>
                <a:lnTo>
                  <a:pt x="157" y="284"/>
                </a:lnTo>
                <a:lnTo>
                  <a:pt x="152" y="279"/>
                </a:lnTo>
                <a:lnTo>
                  <a:pt x="142" y="269"/>
                </a:lnTo>
                <a:lnTo>
                  <a:pt x="138" y="264"/>
                </a:lnTo>
                <a:lnTo>
                  <a:pt x="132" y="255"/>
                </a:lnTo>
                <a:lnTo>
                  <a:pt x="128" y="249"/>
                </a:lnTo>
                <a:lnTo>
                  <a:pt x="130" y="247"/>
                </a:lnTo>
                <a:lnTo>
                  <a:pt x="135" y="249"/>
                </a:lnTo>
                <a:lnTo>
                  <a:pt x="142" y="249"/>
                </a:lnTo>
                <a:lnTo>
                  <a:pt x="140" y="244"/>
                </a:lnTo>
                <a:lnTo>
                  <a:pt x="143" y="244"/>
                </a:lnTo>
                <a:lnTo>
                  <a:pt x="145" y="245"/>
                </a:lnTo>
                <a:lnTo>
                  <a:pt x="148" y="247"/>
                </a:lnTo>
                <a:lnTo>
                  <a:pt x="152" y="247"/>
                </a:lnTo>
                <a:lnTo>
                  <a:pt x="159" y="247"/>
                </a:lnTo>
                <a:lnTo>
                  <a:pt x="157" y="245"/>
                </a:lnTo>
                <a:lnTo>
                  <a:pt x="155" y="245"/>
                </a:lnTo>
                <a:lnTo>
                  <a:pt x="153" y="245"/>
                </a:lnTo>
                <a:lnTo>
                  <a:pt x="138" y="237"/>
                </a:lnTo>
                <a:lnTo>
                  <a:pt x="132" y="230"/>
                </a:lnTo>
                <a:lnTo>
                  <a:pt x="128" y="227"/>
                </a:lnTo>
                <a:lnTo>
                  <a:pt x="125" y="222"/>
                </a:lnTo>
                <a:lnTo>
                  <a:pt x="118" y="217"/>
                </a:lnTo>
                <a:lnTo>
                  <a:pt x="117" y="215"/>
                </a:lnTo>
                <a:lnTo>
                  <a:pt x="115" y="214"/>
                </a:lnTo>
                <a:lnTo>
                  <a:pt x="112" y="209"/>
                </a:lnTo>
                <a:lnTo>
                  <a:pt x="108" y="204"/>
                </a:lnTo>
                <a:lnTo>
                  <a:pt x="108" y="202"/>
                </a:lnTo>
                <a:lnTo>
                  <a:pt x="107" y="192"/>
                </a:lnTo>
                <a:lnTo>
                  <a:pt x="107" y="187"/>
                </a:lnTo>
                <a:lnTo>
                  <a:pt x="107" y="184"/>
                </a:lnTo>
                <a:lnTo>
                  <a:pt x="108" y="180"/>
                </a:lnTo>
                <a:lnTo>
                  <a:pt x="108" y="175"/>
                </a:lnTo>
                <a:lnTo>
                  <a:pt x="100" y="160"/>
                </a:lnTo>
                <a:lnTo>
                  <a:pt x="98" y="159"/>
                </a:lnTo>
                <a:lnTo>
                  <a:pt x="95" y="159"/>
                </a:lnTo>
                <a:lnTo>
                  <a:pt x="93" y="157"/>
                </a:lnTo>
                <a:lnTo>
                  <a:pt x="88" y="154"/>
                </a:lnTo>
                <a:lnTo>
                  <a:pt x="82" y="147"/>
                </a:lnTo>
                <a:lnTo>
                  <a:pt x="73" y="140"/>
                </a:lnTo>
                <a:lnTo>
                  <a:pt x="70" y="140"/>
                </a:lnTo>
                <a:lnTo>
                  <a:pt x="62" y="137"/>
                </a:lnTo>
                <a:lnTo>
                  <a:pt x="58" y="142"/>
                </a:lnTo>
                <a:lnTo>
                  <a:pt x="57" y="150"/>
                </a:lnTo>
                <a:lnTo>
                  <a:pt x="57" y="154"/>
                </a:lnTo>
                <a:lnTo>
                  <a:pt x="57" y="157"/>
                </a:lnTo>
                <a:lnTo>
                  <a:pt x="55" y="160"/>
                </a:lnTo>
                <a:lnTo>
                  <a:pt x="55" y="162"/>
                </a:lnTo>
                <a:lnTo>
                  <a:pt x="52" y="167"/>
                </a:lnTo>
                <a:lnTo>
                  <a:pt x="50" y="170"/>
                </a:lnTo>
                <a:lnTo>
                  <a:pt x="52" y="177"/>
                </a:lnTo>
                <a:lnTo>
                  <a:pt x="50" y="179"/>
                </a:lnTo>
                <a:lnTo>
                  <a:pt x="47" y="180"/>
                </a:lnTo>
                <a:lnTo>
                  <a:pt x="40" y="187"/>
                </a:lnTo>
                <a:lnTo>
                  <a:pt x="38" y="192"/>
                </a:lnTo>
                <a:lnTo>
                  <a:pt x="38" y="195"/>
                </a:lnTo>
                <a:lnTo>
                  <a:pt x="40" y="195"/>
                </a:lnTo>
                <a:lnTo>
                  <a:pt x="33" y="200"/>
                </a:lnTo>
                <a:lnTo>
                  <a:pt x="27" y="192"/>
                </a:lnTo>
                <a:lnTo>
                  <a:pt x="28" y="190"/>
                </a:lnTo>
                <a:lnTo>
                  <a:pt x="22" y="179"/>
                </a:lnTo>
                <a:lnTo>
                  <a:pt x="15" y="172"/>
                </a:lnTo>
                <a:lnTo>
                  <a:pt x="8" y="160"/>
                </a:lnTo>
                <a:lnTo>
                  <a:pt x="8" y="150"/>
                </a:lnTo>
                <a:lnTo>
                  <a:pt x="7" y="145"/>
                </a:lnTo>
                <a:lnTo>
                  <a:pt x="2" y="135"/>
                </a:lnTo>
                <a:lnTo>
                  <a:pt x="0" y="124"/>
                </a:lnTo>
                <a:lnTo>
                  <a:pt x="3" y="125"/>
                </a:lnTo>
                <a:lnTo>
                  <a:pt x="7" y="127"/>
                </a:lnTo>
                <a:lnTo>
                  <a:pt x="10" y="129"/>
                </a:lnTo>
                <a:lnTo>
                  <a:pt x="13" y="130"/>
                </a:lnTo>
                <a:lnTo>
                  <a:pt x="15" y="130"/>
                </a:lnTo>
                <a:lnTo>
                  <a:pt x="30" y="129"/>
                </a:lnTo>
                <a:lnTo>
                  <a:pt x="33" y="127"/>
                </a:lnTo>
                <a:lnTo>
                  <a:pt x="35" y="127"/>
                </a:lnTo>
                <a:lnTo>
                  <a:pt x="47" y="125"/>
                </a:lnTo>
                <a:lnTo>
                  <a:pt x="65" y="122"/>
                </a:lnTo>
                <a:lnTo>
                  <a:pt x="67" y="122"/>
                </a:lnTo>
                <a:lnTo>
                  <a:pt x="73" y="115"/>
                </a:lnTo>
                <a:lnTo>
                  <a:pt x="75" y="109"/>
                </a:lnTo>
                <a:lnTo>
                  <a:pt x="78" y="102"/>
                </a:lnTo>
                <a:lnTo>
                  <a:pt x="80" y="102"/>
                </a:lnTo>
                <a:lnTo>
                  <a:pt x="80" y="105"/>
                </a:lnTo>
                <a:lnTo>
                  <a:pt x="82" y="109"/>
                </a:lnTo>
                <a:lnTo>
                  <a:pt x="90" y="117"/>
                </a:lnTo>
                <a:lnTo>
                  <a:pt x="98" y="122"/>
                </a:lnTo>
                <a:lnTo>
                  <a:pt x="100" y="122"/>
                </a:lnTo>
                <a:lnTo>
                  <a:pt x="103" y="120"/>
                </a:lnTo>
                <a:lnTo>
                  <a:pt x="108" y="119"/>
                </a:lnTo>
                <a:lnTo>
                  <a:pt x="117" y="120"/>
                </a:lnTo>
                <a:lnTo>
                  <a:pt x="123" y="125"/>
                </a:lnTo>
                <a:lnTo>
                  <a:pt x="132" y="120"/>
                </a:lnTo>
                <a:lnTo>
                  <a:pt x="133" y="112"/>
                </a:lnTo>
                <a:lnTo>
                  <a:pt x="132" y="107"/>
                </a:lnTo>
                <a:lnTo>
                  <a:pt x="132" y="102"/>
                </a:lnTo>
                <a:lnTo>
                  <a:pt x="135" y="100"/>
                </a:lnTo>
                <a:lnTo>
                  <a:pt x="135" y="94"/>
                </a:lnTo>
                <a:lnTo>
                  <a:pt x="130" y="95"/>
                </a:lnTo>
                <a:lnTo>
                  <a:pt x="130" y="92"/>
                </a:lnTo>
                <a:lnTo>
                  <a:pt x="132" y="89"/>
                </a:lnTo>
                <a:lnTo>
                  <a:pt x="133" y="89"/>
                </a:lnTo>
                <a:lnTo>
                  <a:pt x="145" y="80"/>
                </a:lnTo>
                <a:lnTo>
                  <a:pt x="153" y="79"/>
                </a:lnTo>
                <a:lnTo>
                  <a:pt x="155" y="79"/>
                </a:lnTo>
                <a:lnTo>
                  <a:pt x="157" y="80"/>
                </a:lnTo>
                <a:lnTo>
                  <a:pt x="159" y="79"/>
                </a:lnTo>
                <a:lnTo>
                  <a:pt x="160" y="67"/>
                </a:lnTo>
                <a:lnTo>
                  <a:pt x="159" y="55"/>
                </a:lnTo>
                <a:lnTo>
                  <a:pt x="155" y="53"/>
                </a:lnTo>
                <a:lnTo>
                  <a:pt x="152" y="52"/>
                </a:lnTo>
                <a:lnTo>
                  <a:pt x="150" y="48"/>
                </a:lnTo>
                <a:lnTo>
                  <a:pt x="150" y="47"/>
                </a:lnTo>
                <a:lnTo>
                  <a:pt x="150" y="43"/>
                </a:lnTo>
                <a:lnTo>
                  <a:pt x="153" y="38"/>
                </a:lnTo>
                <a:lnTo>
                  <a:pt x="155" y="37"/>
                </a:lnTo>
                <a:lnTo>
                  <a:pt x="164" y="35"/>
                </a:lnTo>
                <a:lnTo>
                  <a:pt x="179" y="27"/>
                </a:lnTo>
                <a:lnTo>
                  <a:pt x="184" y="23"/>
                </a:lnTo>
                <a:lnTo>
                  <a:pt x="182" y="20"/>
                </a:lnTo>
                <a:lnTo>
                  <a:pt x="182" y="18"/>
                </a:lnTo>
                <a:lnTo>
                  <a:pt x="187" y="15"/>
                </a:lnTo>
                <a:lnTo>
                  <a:pt x="195" y="13"/>
                </a:lnTo>
                <a:lnTo>
                  <a:pt x="194" y="5"/>
                </a:lnTo>
                <a:lnTo>
                  <a:pt x="195" y="3"/>
                </a:lnTo>
                <a:lnTo>
                  <a:pt x="197" y="2"/>
                </a:lnTo>
                <a:lnTo>
                  <a:pt x="200" y="0"/>
                </a:lnTo>
                <a:lnTo>
                  <a:pt x="204" y="0"/>
                </a:lnTo>
                <a:lnTo>
                  <a:pt x="209" y="2"/>
                </a:lnTo>
                <a:lnTo>
                  <a:pt x="212" y="2"/>
                </a:lnTo>
                <a:lnTo>
                  <a:pt x="214" y="3"/>
                </a:lnTo>
                <a:lnTo>
                  <a:pt x="217" y="5"/>
                </a:lnTo>
                <a:lnTo>
                  <a:pt x="219" y="5"/>
                </a:lnTo>
                <a:lnTo>
                  <a:pt x="220" y="5"/>
                </a:lnTo>
                <a:lnTo>
                  <a:pt x="222" y="5"/>
                </a:lnTo>
                <a:lnTo>
                  <a:pt x="224" y="5"/>
                </a:lnTo>
                <a:lnTo>
                  <a:pt x="235" y="12"/>
                </a:lnTo>
                <a:lnTo>
                  <a:pt x="239" y="15"/>
                </a:lnTo>
                <a:lnTo>
                  <a:pt x="240" y="17"/>
                </a:lnTo>
                <a:lnTo>
                  <a:pt x="242" y="20"/>
                </a:lnTo>
                <a:lnTo>
                  <a:pt x="242" y="22"/>
                </a:lnTo>
                <a:lnTo>
                  <a:pt x="242" y="23"/>
                </a:lnTo>
                <a:lnTo>
                  <a:pt x="245" y="25"/>
                </a:lnTo>
                <a:lnTo>
                  <a:pt x="247" y="27"/>
                </a:lnTo>
                <a:lnTo>
                  <a:pt x="249" y="28"/>
                </a:lnTo>
                <a:lnTo>
                  <a:pt x="254" y="30"/>
                </a:lnTo>
                <a:lnTo>
                  <a:pt x="262" y="32"/>
                </a:lnTo>
                <a:lnTo>
                  <a:pt x="265" y="35"/>
                </a:lnTo>
                <a:lnTo>
                  <a:pt x="270" y="42"/>
                </a:lnTo>
                <a:lnTo>
                  <a:pt x="272" y="45"/>
                </a:lnTo>
                <a:lnTo>
                  <a:pt x="272" y="48"/>
                </a:lnTo>
                <a:lnTo>
                  <a:pt x="277" y="53"/>
                </a:lnTo>
                <a:lnTo>
                  <a:pt x="280" y="55"/>
                </a:lnTo>
                <a:lnTo>
                  <a:pt x="282" y="57"/>
                </a:lnTo>
                <a:lnTo>
                  <a:pt x="285" y="57"/>
                </a:lnTo>
                <a:lnTo>
                  <a:pt x="287" y="53"/>
                </a:lnTo>
                <a:lnTo>
                  <a:pt x="297" y="55"/>
                </a:lnTo>
                <a:lnTo>
                  <a:pt x="300" y="58"/>
                </a:lnTo>
                <a:lnTo>
                  <a:pt x="302" y="60"/>
                </a:lnTo>
                <a:lnTo>
                  <a:pt x="302" y="63"/>
                </a:lnTo>
                <a:lnTo>
                  <a:pt x="304" y="65"/>
                </a:lnTo>
                <a:lnTo>
                  <a:pt x="320" y="68"/>
                </a:lnTo>
                <a:lnTo>
                  <a:pt x="329" y="68"/>
                </a:lnTo>
                <a:lnTo>
                  <a:pt x="341" y="67"/>
                </a:lnTo>
                <a:lnTo>
                  <a:pt x="344" y="67"/>
                </a:lnTo>
                <a:lnTo>
                  <a:pt x="346" y="67"/>
                </a:lnTo>
                <a:lnTo>
                  <a:pt x="347" y="68"/>
                </a:lnTo>
                <a:lnTo>
                  <a:pt x="354" y="68"/>
                </a:lnTo>
                <a:lnTo>
                  <a:pt x="359" y="68"/>
                </a:lnTo>
                <a:lnTo>
                  <a:pt x="361" y="68"/>
                </a:lnTo>
                <a:lnTo>
                  <a:pt x="369" y="62"/>
                </a:lnTo>
                <a:lnTo>
                  <a:pt x="372" y="58"/>
                </a:lnTo>
                <a:lnTo>
                  <a:pt x="374" y="55"/>
                </a:lnTo>
                <a:lnTo>
                  <a:pt x="381" y="48"/>
                </a:lnTo>
                <a:lnTo>
                  <a:pt x="386" y="50"/>
                </a:lnTo>
                <a:lnTo>
                  <a:pt x="387" y="48"/>
                </a:lnTo>
                <a:lnTo>
                  <a:pt x="387" y="47"/>
                </a:lnTo>
                <a:lnTo>
                  <a:pt x="389" y="52"/>
                </a:lnTo>
                <a:lnTo>
                  <a:pt x="394" y="57"/>
                </a:lnTo>
                <a:lnTo>
                  <a:pt x="396" y="57"/>
                </a:lnTo>
                <a:lnTo>
                  <a:pt x="399" y="60"/>
                </a:lnTo>
                <a:lnTo>
                  <a:pt x="402" y="72"/>
                </a:lnTo>
                <a:lnTo>
                  <a:pt x="401" y="77"/>
                </a:lnTo>
                <a:lnTo>
                  <a:pt x="397" y="79"/>
                </a:lnTo>
                <a:lnTo>
                  <a:pt x="397" y="84"/>
                </a:lnTo>
                <a:lnTo>
                  <a:pt x="401" y="85"/>
                </a:lnTo>
                <a:lnTo>
                  <a:pt x="402" y="87"/>
                </a:lnTo>
                <a:lnTo>
                  <a:pt x="404" y="85"/>
                </a:lnTo>
                <a:lnTo>
                  <a:pt x="406" y="84"/>
                </a:lnTo>
                <a:lnTo>
                  <a:pt x="412" y="87"/>
                </a:lnTo>
                <a:lnTo>
                  <a:pt x="414" y="89"/>
                </a:lnTo>
                <a:lnTo>
                  <a:pt x="411" y="90"/>
                </a:lnTo>
                <a:lnTo>
                  <a:pt x="407" y="90"/>
                </a:lnTo>
                <a:lnTo>
                  <a:pt x="406" y="90"/>
                </a:lnTo>
                <a:lnTo>
                  <a:pt x="406" y="102"/>
                </a:lnTo>
                <a:lnTo>
                  <a:pt x="417" y="110"/>
                </a:lnTo>
                <a:lnTo>
                  <a:pt x="419" y="110"/>
                </a:lnTo>
                <a:lnTo>
                  <a:pt x="424" y="112"/>
                </a:lnTo>
                <a:lnTo>
                  <a:pt x="429" y="114"/>
                </a:lnTo>
                <a:lnTo>
                  <a:pt x="431" y="114"/>
                </a:lnTo>
                <a:lnTo>
                  <a:pt x="434" y="115"/>
                </a:lnTo>
                <a:lnTo>
                  <a:pt x="436" y="115"/>
                </a:lnTo>
                <a:lnTo>
                  <a:pt x="439" y="114"/>
                </a:lnTo>
                <a:lnTo>
                  <a:pt x="441" y="114"/>
                </a:lnTo>
                <a:lnTo>
                  <a:pt x="441" y="115"/>
                </a:lnTo>
                <a:lnTo>
                  <a:pt x="441" y="120"/>
                </a:lnTo>
                <a:lnTo>
                  <a:pt x="437" y="120"/>
                </a:lnTo>
                <a:lnTo>
                  <a:pt x="429" y="120"/>
                </a:lnTo>
                <a:lnTo>
                  <a:pt x="426" y="119"/>
                </a:lnTo>
                <a:lnTo>
                  <a:pt x="424" y="119"/>
                </a:lnTo>
                <a:lnTo>
                  <a:pt x="422" y="119"/>
                </a:lnTo>
                <a:lnTo>
                  <a:pt x="419" y="132"/>
                </a:lnTo>
                <a:lnTo>
                  <a:pt x="421" y="139"/>
                </a:lnTo>
                <a:lnTo>
                  <a:pt x="417" y="150"/>
                </a:lnTo>
                <a:lnTo>
                  <a:pt x="414" y="152"/>
                </a:lnTo>
                <a:lnTo>
                  <a:pt x="416" y="155"/>
                </a:lnTo>
                <a:lnTo>
                  <a:pt x="417" y="157"/>
                </a:lnTo>
                <a:lnTo>
                  <a:pt x="412" y="159"/>
                </a:lnTo>
                <a:lnTo>
                  <a:pt x="402" y="159"/>
                </a:lnTo>
                <a:lnTo>
                  <a:pt x="399" y="155"/>
                </a:lnTo>
                <a:lnTo>
                  <a:pt x="397" y="154"/>
                </a:lnTo>
                <a:lnTo>
                  <a:pt x="396" y="150"/>
                </a:lnTo>
                <a:lnTo>
                  <a:pt x="399" y="150"/>
                </a:lnTo>
                <a:lnTo>
                  <a:pt x="397" y="145"/>
                </a:lnTo>
                <a:lnTo>
                  <a:pt x="384" y="137"/>
                </a:lnTo>
                <a:lnTo>
                  <a:pt x="369" y="137"/>
                </a:lnTo>
                <a:lnTo>
                  <a:pt x="356" y="135"/>
                </a:lnTo>
                <a:lnTo>
                  <a:pt x="352" y="137"/>
                </a:lnTo>
                <a:lnTo>
                  <a:pt x="354" y="139"/>
                </a:lnTo>
                <a:lnTo>
                  <a:pt x="352" y="140"/>
                </a:lnTo>
                <a:lnTo>
                  <a:pt x="351" y="142"/>
                </a:lnTo>
                <a:lnTo>
                  <a:pt x="346" y="142"/>
                </a:lnTo>
                <a:lnTo>
                  <a:pt x="342" y="140"/>
                </a:lnTo>
                <a:lnTo>
                  <a:pt x="332" y="144"/>
                </a:lnTo>
                <a:lnTo>
                  <a:pt x="331" y="145"/>
                </a:lnTo>
                <a:lnTo>
                  <a:pt x="327" y="147"/>
                </a:lnTo>
                <a:lnTo>
                  <a:pt x="325" y="147"/>
                </a:lnTo>
                <a:lnTo>
                  <a:pt x="319" y="144"/>
                </a:lnTo>
                <a:lnTo>
                  <a:pt x="314" y="140"/>
                </a:lnTo>
                <a:lnTo>
                  <a:pt x="307" y="144"/>
                </a:lnTo>
                <a:lnTo>
                  <a:pt x="300" y="144"/>
                </a:lnTo>
                <a:lnTo>
                  <a:pt x="299" y="144"/>
                </a:lnTo>
                <a:lnTo>
                  <a:pt x="282" y="139"/>
                </a:lnTo>
                <a:lnTo>
                  <a:pt x="280" y="142"/>
                </a:lnTo>
                <a:lnTo>
                  <a:pt x="275" y="142"/>
                </a:lnTo>
                <a:lnTo>
                  <a:pt x="267" y="139"/>
                </a:lnTo>
                <a:lnTo>
                  <a:pt x="265" y="137"/>
                </a:lnTo>
                <a:lnTo>
                  <a:pt x="255" y="132"/>
                </a:lnTo>
                <a:lnTo>
                  <a:pt x="250" y="139"/>
                </a:lnTo>
                <a:lnTo>
                  <a:pt x="249" y="140"/>
                </a:lnTo>
                <a:lnTo>
                  <a:pt x="239" y="140"/>
                </a:lnTo>
                <a:lnTo>
                  <a:pt x="237" y="139"/>
                </a:lnTo>
                <a:lnTo>
                  <a:pt x="234" y="139"/>
                </a:lnTo>
                <a:lnTo>
                  <a:pt x="232" y="137"/>
                </a:lnTo>
                <a:lnTo>
                  <a:pt x="227" y="139"/>
                </a:lnTo>
                <a:lnTo>
                  <a:pt x="225" y="140"/>
                </a:lnTo>
                <a:lnTo>
                  <a:pt x="224" y="144"/>
                </a:lnTo>
                <a:lnTo>
                  <a:pt x="219" y="150"/>
                </a:lnTo>
                <a:lnTo>
                  <a:pt x="215" y="159"/>
                </a:lnTo>
                <a:lnTo>
                  <a:pt x="215" y="162"/>
                </a:lnTo>
                <a:lnTo>
                  <a:pt x="210" y="164"/>
                </a:lnTo>
                <a:lnTo>
                  <a:pt x="209" y="162"/>
                </a:lnTo>
                <a:lnTo>
                  <a:pt x="205" y="160"/>
                </a:lnTo>
                <a:lnTo>
                  <a:pt x="204" y="160"/>
                </a:lnTo>
                <a:lnTo>
                  <a:pt x="197" y="152"/>
                </a:lnTo>
                <a:lnTo>
                  <a:pt x="189" y="142"/>
                </a:lnTo>
                <a:lnTo>
                  <a:pt x="182" y="142"/>
                </a:lnTo>
                <a:lnTo>
                  <a:pt x="179" y="142"/>
                </a:lnTo>
                <a:lnTo>
                  <a:pt x="175" y="145"/>
                </a:lnTo>
                <a:lnTo>
                  <a:pt x="174" y="147"/>
                </a:lnTo>
                <a:lnTo>
                  <a:pt x="172" y="149"/>
                </a:lnTo>
                <a:lnTo>
                  <a:pt x="170" y="159"/>
                </a:lnTo>
                <a:lnTo>
                  <a:pt x="170" y="160"/>
                </a:lnTo>
                <a:lnTo>
                  <a:pt x="172" y="175"/>
                </a:lnTo>
                <a:lnTo>
                  <a:pt x="172" y="187"/>
                </a:lnTo>
                <a:lnTo>
                  <a:pt x="174" y="190"/>
                </a:lnTo>
                <a:lnTo>
                  <a:pt x="182" y="197"/>
                </a:lnTo>
                <a:lnTo>
                  <a:pt x="187" y="197"/>
                </a:lnTo>
                <a:lnTo>
                  <a:pt x="189" y="199"/>
                </a:lnTo>
                <a:lnTo>
                  <a:pt x="194" y="207"/>
                </a:lnTo>
                <a:lnTo>
                  <a:pt x="195" y="210"/>
                </a:lnTo>
                <a:lnTo>
                  <a:pt x="199" y="215"/>
                </a:lnTo>
                <a:lnTo>
                  <a:pt x="202" y="217"/>
                </a:lnTo>
                <a:lnTo>
                  <a:pt x="204" y="219"/>
                </a:lnTo>
                <a:lnTo>
                  <a:pt x="210" y="234"/>
                </a:lnTo>
                <a:lnTo>
                  <a:pt x="210" y="237"/>
                </a:lnTo>
                <a:lnTo>
                  <a:pt x="207" y="250"/>
                </a:lnTo>
                <a:lnTo>
                  <a:pt x="209" y="250"/>
                </a:lnTo>
                <a:lnTo>
                  <a:pt x="212" y="250"/>
                </a:lnTo>
                <a:lnTo>
                  <a:pt x="215" y="249"/>
                </a:lnTo>
                <a:lnTo>
                  <a:pt x="217" y="250"/>
                </a:lnTo>
                <a:lnTo>
                  <a:pt x="220" y="254"/>
                </a:lnTo>
                <a:lnTo>
                  <a:pt x="222" y="257"/>
                </a:lnTo>
                <a:lnTo>
                  <a:pt x="224" y="260"/>
                </a:lnTo>
                <a:lnTo>
                  <a:pt x="230" y="265"/>
                </a:lnTo>
                <a:lnTo>
                  <a:pt x="232" y="265"/>
                </a:lnTo>
                <a:lnTo>
                  <a:pt x="237" y="265"/>
                </a:lnTo>
                <a:lnTo>
                  <a:pt x="239" y="267"/>
                </a:lnTo>
                <a:lnTo>
                  <a:pt x="247" y="277"/>
                </a:lnTo>
                <a:lnTo>
                  <a:pt x="252" y="282"/>
                </a:lnTo>
                <a:lnTo>
                  <a:pt x="254" y="286"/>
                </a:lnTo>
                <a:lnTo>
                  <a:pt x="264" y="296"/>
                </a:lnTo>
                <a:lnTo>
                  <a:pt x="272" y="306"/>
                </a:lnTo>
                <a:lnTo>
                  <a:pt x="274" y="307"/>
                </a:lnTo>
                <a:lnTo>
                  <a:pt x="275" y="309"/>
                </a:lnTo>
                <a:lnTo>
                  <a:pt x="282" y="314"/>
                </a:lnTo>
                <a:lnTo>
                  <a:pt x="284" y="314"/>
                </a:lnTo>
                <a:lnTo>
                  <a:pt x="287" y="316"/>
                </a:lnTo>
                <a:lnTo>
                  <a:pt x="290" y="317"/>
                </a:lnTo>
                <a:lnTo>
                  <a:pt x="297" y="319"/>
                </a:lnTo>
                <a:lnTo>
                  <a:pt x="299" y="321"/>
                </a:lnTo>
                <a:lnTo>
                  <a:pt x="300" y="322"/>
                </a:lnTo>
                <a:lnTo>
                  <a:pt x="299" y="324"/>
                </a:lnTo>
                <a:lnTo>
                  <a:pt x="302" y="334"/>
                </a:lnTo>
                <a:lnTo>
                  <a:pt x="304" y="337"/>
                </a:lnTo>
                <a:lnTo>
                  <a:pt x="304" y="339"/>
                </a:lnTo>
                <a:lnTo>
                  <a:pt x="315" y="349"/>
                </a:lnTo>
                <a:lnTo>
                  <a:pt x="327" y="354"/>
                </a:lnTo>
                <a:lnTo>
                  <a:pt x="329" y="356"/>
                </a:lnTo>
                <a:lnTo>
                  <a:pt x="332" y="359"/>
                </a:lnTo>
                <a:lnTo>
                  <a:pt x="334" y="361"/>
                </a:lnTo>
                <a:lnTo>
                  <a:pt x="336" y="362"/>
                </a:lnTo>
                <a:lnTo>
                  <a:pt x="337" y="369"/>
                </a:lnTo>
                <a:lnTo>
                  <a:pt x="329" y="372"/>
                </a:lnTo>
                <a:moveTo>
                  <a:pt x="336" y="377"/>
                </a:moveTo>
                <a:lnTo>
                  <a:pt x="339" y="374"/>
                </a:lnTo>
                <a:lnTo>
                  <a:pt x="339" y="372"/>
                </a:lnTo>
                <a:lnTo>
                  <a:pt x="342" y="374"/>
                </a:lnTo>
                <a:lnTo>
                  <a:pt x="347" y="374"/>
                </a:lnTo>
                <a:lnTo>
                  <a:pt x="351" y="379"/>
                </a:lnTo>
                <a:lnTo>
                  <a:pt x="354" y="382"/>
                </a:lnTo>
                <a:lnTo>
                  <a:pt x="361" y="386"/>
                </a:lnTo>
                <a:lnTo>
                  <a:pt x="364" y="387"/>
                </a:lnTo>
                <a:lnTo>
                  <a:pt x="377" y="394"/>
                </a:lnTo>
                <a:lnTo>
                  <a:pt x="384" y="397"/>
                </a:lnTo>
                <a:lnTo>
                  <a:pt x="387" y="401"/>
                </a:lnTo>
                <a:lnTo>
                  <a:pt x="391" y="401"/>
                </a:lnTo>
                <a:lnTo>
                  <a:pt x="392" y="399"/>
                </a:lnTo>
                <a:lnTo>
                  <a:pt x="394" y="399"/>
                </a:lnTo>
                <a:lnTo>
                  <a:pt x="397" y="401"/>
                </a:lnTo>
                <a:lnTo>
                  <a:pt x="402" y="404"/>
                </a:lnTo>
                <a:lnTo>
                  <a:pt x="402" y="409"/>
                </a:lnTo>
                <a:lnTo>
                  <a:pt x="402" y="412"/>
                </a:lnTo>
                <a:lnTo>
                  <a:pt x="404" y="414"/>
                </a:lnTo>
                <a:lnTo>
                  <a:pt x="407" y="416"/>
                </a:lnTo>
                <a:lnTo>
                  <a:pt x="409" y="417"/>
                </a:lnTo>
                <a:lnTo>
                  <a:pt x="409" y="421"/>
                </a:lnTo>
                <a:lnTo>
                  <a:pt x="396" y="412"/>
                </a:lnTo>
                <a:lnTo>
                  <a:pt x="382" y="406"/>
                </a:lnTo>
                <a:lnTo>
                  <a:pt x="371" y="397"/>
                </a:lnTo>
                <a:lnTo>
                  <a:pt x="354" y="389"/>
                </a:lnTo>
                <a:lnTo>
                  <a:pt x="344" y="386"/>
                </a:lnTo>
                <a:lnTo>
                  <a:pt x="329" y="384"/>
                </a:lnTo>
                <a:lnTo>
                  <a:pt x="319" y="381"/>
                </a:lnTo>
                <a:lnTo>
                  <a:pt x="314" y="377"/>
                </a:lnTo>
                <a:lnTo>
                  <a:pt x="300" y="371"/>
                </a:lnTo>
                <a:lnTo>
                  <a:pt x="299" y="372"/>
                </a:lnTo>
                <a:lnTo>
                  <a:pt x="295" y="372"/>
                </a:lnTo>
                <a:lnTo>
                  <a:pt x="290" y="372"/>
                </a:lnTo>
                <a:lnTo>
                  <a:pt x="285" y="371"/>
                </a:lnTo>
                <a:lnTo>
                  <a:pt x="284" y="366"/>
                </a:lnTo>
                <a:lnTo>
                  <a:pt x="305" y="367"/>
                </a:lnTo>
                <a:lnTo>
                  <a:pt x="307" y="367"/>
                </a:lnTo>
                <a:lnTo>
                  <a:pt x="319" y="372"/>
                </a:lnTo>
                <a:lnTo>
                  <a:pt x="325" y="376"/>
                </a:lnTo>
                <a:lnTo>
                  <a:pt x="336" y="379"/>
                </a:lnTo>
                <a:lnTo>
                  <a:pt x="336" y="377"/>
                </a:lnTo>
                <a:moveTo>
                  <a:pt x="95" y="179"/>
                </a:moveTo>
                <a:lnTo>
                  <a:pt x="93" y="179"/>
                </a:lnTo>
                <a:lnTo>
                  <a:pt x="92" y="179"/>
                </a:lnTo>
                <a:lnTo>
                  <a:pt x="87" y="177"/>
                </a:lnTo>
                <a:lnTo>
                  <a:pt x="75" y="170"/>
                </a:lnTo>
                <a:lnTo>
                  <a:pt x="73" y="169"/>
                </a:lnTo>
                <a:lnTo>
                  <a:pt x="72" y="167"/>
                </a:lnTo>
                <a:lnTo>
                  <a:pt x="72" y="165"/>
                </a:lnTo>
                <a:lnTo>
                  <a:pt x="78" y="149"/>
                </a:lnTo>
                <a:lnTo>
                  <a:pt x="78" y="147"/>
                </a:lnTo>
                <a:lnTo>
                  <a:pt x="82" y="149"/>
                </a:lnTo>
                <a:lnTo>
                  <a:pt x="88" y="160"/>
                </a:lnTo>
                <a:lnTo>
                  <a:pt x="92" y="165"/>
                </a:lnTo>
                <a:lnTo>
                  <a:pt x="98" y="172"/>
                </a:lnTo>
                <a:lnTo>
                  <a:pt x="100" y="172"/>
                </a:lnTo>
                <a:lnTo>
                  <a:pt x="100" y="174"/>
                </a:lnTo>
                <a:lnTo>
                  <a:pt x="100" y="175"/>
                </a:lnTo>
                <a:lnTo>
                  <a:pt x="97" y="179"/>
                </a:lnTo>
                <a:lnTo>
                  <a:pt x="95" y="179"/>
                </a:lnTo>
                <a:moveTo>
                  <a:pt x="257" y="346"/>
                </a:moveTo>
                <a:lnTo>
                  <a:pt x="252" y="346"/>
                </a:lnTo>
                <a:lnTo>
                  <a:pt x="249" y="346"/>
                </a:lnTo>
                <a:lnTo>
                  <a:pt x="244" y="346"/>
                </a:lnTo>
                <a:lnTo>
                  <a:pt x="242" y="344"/>
                </a:lnTo>
                <a:lnTo>
                  <a:pt x="235" y="342"/>
                </a:lnTo>
                <a:lnTo>
                  <a:pt x="235" y="341"/>
                </a:lnTo>
                <a:lnTo>
                  <a:pt x="237" y="334"/>
                </a:lnTo>
                <a:lnTo>
                  <a:pt x="249" y="334"/>
                </a:lnTo>
                <a:lnTo>
                  <a:pt x="257" y="334"/>
                </a:lnTo>
                <a:lnTo>
                  <a:pt x="262" y="334"/>
                </a:lnTo>
                <a:lnTo>
                  <a:pt x="264" y="334"/>
                </a:lnTo>
                <a:lnTo>
                  <a:pt x="265" y="336"/>
                </a:lnTo>
                <a:lnTo>
                  <a:pt x="272" y="337"/>
                </a:lnTo>
                <a:lnTo>
                  <a:pt x="272" y="341"/>
                </a:lnTo>
                <a:lnTo>
                  <a:pt x="269" y="344"/>
                </a:lnTo>
                <a:lnTo>
                  <a:pt x="267" y="344"/>
                </a:lnTo>
                <a:lnTo>
                  <a:pt x="265" y="344"/>
                </a:lnTo>
                <a:lnTo>
                  <a:pt x="259" y="344"/>
                </a:lnTo>
                <a:lnTo>
                  <a:pt x="259" y="346"/>
                </a:lnTo>
                <a:lnTo>
                  <a:pt x="257" y="346"/>
                </a:lnTo>
                <a:moveTo>
                  <a:pt x="78" y="215"/>
                </a:moveTo>
                <a:lnTo>
                  <a:pt x="75" y="214"/>
                </a:lnTo>
                <a:lnTo>
                  <a:pt x="70" y="207"/>
                </a:lnTo>
                <a:lnTo>
                  <a:pt x="65" y="190"/>
                </a:lnTo>
                <a:lnTo>
                  <a:pt x="65" y="184"/>
                </a:lnTo>
                <a:lnTo>
                  <a:pt x="67" y="184"/>
                </a:lnTo>
                <a:lnTo>
                  <a:pt x="70" y="184"/>
                </a:lnTo>
                <a:lnTo>
                  <a:pt x="68" y="179"/>
                </a:lnTo>
                <a:lnTo>
                  <a:pt x="65" y="170"/>
                </a:lnTo>
                <a:lnTo>
                  <a:pt x="65" y="169"/>
                </a:lnTo>
                <a:lnTo>
                  <a:pt x="63" y="167"/>
                </a:lnTo>
                <a:lnTo>
                  <a:pt x="62" y="167"/>
                </a:lnTo>
                <a:lnTo>
                  <a:pt x="60" y="164"/>
                </a:lnTo>
                <a:lnTo>
                  <a:pt x="58" y="162"/>
                </a:lnTo>
                <a:lnTo>
                  <a:pt x="62" y="157"/>
                </a:lnTo>
                <a:lnTo>
                  <a:pt x="62" y="155"/>
                </a:lnTo>
                <a:lnTo>
                  <a:pt x="65" y="157"/>
                </a:lnTo>
                <a:lnTo>
                  <a:pt x="67" y="159"/>
                </a:lnTo>
                <a:lnTo>
                  <a:pt x="65" y="160"/>
                </a:lnTo>
                <a:lnTo>
                  <a:pt x="65" y="162"/>
                </a:lnTo>
                <a:lnTo>
                  <a:pt x="65" y="164"/>
                </a:lnTo>
                <a:lnTo>
                  <a:pt x="67" y="169"/>
                </a:lnTo>
                <a:lnTo>
                  <a:pt x="70" y="174"/>
                </a:lnTo>
                <a:lnTo>
                  <a:pt x="70" y="175"/>
                </a:lnTo>
                <a:lnTo>
                  <a:pt x="72" y="175"/>
                </a:lnTo>
                <a:lnTo>
                  <a:pt x="75" y="192"/>
                </a:lnTo>
                <a:lnTo>
                  <a:pt x="77" y="202"/>
                </a:lnTo>
                <a:lnTo>
                  <a:pt x="80" y="209"/>
                </a:lnTo>
                <a:lnTo>
                  <a:pt x="82" y="212"/>
                </a:lnTo>
                <a:lnTo>
                  <a:pt x="80" y="215"/>
                </a:lnTo>
                <a:lnTo>
                  <a:pt x="78" y="215"/>
                </a:lnTo>
                <a:moveTo>
                  <a:pt x="97" y="205"/>
                </a:moveTo>
                <a:lnTo>
                  <a:pt x="107" y="214"/>
                </a:lnTo>
                <a:lnTo>
                  <a:pt x="110" y="214"/>
                </a:lnTo>
                <a:lnTo>
                  <a:pt x="112" y="214"/>
                </a:lnTo>
                <a:lnTo>
                  <a:pt x="113" y="215"/>
                </a:lnTo>
                <a:lnTo>
                  <a:pt x="120" y="222"/>
                </a:lnTo>
                <a:lnTo>
                  <a:pt x="123" y="225"/>
                </a:lnTo>
                <a:lnTo>
                  <a:pt x="122" y="225"/>
                </a:lnTo>
                <a:lnTo>
                  <a:pt x="118" y="222"/>
                </a:lnTo>
                <a:lnTo>
                  <a:pt x="115" y="222"/>
                </a:lnTo>
                <a:lnTo>
                  <a:pt x="118" y="225"/>
                </a:lnTo>
                <a:lnTo>
                  <a:pt x="122" y="229"/>
                </a:lnTo>
                <a:lnTo>
                  <a:pt x="120" y="225"/>
                </a:lnTo>
                <a:lnTo>
                  <a:pt x="122" y="227"/>
                </a:lnTo>
                <a:lnTo>
                  <a:pt x="125" y="229"/>
                </a:lnTo>
                <a:lnTo>
                  <a:pt x="127" y="230"/>
                </a:lnTo>
                <a:lnTo>
                  <a:pt x="137" y="239"/>
                </a:lnTo>
                <a:lnTo>
                  <a:pt x="138" y="240"/>
                </a:lnTo>
                <a:lnTo>
                  <a:pt x="135" y="244"/>
                </a:lnTo>
                <a:lnTo>
                  <a:pt x="132" y="245"/>
                </a:lnTo>
                <a:lnTo>
                  <a:pt x="130" y="244"/>
                </a:lnTo>
                <a:lnTo>
                  <a:pt x="128" y="244"/>
                </a:lnTo>
                <a:lnTo>
                  <a:pt x="127" y="242"/>
                </a:lnTo>
                <a:lnTo>
                  <a:pt x="120" y="232"/>
                </a:lnTo>
                <a:lnTo>
                  <a:pt x="118" y="230"/>
                </a:lnTo>
                <a:lnTo>
                  <a:pt x="112" y="224"/>
                </a:lnTo>
                <a:lnTo>
                  <a:pt x="97" y="207"/>
                </a:lnTo>
                <a:lnTo>
                  <a:pt x="97" y="205"/>
                </a:lnTo>
                <a:moveTo>
                  <a:pt x="287" y="359"/>
                </a:moveTo>
                <a:lnTo>
                  <a:pt x="274" y="359"/>
                </a:lnTo>
                <a:lnTo>
                  <a:pt x="257" y="361"/>
                </a:lnTo>
                <a:lnTo>
                  <a:pt x="255" y="361"/>
                </a:lnTo>
                <a:lnTo>
                  <a:pt x="247" y="359"/>
                </a:lnTo>
                <a:lnTo>
                  <a:pt x="240" y="357"/>
                </a:lnTo>
                <a:lnTo>
                  <a:pt x="239" y="357"/>
                </a:lnTo>
                <a:lnTo>
                  <a:pt x="234" y="354"/>
                </a:lnTo>
                <a:lnTo>
                  <a:pt x="240" y="352"/>
                </a:lnTo>
                <a:lnTo>
                  <a:pt x="242" y="352"/>
                </a:lnTo>
                <a:lnTo>
                  <a:pt x="249" y="351"/>
                </a:lnTo>
                <a:lnTo>
                  <a:pt x="252" y="351"/>
                </a:lnTo>
                <a:lnTo>
                  <a:pt x="255" y="352"/>
                </a:lnTo>
                <a:lnTo>
                  <a:pt x="267" y="356"/>
                </a:lnTo>
                <a:lnTo>
                  <a:pt x="279" y="356"/>
                </a:lnTo>
                <a:lnTo>
                  <a:pt x="292" y="356"/>
                </a:lnTo>
                <a:lnTo>
                  <a:pt x="292" y="357"/>
                </a:lnTo>
                <a:lnTo>
                  <a:pt x="287" y="359"/>
                </a:lnTo>
                <a:moveTo>
                  <a:pt x="275" y="382"/>
                </a:moveTo>
                <a:lnTo>
                  <a:pt x="272" y="382"/>
                </a:lnTo>
                <a:lnTo>
                  <a:pt x="264" y="381"/>
                </a:lnTo>
                <a:lnTo>
                  <a:pt x="259" y="381"/>
                </a:lnTo>
                <a:lnTo>
                  <a:pt x="255" y="376"/>
                </a:lnTo>
                <a:lnTo>
                  <a:pt x="257" y="374"/>
                </a:lnTo>
                <a:lnTo>
                  <a:pt x="260" y="374"/>
                </a:lnTo>
                <a:lnTo>
                  <a:pt x="262" y="374"/>
                </a:lnTo>
                <a:lnTo>
                  <a:pt x="264" y="374"/>
                </a:lnTo>
                <a:lnTo>
                  <a:pt x="265" y="376"/>
                </a:lnTo>
                <a:lnTo>
                  <a:pt x="267" y="376"/>
                </a:lnTo>
                <a:lnTo>
                  <a:pt x="270" y="376"/>
                </a:lnTo>
                <a:lnTo>
                  <a:pt x="274" y="376"/>
                </a:lnTo>
                <a:lnTo>
                  <a:pt x="275" y="376"/>
                </a:lnTo>
                <a:lnTo>
                  <a:pt x="277" y="376"/>
                </a:lnTo>
                <a:lnTo>
                  <a:pt x="277" y="374"/>
                </a:lnTo>
                <a:lnTo>
                  <a:pt x="280" y="374"/>
                </a:lnTo>
                <a:lnTo>
                  <a:pt x="282" y="374"/>
                </a:lnTo>
                <a:lnTo>
                  <a:pt x="285" y="372"/>
                </a:lnTo>
                <a:lnTo>
                  <a:pt x="287" y="372"/>
                </a:lnTo>
                <a:lnTo>
                  <a:pt x="295" y="374"/>
                </a:lnTo>
                <a:lnTo>
                  <a:pt x="299" y="377"/>
                </a:lnTo>
                <a:lnTo>
                  <a:pt x="295" y="379"/>
                </a:lnTo>
                <a:lnTo>
                  <a:pt x="294" y="379"/>
                </a:lnTo>
                <a:lnTo>
                  <a:pt x="280" y="381"/>
                </a:lnTo>
                <a:lnTo>
                  <a:pt x="275" y="382"/>
                </a:lnTo>
                <a:moveTo>
                  <a:pt x="346" y="397"/>
                </a:moveTo>
                <a:lnTo>
                  <a:pt x="344" y="397"/>
                </a:lnTo>
                <a:lnTo>
                  <a:pt x="342" y="396"/>
                </a:lnTo>
                <a:lnTo>
                  <a:pt x="341" y="396"/>
                </a:lnTo>
                <a:lnTo>
                  <a:pt x="336" y="396"/>
                </a:lnTo>
                <a:lnTo>
                  <a:pt x="334" y="396"/>
                </a:lnTo>
                <a:lnTo>
                  <a:pt x="329" y="396"/>
                </a:lnTo>
                <a:lnTo>
                  <a:pt x="315" y="394"/>
                </a:lnTo>
                <a:lnTo>
                  <a:pt x="314" y="392"/>
                </a:lnTo>
                <a:lnTo>
                  <a:pt x="312" y="392"/>
                </a:lnTo>
                <a:lnTo>
                  <a:pt x="310" y="391"/>
                </a:lnTo>
                <a:lnTo>
                  <a:pt x="314" y="389"/>
                </a:lnTo>
                <a:lnTo>
                  <a:pt x="315" y="389"/>
                </a:lnTo>
                <a:lnTo>
                  <a:pt x="317" y="389"/>
                </a:lnTo>
                <a:lnTo>
                  <a:pt x="339" y="394"/>
                </a:lnTo>
                <a:lnTo>
                  <a:pt x="344" y="396"/>
                </a:lnTo>
                <a:lnTo>
                  <a:pt x="346" y="397"/>
                </a:lnTo>
                <a:moveTo>
                  <a:pt x="137" y="291"/>
                </a:moveTo>
                <a:lnTo>
                  <a:pt x="133" y="289"/>
                </a:lnTo>
                <a:lnTo>
                  <a:pt x="133" y="287"/>
                </a:lnTo>
                <a:lnTo>
                  <a:pt x="130" y="286"/>
                </a:lnTo>
                <a:lnTo>
                  <a:pt x="130" y="284"/>
                </a:lnTo>
                <a:lnTo>
                  <a:pt x="127" y="282"/>
                </a:lnTo>
                <a:lnTo>
                  <a:pt x="127" y="281"/>
                </a:lnTo>
                <a:lnTo>
                  <a:pt x="125" y="279"/>
                </a:lnTo>
                <a:lnTo>
                  <a:pt x="123" y="277"/>
                </a:lnTo>
                <a:lnTo>
                  <a:pt x="123" y="276"/>
                </a:lnTo>
                <a:lnTo>
                  <a:pt x="120" y="272"/>
                </a:lnTo>
                <a:lnTo>
                  <a:pt x="118" y="270"/>
                </a:lnTo>
                <a:lnTo>
                  <a:pt x="115" y="267"/>
                </a:lnTo>
                <a:lnTo>
                  <a:pt x="112" y="264"/>
                </a:lnTo>
                <a:lnTo>
                  <a:pt x="110" y="264"/>
                </a:lnTo>
                <a:lnTo>
                  <a:pt x="110" y="262"/>
                </a:lnTo>
                <a:lnTo>
                  <a:pt x="108" y="260"/>
                </a:lnTo>
                <a:lnTo>
                  <a:pt x="120" y="269"/>
                </a:lnTo>
                <a:lnTo>
                  <a:pt x="123" y="274"/>
                </a:lnTo>
                <a:lnTo>
                  <a:pt x="125" y="276"/>
                </a:lnTo>
                <a:lnTo>
                  <a:pt x="128" y="279"/>
                </a:lnTo>
                <a:lnTo>
                  <a:pt x="133" y="282"/>
                </a:lnTo>
                <a:lnTo>
                  <a:pt x="138" y="286"/>
                </a:lnTo>
                <a:lnTo>
                  <a:pt x="140" y="287"/>
                </a:lnTo>
                <a:lnTo>
                  <a:pt x="138" y="287"/>
                </a:lnTo>
                <a:lnTo>
                  <a:pt x="137" y="291"/>
                </a:lnTo>
                <a:moveTo>
                  <a:pt x="214" y="376"/>
                </a:moveTo>
                <a:lnTo>
                  <a:pt x="212" y="376"/>
                </a:lnTo>
                <a:lnTo>
                  <a:pt x="210" y="371"/>
                </a:lnTo>
                <a:lnTo>
                  <a:pt x="210" y="369"/>
                </a:lnTo>
                <a:lnTo>
                  <a:pt x="212" y="369"/>
                </a:lnTo>
                <a:lnTo>
                  <a:pt x="214" y="369"/>
                </a:lnTo>
                <a:lnTo>
                  <a:pt x="215" y="369"/>
                </a:lnTo>
                <a:lnTo>
                  <a:pt x="217" y="367"/>
                </a:lnTo>
                <a:lnTo>
                  <a:pt x="220" y="367"/>
                </a:lnTo>
                <a:lnTo>
                  <a:pt x="224" y="367"/>
                </a:lnTo>
                <a:lnTo>
                  <a:pt x="225" y="369"/>
                </a:lnTo>
                <a:lnTo>
                  <a:pt x="222" y="374"/>
                </a:lnTo>
                <a:lnTo>
                  <a:pt x="214" y="376"/>
                </a:lnTo>
                <a:moveTo>
                  <a:pt x="82" y="230"/>
                </a:moveTo>
                <a:lnTo>
                  <a:pt x="82" y="229"/>
                </a:lnTo>
                <a:lnTo>
                  <a:pt x="70" y="217"/>
                </a:lnTo>
                <a:lnTo>
                  <a:pt x="68" y="210"/>
                </a:lnTo>
                <a:lnTo>
                  <a:pt x="67" y="205"/>
                </a:lnTo>
                <a:lnTo>
                  <a:pt x="70" y="207"/>
                </a:lnTo>
                <a:lnTo>
                  <a:pt x="72" y="209"/>
                </a:lnTo>
                <a:lnTo>
                  <a:pt x="72" y="210"/>
                </a:lnTo>
                <a:lnTo>
                  <a:pt x="72" y="214"/>
                </a:lnTo>
                <a:lnTo>
                  <a:pt x="72" y="217"/>
                </a:lnTo>
                <a:lnTo>
                  <a:pt x="73" y="217"/>
                </a:lnTo>
                <a:lnTo>
                  <a:pt x="73" y="219"/>
                </a:lnTo>
                <a:lnTo>
                  <a:pt x="78" y="224"/>
                </a:lnTo>
                <a:lnTo>
                  <a:pt x="80" y="224"/>
                </a:lnTo>
                <a:lnTo>
                  <a:pt x="82" y="225"/>
                </a:lnTo>
                <a:lnTo>
                  <a:pt x="83" y="227"/>
                </a:lnTo>
                <a:lnTo>
                  <a:pt x="82" y="229"/>
                </a:lnTo>
                <a:lnTo>
                  <a:pt x="82" y="230"/>
                </a:lnTo>
              </a:path>
            </a:pathLst>
          </a:custGeom>
          <a:solidFill>
            <a:srgbClr val="003300">
              <a:alpha val="67000"/>
            </a:srgbClr>
          </a:solidFill>
          <a:ln w="46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"/>
          <p:cNvSpPr/>
          <p:nvPr/>
        </p:nvSpPr>
        <p:spPr>
          <a:xfrm>
            <a:off x="3770280" y="4014720"/>
            <a:ext cx="1163520" cy="1395360"/>
          </a:xfrm>
          <a:custGeom>
            <a:avLst/>
            <a:gdLst/>
            <a:ahLst/>
            <a:rect l="l" t="t" r="r" b="b"/>
            <a:pathLst>
              <a:path w="733" h="879">
                <a:moveTo>
                  <a:pt x="0" y="511"/>
                </a:moveTo>
                <a:lnTo>
                  <a:pt x="0" y="511"/>
                </a:lnTo>
                <a:lnTo>
                  <a:pt x="25" y="497"/>
                </a:lnTo>
                <a:lnTo>
                  <a:pt x="45" y="497"/>
                </a:lnTo>
                <a:lnTo>
                  <a:pt x="40" y="480"/>
                </a:lnTo>
                <a:lnTo>
                  <a:pt x="50" y="467"/>
                </a:lnTo>
                <a:lnTo>
                  <a:pt x="44" y="431"/>
                </a:lnTo>
                <a:lnTo>
                  <a:pt x="28" y="420"/>
                </a:lnTo>
                <a:lnTo>
                  <a:pt x="13" y="402"/>
                </a:lnTo>
                <a:lnTo>
                  <a:pt x="3" y="377"/>
                </a:lnTo>
                <a:lnTo>
                  <a:pt x="15" y="347"/>
                </a:lnTo>
                <a:lnTo>
                  <a:pt x="11" y="302"/>
                </a:lnTo>
                <a:lnTo>
                  <a:pt x="19" y="287"/>
                </a:lnTo>
                <a:lnTo>
                  <a:pt x="29" y="279"/>
                </a:lnTo>
                <a:lnTo>
                  <a:pt x="39" y="275"/>
                </a:lnTo>
                <a:lnTo>
                  <a:pt x="50" y="268"/>
                </a:lnTo>
                <a:lnTo>
                  <a:pt x="75" y="261"/>
                </a:lnTo>
                <a:lnTo>
                  <a:pt x="77" y="246"/>
                </a:lnTo>
                <a:lnTo>
                  <a:pt x="80" y="221"/>
                </a:lnTo>
                <a:lnTo>
                  <a:pt x="79" y="203"/>
                </a:lnTo>
                <a:lnTo>
                  <a:pt x="102" y="153"/>
                </a:lnTo>
                <a:lnTo>
                  <a:pt x="108" y="134"/>
                </a:lnTo>
                <a:lnTo>
                  <a:pt x="150" y="114"/>
                </a:lnTo>
                <a:lnTo>
                  <a:pt x="156" y="96"/>
                </a:lnTo>
                <a:lnTo>
                  <a:pt x="175" y="98"/>
                </a:lnTo>
                <a:lnTo>
                  <a:pt x="192" y="120"/>
                </a:lnTo>
                <a:lnTo>
                  <a:pt x="195" y="135"/>
                </a:lnTo>
                <a:lnTo>
                  <a:pt x="215" y="153"/>
                </a:lnTo>
                <a:lnTo>
                  <a:pt x="227" y="139"/>
                </a:lnTo>
                <a:lnTo>
                  <a:pt x="246" y="127"/>
                </a:lnTo>
                <a:lnTo>
                  <a:pt x="226" y="54"/>
                </a:lnTo>
                <a:lnTo>
                  <a:pt x="216" y="52"/>
                </a:lnTo>
                <a:lnTo>
                  <a:pt x="206" y="46"/>
                </a:lnTo>
                <a:lnTo>
                  <a:pt x="207" y="29"/>
                </a:lnTo>
                <a:lnTo>
                  <a:pt x="194" y="20"/>
                </a:lnTo>
                <a:lnTo>
                  <a:pt x="217" y="0"/>
                </a:lnTo>
                <a:lnTo>
                  <a:pt x="244" y="30"/>
                </a:lnTo>
                <a:lnTo>
                  <a:pt x="271" y="15"/>
                </a:lnTo>
                <a:lnTo>
                  <a:pt x="283" y="29"/>
                </a:lnTo>
                <a:lnTo>
                  <a:pt x="295" y="47"/>
                </a:lnTo>
                <a:lnTo>
                  <a:pt x="319" y="55"/>
                </a:lnTo>
                <a:lnTo>
                  <a:pt x="343" y="79"/>
                </a:lnTo>
                <a:lnTo>
                  <a:pt x="361" y="79"/>
                </a:lnTo>
                <a:lnTo>
                  <a:pt x="377" y="109"/>
                </a:lnTo>
                <a:lnTo>
                  <a:pt x="403" y="129"/>
                </a:lnTo>
                <a:lnTo>
                  <a:pt x="405" y="155"/>
                </a:lnTo>
                <a:lnTo>
                  <a:pt x="433" y="167"/>
                </a:lnTo>
                <a:lnTo>
                  <a:pt x="447" y="195"/>
                </a:lnTo>
                <a:lnTo>
                  <a:pt x="479" y="203"/>
                </a:lnTo>
                <a:lnTo>
                  <a:pt x="489" y="195"/>
                </a:lnTo>
                <a:lnTo>
                  <a:pt x="498" y="216"/>
                </a:lnTo>
                <a:lnTo>
                  <a:pt x="520" y="237"/>
                </a:lnTo>
                <a:lnTo>
                  <a:pt x="538" y="233"/>
                </a:lnTo>
                <a:lnTo>
                  <a:pt x="555" y="236"/>
                </a:lnTo>
                <a:lnTo>
                  <a:pt x="570" y="225"/>
                </a:lnTo>
                <a:lnTo>
                  <a:pt x="576" y="242"/>
                </a:lnTo>
                <a:lnTo>
                  <a:pt x="627" y="270"/>
                </a:lnTo>
                <a:lnTo>
                  <a:pt x="633" y="290"/>
                </a:lnTo>
                <a:lnTo>
                  <a:pt x="646" y="302"/>
                </a:lnTo>
                <a:lnTo>
                  <a:pt x="681" y="303"/>
                </a:lnTo>
                <a:lnTo>
                  <a:pt x="705" y="317"/>
                </a:lnTo>
                <a:lnTo>
                  <a:pt x="718" y="327"/>
                </a:lnTo>
                <a:lnTo>
                  <a:pt x="731" y="332"/>
                </a:lnTo>
                <a:lnTo>
                  <a:pt x="733" y="365"/>
                </a:lnTo>
                <a:lnTo>
                  <a:pt x="715" y="375"/>
                </a:lnTo>
                <a:lnTo>
                  <a:pt x="689" y="380"/>
                </a:lnTo>
                <a:lnTo>
                  <a:pt x="678" y="392"/>
                </a:lnTo>
                <a:lnTo>
                  <a:pt x="679" y="407"/>
                </a:lnTo>
                <a:lnTo>
                  <a:pt x="666" y="411"/>
                </a:lnTo>
                <a:lnTo>
                  <a:pt x="630" y="395"/>
                </a:lnTo>
                <a:lnTo>
                  <a:pt x="603" y="417"/>
                </a:lnTo>
                <a:lnTo>
                  <a:pt x="606" y="435"/>
                </a:lnTo>
                <a:lnTo>
                  <a:pt x="634" y="461"/>
                </a:lnTo>
                <a:lnTo>
                  <a:pt x="628" y="480"/>
                </a:lnTo>
                <a:lnTo>
                  <a:pt x="625" y="504"/>
                </a:lnTo>
                <a:lnTo>
                  <a:pt x="604" y="509"/>
                </a:lnTo>
                <a:lnTo>
                  <a:pt x="588" y="528"/>
                </a:lnTo>
                <a:lnTo>
                  <a:pt x="565" y="527"/>
                </a:lnTo>
                <a:lnTo>
                  <a:pt x="546" y="539"/>
                </a:lnTo>
                <a:lnTo>
                  <a:pt x="531" y="552"/>
                </a:lnTo>
                <a:lnTo>
                  <a:pt x="513" y="543"/>
                </a:lnTo>
                <a:lnTo>
                  <a:pt x="500" y="522"/>
                </a:lnTo>
                <a:lnTo>
                  <a:pt x="508" y="498"/>
                </a:lnTo>
                <a:lnTo>
                  <a:pt x="507" y="473"/>
                </a:lnTo>
                <a:lnTo>
                  <a:pt x="489" y="447"/>
                </a:lnTo>
                <a:lnTo>
                  <a:pt x="466" y="468"/>
                </a:lnTo>
                <a:lnTo>
                  <a:pt x="450" y="491"/>
                </a:lnTo>
                <a:lnTo>
                  <a:pt x="448" y="506"/>
                </a:lnTo>
                <a:lnTo>
                  <a:pt x="444" y="516"/>
                </a:lnTo>
                <a:lnTo>
                  <a:pt x="420" y="528"/>
                </a:lnTo>
                <a:lnTo>
                  <a:pt x="412" y="558"/>
                </a:lnTo>
                <a:lnTo>
                  <a:pt x="387" y="590"/>
                </a:lnTo>
                <a:lnTo>
                  <a:pt x="370" y="605"/>
                </a:lnTo>
                <a:lnTo>
                  <a:pt x="361" y="636"/>
                </a:lnTo>
                <a:lnTo>
                  <a:pt x="334" y="683"/>
                </a:lnTo>
                <a:lnTo>
                  <a:pt x="315" y="705"/>
                </a:lnTo>
                <a:lnTo>
                  <a:pt x="331" y="728"/>
                </a:lnTo>
                <a:lnTo>
                  <a:pt x="348" y="740"/>
                </a:lnTo>
                <a:lnTo>
                  <a:pt x="354" y="744"/>
                </a:lnTo>
                <a:lnTo>
                  <a:pt x="358" y="756"/>
                </a:lnTo>
                <a:lnTo>
                  <a:pt x="351" y="767"/>
                </a:lnTo>
                <a:lnTo>
                  <a:pt x="345" y="794"/>
                </a:lnTo>
                <a:lnTo>
                  <a:pt x="346" y="804"/>
                </a:lnTo>
                <a:lnTo>
                  <a:pt x="345" y="822"/>
                </a:lnTo>
                <a:lnTo>
                  <a:pt x="343" y="838"/>
                </a:lnTo>
                <a:lnTo>
                  <a:pt x="350" y="854"/>
                </a:lnTo>
                <a:lnTo>
                  <a:pt x="351" y="879"/>
                </a:lnTo>
                <a:lnTo>
                  <a:pt x="329" y="866"/>
                </a:lnTo>
                <a:lnTo>
                  <a:pt x="325" y="861"/>
                </a:lnTo>
                <a:lnTo>
                  <a:pt x="300" y="858"/>
                </a:lnTo>
                <a:lnTo>
                  <a:pt x="277" y="845"/>
                </a:lnTo>
                <a:lnTo>
                  <a:pt x="269" y="834"/>
                </a:lnTo>
                <a:lnTo>
                  <a:pt x="261" y="817"/>
                </a:lnTo>
                <a:lnTo>
                  <a:pt x="262" y="804"/>
                </a:lnTo>
                <a:lnTo>
                  <a:pt x="265" y="784"/>
                </a:lnTo>
                <a:lnTo>
                  <a:pt x="239" y="750"/>
                </a:lnTo>
                <a:lnTo>
                  <a:pt x="230" y="739"/>
                </a:lnTo>
                <a:lnTo>
                  <a:pt x="217" y="728"/>
                </a:lnTo>
                <a:lnTo>
                  <a:pt x="199" y="710"/>
                </a:lnTo>
                <a:lnTo>
                  <a:pt x="164" y="667"/>
                </a:lnTo>
                <a:lnTo>
                  <a:pt x="150" y="665"/>
                </a:lnTo>
                <a:lnTo>
                  <a:pt x="141" y="664"/>
                </a:lnTo>
                <a:lnTo>
                  <a:pt x="118" y="645"/>
                </a:lnTo>
                <a:lnTo>
                  <a:pt x="73" y="610"/>
                </a:lnTo>
                <a:lnTo>
                  <a:pt x="61" y="619"/>
                </a:lnTo>
                <a:lnTo>
                  <a:pt x="48" y="607"/>
                </a:lnTo>
                <a:lnTo>
                  <a:pt x="39" y="570"/>
                </a:lnTo>
                <a:lnTo>
                  <a:pt x="58" y="572"/>
                </a:lnTo>
                <a:lnTo>
                  <a:pt x="64" y="594"/>
                </a:lnTo>
                <a:lnTo>
                  <a:pt x="98" y="598"/>
                </a:lnTo>
                <a:lnTo>
                  <a:pt x="99" y="588"/>
                </a:lnTo>
                <a:lnTo>
                  <a:pt x="87" y="572"/>
                </a:lnTo>
                <a:lnTo>
                  <a:pt x="24" y="567"/>
                </a:lnTo>
                <a:lnTo>
                  <a:pt x="18" y="573"/>
                </a:lnTo>
                <a:lnTo>
                  <a:pt x="18" y="573"/>
                </a:lnTo>
                <a:lnTo>
                  <a:pt x="10" y="560"/>
                </a:lnTo>
                <a:lnTo>
                  <a:pt x="7" y="549"/>
                </a:lnTo>
                <a:lnTo>
                  <a:pt x="0" y="534"/>
                </a:lnTo>
                <a:lnTo>
                  <a:pt x="0" y="511"/>
                </a:lnTo>
                <a:lnTo>
                  <a:pt x="0" y="511"/>
                </a:lnTo>
                <a:close/>
              </a:path>
            </a:pathLst>
          </a:custGeom>
          <a:solidFill>
            <a:srgbClr val="003300">
              <a:alpha val="67000"/>
            </a:srgbClr>
          </a:solidFill>
          <a:ln w="46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"/>
          <p:cNvSpPr/>
          <p:nvPr/>
        </p:nvSpPr>
        <p:spPr>
          <a:xfrm>
            <a:off x="4745160" y="4041720"/>
            <a:ext cx="1162080" cy="1389240"/>
          </a:xfrm>
          <a:custGeom>
            <a:avLst/>
            <a:gdLst/>
            <a:ahLst/>
            <a:rect l="l" t="t" r="r" b="b"/>
            <a:pathLst>
              <a:path w="732" h="875">
                <a:moveTo>
                  <a:pt x="208" y="875"/>
                </a:moveTo>
                <a:lnTo>
                  <a:pt x="205" y="860"/>
                </a:lnTo>
                <a:lnTo>
                  <a:pt x="216" y="845"/>
                </a:lnTo>
                <a:lnTo>
                  <a:pt x="210" y="828"/>
                </a:lnTo>
                <a:lnTo>
                  <a:pt x="232" y="812"/>
                </a:lnTo>
                <a:lnTo>
                  <a:pt x="222" y="777"/>
                </a:lnTo>
                <a:lnTo>
                  <a:pt x="204" y="740"/>
                </a:lnTo>
                <a:lnTo>
                  <a:pt x="204" y="708"/>
                </a:lnTo>
                <a:lnTo>
                  <a:pt x="189" y="689"/>
                </a:lnTo>
                <a:lnTo>
                  <a:pt x="165" y="645"/>
                </a:lnTo>
                <a:lnTo>
                  <a:pt x="141" y="627"/>
                </a:lnTo>
                <a:lnTo>
                  <a:pt x="105" y="611"/>
                </a:lnTo>
                <a:lnTo>
                  <a:pt x="91" y="612"/>
                </a:lnTo>
                <a:lnTo>
                  <a:pt x="74" y="611"/>
                </a:lnTo>
                <a:lnTo>
                  <a:pt x="65" y="582"/>
                </a:lnTo>
                <a:lnTo>
                  <a:pt x="67" y="568"/>
                </a:lnTo>
                <a:lnTo>
                  <a:pt x="51" y="528"/>
                </a:lnTo>
                <a:lnTo>
                  <a:pt x="62" y="551"/>
                </a:lnTo>
                <a:lnTo>
                  <a:pt x="38" y="513"/>
                </a:lnTo>
                <a:lnTo>
                  <a:pt x="18" y="498"/>
                </a:lnTo>
                <a:lnTo>
                  <a:pt x="12" y="508"/>
                </a:lnTo>
                <a:lnTo>
                  <a:pt x="15" y="468"/>
                </a:lnTo>
                <a:lnTo>
                  <a:pt x="30" y="447"/>
                </a:lnTo>
                <a:lnTo>
                  <a:pt x="8" y="422"/>
                </a:lnTo>
                <a:lnTo>
                  <a:pt x="0" y="413"/>
                </a:lnTo>
                <a:lnTo>
                  <a:pt x="2" y="399"/>
                </a:lnTo>
                <a:lnTo>
                  <a:pt x="14" y="392"/>
                </a:lnTo>
                <a:lnTo>
                  <a:pt x="27" y="395"/>
                </a:lnTo>
                <a:lnTo>
                  <a:pt x="41" y="408"/>
                </a:lnTo>
                <a:lnTo>
                  <a:pt x="57" y="401"/>
                </a:lnTo>
                <a:lnTo>
                  <a:pt x="71" y="396"/>
                </a:lnTo>
                <a:lnTo>
                  <a:pt x="66" y="377"/>
                </a:lnTo>
                <a:lnTo>
                  <a:pt x="92" y="366"/>
                </a:lnTo>
                <a:lnTo>
                  <a:pt x="104" y="369"/>
                </a:lnTo>
                <a:lnTo>
                  <a:pt x="120" y="348"/>
                </a:lnTo>
                <a:lnTo>
                  <a:pt x="132" y="322"/>
                </a:lnTo>
                <a:lnTo>
                  <a:pt x="166" y="304"/>
                </a:lnTo>
                <a:lnTo>
                  <a:pt x="171" y="277"/>
                </a:lnTo>
                <a:lnTo>
                  <a:pt x="142" y="258"/>
                </a:lnTo>
                <a:lnTo>
                  <a:pt x="162" y="240"/>
                </a:lnTo>
                <a:lnTo>
                  <a:pt x="190" y="235"/>
                </a:lnTo>
                <a:lnTo>
                  <a:pt x="214" y="241"/>
                </a:lnTo>
                <a:lnTo>
                  <a:pt x="223" y="216"/>
                </a:lnTo>
                <a:lnTo>
                  <a:pt x="240" y="198"/>
                </a:lnTo>
                <a:lnTo>
                  <a:pt x="237" y="106"/>
                </a:lnTo>
                <a:lnTo>
                  <a:pt x="208" y="90"/>
                </a:lnTo>
                <a:lnTo>
                  <a:pt x="226" y="58"/>
                </a:lnTo>
                <a:lnTo>
                  <a:pt x="264" y="45"/>
                </a:lnTo>
                <a:lnTo>
                  <a:pt x="280" y="15"/>
                </a:lnTo>
                <a:lnTo>
                  <a:pt x="310" y="0"/>
                </a:lnTo>
                <a:lnTo>
                  <a:pt x="330" y="9"/>
                </a:lnTo>
                <a:lnTo>
                  <a:pt x="343" y="28"/>
                </a:lnTo>
                <a:lnTo>
                  <a:pt x="333" y="51"/>
                </a:lnTo>
                <a:lnTo>
                  <a:pt x="334" y="70"/>
                </a:lnTo>
                <a:lnTo>
                  <a:pt x="360" y="108"/>
                </a:lnTo>
                <a:lnTo>
                  <a:pt x="406" y="135"/>
                </a:lnTo>
                <a:lnTo>
                  <a:pt x="432" y="127"/>
                </a:lnTo>
                <a:lnTo>
                  <a:pt x="450" y="136"/>
                </a:lnTo>
                <a:lnTo>
                  <a:pt x="466" y="184"/>
                </a:lnTo>
                <a:lnTo>
                  <a:pt x="499" y="171"/>
                </a:lnTo>
                <a:lnTo>
                  <a:pt x="510" y="193"/>
                </a:lnTo>
                <a:lnTo>
                  <a:pt x="516" y="208"/>
                </a:lnTo>
                <a:lnTo>
                  <a:pt x="523" y="240"/>
                </a:lnTo>
                <a:lnTo>
                  <a:pt x="538" y="264"/>
                </a:lnTo>
                <a:lnTo>
                  <a:pt x="583" y="279"/>
                </a:lnTo>
                <a:lnTo>
                  <a:pt x="603" y="261"/>
                </a:lnTo>
                <a:lnTo>
                  <a:pt x="630" y="274"/>
                </a:lnTo>
                <a:lnTo>
                  <a:pt x="613" y="327"/>
                </a:lnTo>
                <a:lnTo>
                  <a:pt x="624" y="346"/>
                </a:lnTo>
                <a:lnTo>
                  <a:pt x="648" y="337"/>
                </a:lnTo>
                <a:lnTo>
                  <a:pt x="672" y="342"/>
                </a:lnTo>
                <a:lnTo>
                  <a:pt x="687" y="382"/>
                </a:lnTo>
                <a:lnTo>
                  <a:pt x="714" y="376"/>
                </a:lnTo>
                <a:lnTo>
                  <a:pt x="732" y="414"/>
                </a:lnTo>
                <a:lnTo>
                  <a:pt x="715" y="438"/>
                </a:lnTo>
                <a:lnTo>
                  <a:pt x="705" y="457"/>
                </a:lnTo>
                <a:lnTo>
                  <a:pt x="700" y="484"/>
                </a:lnTo>
                <a:lnTo>
                  <a:pt x="676" y="505"/>
                </a:lnTo>
                <a:lnTo>
                  <a:pt x="691" y="541"/>
                </a:lnTo>
                <a:lnTo>
                  <a:pt x="684" y="570"/>
                </a:lnTo>
                <a:lnTo>
                  <a:pt x="643" y="576"/>
                </a:lnTo>
                <a:lnTo>
                  <a:pt x="651" y="609"/>
                </a:lnTo>
                <a:lnTo>
                  <a:pt x="668" y="613"/>
                </a:lnTo>
                <a:lnTo>
                  <a:pt x="662" y="625"/>
                </a:lnTo>
                <a:lnTo>
                  <a:pt x="643" y="636"/>
                </a:lnTo>
                <a:lnTo>
                  <a:pt x="616" y="639"/>
                </a:lnTo>
                <a:lnTo>
                  <a:pt x="575" y="640"/>
                </a:lnTo>
                <a:lnTo>
                  <a:pt x="550" y="628"/>
                </a:lnTo>
                <a:lnTo>
                  <a:pt x="531" y="629"/>
                </a:lnTo>
                <a:lnTo>
                  <a:pt x="522" y="647"/>
                </a:lnTo>
                <a:lnTo>
                  <a:pt x="507" y="668"/>
                </a:lnTo>
                <a:lnTo>
                  <a:pt x="481" y="695"/>
                </a:lnTo>
                <a:lnTo>
                  <a:pt x="483" y="719"/>
                </a:lnTo>
                <a:lnTo>
                  <a:pt x="456" y="729"/>
                </a:lnTo>
                <a:lnTo>
                  <a:pt x="444" y="702"/>
                </a:lnTo>
                <a:lnTo>
                  <a:pt x="417" y="668"/>
                </a:lnTo>
                <a:lnTo>
                  <a:pt x="388" y="674"/>
                </a:lnTo>
                <a:lnTo>
                  <a:pt x="372" y="701"/>
                </a:lnTo>
                <a:lnTo>
                  <a:pt x="309" y="722"/>
                </a:lnTo>
                <a:lnTo>
                  <a:pt x="279" y="729"/>
                </a:lnTo>
                <a:lnTo>
                  <a:pt x="261" y="762"/>
                </a:lnTo>
                <a:lnTo>
                  <a:pt x="262" y="791"/>
                </a:lnTo>
                <a:lnTo>
                  <a:pt x="264" y="810"/>
                </a:lnTo>
                <a:lnTo>
                  <a:pt x="259" y="825"/>
                </a:lnTo>
                <a:lnTo>
                  <a:pt x="271" y="839"/>
                </a:lnTo>
                <a:lnTo>
                  <a:pt x="253" y="851"/>
                </a:lnTo>
                <a:lnTo>
                  <a:pt x="241" y="846"/>
                </a:lnTo>
                <a:lnTo>
                  <a:pt x="208" y="875"/>
                </a:lnTo>
                <a:close/>
              </a:path>
            </a:pathLst>
          </a:custGeom>
          <a:solidFill>
            <a:srgbClr val="009900">
              <a:alpha val="67000"/>
            </a:srgbClr>
          </a:solidFill>
          <a:ln w="324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"/>
          <p:cNvSpPr/>
          <p:nvPr/>
        </p:nvSpPr>
        <p:spPr>
          <a:xfrm>
            <a:off x="4284720" y="4743360"/>
            <a:ext cx="1092240" cy="2428920"/>
          </a:xfrm>
          <a:custGeom>
            <a:avLst/>
            <a:gdLst/>
            <a:ahLst/>
            <a:rect l="l" t="t" r="r" b="b"/>
            <a:pathLst>
              <a:path w="688" h="1530">
                <a:moveTo>
                  <a:pt x="104" y="492"/>
                </a:moveTo>
                <a:lnTo>
                  <a:pt x="114" y="483"/>
                </a:lnTo>
                <a:lnTo>
                  <a:pt x="118" y="445"/>
                </a:lnTo>
                <a:lnTo>
                  <a:pt x="111" y="429"/>
                </a:lnTo>
                <a:lnTo>
                  <a:pt x="89" y="417"/>
                </a:lnTo>
                <a:lnTo>
                  <a:pt x="66" y="405"/>
                </a:lnTo>
                <a:lnTo>
                  <a:pt x="56" y="403"/>
                </a:lnTo>
                <a:lnTo>
                  <a:pt x="34" y="402"/>
                </a:lnTo>
                <a:lnTo>
                  <a:pt x="22" y="378"/>
                </a:lnTo>
                <a:lnTo>
                  <a:pt x="30" y="354"/>
                </a:lnTo>
                <a:lnTo>
                  <a:pt x="30" y="326"/>
                </a:lnTo>
                <a:lnTo>
                  <a:pt x="40" y="302"/>
                </a:lnTo>
                <a:lnTo>
                  <a:pt x="37" y="279"/>
                </a:lnTo>
                <a:lnTo>
                  <a:pt x="24" y="268"/>
                </a:lnTo>
                <a:lnTo>
                  <a:pt x="4" y="248"/>
                </a:lnTo>
                <a:lnTo>
                  <a:pt x="28" y="216"/>
                </a:lnTo>
                <a:lnTo>
                  <a:pt x="46" y="177"/>
                </a:lnTo>
                <a:lnTo>
                  <a:pt x="52" y="150"/>
                </a:lnTo>
                <a:lnTo>
                  <a:pt x="85" y="122"/>
                </a:lnTo>
                <a:lnTo>
                  <a:pt x="106" y="74"/>
                </a:lnTo>
                <a:lnTo>
                  <a:pt x="130" y="56"/>
                </a:lnTo>
                <a:lnTo>
                  <a:pt x="132" y="36"/>
                </a:lnTo>
                <a:lnTo>
                  <a:pt x="142" y="29"/>
                </a:lnTo>
                <a:lnTo>
                  <a:pt x="162" y="0"/>
                </a:lnTo>
                <a:lnTo>
                  <a:pt x="173" y="5"/>
                </a:lnTo>
                <a:lnTo>
                  <a:pt x="175" y="29"/>
                </a:lnTo>
                <a:lnTo>
                  <a:pt x="167" y="52"/>
                </a:lnTo>
                <a:lnTo>
                  <a:pt x="179" y="78"/>
                </a:lnTo>
                <a:lnTo>
                  <a:pt x="187" y="89"/>
                </a:lnTo>
                <a:lnTo>
                  <a:pt x="211" y="93"/>
                </a:lnTo>
                <a:lnTo>
                  <a:pt x="246" y="81"/>
                </a:lnTo>
                <a:lnTo>
                  <a:pt x="276" y="77"/>
                </a:lnTo>
                <a:lnTo>
                  <a:pt x="295" y="53"/>
                </a:lnTo>
                <a:lnTo>
                  <a:pt x="309" y="66"/>
                </a:lnTo>
                <a:lnTo>
                  <a:pt x="326" y="72"/>
                </a:lnTo>
                <a:lnTo>
                  <a:pt x="345" y="108"/>
                </a:lnTo>
                <a:lnTo>
                  <a:pt x="349" y="154"/>
                </a:lnTo>
                <a:lnTo>
                  <a:pt x="363" y="164"/>
                </a:lnTo>
                <a:lnTo>
                  <a:pt x="400" y="169"/>
                </a:lnTo>
                <a:lnTo>
                  <a:pt x="410" y="170"/>
                </a:lnTo>
                <a:lnTo>
                  <a:pt x="442" y="193"/>
                </a:lnTo>
                <a:lnTo>
                  <a:pt x="464" y="211"/>
                </a:lnTo>
                <a:lnTo>
                  <a:pt x="468" y="220"/>
                </a:lnTo>
                <a:lnTo>
                  <a:pt x="491" y="301"/>
                </a:lnTo>
                <a:lnTo>
                  <a:pt x="500" y="346"/>
                </a:lnTo>
                <a:lnTo>
                  <a:pt x="499" y="360"/>
                </a:lnTo>
                <a:lnTo>
                  <a:pt x="493" y="369"/>
                </a:lnTo>
                <a:lnTo>
                  <a:pt x="496" y="384"/>
                </a:lnTo>
                <a:lnTo>
                  <a:pt x="486" y="401"/>
                </a:lnTo>
                <a:lnTo>
                  <a:pt x="489" y="438"/>
                </a:lnTo>
                <a:lnTo>
                  <a:pt x="472" y="462"/>
                </a:lnTo>
                <a:lnTo>
                  <a:pt x="478" y="491"/>
                </a:lnTo>
                <a:lnTo>
                  <a:pt x="472" y="524"/>
                </a:lnTo>
                <a:lnTo>
                  <a:pt x="486" y="536"/>
                </a:lnTo>
                <a:lnTo>
                  <a:pt x="481" y="554"/>
                </a:lnTo>
                <a:lnTo>
                  <a:pt x="456" y="567"/>
                </a:lnTo>
                <a:lnTo>
                  <a:pt x="447" y="588"/>
                </a:lnTo>
                <a:lnTo>
                  <a:pt x="456" y="605"/>
                </a:lnTo>
                <a:lnTo>
                  <a:pt x="471" y="627"/>
                </a:lnTo>
                <a:lnTo>
                  <a:pt x="492" y="642"/>
                </a:lnTo>
                <a:lnTo>
                  <a:pt x="483" y="663"/>
                </a:lnTo>
                <a:lnTo>
                  <a:pt x="468" y="683"/>
                </a:lnTo>
                <a:lnTo>
                  <a:pt x="471" y="719"/>
                </a:lnTo>
                <a:lnTo>
                  <a:pt x="490" y="762"/>
                </a:lnTo>
                <a:lnTo>
                  <a:pt x="502" y="785"/>
                </a:lnTo>
                <a:lnTo>
                  <a:pt x="499" y="806"/>
                </a:lnTo>
                <a:lnTo>
                  <a:pt x="538" y="816"/>
                </a:lnTo>
                <a:lnTo>
                  <a:pt x="555" y="881"/>
                </a:lnTo>
                <a:lnTo>
                  <a:pt x="564" y="909"/>
                </a:lnTo>
                <a:lnTo>
                  <a:pt x="586" y="908"/>
                </a:lnTo>
                <a:lnTo>
                  <a:pt x="595" y="902"/>
                </a:lnTo>
                <a:lnTo>
                  <a:pt x="610" y="893"/>
                </a:lnTo>
                <a:lnTo>
                  <a:pt x="634" y="896"/>
                </a:lnTo>
                <a:lnTo>
                  <a:pt x="648" y="897"/>
                </a:lnTo>
                <a:lnTo>
                  <a:pt x="659" y="910"/>
                </a:lnTo>
                <a:lnTo>
                  <a:pt x="663" y="945"/>
                </a:lnTo>
                <a:lnTo>
                  <a:pt x="654" y="963"/>
                </a:lnTo>
                <a:lnTo>
                  <a:pt x="655" y="987"/>
                </a:lnTo>
                <a:lnTo>
                  <a:pt x="678" y="998"/>
                </a:lnTo>
                <a:lnTo>
                  <a:pt x="688" y="1014"/>
                </a:lnTo>
                <a:lnTo>
                  <a:pt x="688" y="1052"/>
                </a:lnTo>
                <a:lnTo>
                  <a:pt x="672" y="1071"/>
                </a:lnTo>
                <a:lnTo>
                  <a:pt x="655" y="1095"/>
                </a:lnTo>
                <a:lnTo>
                  <a:pt x="646" y="1116"/>
                </a:lnTo>
                <a:lnTo>
                  <a:pt x="627" y="1109"/>
                </a:lnTo>
                <a:lnTo>
                  <a:pt x="603" y="1116"/>
                </a:lnTo>
                <a:lnTo>
                  <a:pt x="592" y="1145"/>
                </a:lnTo>
                <a:lnTo>
                  <a:pt x="577" y="1182"/>
                </a:lnTo>
                <a:lnTo>
                  <a:pt x="567" y="1190"/>
                </a:lnTo>
                <a:lnTo>
                  <a:pt x="560" y="1205"/>
                </a:lnTo>
                <a:lnTo>
                  <a:pt x="562" y="1229"/>
                </a:lnTo>
                <a:lnTo>
                  <a:pt x="550" y="1290"/>
                </a:lnTo>
                <a:lnTo>
                  <a:pt x="525" y="1297"/>
                </a:lnTo>
                <a:lnTo>
                  <a:pt x="523" y="1307"/>
                </a:lnTo>
                <a:lnTo>
                  <a:pt x="513" y="1311"/>
                </a:lnTo>
                <a:lnTo>
                  <a:pt x="499" y="1309"/>
                </a:lnTo>
                <a:lnTo>
                  <a:pt x="473" y="1315"/>
                </a:lnTo>
                <a:lnTo>
                  <a:pt x="465" y="1305"/>
                </a:lnTo>
                <a:lnTo>
                  <a:pt x="455" y="1304"/>
                </a:lnTo>
                <a:lnTo>
                  <a:pt x="449" y="1312"/>
                </a:lnTo>
                <a:lnTo>
                  <a:pt x="402" y="1345"/>
                </a:lnTo>
                <a:lnTo>
                  <a:pt x="417" y="1382"/>
                </a:lnTo>
                <a:lnTo>
                  <a:pt x="430" y="1397"/>
                </a:lnTo>
                <a:lnTo>
                  <a:pt x="441" y="1423"/>
                </a:lnTo>
                <a:lnTo>
                  <a:pt x="449" y="1434"/>
                </a:lnTo>
                <a:lnTo>
                  <a:pt x="437" y="1452"/>
                </a:lnTo>
                <a:lnTo>
                  <a:pt x="432" y="1456"/>
                </a:lnTo>
                <a:lnTo>
                  <a:pt x="408" y="1448"/>
                </a:lnTo>
                <a:lnTo>
                  <a:pt x="400" y="1447"/>
                </a:lnTo>
                <a:lnTo>
                  <a:pt x="407" y="1463"/>
                </a:lnTo>
                <a:lnTo>
                  <a:pt x="410" y="1477"/>
                </a:lnTo>
                <a:lnTo>
                  <a:pt x="375" y="1522"/>
                </a:lnTo>
                <a:lnTo>
                  <a:pt x="364" y="1530"/>
                </a:lnTo>
                <a:lnTo>
                  <a:pt x="350" y="1529"/>
                </a:lnTo>
                <a:lnTo>
                  <a:pt x="341" y="1517"/>
                </a:lnTo>
                <a:lnTo>
                  <a:pt x="328" y="1516"/>
                </a:lnTo>
                <a:lnTo>
                  <a:pt x="294" y="1508"/>
                </a:lnTo>
                <a:lnTo>
                  <a:pt x="285" y="1506"/>
                </a:lnTo>
                <a:lnTo>
                  <a:pt x="280" y="1506"/>
                </a:lnTo>
                <a:lnTo>
                  <a:pt x="275" y="1471"/>
                </a:lnTo>
                <a:lnTo>
                  <a:pt x="282" y="1413"/>
                </a:lnTo>
                <a:lnTo>
                  <a:pt x="252" y="1375"/>
                </a:lnTo>
                <a:lnTo>
                  <a:pt x="229" y="1324"/>
                </a:lnTo>
                <a:lnTo>
                  <a:pt x="220" y="1323"/>
                </a:lnTo>
                <a:lnTo>
                  <a:pt x="210" y="1322"/>
                </a:lnTo>
                <a:lnTo>
                  <a:pt x="183" y="1304"/>
                </a:lnTo>
                <a:lnTo>
                  <a:pt x="176" y="1293"/>
                </a:lnTo>
                <a:lnTo>
                  <a:pt x="129" y="1273"/>
                </a:lnTo>
                <a:lnTo>
                  <a:pt x="83" y="1253"/>
                </a:lnTo>
                <a:lnTo>
                  <a:pt x="61" y="1230"/>
                </a:lnTo>
                <a:lnTo>
                  <a:pt x="41" y="1203"/>
                </a:lnTo>
                <a:lnTo>
                  <a:pt x="0" y="1136"/>
                </a:lnTo>
                <a:lnTo>
                  <a:pt x="11" y="1127"/>
                </a:lnTo>
                <a:lnTo>
                  <a:pt x="16" y="1128"/>
                </a:lnTo>
                <a:lnTo>
                  <a:pt x="36" y="1155"/>
                </a:lnTo>
                <a:lnTo>
                  <a:pt x="45" y="1166"/>
                </a:lnTo>
                <a:lnTo>
                  <a:pt x="44" y="1175"/>
                </a:lnTo>
                <a:lnTo>
                  <a:pt x="57" y="1181"/>
                </a:lnTo>
                <a:lnTo>
                  <a:pt x="68" y="1178"/>
                </a:lnTo>
                <a:lnTo>
                  <a:pt x="79" y="1170"/>
                </a:lnTo>
                <a:lnTo>
                  <a:pt x="74" y="1130"/>
                </a:lnTo>
                <a:lnTo>
                  <a:pt x="68" y="1061"/>
                </a:lnTo>
                <a:lnTo>
                  <a:pt x="48" y="1058"/>
                </a:lnTo>
                <a:lnTo>
                  <a:pt x="43" y="1058"/>
                </a:lnTo>
                <a:lnTo>
                  <a:pt x="21" y="1041"/>
                </a:lnTo>
                <a:lnTo>
                  <a:pt x="4" y="1024"/>
                </a:lnTo>
                <a:lnTo>
                  <a:pt x="26" y="1002"/>
                </a:lnTo>
                <a:lnTo>
                  <a:pt x="39" y="936"/>
                </a:lnTo>
                <a:lnTo>
                  <a:pt x="42" y="912"/>
                </a:lnTo>
                <a:lnTo>
                  <a:pt x="63" y="900"/>
                </a:lnTo>
                <a:lnTo>
                  <a:pt x="68" y="900"/>
                </a:lnTo>
                <a:lnTo>
                  <a:pt x="89" y="889"/>
                </a:lnTo>
                <a:lnTo>
                  <a:pt x="92" y="869"/>
                </a:lnTo>
                <a:lnTo>
                  <a:pt x="83" y="854"/>
                </a:lnTo>
                <a:lnTo>
                  <a:pt x="61" y="836"/>
                </a:lnTo>
                <a:lnTo>
                  <a:pt x="52" y="835"/>
                </a:lnTo>
                <a:lnTo>
                  <a:pt x="64" y="812"/>
                </a:lnTo>
                <a:lnTo>
                  <a:pt x="85" y="718"/>
                </a:lnTo>
                <a:lnTo>
                  <a:pt x="87" y="698"/>
                </a:lnTo>
                <a:lnTo>
                  <a:pt x="79" y="693"/>
                </a:lnTo>
                <a:lnTo>
                  <a:pt x="70" y="682"/>
                </a:lnTo>
                <a:lnTo>
                  <a:pt x="64" y="691"/>
                </a:lnTo>
                <a:lnTo>
                  <a:pt x="52" y="632"/>
                </a:lnTo>
                <a:lnTo>
                  <a:pt x="86" y="553"/>
                </a:lnTo>
                <a:lnTo>
                  <a:pt x="106" y="550"/>
                </a:lnTo>
                <a:lnTo>
                  <a:pt x="108" y="532"/>
                </a:lnTo>
                <a:lnTo>
                  <a:pt x="110" y="517"/>
                </a:lnTo>
                <a:lnTo>
                  <a:pt x="104" y="492"/>
                </a:lnTo>
              </a:path>
            </a:pathLst>
          </a:custGeom>
          <a:solidFill>
            <a:srgbClr val="336600">
              <a:alpha val="67000"/>
            </a:srgbClr>
          </a:solidFill>
          <a:ln w="46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"/>
          <p:cNvSpPr/>
          <p:nvPr/>
        </p:nvSpPr>
        <p:spPr>
          <a:xfrm>
            <a:off x="1133640" y="2019240"/>
            <a:ext cx="2981160" cy="714600"/>
          </a:xfrm>
          <a:custGeom>
            <a:avLst/>
            <a:gdLst/>
            <a:ahLst/>
            <a:rect l="l" t="t" r="r" b="b"/>
            <a:pathLst>
              <a:path w="1878" h="450">
                <a:moveTo>
                  <a:pt x="0" y="450"/>
                </a:moveTo>
                <a:lnTo>
                  <a:pt x="222" y="270"/>
                </a:lnTo>
                <a:lnTo>
                  <a:pt x="360" y="270"/>
                </a:lnTo>
                <a:lnTo>
                  <a:pt x="546" y="258"/>
                </a:lnTo>
                <a:lnTo>
                  <a:pt x="594" y="216"/>
                </a:lnTo>
                <a:lnTo>
                  <a:pt x="654" y="210"/>
                </a:lnTo>
                <a:lnTo>
                  <a:pt x="690" y="132"/>
                </a:lnTo>
                <a:lnTo>
                  <a:pt x="786" y="44"/>
                </a:lnTo>
                <a:lnTo>
                  <a:pt x="882" y="48"/>
                </a:lnTo>
                <a:lnTo>
                  <a:pt x="966" y="18"/>
                </a:lnTo>
                <a:lnTo>
                  <a:pt x="1092" y="108"/>
                </a:lnTo>
                <a:lnTo>
                  <a:pt x="1218" y="0"/>
                </a:lnTo>
                <a:lnTo>
                  <a:pt x="1410" y="108"/>
                </a:lnTo>
                <a:lnTo>
                  <a:pt x="1668" y="138"/>
                </a:lnTo>
                <a:lnTo>
                  <a:pt x="1632" y="396"/>
                </a:lnTo>
                <a:lnTo>
                  <a:pt x="1878" y="402"/>
                </a:lnTo>
                <a:lnTo>
                  <a:pt x="1872" y="324"/>
                </a:ln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"/>
          <p:cNvSpPr/>
          <p:nvPr/>
        </p:nvSpPr>
        <p:spPr>
          <a:xfrm>
            <a:off x="4359240" y="3359160"/>
            <a:ext cx="260280" cy="393840"/>
          </a:xfrm>
          <a:custGeom>
            <a:avLst/>
            <a:gdLst/>
            <a:ahLst/>
            <a:rect l="l" t="t" r="r" b="b"/>
            <a:pathLst>
              <a:path w="158" h="248">
                <a:moveTo>
                  <a:pt x="0" y="0"/>
                </a:moveTo>
                <a:lnTo>
                  <a:pt x="158" y="248"/>
                </a:ln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"/>
          <p:cNvSpPr/>
          <p:nvPr/>
        </p:nvSpPr>
        <p:spPr>
          <a:xfrm>
            <a:off x="2577960" y="3994200"/>
            <a:ext cx="723960" cy="412560"/>
          </a:xfrm>
          <a:custGeom>
            <a:avLst/>
            <a:gdLst/>
            <a:ahLst/>
            <a:rect l="l" t="t" r="r" b="b"/>
            <a:pathLst>
              <a:path w="456" h="260">
                <a:moveTo>
                  <a:pt x="456" y="260"/>
                </a:moveTo>
                <a:lnTo>
                  <a:pt x="298" y="182"/>
                </a:lnTo>
                <a:lnTo>
                  <a:pt x="148" y="40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"/>
          <p:cNvSpPr/>
          <p:nvPr/>
        </p:nvSpPr>
        <p:spPr>
          <a:xfrm>
            <a:off x="5867280" y="3556080"/>
            <a:ext cx="581040" cy="590400"/>
          </a:xfrm>
          <a:custGeom>
            <a:avLst/>
            <a:gdLst/>
            <a:ahLst/>
            <a:rect l="l" t="t" r="r" b="b"/>
            <a:pathLst>
              <a:path w="366" h="372">
                <a:moveTo>
                  <a:pt x="0" y="372"/>
                </a:moveTo>
                <a:lnTo>
                  <a:pt x="366" y="0"/>
                </a:lnTo>
              </a:path>
            </a:pathLst>
          </a:custGeom>
          <a:noFill/>
          <a:ln w="3816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"/>
          <p:cNvSpPr/>
          <p:nvPr/>
        </p:nvSpPr>
        <p:spPr>
          <a:xfrm>
            <a:off x="5740560" y="4317840"/>
            <a:ext cx="161640" cy="114480"/>
          </a:xfrm>
          <a:prstGeom prst="line">
            <a:avLst/>
          </a:prstGeom>
          <a:ln w="28440">
            <a:solidFill>
              <a:srgbClr val="ccb37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"/>
          <p:cNvSpPr/>
          <p:nvPr/>
        </p:nvSpPr>
        <p:spPr>
          <a:xfrm flipH="1" flipV="1">
            <a:off x="5320800" y="5260680"/>
            <a:ext cx="57240" cy="114120"/>
          </a:xfrm>
          <a:prstGeom prst="line">
            <a:avLst/>
          </a:prstGeom>
          <a:ln w="38160">
            <a:solidFill>
              <a:srgbClr val="ccb37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"/>
          <p:cNvSpPr/>
          <p:nvPr/>
        </p:nvSpPr>
        <p:spPr>
          <a:xfrm>
            <a:off x="1800360" y="2409840"/>
            <a:ext cx="780840" cy="1581120"/>
          </a:xfrm>
          <a:custGeom>
            <a:avLst/>
            <a:gdLst/>
            <a:ahLst/>
            <a:rect l="l" t="t" r="r" b="b"/>
            <a:pathLst>
              <a:path w="492" h="996">
                <a:moveTo>
                  <a:pt x="492" y="996"/>
                </a:moveTo>
                <a:lnTo>
                  <a:pt x="426" y="990"/>
                </a:lnTo>
                <a:lnTo>
                  <a:pt x="306" y="900"/>
                </a:lnTo>
                <a:lnTo>
                  <a:pt x="216" y="732"/>
                </a:lnTo>
                <a:lnTo>
                  <a:pt x="270" y="660"/>
                </a:lnTo>
                <a:lnTo>
                  <a:pt x="270" y="576"/>
                </a:lnTo>
                <a:lnTo>
                  <a:pt x="114" y="468"/>
                </a:lnTo>
                <a:lnTo>
                  <a:pt x="42" y="336"/>
                </a:lnTo>
                <a:lnTo>
                  <a:pt x="96" y="228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"/>
          <p:cNvSpPr/>
          <p:nvPr/>
        </p:nvSpPr>
        <p:spPr>
          <a:xfrm>
            <a:off x="2867040" y="2124000"/>
            <a:ext cx="361800" cy="247680"/>
          </a:xfrm>
          <a:custGeom>
            <a:avLst/>
            <a:gdLst/>
            <a:ahLst/>
            <a:rect l="l" t="t" r="r" b="b"/>
            <a:pathLst>
              <a:path w="228" h="156">
                <a:moveTo>
                  <a:pt x="0" y="42"/>
                </a:moveTo>
                <a:lnTo>
                  <a:pt x="126" y="156"/>
                </a:lnTo>
                <a:lnTo>
                  <a:pt x="228" y="0"/>
                </a:ln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"/>
          <p:cNvSpPr/>
          <p:nvPr/>
        </p:nvSpPr>
        <p:spPr>
          <a:xfrm flipH="1" flipV="1">
            <a:off x="2276640" y="1752120"/>
            <a:ext cx="95040" cy="352440"/>
          </a:xfrm>
          <a:prstGeom prst="line">
            <a:avLst/>
          </a:prstGeom>
          <a:ln w="28440">
            <a:solidFill>
              <a:srgbClr val="ccb3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"/>
          <p:cNvSpPr/>
          <p:nvPr/>
        </p:nvSpPr>
        <p:spPr>
          <a:xfrm>
            <a:off x="2314440" y="1704960"/>
            <a:ext cx="771840" cy="324000"/>
          </a:xfrm>
          <a:custGeom>
            <a:avLst/>
            <a:gdLst/>
            <a:ahLst/>
            <a:rect l="l" t="t" r="r" b="b"/>
            <a:pathLst>
              <a:path w="474" h="210">
                <a:moveTo>
                  <a:pt x="0" y="126"/>
                </a:moveTo>
                <a:lnTo>
                  <a:pt x="258" y="0"/>
                </a:lnTo>
                <a:lnTo>
                  <a:pt x="474" y="210"/>
                </a:ln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"/>
          <p:cNvSpPr/>
          <p:nvPr/>
        </p:nvSpPr>
        <p:spPr>
          <a:xfrm>
            <a:off x="3057480" y="2371680"/>
            <a:ext cx="657360" cy="276120"/>
          </a:xfrm>
          <a:custGeom>
            <a:avLst/>
            <a:gdLst/>
            <a:ahLst/>
            <a:rect l="l" t="t" r="r" b="b"/>
            <a:pathLst>
              <a:path w="414" h="174">
                <a:moveTo>
                  <a:pt x="0" y="0"/>
                </a:moveTo>
                <a:lnTo>
                  <a:pt x="186" y="168"/>
                </a:lnTo>
                <a:lnTo>
                  <a:pt x="414" y="174"/>
                </a:ln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"/>
          <p:cNvSpPr/>
          <p:nvPr/>
        </p:nvSpPr>
        <p:spPr>
          <a:xfrm>
            <a:off x="3467160" y="2638440"/>
            <a:ext cx="247680" cy="809640"/>
          </a:xfrm>
          <a:custGeom>
            <a:avLst/>
            <a:gdLst/>
            <a:ahLst/>
            <a:rect l="l" t="t" r="r" b="b"/>
            <a:pathLst>
              <a:path w="156" h="510">
                <a:moveTo>
                  <a:pt x="0" y="510"/>
                </a:moveTo>
                <a:lnTo>
                  <a:pt x="138" y="312"/>
                </a:lnTo>
                <a:lnTo>
                  <a:pt x="108" y="102"/>
                </a:lnTo>
                <a:lnTo>
                  <a:pt x="156" y="0"/>
                </a:ln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"/>
          <p:cNvSpPr/>
          <p:nvPr/>
        </p:nvSpPr>
        <p:spPr>
          <a:xfrm flipH="1">
            <a:off x="5619240" y="5029200"/>
            <a:ext cx="1009800" cy="237960"/>
          </a:xfrm>
          <a:prstGeom prst="line">
            <a:avLst/>
          </a:prstGeom>
          <a:ln w="28440">
            <a:solidFill>
              <a:srgbClr val="ccb3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"/>
          <p:cNvSpPr/>
          <p:nvPr/>
        </p:nvSpPr>
        <p:spPr>
          <a:xfrm>
            <a:off x="1076400" y="1486080"/>
            <a:ext cx="4419360" cy="5314680"/>
          </a:xfrm>
          <a:custGeom>
            <a:avLst/>
            <a:gdLst/>
            <a:ahLst/>
            <a:rect l="l" t="t" r="r" b="b"/>
            <a:pathLst>
              <a:path w="2784" h="3348">
                <a:moveTo>
                  <a:pt x="2784" y="3348"/>
                </a:moveTo>
                <a:lnTo>
                  <a:pt x="2514" y="3060"/>
                </a:lnTo>
                <a:lnTo>
                  <a:pt x="2220" y="2742"/>
                </a:lnTo>
                <a:lnTo>
                  <a:pt x="2112" y="2364"/>
                </a:lnTo>
                <a:lnTo>
                  <a:pt x="2022" y="2180"/>
                </a:lnTo>
                <a:lnTo>
                  <a:pt x="1895" y="2026"/>
                </a:lnTo>
                <a:lnTo>
                  <a:pt x="1716" y="2146"/>
                </a:lnTo>
                <a:lnTo>
                  <a:pt x="1266" y="1788"/>
                </a:lnTo>
                <a:lnTo>
                  <a:pt x="1098" y="1614"/>
                </a:lnTo>
                <a:lnTo>
                  <a:pt x="900" y="1590"/>
                </a:lnTo>
                <a:lnTo>
                  <a:pt x="750" y="1452"/>
                </a:lnTo>
                <a:lnTo>
                  <a:pt x="696" y="1266"/>
                </a:lnTo>
                <a:lnTo>
                  <a:pt x="558" y="816"/>
                </a:lnTo>
                <a:lnTo>
                  <a:pt x="462" y="618"/>
                </a:lnTo>
                <a:lnTo>
                  <a:pt x="348" y="234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ffff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"/>
          <p:cNvSpPr/>
          <p:nvPr/>
        </p:nvSpPr>
        <p:spPr>
          <a:xfrm flipH="1">
            <a:off x="4962240" y="2171880"/>
            <a:ext cx="438120" cy="819000"/>
          </a:xfrm>
          <a:prstGeom prst="line">
            <a:avLst/>
          </a:prstGeom>
          <a:ln w="28440">
            <a:solidFill>
              <a:srgbClr val="ccb37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"/>
          <p:cNvSpPr/>
          <p:nvPr/>
        </p:nvSpPr>
        <p:spPr>
          <a:xfrm flipH="1">
            <a:off x="2408400" y="979560"/>
            <a:ext cx="1638000" cy="1104840"/>
          </a:xfrm>
          <a:prstGeom prst="line">
            <a:avLst/>
          </a:prstGeom>
          <a:ln w="28440">
            <a:solidFill>
              <a:srgbClr val="ccb37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"/>
          <p:cNvSpPr/>
          <p:nvPr/>
        </p:nvSpPr>
        <p:spPr>
          <a:xfrm>
            <a:off x="4600440" y="5829480"/>
            <a:ext cx="27000" cy="487080"/>
          </a:xfrm>
          <a:custGeom>
            <a:avLst/>
            <a:gdLst/>
            <a:ahLst/>
            <a:rect l="l" t="t" r="r" b="b"/>
            <a:pathLst>
              <a:path w="17" h="307">
                <a:moveTo>
                  <a:pt x="0" y="0"/>
                </a:moveTo>
                <a:lnTo>
                  <a:pt x="17" y="307"/>
                </a:lnTo>
              </a:path>
            </a:pathLst>
          </a:custGeom>
          <a:noFill/>
          <a:ln w="3816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"/>
          <p:cNvSpPr/>
          <p:nvPr/>
        </p:nvSpPr>
        <p:spPr>
          <a:xfrm>
            <a:off x="3048120" y="2371680"/>
            <a:ext cx="685800" cy="1381320"/>
          </a:xfrm>
          <a:custGeom>
            <a:avLst/>
            <a:gdLst/>
            <a:ahLst/>
            <a:rect l="l" t="t" r="r" b="b"/>
            <a:pathLst>
              <a:path w="432" h="870">
                <a:moveTo>
                  <a:pt x="0" y="0"/>
                </a:moveTo>
                <a:lnTo>
                  <a:pt x="6" y="384"/>
                </a:lnTo>
                <a:lnTo>
                  <a:pt x="240" y="684"/>
                </a:lnTo>
                <a:lnTo>
                  <a:pt x="432" y="870"/>
                </a:ln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"/>
          <p:cNvSpPr/>
          <p:nvPr/>
        </p:nvSpPr>
        <p:spPr>
          <a:xfrm>
            <a:off x="4105440" y="933480"/>
            <a:ext cx="1266840" cy="2438280"/>
          </a:xfrm>
          <a:custGeom>
            <a:avLst/>
            <a:gdLst/>
            <a:ahLst/>
            <a:rect l="l" t="t" r="r" b="b"/>
            <a:pathLst>
              <a:path w="798" h="1536">
                <a:moveTo>
                  <a:pt x="0" y="0"/>
                </a:moveTo>
                <a:lnTo>
                  <a:pt x="282" y="282"/>
                </a:lnTo>
                <a:lnTo>
                  <a:pt x="420" y="528"/>
                </a:lnTo>
                <a:lnTo>
                  <a:pt x="372" y="966"/>
                </a:lnTo>
                <a:lnTo>
                  <a:pt x="540" y="1284"/>
                </a:lnTo>
                <a:lnTo>
                  <a:pt x="690" y="1260"/>
                </a:lnTo>
                <a:lnTo>
                  <a:pt x="798" y="1368"/>
                </a:lnTo>
                <a:lnTo>
                  <a:pt x="738" y="1536"/>
                </a:ln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"/>
          <p:cNvSpPr/>
          <p:nvPr/>
        </p:nvSpPr>
        <p:spPr>
          <a:xfrm>
            <a:off x="4200480" y="2162160"/>
            <a:ext cx="501840" cy="371520"/>
          </a:xfrm>
          <a:custGeom>
            <a:avLst/>
            <a:gdLst/>
            <a:ahLst/>
            <a:rect l="l" t="t" r="r" b="b"/>
            <a:pathLst>
              <a:path w="316" h="234">
                <a:moveTo>
                  <a:pt x="0" y="0"/>
                </a:moveTo>
                <a:cubicBezTo>
                  <a:pt x="28" y="18"/>
                  <a:pt x="170" y="51"/>
                  <a:pt x="222" y="84"/>
                </a:cubicBezTo>
                <a:cubicBezTo>
                  <a:pt x="274" y="117"/>
                  <a:pt x="316" y="173"/>
                  <a:pt x="312" y="198"/>
                </a:cubicBezTo>
                <a:cubicBezTo>
                  <a:pt x="285" y="206"/>
                  <a:pt x="231" y="234"/>
                  <a:pt x="198" y="234"/>
                </a:cubicBez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"/>
          <p:cNvSpPr/>
          <p:nvPr/>
        </p:nvSpPr>
        <p:spPr>
          <a:xfrm>
            <a:off x="3781440" y="1378080"/>
            <a:ext cx="749160" cy="631800"/>
          </a:xfrm>
          <a:custGeom>
            <a:avLst/>
            <a:gdLst/>
            <a:ahLst/>
            <a:rect l="l" t="t" r="r" b="b"/>
            <a:pathLst>
              <a:path w="472" h="398">
                <a:moveTo>
                  <a:pt x="472" y="0"/>
                </a:moveTo>
                <a:lnTo>
                  <a:pt x="372" y="200"/>
                </a:lnTo>
                <a:lnTo>
                  <a:pt x="0" y="398"/>
                </a:ln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"/>
          <p:cNvSpPr/>
          <p:nvPr/>
        </p:nvSpPr>
        <p:spPr>
          <a:xfrm>
            <a:off x="3772080" y="2028960"/>
            <a:ext cx="9360" cy="209520"/>
          </a:xfrm>
          <a:custGeom>
            <a:avLst/>
            <a:gdLst/>
            <a:ahLst/>
            <a:rect l="l" t="t" r="r" b="b"/>
            <a:pathLst>
              <a:path w="6" h="132">
                <a:moveTo>
                  <a:pt x="6" y="0"/>
                </a:moveTo>
                <a:cubicBezTo>
                  <a:pt x="4" y="25"/>
                  <a:pt x="2" y="107"/>
                  <a:pt x="0" y="132"/>
                </a:cubicBez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1" name=""/>
          <p:cNvSpPr/>
          <p:nvPr/>
        </p:nvSpPr>
        <p:spPr>
          <a:xfrm>
            <a:off x="5253120" y="4583160"/>
            <a:ext cx="162000" cy="114120"/>
          </a:xfrm>
          <a:prstGeom prst="line">
            <a:avLst/>
          </a:prstGeom>
          <a:ln w="28440">
            <a:solidFill>
              <a:srgbClr val="ccb37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"/>
          <p:cNvSpPr/>
          <p:nvPr/>
        </p:nvSpPr>
        <p:spPr>
          <a:xfrm rot="7899000">
            <a:off x="2612160" y="414936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>
              <a:alpha val="25000"/>
            </a:srgbClr>
          </a:solidFill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"/>
          <p:cNvSpPr/>
          <p:nvPr/>
        </p:nvSpPr>
        <p:spPr>
          <a:xfrm rot="13470000">
            <a:off x="3396960" y="340920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>
              <a:alpha val="25000"/>
            </a:srgbClr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" name=""/>
          <p:cNvSpPr/>
          <p:nvPr/>
        </p:nvSpPr>
        <p:spPr>
          <a:xfrm rot="13470000">
            <a:off x="2958840" y="407592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>
              <a:alpha val="25000"/>
            </a:srgbClr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5" name=""/>
          <p:cNvSpPr/>
          <p:nvPr/>
        </p:nvSpPr>
        <p:spPr>
          <a:xfrm rot="7899000">
            <a:off x="3868560" y="4928760"/>
            <a:ext cx="360360" cy="36072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>
              <a:alpha val="25000"/>
            </a:srgbClr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"/>
          <p:cNvSpPr/>
          <p:nvPr/>
        </p:nvSpPr>
        <p:spPr>
          <a:xfrm rot="16200000">
            <a:off x="4583160" y="159660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>
              <a:alpha val="25000"/>
            </a:srgbClr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" name=""/>
          <p:cNvSpPr/>
          <p:nvPr/>
        </p:nvSpPr>
        <p:spPr>
          <a:xfrm>
            <a:off x="3809880" y="5915160"/>
            <a:ext cx="5286600" cy="1573200"/>
          </a:xfrm>
          <a:custGeom>
            <a:avLst/>
            <a:gdLst/>
            <a:ahLst/>
            <a:rect l="l" t="t" r="r" b="b"/>
            <a:pathLst>
              <a:path w="3330" h="991">
                <a:moveTo>
                  <a:pt x="3330" y="348"/>
                </a:moveTo>
                <a:lnTo>
                  <a:pt x="3186" y="138"/>
                </a:lnTo>
                <a:lnTo>
                  <a:pt x="3024" y="18"/>
                </a:lnTo>
                <a:lnTo>
                  <a:pt x="2676" y="0"/>
                </a:lnTo>
                <a:lnTo>
                  <a:pt x="2346" y="12"/>
                </a:lnTo>
                <a:lnTo>
                  <a:pt x="2148" y="108"/>
                </a:lnTo>
                <a:lnTo>
                  <a:pt x="1722" y="162"/>
                </a:lnTo>
                <a:lnTo>
                  <a:pt x="1595" y="255"/>
                </a:lnTo>
                <a:lnTo>
                  <a:pt x="1450" y="351"/>
                </a:lnTo>
                <a:lnTo>
                  <a:pt x="1181" y="584"/>
                </a:lnTo>
                <a:lnTo>
                  <a:pt x="967" y="821"/>
                </a:lnTo>
                <a:lnTo>
                  <a:pt x="743" y="965"/>
                </a:lnTo>
                <a:lnTo>
                  <a:pt x="647" y="991"/>
                </a:lnTo>
                <a:lnTo>
                  <a:pt x="504" y="954"/>
                </a:lnTo>
                <a:lnTo>
                  <a:pt x="317" y="847"/>
                </a:lnTo>
                <a:lnTo>
                  <a:pt x="102" y="697"/>
                </a:lnTo>
                <a:lnTo>
                  <a:pt x="0" y="565"/>
                </a:lnTo>
              </a:path>
            </a:pathLst>
          </a:custGeom>
          <a:noFill/>
          <a:ln w="57240">
            <a:solidFill>
              <a:srgbClr val="d60093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" name=""/>
          <p:cNvSpPr/>
          <p:nvPr/>
        </p:nvSpPr>
        <p:spPr>
          <a:xfrm>
            <a:off x="3433680" y="6300720"/>
            <a:ext cx="3030480" cy="184320"/>
          </a:xfrm>
          <a:custGeom>
            <a:avLst/>
            <a:gdLst/>
            <a:ahLst/>
            <a:rect l="l" t="t" r="r" b="b"/>
            <a:pathLst>
              <a:path w="2754" h="168">
                <a:moveTo>
                  <a:pt x="2754" y="0"/>
                </a:moveTo>
                <a:lnTo>
                  <a:pt x="2532" y="48"/>
                </a:lnTo>
                <a:lnTo>
                  <a:pt x="2364" y="78"/>
                </a:lnTo>
                <a:lnTo>
                  <a:pt x="2136" y="168"/>
                </a:lnTo>
                <a:lnTo>
                  <a:pt x="1374" y="42"/>
                </a:lnTo>
                <a:lnTo>
                  <a:pt x="1152" y="42"/>
                </a:lnTo>
                <a:lnTo>
                  <a:pt x="924" y="24"/>
                </a:lnTo>
                <a:lnTo>
                  <a:pt x="786" y="42"/>
                </a:lnTo>
                <a:lnTo>
                  <a:pt x="738" y="78"/>
                </a:lnTo>
                <a:lnTo>
                  <a:pt x="624" y="138"/>
                </a:lnTo>
                <a:lnTo>
                  <a:pt x="450" y="144"/>
                </a:lnTo>
                <a:lnTo>
                  <a:pt x="288" y="84"/>
                </a:lnTo>
                <a:lnTo>
                  <a:pt x="156" y="66"/>
                </a:lnTo>
                <a:lnTo>
                  <a:pt x="102" y="90"/>
                </a:lnTo>
                <a:lnTo>
                  <a:pt x="0" y="66"/>
                </a:lnTo>
              </a:path>
            </a:pathLst>
          </a:custGeom>
          <a:noFill/>
          <a:ln w="57240">
            <a:solidFill>
              <a:srgbClr val="ff66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"/>
          <p:cNvSpPr/>
          <p:nvPr/>
        </p:nvSpPr>
        <p:spPr>
          <a:xfrm>
            <a:off x="3714840" y="838080"/>
            <a:ext cx="5400720" cy="5562720"/>
          </a:xfrm>
          <a:custGeom>
            <a:avLst/>
            <a:gdLst/>
            <a:ahLst/>
            <a:rect l="l" t="t" r="r" b="b"/>
            <a:pathLst>
              <a:path w="3402" h="3504">
                <a:moveTo>
                  <a:pt x="3402" y="3504"/>
                </a:moveTo>
                <a:lnTo>
                  <a:pt x="3312" y="3318"/>
                </a:lnTo>
                <a:lnTo>
                  <a:pt x="3360" y="3120"/>
                </a:lnTo>
                <a:lnTo>
                  <a:pt x="3342" y="2832"/>
                </a:lnTo>
                <a:lnTo>
                  <a:pt x="3222" y="2634"/>
                </a:lnTo>
                <a:lnTo>
                  <a:pt x="3180" y="2454"/>
                </a:lnTo>
                <a:lnTo>
                  <a:pt x="3102" y="2436"/>
                </a:lnTo>
                <a:lnTo>
                  <a:pt x="3096" y="2358"/>
                </a:lnTo>
                <a:lnTo>
                  <a:pt x="3042" y="2316"/>
                </a:lnTo>
                <a:lnTo>
                  <a:pt x="3024" y="2238"/>
                </a:lnTo>
                <a:lnTo>
                  <a:pt x="2982" y="2220"/>
                </a:lnTo>
                <a:lnTo>
                  <a:pt x="2946" y="2148"/>
                </a:lnTo>
                <a:lnTo>
                  <a:pt x="2880" y="2136"/>
                </a:lnTo>
                <a:lnTo>
                  <a:pt x="2874" y="2094"/>
                </a:lnTo>
                <a:lnTo>
                  <a:pt x="2598" y="2106"/>
                </a:lnTo>
                <a:lnTo>
                  <a:pt x="2598" y="2052"/>
                </a:lnTo>
                <a:lnTo>
                  <a:pt x="2508" y="2040"/>
                </a:lnTo>
                <a:lnTo>
                  <a:pt x="2472" y="1986"/>
                </a:lnTo>
                <a:lnTo>
                  <a:pt x="2400" y="1956"/>
                </a:lnTo>
                <a:lnTo>
                  <a:pt x="2358" y="1872"/>
                </a:lnTo>
                <a:lnTo>
                  <a:pt x="2304" y="1830"/>
                </a:lnTo>
                <a:lnTo>
                  <a:pt x="2268" y="1692"/>
                </a:lnTo>
                <a:lnTo>
                  <a:pt x="2100" y="1530"/>
                </a:lnTo>
                <a:lnTo>
                  <a:pt x="1752" y="1464"/>
                </a:lnTo>
                <a:lnTo>
                  <a:pt x="1590" y="1410"/>
                </a:lnTo>
                <a:lnTo>
                  <a:pt x="1584" y="1332"/>
                </a:lnTo>
                <a:lnTo>
                  <a:pt x="1524" y="1308"/>
                </a:lnTo>
                <a:lnTo>
                  <a:pt x="1452" y="1308"/>
                </a:lnTo>
                <a:lnTo>
                  <a:pt x="1434" y="1014"/>
                </a:lnTo>
                <a:lnTo>
                  <a:pt x="1356" y="948"/>
                </a:lnTo>
                <a:lnTo>
                  <a:pt x="1254" y="936"/>
                </a:lnTo>
                <a:lnTo>
                  <a:pt x="1194" y="924"/>
                </a:lnTo>
                <a:cubicBezTo>
                  <a:pt x="1150" y="854"/>
                  <a:pt x="1164" y="881"/>
                  <a:pt x="1146" y="846"/>
                </a:cubicBezTo>
                <a:lnTo>
                  <a:pt x="1038" y="834"/>
                </a:lnTo>
                <a:lnTo>
                  <a:pt x="828" y="606"/>
                </a:lnTo>
                <a:lnTo>
                  <a:pt x="744" y="546"/>
                </a:lnTo>
                <a:lnTo>
                  <a:pt x="660" y="552"/>
                </a:lnTo>
                <a:lnTo>
                  <a:pt x="540" y="312"/>
                </a:lnTo>
                <a:lnTo>
                  <a:pt x="354" y="126"/>
                </a:lnTo>
                <a:lnTo>
                  <a:pt x="186" y="48"/>
                </a:lnTo>
                <a:lnTo>
                  <a:pt x="30" y="36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00ff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0" name=""/>
          <p:cNvGrpSpPr/>
          <p:nvPr/>
        </p:nvGrpSpPr>
        <p:grpSpPr>
          <a:xfrm>
            <a:off x="4436640" y="5140800"/>
            <a:ext cx="4067640" cy="1351440"/>
            <a:chOff x="4436640" y="5140800"/>
            <a:chExt cx="4067640" cy="1351440"/>
          </a:xfrm>
        </p:grpSpPr>
        <p:sp>
          <p:nvSpPr>
            <p:cNvPr id="501" name=""/>
            <p:cNvSpPr/>
            <p:nvPr/>
          </p:nvSpPr>
          <p:spPr>
            <a:xfrm rot="3265200">
              <a:off x="5603400" y="5183640"/>
              <a:ext cx="360360" cy="495360"/>
            </a:xfrm>
            <a:prstGeom prst="leftArrow">
              <a:avLst>
                <a:gd name="adj1" fmla="val 49778"/>
                <a:gd name="adj2" fmla="val 51542"/>
              </a:avLst>
            </a:prstGeom>
            <a:solidFill>
              <a:srgbClr val="ffffff">
                <a:alpha val="50000"/>
              </a:srgbClr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"/>
            <p:cNvSpPr/>
            <p:nvPr/>
          </p:nvSpPr>
          <p:spPr>
            <a:xfrm rot="5400000">
              <a:off x="4533480" y="5837400"/>
              <a:ext cx="360360" cy="554040"/>
            </a:xfrm>
            <a:prstGeom prst="leftArrow">
              <a:avLst>
                <a:gd name="adj1" fmla="val 49778"/>
                <a:gd name="adj2" fmla="val 51542"/>
              </a:avLst>
            </a:prstGeom>
            <a:solidFill>
              <a:srgbClr val="ffffff">
                <a:alpha val="50000"/>
              </a:srgbClr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997520" y="5575320"/>
              <a:ext cx="3506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</a:rPr>
                <a:t>Caspian or Russian gas via Greece (TGI or TAP</a:t>
              </a:r>
              <a:br>
                <a:rPr sz="1800"/>
              </a:b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</a:rPr>
                <a:t>or South Stream/’Sud’)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4" name=""/>
          <p:cNvSpPr/>
          <p:nvPr/>
        </p:nvSpPr>
        <p:spPr>
          <a:xfrm>
            <a:off x="2122560" y="4459320"/>
            <a:ext cx="85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utura Md BT"/>
              </a:rPr>
              <a:t>LNG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5" name=""/>
          <p:cNvSpPr/>
          <p:nvPr/>
        </p:nvSpPr>
        <p:spPr>
          <a:xfrm>
            <a:off x="2130480" y="3311640"/>
            <a:ext cx="160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Futura Md BT"/>
              </a:rPr>
              <a:t>Mix of gas via Croat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6" name=""/>
          <p:cNvSpPr/>
          <p:nvPr/>
        </p:nvSpPr>
        <p:spPr>
          <a:xfrm>
            <a:off x="3063960" y="5199120"/>
            <a:ext cx="14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utura Md BT"/>
              </a:rPr>
              <a:t>Offshore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" name=""/>
          <p:cNvSpPr/>
          <p:nvPr/>
        </p:nvSpPr>
        <p:spPr>
          <a:xfrm>
            <a:off x="3265560" y="809640"/>
            <a:ext cx="160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utura Md BT"/>
              </a:rPr>
              <a:t>Russian gas via Hungary and Serbia or Croa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8" name=""/>
          <p:cNvSpPr/>
          <p:nvPr/>
        </p:nvSpPr>
        <p:spPr>
          <a:xfrm>
            <a:off x="1036800" y="2163600"/>
            <a:ext cx="8073720" cy="870120"/>
          </a:xfrm>
          <a:custGeom>
            <a:avLst/>
            <a:gdLst/>
            <a:ahLst/>
            <a:rect l="l" t="t" r="r" b="b"/>
            <a:pathLst>
              <a:path w="5086" h="548">
                <a:moveTo>
                  <a:pt x="5086" y="463"/>
                </a:moveTo>
                <a:lnTo>
                  <a:pt x="4503" y="541"/>
                </a:lnTo>
                <a:lnTo>
                  <a:pt x="3843" y="548"/>
                </a:lnTo>
                <a:lnTo>
                  <a:pt x="3091" y="477"/>
                </a:lnTo>
                <a:lnTo>
                  <a:pt x="2466" y="520"/>
                </a:lnTo>
                <a:lnTo>
                  <a:pt x="2206" y="414"/>
                </a:lnTo>
                <a:lnTo>
                  <a:pt x="1312" y="270"/>
                </a:lnTo>
                <a:lnTo>
                  <a:pt x="1171" y="225"/>
                </a:lnTo>
                <a:lnTo>
                  <a:pt x="941" y="148"/>
                </a:lnTo>
                <a:lnTo>
                  <a:pt x="633" y="175"/>
                </a:lnTo>
                <a:lnTo>
                  <a:pt x="239" y="154"/>
                </a:lnTo>
                <a:lnTo>
                  <a:pt x="0" y="140"/>
                </a:lnTo>
                <a:lnTo>
                  <a:pt x="14" y="0"/>
                </a:lnTo>
              </a:path>
            </a:pathLst>
          </a:custGeom>
          <a:noFill/>
          <a:ln w="76320">
            <a:solidFill>
              <a:srgbClr val="b5e0e3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4839120" y="1660680"/>
            <a:ext cx="2712600" cy="1297440"/>
            <a:chOff x="4839120" y="1660680"/>
            <a:chExt cx="2712600" cy="1297440"/>
          </a:xfrm>
        </p:grpSpPr>
        <p:sp>
          <p:nvSpPr>
            <p:cNvPr id="510" name=""/>
            <p:cNvSpPr/>
            <p:nvPr/>
          </p:nvSpPr>
          <p:spPr>
            <a:xfrm rot="18088800">
              <a:off x="4906440" y="2530080"/>
              <a:ext cx="360360" cy="360360"/>
            </a:xfrm>
            <a:prstGeom prst="leftArrow">
              <a:avLst>
                <a:gd name="adj1" fmla="val 49778"/>
                <a:gd name="adj2" fmla="val 51542"/>
              </a:avLst>
            </a:prstGeom>
            <a:solidFill>
              <a:srgbClr val="ffffff">
                <a:alpha val="50000"/>
              </a:srgbClr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248440" y="1660680"/>
              <a:ext cx="2303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</a:rPr>
                <a:t>Caspian gas via Romania (Nabucco)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2" name=""/>
          <p:cNvSpPr/>
          <p:nvPr/>
        </p:nvSpPr>
        <p:spPr>
          <a:xfrm>
            <a:off x="1076400" y="1476360"/>
            <a:ext cx="8067600" cy="3809880"/>
          </a:xfrm>
          <a:custGeom>
            <a:avLst/>
            <a:gdLst/>
            <a:ahLst/>
            <a:rect l="l" t="t" r="r" b="b"/>
            <a:pathLst>
              <a:path w="5082" h="2400">
                <a:moveTo>
                  <a:pt x="5082" y="2400"/>
                </a:moveTo>
                <a:lnTo>
                  <a:pt x="4764" y="2040"/>
                </a:lnTo>
                <a:lnTo>
                  <a:pt x="4404" y="2094"/>
                </a:lnTo>
                <a:lnTo>
                  <a:pt x="3924" y="2298"/>
                </a:lnTo>
                <a:lnTo>
                  <a:pt x="3468" y="2238"/>
                </a:lnTo>
                <a:lnTo>
                  <a:pt x="2988" y="1692"/>
                </a:lnTo>
                <a:lnTo>
                  <a:pt x="2436" y="942"/>
                </a:lnTo>
                <a:lnTo>
                  <a:pt x="2237" y="842"/>
                </a:lnTo>
                <a:lnTo>
                  <a:pt x="1315" y="695"/>
                </a:lnTo>
                <a:lnTo>
                  <a:pt x="1174" y="650"/>
                </a:lnTo>
                <a:lnTo>
                  <a:pt x="944" y="573"/>
                </a:lnTo>
                <a:lnTo>
                  <a:pt x="804" y="390"/>
                </a:lnTo>
                <a:lnTo>
                  <a:pt x="318" y="246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66ff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5084640" y="2763720"/>
            <a:ext cx="4081680" cy="809280"/>
            <a:chOff x="5084640" y="2763720"/>
            <a:chExt cx="4081680" cy="809280"/>
          </a:xfrm>
        </p:grpSpPr>
        <p:sp>
          <p:nvSpPr>
            <p:cNvPr id="514" name=""/>
            <p:cNvSpPr/>
            <p:nvPr/>
          </p:nvSpPr>
          <p:spPr>
            <a:xfrm rot="21112200">
              <a:off x="5108040" y="2787480"/>
              <a:ext cx="360360" cy="360360"/>
            </a:xfrm>
            <a:prstGeom prst="leftArrow">
              <a:avLst>
                <a:gd name="adj1" fmla="val 49778"/>
                <a:gd name="adj2" fmla="val 51542"/>
              </a:avLst>
            </a:prstGeom>
            <a:solidFill>
              <a:srgbClr val="ffffff">
                <a:alpha val="50000"/>
              </a:srgbClr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389560" y="2930400"/>
              <a:ext cx="3776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</a:rPr>
                <a:t>Caspian gas via Romania 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</a:rPr>
                <a:t>(White Stream &amp; PEGP)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5733720" y="3957480"/>
            <a:ext cx="3610440" cy="1191240"/>
            <a:chOff x="5733720" y="3957480"/>
            <a:chExt cx="3610440" cy="1191240"/>
          </a:xfrm>
        </p:grpSpPr>
        <p:sp>
          <p:nvSpPr>
            <p:cNvPr id="517" name=""/>
            <p:cNvSpPr/>
            <p:nvPr/>
          </p:nvSpPr>
          <p:spPr>
            <a:xfrm rot="2715000">
              <a:off x="5808240" y="4192560"/>
              <a:ext cx="360360" cy="360360"/>
            </a:xfrm>
            <a:prstGeom prst="leftArrow">
              <a:avLst>
                <a:gd name="adj1" fmla="val 49778"/>
                <a:gd name="adj2" fmla="val 51542"/>
              </a:avLst>
            </a:prstGeom>
            <a:solidFill>
              <a:srgbClr val="ffffff">
                <a:alpha val="50000"/>
              </a:srgbClr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478560" y="3957480"/>
              <a:ext cx="28656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</a:rPr>
                <a:t>Russian gas</a:t>
              </a:r>
              <a:br>
                <a:rPr sz="1800"/>
              </a:b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</a:rPr>
                <a:t>via Bulgaria </a:t>
              </a:r>
              <a:br>
                <a:rPr sz="1800"/>
              </a:b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</a:rPr>
                <a:t>(Blue Stream or </a:t>
              </a:r>
              <a:br>
                <a:rPr sz="1800"/>
              </a:b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</a:rPr>
                <a:t>South Stream/ ’Nord’)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9" name=""/>
          <p:cNvSpPr/>
          <p:nvPr/>
        </p:nvSpPr>
        <p:spPr>
          <a:xfrm rot="7899000">
            <a:off x="1310400" y="244116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>
              <a:alpha val="25000"/>
            </a:srgbClr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0" name=""/>
          <p:cNvSpPr/>
          <p:nvPr/>
        </p:nvSpPr>
        <p:spPr>
          <a:xfrm>
            <a:off x="820800" y="2751120"/>
            <a:ext cx="85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utura Md BT"/>
              </a:rPr>
              <a:t>LNG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1" name=""/>
          <p:cNvSpPr/>
          <p:nvPr/>
        </p:nvSpPr>
        <p:spPr>
          <a:xfrm rot="10800000">
            <a:off x="4146120" y="560196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>
              <a:alpha val="25000"/>
            </a:srgbClr>
          </a:solidFill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2" name=""/>
          <p:cNvSpPr/>
          <p:nvPr/>
        </p:nvSpPr>
        <p:spPr>
          <a:xfrm>
            <a:off x="3362400" y="5756400"/>
            <a:ext cx="85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utura Md BT"/>
              </a:rPr>
              <a:t>LNG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3" name=""/>
          <p:cNvSpPr/>
          <p:nvPr/>
        </p:nvSpPr>
        <p:spPr>
          <a:xfrm>
            <a:off x="3254400" y="2965320"/>
            <a:ext cx="2593800" cy="2864160"/>
          </a:xfrm>
          <a:custGeom>
            <a:avLst/>
            <a:gdLst/>
            <a:ahLst/>
            <a:rect l="l" t="t" r="r" b="b"/>
            <a:pathLst>
              <a:path w="1634" h="1804">
                <a:moveTo>
                  <a:pt x="846" y="1804"/>
                </a:moveTo>
                <a:lnTo>
                  <a:pt x="733" y="1408"/>
                </a:lnTo>
                <a:lnTo>
                  <a:pt x="643" y="1221"/>
                </a:lnTo>
                <a:lnTo>
                  <a:pt x="546" y="1109"/>
                </a:lnTo>
                <a:cubicBezTo>
                  <a:pt x="499" y="1108"/>
                  <a:pt x="456" y="1102"/>
                  <a:pt x="359" y="1214"/>
                </a:cubicBezTo>
                <a:cubicBezTo>
                  <a:pt x="179" y="1075"/>
                  <a:pt x="0" y="937"/>
                  <a:pt x="0" y="937"/>
                </a:cubicBezTo>
                <a:lnTo>
                  <a:pt x="78" y="760"/>
                </a:lnTo>
                <a:lnTo>
                  <a:pt x="310" y="492"/>
                </a:lnTo>
                <a:lnTo>
                  <a:pt x="1074" y="0"/>
                </a:lnTo>
                <a:lnTo>
                  <a:pt x="1634" y="764"/>
                </a:lnTo>
                <a:lnTo>
                  <a:pt x="1358" y="1108"/>
                </a:lnTo>
                <a:lnTo>
                  <a:pt x="1458" y="1356"/>
                </a:lnTo>
                <a:lnTo>
                  <a:pt x="1478" y="1452"/>
                </a:lnTo>
                <a:lnTo>
                  <a:pt x="846" y="1804"/>
                </a:lnTo>
                <a:close/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4" name=""/>
          <p:cNvSpPr/>
          <p:nvPr/>
        </p:nvSpPr>
        <p:spPr>
          <a:xfrm>
            <a:off x="153360" y="4952880"/>
            <a:ext cx="228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3399"/>
                </a:solidFill>
                <a:latin typeface="Times New Roman"/>
              </a:rPr>
              <a:t>Concept 1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5" name=""/>
          <p:cNvSpPr/>
          <p:nvPr/>
        </p:nvSpPr>
        <p:spPr>
          <a:xfrm>
            <a:off x="152280" y="5029200"/>
            <a:ext cx="2210040" cy="609480"/>
          </a:xfrm>
          <a:prstGeom prst="rect">
            <a:avLst/>
          </a:prstGeom>
          <a:solidFill>
            <a:srgbClr val="003399">
              <a:alpha val="20000"/>
            </a:srgbClr>
          </a:solidFill>
          <a:ln w="22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C48B56-B6A5-4E25-AC7E-68AAE0056EE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b374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b374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b374"/>
                                </p:to>
                              </p:animClr>
                              <p:animClr clrSpc="rgb">
                                <p:cBhvr>
                                  <p:cTn id="1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b374"/>
                                </p:to>
                              </p:animClr>
                              <p:animClr clrSpc="rgb">
                                <p:cBhvr>
                                  <p:cTn id="1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b374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b374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6" name="" descr=""/>
          <p:cNvPicPr/>
          <p:nvPr/>
        </p:nvPicPr>
        <p:blipFill>
          <a:blip r:embed="rId1"/>
          <a:stretch/>
        </p:blipFill>
        <p:spPr>
          <a:xfrm>
            <a:off x="0" y="903240"/>
            <a:ext cx="9144000" cy="5954760"/>
          </a:xfrm>
          <a:prstGeom prst="rect">
            <a:avLst/>
          </a:prstGeom>
          <a:ln w="0">
            <a:noFill/>
          </a:ln>
        </p:spPr>
      </p:pic>
      <p:sp>
        <p:nvSpPr>
          <p:cNvPr id="527" name=""/>
          <p:cNvSpPr/>
          <p:nvPr/>
        </p:nvSpPr>
        <p:spPr>
          <a:xfrm rot="20718600">
            <a:off x="6086520" y="494316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8" name=""/>
          <p:cNvSpPr/>
          <p:nvPr/>
        </p:nvSpPr>
        <p:spPr>
          <a:xfrm rot="16200000">
            <a:off x="3594240" y="184608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ffff">
              <a:alpha val="50000"/>
            </a:srgbClr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9" name=""/>
          <p:cNvSpPr/>
          <p:nvPr/>
        </p:nvSpPr>
        <p:spPr>
          <a:xfrm rot="16200000">
            <a:off x="2106720" y="138708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0" name=""/>
          <p:cNvSpPr/>
          <p:nvPr/>
        </p:nvSpPr>
        <p:spPr>
          <a:xfrm>
            <a:off x="0" y="905040"/>
            <a:ext cx="9144000" cy="5952960"/>
          </a:xfrm>
          <a:prstGeom prst="rect">
            <a:avLst/>
          </a:prstGeom>
          <a:solidFill>
            <a:srgbClr val="969696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31" name=""/>
          <p:cNvGrpSpPr/>
          <p:nvPr/>
        </p:nvGrpSpPr>
        <p:grpSpPr>
          <a:xfrm>
            <a:off x="4014720" y="1836720"/>
            <a:ext cx="2490840" cy="3594240"/>
            <a:chOff x="4014720" y="1836720"/>
            <a:chExt cx="2490840" cy="3594240"/>
          </a:xfrm>
        </p:grpSpPr>
        <p:sp>
          <p:nvSpPr>
            <p:cNvPr id="532" name=""/>
            <p:cNvSpPr/>
            <p:nvPr/>
          </p:nvSpPr>
          <p:spPr>
            <a:xfrm>
              <a:off x="4014720" y="1836720"/>
              <a:ext cx="2490840" cy="3187800"/>
            </a:xfrm>
            <a:custGeom>
              <a:avLst/>
              <a:gdLst/>
              <a:ahLst/>
              <a:rect l="l" t="t" r="r" b="b"/>
              <a:pathLst>
                <a:path w="1569" h="2008">
                  <a:moveTo>
                    <a:pt x="377" y="1599"/>
                  </a:moveTo>
                  <a:lnTo>
                    <a:pt x="365" y="1605"/>
                  </a:lnTo>
                  <a:lnTo>
                    <a:pt x="350" y="1586"/>
                  </a:lnTo>
                  <a:lnTo>
                    <a:pt x="335" y="1560"/>
                  </a:lnTo>
                  <a:lnTo>
                    <a:pt x="323" y="1571"/>
                  </a:lnTo>
                  <a:lnTo>
                    <a:pt x="296" y="1560"/>
                  </a:lnTo>
                  <a:lnTo>
                    <a:pt x="281" y="1533"/>
                  </a:lnTo>
                  <a:lnTo>
                    <a:pt x="254" y="1524"/>
                  </a:lnTo>
                  <a:lnTo>
                    <a:pt x="253" y="1500"/>
                  </a:lnTo>
                  <a:lnTo>
                    <a:pt x="224" y="1476"/>
                  </a:lnTo>
                  <a:lnTo>
                    <a:pt x="213" y="1447"/>
                  </a:lnTo>
                  <a:lnTo>
                    <a:pt x="187" y="1445"/>
                  </a:lnTo>
                  <a:lnTo>
                    <a:pt x="173" y="1427"/>
                  </a:lnTo>
                  <a:lnTo>
                    <a:pt x="142" y="1419"/>
                  </a:lnTo>
                  <a:lnTo>
                    <a:pt x="130" y="1388"/>
                  </a:lnTo>
                  <a:lnTo>
                    <a:pt x="152" y="1386"/>
                  </a:lnTo>
                  <a:lnTo>
                    <a:pt x="160" y="1350"/>
                  </a:lnTo>
                  <a:lnTo>
                    <a:pt x="197" y="1347"/>
                  </a:lnTo>
                  <a:lnTo>
                    <a:pt x="220" y="1380"/>
                  </a:lnTo>
                  <a:lnTo>
                    <a:pt x="235" y="1358"/>
                  </a:lnTo>
                  <a:lnTo>
                    <a:pt x="253" y="1359"/>
                  </a:lnTo>
                  <a:lnTo>
                    <a:pt x="250" y="1328"/>
                  </a:lnTo>
                  <a:lnTo>
                    <a:pt x="266" y="1313"/>
                  </a:lnTo>
                  <a:lnTo>
                    <a:pt x="257" y="1293"/>
                  </a:lnTo>
                  <a:lnTo>
                    <a:pt x="250" y="1272"/>
                  </a:lnTo>
                  <a:lnTo>
                    <a:pt x="245" y="1267"/>
                  </a:lnTo>
                  <a:lnTo>
                    <a:pt x="247" y="1257"/>
                  </a:lnTo>
                  <a:lnTo>
                    <a:pt x="229" y="1245"/>
                  </a:lnTo>
                  <a:lnTo>
                    <a:pt x="202" y="1216"/>
                  </a:lnTo>
                  <a:lnTo>
                    <a:pt x="160" y="1162"/>
                  </a:lnTo>
                  <a:lnTo>
                    <a:pt x="155" y="1136"/>
                  </a:lnTo>
                  <a:lnTo>
                    <a:pt x="177" y="1139"/>
                  </a:lnTo>
                  <a:lnTo>
                    <a:pt x="200" y="1151"/>
                  </a:lnTo>
                  <a:lnTo>
                    <a:pt x="221" y="1155"/>
                  </a:lnTo>
                  <a:lnTo>
                    <a:pt x="240" y="1158"/>
                  </a:lnTo>
                  <a:lnTo>
                    <a:pt x="259" y="1159"/>
                  </a:lnTo>
                  <a:lnTo>
                    <a:pt x="277" y="1139"/>
                  </a:lnTo>
                  <a:lnTo>
                    <a:pt x="293" y="1128"/>
                  </a:lnTo>
                  <a:lnTo>
                    <a:pt x="295" y="1113"/>
                  </a:lnTo>
                  <a:lnTo>
                    <a:pt x="291" y="1102"/>
                  </a:lnTo>
                  <a:lnTo>
                    <a:pt x="245" y="1071"/>
                  </a:lnTo>
                  <a:lnTo>
                    <a:pt x="201" y="1027"/>
                  </a:lnTo>
                  <a:lnTo>
                    <a:pt x="153" y="1006"/>
                  </a:lnTo>
                  <a:lnTo>
                    <a:pt x="121" y="992"/>
                  </a:lnTo>
                  <a:lnTo>
                    <a:pt x="108" y="975"/>
                  </a:lnTo>
                  <a:lnTo>
                    <a:pt x="100" y="954"/>
                  </a:lnTo>
                  <a:lnTo>
                    <a:pt x="102" y="939"/>
                  </a:lnTo>
                  <a:lnTo>
                    <a:pt x="122" y="911"/>
                  </a:lnTo>
                  <a:lnTo>
                    <a:pt x="111" y="865"/>
                  </a:lnTo>
                  <a:lnTo>
                    <a:pt x="129" y="842"/>
                  </a:lnTo>
                  <a:lnTo>
                    <a:pt x="168" y="773"/>
                  </a:lnTo>
                  <a:lnTo>
                    <a:pt x="185" y="750"/>
                  </a:lnTo>
                  <a:lnTo>
                    <a:pt x="192" y="735"/>
                  </a:lnTo>
                  <a:lnTo>
                    <a:pt x="198" y="686"/>
                  </a:lnTo>
                  <a:lnTo>
                    <a:pt x="197" y="666"/>
                  </a:lnTo>
                  <a:lnTo>
                    <a:pt x="176" y="659"/>
                  </a:lnTo>
                  <a:lnTo>
                    <a:pt x="144" y="657"/>
                  </a:lnTo>
                  <a:lnTo>
                    <a:pt x="127" y="653"/>
                  </a:lnTo>
                  <a:lnTo>
                    <a:pt x="102" y="664"/>
                  </a:lnTo>
                  <a:lnTo>
                    <a:pt x="78" y="676"/>
                  </a:lnTo>
                  <a:lnTo>
                    <a:pt x="72" y="667"/>
                  </a:lnTo>
                  <a:lnTo>
                    <a:pt x="82" y="657"/>
                  </a:lnTo>
                  <a:lnTo>
                    <a:pt x="110" y="647"/>
                  </a:lnTo>
                  <a:lnTo>
                    <a:pt x="134" y="639"/>
                  </a:lnTo>
                  <a:lnTo>
                    <a:pt x="128" y="625"/>
                  </a:lnTo>
                  <a:lnTo>
                    <a:pt x="96" y="625"/>
                  </a:lnTo>
                  <a:lnTo>
                    <a:pt x="105" y="600"/>
                  </a:lnTo>
                  <a:lnTo>
                    <a:pt x="99" y="564"/>
                  </a:lnTo>
                  <a:lnTo>
                    <a:pt x="102" y="539"/>
                  </a:lnTo>
                  <a:lnTo>
                    <a:pt x="130" y="543"/>
                  </a:lnTo>
                  <a:lnTo>
                    <a:pt x="142" y="517"/>
                  </a:lnTo>
                  <a:lnTo>
                    <a:pt x="136" y="501"/>
                  </a:lnTo>
                  <a:lnTo>
                    <a:pt x="155" y="511"/>
                  </a:lnTo>
                  <a:lnTo>
                    <a:pt x="176" y="505"/>
                  </a:lnTo>
                  <a:lnTo>
                    <a:pt x="193" y="516"/>
                  </a:lnTo>
                  <a:lnTo>
                    <a:pt x="213" y="518"/>
                  </a:lnTo>
                  <a:lnTo>
                    <a:pt x="216" y="494"/>
                  </a:lnTo>
                  <a:lnTo>
                    <a:pt x="217" y="489"/>
                  </a:lnTo>
                  <a:lnTo>
                    <a:pt x="207" y="487"/>
                  </a:lnTo>
                  <a:lnTo>
                    <a:pt x="193" y="491"/>
                  </a:lnTo>
                  <a:lnTo>
                    <a:pt x="183" y="489"/>
                  </a:lnTo>
                  <a:lnTo>
                    <a:pt x="168" y="483"/>
                  </a:lnTo>
                  <a:lnTo>
                    <a:pt x="158" y="481"/>
                  </a:lnTo>
                  <a:lnTo>
                    <a:pt x="135" y="468"/>
                  </a:lnTo>
                  <a:lnTo>
                    <a:pt x="112" y="456"/>
                  </a:lnTo>
                  <a:lnTo>
                    <a:pt x="102" y="454"/>
                  </a:lnTo>
                  <a:lnTo>
                    <a:pt x="109" y="435"/>
                  </a:lnTo>
                  <a:lnTo>
                    <a:pt x="73" y="423"/>
                  </a:lnTo>
                  <a:lnTo>
                    <a:pt x="54" y="408"/>
                  </a:lnTo>
                  <a:lnTo>
                    <a:pt x="83" y="396"/>
                  </a:lnTo>
                  <a:lnTo>
                    <a:pt x="67" y="380"/>
                  </a:lnTo>
                  <a:lnTo>
                    <a:pt x="70" y="360"/>
                  </a:lnTo>
                  <a:lnTo>
                    <a:pt x="66" y="350"/>
                  </a:lnTo>
                  <a:lnTo>
                    <a:pt x="85" y="352"/>
                  </a:lnTo>
                  <a:lnTo>
                    <a:pt x="100" y="349"/>
                  </a:lnTo>
                  <a:lnTo>
                    <a:pt x="91" y="338"/>
                  </a:lnTo>
                  <a:lnTo>
                    <a:pt x="64" y="320"/>
                  </a:lnTo>
                  <a:lnTo>
                    <a:pt x="54" y="323"/>
                  </a:lnTo>
                  <a:lnTo>
                    <a:pt x="43" y="332"/>
                  </a:lnTo>
                  <a:lnTo>
                    <a:pt x="39" y="322"/>
                  </a:lnTo>
                  <a:lnTo>
                    <a:pt x="32" y="309"/>
                  </a:lnTo>
                  <a:lnTo>
                    <a:pt x="35" y="299"/>
                  </a:lnTo>
                  <a:lnTo>
                    <a:pt x="44" y="282"/>
                  </a:lnTo>
                  <a:lnTo>
                    <a:pt x="52" y="259"/>
                  </a:lnTo>
                  <a:lnTo>
                    <a:pt x="34" y="233"/>
                  </a:lnTo>
                  <a:lnTo>
                    <a:pt x="24" y="197"/>
                  </a:lnTo>
                  <a:lnTo>
                    <a:pt x="18" y="177"/>
                  </a:lnTo>
                  <a:lnTo>
                    <a:pt x="0" y="152"/>
                  </a:lnTo>
                  <a:lnTo>
                    <a:pt x="8" y="140"/>
                  </a:lnTo>
                  <a:lnTo>
                    <a:pt x="35" y="132"/>
                  </a:lnTo>
                  <a:lnTo>
                    <a:pt x="61" y="134"/>
                  </a:lnTo>
                  <a:lnTo>
                    <a:pt x="73" y="114"/>
                  </a:lnTo>
                  <a:lnTo>
                    <a:pt x="100" y="111"/>
                  </a:lnTo>
                  <a:lnTo>
                    <a:pt x="98" y="90"/>
                  </a:lnTo>
                  <a:lnTo>
                    <a:pt x="113" y="72"/>
                  </a:lnTo>
                  <a:lnTo>
                    <a:pt x="117" y="91"/>
                  </a:lnTo>
                  <a:lnTo>
                    <a:pt x="149" y="96"/>
                  </a:lnTo>
                  <a:lnTo>
                    <a:pt x="184" y="93"/>
                  </a:lnTo>
                  <a:lnTo>
                    <a:pt x="178" y="83"/>
                  </a:lnTo>
                  <a:lnTo>
                    <a:pt x="202" y="71"/>
                  </a:lnTo>
                  <a:lnTo>
                    <a:pt x="224" y="66"/>
                  </a:lnTo>
                  <a:lnTo>
                    <a:pt x="224" y="74"/>
                  </a:lnTo>
                  <a:lnTo>
                    <a:pt x="248" y="44"/>
                  </a:lnTo>
                  <a:lnTo>
                    <a:pt x="262" y="33"/>
                  </a:lnTo>
                  <a:lnTo>
                    <a:pt x="250" y="23"/>
                  </a:lnTo>
                  <a:lnTo>
                    <a:pt x="278" y="5"/>
                  </a:lnTo>
                  <a:lnTo>
                    <a:pt x="295" y="9"/>
                  </a:lnTo>
                  <a:lnTo>
                    <a:pt x="313" y="0"/>
                  </a:lnTo>
                  <a:lnTo>
                    <a:pt x="326" y="2"/>
                  </a:lnTo>
                  <a:lnTo>
                    <a:pt x="341" y="15"/>
                  </a:lnTo>
                  <a:lnTo>
                    <a:pt x="368" y="29"/>
                  </a:lnTo>
                  <a:lnTo>
                    <a:pt x="394" y="12"/>
                  </a:lnTo>
                  <a:lnTo>
                    <a:pt x="424" y="3"/>
                  </a:lnTo>
                  <a:lnTo>
                    <a:pt x="449" y="23"/>
                  </a:lnTo>
                  <a:lnTo>
                    <a:pt x="461" y="0"/>
                  </a:lnTo>
                  <a:lnTo>
                    <a:pt x="487" y="20"/>
                  </a:lnTo>
                  <a:lnTo>
                    <a:pt x="514" y="12"/>
                  </a:lnTo>
                  <a:lnTo>
                    <a:pt x="514" y="15"/>
                  </a:lnTo>
                  <a:lnTo>
                    <a:pt x="535" y="43"/>
                  </a:lnTo>
                  <a:lnTo>
                    <a:pt x="552" y="69"/>
                  </a:lnTo>
                  <a:lnTo>
                    <a:pt x="565" y="86"/>
                  </a:lnTo>
                  <a:lnTo>
                    <a:pt x="609" y="127"/>
                  </a:lnTo>
                  <a:lnTo>
                    <a:pt x="625" y="119"/>
                  </a:lnTo>
                  <a:lnTo>
                    <a:pt x="644" y="131"/>
                  </a:lnTo>
                  <a:lnTo>
                    <a:pt x="664" y="164"/>
                  </a:lnTo>
                  <a:lnTo>
                    <a:pt x="666" y="184"/>
                  </a:lnTo>
                  <a:lnTo>
                    <a:pt x="688" y="211"/>
                  </a:lnTo>
                  <a:lnTo>
                    <a:pt x="698" y="212"/>
                  </a:lnTo>
                  <a:lnTo>
                    <a:pt x="711" y="195"/>
                  </a:lnTo>
                  <a:lnTo>
                    <a:pt x="725" y="209"/>
                  </a:lnTo>
                  <a:lnTo>
                    <a:pt x="718" y="255"/>
                  </a:lnTo>
                  <a:lnTo>
                    <a:pt x="713" y="270"/>
                  </a:lnTo>
                  <a:lnTo>
                    <a:pt x="703" y="284"/>
                  </a:lnTo>
                  <a:lnTo>
                    <a:pt x="718" y="305"/>
                  </a:lnTo>
                  <a:lnTo>
                    <a:pt x="736" y="325"/>
                  </a:lnTo>
                  <a:lnTo>
                    <a:pt x="721" y="350"/>
                  </a:lnTo>
                  <a:lnTo>
                    <a:pt x="746" y="369"/>
                  </a:lnTo>
                  <a:lnTo>
                    <a:pt x="758" y="391"/>
                  </a:lnTo>
                  <a:lnTo>
                    <a:pt x="787" y="414"/>
                  </a:lnTo>
                  <a:lnTo>
                    <a:pt x="810" y="436"/>
                  </a:lnTo>
                  <a:lnTo>
                    <a:pt x="852" y="451"/>
                  </a:lnTo>
                  <a:lnTo>
                    <a:pt x="864" y="439"/>
                  </a:lnTo>
                  <a:lnTo>
                    <a:pt x="874" y="473"/>
                  </a:lnTo>
                  <a:lnTo>
                    <a:pt x="910" y="489"/>
                  </a:lnTo>
                  <a:lnTo>
                    <a:pt x="928" y="481"/>
                  </a:lnTo>
                  <a:lnTo>
                    <a:pt x="948" y="484"/>
                  </a:lnTo>
                  <a:lnTo>
                    <a:pt x="972" y="497"/>
                  </a:lnTo>
                  <a:lnTo>
                    <a:pt x="976" y="497"/>
                  </a:lnTo>
                  <a:lnTo>
                    <a:pt x="993" y="523"/>
                  </a:lnTo>
                  <a:lnTo>
                    <a:pt x="963" y="570"/>
                  </a:lnTo>
                  <a:lnTo>
                    <a:pt x="940" y="592"/>
                  </a:lnTo>
                  <a:lnTo>
                    <a:pt x="958" y="610"/>
                  </a:lnTo>
                  <a:lnTo>
                    <a:pt x="960" y="620"/>
                  </a:lnTo>
                  <a:lnTo>
                    <a:pt x="972" y="611"/>
                  </a:lnTo>
                  <a:lnTo>
                    <a:pt x="982" y="613"/>
                  </a:lnTo>
                  <a:lnTo>
                    <a:pt x="1005" y="626"/>
                  </a:lnTo>
                  <a:lnTo>
                    <a:pt x="1008" y="640"/>
                  </a:lnTo>
                  <a:lnTo>
                    <a:pt x="1007" y="650"/>
                  </a:lnTo>
                  <a:lnTo>
                    <a:pt x="991" y="658"/>
                  </a:lnTo>
                  <a:lnTo>
                    <a:pt x="981" y="662"/>
                  </a:lnTo>
                  <a:lnTo>
                    <a:pt x="976" y="661"/>
                  </a:lnTo>
                  <a:lnTo>
                    <a:pt x="956" y="659"/>
                  </a:lnTo>
                  <a:lnTo>
                    <a:pt x="941" y="667"/>
                  </a:lnTo>
                  <a:lnTo>
                    <a:pt x="938" y="692"/>
                  </a:lnTo>
                  <a:lnTo>
                    <a:pt x="950" y="708"/>
                  </a:lnTo>
                  <a:lnTo>
                    <a:pt x="974" y="712"/>
                  </a:lnTo>
                  <a:lnTo>
                    <a:pt x="984" y="713"/>
                  </a:lnTo>
                  <a:lnTo>
                    <a:pt x="999" y="715"/>
                  </a:lnTo>
                  <a:lnTo>
                    <a:pt x="1018" y="717"/>
                  </a:lnTo>
                  <a:lnTo>
                    <a:pt x="1023" y="718"/>
                  </a:lnTo>
                  <a:lnTo>
                    <a:pt x="1030" y="744"/>
                  </a:lnTo>
                  <a:lnTo>
                    <a:pt x="1037" y="765"/>
                  </a:lnTo>
                  <a:lnTo>
                    <a:pt x="1042" y="769"/>
                  </a:lnTo>
                  <a:lnTo>
                    <a:pt x="1077" y="773"/>
                  </a:lnTo>
                  <a:lnTo>
                    <a:pt x="1091" y="771"/>
                  </a:lnTo>
                  <a:lnTo>
                    <a:pt x="1141" y="777"/>
                  </a:lnTo>
                  <a:lnTo>
                    <a:pt x="1174" y="781"/>
                  </a:lnTo>
                  <a:lnTo>
                    <a:pt x="1186" y="807"/>
                  </a:lnTo>
                  <a:lnTo>
                    <a:pt x="1186" y="807"/>
                  </a:lnTo>
                  <a:lnTo>
                    <a:pt x="1194" y="823"/>
                  </a:lnTo>
                  <a:lnTo>
                    <a:pt x="1215" y="851"/>
                  </a:lnTo>
                  <a:lnTo>
                    <a:pt x="1229" y="863"/>
                  </a:lnTo>
                  <a:lnTo>
                    <a:pt x="1250" y="855"/>
                  </a:lnTo>
                  <a:lnTo>
                    <a:pt x="1272" y="797"/>
                  </a:lnTo>
                  <a:lnTo>
                    <a:pt x="1283" y="795"/>
                  </a:lnTo>
                  <a:lnTo>
                    <a:pt x="1290" y="775"/>
                  </a:lnTo>
                  <a:lnTo>
                    <a:pt x="1295" y="766"/>
                  </a:lnTo>
                  <a:lnTo>
                    <a:pt x="1316" y="762"/>
                  </a:lnTo>
                  <a:lnTo>
                    <a:pt x="1335" y="741"/>
                  </a:lnTo>
                  <a:lnTo>
                    <a:pt x="1347" y="739"/>
                  </a:lnTo>
                  <a:lnTo>
                    <a:pt x="1356" y="750"/>
                  </a:lnTo>
                  <a:lnTo>
                    <a:pt x="1364" y="750"/>
                  </a:lnTo>
                  <a:lnTo>
                    <a:pt x="1375" y="761"/>
                  </a:lnTo>
                  <a:lnTo>
                    <a:pt x="1394" y="773"/>
                  </a:lnTo>
                  <a:lnTo>
                    <a:pt x="1409" y="775"/>
                  </a:lnTo>
                  <a:lnTo>
                    <a:pt x="1419" y="776"/>
                  </a:lnTo>
                  <a:lnTo>
                    <a:pt x="1424" y="777"/>
                  </a:lnTo>
                  <a:lnTo>
                    <a:pt x="1441" y="789"/>
                  </a:lnTo>
                  <a:lnTo>
                    <a:pt x="1463" y="817"/>
                  </a:lnTo>
                  <a:lnTo>
                    <a:pt x="1453" y="820"/>
                  </a:lnTo>
                  <a:lnTo>
                    <a:pt x="1442" y="828"/>
                  </a:lnTo>
                  <a:lnTo>
                    <a:pt x="1437" y="828"/>
                  </a:lnTo>
                  <a:lnTo>
                    <a:pt x="1419" y="815"/>
                  </a:lnTo>
                  <a:lnTo>
                    <a:pt x="1414" y="815"/>
                  </a:lnTo>
                  <a:lnTo>
                    <a:pt x="1396" y="811"/>
                  </a:lnTo>
                  <a:lnTo>
                    <a:pt x="1382" y="825"/>
                  </a:lnTo>
                  <a:lnTo>
                    <a:pt x="1380" y="855"/>
                  </a:lnTo>
                  <a:lnTo>
                    <a:pt x="1362" y="853"/>
                  </a:lnTo>
                  <a:lnTo>
                    <a:pt x="1346" y="875"/>
                  </a:lnTo>
                  <a:lnTo>
                    <a:pt x="1366" y="907"/>
                  </a:lnTo>
                  <a:lnTo>
                    <a:pt x="1378" y="943"/>
                  </a:lnTo>
                  <a:lnTo>
                    <a:pt x="1408" y="957"/>
                  </a:lnTo>
                  <a:lnTo>
                    <a:pt x="1422" y="951"/>
                  </a:lnTo>
                  <a:lnTo>
                    <a:pt x="1427" y="951"/>
                  </a:lnTo>
                  <a:lnTo>
                    <a:pt x="1437" y="953"/>
                  </a:lnTo>
                  <a:lnTo>
                    <a:pt x="1445" y="964"/>
                  </a:lnTo>
                  <a:lnTo>
                    <a:pt x="1442" y="989"/>
                  </a:lnTo>
                  <a:lnTo>
                    <a:pt x="1442" y="989"/>
                  </a:lnTo>
                  <a:lnTo>
                    <a:pt x="1432" y="992"/>
                  </a:lnTo>
                  <a:lnTo>
                    <a:pt x="1419" y="1009"/>
                  </a:lnTo>
                  <a:lnTo>
                    <a:pt x="1409" y="1033"/>
                  </a:lnTo>
                  <a:lnTo>
                    <a:pt x="1415" y="1069"/>
                  </a:lnTo>
                  <a:lnTo>
                    <a:pt x="1392" y="1068"/>
                  </a:lnTo>
                  <a:lnTo>
                    <a:pt x="1383" y="1089"/>
                  </a:lnTo>
                  <a:lnTo>
                    <a:pt x="1354" y="1103"/>
                  </a:lnTo>
                  <a:lnTo>
                    <a:pt x="1335" y="1105"/>
                  </a:lnTo>
                  <a:lnTo>
                    <a:pt x="1335" y="1132"/>
                  </a:lnTo>
                  <a:lnTo>
                    <a:pt x="1335" y="1176"/>
                  </a:lnTo>
                  <a:lnTo>
                    <a:pt x="1321" y="1202"/>
                  </a:lnTo>
                  <a:lnTo>
                    <a:pt x="1333" y="1236"/>
                  </a:lnTo>
                  <a:lnTo>
                    <a:pt x="1339" y="1274"/>
                  </a:lnTo>
                  <a:lnTo>
                    <a:pt x="1369" y="1296"/>
                  </a:lnTo>
                  <a:lnTo>
                    <a:pt x="1370" y="1337"/>
                  </a:lnTo>
                  <a:lnTo>
                    <a:pt x="1388" y="1379"/>
                  </a:lnTo>
                  <a:lnTo>
                    <a:pt x="1426" y="1400"/>
                  </a:lnTo>
                  <a:lnTo>
                    <a:pt x="1405" y="1392"/>
                  </a:lnTo>
                  <a:lnTo>
                    <a:pt x="1437" y="1405"/>
                  </a:lnTo>
                  <a:lnTo>
                    <a:pt x="1443" y="1416"/>
                  </a:lnTo>
                  <a:lnTo>
                    <a:pt x="1458" y="1423"/>
                  </a:lnTo>
                  <a:lnTo>
                    <a:pt x="1481" y="1435"/>
                  </a:lnTo>
                  <a:lnTo>
                    <a:pt x="1506" y="1458"/>
                  </a:lnTo>
                  <a:lnTo>
                    <a:pt x="1517" y="1483"/>
                  </a:lnTo>
                  <a:lnTo>
                    <a:pt x="1533" y="1507"/>
                  </a:lnTo>
                  <a:lnTo>
                    <a:pt x="1568" y="1522"/>
                  </a:lnTo>
                  <a:lnTo>
                    <a:pt x="1569" y="1554"/>
                  </a:lnTo>
                  <a:lnTo>
                    <a:pt x="1559" y="1572"/>
                  </a:lnTo>
                  <a:lnTo>
                    <a:pt x="1547" y="1578"/>
                  </a:lnTo>
                  <a:lnTo>
                    <a:pt x="1538" y="1602"/>
                  </a:lnTo>
                  <a:lnTo>
                    <a:pt x="1519" y="1622"/>
                  </a:lnTo>
                  <a:lnTo>
                    <a:pt x="1504" y="1628"/>
                  </a:lnTo>
                  <a:lnTo>
                    <a:pt x="1493" y="1662"/>
                  </a:lnTo>
                  <a:lnTo>
                    <a:pt x="1477" y="1679"/>
                  </a:lnTo>
                  <a:lnTo>
                    <a:pt x="1456" y="1690"/>
                  </a:lnTo>
                  <a:lnTo>
                    <a:pt x="1433" y="1680"/>
                  </a:lnTo>
                  <a:lnTo>
                    <a:pt x="1415" y="1688"/>
                  </a:lnTo>
                  <a:lnTo>
                    <a:pt x="1402" y="1685"/>
                  </a:lnTo>
                  <a:lnTo>
                    <a:pt x="1388" y="1707"/>
                  </a:lnTo>
                  <a:lnTo>
                    <a:pt x="1367" y="1725"/>
                  </a:lnTo>
                  <a:lnTo>
                    <a:pt x="1388" y="1767"/>
                  </a:lnTo>
                  <a:lnTo>
                    <a:pt x="1378" y="1797"/>
                  </a:lnTo>
                  <a:lnTo>
                    <a:pt x="1376" y="1833"/>
                  </a:lnTo>
                  <a:lnTo>
                    <a:pt x="1364" y="1847"/>
                  </a:lnTo>
                  <a:lnTo>
                    <a:pt x="1390" y="1862"/>
                  </a:lnTo>
                  <a:lnTo>
                    <a:pt x="1406" y="1881"/>
                  </a:lnTo>
                  <a:lnTo>
                    <a:pt x="1420" y="1892"/>
                  </a:lnTo>
                  <a:lnTo>
                    <a:pt x="1411" y="1908"/>
                  </a:lnTo>
                  <a:lnTo>
                    <a:pt x="1406" y="1932"/>
                  </a:lnTo>
                  <a:lnTo>
                    <a:pt x="1388" y="1949"/>
                  </a:lnTo>
                  <a:lnTo>
                    <a:pt x="1378" y="1974"/>
                  </a:lnTo>
                  <a:lnTo>
                    <a:pt x="1363" y="1977"/>
                  </a:lnTo>
                  <a:lnTo>
                    <a:pt x="1351" y="1977"/>
                  </a:lnTo>
                  <a:lnTo>
                    <a:pt x="1337" y="1982"/>
                  </a:lnTo>
                  <a:lnTo>
                    <a:pt x="1307" y="1973"/>
                  </a:lnTo>
                  <a:lnTo>
                    <a:pt x="1274" y="1980"/>
                  </a:lnTo>
                  <a:lnTo>
                    <a:pt x="1229" y="1988"/>
                  </a:lnTo>
                  <a:lnTo>
                    <a:pt x="1180" y="1986"/>
                  </a:lnTo>
                  <a:lnTo>
                    <a:pt x="1155" y="2008"/>
                  </a:lnTo>
                  <a:lnTo>
                    <a:pt x="1133" y="2003"/>
                  </a:lnTo>
                  <a:lnTo>
                    <a:pt x="1116" y="1999"/>
                  </a:lnTo>
                  <a:lnTo>
                    <a:pt x="1107" y="1966"/>
                  </a:lnTo>
                  <a:lnTo>
                    <a:pt x="1149" y="1957"/>
                  </a:lnTo>
                  <a:lnTo>
                    <a:pt x="1155" y="1930"/>
                  </a:lnTo>
                  <a:lnTo>
                    <a:pt x="1140" y="1894"/>
                  </a:lnTo>
                  <a:lnTo>
                    <a:pt x="1164" y="1873"/>
                  </a:lnTo>
                  <a:lnTo>
                    <a:pt x="1170" y="1846"/>
                  </a:lnTo>
                  <a:lnTo>
                    <a:pt x="1179" y="1825"/>
                  </a:lnTo>
                  <a:lnTo>
                    <a:pt x="1197" y="1801"/>
                  </a:lnTo>
                  <a:lnTo>
                    <a:pt x="1176" y="1765"/>
                  </a:lnTo>
                  <a:lnTo>
                    <a:pt x="1152" y="1771"/>
                  </a:lnTo>
                  <a:lnTo>
                    <a:pt x="1134" y="1732"/>
                  </a:lnTo>
                  <a:lnTo>
                    <a:pt x="1116" y="1726"/>
                  </a:lnTo>
                  <a:lnTo>
                    <a:pt x="1089" y="1732"/>
                  </a:lnTo>
                  <a:lnTo>
                    <a:pt x="1080" y="1714"/>
                  </a:lnTo>
                  <a:lnTo>
                    <a:pt x="1092" y="1663"/>
                  </a:lnTo>
                  <a:lnTo>
                    <a:pt x="1065" y="1651"/>
                  </a:lnTo>
                  <a:lnTo>
                    <a:pt x="1044" y="1666"/>
                  </a:lnTo>
                  <a:lnTo>
                    <a:pt x="1008" y="1657"/>
                  </a:lnTo>
                  <a:lnTo>
                    <a:pt x="990" y="1633"/>
                  </a:lnTo>
                  <a:lnTo>
                    <a:pt x="984" y="1603"/>
                  </a:lnTo>
                  <a:lnTo>
                    <a:pt x="975" y="1579"/>
                  </a:lnTo>
                  <a:lnTo>
                    <a:pt x="960" y="1561"/>
                  </a:lnTo>
                  <a:lnTo>
                    <a:pt x="930" y="1573"/>
                  </a:lnTo>
                  <a:lnTo>
                    <a:pt x="912" y="1525"/>
                  </a:lnTo>
                  <a:lnTo>
                    <a:pt x="894" y="1513"/>
                  </a:lnTo>
                  <a:lnTo>
                    <a:pt x="870" y="1525"/>
                  </a:lnTo>
                  <a:lnTo>
                    <a:pt x="822" y="1495"/>
                  </a:lnTo>
                  <a:lnTo>
                    <a:pt x="798" y="1459"/>
                  </a:lnTo>
                  <a:lnTo>
                    <a:pt x="795" y="1444"/>
                  </a:lnTo>
                  <a:lnTo>
                    <a:pt x="810" y="1417"/>
                  </a:lnTo>
                  <a:lnTo>
                    <a:pt x="792" y="1399"/>
                  </a:lnTo>
                  <a:lnTo>
                    <a:pt x="771" y="1390"/>
                  </a:lnTo>
                  <a:lnTo>
                    <a:pt x="747" y="1405"/>
                  </a:lnTo>
                  <a:lnTo>
                    <a:pt x="726" y="1435"/>
                  </a:lnTo>
                  <a:lnTo>
                    <a:pt x="690" y="1447"/>
                  </a:lnTo>
                  <a:lnTo>
                    <a:pt x="672" y="1477"/>
                  </a:lnTo>
                  <a:lnTo>
                    <a:pt x="699" y="1498"/>
                  </a:lnTo>
                  <a:lnTo>
                    <a:pt x="702" y="1534"/>
                  </a:lnTo>
                  <a:lnTo>
                    <a:pt x="705" y="1585"/>
                  </a:lnTo>
                  <a:lnTo>
                    <a:pt x="690" y="1606"/>
                  </a:lnTo>
                  <a:lnTo>
                    <a:pt x="678" y="1633"/>
                  </a:lnTo>
                  <a:lnTo>
                    <a:pt x="651" y="1624"/>
                  </a:lnTo>
                  <a:lnTo>
                    <a:pt x="627" y="1630"/>
                  </a:lnTo>
                  <a:lnTo>
                    <a:pt x="609" y="1648"/>
                  </a:lnTo>
                  <a:lnTo>
                    <a:pt x="636" y="1669"/>
                  </a:lnTo>
                  <a:lnTo>
                    <a:pt x="619" y="1691"/>
                  </a:lnTo>
                  <a:lnTo>
                    <a:pt x="593" y="1704"/>
                  </a:lnTo>
                  <a:lnTo>
                    <a:pt x="560" y="1691"/>
                  </a:lnTo>
                  <a:lnTo>
                    <a:pt x="544" y="1677"/>
                  </a:lnTo>
                  <a:lnTo>
                    <a:pt x="521" y="1667"/>
                  </a:lnTo>
                  <a:lnTo>
                    <a:pt x="497" y="1667"/>
                  </a:lnTo>
                  <a:lnTo>
                    <a:pt x="482" y="1655"/>
                  </a:lnTo>
                  <a:lnTo>
                    <a:pt x="478" y="1640"/>
                  </a:lnTo>
                  <a:lnTo>
                    <a:pt x="430" y="1611"/>
                  </a:lnTo>
                  <a:lnTo>
                    <a:pt x="418" y="1589"/>
                  </a:lnTo>
                  <a:lnTo>
                    <a:pt x="397" y="1601"/>
                  </a:lnTo>
                  <a:lnTo>
                    <a:pt x="377" y="1599"/>
                  </a:lnTo>
                  <a:close/>
                </a:path>
              </a:pathLst>
            </a:custGeom>
            <a:solidFill>
              <a:srgbClr val="009900">
                <a:alpha val="67000"/>
              </a:srgbClr>
            </a:solidFill>
            <a:ln w="4680">
              <a:solidFill>
                <a:srgbClr val="6e6e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4745160" y="4041720"/>
              <a:ext cx="1162080" cy="1389240"/>
            </a:xfrm>
            <a:custGeom>
              <a:avLst/>
              <a:gdLst/>
              <a:ahLst/>
              <a:rect l="l" t="t" r="r" b="b"/>
              <a:pathLst>
                <a:path w="732" h="875">
                  <a:moveTo>
                    <a:pt x="208" y="875"/>
                  </a:moveTo>
                  <a:lnTo>
                    <a:pt x="205" y="860"/>
                  </a:lnTo>
                  <a:lnTo>
                    <a:pt x="216" y="845"/>
                  </a:lnTo>
                  <a:lnTo>
                    <a:pt x="210" y="828"/>
                  </a:lnTo>
                  <a:lnTo>
                    <a:pt x="232" y="812"/>
                  </a:lnTo>
                  <a:lnTo>
                    <a:pt x="222" y="777"/>
                  </a:lnTo>
                  <a:lnTo>
                    <a:pt x="204" y="740"/>
                  </a:lnTo>
                  <a:lnTo>
                    <a:pt x="204" y="708"/>
                  </a:lnTo>
                  <a:lnTo>
                    <a:pt x="189" y="689"/>
                  </a:lnTo>
                  <a:lnTo>
                    <a:pt x="165" y="645"/>
                  </a:lnTo>
                  <a:lnTo>
                    <a:pt x="141" y="627"/>
                  </a:lnTo>
                  <a:lnTo>
                    <a:pt x="105" y="611"/>
                  </a:lnTo>
                  <a:lnTo>
                    <a:pt x="91" y="612"/>
                  </a:lnTo>
                  <a:lnTo>
                    <a:pt x="74" y="611"/>
                  </a:lnTo>
                  <a:lnTo>
                    <a:pt x="65" y="582"/>
                  </a:lnTo>
                  <a:lnTo>
                    <a:pt x="67" y="568"/>
                  </a:lnTo>
                  <a:lnTo>
                    <a:pt x="51" y="528"/>
                  </a:lnTo>
                  <a:lnTo>
                    <a:pt x="62" y="551"/>
                  </a:lnTo>
                  <a:lnTo>
                    <a:pt x="38" y="513"/>
                  </a:lnTo>
                  <a:lnTo>
                    <a:pt x="18" y="498"/>
                  </a:lnTo>
                  <a:lnTo>
                    <a:pt x="12" y="508"/>
                  </a:lnTo>
                  <a:lnTo>
                    <a:pt x="15" y="468"/>
                  </a:lnTo>
                  <a:lnTo>
                    <a:pt x="30" y="447"/>
                  </a:lnTo>
                  <a:lnTo>
                    <a:pt x="8" y="422"/>
                  </a:lnTo>
                  <a:lnTo>
                    <a:pt x="0" y="413"/>
                  </a:lnTo>
                  <a:lnTo>
                    <a:pt x="2" y="399"/>
                  </a:lnTo>
                  <a:lnTo>
                    <a:pt x="14" y="392"/>
                  </a:lnTo>
                  <a:lnTo>
                    <a:pt x="27" y="395"/>
                  </a:lnTo>
                  <a:lnTo>
                    <a:pt x="41" y="408"/>
                  </a:lnTo>
                  <a:lnTo>
                    <a:pt x="57" y="401"/>
                  </a:lnTo>
                  <a:lnTo>
                    <a:pt x="71" y="396"/>
                  </a:lnTo>
                  <a:lnTo>
                    <a:pt x="66" y="377"/>
                  </a:lnTo>
                  <a:lnTo>
                    <a:pt x="92" y="366"/>
                  </a:lnTo>
                  <a:lnTo>
                    <a:pt x="104" y="369"/>
                  </a:lnTo>
                  <a:lnTo>
                    <a:pt x="120" y="348"/>
                  </a:lnTo>
                  <a:lnTo>
                    <a:pt x="132" y="322"/>
                  </a:lnTo>
                  <a:lnTo>
                    <a:pt x="166" y="304"/>
                  </a:lnTo>
                  <a:lnTo>
                    <a:pt x="171" y="277"/>
                  </a:lnTo>
                  <a:lnTo>
                    <a:pt x="142" y="258"/>
                  </a:lnTo>
                  <a:lnTo>
                    <a:pt x="162" y="240"/>
                  </a:lnTo>
                  <a:lnTo>
                    <a:pt x="190" y="235"/>
                  </a:lnTo>
                  <a:lnTo>
                    <a:pt x="214" y="241"/>
                  </a:lnTo>
                  <a:lnTo>
                    <a:pt x="223" y="216"/>
                  </a:lnTo>
                  <a:lnTo>
                    <a:pt x="240" y="198"/>
                  </a:lnTo>
                  <a:lnTo>
                    <a:pt x="237" y="106"/>
                  </a:lnTo>
                  <a:lnTo>
                    <a:pt x="208" y="90"/>
                  </a:lnTo>
                  <a:lnTo>
                    <a:pt x="226" y="58"/>
                  </a:lnTo>
                  <a:lnTo>
                    <a:pt x="264" y="45"/>
                  </a:lnTo>
                  <a:lnTo>
                    <a:pt x="280" y="15"/>
                  </a:lnTo>
                  <a:lnTo>
                    <a:pt x="310" y="0"/>
                  </a:lnTo>
                  <a:lnTo>
                    <a:pt x="330" y="9"/>
                  </a:lnTo>
                  <a:lnTo>
                    <a:pt x="343" y="28"/>
                  </a:lnTo>
                  <a:lnTo>
                    <a:pt x="333" y="51"/>
                  </a:lnTo>
                  <a:lnTo>
                    <a:pt x="334" y="70"/>
                  </a:lnTo>
                  <a:lnTo>
                    <a:pt x="360" y="108"/>
                  </a:lnTo>
                  <a:lnTo>
                    <a:pt x="406" y="135"/>
                  </a:lnTo>
                  <a:lnTo>
                    <a:pt x="432" y="127"/>
                  </a:lnTo>
                  <a:lnTo>
                    <a:pt x="450" y="136"/>
                  </a:lnTo>
                  <a:lnTo>
                    <a:pt x="466" y="184"/>
                  </a:lnTo>
                  <a:lnTo>
                    <a:pt x="499" y="171"/>
                  </a:lnTo>
                  <a:lnTo>
                    <a:pt x="510" y="193"/>
                  </a:lnTo>
                  <a:lnTo>
                    <a:pt x="516" y="208"/>
                  </a:lnTo>
                  <a:lnTo>
                    <a:pt x="523" y="240"/>
                  </a:lnTo>
                  <a:lnTo>
                    <a:pt x="538" y="264"/>
                  </a:lnTo>
                  <a:lnTo>
                    <a:pt x="583" y="279"/>
                  </a:lnTo>
                  <a:lnTo>
                    <a:pt x="603" y="261"/>
                  </a:lnTo>
                  <a:lnTo>
                    <a:pt x="630" y="274"/>
                  </a:lnTo>
                  <a:lnTo>
                    <a:pt x="613" y="327"/>
                  </a:lnTo>
                  <a:lnTo>
                    <a:pt x="624" y="346"/>
                  </a:lnTo>
                  <a:lnTo>
                    <a:pt x="648" y="337"/>
                  </a:lnTo>
                  <a:lnTo>
                    <a:pt x="672" y="342"/>
                  </a:lnTo>
                  <a:lnTo>
                    <a:pt x="687" y="382"/>
                  </a:lnTo>
                  <a:lnTo>
                    <a:pt x="714" y="376"/>
                  </a:lnTo>
                  <a:lnTo>
                    <a:pt x="732" y="414"/>
                  </a:lnTo>
                  <a:lnTo>
                    <a:pt x="715" y="438"/>
                  </a:lnTo>
                  <a:lnTo>
                    <a:pt x="705" y="457"/>
                  </a:lnTo>
                  <a:lnTo>
                    <a:pt x="700" y="484"/>
                  </a:lnTo>
                  <a:lnTo>
                    <a:pt x="676" y="505"/>
                  </a:lnTo>
                  <a:lnTo>
                    <a:pt x="691" y="541"/>
                  </a:lnTo>
                  <a:lnTo>
                    <a:pt x="684" y="570"/>
                  </a:lnTo>
                  <a:lnTo>
                    <a:pt x="643" y="576"/>
                  </a:lnTo>
                  <a:lnTo>
                    <a:pt x="651" y="609"/>
                  </a:lnTo>
                  <a:lnTo>
                    <a:pt x="668" y="613"/>
                  </a:lnTo>
                  <a:lnTo>
                    <a:pt x="662" y="625"/>
                  </a:lnTo>
                  <a:lnTo>
                    <a:pt x="643" y="636"/>
                  </a:lnTo>
                  <a:lnTo>
                    <a:pt x="616" y="639"/>
                  </a:lnTo>
                  <a:lnTo>
                    <a:pt x="575" y="640"/>
                  </a:lnTo>
                  <a:lnTo>
                    <a:pt x="550" y="628"/>
                  </a:lnTo>
                  <a:lnTo>
                    <a:pt x="531" y="629"/>
                  </a:lnTo>
                  <a:lnTo>
                    <a:pt x="522" y="647"/>
                  </a:lnTo>
                  <a:lnTo>
                    <a:pt x="507" y="668"/>
                  </a:lnTo>
                  <a:lnTo>
                    <a:pt x="481" y="695"/>
                  </a:lnTo>
                  <a:lnTo>
                    <a:pt x="483" y="719"/>
                  </a:lnTo>
                  <a:lnTo>
                    <a:pt x="456" y="729"/>
                  </a:lnTo>
                  <a:lnTo>
                    <a:pt x="444" y="702"/>
                  </a:lnTo>
                  <a:lnTo>
                    <a:pt x="417" y="668"/>
                  </a:lnTo>
                  <a:lnTo>
                    <a:pt x="388" y="674"/>
                  </a:lnTo>
                  <a:lnTo>
                    <a:pt x="372" y="701"/>
                  </a:lnTo>
                  <a:lnTo>
                    <a:pt x="309" y="722"/>
                  </a:lnTo>
                  <a:lnTo>
                    <a:pt x="279" y="729"/>
                  </a:lnTo>
                  <a:lnTo>
                    <a:pt x="261" y="762"/>
                  </a:lnTo>
                  <a:lnTo>
                    <a:pt x="262" y="791"/>
                  </a:lnTo>
                  <a:lnTo>
                    <a:pt x="264" y="810"/>
                  </a:lnTo>
                  <a:lnTo>
                    <a:pt x="259" y="825"/>
                  </a:lnTo>
                  <a:lnTo>
                    <a:pt x="271" y="839"/>
                  </a:lnTo>
                  <a:lnTo>
                    <a:pt x="253" y="851"/>
                  </a:lnTo>
                  <a:lnTo>
                    <a:pt x="241" y="846"/>
                  </a:lnTo>
                  <a:lnTo>
                    <a:pt x="208" y="875"/>
                  </a:lnTo>
                  <a:close/>
                </a:path>
              </a:pathLst>
            </a:custGeom>
            <a:solidFill>
              <a:srgbClr val="009900">
                <a:alpha val="6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34" name=""/>
          <p:cNvSpPr/>
          <p:nvPr/>
        </p:nvSpPr>
        <p:spPr>
          <a:xfrm>
            <a:off x="5014800" y="4976640"/>
            <a:ext cx="1557360" cy="1224000"/>
          </a:xfrm>
          <a:custGeom>
            <a:avLst/>
            <a:gdLst/>
            <a:ahLst/>
            <a:rect l="l" t="t" r="r" b="b"/>
            <a:pathLst>
              <a:path w="981" h="771">
                <a:moveTo>
                  <a:pt x="36" y="305"/>
                </a:moveTo>
                <a:lnTo>
                  <a:pt x="66" y="264"/>
                </a:lnTo>
                <a:lnTo>
                  <a:pt x="95" y="267"/>
                </a:lnTo>
                <a:lnTo>
                  <a:pt x="107" y="248"/>
                </a:lnTo>
                <a:lnTo>
                  <a:pt x="101" y="228"/>
                </a:lnTo>
                <a:lnTo>
                  <a:pt x="102" y="208"/>
                </a:lnTo>
                <a:lnTo>
                  <a:pt x="99" y="173"/>
                </a:lnTo>
                <a:lnTo>
                  <a:pt x="113" y="146"/>
                </a:lnTo>
                <a:lnTo>
                  <a:pt x="162" y="133"/>
                </a:lnTo>
                <a:lnTo>
                  <a:pt x="203" y="116"/>
                </a:lnTo>
                <a:lnTo>
                  <a:pt x="225" y="90"/>
                </a:lnTo>
                <a:lnTo>
                  <a:pt x="244" y="83"/>
                </a:lnTo>
                <a:lnTo>
                  <a:pt x="267" y="120"/>
                </a:lnTo>
                <a:lnTo>
                  <a:pt x="287" y="147"/>
                </a:lnTo>
                <a:lnTo>
                  <a:pt x="314" y="134"/>
                </a:lnTo>
                <a:lnTo>
                  <a:pt x="317" y="110"/>
                </a:lnTo>
                <a:lnTo>
                  <a:pt x="350" y="81"/>
                </a:lnTo>
                <a:lnTo>
                  <a:pt x="368" y="48"/>
                </a:lnTo>
                <a:lnTo>
                  <a:pt x="405" y="57"/>
                </a:lnTo>
                <a:lnTo>
                  <a:pt x="459" y="59"/>
                </a:lnTo>
                <a:lnTo>
                  <a:pt x="482" y="54"/>
                </a:lnTo>
                <a:lnTo>
                  <a:pt x="494" y="47"/>
                </a:lnTo>
                <a:lnTo>
                  <a:pt x="502" y="39"/>
                </a:lnTo>
                <a:lnTo>
                  <a:pt x="504" y="24"/>
                </a:lnTo>
                <a:lnTo>
                  <a:pt x="527" y="32"/>
                </a:lnTo>
                <a:lnTo>
                  <a:pt x="555" y="17"/>
                </a:lnTo>
                <a:lnTo>
                  <a:pt x="611" y="15"/>
                </a:lnTo>
                <a:lnTo>
                  <a:pt x="657" y="8"/>
                </a:lnTo>
                <a:lnTo>
                  <a:pt x="686" y="0"/>
                </a:lnTo>
                <a:lnTo>
                  <a:pt x="716" y="14"/>
                </a:lnTo>
                <a:lnTo>
                  <a:pt x="735" y="17"/>
                </a:lnTo>
                <a:lnTo>
                  <a:pt x="749" y="38"/>
                </a:lnTo>
                <a:lnTo>
                  <a:pt x="776" y="75"/>
                </a:lnTo>
                <a:lnTo>
                  <a:pt x="803" y="117"/>
                </a:lnTo>
                <a:lnTo>
                  <a:pt x="855" y="144"/>
                </a:lnTo>
                <a:lnTo>
                  <a:pt x="891" y="149"/>
                </a:lnTo>
                <a:lnTo>
                  <a:pt x="918" y="161"/>
                </a:lnTo>
                <a:lnTo>
                  <a:pt x="915" y="198"/>
                </a:lnTo>
                <a:lnTo>
                  <a:pt x="948" y="255"/>
                </a:lnTo>
                <a:lnTo>
                  <a:pt x="963" y="284"/>
                </a:lnTo>
                <a:lnTo>
                  <a:pt x="981" y="294"/>
                </a:lnTo>
                <a:lnTo>
                  <a:pt x="981" y="308"/>
                </a:lnTo>
                <a:lnTo>
                  <a:pt x="977" y="326"/>
                </a:lnTo>
                <a:lnTo>
                  <a:pt x="966" y="335"/>
                </a:lnTo>
                <a:lnTo>
                  <a:pt x="951" y="356"/>
                </a:lnTo>
                <a:lnTo>
                  <a:pt x="956" y="377"/>
                </a:lnTo>
                <a:lnTo>
                  <a:pt x="959" y="398"/>
                </a:lnTo>
                <a:lnTo>
                  <a:pt x="954" y="426"/>
                </a:lnTo>
                <a:lnTo>
                  <a:pt x="963" y="446"/>
                </a:lnTo>
                <a:lnTo>
                  <a:pt x="956" y="462"/>
                </a:lnTo>
                <a:lnTo>
                  <a:pt x="960" y="489"/>
                </a:lnTo>
                <a:lnTo>
                  <a:pt x="953" y="497"/>
                </a:lnTo>
                <a:lnTo>
                  <a:pt x="920" y="500"/>
                </a:lnTo>
                <a:lnTo>
                  <a:pt x="894" y="506"/>
                </a:lnTo>
                <a:lnTo>
                  <a:pt x="882" y="530"/>
                </a:lnTo>
                <a:lnTo>
                  <a:pt x="879" y="567"/>
                </a:lnTo>
                <a:lnTo>
                  <a:pt x="885" y="546"/>
                </a:lnTo>
                <a:lnTo>
                  <a:pt x="882" y="593"/>
                </a:lnTo>
                <a:lnTo>
                  <a:pt x="870" y="602"/>
                </a:lnTo>
                <a:lnTo>
                  <a:pt x="849" y="587"/>
                </a:lnTo>
                <a:lnTo>
                  <a:pt x="821" y="612"/>
                </a:lnTo>
                <a:lnTo>
                  <a:pt x="800" y="615"/>
                </a:lnTo>
                <a:lnTo>
                  <a:pt x="767" y="618"/>
                </a:lnTo>
                <a:lnTo>
                  <a:pt x="747" y="611"/>
                </a:lnTo>
                <a:lnTo>
                  <a:pt x="728" y="615"/>
                </a:lnTo>
                <a:lnTo>
                  <a:pt x="705" y="602"/>
                </a:lnTo>
                <a:lnTo>
                  <a:pt x="663" y="605"/>
                </a:lnTo>
                <a:lnTo>
                  <a:pt x="647" y="624"/>
                </a:lnTo>
                <a:lnTo>
                  <a:pt x="617" y="615"/>
                </a:lnTo>
                <a:lnTo>
                  <a:pt x="567" y="636"/>
                </a:lnTo>
                <a:lnTo>
                  <a:pt x="557" y="654"/>
                </a:lnTo>
                <a:lnTo>
                  <a:pt x="552" y="672"/>
                </a:lnTo>
                <a:lnTo>
                  <a:pt x="522" y="704"/>
                </a:lnTo>
                <a:lnTo>
                  <a:pt x="524" y="717"/>
                </a:lnTo>
                <a:lnTo>
                  <a:pt x="509" y="728"/>
                </a:lnTo>
                <a:lnTo>
                  <a:pt x="480" y="725"/>
                </a:lnTo>
                <a:lnTo>
                  <a:pt x="474" y="738"/>
                </a:lnTo>
                <a:lnTo>
                  <a:pt x="450" y="746"/>
                </a:lnTo>
                <a:lnTo>
                  <a:pt x="443" y="761"/>
                </a:lnTo>
                <a:lnTo>
                  <a:pt x="420" y="753"/>
                </a:lnTo>
                <a:lnTo>
                  <a:pt x="416" y="738"/>
                </a:lnTo>
                <a:lnTo>
                  <a:pt x="395" y="741"/>
                </a:lnTo>
                <a:lnTo>
                  <a:pt x="368" y="738"/>
                </a:lnTo>
                <a:lnTo>
                  <a:pt x="348" y="758"/>
                </a:lnTo>
                <a:lnTo>
                  <a:pt x="312" y="767"/>
                </a:lnTo>
                <a:lnTo>
                  <a:pt x="291" y="756"/>
                </a:lnTo>
                <a:lnTo>
                  <a:pt x="269" y="771"/>
                </a:lnTo>
                <a:lnTo>
                  <a:pt x="212" y="770"/>
                </a:lnTo>
                <a:lnTo>
                  <a:pt x="206" y="762"/>
                </a:lnTo>
                <a:lnTo>
                  <a:pt x="198" y="746"/>
                </a:lnTo>
                <a:lnTo>
                  <a:pt x="183" y="738"/>
                </a:lnTo>
                <a:lnTo>
                  <a:pt x="168" y="738"/>
                </a:lnTo>
                <a:lnTo>
                  <a:pt x="146" y="735"/>
                </a:lnTo>
                <a:lnTo>
                  <a:pt x="134" y="749"/>
                </a:lnTo>
                <a:lnTo>
                  <a:pt x="108" y="752"/>
                </a:lnTo>
                <a:lnTo>
                  <a:pt x="81" y="665"/>
                </a:lnTo>
                <a:lnTo>
                  <a:pt x="63" y="653"/>
                </a:lnTo>
                <a:lnTo>
                  <a:pt x="50" y="651"/>
                </a:lnTo>
                <a:lnTo>
                  <a:pt x="56" y="630"/>
                </a:lnTo>
                <a:lnTo>
                  <a:pt x="26" y="597"/>
                </a:lnTo>
                <a:lnTo>
                  <a:pt x="18" y="573"/>
                </a:lnTo>
                <a:lnTo>
                  <a:pt x="18" y="558"/>
                </a:lnTo>
                <a:lnTo>
                  <a:pt x="11" y="539"/>
                </a:lnTo>
                <a:lnTo>
                  <a:pt x="22" y="530"/>
                </a:lnTo>
                <a:lnTo>
                  <a:pt x="39" y="495"/>
                </a:lnTo>
                <a:lnTo>
                  <a:pt x="14" y="473"/>
                </a:lnTo>
                <a:lnTo>
                  <a:pt x="14" y="468"/>
                </a:lnTo>
                <a:lnTo>
                  <a:pt x="9" y="456"/>
                </a:lnTo>
                <a:lnTo>
                  <a:pt x="2" y="444"/>
                </a:lnTo>
                <a:lnTo>
                  <a:pt x="0" y="425"/>
                </a:lnTo>
                <a:lnTo>
                  <a:pt x="32" y="414"/>
                </a:lnTo>
                <a:lnTo>
                  <a:pt x="38" y="392"/>
                </a:lnTo>
                <a:lnTo>
                  <a:pt x="20" y="368"/>
                </a:lnTo>
                <a:lnTo>
                  <a:pt x="29" y="342"/>
                </a:lnTo>
                <a:lnTo>
                  <a:pt x="17" y="323"/>
                </a:lnTo>
                <a:lnTo>
                  <a:pt x="45" y="291"/>
                </a:lnTo>
              </a:path>
            </a:pathLst>
          </a:custGeom>
          <a:solidFill>
            <a:srgbClr val="003300">
              <a:alpha val="67000"/>
            </a:srgbClr>
          </a:solidFill>
          <a:ln w="46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5" name=""/>
          <p:cNvSpPr/>
          <p:nvPr/>
        </p:nvSpPr>
        <p:spPr>
          <a:xfrm rot="420000">
            <a:off x="885600" y="1496520"/>
            <a:ext cx="3402000" cy="3297240"/>
          </a:xfrm>
          <a:custGeom>
            <a:avLst/>
            <a:gdLst/>
            <a:ahLst/>
            <a:rect l="l" t="t" r="r" b="b"/>
            <a:pathLst>
              <a:path w="441" h="421">
                <a:moveTo>
                  <a:pt x="329" y="372"/>
                </a:moveTo>
                <a:lnTo>
                  <a:pt x="325" y="372"/>
                </a:lnTo>
                <a:lnTo>
                  <a:pt x="322" y="369"/>
                </a:lnTo>
                <a:lnTo>
                  <a:pt x="320" y="367"/>
                </a:lnTo>
                <a:lnTo>
                  <a:pt x="320" y="366"/>
                </a:lnTo>
                <a:lnTo>
                  <a:pt x="319" y="364"/>
                </a:lnTo>
                <a:lnTo>
                  <a:pt x="309" y="356"/>
                </a:lnTo>
                <a:lnTo>
                  <a:pt x="302" y="352"/>
                </a:lnTo>
                <a:lnTo>
                  <a:pt x="299" y="352"/>
                </a:lnTo>
                <a:lnTo>
                  <a:pt x="295" y="351"/>
                </a:lnTo>
                <a:lnTo>
                  <a:pt x="292" y="349"/>
                </a:lnTo>
                <a:lnTo>
                  <a:pt x="287" y="346"/>
                </a:lnTo>
                <a:lnTo>
                  <a:pt x="285" y="342"/>
                </a:lnTo>
                <a:lnTo>
                  <a:pt x="275" y="332"/>
                </a:lnTo>
                <a:lnTo>
                  <a:pt x="270" y="329"/>
                </a:lnTo>
                <a:lnTo>
                  <a:pt x="269" y="329"/>
                </a:lnTo>
                <a:lnTo>
                  <a:pt x="267" y="329"/>
                </a:lnTo>
                <a:lnTo>
                  <a:pt x="265" y="329"/>
                </a:lnTo>
                <a:lnTo>
                  <a:pt x="262" y="329"/>
                </a:lnTo>
                <a:lnTo>
                  <a:pt x="259" y="329"/>
                </a:lnTo>
                <a:lnTo>
                  <a:pt x="252" y="327"/>
                </a:lnTo>
                <a:lnTo>
                  <a:pt x="250" y="326"/>
                </a:lnTo>
                <a:lnTo>
                  <a:pt x="240" y="321"/>
                </a:lnTo>
                <a:lnTo>
                  <a:pt x="237" y="319"/>
                </a:lnTo>
                <a:lnTo>
                  <a:pt x="235" y="317"/>
                </a:lnTo>
                <a:lnTo>
                  <a:pt x="229" y="317"/>
                </a:lnTo>
                <a:lnTo>
                  <a:pt x="225" y="319"/>
                </a:lnTo>
                <a:lnTo>
                  <a:pt x="217" y="322"/>
                </a:lnTo>
                <a:lnTo>
                  <a:pt x="215" y="324"/>
                </a:lnTo>
                <a:lnTo>
                  <a:pt x="210" y="327"/>
                </a:lnTo>
                <a:lnTo>
                  <a:pt x="205" y="327"/>
                </a:lnTo>
                <a:lnTo>
                  <a:pt x="202" y="324"/>
                </a:lnTo>
                <a:lnTo>
                  <a:pt x="195" y="319"/>
                </a:lnTo>
                <a:lnTo>
                  <a:pt x="195" y="312"/>
                </a:lnTo>
                <a:lnTo>
                  <a:pt x="199" y="311"/>
                </a:lnTo>
                <a:lnTo>
                  <a:pt x="195" y="306"/>
                </a:lnTo>
                <a:lnTo>
                  <a:pt x="184" y="299"/>
                </a:lnTo>
                <a:lnTo>
                  <a:pt x="175" y="297"/>
                </a:lnTo>
                <a:lnTo>
                  <a:pt x="169" y="291"/>
                </a:lnTo>
                <a:lnTo>
                  <a:pt x="164" y="287"/>
                </a:lnTo>
                <a:lnTo>
                  <a:pt x="162" y="286"/>
                </a:lnTo>
                <a:lnTo>
                  <a:pt x="160" y="284"/>
                </a:lnTo>
                <a:lnTo>
                  <a:pt x="157" y="284"/>
                </a:lnTo>
                <a:lnTo>
                  <a:pt x="152" y="279"/>
                </a:lnTo>
                <a:lnTo>
                  <a:pt x="142" y="269"/>
                </a:lnTo>
                <a:lnTo>
                  <a:pt x="138" y="264"/>
                </a:lnTo>
                <a:lnTo>
                  <a:pt x="132" y="255"/>
                </a:lnTo>
                <a:lnTo>
                  <a:pt x="128" y="249"/>
                </a:lnTo>
                <a:lnTo>
                  <a:pt x="130" y="247"/>
                </a:lnTo>
                <a:lnTo>
                  <a:pt x="135" y="249"/>
                </a:lnTo>
                <a:lnTo>
                  <a:pt x="142" y="249"/>
                </a:lnTo>
                <a:lnTo>
                  <a:pt x="140" y="244"/>
                </a:lnTo>
                <a:lnTo>
                  <a:pt x="143" y="244"/>
                </a:lnTo>
                <a:lnTo>
                  <a:pt x="145" y="245"/>
                </a:lnTo>
                <a:lnTo>
                  <a:pt x="148" y="247"/>
                </a:lnTo>
                <a:lnTo>
                  <a:pt x="152" y="247"/>
                </a:lnTo>
                <a:lnTo>
                  <a:pt x="159" y="247"/>
                </a:lnTo>
                <a:lnTo>
                  <a:pt x="157" y="245"/>
                </a:lnTo>
                <a:lnTo>
                  <a:pt x="155" y="245"/>
                </a:lnTo>
                <a:lnTo>
                  <a:pt x="153" y="245"/>
                </a:lnTo>
                <a:lnTo>
                  <a:pt x="138" y="237"/>
                </a:lnTo>
                <a:lnTo>
                  <a:pt x="132" y="230"/>
                </a:lnTo>
                <a:lnTo>
                  <a:pt x="128" y="227"/>
                </a:lnTo>
                <a:lnTo>
                  <a:pt x="125" y="222"/>
                </a:lnTo>
                <a:lnTo>
                  <a:pt x="118" y="217"/>
                </a:lnTo>
                <a:lnTo>
                  <a:pt x="117" y="215"/>
                </a:lnTo>
                <a:lnTo>
                  <a:pt x="115" y="214"/>
                </a:lnTo>
                <a:lnTo>
                  <a:pt x="112" y="209"/>
                </a:lnTo>
                <a:lnTo>
                  <a:pt x="108" y="204"/>
                </a:lnTo>
                <a:lnTo>
                  <a:pt x="108" y="202"/>
                </a:lnTo>
                <a:lnTo>
                  <a:pt x="107" y="192"/>
                </a:lnTo>
                <a:lnTo>
                  <a:pt x="107" y="187"/>
                </a:lnTo>
                <a:lnTo>
                  <a:pt x="107" y="184"/>
                </a:lnTo>
                <a:lnTo>
                  <a:pt x="108" y="180"/>
                </a:lnTo>
                <a:lnTo>
                  <a:pt x="108" y="175"/>
                </a:lnTo>
                <a:lnTo>
                  <a:pt x="100" y="160"/>
                </a:lnTo>
                <a:lnTo>
                  <a:pt x="98" y="159"/>
                </a:lnTo>
                <a:lnTo>
                  <a:pt x="95" y="159"/>
                </a:lnTo>
                <a:lnTo>
                  <a:pt x="93" y="157"/>
                </a:lnTo>
                <a:lnTo>
                  <a:pt x="88" y="154"/>
                </a:lnTo>
                <a:lnTo>
                  <a:pt x="82" y="147"/>
                </a:lnTo>
                <a:lnTo>
                  <a:pt x="73" y="140"/>
                </a:lnTo>
                <a:lnTo>
                  <a:pt x="70" y="140"/>
                </a:lnTo>
                <a:lnTo>
                  <a:pt x="62" y="137"/>
                </a:lnTo>
                <a:lnTo>
                  <a:pt x="58" y="142"/>
                </a:lnTo>
                <a:lnTo>
                  <a:pt x="57" y="150"/>
                </a:lnTo>
                <a:lnTo>
                  <a:pt x="57" y="154"/>
                </a:lnTo>
                <a:lnTo>
                  <a:pt x="57" y="157"/>
                </a:lnTo>
                <a:lnTo>
                  <a:pt x="55" y="160"/>
                </a:lnTo>
                <a:lnTo>
                  <a:pt x="55" y="162"/>
                </a:lnTo>
                <a:lnTo>
                  <a:pt x="52" y="167"/>
                </a:lnTo>
                <a:lnTo>
                  <a:pt x="50" y="170"/>
                </a:lnTo>
                <a:lnTo>
                  <a:pt x="52" y="177"/>
                </a:lnTo>
                <a:lnTo>
                  <a:pt x="50" y="179"/>
                </a:lnTo>
                <a:lnTo>
                  <a:pt x="47" y="180"/>
                </a:lnTo>
                <a:lnTo>
                  <a:pt x="40" y="187"/>
                </a:lnTo>
                <a:lnTo>
                  <a:pt x="38" y="192"/>
                </a:lnTo>
                <a:lnTo>
                  <a:pt x="38" y="195"/>
                </a:lnTo>
                <a:lnTo>
                  <a:pt x="40" y="195"/>
                </a:lnTo>
                <a:lnTo>
                  <a:pt x="33" y="200"/>
                </a:lnTo>
                <a:lnTo>
                  <a:pt x="27" y="192"/>
                </a:lnTo>
                <a:lnTo>
                  <a:pt x="28" y="190"/>
                </a:lnTo>
                <a:lnTo>
                  <a:pt x="22" y="179"/>
                </a:lnTo>
                <a:lnTo>
                  <a:pt x="15" y="172"/>
                </a:lnTo>
                <a:lnTo>
                  <a:pt x="8" y="160"/>
                </a:lnTo>
                <a:lnTo>
                  <a:pt x="8" y="150"/>
                </a:lnTo>
                <a:lnTo>
                  <a:pt x="7" y="145"/>
                </a:lnTo>
                <a:lnTo>
                  <a:pt x="2" y="135"/>
                </a:lnTo>
                <a:lnTo>
                  <a:pt x="0" y="124"/>
                </a:lnTo>
                <a:lnTo>
                  <a:pt x="3" y="125"/>
                </a:lnTo>
                <a:lnTo>
                  <a:pt x="7" y="127"/>
                </a:lnTo>
                <a:lnTo>
                  <a:pt x="10" y="129"/>
                </a:lnTo>
                <a:lnTo>
                  <a:pt x="13" y="130"/>
                </a:lnTo>
                <a:lnTo>
                  <a:pt x="15" y="130"/>
                </a:lnTo>
                <a:lnTo>
                  <a:pt x="30" y="129"/>
                </a:lnTo>
                <a:lnTo>
                  <a:pt x="33" y="127"/>
                </a:lnTo>
                <a:lnTo>
                  <a:pt x="35" y="127"/>
                </a:lnTo>
                <a:lnTo>
                  <a:pt x="47" y="125"/>
                </a:lnTo>
                <a:lnTo>
                  <a:pt x="65" y="122"/>
                </a:lnTo>
                <a:lnTo>
                  <a:pt x="67" y="122"/>
                </a:lnTo>
                <a:lnTo>
                  <a:pt x="73" y="115"/>
                </a:lnTo>
                <a:lnTo>
                  <a:pt x="75" y="109"/>
                </a:lnTo>
                <a:lnTo>
                  <a:pt x="78" y="102"/>
                </a:lnTo>
                <a:lnTo>
                  <a:pt x="80" y="102"/>
                </a:lnTo>
                <a:lnTo>
                  <a:pt x="80" y="105"/>
                </a:lnTo>
                <a:lnTo>
                  <a:pt x="82" y="109"/>
                </a:lnTo>
                <a:lnTo>
                  <a:pt x="90" y="117"/>
                </a:lnTo>
                <a:lnTo>
                  <a:pt x="98" y="122"/>
                </a:lnTo>
                <a:lnTo>
                  <a:pt x="100" y="122"/>
                </a:lnTo>
                <a:lnTo>
                  <a:pt x="103" y="120"/>
                </a:lnTo>
                <a:lnTo>
                  <a:pt x="108" y="119"/>
                </a:lnTo>
                <a:lnTo>
                  <a:pt x="117" y="120"/>
                </a:lnTo>
                <a:lnTo>
                  <a:pt x="123" y="125"/>
                </a:lnTo>
                <a:lnTo>
                  <a:pt x="132" y="120"/>
                </a:lnTo>
                <a:lnTo>
                  <a:pt x="133" y="112"/>
                </a:lnTo>
                <a:lnTo>
                  <a:pt x="132" y="107"/>
                </a:lnTo>
                <a:lnTo>
                  <a:pt x="132" y="102"/>
                </a:lnTo>
                <a:lnTo>
                  <a:pt x="135" y="100"/>
                </a:lnTo>
                <a:lnTo>
                  <a:pt x="135" y="94"/>
                </a:lnTo>
                <a:lnTo>
                  <a:pt x="130" y="95"/>
                </a:lnTo>
                <a:lnTo>
                  <a:pt x="130" y="92"/>
                </a:lnTo>
                <a:lnTo>
                  <a:pt x="132" y="89"/>
                </a:lnTo>
                <a:lnTo>
                  <a:pt x="133" y="89"/>
                </a:lnTo>
                <a:lnTo>
                  <a:pt x="145" y="80"/>
                </a:lnTo>
                <a:lnTo>
                  <a:pt x="153" y="79"/>
                </a:lnTo>
                <a:lnTo>
                  <a:pt x="155" y="79"/>
                </a:lnTo>
                <a:lnTo>
                  <a:pt x="157" y="80"/>
                </a:lnTo>
                <a:lnTo>
                  <a:pt x="159" y="79"/>
                </a:lnTo>
                <a:lnTo>
                  <a:pt x="160" y="67"/>
                </a:lnTo>
                <a:lnTo>
                  <a:pt x="159" y="55"/>
                </a:lnTo>
                <a:lnTo>
                  <a:pt x="155" y="53"/>
                </a:lnTo>
                <a:lnTo>
                  <a:pt x="152" y="52"/>
                </a:lnTo>
                <a:lnTo>
                  <a:pt x="150" y="48"/>
                </a:lnTo>
                <a:lnTo>
                  <a:pt x="150" y="47"/>
                </a:lnTo>
                <a:lnTo>
                  <a:pt x="150" y="43"/>
                </a:lnTo>
                <a:lnTo>
                  <a:pt x="153" y="38"/>
                </a:lnTo>
                <a:lnTo>
                  <a:pt x="155" y="37"/>
                </a:lnTo>
                <a:lnTo>
                  <a:pt x="164" y="35"/>
                </a:lnTo>
                <a:lnTo>
                  <a:pt x="179" y="27"/>
                </a:lnTo>
                <a:lnTo>
                  <a:pt x="184" y="23"/>
                </a:lnTo>
                <a:lnTo>
                  <a:pt x="182" y="20"/>
                </a:lnTo>
                <a:lnTo>
                  <a:pt x="182" y="18"/>
                </a:lnTo>
                <a:lnTo>
                  <a:pt x="187" y="15"/>
                </a:lnTo>
                <a:lnTo>
                  <a:pt x="195" y="13"/>
                </a:lnTo>
                <a:lnTo>
                  <a:pt x="194" y="5"/>
                </a:lnTo>
                <a:lnTo>
                  <a:pt x="195" y="3"/>
                </a:lnTo>
                <a:lnTo>
                  <a:pt x="197" y="2"/>
                </a:lnTo>
                <a:lnTo>
                  <a:pt x="200" y="0"/>
                </a:lnTo>
                <a:lnTo>
                  <a:pt x="204" y="0"/>
                </a:lnTo>
                <a:lnTo>
                  <a:pt x="209" y="2"/>
                </a:lnTo>
                <a:lnTo>
                  <a:pt x="212" y="2"/>
                </a:lnTo>
                <a:lnTo>
                  <a:pt x="214" y="3"/>
                </a:lnTo>
                <a:lnTo>
                  <a:pt x="217" y="5"/>
                </a:lnTo>
                <a:lnTo>
                  <a:pt x="219" y="5"/>
                </a:lnTo>
                <a:lnTo>
                  <a:pt x="220" y="5"/>
                </a:lnTo>
                <a:lnTo>
                  <a:pt x="222" y="5"/>
                </a:lnTo>
                <a:lnTo>
                  <a:pt x="224" y="5"/>
                </a:lnTo>
                <a:lnTo>
                  <a:pt x="235" y="12"/>
                </a:lnTo>
                <a:lnTo>
                  <a:pt x="239" y="15"/>
                </a:lnTo>
                <a:lnTo>
                  <a:pt x="240" y="17"/>
                </a:lnTo>
                <a:lnTo>
                  <a:pt x="242" y="20"/>
                </a:lnTo>
                <a:lnTo>
                  <a:pt x="242" y="22"/>
                </a:lnTo>
                <a:lnTo>
                  <a:pt x="242" y="23"/>
                </a:lnTo>
                <a:lnTo>
                  <a:pt x="245" y="25"/>
                </a:lnTo>
                <a:lnTo>
                  <a:pt x="247" y="27"/>
                </a:lnTo>
                <a:lnTo>
                  <a:pt x="249" y="28"/>
                </a:lnTo>
                <a:lnTo>
                  <a:pt x="254" y="30"/>
                </a:lnTo>
                <a:lnTo>
                  <a:pt x="262" y="32"/>
                </a:lnTo>
                <a:lnTo>
                  <a:pt x="265" y="35"/>
                </a:lnTo>
                <a:lnTo>
                  <a:pt x="270" y="42"/>
                </a:lnTo>
                <a:lnTo>
                  <a:pt x="272" y="45"/>
                </a:lnTo>
                <a:lnTo>
                  <a:pt x="272" y="48"/>
                </a:lnTo>
                <a:lnTo>
                  <a:pt x="277" y="53"/>
                </a:lnTo>
                <a:lnTo>
                  <a:pt x="280" y="55"/>
                </a:lnTo>
                <a:lnTo>
                  <a:pt x="282" y="57"/>
                </a:lnTo>
                <a:lnTo>
                  <a:pt x="285" y="57"/>
                </a:lnTo>
                <a:lnTo>
                  <a:pt x="287" y="53"/>
                </a:lnTo>
                <a:lnTo>
                  <a:pt x="297" y="55"/>
                </a:lnTo>
                <a:lnTo>
                  <a:pt x="300" y="58"/>
                </a:lnTo>
                <a:lnTo>
                  <a:pt x="302" y="60"/>
                </a:lnTo>
                <a:lnTo>
                  <a:pt x="302" y="63"/>
                </a:lnTo>
                <a:lnTo>
                  <a:pt x="304" y="65"/>
                </a:lnTo>
                <a:lnTo>
                  <a:pt x="320" y="68"/>
                </a:lnTo>
                <a:lnTo>
                  <a:pt x="329" y="68"/>
                </a:lnTo>
                <a:lnTo>
                  <a:pt x="341" y="67"/>
                </a:lnTo>
                <a:lnTo>
                  <a:pt x="344" y="67"/>
                </a:lnTo>
                <a:lnTo>
                  <a:pt x="346" y="67"/>
                </a:lnTo>
                <a:lnTo>
                  <a:pt x="347" y="68"/>
                </a:lnTo>
                <a:lnTo>
                  <a:pt x="354" y="68"/>
                </a:lnTo>
                <a:lnTo>
                  <a:pt x="359" y="68"/>
                </a:lnTo>
                <a:lnTo>
                  <a:pt x="361" y="68"/>
                </a:lnTo>
                <a:lnTo>
                  <a:pt x="369" y="62"/>
                </a:lnTo>
                <a:lnTo>
                  <a:pt x="372" y="58"/>
                </a:lnTo>
                <a:lnTo>
                  <a:pt x="374" y="55"/>
                </a:lnTo>
                <a:lnTo>
                  <a:pt x="381" y="48"/>
                </a:lnTo>
                <a:lnTo>
                  <a:pt x="386" y="50"/>
                </a:lnTo>
                <a:lnTo>
                  <a:pt x="387" y="48"/>
                </a:lnTo>
                <a:lnTo>
                  <a:pt x="387" y="47"/>
                </a:lnTo>
                <a:lnTo>
                  <a:pt x="389" y="52"/>
                </a:lnTo>
                <a:lnTo>
                  <a:pt x="394" y="57"/>
                </a:lnTo>
                <a:lnTo>
                  <a:pt x="396" y="57"/>
                </a:lnTo>
                <a:lnTo>
                  <a:pt x="399" y="60"/>
                </a:lnTo>
                <a:lnTo>
                  <a:pt x="402" y="72"/>
                </a:lnTo>
                <a:lnTo>
                  <a:pt x="401" y="77"/>
                </a:lnTo>
                <a:lnTo>
                  <a:pt x="397" y="79"/>
                </a:lnTo>
                <a:lnTo>
                  <a:pt x="397" y="84"/>
                </a:lnTo>
                <a:lnTo>
                  <a:pt x="401" y="85"/>
                </a:lnTo>
                <a:lnTo>
                  <a:pt x="402" y="87"/>
                </a:lnTo>
                <a:lnTo>
                  <a:pt x="404" y="85"/>
                </a:lnTo>
                <a:lnTo>
                  <a:pt x="406" y="84"/>
                </a:lnTo>
                <a:lnTo>
                  <a:pt x="412" y="87"/>
                </a:lnTo>
                <a:lnTo>
                  <a:pt x="414" y="89"/>
                </a:lnTo>
                <a:lnTo>
                  <a:pt x="411" y="90"/>
                </a:lnTo>
                <a:lnTo>
                  <a:pt x="407" y="90"/>
                </a:lnTo>
                <a:lnTo>
                  <a:pt x="406" y="90"/>
                </a:lnTo>
                <a:lnTo>
                  <a:pt x="406" y="102"/>
                </a:lnTo>
                <a:lnTo>
                  <a:pt x="417" y="110"/>
                </a:lnTo>
                <a:lnTo>
                  <a:pt x="419" y="110"/>
                </a:lnTo>
                <a:lnTo>
                  <a:pt x="424" y="112"/>
                </a:lnTo>
                <a:lnTo>
                  <a:pt x="429" y="114"/>
                </a:lnTo>
                <a:lnTo>
                  <a:pt x="431" y="114"/>
                </a:lnTo>
                <a:lnTo>
                  <a:pt x="434" y="115"/>
                </a:lnTo>
                <a:lnTo>
                  <a:pt x="436" y="115"/>
                </a:lnTo>
                <a:lnTo>
                  <a:pt x="439" y="114"/>
                </a:lnTo>
                <a:lnTo>
                  <a:pt x="441" y="114"/>
                </a:lnTo>
                <a:lnTo>
                  <a:pt x="441" y="115"/>
                </a:lnTo>
                <a:lnTo>
                  <a:pt x="441" y="120"/>
                </a:lnTo>
                <a:lnTo>
                  <a:pt x="437" y="120"/>
                </a:lnTo>
                <a:lnTo>
                  <a:pt x="429" y="120"/>
                </a:lnTo>
                <a:lnTo>
                  <a:pt x="426" y="119"/>
                </a:lnTo>
                <a:lnTo>
                  <a:pt x="424" y="119"/>
                </a:lnTo>
                <a:lnTo>
                  <a:pt x="422" y="119"/>
                </a:lnTo>
                <a:lnTo>
                  <a:pt x="419" y="132"/>
                </a:lnTo>
                <a:lnTo>
                  <a:pt x="421" y="139"/>
                </a:lnTo>
                <a:lnTo>
                  <a:pt x="417" y="150"/>
                </a:lnTo>
                <a:lnTo>
                  <a:pt x="414" y="152"/>
                </a:lnTo>
                <a:lnTo>
                  <a:pt x="416" y="155"/>
                </a:lnTo>
                <a:lnTo>
                  <a:pt x="417" y="157"/>
                </a:lnTo>
                <a:lnTo>
                  <a:pt x="412" y="159"/>
                </a:lnTo>
                <a:lnTo>
                  <a:pt x="402" y="159"/>
                </a:lnTo>
                <a:lnTo>
                  <a:pt x="399" y="155"/>
                </a:lnTo>
                <a:lnTo>
                  <a:pt x="397" y="154"/>
                </a:lnTo>
                <a:lnTo>
                  <a:pt x="396" y="150"/>
                </a:lnTo>
                <a:lnTo>
                  <a:pt x="399" y="150"/>
                </a:lnTo>
                <a:lnTo>
                  <a:pt x="397" y="145"/>
                </a:lnTo>
                <a:lnTo>
                  <a:pt x="384" y="137"/>
                </a:lnTo>
                <a:lnTo>
                  <a:pt x="369" y="137"/>
                </a:lnTo>
                <a:lnTo>
                  <a:pt x="356" y="135"/>
                </a:lnTo>
                <a:lnTo>
                  <a:pt x="352" y="137"/>
                </a:lnTo>
                <a:lnTo>
                  <a:pt x="354" y="139"/>
                </a:lnTo>
                <a:lnTo>
                  <a:pt x="352" y="140"/>
                </a:lnTo>
                <a:lnTo>
                  <a:pt x="351" y="142"/>
                </a:lnTo>
                <a:lnTo>
                  <a:pt x="346" y="142"/>
                </a:lnTo>
                <a:lnTo>
                  <a:pt x="342" y="140"/>
                </a:lnTo>
                <a:lnTo>
                  <a:pt x="332" y="144"/>
                </a:lnTo>
                <a:lnTo>
                  <a:pt x="331" y="145"/>
                </a:lnTo>
                <a:lnTo>
                  <a:pt x="327" y="147"/>
                </a:lnTo>
                <a:lnTo>
                  <a:pt x="325" y="147"/>
                </a:lnTo>
                <a:lnTo>
                  <a:pt x="319" y="144"/>
                </a:lnTo>
                <a:lnTo>
                  <a:pt x="314" y="140"/>
                </a:lnTo>
                <a:lnTo>
                  <a:pt x="307" y="144"/>
                </a:lnTo>
                <a:lnTo>
                  <a:pt x="300" y="144"/>
                </a:lnTo>
                <a:lnTo>
                  <a:pt x="299" y="144"/>
                </a:lnTo>
                <a:lnTo>
                  <a:pt x="282" y="139"/>
                </a:lnTo>
                <a:lnTo>
                  <a:pt x="280" y="142"/>
                </a:lnTo>
                <a:lnTo>
                  <a:pt x="275" y="142"/>
                </a:lnTo>
                <a:lnTo>
                  <a:pt x="267" y="139"/>
                </a:lnTo>
                <a:lnTo>
                  <a:pt x="265" y="137"/>
                </a:lnTo>
                <a:lnTo>
                  <a:pt x="255" y="132"/>
                </a:lnTo>
                <a:lnTo>
                  <a:pt x="250" y="139"/>
                </a:lnTo>
                <a:lnTo>
                  <a:pt x="249" y="140"/>
                </a:lnTo>
                <a:lnTo>
                  <a:pt x="239" y="140"/>
                </a:lnTo>
                <a:lnTo>
                  <a:pt x="237" y="139"/>
                </a:lnTo>
                <a:lnTo>
                  <a:pt x="234" y="139"/>
                </a:lnTo>
                <a:lnTo>
                  <a:pt x="232" y="137"/>
                </a:lnTo>
                <a:lnTo>
                  <a:pt x="227" y="139"/>
                </a:lnTo>
                <a:lnTo>
                  <a:pt x="225" y="140"/>
                </a:lnTo>
                <a:lnTo>
                  <a:pt x="224" y="144"/>
                </a:lnTo>
                <a:lnTo>
                  <a:pt x="219" y="150"/>
                </a:lnTo>
                <a:lnTo>
                  <a:pt x="215" y="159"/>
                </a:lnTo>
                <a:lnTo>
                  <a:pt x="215" y="162"/>
                </a:lnTo>
                <a:lnTo>
                  <a:pt x="210" y="164"/>
                </a:lnTo>
                <a:lnTo>
                  <a:pt x="209" y="162"/>
                </a:lnTo>
                <a:lnTo>
                  <a:pt x="205" y="160"/>
                </a:lnTo>
                <a:lnTo>
                  <a:pt x="204" y="160"/>
                </a:lnTo>
                <a:lnTo>
                  <a:pt x="197" y="152"/>
                </a:lnTo>
                <a:lnTo>
                  <a:pt x="189" y="142"/>
                </a:lnTo>
                <a:lnTo>
                  <a:pt x="182" y="142"/>
                </a:lnTo>
                <a:lnTo>
                  <a:pt x="179" y="142"/>
                </a:lnTo>
                <a:lnTo>
                  <a:pt x="175" y="145"/>
                </a:lnTo>
                <a:lnTo>
                  <a:pt x="174" y="147"/>
                </a:lnTo>
                <a:lnTo>
                  <a:pt x="172" y="149"/>
                </a:lnTo>
                <a:lnTo>
                  <a:pt x="170" y="159"/>
                </a:lnTo>
                <a:lnTo>
                  <a:pt x="170" y="160"/>
                </a:lnTo>
                <a:lnTo>
                  <a:pt x="172" y="175"/>
                </a:lnTo>
                <a:lnTo>
                  <a:pt x="172" y="187"/>
                </a:lnTo>
                <a:lnTo>
                  <a:pt x="174" y="190"/>
                </a:lnTo>
                <a:lnTo>
                  <a:pt x="182" y="197"/>
                </a:lnTo>
                <a:lnTo>
                  <a:pt x="187" y="197"/>
                </a:lnTo>
                <a:lnTo>
                  <a:pt x="189" y="199"/>
                </a:lnTo>
                <a:lnTo>
                  <a:pt x="194" y="207"/>
                </a:lnTo>
                <a:lnTo>
                  <a:pt x="195" y="210"/>
                </a:lnTo>
                <a:lnTo>
                  <a:pt x="199" y="215"/>
                </a:lnTo>
                <a:lnTo>
                  <a:pt x="202" y="217"/>
                </a:lnTo>
                <a:lnTo>
                  <a:pt x="204" y="219"/>
                </a:lnTo>
                <a:lnTo>
                  <a:pt x="210" y="234"/>
                </a:lnTo>
                <a:lnTo>
                  <a:pt x="210" y="237"/>
                </a:lnTo>
                <a:lnTo>
                  <a:pt x="207" y="250"/>
                </a:lnTo>
                <a:lnTo>
                  <a:pt x="209" y="250"/>
                </a:lnTo>
                <a:lnTo>
                  <a:pt x="212" y="250"/>
                </a:lnTo>
                <a:lnTo>
                  <a:pt x="215" y="249"/>
                </a:lnTo>
                <a:lnTo>
                  <a:pt x="217" y="250"/>
                </a:lnTo>
                <a:lnTo>
                  <a:pt x="220" y="254"/>
                </a:lnTo>
                <a:lnTo>
                  <a:pt x="222" y="257"/>
                </a:lnTo>
                <a:lnTo>
                  <a:pt x="224" y="260"/>
                </a:lnTo>
                <a:lnTo>
                  <a:pt x="230" y="265"/>
                </a:lnTo>
                <a:lnTo>
                  <a:pt x="232" y="265"/>
                </a:lnTo>
                <a:lnTo>
                  <a:pt x="237" y="265"/>
                </a:lnTo>
                <a:lnTo>
                  <a:pt x="239" y="267"/>
                </a:lnTo>
                <a:lnTo>
                  <a:pt x="247" y="277"/>
                </a:lnTo>
                <a:lnTo>
                  <a:pt x="252" y="282"/>
                </a:lnTo>
                <a:lnTo>
                  <a:pt x="254" y="286"/>
                </a:lnTo>
                <a:lnTo>
                  <a:pt x="264" y="296"/>
                </a:lnTo>
                <a:lnTo>
                  <a:pt x="272" y="306"/>
                </a:lnTo>
                <a:lnTo>
                  <a:pt x="274" y="307"/>
                </a:lnTo>
                <a:lnTo>
                  <a:pt x="275" y="309"/>
                </a:lnTo>
                <a:lnTo>
                  <a:pt x="282" y="314"/>
                </a:lnTo>
                <a:lnTo>
                  <a:pt x="284" y="314"/>
                </a:lnTo>
                <a:lnTo>
                  <a:pt x="287" y="316"/>
                </a:lnTo>
                <a:lnTo>
                  <a:pt x="290" y="317"/>
                </a:lnTo>
                <a:lnTo>
                  <a:pt x="297" y="319"/>
                </a:lnTo>
                <a:lnTo>
                  <a:pt x="299" y="321"/>
                </a:lnTo>
                <a:lnTo>
                  <a:pt x="300" y="322"/>
                </a:lnTo>
                <a:lnTo>
                  <a:pt x="299" y="324"/>
                </a:lnTo>
                <a:lnTo>
                  <a:pt x="302" y="334"/>
                </a:lnTo>
                <a:lnTo>
                  <a:pt x="304" y="337"/>
                </a:lnTo>
                <a:lnTo>
                  <a:pt x="304" y="339"/>
                </a:lnTo>
                <a:lnTo>
                  <a:pt x="315" y="349"/>
                </a:lnTo>
                <a:lnTo>
                  <a:pt x="327" y="354"/>
                </a:lnTo>
                <a:lnTo>
                  <a:pt x="329" y="356"/>
                </a:lnTo>
                <a:lnTo>
                  <a:pt x="332" y="359"/>
                </a:lnTo>
                <a:lnTo>
                  <a:pt x="334" y="361"/>
                </a:lnTo>
                <a:lnTo>
                  <a:pt x="336" y="362"/>
                </a:lnTo>
                <a:lnTo>
                  <a:pt x="337" y="369"/>
                </a:lnTo>
                <a:lnTo>
                  <a:pt x="329" y="372"/>
                </a:lnTo>
                <a:moveTo>
                  <a:pt x="336" y="377"/>
                </a:moveTo>
                <a:lnTo>
                  <a:pt x="339" y="374"/>
                </a:lnTo>
                <a:lnTo>
                  <a:pt x="339" y="372"/>
                </a:lnTo>
                <a:lnTo>
                  <a:pt x="342" y="374"/>
                </a:lnTo>
                <a:lnTo>
                  <a:pt x="347" y="374"/>
                </a:lnTo>
                <a:lnTo>
                  <a:pt x="351" y="379"/>
                </a:lnTo>
                <a:lnTo>
                  <a:pt x="354" y="382"/>
                </a:lnTo>
                <a:lnTo>
                  <a:pt x="361" y="386"/>
                </a:lnTo>
                <a:lnTo>
                  <a:pt x="364" y="387"/>
                </a:lnTo>
                <a:lnTo>
                  <a:pt x="377" y="394"/>
                </a:lnTo>
                <a:lnTo>
                  <a:pt x="384" y="397"/>
                </a:lnTo>
                <a:lnTo>
                  <a:pt x="387" y="401"/>
                </a:lnTo>
                <a:lnTo>
                  <a:pt x="391" y="401"/>
                </a:lnTo>
                <a:lnTo>
                  <a:pt x="392" y="399"/>
                </a:lnTo>
                <a:lnTo>
                  <a:pt x="394" y="399"/>
                </a:lnTo>
                <a:lnTo>
                  <a:pt x="397" y="401"/>
                </a:lnTo>
                <a:lnTo>
                  <a:pt x="402" y="404"/>
                </a:lnTo>
                <a:lnTo>
                  <a:pt x="402" y="409"/>
                </a:lnTo>
                <a:lnTo>
                  <a:pt x="402" y="412"/>
                </a:lnTo>
                <a:lnTo>
                  <a:pt x="404" y="414"/>
                </a:lnTo>
                <a:lnTo>
                  <a:pt x="407" y="416"/>
                </a:lnTo>
                <a:lnTo>
                  <a:pt x="409" y="417"/>
                </a:lnTo>
                <a:lnTo>
                  <a:pt x="409" y="421"/>
                </a:lnTo>
                <a:lnTo>
                  <a:pt x="396" y="412"/>
                </a:lnTo>
                <a:lnTo>
                  <a:pt x="382" y="406"/>
                </a:lnTo>
                <a:lnTo>
                  <a:pt x="371" y="397"/>
                </a:lnTo>
                <a:lnTo>
                  <a:pt x="354" y="389"/>
                </a:lnTo>
                <a:lnTo>
                  <a:pt x="344" y="386"/>
                </a:lnTo>
                <a:lnTo>
                  <a:pt x="329" y="384"/>
                </a:lnTo>
                <a:lnTo>
                  <a:pt x="319" y="381"/>
                </a:lnTo>
                <a:lnTo>
                  <a:pt x="314" y="377"/>
                </a:lnTo>
                <a:lnTo>
                  <a:pt x="300" y="371"/>
                </a:lnTo>
                <a:lnTo>
                  <a:pt x="299" y="372"/>
                </a:lnTo>
                <a:lnTo>
                  <a:pt x="295" y="372"/>
                </a:lnTo>
                <a:lnTo>
                  <a:pt x="290" y="372"/>
                </a:lnTo>
                <a:lnTo>
                  <a:pt x="285" y="371"/>
                </a:lnTo>
                <a:lnTo>
                  <a:pt x="284" y="366"/>
                </a:lnTo>
                <a:lnTo>
                  <a:pt x="305" y="367"/>
                </a:lnTo>
                <a:lnTo>
                  <a:pt x="307" y="367"/>
                </a:lnTo>
                <a:lnTo>
                  <a:pt x="319" y="372"/>
                </a:lnTo>
                <a:lnTo>
                  <a:pt x="325" y="376"/>
                </a:lnTo>
                <a:lnTo>
                  <a:pt x="336" y="379"/>
                </a:lnTo>
                <a:lnTo>
                  <a:pt x="336" y="377"/>
                </a:lnTo>
                <a:moveTo>
                  <a:pt x="95" y="179"/>
                </a:moveTo>
                <a:lnTo>
                  <a:pt x="93" y="179"/>
                </a:lnTo>
                <a:lnTo>
                  <a:pt x="92" y="179"/>
                </a:lnTo>
                <a:lnTo>
                  <a:pt x="87" y="177"/>
                </a:lnTo>
                <a:lnTo>
                  <a:pt x="75" y="170"/>
                </a:lnTo>
                <a:lnTo>
                  <a:pt x="73" y="169"/>
                </a:lnTo>
                <a:lnTo>
                  <a:pt x="72" y="167"/>
                </a:lnTo>
                <a:lnTo>
                  <a:pt x="72" y="165"/>
                </a:lnTo>
                <a:lnTo>
                  <a:pt x="78" y="149"/>
                </a:lnTo>
                <a:lnTo>
                  <a:pt x="78" y="147"/>
                </a:lnTo>
                <a:lnTo>
                  <a:pt x="82" y="149"/>
                </a:lnTo>
                <a:lnTo>
                  <a:pt x="88" y="160"/>
                </a:lnTo>
                <a:lnTo>
                  <a:pt x="92" y="165"/>
                </a:lnTo>
                <a:lnTo>
                  <a:pt x="98" y="172"/>
                </a:lnTo>
                <a:lnTo>
                  <a:pt x="100" y="172"/>
                </a:lnTo>
                <a:lnTo>
                  <a:pt x="100" y="174"/>
                </a:lnTo>
                <a:lnTo>
                  <a:pt x="100" y="175"/>
                </a:lnTo>
                <a:lnTo>
                  <a:pt x="97" y="179"/>
                </a:lnTo>
                <a:lnTo>
                  <a:pt x="95" y="179"/>
                </a:lnTo>
                <a:moveTo>
                  <a:pt x="257" y="346"/>
                </a:moveTo>
                <a:lnTo>
                  <a:pt x="252" y="346"/>
                </a:lnTo>
                <a:lnTo>
                  <a:pt x="249" y="346"/>
                </a:lnTo>
                <a:lnTo>
                  <a:pt x="244" y="346"/>
                </a:lnTo>
                <a:lnTo>
                  <a:pt x="242" y="344"/>
                </a:lnTo>
                <a:lnTo>
                  <a:pt x="235" y="342"/>
                </a:lnTo>
                <a:lnTo>
                  <a:pt x="235" y="341"/>
                </a:lnTo>
                <a:lnTo>
                  <a:pt x="237" y="334"/>
                </a:lnTo>
                <a:lnTo>
                  <a:pt x="249" y="334"/>
                </a:lnTo>
                <a:lnTo>
                  <a:pt x="257" y="334"/>
                </a:lnTo>
                <a:lnTo>
                  <a:pt x="262" y="334"/>
                </a:lnTo>
                <a:lnTo>
                  <a:pt x="264" y="334"/>
                </a:lnTo>
                <a:lnTo>
                  <a:pt x="265" y="336"/>
                </a:lnTo>
                <a:lnTo>
                  <a:pt x="272" y="337"/>
                </a:lnTo>
                <a:lnTo>
                  <a:pt x="272" y="341"/>
                </a:lnTo>
                <a:lnTo>
                  <a:pt x="269" y="344"/>
                </a:lnTo>
                <a:lnTo>
                  <a:pt x="267" y="344"/>
                </a:lnTo>
                <a:lnTo>
                  <a:pt x="265" y="344"/>
                </a:lnTo>
                <a:lnTo>
                  <a:pt x="259" y="344"/>
                </a:lnTo>
                <a:lnTo>
                  <a:pt x="259" y="346"/>
                </a:lnTo>
                <a:lnTo>
                  <a:pt x="257" y="346"/>
                </a:lnTo>
                <a:moveTo>
                  <a:pt x="78" y="215"/>
                </a:moveTo>
                <a:lnTo>
                  <a:pt x="75" y="214"/>
                </a:lnTo>
                <a:lnTo>
                  <a:pt x="70" y="207"/>
                </a:lnTo>
                <a:lnTo>
                  <a:pt x="65" y="190"/>
                </a:lnTo>
                <a:lnTo>
                  <a:pt x="65" y="184"/>
                </a:lnTo>
                <a:lnTo>
                  <a:pt x="67" y="184"/>
                </a:lnTo>
                <a:lnTo>
                  <a:pt x="70" y="184"/>
                </a:lnTo>
                <a:lnTo>
                  <a:pt x="68" y="179"/>
                </a:lnTo>
                <a:lnTo>
                  <a:pt x="65" y="170"/>
                </a:lnTo>
                <a:lnTo>
                  <a:pt x="65" y="169"/>
                </a:lnTo>
                <a:lnTo>
                  <a:pt x="63" y="167"/>
                </a:lnTo>
                <a:lnTo>
                  <a:pt x="62" y="167"/>
                </a:lnTo>
                <a:lnTo>
                  <a:pt x="60" y="164"/>
                </a:lnTo>
                <a:lnTo>
                  <a:pt x="58" y="162"/>
                </a:lnTo>
                <a:lnTo>
                  <a:pt x="62" y="157"/>
                </a:lnTo>
                <a:lnTo>
                  <a:pt x="62" y="155"/>
                </a:lnTo>
                <a:lnTo>
                  <a:pt x="65" y="157"/>
                </a:lnTo>
                <a:lnTo>
                  <a:pt x="67" y="159"/>
                </a:lnTo>
                <a:lnTo>
                  <a:pt x="65" y="160"/>
                </a:lnTo>
                <a:lnTo>
                  <a:pt x="65" y="162"/>
                </a:lnTo>
                <a:lnTo>
                  <a:pt x="65" y="164"/>
                </a:lnTo>
                <a:lnTo>
                  <a:pt x="67" y="169"/>
                </a:lnTo>
                <a:lnTo>
                  <a:pt x="70" y="174"/>
                </a:lnTo>
                <a:lnTo>
                  <a:pt x="70" y="175"/>
                </a:lnTo>
                <a:lnTo>
                  <a:pt x="72" y="175"/>
                </a:lnTo>
                <a:lnTo>
                  <a:pt x="75" y="192"/>
                </a:lnTo>
                <a:lnTo>
                  <a:pt x="77" y="202"/>
                </a:lnTo>
                <a:lnTo>
                  <a:pt x="80" y="209"/>
                </a:lnTo>
                <a:lnTo>
                  <a:pt x="82" y="212"/>
                </a:lnTo>
                <a:lnTo>
                  <a:pt x="80" y="215"/>
                </a:lnTo>
                <a:lnTo>
                  <a:pt x="78" y="215"/>
                </a:lnTo>
                <a:moveTo>
                  <a:pt x="97" y="205"/>
                </a:moveTo>
                <a:lnTo>
                  <a:pt x="107" y="214"/>
                </a:lnTo>
                <a:lnTo>
                  <a:pt x="110" y="214"/>
                </a:lnTo>
                <a:lnTo>
                  <a:pt x="112" y="214"/>
                </a:lnTo>
                <a:lnTo>
                  <a:pt x="113" y="215"/>
                </a:lnTo>
                <a:lnTo>
                  <a:pt x="120" y="222"/>
                </a:lnTo>
                <a:lnTo>
                  <a:pt x="123" y="225"/>
                </a:lnTo>
                <a:lnTo>
                  <a:pt x="122" y="225"/>
                </a:lnTo>
                <a:lnTo>
                  <a:pt x="118" y="222"/>
                </a:lnTo>
                <a:lnTo>
                  <a:pt x="115" y="222"/>
                </a:lnTo>
                <a:lnTo>
                  <a:pt x="118" y="225"/>
                </a:lnTo>
                <a:lnTo>
                  <a:pt x="122" y="229"/>
                </a:lnTo>
                <a:lnTo>
                  <a:pt x="120" y="225"/>
                </a:lnTo>
                <a:lnTo>
                  <a:pt x="122" y="227"/>
                </a:lnTo>
                <a:lnTo>
                  <a:pt x="125" y="229"/>
                </a:lnTo>
                <a:lnTo>
                  <a:pt x="127" y="230"/>
                </a:lnTo>
                <a:lnTo>
                  <a:pt x="137" y="239"/>
                </a:lnTo>
                <a:lnTo>
                  <a:pt x="138" y="240"/>
                </a:lnTo>
                <a:lnTo>
                  <a:pt x="135" y="244"/>
                </a:lnTo>
                <a:lnTo>
                  <a:pt x="132" y="245"/>
                </a:lnTo>
                <a:lnTo>
                  <a:pt x="130" y="244"/>
                </a:lnTo>
                <a:lnTo>
                  <a:pt x="128" y="244"/>
                </a:lnTo>
                <a:lnTo>
                  <a:pt x="127" y="242"/>
                </a:lnTo>
                <a:lnTo>
                  <a:pt x="120" y="232"/>
                </a:lnTo>
                <a:lnTo>
                  <a:pt x="118" y="230"/>
                </a:lnTo>
                <a:lnTo>
                  <a:pt x="112" y="224"/>
                </a:lnTo>
                <a:lnTo>
                  <a:pt x="97" y="207"/>
                </a:lnTo>
                <a:lnTo>
                  <a:pt x="97" y="205"/>
                </a:lnTo>
                <a:moveTo>
                  <a:pt x="287" y="359"/>
                </a:moveTo>
                <a:lnTo>
                  <a:pt x="274" y="359"/>
                </a:lnTo>
                <a:lnTo>
                  <a:pt x="257" y="361"/>
                </a:lnTo>
                <a:lnTo>
                  <a:pt x="255" y="361"/>
                </a:lnTo>
                <a:lnTo>
                  <a:pt x="247" y="359"/>
                </a:lnTo>
                <a:lnTo>
                  <a:pt x="240" y="357"/>
                </a:lnTo>
                <a:lnTo>
                  <a:pt x="239" y="357"/>
                </a:lnTo>
                <a:lnTo>
                  <a:pt x="234" y="354"/>
                </a:lnTo>
                <a:lnTo>
                  <a:pt x="240" y="352"/>
                </a:lnTo>
                <a:lnTo>
                  <a:pt x="242" y="352"/>
                </a:lnTo>
                <a:lnTo>
                  <a:pt x="249" y="351"/>
                </a:lnTo>
                <a:lnTo>
                  <a:pt x="252" y="351"/>
                </a:lnTo>
                <a:lnTo>
                  <a:pt x="255" y="352"/>
                </a:lnTo>
                <a:lnTo>
                  <a:pt x="267" y="356"/>
                </a:lnTo>
                <a:lnTo>
                  <a:pt x="279" y="356"/>
                </a:lnTo>
                <a:lnTo>
                  <a:pt x="292" y="356"/>
                </a:lnTo>
                <a:lnTo>
                  <a:pt x="292" y="357"/>
                </a:lnTo>
                <a:lnTo>
                  <a:pt x="287" y="359"/>
                </a:lnTo>
                <a:moveTo>
                  <a:pt x="275" y="382"/>
                </a:moveTo>
                <a:lnTo>
                  <a:pt x="272" y="382"/>
                </a:lnTo>
                <a:lnTo>
                  <a:pt x="264" y="381"/>
                </a:lnTo>
                <a:lnTo>
                  <a:pt x="259" y="381"/>
                </a:lnTo>
                <a:lnTo>
                  <a:pt x="255" y="376"/>
                </a:lnTo>
                <a:lnTo>
                  <a:pt x="257" y="374"/>
                </a:lnTo>
                <a:lnTo>
                  <a:pt x="260" y="374"/>
                </a:lnTo>
                <a:lnTo>
                  <a:pt x="262" y="374"/>
                </a:lnTo>
                <a:lnTo>
                  <a:pt x="264" y="374"/>
                </a:lnTo>
                <a:lnTo>
                  <a:pt x="265" y="376"/>
                </a:lnTo>
                <a:lnTo>
                  <a:pt x="267" y="376"/>
                </a:lnTo>
                <a:lnTo>
                  <a:pt x="270" y="376"/>
                </a:lnTo>
                <a:lnTo>
                  <a:pt x="274" y="376"/>
                </a:lnTo>
                <a:lnTo>
                  <a:pt x="275" y="376"/>
                </a:lnTo>
                <a:lnTo>
                  <a:pt x="277" y="376"/>
                </a:lnTo>
                <a:lnTo>
                  <a:pt x="277" y="374"/>
                </a:lnTo>
                <a:lnTo>
                  <a:pt x="280" y="374"/>
                </a:lnTo>
                <a:lnTo>
                  <a:pt x="282" y="374"/>
                </a:lnTo>
                <a:lnTo>
                  <a:pt x="285" y="372"/>
                </a:lnTo>
                <a:lnTo>
                  <a:pt x="287" y="372"/>
                </a:lnTo>
                <a:lnTo>
                  <a:pt x="295" y="374"/>
                </a:lnTo>
                <a:lnTo>
                  <a:pt x="299" y="377"/>
                </a:lnTo>
                <a:lnTo>
                  <a:pt x="295" y="379"/>
                </a:lnTo>
                <a:lnTo>
                  <a:pt x="294" y="379"/>
                </a:lnTo>
                <a:lnTo>
                  <a:pt x="280" y="381"/>
                </a:lnTo>
                <a:lnTo>
                  <a:pt x="275" y="382"/>
                </a:lnTo>
                <a:moveTo>
                  <a:pt x="346" y="397"/>
                </a:moveTo>
                <a:lnTo>
                  <a:pt x="344" y="397"/>
                </a:lnTo>
                <a:lnTo>
                  <a:pt x="342" y="396"/>
                </a:lnTo>
                <a:lnTo>
                  <a:pt x="341" y="396"/>
                </a:lnTo>
                <a:lnTo>
                  <a:pt x="336" y="396"/>
                </a:lnTo>
                <a:lnTo>
                  <a:pt x="334" y="396"/>
                </a:lnTo>
                <a:lnTo>
                  <a:pt x="329" y="396"/>
                </a:lnTo>
                <a:lnTo>
                  <a:pt x="315" y="394"/>
                </a:lnTo>
                <a:lnTo>
                  <a:pt x="314" y="392"/>
                </a:lnTo>
                <a:lnTo>
                  <a:pt x="312" y="392"/>
                </a:lnTo>
                <a:lnTo>
                  <a:pt x="310" y="391"/>
                </a:lnTo>
                <a:lnTo>
                  <a:pt x="314" y="389"/>
                </a:lnTo>
                <a:lnTo>
                  <a:pt x="315" y="389"/>
                </a:lnTo>
                <a:lnTo>
                  <a:pt x="317" y="389"/>
                </a:lnTo>
                <a:lnTo>
                  <a:pt x="339" y="394"/>
                </a:lnTo>
                <a:lnTo>
                  <a:pt x="344" y="396"/>
                </a:lnTo>
                <a:lnTo>
                  <a:pt x="346" y="397"/>
                </a:lnTo>
                <a:moveTo>
                  <a:pt x="137" y="291"/>
                </a:moveTo>
                <a:lnTo>
                  <a:pt x="133" y="289"/>
                </a:lnTo>
                <a:lnTo>
                  <a:pt x="133" y="287"/>
                </a:lnTo>
                <a:lnTo>
                  <a:pt x="130" y="286"/>
                </a:lnTo>
                <a:lnTo>
                  <a:pt x="130" y="284"/>
                </a:lnTo>
                <a:lnTo>
                  <a:pt x="127" y="282"/>
                </a:lnTo>
                <a:lnTo>
                  <a:pt x="127" y="281"/>
                </a:lnTo>
                <a:lnTo>
                  <a:pt x="125" y="279"/>
                </a:lnTo>
                <a:lnTo>
                  <a:pt x="123" y="277"/>
                </a:lnTo>
                <a:lnTo>
                  <a:pt x="123" y="276"/>
                </a:lnTo>
                <a:lnTo>
                  <a:pt x="120" y="272"/>
                </a:lnTo>
                <a:lnTo>
                  <a:pt x="118" y="270"/>
                </a:lnTo>
                <a:lnTo>
                  <a:pt x="115" y="267"/>
                </a:lnTo>
                <a:lnTo>
                  <a:pt x="112" y="264"/>
                </a:lnTo>
                <a:lnTo>
                  <a:pt x="110" y="264"/>
                </a:lnTo>
                <a:lnTo>
                  <a:pt x="110" y="262"/>
                </a:lnTo>
                <a:lnTo>
                  <a:pt x="108" y="260"/>
                </a:lnTo>
                <a:lnTo>
                  <a:pt x="120" y="269"/>
                </a:lnTo>
                <a:lnTo>
                  <a:pt x="123" y="274"/>
                </a:lnTo>
                <a:lnTo>
                  <a:pt x="125" y="276"/>
                </a:lnTo>
                <a:lnTo>
                  <a:pt x="128" y="279"/>
                </a:lnTo>
                <a:lnTo>
                  <a:pt x="133" y="282"/>
                </a:lnTo>
                <a:lnTo>
                  <a:pt x="138" y="286"/>
                </a:lnTo>
                <a:lnTo>
                  <a:pt x="140" y="287"/>
                </a:lnTo>
                <a:lnTo>
                  <a:pt x="138" y="287"/>
                </a:lnTo>
                <a:lnTo>
                  <a:pt x="137" y="291"/>
                </a:lnTo>
                <a:moveTo>
                  <a:pt x="214" y="376"/>
                </a:moveTo>
                <a:lnTo>
                  <a:pt x="212" y="376"/>
                </a:lnTo>
                <a:lnTo>
                  <a:pt x="210" y="371"/>
                </a:lnTo>
                <a:lnTo>
                  <a:pt x="210" y="369"/>
                </a:lnTo>
                <a:lnTo>
                  <a:pt x="212" y="369"/>
                </a:lnTo>
                <a:lnTo>
                  <a:pt x="214" y="369"/>
                </a:lnTo>
                <a:lnTo>
                  <a:pt x="215" y="369"/>
                </a:lnTo>
                <a:lnTo>
                  <a:pt x="217" y="367"/>
                </a:lnTo>
                <a:lnTo>
                  <a:pt x="220" y="367"/>
                </a:lnTo>
                <a:lnTo>
                  <a:pt x="224" y="367"/>
                </a:lnTo>
                <a:lnTo>
                  <a:pt x="225" y="369"/>
                </a:lnTo>
                <a:lnTo>
                  <a:pt x="222" y="374"/>
                </a:lnTo>
                <a:lnTo>
                  <a:pt x="214" y="376"/>
                </a:lnTo>
                <a:moveTo>
                  <a:pt x="82" y="230"/>
                </a:moveTo>
                <a:lnTo>
                  <a:pt x="82" y="229"/>
                </a:lnTo>
                <a:lnTo>
                  <a:pt x="70" y="217"/>
                </a:lnTo>
                <a:lnTo>
                  <a:pt x="68" y="210"/>
                </a:lnTo>
                <a:lnTo>
                  <a:pt x="67" y="205"/>
                </a:lnTo>
                <a:lnTo>
                  <a:pt x="70" y="207"/>
                </a:lnTo>
                <a:lnTo>
                  <a:pt x="72" y="209"/>
                </a:lnTo>
                <a:lnTo>
                  <a:pt x="72" y="210"/>
                </a:lnTo>
                <a:lnTo>
                  <a:pt x="72" y="214"/>
                </a:lnTo>
                <a:lnTo>
                  <a:pt x="72" y="217"/>
                </a:lnTo>
                <a:lnTo>
                  <a:pt x="73" y="217"/>
                </a:lnTo>
                <a:lnTo>
                  <a:pt x="73" y="219"/>
                </a:lnTo>
                <a:lnTo>
                  <a:pt x="78" y="224"/>
                </a:lnTo>
                <a:lnTo>
                  <a:pt x="80" y="224"/>
                </a:lnTo>
                <a:lnTo>
                  <a:pt x="82" y="225"/>
                </a:lnTo>
                <a:lnTo>
                  <a:pt x="83" y="227"/>
                </a:lnTo>
                <a:lnTo>
                  <a:pt x="82" y="229"/>
                </a:lnTo>
                <a:lnTo>
                  <a:pt x="82" y="230"/>
                </a:lnTo>
              </a:path>
            </a:pathLst>
          </a:custGeom>
          <a:solidFill>
            <a:srgbClr val="003300">
              <a:alpha val="67000"/>
            </a:srgbClr>
          </a:solidFill>
          <a:ln w="46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"/>
          <p:cNvSpPr/>
          <p:nvPr/>
        </p:nvSpPr>
        <p:spPr>
          <a:xfrm>
            <a:off x="3770280" y="4014720"/>
            <a:ext cx="1163520" cy="1395360"/>
          </a:xfrm>
          <a:custGeom>
            <a:avLst/>
            <a:gdLst/>
            <a:ahLst/>
            <a:rect l="l" t="t" r="r" b="b"/>
            <a:pathLst>
              <a:path w="733" h="879">
                <a:moveTo>
                  <a:pt x="0" y="511"/>
                </a:moveTo>
                <a:lnTo>
                  <a:pt x="0" y="511"/>
                </a:lnTo>
                <a:lnTo>
                  <a:pt x="25" y="497"/>
                </a:lnTo>
                <a:lnTo>
                  <a:pt x="45" y="497"/>
                </a:lnTo>
                <a:lnTo>
                  <a:pt x="40" y="480"/>
                </a:lnTo>
                <a:lnTo>
                  <a:pt x="50" y="467"/>
                </a:lnTo>
                <a:lnTo>
                  <a:pt x="44" y="431"/>
                </a:lnTo>
                <a:lnTo>
                  <a:pt x="28" y="420"/>
                </a:lnTo>
                <a:lnTo>
                  <a:pt x="13" y="402"/>
                </a:lnTo>
                <a:lnTo>
                  <a:pt x="3" y="377"/>
                </a:lnTo>
                <a:lnTo>
                  <a:pt x="15" y="347"/>
                </a:lnTo>
                <a:lnTo>
                  <a:pt x="11" y="302"/>
                </a:lnTo>
                <a:lnTo>
                  <a:pt x="19" y="287"/>
                </a:lnTo>
                <a:lnTo>
                  <a:pt x="29" y="279"/>
                </a:lnTo>
                <a:lnTo>
                  <a:pt x="39" y="275"/>
                </a:lnTo>
                <a:lnTo>
                  <a:pt x="50" y="268"/>
                </a:lnTo>
                <a:lnTo>
                  <a:pt x="75" y="261"/>
                </a:lnTo>
                <a:lnTo>
                  <a:pt x="77" y="246"/>
                </a:lnTo>
                <a:lnTo>
                  <a:pt x="80" y="221"/>
                </a:lnTo>
                <a:lnTo>
                  <a:pt x="79" y="203"/>
                </a:lnTo>
                <a:lnTo>
                  <a:pt x="102" y="153"/>
                </a:lnTo>
                <a:lnTo>
                  <a:pt x="108" y="134"/>
                </a:lnTo>
                <a:lnTo>
                  <a:pt x="150" y="114"/>
                </a:lnTo>
                <a:lnTo>
                  <a:pt x="156" y="96"/>
                </a:lnTo>
                <a:lnTo>
                  <a:pt x="175" y="98"/>
                </a:lnTo>
                <a:lnTo>
                  <a:pt x="192" y="120"/>
                </a:lnTo>
                <a:lnTo>
                  <a:pt x="195" y="135"/>
                </a:lnTo>
                <a:lnTo>
                  <a:pt x="215" y="153"/>
                </a:lnTo>
                <a:lnTo>
                  <a:pt x="227" y="139"/>
                </a:lnTo>
                <a:lnTo>
                  <a:pt x="246" y="127"/>
                </a:lnTo>
                <a:lnTo>
                  <a:pt x="226" y="54"/>
                </a:lnTo>
                <a:lnTo>
                  <a:pt x="216" y="52"/>
                </a:lnTo>
                <a:lnTo>
                  <a:pt x="206" y="46"/>
                </a:lnTo>
                <a:lnTo>
                  <a:pt x="207" y="29"/>
                </a:lnTo>
                <a:lnTo>
                  <a:pt x="194" y="20"/>
                </a:lnTo>
                <a:lnTo>
                  <a:pt x="217" y="0"/>
                </a:lnTo>
                <a:lnTo>
                  <a:pt x="244" y="30"/>
                </a:lnTo>
                <a:lnTo>
                  <a:pt x="271" y="15"/>
                </a:lnTo>
                <a:lnTo>
                  <a:pt x="283" y="29"/>
                </a:lnTo>
                <a:lnTo>
                  <a:pt x="295" y="47"/>
                </a:lnTo>
                <a:lnTo>
                  <a:pt x="319" y="55"/>
                </a:lnTo>
                <a:lnTo>
                  <a:pt x="343" y="79"/>
                </a:lnTo>
                <a:lnTo>
                  <a:pt x="361" y="79"/>
                </a:lnTo>
                <a:lnTo>
                  <a:pt x="377" y="109"/>
                </a:lnTo>
                <a:lnTo>
                  <a:pt x="403" y="129"/>
                </a:lnTo>
                <a:lnTo>
                  <a:pt x="405" y="155"/>
                </a:lnTo>
                <a:lnTo>
                  <a:pt x="433" y="167"/>
                </a:lnTo>
                <a:lnTo>
                  <a:pt x="447" y="195"/>
                </a:lnTo>
                <a:lnTo>
                  <a:pt x="479" y="203"/>
                </a:lnTo>
                <a:lnTo>
                  <a:pt x="489" y="195"/>
                </a:lnTo>
                <a:lnTo>
                  <a:pt x="498" y="216"/>
                </a:lnTo>
                <a:lnTo>
                  <a:pt x="520" y="237"/>
                </a:lnTo>
                <a:lnTo>
                  <a:pt x="538" y="233"/>
                </a:lnTo>
                <a:lnTo>
                  <a:pt x="555" y="236"/>
                </a:lnTo>
                <a:lnTo>
                  <a:pt x="570" y="225"/>
                </a:lnTo>
                <a:lnTo>
                  <a:pt x="576" y="242"/>
                </a:lnTo>
                <a:lnTo>
                  <a:pt x="627" y="270"/>
                </a:lnTo>
                <a:lnTo>
                  <a:pt x="633" y="290"/>
                </a:lnTo>
                <a:lnTo>
                  <a:pt x="646" y="302"/>
                </a:lnTo>
                <a:lnTo>
                  <a:pt x="681" y="303"/>
                </a:lnTo>
                <a:lnTo>
                  <a:pt x="705" y="317"/>
                </a:lnTo>
                <a:lnTo>
                  <a:pt x="718" y="327"/>
                </a:lnTo>
                <a:lnTo>
                  <a:pt x="731" y="332"/>
                </a:lnTo>
                <a:lnTo>
                  <a:pt x="733" y="365"/>
                </a:lnTo>
                <a:lnTo>
                  <a:pt x="715" y="375"/>
                </a:lnTo>
                <a:lnTo>
                  <a:pt x="689" y="380"/>
                </a:lnTo>
                <a:lnTo>
                  <a:pt x="678" y="392"/>
                </a:lnTo>
                <a:lnTo>
                  <a:pt x="679" y="407"/>
                </a:lnTo>
                <a:lnTo>
                  <a:pt x="666" y="411"/>
                </a:lnTo>
                <a:lnTo>
                  <a:pt x="630" y="395"/>
                </a:lnTo>
                <a:lnTo>
                  <a:pt x="603" y="417"/>
                </a:lnTo>
                <a:lnTo>
                  <a:pt x="606" y="435"/>
                </a:lnTo>
                <a:lnTo>
                  <a:pt x="634" y="461"/>
                </a:lnTo>
                <a:lnTo>
                  <a:pt x="628" y="480"/>
                </a:lnTo>
                <a:lnTo>
                  <a:pt x="625" y="504"/>
                </a:lnTo>
                <a:lnTo>
                  <a:pt x="604" y="509"/>
                </a:lnTo>
                <a:lnTo>
                  <a:pt x="588" y="528"/>
                </a:lnTo>
                <a:lnTo>
                  <a:pt x="565" y="527"/>
                </a:lnTo>
                <a:lnTo>
                  <a:pt x="546" y="539"/>
                </a:lnTo>
                <a:lnTo>
                  <a:pt x="531" y="552"/>
                </a:lnTo>
                <a:lnTo>
                  <a:pt x="513" y="543"/>
                </a:lnTo>
                <a:lnTo>
                  <a:pt x="500" y="522"/>
                </a:lnTo>
                <a:lnTo>
                  <a:pt x="508" y="498"/>
                </a:lnTo>
                <a:lnTo>
                  <a:pt x="507" y="473"/>
                </a:lnTo>
                <a:lnTo>
                  <a:pt x="489" y="447"/>
                </a:lnTo>
                <a:lnTo>
                  <a:pt x="466" y="468"/>
                </a:lnTo>
                <a:lnTo>
                  <a:pt x="450" y="491"/>
                </a:lnTo>
                <a:lnTo>
                  <a:pt x="448" y="506"/>
                </a:lnTo>
                <a:lnTo>
                  <a:pt x="444" y="516"/>
                </a:lnTo>
                <a:lnTo>
                  <a:pt x="420" y="528"/>
                </a:lnTo>
                <a:lnTo>
                  <a:pt x="412" y="558"/>
                </a:lnTo>
                <a:lnTo>
                  <a:pt x="387" y="590"/>
                </a:lnTo>
                <a:lnTo>
                  <a:pt x="370" y="605"/>
                </a:lnTo>
                <a:lnTo>
                  <a:pt x="361" y="636"/>
                </a:lnTo>
                <a:lnTo>
                  <a:pt x="334" y="683"/>
                </a:lnTo>
                <a:lnTo>
                  <a:pt x="315" y="705"/>
                </a:lnTo>
                <a:lnTo>
                  <a:pt x="331" y="728"/>
                </a:lnTo>
                <a:lnTo>
                  <a:pt x="348" y="740"/>
                </a:lnTo>
                <a:lnTo>
                  <a:pt x="354" y="744"/>
                </a:lnTo>
                <a:lnTo>
                  <a:pt x="358" y="756"/>
                </a:lnTo>
                <a:lnTo>
                  <a:pt x="351" y="767"/>
                </a:lnTo>
                <a:lnTo>
                  <a:pt x="345" y="794"/>
                </a:lnTo>
                <a:lnTo>
                  <a:pt x="346" y="804"/>
                </a:lnTo>
                <a:lnTo>
                  <a:pt x="345" y="822"/>
                </a:lnTo>
                <a:lnTo>
                  <a:pt x="343" y="838"/>
                </a:lnTo>
                <a:lnTo>
                  <a:pt x="350" y="854"/>
                </a:lnTo>
                <a:lnTo>
                  <a:pt x="351" y="879"/>
                </a:lnTo>
                <a:lnTo>
                  <a:pt x="329" y="866"/>
                </a:lnTo>
                <a:lnTo>
                  <a:pt x="325" y="861"/>
                </a:lnTo>
                <a:lnTo>
                  <a:pt x="300" y="858"/>
                </a:lnTo>
                <a:lnTo>
                  <a:pt x="277" y="845"/>
                </a:lnTo>
                <a:lnTo>
                  <a:pt x="269" y="834"/>
                </a:lnTo>
                <a:lnTo>
                  <a:pt x="261" y="817"/>
                </a:lnTo>
                <a:lnTo>
                  <a:pt x="262" y="804"/>
                </a:lnTo>
                <a:lnTo>
                  <a:pt x="265" y="784"/>
                </a:lnTo>
                <a:lnTo>
                  <a:pt x="239" y="750"/>
                </a:lnTo>
                <a:lnTo>
                  <a:pt x="230" y="739"/>
                </a:lnTo>
                <a:lnTo>
                  <a:pt x="217" y="728"/>
                </a:lnTo>
                <a:lnTo>
                  <a:pt x="199" y="710"/>
                </a:lnTo>
                <a:lnTo>
                  <a:pt x="164" y="667"/>
                </a:lnTo>
                <a:lnTo>
                  <a:pt x="150" y="665"/>
                </a:lnTo>
                <a:lnTo>
                  <a:pt x="141" y="664"/>
                </a:lnTo>
                <a:lnTo>
                  <a:pt x="118" y="645"/>
                </a:lnTo>
                <a:lnTo>
                  <a:pt x="73" y="610"/>
                </a:lnTo>
                <a:lnTo>
                  <a:pt x="61" y="619"/>
                </a:lnTo>
                <a:lnTo>
                  <a:pt x="48" y="607"/>
                </a:lnTo>
                <a:lnTo>
                  <a:pt x="39" y="570"/>
                </a:lnTo>
                <a:lnTo>
                  <a:pt x="58" y="572"/>
                </a:lnTo>
                <a:lnTo>
                  <a:pt x="64" y="594"/>
                </a:lnTo>
                <a:lnTo>
                  <a:pt x="98" y="598"/>
                </a:lnTo>
                <a:lnTo>
                  <a:pt x="99" y="588"/>
                </a:lnTo>
                <a:lnTo>
                  <a:pt x="87" y="572"/>
                </a:lnTo>
                <a:lnTo>
                  <a:pt x="24" y="567"/>
                </a:lnTo>
                <a:lnTo>
                  <a:pt x="18" y="573"/>
                </a:lnTo>
                <a:lnTo>
                  <a:pt x="18" y="573"/>
                </a:lnTo>
                <a:lnTo>
                  <a:pt x="10" y="560"/>
                </a:lnTo>
                <a:lnTo>
                  <a:pt x="7" y="549"/>
                </a:lnTo>
                <a:lnTo>
                  <a:pt x="0" y="534"/>
                </a:lnTo>
                <a:lnTo>
                  <a:pt x="0" y="511"/>
                </a:lnTo>
                <a:lnTo>
                  <a:pt x="0" y="511"/>
                </a:lnTo>
                <a:close/>
              </a:path>
            </a:pathLst>
          </a:custGeom>
          <a:solidFill>
            <a:srgbClr val="003300">
              <a:alpha val="67000"/>
            </a:srgbClr>
          </a:solidFill>
          <a:ln w="46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4745160" y="4041720"/>
            <a:ext cx="1162080" cy="1389240"/>
          </a:xfrm>
          <a:custGeom>
            <a:avLst/>
            <a:gdLst/>
            <a:ahLst/>
            <a:rect l="l" t="t" r="r" b="b"/>
            <a:pathLst>
              <a:path w="732" h="875">
                <a:moveTo>
                  <a:pt x="208" y="875"/>
                </a:moveTo>
                <a:lnTo>
                  <a:pt x="205" y="860"/>
                </a:lnTo>
                <a:lnTo>
                  <a:pt x="216" y="845"/>
                </a:lnTo>
                <a:lnTo>
                  <a:pt x="210" y="828"/>
                </a:lnTo>
                <a:lnTo>
                  <a:pt x="232" y="812"/>
                </a:lnTo>
                <a:lnTo>
                  <a:pt x="222" y="777"/>
                </a:lnTo>
                <a:lnTo>
                  <a:pt x="204" y="740"/>
                </a:lnTo>
                <a:lnTo>
                  <a:pt x="204" y="708"/>
                </a:lnTo>
                <a:lnTo>
                  <a:pt x="189" y="689"/>
                </a:lnTo>
                <a:lnTo>
                  <a:pt x="165" y="645"/>
                </a:lnTo>
                <a:lnTo>
                  <a:pt x="141" y="627"/>
                </a:lnTo>
                <a:lnTo>
                  <a:pt x="105" y="611"/>
                </a:lnTo>
                <a:lnTo>
                  <a:pt x="91" y="612"/>
                </a:lnTo>
                <a:lnTo>
                  <a:pt x="74" y="611"/>
                </a:lnTo>
                <a:lnTo>
                  <a:pt x="65" y="582"/>
                </a:lnTo>
                <a:lnTo>
                  <a:pt x="67" y="568"/>
                </a:lnTo>
                <a:lnTo>
                  <a:pt x="51" y="528"/>
                </a:lnTo>
                <a:lnTo>
                  <a:pt x="62" y="551"/>
                </a:lnTo>
                <a:lnTo>
                  <a:pt x="38" y="513"/>
                </a:lnTo>
                <a:lnTo>
                  <a:pt x="18" y="498"/>
                </a:lnTo>
                <a:lnTo>
                  <a:pt x="12" y="508"/>
                </a:lnTo>
                <a:lnTo>
                  <a:pt x="15" y="468"/>
                </a:lnTo>
                <a:lnTo>
                  <a:pt x="30" y="447"/>
                </a:lnTo>
                <a:lnTo>
                  <a:pt x="8" y="422"/>
                </a:lnTo>
                <a:lnTo>
                  <a:pt x="0" y="413"/>
                </a:lnTo>
                <a:lnTo>
                  <a:pt x="2" y="399"/>
                </a:lnTo>
                <a:lnTo>
                  <a:pt x="14" y="392"/>
                </a:lnTo>
                <a:lnTo>
                  <a:pt x="27" y="395"/>
                </a:lnTo>
                <a:lnTo>
                  <a:pt x="41" y="408"/>
                </a:lnTo>
                <a:lnTo>
                  <a:pt x="57" y="401"/>
                </a:lnTo>
                <a:lnTo>
                  <a:pt x="71" y="396"/>
                </a:lnTo>
                <a:lnTo>
                  <a:pt x="66" y="377"/>
                </a:lnTo>
                <a:lnTo>
                  <a:pt x="92" y="366"/>
                </a:lnTo>
                <a:lnTo>
                  <a:pt x="104" y="369"/>
                </a:lnTo>
                <a:lnTo>
                  <a:pt x="120" y="348"/>
                </a:lnTo>
                <a:lnTo>
                  <a:pt x="132" y="322"/>
                </a:lnTo>
                <a:lnTo>
                  <a:pt x="166" y="304"/>
                </a:lnTo>
                <a:lnTo>
                  <a:pt x="171" y="277"/>
                </a:lnTo>
                <a:lnTo>
                  <a:pt x="142" y="258"/>
                </a:lnTo>
                <a:lnTo>
                  <a:pt x="162" y="240"/>
                </a:lnTo>
                <a:lnTo>
                  <a:pt x="190" y="235"/>
                </a:lnTo>
                <a:lnTo>
                  <a:pt x="214" y="241"/>
                </a:lnTo>
                <a:lnTo>
                  <a:pt x="223" y="216"/>
                </a:lnTo>
                <a:lnTo>
                  <a:pt x="240" y="198"/>
                </a:lnTo>
                <a:lnTo>
                  <a:pt x="237" y="106"/>
                </a:lnTo>
                <a:lnTo>
                  <a:pt x="208" y="90"/>
                </a:lnTo>
                <a:lnTo>
                  <a:pt x="226" y="58"/>
                </a:lnTo>
                <a:lnTo>
                  <a:pt x="264" y="45"/>
                </a:lnTo>
                <a:lnTo>
                  <a:pt x="280" y="15"/>
                </a:lnTo>
                <a:lnTo>
                  <a:pt x="310" y="0"/>
                </a:lnTo>
                <a:lnTo>
                  <a:pt x="330" y="9"/>
                </a:lnTo>
                <a:lnTo>
                  <a:pt x="343" y="28"/>
                </a:lnTo>
                <a:lnTo>
                  <a:pt x="333" y="51"/>
                </a:lnTo>
                <a:lnTo>
                  <a:pt x="334" y="70"/>
                </a:lnTo>
                <a:lnTo>
                  <a:pt x="360" y="108"/>
                </a:lnTo>
                <a:lnTo>
                  <a:pt x="406" y="135"/>
                </a:lnTo>
                <a:lnTo>
                  <a:pt x="432" y="127"/>
                </a:lnTo>
                <a:lnTo>
                  <a:pt x="450" y="136"/>
                </a:lnTo>
                <a:lnTo>
                  <a:pt x="466" y="184"/>
                </a:lnTo>
                <a:lnTo>
                  <a:pt x="499" y="171"/>
                </a:lnTo>
                <a:lnTo>
                  <a:pt x="510" y="193"/>
                </a:lnTo>
                <a:lnTo>
                  <a:pt x="516" y="208"/>
                </a:lnTo>
                <a:lnTo>
                  <a:pt x="523" y="240"/>
                </a:lnTo>
                <a:lnTo>
                  <a:pt x="538" y="264"/>
                </a:lnTo>
                <a:lnTo>
                  <a:pt x="583" y="279"/>
                </a:lnTo>
                <a:lnTo>
                  <a:pt x="603" y="261"/>
                </a:lnTo>
                <a:lnTo>
                  <a:pt x="630" y="274"/>
                </a:lnTo>
                <a:lnTo>
                  <a:pt x="613" y="327"/>
                </a:lnTo>
                <a:lnTo>
                  <a:pt x="624" y="346"/>
                </a:lnTo>
                <a:lnTo>
                  <a:pt x="648" y="337"/>
                </a:lnTo>
                <a:lnTo>
                  <a:pt x="672" y="342"/>
                </a:lnTo>
                <a:lnTo>
                  <a:pt x="687" y="382"/>
                </a:lnTo>
                <a:lnTo>
                  <a:pt x="714" y="376"/>
                </a:lnTo>
                <a:lnTo>
                  <a:pt x="732" y="414"/>
                </a:lnTo>
                <a:lnTo>
                  <a:pt x="715" y="438"/>
                </a:lnTo>
                <a:lnTo>
                  <a:pt x="705" y="457"/>
                </a:lnTo>
                <a:lnTo>
                  <a:pt x="700" y="484"/>
                </a:lnTo>
                <a:lnTo>
                  <a:pt x="676" y="505"/>
                </a:lnTo>
                <a:lnTo>
                  <a:pt x="691" y="541"/>
                </a:lnTo>
                <a:lnTo>
                  <a:pt x="684" y="570"/>
                </a:lnTo>
                <a:lnTo>
                  <a:pt x="643" y="576"/>
                </a:lnTo>
                <a:lnTo>
                  <a:pt x="651" y="609"/>
                </a:lnTo>
                <a:lnTo>
                  <a:pt x="668" y="613"/>
                </a:lnTo>
                <a:lnTo>
                  <a:pt x="662" y="625"/>
                </a:lnTo>
                <a:lnTo>
                  <a:pt x="643" y="636"/>
                </a:lnTo>
                <a:lnTo>
                  <a:pt x="616" y="639"/>
                </a:lnTo>
                <a:lnTo>
                  <a:pt x="575" y="640"/>
                </a:lnTo>
                <a:lnTo>
                  <a:pt x="550" y="628"/>
                </a:lnTo>
                <a:lnTo>
                  <a:pt x="531" y="629"/>
                </a:lnTo>
                <a:lnTo>
                  <a:pt x="522" y="647"/>
                </a:lnTo>
                <a:lnTo>
                  <a:pt x="507" y="668"/>
                </a:lnTo>
                <a:lnTo>
                  <a:pt x="481" y="695"/>
                </a:lnTo>
                <a:lnTo>
                  <a:pt x="483" y="719"/>
                </a:lnTo>
                <a:lnTo>
                  <a:pt x="456" y="729"/>
                </a:lnTo>
                <a:lnTo>
                  <a:pt x="444" y="702"/>
                </a:lnTo>
                <a:lnTo>
                  <a:pt x="417" y="668"/>
                </a:lnTo>
                <a:lnTo>
                  <a:pt x="388" y="674"/>
                </a:lnTo>
                <a:lnTo>
                  <a:pt x="372" y="701"/>
                </a:lnTo>
                <a:lnTo>
                  <a:pt x="309" y="722"/>
                </a:lnTo>
                <a:lnTo>
                  <a:pt x="279" y="729"/>
                </a:lnTo>
                <a:lnTo>
                  <a:pt x="261" y="762"/>
                </a:lnTo>
                <a:lnTo>
                  <a:pt x="262" y="791"/>
                </a:lnTo>
                <a:lnTo>
                  <a:pt x="264" y="810"/>
                </a:lnTo>
                <a:lnTo>
                  <a:pt x="259" y="825"/>
                </a:lnTo>
                <a:lnTo>
                  <a:pt x="271" y="839"/>
                </a:lnTo>
                <a:lnTo>
                  <a:pt x="253" y="851"/>
                </a:lnTo>
                <a:lnTo>
                  <a:pt x="241" y="846"/>
                </a:lnTo>
                <a:lnTo>
                  <a:pt x="208" y="875"/>
                </a:lnTo>
                <a:close/>
              </a:path>
            </a:pathLst>
          </a:custGeom>
          <a:solidFill>
            <a:srgbClr val="009900">
              <a:alpha val="67000"/>
            </a:srgbClr>
          </a:solidFill>
          <a:ln w="324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8" name=""/>
          <p:cNvSpPr/>
          <p:nvPr/>
        </p:nvSpPr>
        <p:spPr>
          <a:xfrm>
            <a:off x="4284720" y="4743360"/>
            <a:ext cx="1092240" cy="2428920"/>
          </a:xfrm>
          <a:custGeom>
            <a:avLst/>
            <a:gdLst/>
            <a:ahLst/>
            <a:rect l="l" t="t" r="r" b="b"/>
            <a:pathLst>
              <a:path w="688" h="1530">
                <a:moveTo>
                  <a:pt x="104" y="492"/>
                </a:moveTo>
                <a:lnTo>
                  <a:pt x="114" y="483"/>
                </a:lnTo>
                <a:lnTo>
                  <a:pt x="118" y="445"/>
                </a:lnTo>
                <a:lnTo>
                  <a:pt x="111" y="429"/>
                </a:lnTo>
                <a:lnTo>
                  <a:pt x="89" y="417"/>
                </a:lnTo>
                <a:lnTo>
                  <a:pt x="66" y="405"/>
                </a:lnTo>
                <a:lnTo>
                  <a:pt x="56" y="403"/>
                </a:lnTo>
                <a:lnTo>
                  <a:pt x="34" y="402"/>
                </a:lnTo>
                <a:lnTo>
                  <a:pt x="22" y="378"/>
                </a:lnTo>
                <a:lnTo>
                  <a:pt x="30" y="354"/>
                </a:lnTo>
                <a:lnTo>
                  <a:pt x="30" y="326"/>
                </a:lnTo>
                <a:lnTo>
                  <a:pt x="40" y="302"/>
                </a:lnTo>
                <a:lnTo>
                  <a:pt x="37" y="279"/>
                </a:lnTo>
                <a:lnTo>
                  <a:pt x="24" y="268"/>
                </a:lnTo>
                <a:lnTo>
                  <a:pt x="4" y="248"/>
                </a:lnTo>
                <a:lnTo>
                  <a:pt x="28" y="216"/>
                </a:lnTo>
                <a:lnTo>
                  <a:pt x="46" y="177"/>
                </a:lnTo>
                <a:lnTo>
                  <a:pt x="52" y="150"/>
                </a:lnTo>
                <a:lnTo>
                  <a:pt x="85" y="122"/>
                </a:lnTo>
                <a:lnTo>
                  <a:pt x="106" y="74"/>
                </a:lnTo>
                <a:lnTo>
                  <a:pt x="130" y="56"/>
                </a:lnTo>
                <a:lnTo>
                  <a:pt x="132" y="36"/>
                </a:lnTo>
                <a:lnTo>
                  <a:pt x="142" y="29"/>
                </a:lnTo>
                <a:lnTo>
                  <a:pt x="162" y="0"/>
                </a:lnTo>
                <a:lnTo>
                  <a:pt x="173" y="5"/>
                </a:lnTo>
                <a:lnTo>
                  <a:pt x="175" y="29"/>
                </a:lnTo>
                <a:lnTo>
                  <a:pt x="167" y="52"/>
                </a:lnTo>
                <a:lnTo>
                  <a:pt x="179" y="78"/>
                </a:lnTo>
                <a:lnTo>
                  <a:pt x="187" y="89"/>
                </a:lnTo>
                <a:lnTo>
                  <a:pt x="211" y="93"/>
                </a:lnTo>
                <a:lnTo>
                  <a:pt x="246" y="81"/>
                </a:lnTo>
                <a:lnTo>
                  <a:pt x="276" y="77"/>
                </a:lnTo>
                <a:lnTo>
                  <a:pt x="295" y="53"/>
                </a:lnTo>
                <a:lnTo>
                  <a:pt x="309" y="66"/>
                </a:lnTo>
                <a:lnTo>
                  <a:pt x="326" y="72"/>
                </a:lnTo>
                <a:lnTo>
                  <a:pt x="345" y="108"/>
                </a:lnTo>
                <a:lnTo>
                  <a:pt x="349" y="154"/>
                </a:lnTo>
                <a:lnTo>
                  <a:pt x="363" y="164"/>
                </a:lnTo>
                <a:lnTo>
                  <a:pt x="400" y="169"/>
                </a:lnTo>
                <a:lnTo>
                  <a:pt x="410" y="170"/>
                </a:lnTo>
                <a:lnTo>
                  <a:pt x="442" y="193"/>
                </a:lnTo>
                <a:lnTo>
                  <a:pt x="464" y="211"/>
                </a:lnTo>
                <a:lnTo>
                  <a:pt x="468" y="220"/>
                </a:lnTo>
                <a:lnTo>
                  <a:pt x="491" y="301"/>
                </a:lnTo>
                <a:lnTo>
                  <a:pt x="500" y="346"/>
                </a:lnTo>
                <a:lnTo>
                  <a:pt x="499" y="360"/>
                </a:lnTo>
                <a:lnTo>
                  <a:pt x="493" y="369"/>
                </a:lnTo>
                <a:lnTo>
                  <a:pt x="496" y="384"/>
                </a:lnTo>
                <a:lnTo>
                  <a:pt x="486" y="401"/>
                </a:lnTo>
                <a:lnTo>
                  <a:pt x="489" y="438"/>
                </a:lnTo>
                <a:lnTo>
                  <a:pt x="472" y="462"/>
                </a:lnTo>
                <a:lnTo>
                  <a:pt x="478" y="491"/>
                </a:lnTo>
                <a:lnTo>
                  <a:pt x="472" y="524"/>
                </a:lnTo>
                <a:lnTo>
                  <a:pt x="486" y="536"/>
                </a:lnTo>
                <a:lnTo>
                  <a:pt x="481" y="554"/>
                </a:lnTo>
                <a:lnTo>
                  <a:pt x="456" y="567"/>
                </a:lnTo>
                <a:lnTo>
                  <a:pt x="447" y="588"/>
                </a:lnTo>
                <a:lnTo>
                  <a:pt x="456" y="605"/>
                </a:lnTo>
                <a:lnTo>
                  <a:pt x="471" y="627"/>
                </a:lnTo>
                <a:lnTo>
                  <a:pt x="492" y="642"/>
                </a:lnTo>
                <a:lnTo>
                  <a:pt x="483" y="663"/>
                </a:lnTo>
                <a:lnTo>
                  <a:pt x="468" y="683"/>
                </a:lnTo>
                <a:lnTo>
                  <a:pt x="471" y="719"/>
                </a:lnTo>
                <a:lnTo>
                  <a:pt x="490" y="762"/>
                </a:lnTo>
                <a:lnTo>
                  <a:pt x="502" y="785"/>
                </a:lnTo>
                <a:lnTo>
                  <a:pt x="499" y="806"/>
                </a:lnTo>
                <a:lnTo>
                  <a:pt x="538" y="816"/>
                </a:lnTo>
                <a:lnTo>
                  <a:pt x="555" y="881"/>
                </a:lnTo>
                <a:lnTo>
                  <a:pt x="564" y="909"/>
                </a:lnTo>
                <a:lnTo>
                  <a:pt x="586" y="908"/>
                </a:lnTo>
                <a:lnTo>
                  <a:pt x="595" y="902"/>
                </a:lnTo>
                <a:lnTo>
                  <a:pt x="610" y="893"/>
                </a:lnTo>
                <a:lnTo>
                  <a:pt x="634" y="896"/>
                </a:lnTo>
                <a:lnTo>
                  <a:pt x="648" y="897"/>
                </a:lnTo>
                <a:lnTo>
                  <a:pt x="659" y="910"/>
                </a:lnTo>
                <a:lnTo>
                  <a:pt x="663" y="945"/>
                </a:lnTo>
                <a:lnTo>
                  <a:pt x="654" y="963"/>
                </a:lnTo>
                <a:lnTo>
                  <a:pt x="655" y="987"/>
                </a:lnTo>
                <a:lnTo>
                  <a:pt x="678" y="998"/>
                </a:lnTo>
                <a:lnTo>
                  <a:pt x="688" y="1014"/>
                </a:lnTo>
                <a:lnTo>
                  <a:pt x="688" y="1052"/>
                </a:lnTo>
                <a:lnTo>
                  <a:pt x="672" y="1071"/>
                </a:lnTo>
                <a:lnTo>
                  <a:pt x="655" y="1095"/>
                </a:lnTo>
                <a:lnTo>
                  <a:pt x="646" y="1116"/>
                </a:lnTo>
                <a:lnTo>
                  <a:pt x="627" y="1109"/>
                </a:lnTo>
                <a:lnTo>
                  <a:pt x="603" y="1116"/>
                </a:lnTo>
                <a:lnTo>
                  <a:pt x="592" y="1145"/>
                </a:lnTo>
                <a:lnTo>
                  <a:pt x="577" y="1182"/>
                </a:lnTo>
                <a:lnTo>
                  <a:pt x="567" y="1190"/>
                </a:lnTo>
                <a:lnTo>
                  <a:pt x="560" y="1205"/>
                </a:lnTo>
                <a:lnTo>
                  <a:pt x="562" y="1229"/>
                </a:lnTo>
                <a:lnTo>
                  <a:pt x="550" y="1290"/>
                </a:lnTo>
                <a:lnTo>
                  <a:pt x="525" y="1297"/>
                </a:lnTo>
                <a:lnTo>
                  <a:pt x="523" y="1307"/>
                </a:lnTo>
                <a:lnTo>
                  <a:pt x="513" y="1311"/>
                </a:lnTo>
                <a:lnTo>
                  <a:pt x="499" y="1309"/>
                </a:lnTo>
                <a:lnTo>
                  <a:pt x="473" y="1315"/>
                </a:lnTo>
                <a:lnTo>
                  <a:pt x="465" y="1305"/>
                </a:lnTo>
                <a:lnTo>
                  <a:pt x="455" y="1304"/>
                </a:lnTo>
                <a:lnTo>
                  <a:pt x="449" y="1312"/>
                </a:lnTo>
                <a:lnTo>
                  <a:pt x="402" y="1345"/>
                </a:lnTo>
                <a:lnTo>
                  <a:pt x="417" y="1382"/>
                </a:lnTo>
                <a:lnTo>
                  <a:pt x="430" y="1397"/>
                </a:lnTo>
                <a:lnTo>
                  <a:pt x="441" y="1423"/>
                </a:lnTo>
                <a:lnTo>
                  <a:pt x="449" y="1434"/>
                </a:lnTo>
                <a:lnTo>
                  <a:pt x="437" y="1452"/>
                </a:lnTo>
                <a:lnTo>
                  <a:pt x="432" y="1456"/>
                </a:lnTo>
                <a:lnTo>
                  <a:pt x="408" y="1448"/>
                </a:lnTo>
                <a:lnTo>
                  <a:pt x="400" y="1447"/>
                </a:lnTo>
                <a:lnTo>
                  <a:pt x="407" y="1463"/>
                </a:lnTo>
                <a:lnTo>
                  <a:pt x="410" y="1477"/>
                </a:lnTo>
                <a:lnTo>
                  <a:pt x="375" y="1522"/>
                </a:lnTo>
                <a:lnTo>
                  <a:pt x="364" y="1530"/>
                </a:lnTo>
                <a:lnTo>
                  <a:pt x="350" y="1529"/>
                </a:lnTo>
                <a:lnTo>
                  <a:pt x="341" y="1517"/>
                </a:lnTo>
                <a:lnTo>
                  <a:pt x="328" y="1516"/>
                </a:lnTo>
                <a:lnTo>
                  <a:pt x="294" y="1508"/>
                </a:lnTo>
                <a:lnTo>
                  <a:pt x="285" y="1506"/>
                </a:lnTo>
                <a:lnTo>
                  <a:pt x="280" y="1506"/>
                </a:lnTo>
                <a:lnTo>
                  <a:pt x="275" y="1471"/>
                </a:lnTo>
                <a:lnTo>
                  <a:pt x="282" y="1413"/>
                </a:lnTo>
                <a:lnTo>
                  <a:pt x="252" y="1375"/>
                </a:lnTo>
                <a:lnTo>
                  <a:pt x="229" y="1324"/>
                </a:lnTo>
                <a:lnTo>
                  <a:pt x="220" y="1323"/>
                </a:lnTo>
                <a:lnTo>
                  <a:pt x="210" y="1322"/>
                </a:lnTo>
                <a:lnTo>
                  <a:pt x="183" y="1304"/>
                </a:lnTo>
                <a:lnTo>
                  <a:pt x="176" y="1293"/>
                </a:lnTo>
                <a:lnTo>
                  <a:pt x="129" y="1273"/>
                </a:lnTo>
                <a:lnTo>
                  <a:pt x="83" y="1253"/>
                </a:lnTo>
                <a:lnTo>
                  <a:pt x="61" y="1230"/>
                </a:lnTo>
                <a:lnTo>
                  <a:pt x="41" y="1203"/>
                </a:lnTo>
                <a:lnTo>
                  <a:pt x="0" y="1136"/>
                </a:lnTo>
                <a:lnTo>
                  <a:pt x="11" y="1127"/>
                </a:lnTo>
                <a:lnTo>
                  <a:pt x="16" y="1128"/>
                </a:lnTo>
                <a:lnTo>
                  <a:pt x="36" y="1155"/>
                </a:lnTo>
                <a:lnTo>
                  <a:pt x="45" y="1166"/>
                </a:lnTo>
                <a:lnTo>
                  <a:pt x="44" y="1175"/>
                </a:lnTo>
                <a:lnTo>
                  <a:pt x="57" y="1181"/>
                </a:lnTo>
                <a:lnTo>
                  <a:pt x="68" y="1178"/>
                </a:lnTo>
                <a:lnTo>
                  <a:pt x="79" y="1170"/>
                </a:lnTo>
                <a:lnTo>
                  <a:pt x="74" y="1130"/>
                </a:lnTo>
                <a:lnTo>
                  <a:pt x="68" y="1061"/>
                </a:lnTo>
                <a:lnTo>
                  <a:pt x="48" y="1058"/>
                </a:lnTo>
                <a:lnTo>
                  <a:pt x="43" y="1058"/>
                </a:lnTo>
                <a:lnTo>
                  <a:pt x="21" y="1041"/>
                </a:lnTo>
                <a:lnTo>
                  <a:pt x="4" y="1024"/>
                </a:lnTo>
                <a:lnTo>
                  <a:pt x="26" y="1002"/>
                </a:lnTo>
                <a:lnTo>
                  <a:pt x="39" y="936"/>
                </a:lnTo>
                <a:lnTo>
                  <a:pt x="42" y="912"/>
                </a:lnTo>
                <a:lnTo>
                  <a:pt x="63" y="900"/>
                </a:lnTo>
                <a:lnTo>
                  <a:pt x="68" y="900"/>
                </a:lnTo>
                <a:lnTo>
                  <a:pt x="89" y="889"/>
                </a:lnTo>
                <a:lnTo>
                  <a:pt x="92" y="869"/>
                </a:lnTo>
                <a:lnTo>
                  <a:pt x="83" y="854"/>
                </a:lnTo>
                <a:lnTo>
                  <a:pt x="61" y="836"/>
                </a:lnTo>
                <a:lnTo>
                  <a:pt x="52" y="835"/>
                </a:lnTo>
                <a:lnTo>
                  <a:pt x="64" y="812"/>
                </a:lnTo>
                <a:lnTo>
                  <a:pt x="85" y="718"/>
                </a:lnTo>
                <a:lnTo>
                  <a:pt x="87" y="698"/>
                </a:lnTo>
                <a:lnTo>
                  <a:pt x="79" y="693"/>
                </a:lnTo>
                <a:lnTo>
                  <a:pt x="70" y="682"/>
                </a:lnTo>
                <a:lnTo>
                  <a:pt x="64" y="691"/>
                </a:lnTo>
                <a:lnTo>
                  <a:pt x="52" y="632"/>
                </a:lnTo>
                <a:lnTo>
                  <a:pt x="86" y="553"/>
                </a:lnTo>
                <a:lnTo>
                  <a:pt x="106" y="550"/>
                </a:lnTo>
                <a:lnTo>
                  <a:pt x="108" y="532"/>
                </a:lnTo>
                <a:lnTo>
                  <a:pt x="110" y="517"/>
                </a:lnTo>
                <a:lnTo>
                  <a:pt x="104" y="492"/>
                </a:lnTo>
              </a:path>
            </a:pathLst>
          </a:custGeom>
          <a:solidFill>
            <a:srgbClr val="336600">
              <a:alpha val="67000"/>
            </a:srgbClr>
          </a:solidFill>
          <a:ln w="46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9" name=""/>
          <p:cNvSpPr/>
          <p:nvPr/>
        </p:nvSpPr>
        <p:spPr>
          <a:xfrm>
            <a:off x="1076400" y="1486080"/>
            <a:ext cx="4419360" cy="5314680"/>
          </a:xfrm>
          <a:custGeom>
            <a:avLst/>
            <a:gdLst/>
            <a:ahLst/>
            <a:rect l="l" t="t" r="r" b="b"/>
            <a:pathLst>
              <a:path w="2784" h="3348">
                <a:moveTo>
                  <a:pt x="2784" y="3348"/>
                </a:moveTo>
                <a:lnTo>
                  <a:pt x="2514" y="3060"/>
                </a:lnTo>
                <a:lnTo>
                  <a:pt x="2220" y="2742"/>
                </a:lnTo>
                <a:lnTo>
                  <a:pt x="2112" y="2364"/>
                </a:lnTo>
                <a:lnTo>
                  <a:pt x="2022" y="2180"/>
                </a:lnTo>
                <a:lnTo>
                  <a:pt x="1895" y="2026"/>
                </a:lnTo>
                <a:lnTo>
                  <a:pt x="1716" y="2146"/>
                </a:lnTo>
                <a:lnTo>
                  <a:pt x="1266" y="1788"/>
                </a:lnTo>
                <a:lnTo>
                  <a:pt x="1098" y="1614"/>
                </a:lnTo>
                <a:lnTo>
                  <a:pt x="900" y="1590"/>
                </a:lnTo>
                <a:lnTo>
                  <a:pt x="751" y="1455"/>
                </a:lnTo>
                <a:lnTo>
                  <a:pt x="700" y="1332"/>
                </a:lnTo>
                <a:lnTo>
                  <a:pt x="715" y="1171"/>
                </a:lnTo>
                <a:lnTo>
                  <a:pt x="489" y="938"/>
                </a:lnTo>
                <a:lnTo>
                  <a:pt x="558" y="816"/>
                </a:lnTo>
                <a:lnTo>
                  <a:pt x="462" y="618"/>
                </a:lnTo>
                <a:lnTo>
                  <a:pt x="348" y="234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ffff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0" name=""/>
          <p:cNvSpPr/>
          <p:nvPr/>
        </p:nvSpPr>
        <p:spPr>
          <a:xfrm>
            <a:off x="1133640" y="2019240"/>
            <a:ext cx="2981160" cy="714600"/>
          </a:xfrm>
          <a:custGeom>
            <a:avLst/>
            <a:gdLst/>
            <a:ahLst/>
            <a:rect l="l" t="t" r="r" b="b"/>
            <a:pathLst>
              <a:path w="1878" h="450">
                <a:moveTo>
                  <a:pt x="0" y="450"/>
                </a:moveTo>
                <a:lnTo>
                  <a:pt x="222" y="270"/>
                </a:lnTo>
                <a:lnTo>
                  <a:pt x="360" y="270"/>
                </a:lnTo>
                <a:lnTo>
                  <a:pt x="546" y="258"/>
                </a:lnTo>
                <a:lnTo>
                  <a:pt x="594" y="216"/>
                </a:lnTo>
                <a:lnTo>
                  <a:pt x="654" y="210"/>
                </a:lnTo>
                <a:lnTo>
                  <a:pt x="690" y="132"/>
                </a:lnTo>
                <a:lnTo>
                  <a:pt x="786" y="44"/>
                </a:lnTo>
                <a:lnTo>
                  <a:pt x="882" y="48"/>
                </a:lnTo>
                <a:lnTo>
                  <a:pt x="966" y="18"/>
                </a:lnTo>
                <a:lnTo>
                  <a:pt x="1092" y="108"/>
                </a:lnTo>
                <a:lnTo>
                  <a:pt x="1218" y="0"/>
                </a:lnTo>
                <a:lnTo>
                  <a:pt x="1410" y="108"/>
                </a:lnTo>
                <a:lnTo>
                  <a:pt x="1668" y="138"/>
                </a:lnTo>
                <a:lnTo>
                  <a:pt x="1632" y="396"/>
                </a:lnTo>
                <a:lnTo>
                  <a:pt x="1878" y="402"/>
                </a:lnTo>
                <a:lnTo>
                  <a:pt x="1872" y="324"/>
                </a:ln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1" name=""/>
          <p:cNvSpPr/>
          <p:nvPr/>
        </p:nvSpPr>
        <p:spPr>
          <a:xfrm>
            <a:off x="4359240" y="3359160"/>
            <a:ext cx="260280" cy="393840"/>
          </a:xfrm>
          <a:custGeom>
            <a:avLst/>
            <a:gdLst/>
            <a:ahLst/>
            <a:rect l="l" t="t" r="r" b="b"/>
            <a:pathLst>
              <a:path w="158" h="248">
                <a:moveTo>
                  <a:pt x="0" y="0"/>
                </a:moveTo>
                <a:lnTo>
                  <a:pt x="158" y="248"/>
                </a:ln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2" name=""/>
          <p:cNvSpPr/>
          <p:nvPr/>
        </p:nvSpPr>
        <p:spPr>
          <a:xfrm>
            <a:off x="2577960" y="3994200"/>
            <a:ext cx="723960" cy="412560"/>
          </a:xfrm>
          <a:custGeom>
            <a:avLst/>
            <a:gdLst/>
            <a:ahLst/>
            <a:rect l="l" t="t" r="r" b="b"/>
            <a:pathLst>
              <a:path w="456" h="260">
                <a:moveTo>
                  <a:pt x="456" y="260"/>
                </a:moveTo>
                <a:lnTo>
                  <a:pt x="298" y="182"/>
                </a:lnTo>
                <a:lnTo>
                  <a:pt x="148" y="40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3" name=""/>
          <p:cNvSpPr/>
          <p:nvPr/>
        </p:nvSpPr>
        <p:spPr>
          <a:xfrm>
            <a:off x="5867280" y="3556080"/>
            <a:ext cx="581040" cy="590400"/>
          </a:xfrm>
          <a:custGeom>
            <a:avLst/>
            <a:gdLst/>
            <a:ahLst/>
            <a:rect l="l" t="t" r="r" b="b"/>
            <a:pathLst>
              <a:path w="366" h="372">
                <a:moveTo>
                  <a:pt x="0" y="372"/>
                </a:moveTo>
                <a:lnTo>
                  <a:pt x="366" y="0"/>
                </a:lnTo>
              </a:path>
            </a:pathLst>
          </a:custGeom>
          <a:noFill/>
          <a:ln w="3816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4" name=""/>
          <p:cNvSpPr/>
          <p:nvPr/>
        </p:nvSpPr>
        <p:spPr>
          <a:xfrm>
            <a:off x="5740560" y="4317840"/>
            <a:ext cx="161640" cy="114480"/>
          </a:xfrm>
          <a:prstGeom prst="line">
            <a:avLst/>
          </a:prstGeom>
          <a:ln w="28440">
            <a:solidFill>
              <a:srgbClr val="ccb37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5" name=""/>
          <p:cNvSpPr/>
          <p:nvPr/>
        </p:nvSpPr>
        <p:spPr>
          <a:xfrm flipH="1" flipV="1">
            <a:off x="5320800" y="5260680"/>
            <a:ext cx="57240" cy="114120"/>
          </a:xfrm>
          <a:prstGeom prst="line">
            <a:avLst/>
          </a:prstGeom>
          <a:ln w="38160">
            <a:solidFill>
              <a:srgbClr val="ccb37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" name=""/>
          <p:cNvSpPr/>
          <p:nvPr/>
        </p:nvSpPr>
        <p:spPr>
          <a:xfrm>
            <a:off x="1800360" y="2409840"/>
            <a:ext cx="780840" cy="1581120"/>
          </a:xfrm>
          <a:custGeom>
            <a:avLst/>
            <a:gdLst/>
            <a:ahLst/>
            <a:rect l="l" t="t" r="r" b="b"/>
            <a:pathLst>
              <a:path w="492" h="996">
                <a:moveTo>
                  <a:pt x="492" y="996"/>
                </a:moveTo>
                <a:lnTo>
                  <a:pt x="426" y="990"/>
                </a:lnTo>
                <a:lnTo>
                  <a:pt x="306" y="900"/>
                </a:lnTo>
                <a:lnTo>
                  <a:pt x="216" y="732"/>
                </a:lnTo>
                <a:lnTo>
                  <a:pt x="270" y="660"/>
                </a:lnTo>
                <a:lnTo>
                  <a:pt x="270" y="576"/>
                </a:lnTo>
                <a:lnTo>
                  <a:pt x="114" y="468"/>
                </a:lnTo>
                <a:lnTo>
                  <a:pt x="42" y="336"/>
                </a:lnTo>
                <a:lnTo>
                  <a:pt x="96" y="228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7" name=""/>
          <p:cNvSpPr/>
          <p:nvPr/>
        </p:nvSpPr>
        <p:spPr>
          <a:xfrm>
            <a:off x="2867040" y="2124000"/>
            <a:ext cx="361800" cy="247680"/>
          </a:xfrm>
          <a:custGeom>
            <a:avLst/>
            <a:gdLst/>
            <a:ahLst/>
            <a:rect l="l" t="t" r="r" b="b"/>
            <a:pathLst>
              <a:path w="228" h="156">
                <a:moveTo>
                  <a:pt x="0" y="42"/>
                </a:moveTo>
                <a:lnTo>
                  <a:pt x="126" y="156"/>
                </a:lnTo>
                <a:lnTo>
                  <a:pt x="228" y="0"/>
                </a:ln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" name=""/>
          <p:cNvSpPr/>
          <p:nvPr/>
        </p:nvSpPr>
        <p:spPr>
          <a:xfrm flipH="1" flipV="1">
            <a:off x="2276640" y="1752120"/>
            <a:ext cx="95040" cy="352440"/>
          </a:xfrm>
          <a:prstGeom prst="line">
            <a:avLst/>
          </a:prstGeom>
          <a:ln w="28440">
            <a:solidFill>
              <a:srgbClr val="ccb3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"/>
          <p:cNvSpPr/>
          <p:nvPr/>
        </p:nvSpPr>
        <p:spPr>
          <a:xfrm>
            <a:off x="2314440" y="1704960"/>
            <a:ext cx="771840" cy="324000"/>
          </a:xfrm>
          <a:custGeom>
            <a:avLst/>
            <a:gdLst/>
            <a:ahLst/>
            <a:rect l="l" t="t" r="r" b="b"/>
            <a:pathLst>
              <a:path w="474" h="210">
                <a:moveTo>
                  <a:pt x="0" y="126"/>
                </a:moveTo>
                <a:lnTo>
                  <a:pt x="258" y="0"/>
                </a:lnTo>
                <a:lnTo>
                  <a:pt x="474" y="210"/>
                </a:ln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" name=""/>
          <p:cNvSpPr/>
          <p:nvPr/>
        </p:nvSpPr>
        <p:spPr>
          <a:xfrm>
            <a:off x="3057480" y="2371680"/>
            <a:ext cx="657360" cy="276120"/>
          </a:xfrm>
          <a:custGeom>
            <a:avLst/>
            <a:gdLst/>
            <a:ahLst/>
            <a:rect l="l" t="t" r="r" b="b"/>
            <a:pathLst>
              <a:path w="414" h="174">
                <a:moveTo>
                  <a:pt x="0" y="0"/>
                </a:moveTo>
                <a:lnTo>
                  <a:pt x="186" y="168"/>
                </a:lnTo>
                <a:lnTo>
                  <a:pt x="414" y="174"/>
                </a:ln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"/>
          <p:cNvSpPr/>
          <p:nvPr/>
        </p:nvSpPr>
        <p:spPr>
          <a:xfrm>
            <a:off x="3467160" y="2638440"/>
            <a:ext cx="247680" cy="809640"/>
          </a:xfrm>
          <a:custGeom>
            <a:avLst/>
            <a:gdLst/>
            <a:ahLst/>
            <a:rect l="l" t="t" r="r" b="b"/>
            <a:pathLst>
              <a:path w="156" h="510">
                <a:moveTo>
                  <a:pt x="0" y="510"/>
                </a:moveTo>
                <a:lnTo>
                  <a:pt x="138" y="312"/>
                </a:lnTo>
                <a:lnTo>
                  <a:pt x="108" y="102"/>
                </a:lnTo>
                <a:lnTo>
                  <a:pt x="156" y="0"/>
                </a:ln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2" name=""/>
          <p:cNvSpPr/>
          <p:nvPr/>
        </p:nvSpPr>
        <p:spPr>
          <a:xfrm flipH="1">
            <a:off x="5619240" y="5029200"/>
            <a:ext cx="1009800" cy="237960"/>
          </a:xfrm>
          <a:prstGeom prst="line">
            <a:avLst/>
          </a:prstGeom>
          <a:ln w="28440">
            <a:solidFill>
              <a:srgbClr val="ccb3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4962240" y="2171880"/>
            <a:ext cx="438120" cy="819000"/>
          </a:xfrm>
          <a:prstGeom prst="line">
            <a:avLst/>
          </a:prstGeom>
          <a:ln w="28440">
            <a:solidFill>
              <a:srgbClr val="ccb37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4" name=""/>
          <p:cNvSpPr/>
          <p:nvPr/>
        </p:nvSpPr>
        <p:spPr>
          <a:xfrm flipH="1">
            <a:off x="2408400" y="979560"/>
            <a:ext cx="1638000" cy="1104840"/>
          </a:xfrm>
          <a:prstGeom prst="line">
            <a:avLst/>
          </a:prstGeom>
          <a:ln w="28440">
            <a:solidFill>
              <a:srgbClr val="ccb37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5" name=""/>
          <p:cNvSpPr/>
          <p:nvPr/>
        </p:nvSpPr>
        <p:spPr>
          <a:xfrm>
            <a:off x="4600440" y="5829480"/>
            <a:ext cx="27000" cy="487080"/>
          </a:xfrm>
          <a:custGeom>
            <a:avLst/>
            <a:gdLst/>
            <a:ahLst/>
            <a:rect l="l" t="t" r="r" b="b"/>
            <a:pathLst>
              <a:path w="17" h="307">
                <a:moveTo>
                  <a:pt x="0" y="0"/>
                </a:moveTo>
                <a:lnTo>
                  <a:pt x="17" y="307"/>
                </a:lnTo>
              </a:path>
            </a:pathLst>
          </a:custGeom>
          <a:noFill/>
          <a:ln w="3816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6" name=""/>
          <p:cNvSpPr/>
          <p:nvPr/>
        </p:nvSpPr>
        <p:spPr>
          <a:xfrm>
            <a:off x="3048120" y="2371680"/>
            <a:ext cx="685800" cy="1381320"/>
          </a:xfrm>
          <a:custGeom>
            <a:avLst/>
            <a:gdLst/>
            <a:ahLst/>
            <a:rect l="l" t="t" r="r" b="b"/>
            <a:pathLst>
              <a:path w="432" h="870">
                <a:moveTo>
                  <a:pt x="0" y="0"/>
                </a:moveTo>
                <a:lnTo>
                  <a:pt x="6" y="384"/>
                </a:lnTo>
                <a:lnTo>
                  <a:pt x="240" y="684"/>
                </a:lnTo>
                <a:lnTo>
                  <a:pt x="432" y="870"/>
                </a:ln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7" name=""/>
          <p:cNvSpPr/>
          <p:nvPr/>
        </p:nvSpPr>
        <p:spPr>
          <a:xfrm>
            <a:off x="4105440" y="933480"/>
            <a:ext cx="1266840" cy="2438280"/>
          </a:xfrm>
          <a:custGeom>
            <a:avLst/>
            <a:gdLst/>
            <a:ahLst/>
            <a:rect l="l" t="t" r="r" b="b"/>
            <a:pathLst>
              <a:path w="798" h="1536">
                <a:moveTo>
                  <a:pt x="0" y="0"/>
                </a:moveTo>
                <a:lnTo>
                  <a:pt x="282" y="282"/>
                </a:lnTo>
                <a:lnTo>
                  <a:pt x="420" y="528"/>
                </a:lnTo>
                <a:lnTo>
                  <a:pt x="372" y="966"/>
                </a:lnTo>
                <a:lnTo>
                  <a:pt x="540" y="1284"/>
                </a:lnTo>
                <a:lnTo>
                  <a:pt x="690" y="1260"/>
                </a:lnTo>
                <a:lnTo>
                  <a:pt x="798" y="1368"/>
                </a:lnTo>
                <a:lnTo>
                  <a:pt x="738" y="1536"/>
                </a:ln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8" name=""/>
          <p:cNvSpPr/>
          <p:nvPr/>
        </p:nvSpPr>
        <p:spPr>
          <a:xfrm>
            <a:off x="4200480" y="2162160"/>
            <a:ext cx="501840" cy="371520"/>
          </a:xfrm>
          <a:custGeom>
            <a:avLst/>
            <a:gdLst/>
            <a:ahLst/>
            <a:rect l="l" t="t" r="r" b="b"/>
            <a:pathLst>
              <a:path w="316" h="234">
                <a:moveTo>
                  <a:pt x="0" y="0"/>
                </a:moveTo>
                <a:cubicBezTo>
                  <a:pt x="28" y="18"/>
                  <a:pt x="170" y="51"/>
                  <a:pt x="222" y="84"/>
                </a:cubicBezTo>
                <a:cubicBezTo>
                  <a:pt x="274" y="117"/>
                  <a:pt x="316" y="173"/>
                  <a:pt x="312" y="198"/>
                </a:cubicBezTo>
                <a:cubicBezTo>
                  <a:pt x="285" y="206"/>
                  <a:pt x="231" y="234"/>
                  <a:pt x="198" y="234"/>
                </a:cubicBez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9" name=""/>
          <p:cNvSpPr/>
          <p:nvPr/>
        </p:nvSpPr>
        <p:spPr>
          <a:xfrm>
            <a:off x="3781440" y="1378080"/>
            <a:ext cx="749160" cy="631800"/>
          </a:xfrm>
          <a:custGeom>
            <a:avLst/>
            <a:gdLst/>
            <a:ahLst/>
            <a:rect l="l" t="t" r="r" b="b"/>
            <a:pathLst>
              <a:path w="472" h="398">
                <a:moveTo>
                  <a:pt x="472" y="0"/>
                </a:moveTo>
                <a:lnTo>
                  <a:pt x="372" y="200"/>
                </a:lnTo>
                <a:lnTo>
                  <a:pt x="0" y="398"/>
                </a:ln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0" name=""/>
          <p:cNvSpPr/>
          <p:nvPr/>
        </p:nvSpPr>
        <p:spPr>
          <a:xfrm>
            <a:off x="3772080" y="2028960"/>
            <a:ext cx="9360" cy="209520"/>
          </a:xfrm>
          <a:custGeom>
            <a:avLst/>
            <a:gdLst/>
            <a:ahLst/>
            <a:rect l="l" t="t" r="r" b="b"/>
            <a:pathLst>
              <a:path w="6" h="132">
                <a:moveTo>
                  <a:pt x="6" y="0"/>
                </a:moveTo>
                <a:cubicBezTo>
                  <a:pt x="4" y="25"/>
                  <a:pt x="2" y="107"/>
                  <a:pt x="0" y="132"/>
                </a:cubicBez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1" name=""/>
          <p:cNvSpPr/>
          <p:nvPr/>
        </p:nvSpPr>
        <p:spPr>
          <a:xfrm>
            <a:off x="5253120" y="4583160"/>
            <a:ext cx="162000" cy="114120"/>
          </a:xfrm>
          <a:prstGeom prst="line">
            <a:avLst/>
          </a:prstGeom>
          <a:ln w="28440">
            <a:solidFill>
              <a:srgbClr val="ccb37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2" name=""/>
          <p:cNvSpPr/>
          <p:nvPr/>
        </p:nvSpPr>
        <p:spPr>
          <a:xfrm rot="7899000">
            <a:off x="2612160" y="414936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>
              <a:alpha val="25000"/>
            </a:srgbClr>
          </a:solidFill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3" name=""/>
          <p:cNvSpPr/>
          <p:nvPr/>
        </p:nvSpPr>
        <p:spPr>
          <a:xfrm rot="7899000">
            <a:off x="3868560" y="4928760"/>
            <a:ext cx="360360" cy="36072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>
              <a:alpha val="25000"/>
            </a:srgbClr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4" name=""/>
          <p:cNvSpPr/>
          <p:nvPr/>
        </p:nvSpPr>
        <p:spPr>
          <a:xfrm rot="16200000">
            <a:off x="4583160" y="159660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>
              <a:alpha val="25000"/>
            </a:srgbClr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5" name=""/>
          <p:cNvSpPr/>
          <p:nvPr/>
        </p:nvSpPr>
        <p:spPr>
          <a:xfrm>
            <a:off x="3809880" y="5915160"/>
            <a:ext cx="5286600" cy="1573200"/>
          </a:xfrm>
          <a:custGeom>
            <a:avLst/>
            <a:gdLst/>
            <a:ahLst/>
            <a:rect l="l" t="t" r="r" b="b"/>
            <a:pathLst>
              <a:path w="3330" h="991">
                <a:moveTo>
                  <a:pt x="3330" y="348"/>
                </a:moveTo>
                <a:lnTo>
                  <a:pt x="3186" y="138"/>
                </a:lnTo>
                <a:lnTo>
                  <a:pt x="3024" y="18"/>
                </a:lnTo>
                <a:lnTo>
                  <a:pt x="2676" y="0"/>
                </a:lnTo>
                <a:lnTo>
                  <a:pt x="2346" y="12"/>
                </a:lnTo>
                <a:lnTo>
                  <a:pt x="2148" y="108"/>
                </a:lnTo>
                <a:lnTo>
                  <a:pt x="1722" y="162"/>
                </a:lnTo>
                <a:lnTo>
                  <a:pt x="1595" y="255"/>
                </a:lnTo>
                <a:lnTo>
                  <a:pt x="1450" y="351"/>
                </a:lnTo>
                <a:lnTo>
                  <a:pt x="1181" y="584"/>
                </a:lnTo>
                <a:lnTo>
                  <a:pt x="967" y="821"/>
                </a:lnTo>
                <a:lnTo>
                  <a:pt x="743" y="965"/>
                </a:lnTo>
                <a:lnTo>
                  <a:pt x="647" y="991"/>
                </a:lnTo>
                <a:lnTo>
                  <a:pt x="504" y="954"/>
                </a:lnTo>
                <a:lnTo>
                  <a:pt x="317" y="847"/>
                </a:lnTo>
                <a:lnTo>
                  <a:pt x="102" y="697"/>
                </a:lnTo>
                <a:lnTo>
                  <a:pt x="0" y="565"/>
                </a:lnTo>
              </a:path>
            </a:pathLst>
          </a:custGeom>
          <a:noFill/>
          <a:ln w="57240">
            <a:solidFill>
              <a:srgbClr val="d60093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6" name=""/>
          <p:cNvSpPr/>
          <p:nvPr/>
        </p:nvSpPr>
        <p:spPr>
          <a:xfrm>
            <a:off x="3433680" y="6300720"/>
            <a:ext cx="3030480" cy="184320"/>
          </a:xfrm>
          <a:custGeom>
            <a:avLst/>
            <a:gdLst/>
            <a:ahLst/>
            <a:rect l="l" t="t" r="r" b="b"/>
            <a:pathLst>
              <a:path w="2754" h="168">
                <a:moveTo>
                  <a:pt x="2754" y="0"/>
                </a:moveTo>
                <a:lnTo>
                  <a:pt x="2532" y="48"/>
                </a:lnTo>
                <a:lnTo>
                  <a:pt x="2364" y="78"/>
                </a:lnTo>
                <a:lnTo>
                  <a:pt x="2136" y="168"/>
                </a:lnTo>
                <a:lnTo>
                  <a:pt x="1374" y="42"/>
                </a:lnTo>
                <a:lnTo>
                  <a:pt x="1152" y="42"/>
                </a:lnTo>
                <a:lnTo>
                  <a:pt x="924" y="24"/>
                </a:lnTo>
                <a:lnTo>
                  <a:pt x="786" y="42"/>
                </a:lnTo>
                <a:lnTo>
                  <a:pt x="738" y="78"/>
                </a:lnTo>
                <a:lnTo>
                  <a:pt x="624" y="138"/>
                </a:lnTo>
                <a:lnTo>
                  <a:pt x="450" y="144"/>
                </a:lnTo>
                <a:lnTo>
                  <a:pt x="288" y="84"/>
                </a:lnTo>
                <a:lnTo>
                  <a:pt x="156" y="66"/>
                </a:lnTo>
                <a:lnTo>
                  <a:pt x="102" y="90"/>
                </a:lnTo>
                <a:lnTo>
                  <a:pt x="0" y="66"/>
                </a:lnTo>
              </a:path>
            </a:pathLst>
          </a:custGeom>
          <a:noFill/>
          <a:ln w="57240">
            <a:solidFill>
              <a:srgbClr val="ff66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7" name=""/>
          <p:cNvSpPr/>
          <p:nvPr/>
        </p:nvSpPr>
        <p:spPr>
          <a:xfrm>
            <a:off x="3714840" y="838080"/>
            <a:ext cx="5400720" cy="5562720"/>
          </a:xfrm>
          <a:custGeom>
            <a:avLst/>
            <a:gdLst/>
            <a:ahLst/>
            <a:rect l="l" t="t" r="r" b="b"/>
            <a:pathLst>
              <a:path w="3402" h="3504">
                <a:moveTo>
                  <a:pt x="3402" y="3504"/>
                </a:moveTo>
                <a:lnTo>
                  <a:pt x="3312" y="3318"/>
                </a:lnTo>
                <a:lnTo>
                  <a:pt x="3360" y="3120"/>
                </a:lnTo>
                <a:lnTo>
                  <a:pt x="3342" y="2832"/>
                </a:lnTo>
                <a:lnTo>
                  <a:pt x="3222" y="2634"/>
                </a:lnTo>
                <a:lnTo>
                  <a:pt x="3180" y="2454"/>
                </a:lnTo>
                <a:lnTo>
                  <a:pt x="3102" y="2436"/>
                </a:lnTo>
                <a:lnTo>
                  <a:pt x="3096" y="2358"/>
                </a:lnTo>
                <a:lnTo>
                  <a:pt x="3042" y="2316"/>
                </a:lnTo>
                <a:lnTo>
                  <a:pt x="3024" y="2238"/>
                </a:lnTo>
                <a:lnTo>
                  <a:pt x="2982" y="2220"/>
                </a:lnTo>
                <a:lnTo>
                  <a:pt x="2946" y="2148"/>
                </a:lnTo>
                <a:lnTo>
                  <a:pt x="2880" y="2136"/>
                </a:lnTo>
                <a:lnTo>
                  <a:pt x="2874" y="2094"/>
                </a:lnTo>
                <a:lnTo>
                  <a:pt x="2598" y="2106"/>
                </a:lnTo>
                <a:lnTo>
                  <a:pt x="2598" y="2052"/>
                </a:lnTo>
                <a:lnTo>
                  <a:pt x="2508" y="2040"/>
                </a:lnTo>
                <a:lnTo>
                  <a:pt x="2472" y="1986"/>
                </a:lnTo>
                <a:lnTo>
                  <a:pt x="2400" y="1956"/>
                </a:lnTo>
                <a:lnTo>
                  <a:pt x="2358" y="1872"/>
                </a:lnTo>
                <a:lnTo>
                  <a:pt x="2304" y="1830"/>
                </a:lnTo>
                <a:lnTo>
                  <a:pt x="2268" y="1692"/>
                </a:lnTo>
                <a:lnTo>
                  <a:pt x="2100" y="1530"/>
                </a:lnTo>
                <a:lnTo>
                  <a:pt x="1752" y="1464"/>
                </a:lnTo>
                <a:lnTo>
                  <a:pt x="1590" y="1410"/>
                </a:lnTo>
                <a:lnTo>
                  <a:pt x="1584" y="1332"/>
                </a:lnTo>
                <a:lnTo>
                  <a:pt x="1524" y="1308"/>
                </a:lnTo>
                <a:lnTo>
                  <a:pt x="1452" y="1308"/>
                </a:lnTo>
                <a:lnTo>
                  <a:pt x="1434" y="1014"/>
                </a:lnTo>
                <a:lnTo>
                  <a:pt x="1356" y="948"/>
                </a:lnTo>
                <a:lnTo>
                  <a:pt x="1254" y="936"/>
                </a:lnTo>
                <a:lnTo>
                  <a:pt x="1194" y="924"/>
                </a:lnTo>
                <a:cubicBezTo>
                  <a:pt x="1150" y="854"/>
                  <a:pt x="1164" y="881"/>
                  <a:pt x="1146" y="846"/>
                </a:cubicBezTo>
                <a:lnTo>
                  <a:pt x="1038" y="834"/>
                </a:lnTo>
                <a:lnTo>
                  <a:pt x="828" y="606"/>
                </a:lnTo>
                <a:lnTo>
                  <a:pt x="744" y="546"/>
                </a:lnTo>
                <a:lnTo>
                  <a:pt x="660" y="552"/>
                </a:lnTo>
                <a:lnTo>
                  <a:pt x="540" y="312"/>
                </a:lnTo>
                <a:lnTo>
                  <a:pt x="354" y="126"/>
                </a:lnTo>
                <a:lnTo>
                  <a:pt x="186" y="48"/>
                </a:lnTo>
                <a:lnTo>
                  <a:pt x="30" y="36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00ff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68" name=""/>
          <p:cNvGrpSpPr/>
          <p:nvPr/>
        </p:nvGrpSpPr>
        <p:grpSpPr>
          <a:xfrm>
            <a:off x="4436640" y="5140800"/>
            <a:ext cx="4067640" cy="1351440"/>
            <a:chOff x="4436640" y="5140800"/>
            <a:chExt cx="4067640" cy="1351440"/>
          </a:xfrm>
        </p:grpSpPr>
        <p:sp>
          <p:nvSpPr>
            <p:cNvPr id="569" name=""/>
            <p:cNvSpPr/>
            <p:nvPr/>
          </p:nvSpPr>
          <p:spPr>
            <a:xfrm rot="3265200">
              <a:off x="5603400" y="5183640"/>
              <a:ext cx="360360" cy="495360"/>
            </a:xfrm>
            <a:prstGeom prst="leftArrow">
              <a:avLst>
                <a:gd name="adj1" fmla="val 49778"/>
                <a:gd name="adj2" fmla="val 51542"/>
              </a:avLst>
            </a:prstGeom>
            <a:solidFill>
              <a:srgbClr val="ffffff">
                <a:alpha val="50000"/>
              </a:srgbClr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0" name=""/>
            <p:cNvSpPr/>
            <p:nvPr/>
          </p:nvSpPr>
          <p:spPr>
            <a:xfrm rot="5400000">
              <a:off x="4533480" y="5837400"/>
              <a:ext cx="360360" cy="554040"/>
            </a:xfrm>
            <a:prstGeom prst="leftArrow">
              <a:avLst>
                <a:gd name="adj1" fmla="val 49778"/>
                <a:gd name="adj2" fmla="val 51542"/>
              </a:avLst>
            </a:prstGeom>
            <a:solidFill>
              <a:srgbClr val="ffffff">
                <a:alpha val="50000"/>
              </a:srgbClr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4997520" y="5575320"/>
              <a:ext cx="3506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  <a:ea typeface="Arial"/>
                </a:rPr>
                <a:t>Caspian or Russian gas via Greece (TGI or TAP</a:t>
              </a:r>
              <a:br>
                <a:rPr sz="1800"/>
              </a:b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  <a:ea typeface="Arial"/>
                </a:rPr>
                <a:t>or South Stream/’Sud’)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72" name=""/>
          <p:cNvSpPr/>
          <p:nvPr/>
        </p:nvSpPr>
        <p:spPr>
          <a:xfrm>
            <a:off x="2122560" y="4459320"/>
            <a:ext cx="85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utura Md BT"/>
                <a:ea typeface="Arial"/>
              </a:rPr>
              <a:t>LNG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"/>
          <p:cNvSpPr/>
          <p:nvPr/>
        </p:nvSpPr>
        <p:spPr>
          <a:xfrm>
            <a:off x="752400" y="3267000"/>
            <a:ext cx="160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utura Md BT"/>
                <a:ea typeface="Arial"/>
              </a:rPr>
              <a:t>Mix of gas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utura Md BT"/>
                <a:ea typeface="Arial"/>
              </a:rPr>
              <a:t>via Croa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"/>
          <p:cNvSpPr/>
          <p:nvPr/>
        </p:nvSpPr>
        <p:spPr>
          <a:xfrm>
            <a:off x="3063960" y="5199120"/>
            <a:ext cx="14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utura Md BT"/>
                <a:ea typeface="Arial"/>
              </a:rPr>
              <a:t>Offshore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"/>
          <p:cNvSpPr/>
          <p:nvPr/>
        </p:nvSpPr>
        <p:spPr>
          <a:xfrm>
            <a:off x="3265560" y="809640"/>
            <a:ext cx="160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utura Md BT"/>
                <a:ea typeface="Arial"/>
              </a:rPr>
              <a:t>Russian gas via Hungary and Serbia or Croa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6" name=""/>
          <p:cNvSpPr/>
          <p:nvPr/>
        </p:nvSpPr>
        <p:spPr>
          <a:xfrm>
            <a:off x="1036800" y="2163600"/>
            <a:ext cx="8073720" cy="870120"/>
          </a:xfrm>
          <a:custGeom>
            <a:avLst/>
            <a:gdLst/>
            <a:ahLst/>
            <a:rect l="l" t="t" r="r" b="b"/>
            <a:pathLst>
              <a:path w="5086" h="548">
                <a:moveTo>
                  <a:pt x="5086" y="463"/>
                </a:moveTo>
                <a:lnTo>
                  <a:pt x="4503" y="541"/>
                </a:lnTo>
                <a:lnTo>
                  <a:pt x="3843" y="548"/>
                </a:lnTo>
                <a:lnTo>
                  <a:pt x="3091" y="477"/>
                </a:lnTo>
                <a:lnTo>
                  <a:pt x="2466" y="520"/>
                </a:lnTo>
                <a:lnTo>
                  <a:pt x="2206" y="414"/>
                </a:lnTo>
                <a:lnTo>
                  <a:pt x="1312" y="270"/>
                </a:lnTo>
                <a:lnTo>
                  <a:pt x="1171" y="225"/>
                </a:lnTo>
                <a:lnTo>
                  <a:pt x="941" y="148"/>
                </a:lnTo>
                <a:lnTo>
                  <a:pt x="633" y="175"/>
                </a:lnTo>
                <a:lnTo>
                  <a:pt x="239" y="154"/>
                </a:lnTo>
                <a:lnTo>
                  <a:pt x="0" y="140"/>
                </a:lnTo>
                <a:lnTo>
                  <a:pt x="14" y="0"/>
                </a:lnTo>
              </a:path>
            </a:pathLst>
          </a:custGeom>
          <a:noFill/>
          <a:ln w="76320">
            <a:solidFill>
              <a:srgbClr val="b5e0e3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7" name=""/>
          <p:cNvGrpSpPr/>
          <p:nvPr/>
        </p:nvGrpSpPr>
        <p:grpSpPr>
          <a:xfrm>
            <a:off x="4839120" y="1660680"/>
            <a:ext cx="2712600" cy="1297440"/>
            <a:chOff x="4839120" y="1660680"/>
            <a:chExt cx="2712600" cy="1297440"/>
          </a:xfrm>
        </p:grpSpPr>
        <p:sp>
          <p:nvSpPr>
            <p:cNvPr id="578" name=""/>
            <p:cNvSpPr/>
            <p:nvPr/>
          </p:nvSpPr>
          <p:spPr>
            <a:xfrm rot="18088800">
              <a:off x="4906440" y="2530080"/>
              <a:ext cx="360360" cy="360360"/>
            </a:xfrm>
            <a:prstGeom prst="leftArrow">
              <a:avLst>
                <a:gd name="adj1" fmla="val 49778"/>
                <a:gd name="adj2" fmla="val 51542"/>
              </a:avLst>
            </a:prstGeom>
            <a:solidFill>
              <a:srgbClr val="ffffff">
                <a:alpha val="50000"/>
              </a:srgbClr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248440" y="1660680"/>
              <a:ext cx="2303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  <a:ea typeface="Arial"/>
                </a:rPr>
                <a:t>Caspian gas via Romania (Nabucco)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0" name=""/>
          <p:cNvSpPr/>
          <p:nvPr/>
        </p:nvSpPr>
        <p:spPr>
          <a:xfrm>
            <a:off x="1076400" y="1476360"/>
            <a:ext cx="8067600" cy="3809880"/>
          </a:xfrm>
          <a:custGeom>
            <a:avLst/>
            <a:gdLst/>
            <a:ahLst/>
            <a:rect l="l" t="t" r="r" b="b"/>
            <a:pathLst>
              <a:path w="5082" h="2400">
                <a:moveTo>
                  <a:pt x="5082" y="2400"/>
                </a:moveTo>
                <a:lnTo>
                  <a:pt x="4764" y="2040"/>
                </a:lnTo>
                <a:lnTo>
                  <a:pt x="4404" y="2094"/>
                </a:lnTo>
                <a:lnTo>
                  <a:pt x="3924" y="2298"/>
                </a:lnTo>
                <a:lnTo>
                  <a:pt x="3468" y="2238"/>
                </a:lnTo>
                <a:lnTo>
                  <a:pt x="2988" y="1692"/>
                </a:lnTo>
                <a:lnTo>
                  <a:pt x="2436" y="942"/>
                </a:lnTo>
                <a:lnTo>
                  <a:pt x="2237" y="842"/>
                </a:lnTo>
                <a:lnTo>
                  <a:pt x="1315" y="695"/>
                </a:lnTo>
                <a:lnTo>
                  <a:pt x="1174" y="650"/>
                </a:lnTo>
                <a:lnTo>
                  <a:pt x="944" y="573"/>
                </a:lnTo>
                <a:lnTo>
                  <a:pt x="804" y="390"/>
                </a:lnTo>
                <a:lnTo>
                  <a:pt x="318" y="246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66ff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1" name=""/>
          <p:cNvGrpSpPr/>
          <p:nvPr/>
        </p:nvGrpSpPr>
        <p:grpSpPr>
          <a:xfrm>
            <a:off x="5084640" y="2763720"/>
            <a:ext cx="4081680" cy="809280"/>
            <a:chOff x="5084640" y="2763720"/>
            <a:chExt cx="4081680" cy="809280"/>
          </a:xfrm>
        </p:grpSpPr>
        <p:sp>
          <p:nvSpPr>
            <p:cNvPr id="582" name=""/>
            <p:cNvSpPr/>
            <p:nvPr/>
          </p:nvSpPr>
          <p:spPr>
            <a:xfrm rot="21112200">
              <a:off x="5108040" y="2787480"/>
              <a:ext cx="360360" cy="360360"/>
            </a:xfrm>
            <a:prstGeom prst="leftArrow">
              <a:avLst>
                <a:gd name="adj1" fmla="val 49778"/>
                <a:gd name="adj2" fmla="val 51542"/>
              </a:avLst>
            </a:prstGeom>
            <a:solidFill>
              <a:srgbClr val="ffffff">
                <a:alpha val="50000"/>
              </a:srgbClr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389560" y="2930400"/>
              <a:ext cx="3776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  <a:ea typeface="Arial"/>
                </a:rPr>
                <a:t>Caspian gas via Romania (White Stream &amp; PEGP)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4" name=""/>
          <p:cNvGrpSpPr/>
          <p:nvPr/>
        </p:nvGrpSpPr>
        <p:grpSpPr>
          <a:xfrm>
            <a:off x="5733720" y="3957480"/>
            <a:ext cx="3610440" cy="1191240"/>
            <a:chOff x="5733720" y="3957480"/>
            <a:chExt cx="3610440" cy="1191240"/>
          </a:xfrm>
        </p:grpSpPr>
        <p:sp>
          <p:nvSpPr>
            <p:cNvPr id="585" name=""/>
            <p:cNvSpPr/>
            <p:nvPr/>
          </p:nvSpPr>
          <p:spPr>
            <a:xfrm rot="2715000">
              <a:off x="5808240" y="4192560"/>
              <a:ext cx="360360" cy="360360"/>
            </a:xfrm>
            <a:prstGeom prst="leftArrow">
              <a:avLst>
                <a:gd name="adj1" fmla="val 49778"/>
                <a:gd name="adj2" fmla="val 51542"/>
              </a:avLst>
            </a:prstGeom>
            <a:solidFill>
              <a:srgbClr val="ffffff">
                <a:alpha val="50000"/>
              </a:srgbClr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478560" y="3957480"/>
              <a:ext cx="28656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  <a:ea typeface="Arial"/>
                </a:rPr>
                <a:t>Russian gas</a:t>
              </a:r>
              <a:br>
                <a:rPr sz="1800"/>
              </a:b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  <a:ea typeface="Arial"/>
                </a:rPr>
                <a:t>via Bulgaria </a:t>
              </a:r>
              <a:br>
                <a:rPr sz="1800"/>
              </a:b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  <a:ea typeface="Arial"/>
                </a:rPr>
                <a:t>(Blue Stream or </a:t>
              </a:r>
              <a:br>
                <a:rPr sz="1800"/>
              </a:b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  <a:ea typeface="Arial"/>
                </a:rPr>
                <a:t>South Stream/ ’Nord’)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7" name=""/>
          <p:cNvSpPr/>
          <p:nvPr/>
        </p:nvSpPr>
        <p:spPr>
          <a:xfrm rot="7899000">
            <a:off x="1310400" y="244116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>
              <a:alpha val="25000"/>
            </a:srgbClr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8" name=""/>
          <p:cNvSpPr/>
          <p:nvPr/>
        </p:nvSpPr>
        <p:spPr>
          <a:xfrm>
            <a:off x="820800" y="2751120"/>
            <a:ext cx="85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utura Md BT"/>
                <a:ea typeface="Arial"/>
              </a:rPr>
              <a:t>LNG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9" name=""/>
          <p:cNvSpPr/>
          <p:nvPr/>
        </p:nvSpPr>
        <p:spPr>
          <a:xfrm rot="10800000">
            <a:off x="4146120" y="560196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>
              <a:alpha val="25000"/>
            </a:srgbClr>
          </a:solidFill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0" name=""/>
          <p:cNvSpPr/>
          <p:nvPr/>
        </p:nvSpPr>
        <p:spPr>
          <a:xfrm>
            <a:off x="3362400" y="5756400"/>
            <a:ext cx="85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utura Md BT"/>
                <a:ea typeface="Arial"/>
              </a:rPr>
              <a:t>LNG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1" name=""/>
          <p:cNvSpPr/>
          <p:nvPr/>
        </p:nvSpPr>
        <p:spPr>
          <a:xfrm rot="15265800">
            <a:off x="2041560" y="340956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>
              <a:alpha val="25000"/>
            </a:srgbClr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2" name=""/>
          <p:cNvSpPr/>
          <p:nvPr/>
        </p:nvSpPr>
        <p:spPr>
          <a:xfrm>
            <a:off x="3454560" y="2987640"/>
            <a:ext cx="1511280" cy="793800"/>
          </a:xfrm>
          <a:custGeom>
            <a:avLst/>
            <a:gdLst/>
            <a:ahLst/>
            <a:rect l="l" t="t" r="r" b="b"/>
            <a:pathLst>
              <a:path w="952" h="500">
                <a:moveTo>
                  <a:pt x="952" y="0"/>
                </a:moveTo>
                <a:lnTo>
                  <a:pt x="184" y="500"/>
                </a:lnTo>
                <a:lnTo>
                  <a:pt x="0" y="300"/>
                </a:ln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3" name=""/>
          <p:cNvSpPr/>
          <p:nvPr/>
        </p:nvSpPr>
        <p:spPr>
          <a:xfrm>
            <a:off x="1805040" y="2387520"/>
            <a:ext cx="4043160" cy="3441960"/>
          </a:xfrm>
          <a:custGeom>
            <a:avLst/>
            <a:gdLst/>
            <a:ahLst/>
            <a:rect l="l" t="t" r="r" b="b"/>
            <a:pathLst>
              <a:path w="2547" h="2168">
                <a:moveTo>
                  <a:pt x="1759" y="2168"/>
                </a:moveTo>
                <a:lnTo>
                  <a:pt x="1646" y="1772"/>
                </a:lnTo>
                <a:lnTo>
                  <a:pt x="1556" y="1585"/>
                </a:lnTo>
                <a:lnTo>
                  <a:pt x="1459" y="1473"/>
                </a:lnTo>
                <a:cubicBezTo>
                  <a:pt x="1412" y="1472"/>
                  <a:pt x="1369" y="1466"/>
                  <a:pt x="1272" y="1578"/>
                </a:cubicBezTo>
                <a:cubicBezTo>
                  <a:pt x="1092" y="1439"/>
                  <a:pt x="913" y="1301"/>
                  <a:pt x="913" y="1301"/>
                </a:cubicBezTo>
                <a:lnTo>
                  <a:pt x="658" y="1054"/>
                </a:lnTo>
                <a:lnTo>
                  <a:pt x="409" y="997"/>
                </a:lnTo>
                <a:lnTo>
                  <a:pt x="292" y="875"/>
                </a:lnTo>
                <a:lnTo>
                  <a:pt x="234" y="778"/>
                </a:lnTo>
                <a:lnTo>
                  <a:pt x="241" y="610"/>
                </a:lnTo>
                <a:lnTo>
                  <a:pt x="37" y="377"/>
                </a:lnTo>
                <a:lnTo>
                  <a:pt x="102" y="253"/>
                </a:lnTo>
                <a:lnTo>
                  <a:pt x="0" y="30"/>
                </a:lnTo>
                <a:lnTo>
                  <a:pt x="501" y="0"/>
                </a:lnTo>
                <a:lnTo>
                  <a:pt x="808" y="119"/>
                </a:lnTo>
                <a:lnTo>
                  <a:pt x="1691" y="254"/>
                </a:lnTo>
                <a:lnTo>
                  <a:pt x="1987" y="364"/>
                </a:lnTo>
                <a:lnTo>
                  <a:pt x="2547" y="1128"/>
                </a:lnTo>
                <a:lnTo>
                  <a:pt x="2271" y="1472"/>
                </a:lnTo>
                <a:lnTo>
                  <a:pt x="2371" y="1720"/>
                </a:lnTo>
                <a:lnTo>
                  <a:pt x="2391" y="1816"/>
                </a:lnTo>
                <a:lnTo>
                  <a:pt x="1759" y="2168"/>
                </a:lnTo>
                <a:close/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4" name=""/>
          <p:cNvSpPr/>
          <p:nvPr/>
        </p:nvSpPr>
        <p:spPr>
          <a:xfrm>
            <a:off x="153360" y="4952880"/>
            <a:ext cx="228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3399"/>
                </a:solidFill>
                <a:latin typeface="Times New Roman"/>
              </a:rPr>
              <a:t>Concept 2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5" name=""/>
          <p:cNvSpPr/>
          <p:nvPr/>
        </p:nvSpPr>
        <p:spPr>
          <a:xfrm>
            <a:off x="228600" y="5029200"/>
            <a:ext cx="2209680" cy="609480"/>
          </a:xfrm>
          <a:prstGeom prst="rect">
            <a:avLst/>
          </a:prstGeom>
          <a:solidFill>
            <a:srgbClr val="003399">
              <a:alpha val="20000"/>
            </a:srgbClr>
          </a:solidFill>
          <a:ln w="22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E82C97-25BD-440D-99EF-06CAEE3819A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6" name="" descr=""/>
          <p:cNvPicPr/>
          <p:nvPr/>
        </p:nvPicPr>
        <p:blipFill>
          <a:blip r:embed="rId1"/>
          <a:stretch/>
        </p:blipFill>
        <p:spPr>
          <a:xfrm>
            <a:off x="0" y="903240"/>
            <a:ext cx="9144000" cy="5954760"/>
          </a:xfrm>
          <a:prstGeom prst="rect">
            <a:avLst/>
          </a:prstGeom>
          <a:ln w="0">
            <a:noFill/>
          </a:ln>
        </p:spPr>
      </p:pic>
      <p:sp>
        <p:nvSpPr>
          <p:cNvPr id="597" name=""/>
          <p:cNvSpPr/>
          <p:nvPr/>
        </p:nvSpPr>
        <p:spPr>
          <a:xfrm rot="20718600">
            <a:off x="6086520" y="494316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"/>
          <p:cNvSpPr/>
          <p:nvPr/>
        </p:nvSpPr>
        <p:spPr>
          <a:xfrm rot="16200000">
            <a:off x="3594240" y="184608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ffff">
              <a:alpha val="50000"/>
            </a:srgbClr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"/>
          <p:cNvSpPr/>
          <p:nvPr/>
        </p:nvSpPr>
        <p:spPr>
          <a:xfrm rot="16200000">
            <a:off x="2106720" y="138708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"/>
          <p:cNvSpPr/>
          <p:nvPr/>
        </p:nvSpPr>
        <p:spPr>
          <a:xfrm>
            <a:off x="0" y="905040"/>
            <a:ext cx="9144000" cy="5952960"/>
          </a:xfrm>
          <a:prstGeom prst="rect">
            <a:avLst/>
          </a:prstGeom>
          <a:solidFill>
            <a:srgbClr val="969696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1" name=""/>
          <p:cNvGrpSpPr/>
          <p:nvPr/>
        </p:nvGrpSpPr>
        <p:grpSpPr>
          <a:xfrm>
            <a:off x="4014720" y="1836720"/>
            <a:ext cx="2490840" cy="3594240"/>
            <a:chOff x="4014720" y="1836720"/>
            <a:chExt cx="2490840" cy="3594240"/>
          </a:xfrm>
        </p:grpSpPr>
        <p:sp>
          <p:nvSpPr>
            <p:cNvPr id="602" name=""/>
            <p:cNvSpPr/>
            <p:nvPr/>
          </p:nvSpPr>
          <p:spPr>
            <a:xfrm>
              <a:off x="4014720" y="1836720"/>
              <a:ext cx="2490840" cy="3187800"/>
            </a:xfrm>
            <a:custGeom>
              <a:avLst/>
              <a:gdLst/>
              <a:ahLst/>
              <a:rect l="l" t="t" r="r" b="b"/>
              <a:pathLst>
                <a:path w="1569" h="2008">
                  <a:moveTo>
                    <a:pt x="377" y="1599"/>
                  </a:moveTo>
                  <a:lnTo>
                    <a:pt x="365" y="1605"/>
                  </a:lnTo>
                  <a:lnTo>
                    <a:pt x="350" y="1586"/>
                  </a:lnTo>
                  <a:lnTo>
                    <a:pt x="335" y="1560"/>
                  </a:lnTo>
                  <a:lnTo>
                    <a:pt x="323" y="1571"/>
                  </a:lnTo>
                  <a:lnTo>
                    <a:pt x="296" y="1560"/>
                  </a:lnTo>
                  <a:lnTo>
                    <a:pt x="281" y="1533"/>
                  </a:lnTo>
                  <a:lnTo>
                    <a:pt x="254" y="1524"/>
                  </a:lnTo>
                  <a:lnTo>
                    <a:pt x="253" y="1500"/>
                  </a:lnTo>
                  <a:lnTo>
                    <a:pt x="224" y="1476"/>
                  </a:lnTo>
                  <a:lnTo>
                    <a:pt x="213" y="1447"/>
                  </a:lnTo>
                  <a:lnTo>
                    <a:pt x="187" y="1445"/>
                  </a:lnTo>
                  <a:lnTo>
                    <a:pt x="173" y="1427"/>
                  </a:lnTo>
                  <a:lnTo>
                    <a:pt x="142" y="1419"/>
                  </a:lnTo>
                  <a:lnTo>
                    <a:pt x="130" y="1388"/>
                  </a:lnTo>
                  <a:lnTo>
                    <a:pt x="152" y="1386"/>
                  </a:lnTo>
                  <a:lnTo>
                    <a:pt x="160" y="1350"/>
                  </a:lnTo>
                  <a:lnTo>
                    <a:pt x="197" y="1347"/>
                  </a:lnTo>
                  <a:lnTo>
                    <a:pt x="220" y="1380"/>
                  </a:lnTo>
                  <a:lnTo>
                    <a:pt x="235" y="1358"/>
                  </a:lnTo>
                  <a:lnTo>
                    <a:pt x="253" y="1359"/>
                  </a:lnTo>
                  <a:lnTo>
                    <a:pt x="250" y="1328"/>
                  </a:lnTo>
                  <a:lnTo>
                    <a:pt x="266" y="1313"/>
                  </a:lnTo>
                  <a:lnTo>
                    <a:pt x="257" y="1293"/>
                  </a:lnTo>
                  <a:lnTo>
                    <a:pt x="250" y="1272"/>
                  </a:lnTo>
                  <a:lnTo>
                    <a:pt x="245" y="1267"/>
                  </a:lnTo>
                  <a:lnTo>
                    <a:pt x="247" y="1257"/>
                  </a:lnTo>
                  <a:lnTo>
                    <a:pt x="229" y="1245"/>
                  </a:lnTo>
                  <a:lnTo>
                    <a:pt x="202" y="1216"/>
                  </a:lnTo>
                  <a:lnTo>
                    <a:pt x="160" y="1162"/>
                  </a:lnTo>
                  <a:lnTo>
                    <a:pt x="155" y="1136"/>
                  </a:lnTo>
                  <a:lnTo>
                    <a:pt x="177" y="1139"/>
                  </a:lnTo>
                  <a:lnTo>
                    <a:pt x="200" y="1151"/>
                  </a:lnTo>
                  <a:lnTo>
                    <a:pt x="221" y="1155"/>
                  </a:lnTo>
                  <a:lnTo>
                    <a:pt x="240" y="1158"/>
                  </a:lnTo>
                  <a:lnTo>
                    <a:pt x="259" y="1159"/>
                  </a:lnTo>
                  <a:lnTo>
                    <a:pt x="277" y="1139"/>
                  </a:lnTo>
                  <a:lnTo>
                    <a:pt x="293" y="1128"/>
                  </a:lnTo>
                  <a:lnTo>
                    <a:pt x="295" y="1113"/>
                  </a:lnTo>
                  <a:lnTo>
                    <a:pt x="291" y="1102"/>
                  </a:lnTo>
                  <a:lnTo>
                    <a:pt x="245" y="1071"/>
                  </a:lnTo>
                  <a:lnTo>
                    <a:pt x="201" y="1027"/>
                  </a:lnTo>
                  <a:lnTo>
                    <a:pt x="153" y="1006"/>
                  </a:lnTo>
                  <a:lnTo>
                    <a:pt x="121" y="992"/>
                  </a:lnTo>
                  <a:lnTo>
                    <a:pt x="108" y="975"/>
                  </a:lnTo>
                  <a:lnTo>
                    <a:pt x="100" y="954"/>
                  </a:lnTo>
                  <a:lnTo>
                    <a:pt x="102" y="939"/>
                  </a:lnTo>
                  <a:lnTo>
                    <a:pt x="122" y="911"/>
                  </a:lnTo>
                  <a:lnTo>
                    <a:pt x="111" y="865"/>
                  </a:lnTo>
                  <a:lnTo>
                    <a:pt x="129" y="842"/>
                  </a:lnTo>
                  <a:lnTo>
                    <a:pt x="168" y="773"/>
                  </a:lnTo>
                  <a:lnTo>
                    <a:pt x="185" y="750"/>
                  </a:lnTo>
                  <a:lnTo>
                    <a:pt x="192" y="735"/>
                  </a:lnTo>
                  <a:lnTo>
                    <a:pt x="198" y="686"/>
                  </a:lnTo>
                  <a:lnTo>
                    <a:pt x="197" y="666"/>
                  </a:lnTo>
                  <a:lnTo>
                    <a:pt x="176" y="659"/>
                  </a:lnTo>
                  <a:lnTo>
                    <a:pt x="144" y="657"/>
                  </a:lnTo>
                  <a:lnTo>
                    <a:pt x="127" y="653"/>
                  </a:lnTo>
                  <a:lnTo>
                    <a:pt x="102" y="664"/>
                  </a:lnTo>
                  <a:lnTo>
                    <a:pt x="78" y="676"/>
                  </a:lnTo>
                  <a:lnTo>
                    <a:pt x="72" y="667"/>
                  </a:lnTo>
                  <a:lnTo>
                    <a:pt x="82" y="657"/>
                  </a:lnTo>
                  <a:lnTo>
                    <a:pt x="110" y="647"/>
                  </a:lnTo>
                  <a:lnTo>
                    <a:pt x="134" y="639"/>
                  </a:lnTo>
                  <a:lnTo>
                    <a:pt x="128" y="625"/>
                  </a:lnTo>
                  <a:lnTo>
                    <a:pt x="96" y="625"/>
                  </a:lnTo>
                  <a:lnTo>
                    <a:pt x="105" y="600"/>
                  </a:lnTo>
                  <a:lnTo>
                    <a:pt x="99" y="564"/>
                  </a:lnTo>
                  <a:lnTo>
                    <a:pt x="102" y="539"/>
                  </a:lnTo>
                  <a:lnTo>
                    <a:pt x="130" y="543"/>
                  </a:lnTo>
                  <a:lnTo>
                    <a:pt x="142" y="517"/>
                  </a:lnTo>
                  <a:lnTo>
                    <a:pt x="136" y="501"/>
                  </a:lnTo>
                  <a:lnTo>
                    <a:pt x="155" y="511"/>
                  </a:lnTo>
                  <a:lnTo>
                    <a:pt x="176" y="505"/>
                  </a:lnTo>
                  <a:lnTo>
                    <a:pt x="193" y="516"/>
                  </a:lnTo>
                  <a:lnTo>
                    <a:pt x="213" y="518"/>
                  </a:lnTo>
                  <a:lnTo>
                    <a:pt x="216" y="494"/>
                  </a:lnTo>
                  <a:lnTo>
                    <a:pt x="217" y="489"/>
                  </a:lnTo>
                  <a:lnTo>
                    <a:pt x="207" y="487"/>
                  </a:lnTo>
                  <a:lnTo>
                    <a:pt x="193" y="491"/>
                  </a:lnTo>
                  <a:lnTo>
                    <a:pt x="183" y="489"/>
                  </a:lnTo>
                  <a:lnTo>
                    <a:pt x="168" y="483"/>
                  </a:lnTo>
                  <a:lnTo>
                    <a:pt x="158" y="481"/>
                  </a:lnTo>
                  <a:lnTo>
                    <a:pt x="135" y="468"/>
                  </a:lnTo>
                  <a:lnTo>
                    <a:pt x="112" y="456"/>
                  </a:lnTo>
                  <a:lnTo>
                    <a:pt x="102" y="454"/>
                  </a:lnTo>
                  <a:lnTo>
                    <a:pt x="109" y="435"/>
                  </a:lnTo>
                  <a:lnTo>
                    <a:pt x="73" y="423"/>
                  </a:lnTo>
                  <a:lnTo>
                    <a:pt x="54" y="408"/>
                  </a:lnTo>
                  <a:lnTo>
                    <a:pt x="83" y="396"/>
                  </a:lnTo>
                  <a:lnTo>
                    <a:pt x="67" y="380"/>
                  </a:lnTo>
                  <a:lnTo>
                    <a:pt x="70" y="360"/>
                  </a:lnTo>
                  <a:lnTo>
                    <a:pt x="66" y="350"/>
                  </a:lnTo>
                  <a:lnTo>
                    <a:pt x="85" y="352"/>
                  </a:lnTo>
                  <a:lnTo>
                    <a:pt x="100" y="349"/>
                  </a:lnTo>
                  <a:lnTo>
                    <a:pt x="91" y="338"/>
                  </a:lnTo>
                  <a:lnTo>
                    <a:pt x="64" y="320"/>
                  </a:lnTo>
                  <a:lnTo>
                    <a:pt x="54" y="323"/>
                  </a:lnTo>
                  <a:lnTo>
                    <a:pt x="43" y="332"/>
                  </a:lnTo>
                  <a:lnTo>
                    <a:pt x="39" y="322"/>
                  </a:lnTo>
                  <a:lnTo>
                    <a:pt x="32" y="309"/>
                  </a:lnTo>
                  <a:lnTo>
                    <a:pt x="35" y="299"/>
                  </a:lnTo>
                  <a:lnTo>
                    <a:pt x="44" y="282"/>
                  </a:lnTo>
                  <a:lnTo>
                    <a:pt x="52" y="259"/>
                  </a:lnTo>
                  <a:lnTo>
                    <a:pt x="34" y="233"/>
                  </a:lnTo>
                  <a:lnTo>
                    <a:pt x="24" y="197"/>
                  </a:lnTo>
                  <a:lnTo>
                    <a:pt x="18" y="177"/>
                  </a:lnTo>
                  <a:lnTo>
                    <a:pt x="0" y="152"/>
                  </a:lnTo>
                  <a:lnTo>
                    <a:pt x="8" y="140"/>
                  </a:lnTo>
                  <a:lnTo>
                    <a:pt x="35" y="132"/>
                  </a:lnTo>
                  <a:lnTo>
                    <a:pt x="61" y="134"/>
                  </a:lnTo>
                  <a:lnTo>
                    <a:pt x="73" y="114"/>
                  </a:lnTo>
                  <a:lnTo>
                    <a:pt x="100" y="111"/>
                  </a:lnTo>
                  <a:lnTo>
                    <a:pt x="98" y="90"/>
                  </a:lnTo>
                  <a:lnTo>
                    <a:pt x="113" y="72"/>
                  </a:lnTo>
                  <a:lnTo>
                    <a:pt x="117" y="91"/>
                  </a:lnTo>
                  <a:lnTo>
                    <a:pt x="149" y="96"/>
                  </a:lnTo>
                  <a:lnTo>
                    <a:pt x="184" y="93"/>
                  </a:lnTo>
                  <a:lnTo>
                    <a:pt x="178" y="83"/>
                  </a:lnTo>
                  <a:lnTo>
                    <a:pt x="202" y="71"/>
                  </a:lnTo>
                  <a:lnTo>
                    <a:pt x="224" y="66"/>
                  </a:lnTo>
                  <a:lnTo>
                    <a:pt x="224" y="74"/>
                  </a:lnTo>
                  <a:lnTo>
                    <a:pt x="248" y="44"/>
                  </a:lnTo>
                  <a:lnTo>
                    <a:pt x="262" y="33"/>
                  </a:lnTo>
                  <a:lnTo>
                    <a:pt x="250" y="23"/>
                  </a:lnTo>
                  <a:lnTo>
                    <a:pt x="278" y="5"/>
                  </a:lnTo>
                  <a:lnTo>
                    <a:pt x="295" y="9"/>
                  </a:lnTo>
                  <a:lnTo>
                    <a:pt x="313" y="0"/>
                  </a:lnTo>
                  <a:lnTo>
                    <a:pt x="326" y="2"/>
                  </a:lnTo>
                  <a:lnTo>
                    <a:pt x="341" y="15"/>
                  </a:lnTo>
                  <a:lnTo>
                    <a:pt x="368" y="29"/>
                  </a:lnTo>
                  <a:lnTo>
                    <a:pt x="394" y="12"/>
                  </a:lnTo>
                  <a:lnTo>
                    <a:pt x="424" y="3"/>
                  </a:lnTo>
                  <a:lnTo>
                    <a:pt x="449" y="23"/>
                  </a:lnTo>
                  <a:lnTo>
                    <a:pt x="461" y="0"/>
                  </a:lnTo>
                  <a:lnTo>
                    <a:pt x="487" y="20"/>
                  </a:lnTo>
                  <a:lnTo>
                    <a:pt x="514" y="12"/>
                  </a:lnTo>
                  <a:lnTo>
                    <a:pt x="514" y="15"/>
                  </a:lnTo>
                  <a:lnTo>
                    <a:pt x="535" y="43"/>
                  </a:lnTo>
                  <a:lnTo>
                    <a:pt x="552" y="69"/>
                  </a:lnTo>
                  <a:lnTo>
                    <a:pt x="565" y="86"/>
                  </a:lnTo>
                  <a:lnTo>
                    <a:pt x="609" y="127"/>
                  </a:lnTo>
                  <a:lnTo>
                    <a:pt x="625" y="119"/>
                  </a:lnTo>
                  <a:lnTo>
                    <a:pt x="644" y="131"/>
                  </a:lnTo>
                  <a:lnTo>
                    <a:pt x="664" y="164"/>
                  </a:lnTo>
                  <a:lnTo>
                    <a:pt x="666" y="184"/>
                  </a:lnTo>
                  <a:lnTo>
                    <a:pt x="688" y="211"/>
                  </a:lnTo>
                  <a:lnTo>
                    <a:pt x="698" y="212"/>
                  </a:lnTo>
                  <a:lnTo>
                    <a:pt x="711" y="195"/>
                  </a:lnTo>
                  <a:lnTo>
                    <a:pt x="725" y="209"/>
                  </a:lnTo>
                  <a:lnTo>
                    <a:pt x="718" y="255"/>
                  </a:lnTo>
                  <a:lnTo>
                    <a:pt x="713" y="270"/>
                  </a:lnTo>
                  <a:lnTo>
                    <a:pt x="703" y="284"/>
                  </a:lnTo>
                  <a:lnTo>
                    <a:pt x="718" y="305"/>
                  </a:lnTo>
                  <a:lnTo>
                    <a:pt x="736" y="325"/>
                  </a:lnTo>
                  <a:lnTo>
                    <a:pt x="721" y="350"/>
                  </a:lnTo>
                  <a:lnTo>
                    <a:pt x="746" y="369"/>
                  </a:lnTo>
                  <a:lnTo>
                    <a:pt x="758" y="391"/>
                  </a:lnTo>
                  <a:lnTo>
                    <a:pt x="787" y="414"/>
                  </a:lnTo>
                  <a:lnTo>
                    <a:pt x="810" y="436"/>
                  </a:lnTo>
                  <a:lnTo>
                    <a:pt x="852" y="451"/>
                  </a:lnTo>
                  <a:lnTo>
                    <a:pt x="864" y="439"/>
                  </a:lnTo>
                  <a:lnTo>
                    <a:pt x="874" y="473"/>
                  </a:lnTo>
                  <a:lnTo>
                    <a:pt x="910" y="489"/>
                  </a:lnTo>
                  <a:lnTo>
                    <a:pt x="928" y="481"/>
                  </a:lnTo>
                  <a:lnTo>
                    <a:pt x="948" y="484"/>
                  </a:lnTo>
                  <a:lnTo>
                    <a:pt x="972" y="497"/>
                  </a:lnTo>
                  <a:lnTo>
                    <a:pt x="976" y="497"/>
                  </a:lnTo>
                  <a:lnTo>
                    <a:pt x="993" y="523"/>
                  </a:lnTo>
                  <a:lnTo>
                    <a:pt x="963" y="570"/>
                  </a:lnTo>
                  <a:lnTo>
                    <a:pt x="940" y="592"/>
                  </a:lnTo>
                  <a:lnTo>
                    <a:pt x="958" y="610"/>
                  </a:lnTo>
                  <a:lnTo>
                    <a:pt x="960" y="620"/>
                  </a:lnTo>
                  <a:lnTo>
                    <a:pt x="972" y="611"/>
                  </a:lnTo>
                  <a:lnTo>
                    <a:pt x="982" y="613"/>
                  </a:lnTo>
                  <a:lnTo>
                    <a:pt x="1005" y="626"/>
                  </a:lnTo>
                  <a:lnTo>
                    <a:pt x="1008" y="640"/>
                  </a:lnTo>
                  <a:lnTo>
                    <a:pt x="1007" y="650"/>
                  </a:lnTo>
                  <a:lnTo>
                    <a:pt x="991" y="658"/>
                  </a:lnTo>
                  <a:lnTo>
                    <a:pt x="981" y="662"/>
                  </a:lnTo>
                  <a:lnTo>
                    <a:pt x="976" y="661"/>
                  </a:lnTo>
                  <a:lnTo>
                    <a:pt x="956" y="659"/>
                  </a:lnTo>
                  <a:lnTo>
                    <a:pt x="941" y="667"/>
                  </a:lnTo>
                  <a:lnTo>
                    <a:pt x="938" y="692"/>
                  </a:lnTo>
                  <a:lnTo>
                    <a:pt x="950" y="708"/>
                  </a:lnTo>
                  <a:lnTo>
                    <a:pt x="974" y="712"/>
                  </a:lnTo>
                  <a:lnTo>
                    <a:pt x="984" y="713"/>
                  </a:lnTo>
                  <a:lnTo>
                    <a:pt x="999" y="715"/>
                  </a:lnTo>
                  <a:lnTo>
                    <a:pt x="1018" y="717"/>
                  </a:lnTo>
                  <a:lnTo>
                    <a:pt x="1023" y="718"/>
                  </a:lnTo>
                  <a:lnTo>
                    <a:pt x="1030" y="744"/>
                  </a:lnTo>
                  <a:lnTo>
                    <a:pt x="1037" y="765"/>
                  </a:lnTo>
                  <a:lnTo>
                    <a:pt x="1042" y="769"/>
                  </a:lnTo>
                  <a:lnTo>
                    <a:pt x="1077" y="773"/>
                  </a:lnTo>
                  <a:lnTo>
                    <a:pt x="1091" y="771"/>
                  </a:lnTo>
                  <a:lnTo>
                    <a:pt x="1141" y="777"/>
                  </a:lnTo>
                  <a:lnTo>
                    <a:pt x="1174" y="781"/>
                  </a:lnTo>
                  <a:lnTo>
                    <a:pt x="1186" y="807"/>
                  </a:lnTo>
                  <a:lnTo>
                    <a:pt x="1186" y="807"/>
                  </a:lnTo>
                  <a:lnTo>
                    <a:pt x="1194" y="823"/>
                  </a:lnTo>
                  <a:lnTo>
                    <a:pt x="1215" y="851"/>
                  </a:lnTo>
                  <a:lnTo>
                    <a:pt x="1229" y="863"/>
                  </a:lnTo>
                  <a:lnTo>
                    <a:pt x="1250" y="855"/>
                  </a:lnTo>
                  <a:lnTo>
                    <a:pt x="1272" y="797"/>
                  </a:lnTo>
                  <a:lnTo>
                    <a:pt x="1283" y="795"/>
                  </a:lnTo>
                  <a:lnTo>
                    <a:pt x="1290" y="775"/>
                  </a:lnTo>
                  <a:lnTo>
                    <a:pt x="1295" y="766"/>
                  </a:lnTo>
                  <a:lnTo>
                    <a:pt x="1316" y="762"/>
                  </a:lnTo>
                  <a:lnTo>
                    <a:pt x="1335" y="741"/>
                  </a:lnTo>
                  <a:lnTo>
                    <a:pt x="1347" y="739"/>
                  </a:lnTo>
                  <a:lnTo>
                    <a:pt x="1356" y="750"/>
                  </a:lnTo>
                  <a:lnTo>
                    <a:pt x="1364" y="750"/>
                  </a:lnTo>
                  <a:lnTo>
                    <a:pt x="1375" y="761"/>
                  </a:lnTo>
                  <a:lnTo>
                    <a:pt x="1394" y="773"/>
                  </a:lnTo>
                  <a:lnTo>
                    <a:pt x="1409" y="775"/>
                  </a:lnTo>
                  <a:lnTo>
                    <a:pt x="1419" y="776"/>
                  </a:lnTo>
                  <a:lnTo>
                    <a:pt x="1424" y="777"/>
                  </a:lnTo>
                  <a:lnTo>
                    <a:pt x="1441" y="789"/>
                  </a:lnTo>
                  <a:lnTo>
                    <a:pt x="1463" y="817"/>
                  </a:lnTo>
                  <a:lnTo>
                    <a:pt x="1453" y="820"/>
                  </a:lnTo>
                  <a:lnTo>
                    <a:pt x="1442" y="828"/>
                  </a:lnTo>
                  <a:lnTo>
                    <a:pt x="1437" y="828"/>
                  </a:lnTo>
                  <a:lnTo>
                    <a:pt x="1419" y="815"/>
                  </a:lnTo>
                  <a:lnTo>
                    <a:pt x="1414" y="815"/>
                  </a:lnTo>
                  <a:lnTo>
                    <a:pt x="1396" y="811"/>
                  </a:lnTo>
                  <a:lnTo>
                    <a:pt x="1382" y="825"/>
                  </a:lnTo>
                  <a:lnTo>
                    <a:pt x="1380" y="855"/>
                  </a:lnTo>
                  <a:lnTo>
                    <a:pt x="1362" y="853"/>
                  </a:lnTo>
                  <a:lnTo>
                    <a:pt x="1346" y="875"/>
                  </a:lnTo>
                  <a:lnTo>
                    <a:pt x="1366" y="907"/>
                  </a:lnTo>
                  <a:lnTo>
                    <a:pt x="1378" y="943"/>
                  </a:lnTo>
                  <a:lnTo>
                    <a:pt x="1408" y="957"/>
                  </a:lnTo>
                  <a:lnTo>
                    <a:pt x="1422" y="951"/>
                  </a:lnTo>
                  <a:lnTo>
                    <a:pt x="1427" y="951"/>
                  </a:lnTo>
                  <a:lnTo>
                    <a:pt x="1437" y="953"/>
                  </a:lnTo>
                  <a:lnTo>
                    <a:pt x="1445" y="964"/>
                  </a:lnTo>
                  <a:lnTo>
                    <a:pt x="1442" y="989"/>
                  </a:lnTo>
                  <a:lnTo>
                    <a:pt x="1442" y="989"/>
                  </a:lnTo>
                  <a:lnTo>
                    <a:pt x="1432" y="992"/>
                  </a:lnTo>
                  <a:lnTo>
                    <a:pt x="1419" y="1009"/>
                  </a:lnTo>
                  <a:lnTo>
                    <a:pt x="1409" y="1033"/>
                  </a:lnTo>
                  <a:lnTo>
                    <a:pt x="1415" y="1069"/>
                  </a:lnTo>
                  <a:lnTo>
                    <a:pt x="1392" y="1068"/>
                  </a:lnTo>
                  <a:lnTo>
                    <a:pt x="1383" y="1089"/>
                  </a:lnTo>
                  <a:lnTo>
                    <a:pt x="1354" y="1103"/>
                  </a:lnTo>
                  <a:lnTo>
                    <a:pt x="1335" y="1105"/>
                  </a:lnTo>
                  <a:lnTo>
                    <a:pt x="1335" y="1132"/>
                  </a:lnTo>
                  <a:lnTo>
                    <a:pt x="1335" y="1176"/>
                  </a:lnTo>
                  <a:lnTo>
                    <a:pt x="1321" y="1202"/>
                  </a:lnTo>
                  <a:lnTo>
                    <a:pt x="1333" y="1236"/>
                  </a:lnTo>
                  <a:lnTo>
                    <a:pt x="1339" y="1274"/>
                  </a:lnTo>
                  <a:lnTo>
                    <a:pt x="1369" y="1296"/>
                  </a:lnTo>
                  <a:lnTo>
                    <a:pt x="1370" y="1337"/>
                  </a:lnTo>
                  <a:lnTo>
                    <a:pt x="1388" y="1379"/>
                  </a:lnTo>
                  <a:lnTo>
                    <a:pt x="1426" y="1400"/>
                  </a:lnTo>
                  <a:lnTo>
                    <a:pt x="1405" y="1392"/>
                  </a:lnTo>
                  <a:lnTo>
                    <a:pt x="1437" y="1405"/>
                  </a:lnTo>
                  <a:lnTo>
                    <a:pt x="1443" y="1416"/>
                  </a:lnTo>
                  <a:lnTo>
                    <a:pt x="1458" y="1423"/>
                  </a:lnTo>
                  <a:lnTo>
                    <a:pt x="1481" y="1435"/>
                  </a:lnTo>
                  <a:lnTo>
                    <a:pt x="1506" y="1458"/>
                  </a:lnTo>
                  <a:lnTo>
                    <a:pt x="1517" y="1483"/>
                  </a:lnTo>
                  <a:lnTo>
                    <a:pt x="1533" y="1507"/>
                  </a:lnTo>
                  <a:lnTo>
                    <a:pt x="1568" y="1522"/>
                  </a:lnTo>
                  <a:lnTo>
                    <a:pt x="1569" y="1554"/>
                  </a:lnTo>
                  <a:lnTo>
                    <a:pt x="1559" y="1572"/>
                  </a:lnTo>
                  <a:lnTo>
                    <a:pt x="1547" y="1578"/>
                  </a:lnTo>
                  <a:lnTo>
                    <a:pt x="1538" y="1602"/>
                  </a:lnTo>
                  <a:lnTo>
                    <a:pt x="1519" y="1622"/>
                  </a:lnTo>
                  <a:lnTo>
                    <a:pt x="1504" y="1628"/>
                  </a:lnTo>
                  <a:lnTo>
                    <a:pt x="1493" y="1662"/>
                  </a:lnTo>
                  <a:lnTo>
                    <a:pt x="1477" y="1679"/>
                  </a:lnTo>
                  <a:lnTo>
                    <a:pt x="1456" y="1690"/>
                  </a:lnTo>
                  <a:lnTo>
                    <a:pt x="1433" y="1680"/>
                  </a:lnTo>
                  <a:lnTo>
                    <a:pt x="1415" y="1688"/>
                  </a:lnTo>
                  <a:lnTo>
                    <a:pt x="1402" y="1685"/>
                  </a:lnTo>
                  <a:lnTo>
                    <a:pt x="1388" y="1707"/>
                  </a:lnTo>
                  <a:lnTo>
                    <a:pt x="1367" y="1725"/>
                  </a:lnTo>
                  <a:lnTo>
                    <a:pt x="1388" y="1767"/>
                  </a:lnTo>
                  <a:lnTo>
                    <a:pt x="1378" y="1797"/>
                  </a:lnTo>
                  <a:lnTo>
                    <a:pt x="1376" y="1833"/>
                  </a:lnTo>
                  <a:lnTo>
                    <a:pt x="1364" y="1847"/>
                  </a:lnTo>
                  <a:lnTo>
                    <a:pt x="1390" y="1862"/>
                  </a:lnTo>
                  <a:lnTo>
                    <a:pt x="1406" y="1881"/>
                  </a:lnTo>
                  <a:lnTo>
                    <a:pt x="1420" y="1892"/>
                  </a:lnTo>
                  <a:lnTo>
                    <a:pt x="1411" y="1908"/>
                  </a:lnTo>
                  <a:lnTo>
                    <a:pt x="1406" y="1932"/>
                  </a:lnTo>
                  <a:lnTo>
                    <a:pt x="1388" y="1949"/>
                  </a:lnTo>
                  <a:lnTo>
                    <a:pt x="1378" y="1974"/>
                  </a:lnTo>
                  <a:lnTo>
                    <a:pt x="1363" y="1977"/>
                  </a:lnTo>
                  <a:lnTo>
                    <a:pt x="1351" y="1977"/>
                  </a:lnTo>
                  <a:lnTo>
                    <a:pt x="1337" y="1982"/>
                  </a:lnTo>
                  <a:lnTo>
                    <a:pt x="1307" y="1973"/>
                  </a:lnTo>
                  <a:lnTo>
                    <a:pt x="1274" y="1980"/>
                  </a:lnTo>
                  <a:lnTo>
                    <a:pt x="1229" y="1988"/>
                  </a:lnTo>
                  <a:lnTo>
                    <a:pt x="1180" y="1986"/>
                  </a:lnTo>
                  <a:lnTo>
                    <a:pt x="1155" y="2008"/>
                  </a:lnTo>
                  <a:lnTo>
                    <a:pt x="1133" y="2003"/>
                  </a:lnTo>
                  <a:lnTo>
                    <a:pt x="1116" y="1999"/>
                  </a:lnTo>
                  <a:lnTo>
                    <a:pt x="1107" y="1966"/>
                  </a:lnTo>
                  <a:lnTo>
                    <a:pt x="1149" y="1957"/>
                  </a:lnTo>
                  <a:lnTo>
                    <a:pt x="1155" y="1930"/>
                  </a:lnTo>
                  <a:lnTo>
                    <a:pt x="1140" y="1894"/>
                  </a:lnTo>
                  <a:lnTo>
                    <a:pt x="1164" y="1873"/>
                  </a:lnTo>
                  <a:lnTo>
                    <a:pt x="1170" y="1846"/>
                  </a:lnTo>
                  <a:lnTo>
                    <a:pt x="1179" y="1825"/>
                  </a:lnTo>
                  <a:lnTo>
                    <a:pt x="1197" y="1801"/>
                  </a:lnTo>
                  <a:lnTo>
                    <a:pt x="1176" y="1765"/>
                  </a:lnTo>
                  <a:lnTo>
                    <a:pt x="1152" y="1771"/>
                  </a:lnTo>
                  <a:lnTo>
                    <a:pt x="1134" y="1732"/>
                  </a:lnTo>
                  <a:lnTo>
                    <a:pt x="1116" y="1726"/>
                  </a:lnTo>
                  <a:lnTo>
                    <a:pt x="1089" y="1732"/>
                  </a:lnTo>
                  <a:lnTo>
                    <a:pt x="1080" y="1714"/>
                  </a:lnTo>
                  <a:lnTo>
                    <a:pt x="1092" y="1663"/>
                  </a:lnTo>
                  <a:lnTo>
                    <a:pt x="1065" y="1651"/>
                  </a:lnTo>
                  <a:lnTo>
                    <a:pt x="1044" y="1666"/>
                  </a:lnTo>
                  <a:lnTo>
                    <a:pt x="1008" y="1657"/>
                  </a:lnTo>
                  <a:lnTo>
                    <a:pt x="990" y="1633"/>
                  </a:lnTo>
                  <a:lnTo>
                    <a:pt x="984" y="1603"/>
                  </a:lnTo>
                  <a:lnTo>
                    <a:pt x="975" y="1579"/>
                  </a:lnTo>
                  <a:lnTo>
                    <a:pt x="960" y="1561"/>
                  </a:lnTo>
                  <a:lnTo>
                    <a:pt x="930" y="1573"/>
                  </a:lnTo>
                  <a:lnTo>
                    <a:pt x="912" y="1525"/>
                  </a:lnTo>
                  <a:lnTo>
                    <a:pt x="894" y="1513"/>
                  </a:lnTo>
                  <a:lnTo>
                    <a:pt x="870" y="1525"/>
                  </a:lnTo>
                  <a:lnTo>
                    <a:pt x="822" y="1495"/>
                  </a:lnTo>
                  <a:lnTo>
                    <a:pt x="798" y="1459"/>
                  </a:lnTo>
                  <a:lnTo>
                    <a:pt x="795" y="1444"/>
                  </a:lnTo>
                  <a:lnTo>
                    <a:pt x="810" y="1417"/>
                  </a:lnTo>
                  <a:lnTo>
                    <a:pt x="792" y="1399"/>
                  </a:lnTo>
                  <a:lnTo>
                    <a:pt x="771" y="1390"/>
                  </a:lnTo>
                  <a:lnTo>
                    <a:pt x="747" y="1405"/>
                  </a:lnTo>
                  <a:lnTo>
                    <a:pt x="726" y="1435"/>
                  </a:lnTo>
                  <a:lnTo>
                    <a:pt x="690" y="1447"/>
                  </a:lnTo>
                  <a:lnTo>
                    <a:pt x="672" y="1477"/>
                  </a:lnTo>
                  <a:lnTo>
                    <a:pt x="699" y="1498"/>
                  </a:lnTo>
                  <a:lnTo>
                    <a:pt x="702" y="1534"/>
                  </a:lnTo>
                  <a:lnTo>
                    <a:pt x="705" y="1585"/>
                  </a:lnTo>
                  <a:lnTo>
                    <a:pt x="690" y="1606"/>
                  </a:lnTo>
                  <a:lnTo>
                    <a:pt x="678" y="1633"/>
                  </a:lnTo>
                  <a:lnTo>
                    <a:pt x="651" y="1624"/>
                  </a:lnTo>
                  <a:lnTo>
                    <a:pt x="627" y="1630"/>
                  </a:lnTo>
                  <a:lnTo>
                    <a:pt x="609" y="1648"/>
                  </a:lnTo>
                  <a:lnTo>
                    <a:pt x="636" y="1669"/>
                  </a:lnTo>
                  <a:lnTo>
                    <a:pt x="619" y="1691"/>
                  </a:lnTo>
                  <a:lnTo>
                    <a:pt x="593" y="1704"/>
                  </a:lnTo>
                  <a:lnTo>
                    <a:pt x="560" y="1691"/>
                  </a:lnTo>
                  <a:lnTo>
                    <a:pt x="544" y="1677"/>
                  </a:lnTo>
                  <a:lnTo>
                    <a:pt x="521" y="1667"/>
                  </a:lnTo>
                  <a:lnTo>
                    <a:pt x="497" y="1667"/>
                  </a:lnTo>
                  <a:lnTo>
                    <a:pt x="482" y="1655"/>
                  </a:lnTo>
                  <a:lnTo>
                    <a:pt x="478" y="1640"/>
                  </a:lnTo>
                  <a:lnTo>
                    <a:pt x="430" y="1611"/>
                  </a:lnTo>
                  <a:lnTo>
                    <a:pt x="418" y="1589"/>
                  </a:lnTo>
                  <a:lnTo>
                    <a:pt x="397" y="1601"/>
                  </a:lnTo>
                  <a:lnTo>
                    <a:pt x="377" y="1599"/>
                  </a:lnTo>
                  <a:close/>
                </a:path>
              </a:pathLst>
            </a:custGeom>
            <a:solidFill>
              <a:srgbClr val="009900">
                <a:alpha val="67000"/>
              </a:srgbClr>
            </a:solidFill>
            <a:ln w="4680">
              <a:solidFill>
                <a:srgbClr val="6e6e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4745160" y="4041720"/>
              <a:ext cx="1162080" cy="1389240"/>
            </a:xfrm>
            <a:custGeom>
              <a:avLst/>
              <a:gdLst/>
              <a:ahLst/>
              <a:rect l="l" t="t" r="r" b="b"/>
              <a:pathLst>
                <a:path w="732" h="875">
                  <a:moveTo>
                    <a:pt x="208" y="875"/>
                  </a:moveTo>
                  <a:lnTo>
                    <a:pt x="205" y="860"/>
                  </a:lnTo>
                  <a:lnTo>
                    <a:pt x="216" y="845"/>
                  </a:lnTo>
                  <a:lnTo>
                    <a:pt x="210" y="828"/>
                  </a:lnTo>
                  <a:lnTo>
                    <a:pt x="232" y="812"/>
                  </a:lnTo>
                  <a:lnTo>
                    <a:pt x="222" y="777"/>
                  </a:lnTo>
                  <a:lnTo>
                    <a:pt x="204" y="740"/>
                  </a:lnTo>
                  <a:lnTo>
                    <a:pt x="204" y="708"/>
                  </a:lnTo>
                  <a:lnTo>
                    <a:pt x="189" y="689"/>
                  </a:lnTo>
                  <a:lnTo>
                    <a:pt x="165" y="645"/>
                  </a:lnTo>
                  <a:lnTo>
                    <a:pt x="141" y="627"/>
                  </a:lnTo>
                  <a:lnTo>
                    <a:pt x="105" y="611"/>
                  </a:lnTo>
                  <a:lnTo>
                    <a:pt x="91" y="612"/>
                  </a:lnTo>
                  <a:lnTo>
                    <a:pt x="74" y="611"/>
                  </a:lnTo>
                  <a:lnTo>
                    <a:pt x="65" y="582"/>
                  </a:lnTo>
                  <a:lnTo>
                    <a:pt x="67" y="568"/>
                  </a:lnTo>
                  <a:lnTo>
                    <a:pt x="51" y="528"/>
                  </a:lnTo>
                  <a:lnTo>
                    <a:pt x="62" y="551"/>
                  </a:lnTo>
                  <a:lnTo>
                    <a:pt x="38" y="513"/>
                  </a:lnTo>
                  <a:lnTo>
                    <a:pt x="18" y="498"/>
                  </a:lnTo>
                  <a:lnTo>
                    <a:pt x="12" y="508"/>
                  </a:lnTo>
                  <a:lnTo>
                    <a:pt x="15" y="468"/>
                  </a:lnTo>
                  <a:lnTo>
                    <a:pt x="30" y="447"/>
                  </a:lnTo>
                  <a:lnTo>
                    <a:pt x="8" y="422"/>
                  </a:lnTo>
                  <a:lnTo>
                    <a:pt x="0" y="413"/>
                  </a:lnTo>
                  <a:lnTo>
                    <a:pt x="2" y="399"/>
                  </a:lnTo>
                  <a:lnTo>
                    <a:pt x="14" y="392"/>
                  </a:lnTo>
                  <a:lnTo>
                    <a:pt x="27" y="395"/>
                  </a:lnTo>
                  <a:lnTo>
                    <a:pt x="41" y="408"/>
                  </a:lnTo>
                  <a:lnTo>
                    <a:pt x="57" y="401"/>
                  </a:lnTo>
                  <a:lnTo>
                    <a:pt x="71" y="396"/>
                  </a:lnTo>
                  <a:lnTo>
                    <a:pt x="66" y="377"/>
                  </a:lnTo>
                  <a:lnTo>
                    <a:pt x="92" y="366"/>
                  </a:lnTo>
                  <a:lnTo>
                    <a:pt x="104" y="369"/>
                  </a:lnTo>
                  <a:lnTo>
                    <a:pt x="120" y="348"/>
                  </a:lnTo>
                  <a:lnTo>
                    <a:pt x="132" y="322"/>
                  </a:lnTo>
                  <a:lnTo>
                    <a:pt x="166" y="304"/>
                  </a:lnTo>
                  <a:lnTo>
                    <a:pt x="171" y="277"/>
                  </a:lnTo>
                  <a:lnTo>
                    <a:pt x="142" y="258"/>
                  </a:lnTo>
                  <a:lnTo>
                    <a:pt x="162" y="240"/>
                  </a:lnTo>
                  <a:lnTo>
                    <a:pt x="190" y="235"/>
                  </a:lnTo>
                  <a:lnTo>
                    <a:pt x="214" y="241"/>
                  </a:lnTo>
                  <a:lnTo>
                    <a:pt x="223" y="216"/>
                  </a:lnTo>
                  <a:lnTo>
                    <a:pt x="240" y="198"/>
                  </a:lnTo>
                  <a:lnTo>
                    <a:pt x="237" y="106"/>
                  </a:lnTo>
                  <a:lnTo>
                    <a:pt x="208" y="90"/>
                  </a:lnTo>
                  <a:lnTo>
                    <a:pt x="226" y="58"/>
                  </a:lnTo>
                  <a:lnTo>
                    <a:pt x="264" y="45"/>
                  </a:lnTo>
                  <a:lnTo>
                    <a:pt x="280" y="15"/>
                  </a:lnTo>
                  <a:lnTo>
                    <a:pt x="310" y="0"/>
                  </a:lnTo>
                  <a:lnTo>
                    <a:pt x="330" y="9"/>
                  </a:lnTo>
                  <a:lnTo>
                    <a:pt x="343" y="28"/>
                  </a:lnTo>
                  <a:lnTo>
                    <a:pt x="333" y="51"/>
                  </a:lnTo>
                  <a:lnTo>
                    <a:pt x="334" y="70"/>
                  </a:lnTo>
                  <a:lnTo>
                    <a:pt x="360" y="108"/>
                  </a:lnTo>
                  <a:lnTo>
                    <a:pt x="406" y="135"/>
                  </a:lnTo>
                  <a:lnTo>
                    <a:pt x="432" y="127"/>
                  </a:lnTo>
                  <a:lnTo>
                    <a:pt x="450" y="136"/>
                  </a:lnTo>
                  <a:lnTo>
                    <a:pt x="466" y="184"/>
                  </a:lnTo>
                  <a:lnTo>
                    <a:pt x="499" y="171"/>
                  </a:lnTo>
                  <a:lnTo>
                    <a:pt x="510" y="193"/>
                  </a:lnTo>
                  <a:lnTo>
                    <a:pt x="516" y="208"/>
                  </a:lnTo>
                  <a:lnTo>
                    <a:pt x="523" y="240"/>
                  </a:lnTo>
                  <a:lnTo>
                    <a:pt x="538" y="264"/>
                  </a:lnTo>
                  <a:lnTo>
                    <a:pt x="583" y="279"/>
                  </a:lnTo>
                  <a:lnTo>
                    <a:pt x="603" y="261"/>
                  </a:lnTo>
                  <a:lnTo>
                    <a:pt x="630" y="274"/>
                  </a:lnTo>
                  <a:lnTo>
                    <a:pt x="613" y="327"/>
                  </a:lnTo>
                  <a:lnTo>
                    <a:pt x="624" y="346"/>
                  </a:lnTo>
                  <a:lnTo>
                    <a:pt x="648" y="337"/>
                  </a:lnTo>
                  <a:lnTo>
                    <a:pt x="672" y="342"/>
                  </a:lnTo>
                  <a:lnTo>
                    <a:pt x="687" y="382"/>
                  </a:lnTo>
                  <a:lnTo>
                    <a:pt x="714" y="376"/>
                  </a:lnTo>
                  <a:lnTo>
                    <a:pt x="732" y="414"/>
                  </a:lnTo>
                  <a:lnTo>
                    <a:pt x="715" y="438"/>
                  </a:lnTo>
                  <a:lnTo>
                    <a:pt x="705" y="457"/>
                  </a:lnTo>
                  <a:lnTo>
                    <a:pt x="700" y="484"/>
                  </a:lnTo>
                  <a:lnTo>
                    <a:pt x="676" y="505"/>
                  </a:lnTo>
                  <a:lnTo>
                    <a:pt x="691" y="541"/>
                  </a:lnTo>
                  <a:lnTo>
                    <a:pt x="684" y="570"/>
                  </a:lnTo>
                  <a:lnTo>
                    <a:pt x="643" y="576"/>
                  </a:lnTo>
                  <a:lnTo>
                    <a:pt x="651" y="609"/>
                  </a:lnTo>
                  <a:lnTo>
                    <a:pt x="668" y="613"/>
                  </a:lnTo>
                  <a:lnTo>
                    <a:pt x="662" y="625"/>
                  </a:lnTo>
                  <a:lnTo>
                    <a:pt x="643" y="636"/>
                  </a:lnTo>
                  <a:lnTo>
                    <a:pt x="616" y="639"/>
                  </a:lnTo>
                  <a:lnTo>
                    <a:pt x="575" y="640"/>
                  </a:lnTo>
                  <a:lnTo>
                    <a:pt x="550" y="628"/>
                  </a:lnTo>
                  <a:lnTo>
                    <a:pt x="531" y="629"/>
                  </a:lnTo>
                  <a:lnTo>
                    <a:pt x="522" y="647"/>
                  </a:lnTo>
                  <a:lnTo>
                    <a:pt x="507" y="668"/>
                  </a:lnTo>
                  <a:lnTo>
                    <a:pt x="481" y="695"/>
                  </a:lnTo>
                  <a:lnTo>
                    <a:pt x="483" y="719"/>
                  </a:lnTo>
                  <a:lnTo>
                    <a:pt x="456" y="729"/>
                  </a:lnTo>
                  <a:lnTo>
                    <a:pt x="444" y="702"/>
                  </a:lnTo>
                  <a:lnTo>
                    <a:pt x="417" y="668"/>
                  </a:lnTo>
                  <a:lnTo>
                    <a:pt x="388" y="674"/>
                  </a:lnTo>
                  <a:lnTo>
                    <a:pt x="372" y="701"/>
                  </a:lnTo>
                  <a:lnTo>
                    <a:pt x="309" y="722"/>
                  </a:lnTo>
                  <a:lnTo>
                    <a:pt x="279" y="729"/>
                  </a:lnTo>
                  <a:lnTo>
                    <a:pt x="261" y="762"/>
                  </a:lnTo>
                  <a:lnTo>
                    <a:pt x="262" y="791"/>
                  </a:lnTo>
                  <a:lnTo>
                    <a:pt x="264" y="810"/>
                  </a:lnTo>
                  <a:lnTo>
                    <a:pt x="259" y="825"/>
                  </a:lnTo>
                  <a:lnTo>
                    <a:pt x="271" y="839"/>
                  </a:lnTo>
                  <a:lnTo>
                    <a:pt x="253" y="851"/>
                  </a:lnTo>
                  <a:lnTo>
                    <a:pt x="241" y="846"/>
                  </a:lnTo>
                  <a:lnTo>
                    <a:pt x="208" y="875"/>
                  </a:lnTo>
                  <a:close/>
                </a:path>
              </a:pathLst>
            </a:custGeom>
            <a:solidFill>
              <a:srgbClr val="009900">
                <a:alpha val="6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04" name=""/>
          <p:cNvSpPr/>
          <p:nvPr/>
        </p:nvSpPr>
        <p:spPr>
          <a:xfrm>
            <a:off x="2216160" y="2567160"/>
            <a:ext cx="2263680" cy="2252520"/>
          </a:xfrm>
          <a:custGeom>
            <a:avLst/>
            <a:gdLst/>
            <a:ahLst/>
            <a:rect l="l" t="t" r="r" b="b"/>
            <a:pathLst>
              <a:path w="1426" h="1419">
                <a:moveTo>
                  <a:pt x="678" y="1245"/>
                </a:moveTo>
                <a:lnTo>
                  <a:pt x="647" y="1216"/>
                </a:lnTo>
                <a:lnTo>
                  <a:pt x="703" y="1203"/>
                </a:lnTo>
                <a:lnTo>
                  <a:pt x="687" y="1171"/>
                </a:lnTo>
                <a:lnTo>
                  <a:pt x="678" y="1165"/>
                </a:lnTo>
                <a:lnTo>
                  <a:pt x="670" y="1154"/>
                </a:lnTo>
                <a:lnTo>
                  <a:pt x="657" y="1137"/>
                </a:lnTo>
                <a:lnTo>
                  <a:pt x="647" y="1115"/>
                </a:lnTo>
                <a:lnTo>
                  <a:pt x="605" y="1088"/>
                </a:lnTo>
                <a:lnTo>
                  <a:pt x="589" y="1062"/>
                </a:lnTo>
                <a:lnTo>
                  <a:pt x="562" y="1041"/>
                </a:lnTo>
                <a:lnTo>
                  <a:pt x="556" y="1017"/>
                </a:lnTo>
                <a:lnTo>
                  <a:pt x="551" y="998"/>
                </a:lnTo>
                <a:lnTo>
                  <a:pt x="545" y="963"/>
                </a:lnTo>
                <a:lnTo>
                  <a:pt x="548" y="933"/>
                </a:lnTo>
                <a:lnTo>
                  <a:pt x="530" y="927"/>
                </a:lnTo>
                <a:lnTo>
                  <a:pt x="500" y="921"/>
                </a:lnTo>
                <a:lnTo>
                  <a:pt x="487" y="912"/>
                </a:lnTo>
                <a:lnTo>
                  <a:pt x="475" y="902"/>
                </a:lnTo>
                <a:lnTo>
                  <a:pt x="461" y="884"/>
                </a:lnTo>
                <a:lnTo>
                  <a:pt x="440" y="869"/>
                </a:lnTo>
                <a:lnTo>
                  <a:pt x="430" y="851"/>
                </a:lnTo>
                <a:lnTo>
                  <a:pt x="424" y="837"/>
                </a:lnTo>
                <a:lnTo>
                  <a:pt x="407" y="816"/>
                </a:lnTo>
                <a:lnTo>
                  <a:pt x="364" y="777"/>
                </a:lnTo>
                <a:lnTo>
                  <a:pt x="349" y="746"/>
                </a:lnTo>
                <a:lnTo>
                  <a:pt x="341" y="720"/>
                </a:lnTo>
                <a:lnTo>
                  <a:pt x="319" y="702"/>
                </a:lnTo>
                <a:lnTo>
                  <a:pt x="305" y="690"/>
                </a:lnTo>
                <a:lnTo>
                  <a:pt x="271" y="642"/>
                </a:lnTo>
                <a:lnTo>
                  <a:pt x="262" y="631"/>
                </a:lnTo>
                <a:lnTo>
                  <a:pt x="238" y="628"/>
                </a:lnTo>
                <a:lnTo>
                  <a:pt x="228" y="627"/>
                </a:lnTo>
                <a:lnTo>
                  <a:pt x="202" y="599"/>
                </a:lnTo>
                <a:lnTo>
                  <a:pt x="194" y="582"/>
                </a:lnTo>
                <a:lnTo>
                  <a:pt x="186" y="566"/>
                </a:lnTo>
                <a:lnTo>
                  <a:pt x="173" y="545"/>
                </a:lnTo>
                <a:lnTo>
                  <a:pt x="165" y="539"/>
                </a:lnTo>
                <a:lnTo>
                  <a:pt x="161" y="515"/>
                </a:lnTo>
                <a:lnTo>
                  <a:pt x="157" y="485"/>
                </a:lnTo>
                <a:lnTo>
                  <a:pt x="167" y="456"/>
                </a:lnTo>
                <a:lnTo>
                  <a:pt x="129" y="383"/>
                </a:lnTo>
                <a:lnTo>
                  <a:pt x="121" y="372"/>
                </a:lnTo>
                <a:lnTo>
                  <a:pt x="107" y="360"/>
                </a:lnTo>
                <a:lnTo>
                  <a:pt x="97" y="342"/>
                </a:lnTo>
                <a:lnTo>
                  <a:pt x="118" y="329"/>
                </a:lnTo>
                <a:lnTo>
                  <a:pt x="100" y="297"/>
                </a:lnTo>
                <a:lnTo>
                  <a:pt x="68" y="276"/>
                </a:lnTo>
                <a:lnTo>
                  <a:pt x="68" y="254"/>
                </a:lnTo>
                <a:lnTo>
                  <a:pt x="43" y="251"/>
                </a:lnTo>
                <a:lnTo>
                  <a:pt x="16" y="257"/>
                </a:lnTo>
                <a:lnTo>
                  <a:pt x="0" y="222"/>
                </a:lnTo>
                <a:lnTo>
                  <a:pt x="25" y="206"/>
                </a:lnTo>
                <a:lnTo>
                  <a:pt x="11" y="183"/>
                </a:lnTo>
                <a:lnTo>
                  <a:pt x="4" y="150"/>
                </a:lnTo>
                <a:lnTo>
                  <a:pt x="25" y="122"/>
                </a:lnTo>
                <a:lnTo>
                  <a:pt x="14" y="86"/>
                </a:lnTo>
                <a:lnTo>
                  <a:pt x="23" y="65"/>
                </a:lnTo>
                <a:lnTo>
                  <a:pt x="22" y="41"/>
                </a:lnTo>
                <a:lnTo>
                  <a:pt x="35" y="20"/>
                </a:lnTo>
                <a:lnTo>
                  <a:pt x="55" y="12"/>
                </a:lnTo>
                <a:lnTo>
                  <a:pt x="88" y="17"/>
                </a:lnTo>
                <a:lnTo>
                  <a:pt x="109" y="17"/>
                </a:lnTo>
                <a:lnTo>
                  <a:pt x="128" y="53"/>
                </a:lnTo>
                <a:lnTo>
                  <a:pt x="131" y="74"/>
                </a:lnTo>
                <a:lnTo>
                  <a:pt x="167" y="104"/>
                </a:lnTo>
                <a:lnTo>
                  <a:pt x="178" y="113"/>
                </a:lnTo>
                <a:lnTo>
                  <a:pt x="202" y="123"/>
                </a:lnTo>
                <a:lnTo>
                  <a:pt x="227" y="123"/>
                </a:lnTo>
                <a:lnTo>
                  <a:pt x="220" y="93"/>
                </a:lnTo>
                <a:lnTo>
                  <a:pt x="244" y="101"/>
                </a:lnTo>
                <a:lnTo>
                  <a:pt x="253" y="68"/>
                </a:lnTo>
                <a:lnTo>
                  <a:pt x="278" y="51"/>
                </a:lnTo>
                <a:lnTo>
                  <a:pt x="295" y="18"/>
                </a:lnTo>
                <a:lnTo>
                  <a:pt x="305" y="17"/>
                </a:lnTo>
                <a:lnTo>
                  <a:pt x="316" y="12"/>
                </a:lnTo>
                <a:lnTo>
                  <a:pt x="343" y="35"/>
                </a:lnTo>
                <a:lnTo>
                  <a:pt x="364" y="33"/>
                </a:lnTo>
                <a:lnTo>
                  <a:pt x="385" y="39"/>
                </a:lnTo>
                <a:lnTo>
                  <a:pt x="412" y="38"/>
                </a:lnTo>
                <a:lnTo>
                  <a:pt x="424" y="14"/>
                </a:lnTo>
                <a:lnTo>
                  <a:pt x="440" y="0"/>
                </a:lnTo>
                <a:lnTo>
                  <a:pt x="460" y="26"/>
                </a:lnTo>
                <a:lnTo>
                  <a:pt x="481" y="29"/>
                </a:lnTo>
                <a:lnTo>
                  <a:pt x="517" y="60"/>
                </a:lnTo>
                <a:lnTo>
                  <a:pt x="557" y="66"/>
                </a:lnTo>
                <a:lnTo>
                  <a:pt x="565" y="44"/>
                </a:lnTo>
                <a:lnTo>
                  <a:pt x="589" y="72"/>
                </a:lnTo>
                <a:lnTo>
                  <a:pt x="622" y="71"/>
                </a:lnTo>
                <a:lnTo>
                  <a:pt x="637" y="83"/>
                </a:lnTo>
                <a:lnTo>
                  <a:pt x="668" y="87"/>
                </a:lnTo>
                <a:lnTo>
                  <a:pt x="706" y="75"/>
                </a:lnTo>
                <a:lnTo>
                  <a:pt x="727" y="89"/>
                </a:lnTo>
                <a:lnTo>
                  <a:pt x="746" y="105"/>
                </a:lnTo>
                <a:lnTo>
                  <a:pt x="773" y="117"/>
                </a:lnTo>
                <a:lnTo>
                  <a:pt x="799" y="105"/>
                </a:lnTo>
                <a:lnTo>
                  <a:pt x="809" y="90"/>
                </a:lnTo>
                <a:lnTo>
                  <a:pt x="826" y="75"/>
                </a:lnTo>
                <a:lnTo>
                  <a:pt x="852" y="75"/>
                </a:lnTo>
                <a:lnTo>
                  <a:pt x="856" y="98"/>
                </a:lnTo>
                <a:lnTo>
                  <a:pt x="890" y="108"/>
                </a:lnTo>
                <a:lnTo>
                  <a:pt x="916" y="98"/>
                </a:lnTo>
                <a:lnTo>
                  <a:pt x="914" y="78"/>
                </a:lnTo>
                <a:lnTo>
                  <a:pt x="932" y="80"/>
                </a:lnTo>
                <a:lnTo>
                  <a:pt x="950" y="98"/>
                </a:lnTo>
                <a:lnTo>
                  <a:pt x="979" y="95"/>
                </a:lnTo>
                <a:lnTo>
                  <a:pt x="1003" y="117"/>
                </a:lnTo>
                <a:lnTo>
                  <a:pt x="1025" y="125"/>
                </a:lnTo>
                <a:lnTo>
                  <a:pt x="1034" y="108"/>
                </a:lnTo>
                <a:lnTo>
                  <a:pt x="1075" y="114"/>
                </a:lnTo>
                <a:lnTo>
                  <a:pt x="1087" y="134"/>
                </a:lnTo>
                <a:lnTo>
                  <a:pt x="1096" y="153"/>
                </a:lnTo>
                <a:lnTo>
                  <a:pt x="1114" y="158"/>
                </a:lnTo>
                <a:lnTo>
                  <a:pt x="1112" y="177"/>
                </a:lnTo>
                <a:lnTo>
                  <a:pt x="1105" y="188"/>
                </a:lnTo>
                <a:lnTo>
                  <a:pt x="1123" y="212"/>
                </a:lnTo>
                <a:lnTo>
                  <a:pt x="1156" y="227"/>
                </a:lnTo>
                <a:lnTo>
                  <a:pt x="1219" y="227"/>
                </a:lnTo>
                <a:lnTo>
                  <a:pt x="1184" y="230"/>
                </a:lnTo>
                <a:lnTo>
                  <a:pt x="1241" y="209"/>
                </a:lnTo>
                <a:lnTo>
                  <a:pt x="1264" y="206"/>
                </a:lnTo>
                <a:lnTo>
                  <a:pt x="1285" y="204"/>
                </a:lnTo>
                <a:lnTo>
                  <a:pt x="1307" y="209"/>
                </a:lnTo>
                <a:lnTo>
                  <a:pt x="1322" y="218"/>
                </a:lnTo>
                <a:lnTo>
                  <a:pt x="1318" y="246"/>
                </a:lnTo>
                <a:lnTo>
                  <a:pt x="1319" y="268"/>
                </a:lnTo>
                <a:lnTo>
                  <a:pt x="1309" y="288"/>
                </a:lnTo>
                <a:lnTo>
                  <a:pt x="1256" y="372"/>
                </a:lnTo>
                <a:lnTo>
                  <a:pt x="1234" y="399"/>
                </a:lnTo>
                <a:lnTo>
                  <a:pt x="1244" y="446"/>
                </a:lnTo>
                <a:lnTo>
                  <a:pt x="1231" y="467"/>
                </a:lnTo>
                <a:lnTo>
                  <a:pt x="1226" y="489"/>
                </a:lnTo>
                <a:lnTo>
                  <a:pt x="1237" y="527"/>
                </a:lnTo>
                <a:lnTo>
                  <a:pt x="1274" y="546"/>
                </a:lnTo>
                <a:lnTo>
                  <a:pt x="1301" y="563"/>
                </a:lnTo>
                <a:lnTo>
                  <a:pt x="1331" y="575"/>
                </a:lnTo>
                <a:lnTo>
                  <a:pt x="1364" y="606"/>
                </a:lnTo>
                <a:lnTo>
                  <a:pt x="1379" y="626"/>
                </a:lnTo>
                <a:lnTo>
                  <a:pt x="1397" y="641"/>
                </a:lnTo>
                <a:lnTo>
                  <a:pt x="1418" y="653"/>
                </a:lnTo>
                <a:lnTo>
                  <a:pt x="1426" y="648"/>
                </a:lnTo>
                <a:lnTo>
                  <a:pt x="1392" y="679"/>
                </a:lnTo>
                <a:lnTo>
                  <a:pt x="1375" y="686"/>
                </a:lnTo>
                <a:lnTo>
                  <a:pt x="1373" y="689"/>
                </a:lnTo>
                <a:lnTo>
                  <a:pt x="1354" y="689"/>
                </a:lnTo>
                <a:lnTo>
                  <a:pt x="1328" y="677"/>
                </a:lnTo>
                <a:lnTo>
                  <a:pt x="1303" y="662"/>
                </a:lnTo>
                <a:lnTo>
                  <a:pt x="1280" y="663"/>
                </a:lnTo>
                <a:lnTo>
                  <a:pt x="1282" y="701"/>
                </a:lnTo>
                <a:lnTo>
                  <a:pt x="1301" y="731"/>
                </a:lnTo>
                <a:lnTo>
                  <a:pt x="1334" y="773"/>
                </a:lnTo>
                <a:lnTo>
                  <a:pt x="1366" y="791"/>
                </a:lnTo>
                <a:lnTo>
                  <a:pt x="1378" y="819"/>
                </a:lnTo>
                <a:lnTo>
                  <a:pt x="1388" y="848"/>
                </a:lnTo>
                <a:lnTo>
                  <a:pt x="1370" y="867"/>
                </a:lnTo>
                <a:lnTo>
                  <a:pt x="1371" y="888"/>
                </a:lnTo>
                <a:lnTo>
                  <a:pt x="1352" y="900"/>
                </a:lnTo>
                <a:lnTo>
                  <a:pt x="1334" y="879"/>
                </a:lnTo>
                <a:lnTo>
                  <a:pt x="1289" y="879"/>
                </a:lnTo>
                <a:lnTo>
                  <a:pt x="1279" y="918"/>
                </a:lnTo>
                <a:lnTo>
                  <a:pt x="1252" y="918"/>
                </a:lnTo>
                <a:lnTo>
                  <a:pt x="1226" y="926"/>
                </a:lnTo>
                <a:lnTo>
                  <a:pt x="1196" y="902"/>
                </a:lnTo>
                <a:lnTo>
                  <a:pt x="1177" y="917"/>
                </a:lnTo>
                <a:lnTo>
                  <a:pt x="1157" y="933"/>
                </a:lnTo>
                <a:lnTo>
                  <a:pt x="1172" y="944"/>
                </a:lnTo>
                <a:lnTo>
                  <a:pt x="1181" y="959"/>
                </a:lnTo>
                <a:lnTo>
                  <a:pt x="1199" y="969"/>
                </a:lnTo>
                <a:lnTo>
                  <a:pt x="1205" y="983"/>
                </a:lnTo>
                <a:lnTo>
                  <a:pt x="1214" y="1032"/>
                </a:lnTo>
                <a:lnTo>
                  <a:pt x="1204" y="1038"/>
                </a:lnTo>
                <a:lnTo>
                  <a:pt x="1195" y="1056"/>
                </a:lnTo>
                <a:lnTo>
                  <a:pt x="1179" y="1041"/>
                </a:lnTo>
                <a:lnTo>
                  <a:pt x="1176" y="1025"/>
                </a:lnTo>
                <a:lnTo>
                  <a:pt x="1163" y="1002"/>
                </a:lnTo>
                <a:lnTo>
                  <a:pt x="1127" y="1001"/>
                </a:lnTo>
                <a:lnTo>
                  <a:pt x="1121" y="1020"/>
                </a:lnTo>
                <a:lnTo>
                  <a:pt x="1091" y="1034"/>
                </a:lnTo>
                <a:lnTo>
                  <a:pt x="1079" y="1054"/>
                </a:lnTo>
                <a:lnTo>
                  <a:pt x="1054" y="1100"/>
                </a:lnTo>
                <a:lnTo>
                  <a:pt x="1051" y="1128"/>
                </a:lnTo>
                <a:lnTo>
                  <a:pt x="1057" y="1143"/>
                </a:lnTo>
                <a:lnTo>
                  <a:pt x="1060" y="1166"/>
                </a:lnTo>
                <a:lnTo>
                  <a:pt x="1034" y="1173"/>
                </a:lnTo>
                <a:lnTo>
                  <a:pt x="1024" y="1172"/>
                </a:lnTo>
                <a:lnTo>
                  <a:pt x="1010" y="1176"/>
                </a:lnTo>
                <a:lnTo>
                  <a:pt x="998" y="1187"/>
                </a:lnTo>
                <a:lnTo>
                  <a:pt x="982" y="1205"/>
                </a:lnTo>
                <a:lnTo>
                  <a:pt x="985" y="1256"/>
                </a:lnTo>
                <a:lnTo>
                  <a:pt x="974" y="1278"/>
                </a:lnTo>
                <a:lnTo>
                  <a:pt x="985" y="1307"/>
                </a:lnTo>
                <a:lnTo>
                  <a:pt x="992" y="1332"/>
                </a:lnTo>
                <a:lnTo>
                  <a:pt x="1016" y="1346"/>
                </a:lnTo>
                <a:lnTo>
                  <a:pt x="1021" y="1373"/>
                </a:lnTo>
                <a:lnTo>
                  <a:pt x="1015" y="1383"/>
                </a:lnTo>
                <a:lnTo>
                  <a:pt x="1018" y="1403"/>
                </a:lnTo>
                <a:lnTo>
                  <a:pt x="995" y="1404"/>
                </a:lnTo>
                <a:lnTo>
                  <a:pt x="984" y="1419"/>
                </a:lnTo>
                <a:lnTo>
                  <a:pt x="984" y="1419"/>
                </a:lnTo>
                <a:lnTo>
                  <a:pt x="962" y="1401"/>
                </a:lnTo>
                <a:lnTo>
                  <a:pt x="948" y="1389"/>
                </a:lnTo>
                <a:lnTo>
                  <a:pt x="938" y="1388"/>
                </a:lnTo>
                <a:lnTo>
                  <a:pt x="932" y="1397"/>
                </a:lnTo>
                <a:lnTo>
                  <a:pt x="912" y="1395"/>
                </a:lnTo>
                <a:lnTo>
                  <a:pt x="901" y="1373"/>
                </a:lnTo>
                <a:lnTo>
                  <a:pt x="880" y="1359"/>
                </a:lnTo>
                <a:lnTo>
                  <a:pt x="868" y="1343"/>
                </a:lnTo>
                <a:lnTo>
                  <a:pt x="827" y="1317"/>
                </a:lnTo>
                <a:lnTo>
                  <a:pt x="805" y="1287"/>
                </a:lnTo>
                <a:lnTo>
                  <a:pt x="781" y="1280"/>
                </a:lnTo>
                <a:lnTo>
                  <a:pt x="761" y="1257"/>
                </a:lnTo>
                <a:lnTo>
                  <a:pt x="748" y="1224"/>
                </a:lnTo>
                <a:lnTo>
                  <a:pt x="734" y="1237"/>
                </a:lnTo>
                <a:lnTo>
                  <a:pt x="709" y="1224"/>
                </a:lnTo>
                <a:lnTo>
                  <a:pt x="696" y="1222"/>
                </a:lnTo>
                <a:lnTo>
                  <a:pt x="694" y="1232"/>
                </a:lnTo>
                <a:lnTo>
                  <a:pt x="678" y="1245"/>
                </a:lnTo>
              </a:path>
            </a:pathLst>
          </a:custGeom>
          <a:solidFill>
            <a:srgbClr val="336600">
              <a:alpha val="67000"/>
            </a:srgbClr>
          </a:solidFill>
          <a:ln w="46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"/>
          <p:cNvSpPr/>
          <p:nvPr/>
        </p:nvSpPr>
        <p:spPr>
          <a:xfrm>
            <a:off x="5014800" y="4976640"/>
            <a:ext cx="1557360" cy="1224000"/>
          </a:xfrm>
          <a:custGeom>
            <a:avLst/>
            <a:gdLst/>
            <a:ahLst/>
            <a:rect l="l" t="t" r="r" b="b"/>
            <a:pathLst>
              <a:path w="981" h="771">
                <a:moveTo>
                  <a:pt x="36" y="305"/>
                </a:moveTo>
                <a:lnTo>
                  <a:pt x="66" y="264"/>
                </a:lnTo>
                <a:lnTo>
                  <a:pt x="95" y="267"/>
                </a:lnTo>
                <a:lnTo>
                  <a:pt x="107" y="248"/>
                </a:lnTo>
                <a:lnTo>
                  <a:pt x="101" y="228"/>
                </a:lnTo>
                <a:lnTo>
                  <a:pt x="102" y="208"/>
                </a:lnTo>
                <a:lnTo>
                  <a:pt x="99" y="173"/>
                </a:lnTo>
                <a:lnTo>
                  <a:pt x="113" y="146"/>
                </a:lnTo>
                <a:lnTo>
                  <a:pt x="162" y="133"/>
                </a:lnTo>
                <a:lnTo>
                  <a:pt x="203" y="116"/>
                </a:lnTo>
                <a:lnTo>
                  <a:pt x="225" y="90"/>
                </a:lnTo>
                <a:lnTo>
                  <a:pt x="244" y="83"/>
                </a:lnTo>
                <a:lnTo>
                  <a:pt x="267" y="120"/>
                </a:lnTo>
                <a:lnTo>
                  <a:pt x="287" y="147"/>
                </a:lnTo>
                <a:lnTo>
                  <a:pt x="314" y="134"/>
                </a:lnTo>
                <a:lnTo>
                  <a:pt x="317" y="110"/>
                </a:lnTo>
                <a:lnTo>
                  <a:pt x="350" y="81"/>
                </a:lnTo>
                <a:lnTo>
                  <a:pt x="368" y="48"/>
                </a:lnTo>
                <a:lnTo>
                  <a:pt x="405" y="57"/>
                </a:lnTo>
                <a:lnTo>
                  <a:pt x="459" y="59"/>
                </a:lnTo>
                <a:lnTo>
                  <a:pt x="482" y="54"/>
                </a:lnTo>
                <a:lnTo>
                  <a:pt x="494" y="47"/>
                </a:lnTo>
                <a:lnTo>
                  <a:pt x="502" y="39"/>
                </a:lnTo>
                <a:lnTo>
                  <a:pt x="504" y="24"/>
                </a:lnTo>
                <a:lnTo>
                  <a:pt x="527" y="32"/>
                </a:lnTo>
                <a:lnTo>
                  <a:pt x="555" y="17"/>
                </a:lnTo>
                <a:lnTo>
                  <a:pt x="611" y="15"/>
                </a:lnTo>
                <a:lnTo>
                  <a:pt x="657" y="8"/>
                </a:lnTo>
                <a:lnTo>
                  <a:pt x="686" y="0"/>
                </a:lnTo>
                <a:lnTo>
                  <a:pt x="716" y="14"/>
                </a:lnTo>
                <a:lnTo>
                  <a:pt x="735" y="17"/>
                </a:lnTo>
                <a:lnTo>
                  <a:pt x="749" y="38"/>
                </a:lnTo>
                <a:lnTo>
                  <a:pt x="776" y="75"/>
                </a:lnTo>
                <a:lnTo>
                  <a:pt x="803" y="117"/>
                </a:lnTo>
                <a:lnTo>
                  <a:pt x="855" y="144"/>
                </a:lnTo>
                <a:lnTo>
                  <a:pt x="891" y="149"/>
                </a:lnTo>
                <a:lnTo>
                  <a:pt x="918" y="161"/>
                </a:lnTo>
                <a:lnTo>
                  <a:pt x="915" y="198"/>
                </a:lnTo>
                <a:lnTo>
                  <a:pt x="948" y="255"/>
                </a:lnTo>
                <a:lnTo>
                  <a:pt x="963" y="284"/>
                </a:lnTo>
                <a:lnTo>
                  <a:pt x="981" y="294"/>
                </a:lnTo>
                <a:lnTo>
                  <a:pt x="981" y="308"/>
                </a:lnTo>
                <a:lnTo>
                  <a:pt x="977" y="326"/>
                </a:lnTo>
                <a:lnTo>
                  <a:pt x="966" y="335"/>
                </a:lnTo>
                <a:lnTo>
                  <a:pt x="951" y="356"/>
                </a:lnTo>
                <a:lnTo>
                  <a:pt x="956" y="377"/>
                </a:lnTo>
                <a:lnTo>
                  <a:pt x="959" y="398"/>
                </a:lnTo>
                <a:lnTo>
                  <a:pt x="954" y="426"/>
                </a:lnTo>
                <a:lnTo>
                  <a:pt x="963" y="446"/>
                </a:lnTo>
                <a:lnTo>
                  <a:pt x="956" y="462"/>
                </a:lnTo>
                <a:lnTo>
                  <a:pt x="960" y="489"/>
                </a:lnTo>
                <a:lnTo>
                  <a:pt x="953" y="497"/>
                </a:lnTo>
                <a:lnTo>
                  <a:pt x="920" y="500"/>
                </a:lnTo>
                <a:lnTo>
                  <a:pt x="894" y="506"/>
                </a:lnTo>
                <a:lnTo>
                  <a:pt x="882" y="530"/>
                </a:lnTo>
                <a:lnTo>
                  <a:pt x="879" y="567"/>
                </a:lnTo>
                <a:lnTo>
                  <a:pt x="885" y="546"/>
                </a:lnTo>
                <a:lnTo>
                  <a:pt x="882" y="593"/>
                </a:lnTo>
                <a:lnTo>
                  <a:pt x="870" y="602"/>
                </a:lnTo>
                <a:lnTo>
                  <a:pt x="849" y="587"/>
                </a:lnTo>
                <a:lnTo>
                  <a:pt x="821" y="612"/>
                </a:lnTo>
                <a:lnTo>
                  <a:pt x="800" y="615"/>
                </a:lnTo>
                <a:lnTo>
                  <a:pt x="767" y="618"/>
                </a:lnTo>
                <a:lnTo>
                  <a:pt x="747" y="611"/>
                </a:lnTo>
                <a:lnTo>
                  <a:pt x="728" y="615"/>
                </a:lnTo>
                <a:lnTo>
                  <a:pt x="705" y="602"/>
                </a:lnTo>
                <a:lnTo>
                  <a:pt x="663" y="605"/>
                </a:lnTo>
                <a:lnTo>
                  <a:pt x="647" y="624"/>
                </a:lnTo>
                <a:lnTo>
                  <a:pt x="617" y="615"/>
                </a:lnTo>
                <a:lnTo>
                  <a:pt x="567" y="636"/>
                </a:lnTo>
                <a:lnTo>
                  <a:pt x="557" y="654"/>
                </a:lnTo>
                <a:lnTo>
                  <a:pt x="552" y="672"/>
                </a:lnTo>
                <a:lnTo>
                  <a:pt x="522" y="704"/>
                </a:lnTo>
                <a:lnTo>
                  <a:pt x="524" y="717"/>
                </a:lnTo>
                <a:lnTo>
                  <a:pt x="509" y="728"/>
                </a:lnTo>
                <a:lnTo>
                  <a:pt x="480" y="725"/>
                </a:lnTo>
                <a:lnTo>
                  <a:pt x="474" y="738"/>
                </a:lnTo>
                <a:lnTo>
                  <a:pt x="450" y="746"/>
                </a:lnTo>
                <a:lnTo>
                  <a:pt x="443" y="761"/>
                </a:lnTo>
                <a:lnTo>
                  <a:pt x="420" y="753"/>
                </a:lnTo>
                <a:lnTo>
                  <a:pt x="416" y="738"/>
                </a:lnTo>
                <a:lnTo>
                  <a:pt x="395" y="741"/>
                </a:lnTo>
                <a:lnTo>
                  <a:pt x="368" y="738"/>
                </a:lnTo>
                <a:lnTo>
                  <a:pt x="348" y="758"/>
                </a:lnTo>
                <a:lnTo>
                  <a:pt x="312" y="767"/>
                </a:lnTo>
                <a:lnTo>
                  <a:pt x="291" y="756"/>
                </a:lnTo>
                <a:lnTo>
                  <a:pt x="269" y="771"/>
                </a:lnTo>
                <a:lnTo>
                  <a:pt x="212" y="770"/>
                </a:lnTo>
                <a:lnTo>
                  <a:pt x="206" y="762"/>
                </a:lnTo>
                <a:lnTo>
                  <a:pt x="198" y="746"/>
                </a:lnTo>
                <a:lnTo>
                  <a:pt x="183" y="738"/>
                </a:lnTo>
                <a:lnTo>
                  <a:pt x="168" y="738"/>
                </a:lnTo>
                <a:lnTo>
                  <a:pt x="146" y="735"/>
                </a:lnTo>
                <a:lnTo>
                  <a:pt x="134" y="749"/>
                </a:lnTo>
                <a:lnTo>
                  <a:pt x="108" y="752"/>
                </a:lnTo>
                <a:lnTo>
                  <a:pt x="81" y="665"/>
                </a:lnTo>
                <a:lnTo>
                  <a:pt x="63" y="653"/>
                </a:lnTo>
                <a:lnTo>
                  <a:pt x="50" y="651"/>
                </a:lnTo>
                <a:lnTo>
                  <a:pt x="56" y="630"/>
                </a:lnTo>
                <a:lnTo>
                  <a:pt x="26" y="597"/>
                </a:lnTo>
                <a:lnTo>
                  <a:pt x="18" y="573"/>
                </a:lnTo>
                <a:lnTo>
                  <a:pt x="18" y="558"/>
                </a:lnTo>
                <a:lnTo>
                  <a:pt x="11" y="539"/>
                </a:lnTo>
                <a:lnTo>
                  <a:pt x="22" y="530"/>
                </a:lnTo>
                <a:lnTo>
                  <a:pt x="39" y="495"/>
                </a:lnTo>
                <a:lnTo>
                  <a:pt x="14" y="473"/>
                </a:lnTo>
                <a:lnTo>
                  <a:pt x="14" y="468"/>
                </a:lnTo>
                <a:lnTo>
                  <a:pt x="9" y="456"/>
                </a:lnTo>
                <a:lnTo>
                  <a:pt x="2" y="444"/>
                </a:lnTo>
                <a:lnTo>
                  <a:pt x="0" y="425"/>
                </a:lnTo>
                <a:lnTo>
                  <a:pt x="32" y="414"/>
                </a:lnTo>
                <a:lnTo>
                  <a:pt x="38" y="392"/>
                </a:lnTo>
                <a:lnTo>
                  <a:pt x="20" y="368"/>
                </a:lnTo>
                <a:lnTo>
                  <a:pt x="29" y="342"/>
                </a:lnTo>
                <a:lnTo>
                  <a:pt x="17" y="323"/>
                </a:lnTo>
                <a:lnTo>
                  <a:pt x="45" y="291"/>
                </a:lnTo>
              </a:path>
            </a:pathLst>
          </a:custGeom>
          <a:solidFill>
            <a:srgbClr val="003300">
              <a:alpha val="67000"/>
            </a:srgbClr>
          </a:solidFill>
          <a:ln w="46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"/>
          <p:cNvSpPr/>
          <p:nvPr/>
        </p:nvSpPr>
        <p:spPr>
          <a:xfrm rot="420000">
            <a:off x="885600" y="1496520"/>
            <a:ext cx="3402000" cy="3297240"/>
          </a:xfrm>
          <a:custGeom>
            <a:avLst/>
            <a:gdLst/>
            <a:ahLst/>
            <a:rect l="l" t="t" r="r" b="b"/>
            <a:pathLst>
              <a:path w="441" h="421">
                <a:moveTo>
                  <a:pt x="329" y="372"/>
                </a:moveTo>
                <a:lnTo>
                  <a:pt x="325" y="372"/>
                </a:lnTo>
                <a:lnTo>
                  <a:pt x="322" y="369"/>
                </a:lnTo>
                <a:lnTo>
                  <a:pt x="320" y="367"/>
                </a:lnTo>
                <a:lnTo>
                  <a:pt x="320" y="366"/>
                </a:lnTo>
                <a:lnTo>
                  <a:pt x="319" y="364"/>
                </a:lnTo>
                <a:lnTo>
                  <a:pt x="309" y="356"/>
                </a:lnTo>
                <a:lnTo>
                  <a:pt x="302" y="352"/>
                </a:lnTo>
                <a:lnTo>
                  <a:pt x="299" y="352"/>
                </a:lnTo>
                <a:lnTo>
                  <a:pt x="295" y="351"/>
                </a:lnTo>
                <a:lnTo>
                  <a:pt x="292" y="349"/>
                </a:lnTo>
                <a:lnTo>
                  <a:pt x="287" y="346"/>
                </a:lnTo>
                <a:lnTo>
                  <a:pt x="285" y="342"/>
                </a:lnTo>
                <a:lnTo>
                  <a:pt x="275" y="332"/>
                </a:lnTo>
                <a:lnTo>
                  <a:pt x="270" y="329"/>
                </a:lnTo>
                <a:lnTo>
                  <a:pt x="269" y="329"/>
                </a:lnTo>
                <a:lnTo>
                  <a:pt x="267" y="329"/>
                </a:lnTo>
                <a:lnTo>
                  <a:pt x="265" y="329"/>
                </a:lnTo>
                <a:lnTo>
                  <a:pt x="262" y="329"/>
                </a:lnTo>
                <a:lnTo>
                  <a:pt x="259" y="329"/>
                </a:lnTo>
                <a:lnTo>
                  <a:pt x="252" y="327"/>
                </a:lnTo>
                <a:lnTo>
                  <a:pt x="250" y="326"/>
                </a:lnTo>
                <a:lnTo>
                  <a:pt x="240" y="321"/>
                </a:lnTo>
                <a:lnTo>
                  <a:pt x="237" y="319"/>
                </a:lnTo>
                <a:lnTo>
                  <a:pt x="235" y="317"/>
                </a:lnTo>
                <a:lnTo>
                  <a:pt x="229" y="317"/>
                </a:lnTo>
                <a:lnTo>
                  <a:pt x="225" y="319"/>
                </a:lnTo>
                <a:lnTo>
                  <a:pt x="217" y="322"/>
                </a:lnTo>
                <a:lnTo>
                  <a:pt x="215" y="324"/>
                </a:lnTo>
                <a:lnTo>
                  <a:pt x="210" y="327"/>
                </a:lnTo>
                <a:lnTo>
                  <a:pt x="205" y="327"/>
                </a:lnTo>
                <a:lnTo>
                  <a:pt x="202" y="324"/>
                </a:lnTo>
                <a:lnTo>
                  <a:pt x="195" y="319"/>
                </a:lnTo>
                <a:lnTo>
                  <a:pt x="195" y="312"/>
                </a:lnTo>
                <a:lnTo>
                  <a:pt x="199" y="311"/>
                </a:lnTo>
                <a:lnTo>
                  <a:pt x="195" y="306"/>
                </a:lnTo>
                <a:lnTo>
                  <a:pt x="184" y="299"/>
                </a:lnTo>
                <a:lnTo>
                  <a:pt x="175" y="297"/>
                </a:lnTo>
                <a:lnTo>
                  <a:pt x="169" y="291"/>
                </a:lnTo>
                <a:lnTo>
                  <a:pt x="164" y="287"/>
                </a:lnTo>
                <a:lnTo>
                  <a:pt x="162" y="286"/>
                </a:lnTo>
                <a:lnTo>
                  <a:pt x="160" y="284"/>
                </a:lnTo>
                <a:lnTo>
                  <a:pt x="157" y="284"/>
                </a:lnTo>
                <a:lnTo>
                  <a:pt x="152" y="279"/>
                </a:lnTo>
                <a:lnTo>
                  <a:pt x="142" y="269"/>
                </a:lnTo>
                <a:lnTo>
                  <a:pt x="138" y="264"/>
                </a:lnTo>
                <a:lnTo>
                  <a:pt x="132" y="255"/>
                </a:lnTo>
                <a:lnTo>
                  <a:pt x="128" y="249"/>
                </a:lnTo>
                <a:lnTo>
                  <a:pt x="130" y="247"/>
                </a:lnTo>
                <a:lnTo>
                  <a:pt x="135" y="249"/>
                </a:lnTo>
                <a:lnTo>
                  <a:pt x="142" y="249"/>
                </a:lnTo>
                <a:lnTo>
                  <a:pt x="140" y="244"/>
                </a:lnTo>
                <a:lnTo>
                  <a:pt x="143" y="244"/>
                </a:lnTo>
                <a:lnTo>
                  <a:pt x="145" y="245"/>
                </a:lnTo>
                <a:lnTo>
                  <a:pt x="148" y="247"/>
                </a:lnTo>
                <a:lnTo>
                  <a:pt x="152" y="247"/>
                </a:lnTo>
                <a:lnTo>
                  <a:pt x="159" y="247"/>
                </a:lnTo>
                <a:lnTo>
                  <a:pt x="157" y="245"/>
                </a:lnTo>
                <a:lnTo>
                  <a:pt x="155" y="245"/>
                </a:lnTo>
                <a:lnTo>
                  <a:pt x="153" y="245"/>
                </a:lnTo>
                <a:lnTo>
                  <a:pt x="138" y="237"/>
                </a:lnTo>
                <a:lnTo>
                  <a:pt x="132" y="230"/>
                </a:lnTo>
                <a:lnTo>
                  <a:pt x="128" y="227"/>
                </a:lnTo>
                <a:lnTo>
                  <a:pt x="125" y="222"/>
                </a:lnTo>
                <a:lnTo>
                  <a:pt x="118" y="217"/>
                </a:lnTo>
                <a:lnTo>
                  <a:pt x="117" y="215"/>
                </a:lnTo>
                <a:lnTo>
                  <a:pt x="115" y="214"/>
                </a:lnTo>
                <a:lnTo>
                  <a:pt x="112" y="209"/>
                </a:lnTo>
                <a:lnTo>
                  <a:pt x="108" y="204"/>
                </a:lnTo>
                <a:lnTo>
                  <a:pt x="108" y="202"/>
                </a:lnTo>
                <a:lnTo>
                  <a:pt x="107" y="192"/>
                </a:lnTo>
                <a:lnTo>
                  <a:pt x="107" y="187"/>
                </a:lnTo>
                <a:lnTo>
                  <a:pt x="107" y="184"/>
                </a:lnTo>
                <a:lnTo>
                  <a:pt x="108" y="180"/>
                </a:lnTo>
                <a:lnTo>
                  <a:pt x="108" y="175"/>
                </a:lnTo>
                <a:lnTo>
                  <a:pt x="100" y="160"/>
                </a:lnTo>
                <a:lnTo>
                  <a:pt x="98" y="159"/>
                </a:lnTo>
                <a:lnTo>
                  <a:pt x="95" y="159"/>
                </a:lnTo>
                <a:lnTo>
                  <a:pt x="93" y="157"/>
                </a:lnTo>
                <a:lnTo>
                  <a:pt x="88" y="154"/>
                </a:lnTo>
                <a:lnTo>
                  <a:pt x="82" y="147"/>
                </a:lnTo>
                <a:lnTo>
                  <a:pt x="73" y="140"/>
                </a:lnTo>
                <a:lnTo>
                  <a:pt x="70" y="140"/>
                </a:lnTo>
                <a:lnTo>
                  <a:pt x="62" y="137"/>
                </a:lnTo>
                <a:lnTo>
                  <a:pt x="58" y="142"/>
                </a:lnTo>
                <a:lnTo>
                  <a:pt x="57" y="150"/>
                </a:lnTo>
                <a:lnTo>
                  <a:pt x="57" y="154"/>
                </a:lnTo>
                <a:lnTo>
                  <a:pt x="57" y="157"/>
                </a:lnTo>
                <a:lnTo>
                  <a:pt x="55" y="160"/>
                </a:lnTo>
                <a:lnTo>
                  <a:pt x="55" y="162"/>
                </a:lnTo>
                <a:lnTo>
                  <a:pt x="52" y="167"/>
                </a:lnTo>
                <a:lnTo>
                  <a:pt x="50" y="170"/>
                </a:lnTo>
                <a:lnTo>
                  <a:pt x="52" y="177"/>
                </a:lnTo>
                <a:lnTo>
                  <a:pt x="50" y="179"/>
                </a:lnTo>
                <a:lnTo>
                  <a:pt x="47" y="180"/>
                </a:lnTo>
                <a:lnTo>
                  <a:pt x="40" y="187"/>
                </a:lnTo>
                <a:lnTo>
                  <a:pt x="38" y="192"/>
                </a:lnTo>
                <a:lnTo>
                  <a:pt x="38" y="195"/>
                </a:lnTo>
                <a:lnTo>
                  <a:pt x="40" y="195"/>
                </a:lnTo>
                <a:lnTo>
                  <a:pt x="33" y="200"/>
                </a:lnTo>
                <a:lnTo>
                  <a:pt x="27" y="192"/>
                </a:lnTo>
                <a:lnTo>
                  <a:pt x="28" y="190"/>
                </a:lnTo>
                <a:lnTo>
                  <a:pt x="22" y="179"/>
                </a:lnTo>
                <a:lnTo>
                  <a:pt x="15" y="172"/>
                </a:lnTo>
                <a:lnTo>
                  <a:pt x="8" y="160"/>
                </a:lnTo>
                <a:lnTo>
                  <a:pt x="8" y="150"/>
                </a:lnTo>
                <a:lnTo>
                  <a:pt x="7" y="145"/>
                </a:lnTo>
                <a:lnTo>
                  <a:pt x="2" y="135"/>
                </a:lnTo>
                <a:lnTo>
                  <a:pt x="0" y="124"/>
                </a:lnTo>
                <a:lnTo>
                  <a:pt x="3" y="125"/>
                </a:lnTo>
                <a:lnTo>
                  <a:pt x="7" y="127"/>
                </a:lnTo>
                <a:lnTo>
                  <a:pt x="10" y="129"/>
                </a:lnTo>
                <a:lnTo>
                  <a:pt x="13" y="130"/>
                </a:lnTo>
                <a:lnTo>
                  <a:pt x="15" y="130"/>
                </a:lnTo>
                <a:lnTo>
                  <a:pt x="30" y="129"/>
                </a:lnTo>
                <a:lnTo>
                  <a:pt x="33" y="127"/>
                </a:lnTo>
                <a:lnTo>
                  <a:pt x="35" y="127"/>
                </a:lnTo>
                <a:lnTo>
                  <a:pt x="47" y="125"/>
                </a:lnTo>
                <a:lnTo>
                  <a:pt x="65" y="122"/>
                </a:lnTo>
                <a:lnTo>
                  <a:pt x="67" y="122"/>
                </a:lnTo>
                <a:lnTo>
                  <a:pt x="73" y="115"/>
                </a:lnTo>
                <a:lnTo>
                  <a:pt x="75" y="109"/>
                </a:lnTo>
                <a:lnTo>
                  <a:pt x="78" y="102"/>
                </a:lnTo>
                <a:lnTo>
                  <a:pt x="80" y="102"/>
                </a:lnTo>
                <a:lnTo>
                  <a:pt x="80" y="105"/>
                </a:lnTo>
                <a:lnTo>
                  <a:pt x="82" y="109"/>
                </a:lnTo>
                <a:lnTo>
                  <a:pt x="90" y="117"/>
                </a:lnTo>
                <a:lnTo>
                  <a:pt x="98" y="122"/>
                </a:lnTo>
                <a:lnTo>
                  <a:pt x="100" y="122"/>
                </a:lnTo>
                <a:lnTo>
                  <a:pt x="103" y="120"/>
                </a:lnTo>
                <a:lnTo>
                  <a:pt x="108" y="119"/>
                </a:lnTo>
                <a:lnTo>
                  <a:pt x="117" y="120"/>
                </a:lnTo>
                <a:lnTo>
                  <a:pt x="123" y="125"/>
                </a:lnTo>
                <a:lnTo>
                  <a:pt x="132" y="120"/>
                </a:lnTo>
                <a:lnTo>
                  <a:pt x="133" y="112"/>
                </a:lnTo>
                <a:lnTo>
                  <a:pt x="132" y="107"/>
                </a:lnTo>
                <a:lnTo>
                  <a:pt x="132" y="102"/>
                </a:lnTo>
                <a:lnTo>
                  <a:pt x="135" y="100"/>
                </a:lnTo>
                <a:lnTo>
                  <a:pt x="135" y="94"/>
                </a:lnTo>
                <a:lnTo>
                  <a:pt x="130" y="95"/>
                </a:lnTo>
                <a:lnTo>
                  <a:pt x="130" y="92"/>
                </a:lnTo>
                <a:lnTo>
                  <a:pt x="132" y="89"/>
                </a:lnTo>
                <a:lnTo>
                  <a:pt x="133" y="89"/>
                </a:lnTo>
                <a:lnTo>
                  <a:pt x="145" y="80"/>
                </a:lnTo>
                <a:lnTo>
                  <a:pt x="153" y="79"/>
                </a:lnTo>
                <a:lnTo>
                  <a:pt x="155" y="79"/>
                </a:lnTo>
                <a:lnTo>
                  <a:pt x="157" y="80"/>
                </a:lnTo>
                <a:lnTo>
                  <a:pt x="159" y="79"/>
                </a:lnTo>
                <a:lnTo>
                  <a:pt x="160" y="67"/>
                </a:lnTo>
                <a:lnTo>
                  <a:pt x="159" y="55"/>
                </a:lnTo>
                <a:lnTo>
                  <a:pt x="155" y="53"/>
                </a:lnTo>
                <a:lnTo>
                  <a:pt x="152" y="52"/>
                </a:lnTo>
                <a:lnTo>
                  <a:pt x="150" y="48"/>
                </a:lnTo>
                <a:lnTo>
                  <a:pt x="150" y="47"/>
                </a:lnTo>
                <a:lnTo>
                  <a:pt x="150" y="43"/>
                </a:lnTo>
                <a:lnTo>
                  <a:pt x="153" y="38"/>
                </a:lnTo>
                <a:lnTo>
                  <a:pt x="155" y="37"/>
                </a:lnTo>
                <a:lnTo>
                  <a:pt x="164" y="35"/>
                </a:lnTo>
                <a:lnTo>
                  <a:pt x="179" y="27"/>
                </a:lnTo>
                <a:lnTo>
                  <a:pt x="184" y="23"/>
                </a:lnTo>
                <a:lnTo>
                  <a:pt x="182" y="20"/>
                </a:lnTo>
                <a:lnTo>
                  <a:pt x="182" y="18"/>
                </a:lnTo>
                <a:lnTo>
                  <a:pt x="187" y="15"/>
                </a:lnTo>
                <a:lnTo>
                  <a:pt x="195" y="13"/>
                </a:lnTo>
                <a:lnTo>
                  <a:pt x="194" y="5"/>
                </a:lnTo>
                <a:lnTo>
                  <a:pt x="195" y="3"/>
                </a:lnTo>
                <a:lnTo>
                  <a:pt x="197" y="2"/>
                </a:lnTo>
                <a:lnTo>
                  <a:pt x="200" y="0"/>
                </a:lnTo>
                <a:lnTo>
                  <a:pt x="204" y="0"/>
                </a:lnTo>
                <a:lnTo>
                  <a:pt x="209" y="2"/>
                </a:lnTo>
                <a:lnTo>
                  <a:pt x="212" y="2"/>
                </a:lnTo>
                <a:lnTo>
                  <a:pt x="214" y="3"/>
                </a:lnTo>
                <a:lnTo>
                  <a:pt x="217" y="5"/>
                </a:lnTo>
                <a:lnTo>
                  <a:pt x="219" y="5"/>
                </a:lnTo>
                <a:lnTo>
                  <a:pt x="220" y="5"/>
                </a:lnTo>
                <a:lnTo>
                  <a:pt x="222" y="5"/>
                </a:lnTo>
                <a:lnTo>
                  <a:pt x="224" y="5"/>
                </a:lnTo>
                <a:lnTo>
                  <a:pt x="235" y="12"/>
                </a:lnTo>
                <a:lnTo>
                  <a:pt x="239" y="15"/>
                </a:lnTo>
                <a:lnTo>
                  <a:pt x="240" y="17"/>
                </a:lnTo>
                <a:lnTo>
                  <a:pt x="242" y="20"/>
                </a:lnTo>
                <a:lnTo>
                  <a:pt x="242" y="22"/>
                </a:lnTo>
                <a:lnTo>
                  <a:pt x="242" y="23"/>
                </a:lnTo>
                <a:lnTo>
                  <a:pt x="245" y="25"/>
                </a:lnTo>
                <a:lnTo>
                  <a:pt x="247" y="27"/>
                </a:lnTo>
                <a:lnTo>
                  <a:pt x="249" y="28"/>
                </a:lnTo>
                <a:lnTo>
                  <a:pt x="254" y="30"/>
                </a:lnTo>
                <a:lnTo>
                  <a:pt x="262" y="32"/>
                </a:lnTo>
                <a:lnTo>
                  <a:pt x="265" y="35"/>
                </a:lnTo>
                <a:lnTo>
                  <a:pt x="270" y="42"/>
                </a:lnTo>
                <a:lnTo>
                  <a:pt x="272" y="45"/>
                </a:lnTo>
                <a:lnTo>
                  <a:pt x="272" y="48"/>
                </a:lnTo>
                <a:lnTo>
                  <a:pt x="277" y="53"/>
                </a:lnTo>
                <a:lnTo>
                  <a:pt x="280" y="55"/>
                </a:lnTo>
                <a:lnTo>
                  <a:pt x="282" y="57"/>
                </a:lnTo>
                <a:lnTo>
                  <a:pt x="285" y="57"/>
                </a:lnTo>
                <a:lnTo>
                  <a:pt x="287" y="53"/>
                </a:lnTo>
                <a:lnTo>
                  <a:pt x="297" y="55"/>
                </a:lnTo>
                <a:lnTo>
                  <a:pt x="300" y="58"/>
                </a:lnTo>
                <a:lnTo>
                  <a:pt x="302" y="60"/>
                </a:lnTo>
                <a:lnTo>
                  <a:pt x="302" y="63"/>
                </a:lnTo>
                <a:lnTo>
                  <a:pt x="304" y="65"/>
                </a:lnTo>
                <a:lnTo>
                  <a:pt x="320" y="68"/>
                </a:lnTo>
                <a:lnTo>
                  <a:pt x="329" y="68"/>
                </a:lnTo>
                <a:lnTo>
                  <a:pt x="341" y="67"/>
                </a:lnTo>
                <a:lnTo>
                  <a:pt x="344" y="67"/>
                </a:lnTo>
                <a:lnTo>
                  <a:pt x="346" y="67"/>
                </a:lnTo>
                <a:lnTo>
                  <a:pt x="347" y="68"/>
                </a:lnTo>
                <a:lnTo>
                  <a:pt x="354" y="68"/>
                </a:lnTo>
                <a:lnTo>
                  <a:pt x="359" y="68"/>
                </a:lnTo>
                <a:lnTo>
                  <a:pt x="361" y="68"/>
                </a:lnTo>
                <a:lnTo>
                  <a:pt x="369" y="62"/>
                </a:lnTo>
                <a:lnTo>
                  <a:pt x="372" y="58"/>
                </a:lnTo>
                <a:lnTo>
                  <a:pt x="374" y="55"/>
                </a:lnTo>
                <a:lnTo>
                  <a:pt x="381" y="48"/>
                </a:lnTo>
                <a:lnTo>
                  <a:pt x="386" y="50"/>
                </a:lnTo>
                <a:lnTo>
                  <a:pt x="387" y="48"/>
                </a:lnTo>
                <a:lnTo>
                  <a:pt x="387" y="47"/>
                </a:lnTo>
                <a:lnTo>
                  <a:pt x="389" y="52"/>
                </a:lnTo>
                <a:lnTo>
                  <a:pt x="394" y="57"/>
                </a:lnTo>
                <a:lnTo>
                  <a:pt x="396" y="57"/>
                </a:lnTo>
                <a:lnTo>
                  <a:pt x="399" y="60"/>
                </a:lnTo>
                <a:lnTo>
                  <a:pt x="402" y="72"/>
                </a:lnTo>
                <a:lnTo>
                  <a:pt x="401" y="77"/>
                </a:lnTo>
                <a:lnTo>
                  <a:pt x="397" y="79"/>
                </a:lnTo>
                <a:lnTo>
                  <a:pt x="397" y="84"/>
                </a:lnTo>
                <a:lnTo>
                  <a:pt x="401" y="85"/>
                </a:lnTo>
                <a:lnTo>
                  <a:pt x="402" y="87"/>
                </a:lnTo>
                <a:lnTo>
                  <a:pt x="404" y="85"/>
                </a:lnTo>
                <a:lnTo>
                  <a:pt x="406" y="84"/>
                </a:lnTo>
                <a:lnTo>
                  <a:pt x="412" y="87"/>
                </a:lnTo>
                <a:lnTo>
                  <a:pt x="414" y="89"/>
                </a:lnTo>
                <a:lnTo>
                  <a:pt x="411" y="90"/>
                </a:lnTo>
                <a:lnTo>
                  <a:pt x="407" y="90"/>
                </a:lnTo>
                <a:lnTo>
                  <a:pt x="406" y="90"/>
                </a:lnTo>
                <a:lnTo>
                  <a:pt x="406" y="102"/>
                </a:lnTo>
                <a:lnTo>
                  <a:pt x="417" y="110"/>
                </a:lnTo>
                <a:lnTo>
                  <a:pt x="419" y="110"/>
                </a:lnTo>
                <a:lnTo>
                  <a:pt x="424" y="112"/>
                </a:lnTo>
                <a:lnTo>
                  <a:pt x="429" y="114"/>
                </a:lnTo>
                <a:lnTo>
                  <a:pt x="431" y="114"/>
                </a:lnTo>
                <a:lnTo>
                  <a:pt x="434" y="115"/>
                </a:lnTo>
                <a:lnTo>
                  <a:pt x="436" y="115"/>
                </a:lnTo>
                <a:lnTo>
                  <a:pt x="439" y="114"/>
                </a:lnTo>
                <a:lnTo>
                  <a:pt x="441" y="114"/>
                </a:lnTo>
                <a:lnTo>
                  <a:pt x="441" y="115"/>
                </a:lnTo>
                <a:lnTo>
                  <a:pt x="441" y="120"/>
                </a:lnTo>
                <a:lnTo>
                  <a:pt x="437" y="120"/>
                </a:lnTo>
                <a:lnTo>
                  <a:pt x="429" y="120"/>
                </a:lnTo>
                <a:lnTo>
                  <a:pt x="426" y="119"/>
                </a:lnTo>
                <a:lnTo>
                  <a:pt x="424" y="119"/>
                </a:lnTo>
                <a:lnTo>
                  <a:pt x="422" y="119"/>
                </a:lnTo>
                <a:lnTo>
                  <a:pt x="419" y="132"/>
                </a:lnTo>
                <a:lnTo>
                  <a:pt x="421" y="139"/>
                </a:lnTo>
                <a:lnTo>
                  <a:pt x="417" y="150"/>
                </a:lnTo>
                <a:lnTo>
                  <a:pt x="414" y="152"/>
                </a:lnTo>
                <a:lnTo>
                  <a:pt x="416" y="155"/>
                </a:lnTo>
                <a:lnTo>
                  <a:pt x="417" y="157"/>
                </a:lnTo>
                <a:lnTo>
                  <a:pt x="412" y="159"/>
                </a:lnTo>
                <a:lnTo>
                  <a:pt x="402" y="159"/>
                </a:lnTo>
                <a:lnTo>
                  <a:pt x="399" y="155"/>
                </a:lnTo>
                <a:lnTo>
                  <a:pt x="397" y="154"/>
                </a:lnTo>
                <a:lnTo>
                  <a:pt x="396" y="150"/>
                </a:lnTo>
                <a:lnTo>
                  <a:pt x="399" y="150"/>
                </a:lnTo>
                <a:lnTo>
                  <a:pt x="397" y="145"/>
                </a:lnTo>
                <a:lnTo>
                  <a:pt x="384" y="137"/>
                </a:lnTo>
                <a:lnTo>
                  <a:pt x="369" y="137"/>
                </a:lnTo>
                <a:lnTo>
                  <a:pt x="356" y="135"/>
                </a:lnTo>
                <a:lnTo>
                  <a:pt x="352" y="137"/>
                </a:lnTo>
                <a:lnTo>
                  <a:pt x="354" y="139"/>
                </a:lnTo>
                <a:lnTo>
                  <a:pt x="352" y="140"/>
                </a:lnTo>
                <a:lnTo>
                  <a:pt x="351" y="142"/>
                </a:lnTo>
                <a:lnTo>
                  <a:pt x="346" y="142"/>
                </a:lnTo>
                <a:lnTo>
                  <a:pt x="342" y="140"/>
                </a:lnTo>
                <a:lnTo>
                  <a:pt x="332" y="144"/>
                </a:lnTo>
                <a:lnTo>
                  <a:pt x="331" y="145"/>
                </a:lnTo>
                <a:lnTo>
                  <a:pt x="327" y="147"/>
                </a:lnTo>
                <a:lnTo>
                  <a:pt x="325" y="147"/>
                </a:lnTo>
                <a:lnTo>
                  <a:pt x="319" y="144"/>
                </a:lnTo>
                <a:lnTo>
                  <a:pt x="314" y="140"/>
                </a:lnTo>
                <a:lnTo>
                  <a:pt x="307" y="144"/>
                </a:lnTo>
                <a:lnTo>
                  <a:pt x="300" y="144"/>
                </a:lnTo>
                <a:lnTo>
                  <a:pt x="299" y="144"/>
                </a:lnTo>
                <a:lnTo>
                  <a:pt x="282" y="139"/>
                </a:lnTo>
                <a:lnTo>
                  <a:pt x="280" y="142"/>
                </a:lnTo>
                <a:lnTo>
                  <a:pt x="275" y="142"/>
                </a:lnTo>
                <a:lnTo>
                  <a:pt x="267" y="139"/>
                </a:lnTo>
                <a:lnTo>
                  <a:pt x="265" y="137"/>
                </a:lnTo>
                <a:lnTo>
                  <a:pt x="255" y="132"/>
                </a:lnTo>
                <a:lnTo>
                  <a:pt x="250" y="139"/>
                </a:lnTo>
                <a:lnTo>
                  <a:pt x="249" y="140"/>
                </a:lnTo>
                <a:lnTo>
                  <a:pt x="239" y="140"/>
                </a:lnTo>
                <a:lnTo>
                  <a:pt x="237" y="139"/>
                </a:lnTo>
                <a:lnTo>
                  <a:pt x="234" y="139"/>
                </a:lnTo>
                <a:lnTo>
                  <a:pt x="232" y="137"/>
                </a:lnTo>
                <a:lnTo>
                  <a:pt x="227" y="139"/>
                </a:lnTo>
                <a:lnTo>
                  <a:pt x="225" y="140"/>
                </a:lnTo>
                <a:lnTo>
                  <a:pt x="224" y="144"/>
                </a:lnTo>
                <a:lnTo>
                  <a:pt x="219" y="150"/>
                </a:lnTo>
                <a:lnTo>
                  <a:pt x="215" y="159"/>
                </a:lnTo>
                <a:lnTo>
                  <a:pt x="215" y="162"/>
                </a:lnTo>
                <a:lnTo>
                  <a:pt x="210" y="164"/>
                </a:lnTo>
                <a:lnTo>
                  <a:pt x="209" y="162"/>
                </a:lnTo>
                <a:lnTo>
                  <a:pt x="205" y="160"/>
                </a:lnTo>
                <a:lnTo>
                  <a:pt x="204" y="160"/>
                </a:lnTo>
                <a:lnTo>
                  <a:pt x="197" y="152"/>
                </a:lnTo>
                <a:lnTo>
                  <a:pt x="189" y="142"/>
                </a:lnTo>
                <a:lnTo>
                  <a:pt x="182" y="142"/>
                </a:lnTo>
                <a:lnTo>
                  <a:pt x="179" y="142"/>
                </a:lnTo>
                <a:lnTo>
                  <a:pt x="175" y="145"/>
                </a:lnTo>
                <a:lnTo>
                  <a:pt x="174" y="147"/>
                </a:lnTo>
                <a:lnTo>
                  <a:pt x="172" y="149"/>
                </a:lnTo>
                <a:lnTo>
                  <a:pt x="170" y="159"/>
                </a:lnTo>
                <a:lnTo>
                  <a:pt x="170" y="160"/>
                </a:lnTo>
                <a:lnTo>
                  <a:pt x="172" y="175"/>
                </a:lnTo>
                <a:lnTo>
                  <a:pt x="172" y="187"/>
                </a:lnTo>
                <a:lnTo>
                  <a:pt x="174" y="190"/>
                </a:lnTo>
                <a:lnTo>
                  <a:pt x="182" y="197"/>
                </a:lnTo>
                <a:lnTo>
                  <a:pt x="187" y="197"/>
                </a:lnTo>
                <a:lnTo>
                  <a:pt x="189" y="199"/>
                </a:lnTo>
                <a:lnTo>
                  <a:pt x="194" y="207"/>
                </a:lnTo>
                <a:lnTo>
                  <a:pt x="195" y="210"/>
                </a:lnTo>
                <a:lnTo>
                  <a:pt x="199" y="215"/>
                </a:lnTo>
                <a:lnTo>
                  <a:pt x="202" y="217"/>
                </a:lnTo>
                <a:lnTo>
                  <a:pt x="204" y="219"/>
                </a:lnTo>
                <a:lnTo>
                  <a:pt x="210" y="234"/>
                </a:lnTo>
                <a:lnTo>
                  <a:pt x="210" y="237"/>
                </a:lnTo>
                <a:lnTo>
                  <a:pt x="207" y="250"/>
                </a:lnTo>
                <a:lnTo>
                  <a:pt x="209" y="250"/>
                </a:lnTo>
                <a:lnTo>
                  <a:pt x="212" y="250"/>
                </a:lnTo>
                <a:lnTo>
                  <a:pt x="215" y="249"/>
                </a:lnTo>
                <a:lnTo>
                  <a:pt x="217" y="250"/>
                </a:lnTo>
                <a:lnTo>
                  <a:pt x="220" y="254"/>
                </a:lnTo>
                <a:lnTo>
                  <a:pt x="222" y="257"/>
                </a:lnTo>
                <a:lnTo>
                  <a:pt x="224" y="260"/>
                </a:lnTo>
                <a:lnTo>
                  <a:pt x="230" y="265"/>
                </a:lnTo>
                <a:lnTo>
                  <a:pt x="232" y="265"/>
                </a:lnTo>
                <a:lnTo>
                  <a:pt x="237" y="265"/>
                </a:lnTo>
                <a:lnTo>
                  <a:pt x="239" y="267"/>
                </a:lnTo>
                <a:lnTo>
                  <a:pt x="247" y="277"/>
                </a:lnTo>
                <a:lnTo>
                  <a:pt x="252" y="282"/>
                </a:lnTo>
                <a:lnTo>
                  <a:pt x="254" y="286"/>
                </a:lnTo>
                <a:lnTo>
                  <a:pt x="264" y="296"/>
                </a:lnTo>
                <a:lnTo>
                  <a:pt x="272" y="306"/>
                </a:lnTo>
                <a:lnTo>
                  <a:pt x="274" y="307"/>
                </a:lnTo>
                <a:lnTo>
                  <a:pt x="275" y="309"/>
                </a:lnTo>
                <a:lnTo>
                  <a:pt x="282" y="314"/>
                </a:lnTo>
                <a:lnTo>
                  <a:pt x="284" y="314"/>
                </a:lnTo>
                <a:lnTo>
                  <a:pt x="287" y="316"/>
                </a:lnTo>
                <a:lnTo>
                  <a:pt x="290" y="317"/>
                </a:lnTo>
                <a:lnTo>
                  <a:pt x="297" y="319"/>
                </a:lnTo>
                <a:lnTo>
                  <a:pt x="299" y="321"/>
                </a:lnTo>
                <a:lnTo>
                  <a:pt x="300" y="322"/>
                </a:lnTo>
                <a:lnTo>
                  <a:pt x="299" y="324"/>
                </a:lnTo>
                <a:lnTo>
                  <a:pt x="302" y="334"/>
                </a:lnTo>
                <a:lnTo>
                  <a:pt x="304" y="337"/>
                </a:lnTo>
                <a:lnTo>
                  <a:pt x="304" y="339"/>
                </a:lnTo>
                <a:lnTo>
                  <a:pt x="315" y="349"/>
                </a:lnTo>
                <a:lnTo>
                  <a:pt x="327" y="354"/>
                </a:lnTo>
                <a:lnTo>
                  <a:pt x="329" y="356"/>
                </a:lnTo>
                <a:lnTo>
                  <a:pt x="332" y="359"/>
                </a:lnTo>
                <a:lnTo>
                  <a:pt x="334" y="361"/>
                </a:lnTo>
                <a:lnTo>
                  <a:pt x="336" y="362"/>
                </a:lnTo>
                <a:lnTo>
                  <a:pt x="337" y="369"/>
                </a:lnTo>
                <a:lnTo>
                  <a:pt x="329" y="372"/>
                </a:lnTo>
                <a:moveTo>
                  <a:pt x="336" y="377"/>
                </a:moveTo>
                <a:lnTo>
                  <a:pt x="339" y="374"/>
                </a:lnTo>
                <a:lnTo>
                  <a:pt x="339" y="372"/>
                </a:lnTo>
                <a:lnTo>
                  <a:pt x="342" y="374"/>
                </a:lnTo>
                <a:lnTo>
                  <a:pt x="347" y="374"/>
                </a:lnTo>
                <a:lnTo>
                  <a:pt x="351" y="379"/>
                </a:lnTo>
                <a:lnTo>
                  <a:pt x="354" y="382"/>
                </a:lnTo>
                <a:lnTo>
                  <a:pt x="361" y="386"/>
                </a:lnTo>
                <a:lnTo>
                  <a:pt x="364" y="387"/>
                </a:lnTo>
                <a:lnTo>
                  <a:pt x="377" y="394"/>
                </a:lnTo>
                <a:lnTo>
                  <a:pt x="384" y="397"/>
                </a:lnTo>
                <a:lnTo>
                  <a:pt x="387" y="401"/>
                </a:lnTo>
                <a:lnTo>
                  <a:pt x="391" y="401"/>
                </a:lnTo>
                <a:lnTo>
                  <a:pt x="392" y="399"/>
                </a:lnTo>
                <a:lnTo>
                  <a:pt x="394" y="399"/>
                </a:lnTo>
                <a:lnTo>
                  <a:pt x="397" y="401"/>
                </a:lnTo>
                <a:lnTo>
                  <a:pt x="402" y="404"/>
                </a:lnTo>
                <a:lnTo>
                  <a:pt x="402" y="409"/>
                </a:lnTo>
                <a:lnTo>
                  <a:pt x="402" y="412"/>
                </a:lnTo>
                <a:lnTo>
                  <a:pt x="404" y="414"/>
                </a:lnTo>
                <a:lnTo>
                  <a:pt x="407" y="416"/>
                </a:lnTo>
                <a:lnTo>
                  <a:pt x="409" y="417"/>
                </a:lnTo>
                <a:lnTo>
                  <a:pt x="409" y="421"/>
                </a:lnTo>
                <a:lnTo>
                  <a:pt x="396" y="412"/>
                </a:lnTo>
                <a:lnTo>
                  <a:pt x="382" y="406"/>
                </a:lnTo>
                <a:lnTo>
                  <a:pt x="371" y="397"/>
                </a:lnTo>
                <a:lnTo>
                  <a:pt x="354" y="389"/>
                </a:lnTo>
                <a:lnTo>
                  <a:pt x="344" y="386"/>
                </a:lnTo>
                <a:lnTo>
                  <a:pt x="329" y="384"/>
                </a:lnTo>
                <a:lnTo>
                  <a:pt x="319" y="381"/>
                </a:lnTo>
                <a:lnTo>
                  <a:pt x="314" y="377"/>
                </a:lnTo>
                <a:lnTo>
                  <a:pt x="300" y="371"/>
                </a:lnTo>
                <a:lnTo>
                  <a:pt x="299" y="372"/>
                </a:lnTo>
                <a:lnTo>
                  <a:pt x="295" y="372"/>
                </a:lnTo>
                <a:lnTo>
                  <a:pt x="290" y="372"/>
                </a:lnTo>
                <a:lnTo>
                  <a:pt x="285" y="371"/>
                </a:lnTo>
                <a:lnTo>
                  <a:pt x="284" y="366"/>
                </a:lnTo>
                <a:lnTo>
                  <a:pt x="305" y="367"/>
                </a:lnTo>
                <a:lnTo>
                  <a:pt x="307" y="367"/>
                </a:lnTo>
                <a:lnTo>
                  <a:pt x="319" y="372"/>
                </a:lnTo>
                <a:lnTo>
                  <a:pt x="325" y="376"/>
                </a:lnTo>
                <a:lnTo>
                  <a:pt x="336" y="379"/>
                </a:lnTo>
                <a:lnTo>
                  <a:pt x="336" y="377"/>
                </a:lnTo>
                <a:moveTo>
                  <a:pt x="95" y="179"/>
                </a:moveTo>
                <a:lnTo>
                  <a:pt x="93" y="179"/>
                </a:lnTo>
                <a:lnTo>
                  <a:pt x="92" y="179"/>
                </a:lnTo>
                <a:lnTo>
                  <a:pt x="87" y="177"/>
                </a:lnTo>
                <a:lnTo>
                  <a:pt x="75" y="170"/>
                </a:lnTo>
                <a:lnTo>
                  <a:pt x="73" y="169"/>
                </a:lnTo>
                <a:lnTo>
                  <a:pt x="72" y="167"/>
                </a:lnTo>
                <a:lnTo>
                  <a:pt x="72" y="165"/>
                </a:lnTo>
                <a:lnTo>
                  <a:pt x="78" y="149"/>
                </a:lnTo>
                <a:lnTo>
                  <a:pt x="78" y="147"/>
                </a:lnTo>
                <a:lnTo>
                  <a:pt x="82" y="149"/>
                </a:lnTo>
                <a:lnTo>
                  <a:pt x="88" y="160"/>
                </a:lnTo>
                <a:lnTo>
                  <a:pt x="92" y="165"/>
                </a:lnTo>
                <a:lnTo>
                  <a:pt x="98" y="172"/>
                </a:lnTo>
                <a:lnTo>
                  <a:pt x="100" y="172"/>
                </a:lnTo>
                <a:lnTo>
                  <a:pt x="100" y="174"/>
                </a:lnTo>
                <a:lnTo>
                  <a:pt x="100" y="175"/>
                </a:lnTo>
                <a:lnTo>
                  <a:pt x="97" y="179"/>
                </a:lnTo>
                <a:lnTo>
                  <a:pt x="95" y="179"/>
                </a:lnTo>
                <a:moveTo>
                  <a:pt x="257" y="346"/>
                </a:moveTo>
                <a:lnTo>
                  <a:pt x="252" y="346"/>
                </a:lnTo>
                <a:lnTo>
                  <a:pt x="249" y="346"/>
                </a:lnTo>
                <a:lnTo>
                  <a:pt x="244" y="346"/>
                </a:lnTo>
                <a:lnTo>
                  <a:pt x="242" y="344"/>
                </a:lnTo>
                <a:lnTo>
                  <a:pt x="235" y="342"/>
                </a:lnTo>
                <a:lnTo>
                  <a:pt x="235" y="341"/>
                </a:lnTo>
                <a:lnTo>
                  <a:pt x="237" y="334"/>
                </a:lnTo>
                <a:lnTo>
                  <a:pt x="249" y="334"/>
                </a:lnTo>
                <a:lnTo>
                  <a:pt x="257" y="334"/>
                </a:lnTo>
                <a:lnTo>
                  <a:pt x="262" y="334"/>
                </a:lnTo>
                <a:lnTo>
                  <a:pt x="264" y="334"/>
                </a:lnTo>
                <a:lnTo>
                  <a:pt x="265" y="336"/>
                </a:lnTo>
                <a:lnTo>
                  <a:pt x="272" y="337"/>
                </a:lnTo>
                <a:lnTo>
                  <a:pt x="272" y="341"/>
                </a:lnTo>
                <a:lnTo>
                  <a:pt x="269" y="344"/>
                </a:lnTo>
                <a:lnTo>
                  <a:pt x="267" y="344"/>
                </a:lnTo>
                <a:lnTo>
                  <a:pt x="265" y="344"/>
                </a:lnTo>
                <a:lnTo>
                  <a:pt x="259" y="344"/>
                </a:lnTo>
                <a:lnTo>
                  <a:pt x="259" y="346"/>
                </a:lnTo>
                <a:lnTo>
                  <a:pt x="257" y="346"/>
                </a:lnTo>
                <a:moveTo>
                  <a:pt x="78" y="215"/>
                </a:moveTo>
                <a:lnTo>
                  <a:pt x="75" y="214"/>
                </a:lnTo>
                <a:lnTo>
                  <a:pt x="70" y="207"/>
                </a:lnTo>
                <a:lnTo>
                  <a:pt x="65" y="190"/>
                </a:lnTo>
                <a:lnTo>
                  <a:pt x="65" y="184"/>
                </a:lnTo>
                <a:lnTo>
                  <a:pt x="67" y="184"/>
                </a:lnTo>
                <a:lnTo>
                  <a:pt x="70" y="184"/>
                </a:lnTo>
                <a:lnTo>
                  <a:pt x="68" y="179"/>
                </a:lnTo>
                <a:lnTo>
                  <a:pt x="65" y="170"/>
                </a:lnTo>
                <a:lnTo>
                  <a:pt x="65" y="169"/>
                </a:lnTo>
                <a:lnTo>
                  <a:pt x="63" y="167"/>
                </a:lnTo>
                <a:lnTo>
                  <a:pt x="62" y="167"/>
                </a:lnTo>
                <a:lnTo>
                  <a:pt x="60" y="164"/>
                </a:lnTo>
                <a:lnTo>
                  <a:pt x="58" y="162"/>
                </a:lnTo>
                <a:lnTo>
                  <a:pt x="62" y="157"/>
                </a:lnTo>
                <a:lnTo>
                  <a:pt x="62" y="155"/>
                </a:lnTo>
                <a:lnTo>
                  <a:pt x="65" y="157"/>
                </a:lnTo>
                <a:lnTo>
                  <a:pt x="67" y="159"/>
                </a:lnTo>
                <a:lnTo>
                  <a:pt x="65" y="160"/>
                </a:lnTo>
                <a:lnTo>
                  <a:pt x="65" y="162"/>
                </a:lnTo>
                <a:lnTo>
                  <a:pt x="65" y="164"/>
                </a:lnTo>
                <a:lnTo>
                  <a:pt x="67" y="169"/>
                </a:lnTo>
                <a:lnTo>
                  <a:pt x="70" y="174"/>
                </a:lnTo>
                <a:lnTo>
                  <a:pt x="70" y="175"/>
                </a:lnTo>
                <a:lnTo>
                  <a:pt x="72" y="175"/>
                </a:lnTo>
                <a:lnTo>
                  <a:pt x="75" y="192"/>
                </a:lnTo>
                <a:lnTo>
                  <a:pt x="77" y="202"/>
                </a:lnTo>
                <a:lnTo>
                  <a:pt x="80" y="209"/>
                </a:lnTo>
                <a:lnTo>
                  <a:pt x="82" y="212"/>
                </a:lnTo>
                <a:lnTo>
                  <a:pt x="80" y="215"/>
                </a:lnTo>
                <a:lnTo>
                  <a:pt x="78" y="215"/>
                </a:lnTo>
                <a:moveTo>
                  <a:pt x="97" y="205"/>
                </a:moveTo>
                <a:lnTo>
                  <a:pt x="107" y="214"/>
                </a:lnTo>
                <a:lnTo>
                  <a:pt x="110" y="214"/>
                </a:lnTo>
                <a:lnTo>
                  <a:pt x="112" y="214"/>
                </a:lnTo>
                <a:lnTo>
                  <a:pt x="113" y="215"/>
                </a:lnTo>
                <a:lnTo>
                  <a:pt x="120" y="222"/>
                </a:lnTo>
                <a:lnTo>
                  <a:pt x="123" y="225"/>
                </a:lnTo>
                <a:lnTo>
                  <a:pt x="122" y="225"/>
                </a:lnTo>
                <a:lnTo>
                  <a:pt x="118" y="222"/>
                </a:lnTo>
                <a:lnTo>
                  <a:pt x="115" y="222"/>
                </a:lnTo>
                <a:lnTo>
                  <a:pt x="118" y="225"/>
                </a:lnTo>
                <a:lnTo>
                  <a:pt x="122" y="229"/>
                </a:lnTo>
                <a:lnTo>
                  <a:pt x="120" y="225"/>
                </a:lnTo>
                <a:lnTo>
                  <a:pt x="122" y="227"/>
                </a:lnTo>
                <a:lnTo>
                  <a:pt x="125" y="229"/>
                </a:lnTo>
                <a:lnTo>
                  <a:pt x="127" y="230"/>
                </a:lnTo>
                <a:lnTo>
                  <a:pt x="137" y="239"/>
                </a:lnTo>
                <a:lnTo>
                  <a:pt x="138" y="240"/>
                </a:lnTo>
                <a:lnTo>
                  <a:pt x="135" y="244"/>
                </a:lnTo>
                <a:lnTo>
                  <a:pt x="132" y="245"/>
                </a:lnTo>
                <a:lnTo>
                  <a:pt x="130" y="244"/>
                </a:lnTo>
                <a:lnTo>
                  <a:pt x="128" y="244"/>
                </a:lnTo>
                <a:lnTo>
                  <a:pt x="127" y="242"/>
                </a:lnTo>
                <a:lnTo>
                  <a:pt x="120" y="232"/>
                </a:lnTo>
                <a:lnTo>
                  <a:pt x="118" y="230"/>
                </a:lnTo>
                <a:lnTo>
                  <a:pt x="112" y="224"/>
                </a:lnTo>
                <a:lnTo>
                  <a:pt x="97" y="207"/>
                </a:lnTo>
                <a:lnTo>
                  <a:pt x="97" y="205"/>
                </a:lnTo>
                <a:moveTo>
                  <a:pt x="287" y="359"/>
                </a:moveTo>
                <a:lnTo>
                  <a:pt x="274" y="359"/>
                </a:lnTo>
                <a:lnTo>
                  <a:pt x="257" y="361"/>
                </a:lnTo>
                <a:lnTo>
                  <a:pt x="255" y="361"/>
                </a:lnTo>
                <a:lnTo>
                  <a:pt x="247" y="359"/>
                </a:lnTo>
                <a:lnTo>
                  <a:pt x="240" y="357"/>
                </a:lnTo>
                <a:lnTo>
                  <a:pt x="239" y="357"/>
                </a:lnTo>
                <a:lnTo>
                  <a:pt x="234" y="354"/>
                </a:lnTo>
                <a:lnTo>
                  <a:pt x="240" y="352"/>
                </a:lnTo>
                <a:lnTo>
                  <a:pt x="242" y="352"/>
                </a:lnTo>
                <a:lnTo>
                  <a:pt x="249" y="351"/>
                </a:lnTo>
                <a:lnTo>
                  <a:pt x="252" y="351"/>
                </a:lnTo>
                <a:lnTo>
                  <a:pt x="255" y="352"/>
                </a:lnTo>
                <a:lnTo>
                  <a:pt x="267" y="356"/>
                </a:lnTo>
                <a:lnTo>
                  <a:pt x="279" y="356"/>
                </a:lnTo>
                <a:lnTo>
                  <a:pt x="292" y="356"/>
                </a:lnTo>
                <a:lnTo>
                  <a:pt x="292" y="357"/>
                </a:lnTo>
                <a:lnTo>
                  <a:pt x="287" y="359"/>
                </a:lnTo>
                <a:moveTo>
                  <a:pt x="275" y="382"/>
                </a:moveTo>
                <a:lnTo>
                  <a:pt x="272" y="382"/>
                </a:lnTo>
                <a:lnTo>
                  <a:pt x="264" y="381"/>
                </a:lnTo>
                <a:lnTo>
                  <a:pt x="259" y="381"/>
                </a:lnTo>
                <a:lnTo>
                  <a:pt x="255" y="376"/>
                </a:lnTo>
                <a:lnTo>
                  <a:pt x="257" y="374"/>
                </a:lnTo>
                <a:lnTo>
                  <a:pt x="260" y="374"/>
                </a:lnTo>
                <a:lnTo>
                  <a:pt x="262" y="374"/>
                </a:lnTo>
                <a:lnTo>
                  <a:pt x="264" y="374"/>
                </a:lnTo>
                <a:lnTo>
                  <a:pt x="265" y="376"/>
                </a:lnTo>
                <a:lnTo>
                  <a:pt x="267" y="376"/>
                </a:lnTo>
                <a:lnTo>
                  <a:pt x="270" y="376"/>
                </a:lnTo>
                <a:lnTo>
                  <a:pt x="274" y="376"/>
                </a:lnTo>
                <a:lnTo>
                  <a:pt x="275" y="376"/>
                </a:lnTo>
                <a:lnTo>
                  <a:pt x="277" y="376"/>
                </a:lnTo>
                <a:lnTo>
                  <a:pt x="277" y="374"/>
                </a:lnTo>
                <a:lnTo>
                  <a:pt x="280" y="374"/>
                </a:lnTo>
                <a:lnTo>
                  <a:pt x="282" y="374"/>
                </a:lnTo>
                <a:lnTo>
                  <a:pt x="285" y="372"/>
                </a:lnTo>
                <a:lnTo>
                  <a:pt x="287" y="372"/>
                </a:lnTo>
                <a:lnTo>
                  <a:pt x="295" y="374"/>
                </a:lnTo>
                <a:lnTo>
                  <a:pt x="299" y="377"/>
                </a:lnTo>
                <a:lnTo>
                  <a:pt x="295" y="379"/>
                </a:lnTo>
                <a:lnTo>
                  <a:pt x="294" y="379"/>
                </a:lnTo>
                <a:lnTo>
                  <a:pt x="280" y="381"/>
                </a:lnTo>
                <a:lnTo>
                  <a:pt x="275" y="382"/>
                </a:lnTo>
                <a:moveTo>
                  <a:pt x="346" y="397"/>
                </a:moveTo>
                <a:lnTo>
                  <a:pt x="344" y="397"/>
                </a:lnTo>
                <a:lnTo>
                  <a:pt x="342" y="396"/>
                </a:lnTo>
                <a:lnTo>
                  <a:pt x="341" y="396"/>
                </a:lnTo>
                <a:lnTo>
                  <a:pt x="336" y="396"/>
                </a:lnTo>
                <a:lnTo>
                  <a:pt x="334" y="396"/>
                </a:lnTo>
                <a:lnTo>
                  <a:pt x="329" y="396"/>
                </a:lnTo>
                <a:lnTo>
                  <a:pt x="315" y="394"/>
                </a:lnTo>
                <a:lnTo>
                  <a:pt x="314" y="392"/>
                </a:lnTo>
                <a:lnTo>
                  <a:pt x="312" y="392"/>
                </a:lnTo>
                <a:lnTo>
                  <a:pt x="310" y="391"/>
                </a:lnTo>
                <a:lnTo>
                  <a:pt x="314" y="389"/>
                </a:lnTo>
                <a:lnTo>
                  <a:pt x="315" y="389"/>
                </a:lnTo>
                <a:lnTo>
                  <a:pt x="317" y="389"/>
                </a:lnTo>
                <a:lnTo>
                  <a:pt x="339" y="394"/>
                </a:lnTo>
                <a:lnTo>
                  <a:pt x="344" y="396"/>
                </a:lnTo>
                <a:lnTo>
                  <a:pt x="346" y="397"/>
                </a:lnTo>
                <a:moveTo>
                  <a:pt x="137" y="291"/>
                </a:moveTo>
                <a:lnTo>
                  <a:pt x="133" y="289"/>
                </a:lnTo>
                <a:lnTo>
                  <a:pt x="133" y="287"/>
                </a:lnTo>
                <a:lnTo>
                  <a:pt x="130" y="286"/>
                </a:lnTo>
                <a:lnTo>
                  <a:pt x="130" y="284"/>
                </a:lnTo>
                <a:lnTo>
                  <a:pt x="127" y="282"/>
                </a:lnTo>
                <a:lnTo>
                  <a:pt x="127" y="281"/>
                </a:lnTo>
                <a:lnTo>
                  <a:pt x="125" y="279"/>
                </a:lnTo>
                <a:lnTo>
                  <a:pt x="123" y="277"/>
                </a:lnTo>
                <a:lnTo>
                  <a:pt x="123" y="276"/>
                </a:lnTo>
                <a:lnTo>
                  <a:pt x="120" y="272"/>
                </a:lnTo>
                <a:lnTo>
                  <a:pt x="118" y="270"/>
                </a:lnTo>
                <a:lnTo>
                  <a:pt x="115" y="267"/>
                </a:lnTo>
                <a:lnTo>
                  <a:pt x="112" y="264"/>
                </a:lnTo>
                <a:lnTo>
                  <a:pt x="110" y="264"/>
                </a:lnTo>
                <a:lnTo>
                  <a:pt x="110" y="262"/>
                </a:lnTo>
                <a:lnTo>
                  <a:pt x="108" y="260"/>
                </a:lnTo>
                <a:lnTo>
                  <a:pt x="120" y="269"/>
                </a:lnTo>
                <a:lnTo>
                  <a:pt x="123" y="274"/>
                </a:lnTo>
                <a:lnTo>
                  <a:pt x="125" y="276"/>
                </a:lnTo>
                <a:lnTo>
                  <a:pt x="128" y="279"/>
                </a:lnTo>
                <a:lnTo>
                  <a:pt x="133" y="282"/>
                </a:lnTo>
                <a:lnTo>
                  <a:pt x="138" y="286"/>
                </a:lnTo>
                <a:lnTo>
                  <a:pt x="140" y="287"/>
                </a:lnTo>
                <a:lnTo>
                  <a:pt x="138" y="287"/>
                </a:lnTo>
                <a:lnTo>
                  <a:pt x="137" y="291"/>
                </a:lnTo>
                <a:moveTo>
                  <a:pt x="214" y="376"/>
                </a:moveTo>
                <a:lnTo>
                  <a:pt x="212" y="376"/>
                </a:lnTo>
                <a:lnTo>
                  <a:pt x="210" y="371"/>
                </a:lnTo>
                <a:lnTo>
                  <a:pt x="210" y="369"/>
                </a:lnTo>
                <a:lnTo>
                  <a:pt x="212" y="369"/>
                </a:lnTo>
                <a:lnTo>
                  <a:pt x="214" y="369"/>
                </a:lnTo>
                <a:lnTo>
                  <a:pt x="215" y="369"/>
                </a:lnTo>
                <a:lnTo>
                  <a:pt x="217" y="367"/>
                </a:lnTo>
                <a:lnTo>
                  <a:pt x="220" y="367"/>
                </a:lnTo>
                <a:lnTo>
                  <a:pt x="224" y="367"/>
                </a:lnTo>
                <a:lnTo>
                  <a:pt x="225" y="369"/>
                </a:lnTo>
                <a:lnTo>
                  <a:pt x="222" y="374"/>
                </a:lnTo>
                <a:lnTo>
                  <a:pt x="214" y="376"/>
                </a:lnTo>
                <a:moveTo>
                  <a:pt x="82" y="230"/>
                </a:moveTo>
                <a:lnTo>
                  <a:pt x="82" y="229"/>
                </a:lnTo>
                <a:lnTo>
                  <a:pt x="70" y="217"/>
                </a:lnTo>
                <a:lnTo>
                  <a:pt x="68" y="210"/>
                </a:lnTo>
                <a:lnTo>
                  <a:pt x="67" y="205"/>
                </a:lnTo>
                <a:lnTo>
                  <a:pt x="70" y="207"/>
                </a:lnTo>
                <a:lnTo>
                  <a:pt x="72" y="209"/>
                </a:lnTo>
                <a:lnTo>
                  <a:pt x="72" y="210"/>
                </a:lnTo>
                <a:lnTo>
                  <a:pt x="72" y="214"/>
                </a:lnTo>
                <a:lnTo>
                  <a:pt x="72" y="217"/>
                </a:lnTo>
                <a:lnTo>
                  <a:pt x="73" y="217"/>
                </a:lnTo>
                <a:lnTo>
                  <a:pt x="73" y="219"/>
                </a:lnTo>
                <a:lnTo>
                  <a:pt x="78" y="224"/>
                </a:lnTo>
                <a:lnTo>
                  <a:pt x="80" y="224"/>
                </a:lnTo>
                <a:lnTo>
                  <a:pt x="82" y="225"/>
                </a:lnTo>
                <a:lnTo>
                  <a:pt x="83" y="227"/>
                </a:lnTo>
                <a:lnTo>
                  <a:pt x="82" y="229"/>
                </a:lnTo>
                <a:lnTo>
                  <a:pt x="82" y="230"/>
                </a:lnTo>
              </a:path>
            </a:pathLst>
          </a:custGeom>
          <a:solidFill>
            <a:srgbClr val="003300">
              <a:alpha val="67000"/>
            </a:srgbClr>
          </a:solidFill>
          <a:ln w="46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"/>
          <p:cNvSpPr/>
          <p:nvPr/>
        </p:nvSpPr>
        <p:spPr>
          <a:xfrm>
            <a:off x="3770280" y="4014720"/>
            <a:ext cx="1163520" cy="1395360"/>
          </a:xfrm>
          <a:custGeom>
            <a:avLst/>
            <a:gdLst/>
            <a:ahLst/>
            <a:rect l="l" t="t" r="r" b="b"/>
            <a:pathLst>
              <a:path w="733" h="879">
                <a:moveTo>
                  <a:pt x="0" y="511"/>
                </a:moveTo>
                <a:lnTo>
                  <a:pt x="0" y="511"/>
                </a:lnTo>
                <a:lnTo>
                  <a:pt x="25" y="497"/>
                </a:lnTo>
                <a:lnTo>
                  <a:pt x="45" y="497"/>
                </a:lnTo>
                <a:lnTo>
                  <a:pt x="40" y="480"/>
                </a:lnTo>
                <a:lnTo>
                  <a:pt x="50" y="467"/>
                </a:lnTo>
                <a:lnTo>
                  <a:pt x="44" y="431"/>
                </a:lnTo>
                <a:lnTo>
                  <a:pt x="28" y="420"/>
                </a:lnTo>
                <a:lnTo>
                  <a:pt x="13" y="402"/>
                </a:lnTo>
                <a:lnTo>
                  <a:pt x="3" y="377"/>
                </a:lnTo>
                <a:lnTo>
                  <a:pt x="15" y="347"/>
                </a:lnTo>
                <a:lnTo>
                  <a:pt x="11" y="302"/>
                </a:lnTo>
                <a:lnTo>
                  <a:pt x="19" y="287"/>
                </a:lnTo>
                <a:lnTo>
                  <a:pt x="29" y="279"/>
                </a:lnTo>
                <a:lnTo>
                  <a:pt x="39" y="275"/>
                </a:lnTo>
                <a:lnTo>
                  <a:pt x="50" y="268"/>
                </a:lnTo>
                <a:lnTo>
                  <a:pt x="75" y="261"/>
                </a:lnTo>
                <a:lnTo>
                  <a:pt x="77" y="246"/>
                </a:lnTo>
                <a:lnTo>
                  <a:pt x="80" y="221"/>
                </a:lnTo>
                <a:lnTo>
                  <a:pt x="79" y="203"/>
                </a:lnTo>
                <a:lnTo>
                  <a:pt x="102" y="153"/>
                </a:lnTo>
                <a:lnTo>
                  <a:pt x="108" y="134"/>
                </a:lnTo>
                <a:lnTo>
                  <a:pt x="150" y="114"/>
                </a:lnTo>
                <a:lnTo>
                  <a:pt x="156" y="96"/>
                </a:lnTo>
                <a:lnTo>
                  <a:pt x="175" y="98"/>
                </a:lnTo>
                <a:lnTo>
                  <a:pt x="192" y="120"/>
                </a:lnTo>
                <a:lnTo>
                  <a:pt x="195" y="135"/>
                </a:lnTo>
                <a:lnTo>
                  <a:pt x="215" y="153"/>
                </a:lnTo>
                <a:lnTo>
                  <a:pt x="227" y="139"/>
                </a:lnTo>
                <a:lnTo>
                  <a:pt x="246" y="127"/>
                </a:lnTo>
                <a:lnTo>
                  <a:pt x="226" y="54"/>
                </a:lnTo>
                <a:lnTo>
                  <a:pt x="216" y="52"/>
                </a:lnTo>
                <a:lnTo>
                  <a:pt x="206" y="46"/>
                </a:lnTo>
                <a:lnTo>
                  <a:pt x="207" y="29"/>
                </a:lnTo>
                <a:lnTo>
                  <a:pt x="194" y="20"/>
                </a:lnTo>
                <a:lnTo>
                  <a:pt x="217" y="0"/>
                </a:lnTo>
                <a:lnTo>
                  <a:pt x="244" y="30"/>
                </a:lnTo>
                <a:lnTo>
                  <a:pt x="271" y="15"/>
                </a:lnTo>
                <a:lnTo>
                  <a:pt x="283" y="29"/>
                </a:lnTo>
                <a:lnTo>
                  <a:pt x="295" y="47"/>
                </a:lnTo>
                <a:lnTo>
                  <a:pt x="319" y="55"/>
                </a:lnTo>
                <a:lnTo>
                  <a:pt x="343" y="79"/>
                </a:lnTo>
                <a:lnTo>
                  <a:pt x="361" y="79"/>
                </a:lnTo>
                <a:lnTo>
                  <a:pt x="377" y="109"/>
                </a:lnTo>
                <a:lnTo>
                  <a:pt x="403" y="129"/>
                </a:lnTo>
                <a:lnTo>
                  <a:pt x="405" y="155"/>
                </a:lnTo>
                <a:lnTo>
                  <a:pt x="433" y="167"/>
                </a:lnTo>
                <a:lnTo>
                  <a:pt x="447" y="195"/>
                </a:lnTo>
                <a:lnTo>
                  <a:pt x="479" y="203"/>
                </a:lnTo>
                <a:lnTo>
                  <a:pt x="489" y="195"/>
                </a:lnTo>
                <a:lnTo>
                  <a:pt x="498" y="216"/>
                </a:lnTo>
                <a:lnTo>
                  <a:pt x="520" y="237"/>
                </a:lnTo>
                <a:lnTo>
                  <a:pt x="538" y="233"/>
                </a:lnTo>
                <a:lnTo>
                  <a:pt x="555" y="236"/>
                </a:lnTo>
                <a:lnTo>
                  <a:pt x="570" y="225"/>
                </a:lnTo>
                <a:lnTo>
                  <a:pt x="576" y="242"/>
                </a:lnTo>
                <a:lnTo>
                  <a:pt x="627" y="270"/>
                </a:lnTo>
                <a:lnTo>
                  <a:pt x="633" y="290"/>
                </a:lnTo>
                <a:lnTo>
                  <a:pt x="646" y="302"/>
                </a:lnTo>
                <a:lnTo>
                  <a:pt x="681" y="303"/>
                </a:lnTo>
                <a:lnTo>
                  <a:pt x="705" y="317"/>
                </a:lnTo>
                <a:lnTo>
                  <a:pt x="718" y="327"/>
                </a:lnTo>
                <a:lnTo>
                  <a:pt x="731" y="332"/>
                </a:lnTo>
                <a:lnTo>
                  <a:pt x="733" y="365"/>
                </a:lnTo>
                <a:lnTo>
                  <a:pt x="715" y="375"/>
                </a:lnTo>
                <a:lnTo>
                  <a:pt x="689" y="380"/>
                </a:lnTo>
                <a:lnTo>
                  <a:pt x="678" y="392"/>
                </a:lnTo>
                <a:lnTo>
                  <a:pt x="679" y="407"/>
                </a:lnTo>
                <a:lnTo>
                  <a:pt x="666" y="411"/>
                </a:lnTo>
                <a:lnTo>
                  <a:pt x="630" y="395"/>
                </a:lnTo>
                <a:lnTo>
                  <a:pt x="603" y="417"/>
                </a:lnTo>
                <a:lnTo>
                  <a:pt x="606" y="435"/>
                </a:lnTo>
                <a:lnTo>
                  <a:pt x="634" y="461"/>
                </a:lnTo>
                <a:lnTo>
                  <a:pt x="628" y="480"/>
                </a:lnTo>
                <a:lnTo>
                  <a:pt x="625" y="504"/>
                </a:lnTo>
                <a:lnTo>
                  <a:pt x="604" y="509"/>
                </a:lnTo>
                <a:lnTo>
                  <a:pt x="588" y="528"/>
                </a:lnTo>
                <a:lnTo>
                  <a:pt x="565" y="527"/>
                </a:lnTo>
                <a:lnTo>
                  <a:pt x="546" y="539"/>
                </a:lnTo>
                <a:lnTo>
                  <a:pt x="531" y="552"/>
                </a:lnTo>
                <a:lnTo>
                  <a:pt x="513" y="543"/>
                </a:lnTo>
                <a:lnTo>
                  <a:pt x="500" y="522"/>
                </a:lnTo>
                <a:lnTo>
                  <a:pt x="508" y="498"/>
                </a:lnTo>
                <a:lnTo>
                  <a:pt x="507" y="473"/>
                </a:lnTo>
                <a:lnTo>
                  <a:pt x="489" y="447"/>
                </a:lnTo>
                <a:lnTo>
                  <a:pt x="466" y="468"/>
                </a:lnTo>
                <a:lnTo>
                  <a:pt x="450" y="491"/>
                </a:lnTo>
                <a:lnTo>
                  <a:pt x="448" y="506"/>
                </a:lnTo>
                <a:lnTo>
                  <a:pt x="444" y="516"/>
                </a:lnTo>
                <a:lnTo>
                  <a:pt x="420" y="528"/>
                </a:lnTo>
                <a:lnTo>
                  <a:pt x="412" y="558"/>
                </a:lnTo>
                <a:lnTo>
                  <a:pt x="387" y="590"/>
                </a:lnTo>
                <a:lnTo>
                  <a:pt x="370" y="605"/>
                </a:lnTo>
                <a:lnTo>
                  <a:pt x="361" y="636"/>
                </a:lnTo>
                <a:lnTo>
                  <a:pt x="334" y="683"/>
                </a:lnTo>
                <a:lnTo>
                  <a:pt x="315" y="705"/>
                </a:lnTo>
                <a:lnTo>
                  <a:pt x="331" y="728"/>
                </a:lnTo>
                <a:lnTo>
                  <a:pt x="348" y="740"/>
                </a:lnTo>
                <a:lnTo>
                  <a:pt x="354" y="744"/>
                </a:lnTo>
                <a:lnTo>
                  <a:pt x="358" y="756"/>
                </a:lnTo>
                <a:lnTo>
                  <a:pt x="351" y="767"/>
                </a:lnTo>
                <a:lnTo>
                  <a:pt x="345" y="794"/>
                </a:lnTo>
                <a:lnTo>
                  <a:pt x="346" y="804"/>
                </a:lnTo>
                <a:lnTo>
                  <a:pt x="345" y="822"/>
                </a:lnTo>
                <a:lnTo>
                  <a:pt x="343" y="838"/>
                </a:lnTo>
                <a:lnTo>
                  <a:pt x="350" y="854"/>
                </a:lnTo>
                <a:lnTo>
                  <a:pt x="351" y="879"/>
                </a:lnTo>
                <a:lnTo>
                  <a:pt x="329" y="866"/>
                </a:lnTo>
                <a:lnTo>
                  <a:pt x="325" y="861"/>
                </a:lnTo>
                <a:lnTo>
                  <a:pt x="300" y="858"/>
                </a:lnTo>
                <a:lnTo>
                  <a:pt x="277" y="845"/>
                </a:lnTo>
                <a:lnTo>
                  <a:pt x="269" y="834"/>
                </a:lnTo>
                <a:lnTo>
                  <a:pt x="261" y="817"/>
                </a:lnTo>
                <a:lnTo>
                  <a:pt x="262" y="804"/>
                </a:lnTo>
                <a:lnTo>
                  <a:pt x="265" y="784"/>
                </a:lnTo>
                <a:lnTo>
                  <a:pt x="239" y="750"/>
                </a:lnTo>
                <a:lnTo>
                  <a:pt x="230" y="739"/>
                </a:lnTo>
                <a:lnTo>
                  <a:pt x="217" y="728"/>
                </a:lnTo>
                <a:lnTo>
                  <a:pt x="199" y="710"/>
                </a:lnTo>
                <a:lnTo>
                  <a:pt x="164" y="667"/>
                </a:lnTo>
                <a:lnTo>
                  <a:pt x="150" y="665"/>
                </a:lnTo>
                <a:lnTo>
                  <a:pt x="141" y="664"/>
                </a:lnTo>
                <a:lnTo>
                  <a:pt x="118" y="645"/>
                </a:lnTo>
                <a:lnTo>
                  <a:pt x="73" y="610"/>
                </a:lnTo>
                <a:lnTo>
                  <a:pt x="61" y="619"/>
                </a:lnTo>
                <a:lnTo>
                  <a:pt x="48" y="607"/>
                </a:lnTo>
                <a:lnTo>
                  <a:pt x="39" y="570"/>
                </a:lnTo>
                <a:lnTo>
                  <a:pt x="58" y="572"/>
                </a:lnTo>
                <a:lnTo>
                  <a:pt x="64" y="594"/>
                </a:lnTo>
                <a:lnTo>
                  <a:pt x="98" y="598"/>
                </a:lnTo>
                <a:lnTo>
                  <a:pt x="99" y="588"/>
                </a:lnTo>
                <a:lnTo>
                  <a:pt x="87" y="572"/>
                </a:lnTo>
                <a:lnTo>
                  <a:pt x="24" y="567"/>
                </a:lnTo>
                <a:lnTo>
                  <a:pt x="18" y="573"/>
                </a:lnTo>
                <a:lnTo>
                  <a:pt x="18" y="573"/>
                </a:lnTo>
                <a:lnTo>
                  <a:pt x="10" y="560"/>
                </a:lnTo>
                <a:lnTo>
                  <a:pt x="7" y="549"/>
                </a:lnTo>
                <a:lnTo>
                  <a:pt x="0" y="534"/>
                </a:lnTo>
                <a:lnTo>
                  <a:pt x="0" y="511"/>
                </a:lnTo>
                <a:lnTo>
                  <a:pt x="0" y="511"/>
                </a:lnTo>
                <a:close/>
              </a:path>
            </a:pathLst>
          </a:custGeom>
          <a:solidFill>
            <a:srgbClr val="003300">
              <a:alpha val="67000"/>
            </a:srgbClr>
          </a:solidFill>
          <a:ln w="46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"/>
          <p:cNvSpPr/>
          <p:nvPr/>
        </p:nvSpPr>
        <p:spPr>
          <a:xfrm>
            <a:off x="4745160" y="4041720"/>
            <a:ext cx="1162080" cy="1389240"/>
          </a:xfrm>
          <a:custGeom>
            <a:avLst/>
            <a:gdLst/>
            <a:ahLst/>
            <a:rect l="l" t="t" r="r" b="b"/>
            <a:pathLst>
              <a:path w="732" h="875">
                <a:moveTo>
                  <a:pt x="208" y="875"/>
                </a:moveTo>
                <a:lnTo>
                  <a:pt x="205" y="860"/>
                </a:lnTo>
                <a:lnTo>
                  <a:pt x="216" y="845"/>
                </a:lnTo>
                <a:lnTo>
                  <a:pt x="210" y="828"/>
                </a:lnTo>
                <a:lnTo>
                  <a:pt x="232" y="812"/>
                </a:lnTo>
                <a:lnTo>
                  <a:pt x="222" y="777"/>
                </a:lnTo>
                <a:lnTo>
                  <a:pt x="204" y="740"/>
                </a:lnTo>
                <a:lnTo>
                  <a:pt x="204" y="708"/>
                </a:lnTo>
                <a:lnTo>
                  <a:pt x="189" y="689"/>
                </a:lnTo>
                <a:lnTo>
                  <a:pt x="165" y="645"/>
                </a:lnTo>
                <a:lnTo>
                  <a:pt x="141" y="627"/>
                </a:lnTo>
                <a:lnTo>
                  <a:pt x="105" y="611"/>
                </a:lnTo>
                <a:lnTo>
                  <a:pt x="91" y="612"/>
                </a:lnTo>
                <a:lnTo>
                  <a:pt x="74" y="611"/>
                </a:lnTo>
                <a:lnTo>
                  <a:pt x="65" y="582"/>
                </a:lnTo>
                <a:lnTo>
                  <a:pt x="67" y="568"/>
                </a:lnTo>
                <a:lnTo>
                  <a:pt x="51" y="528"/>
                </a:lnTo>
                <a:lnTo>
                  <a:pt x="62" y="551"/>
                </a:lnTo>
                <a:lnTo>
                  <a:pt x="38" y="513"/>
                </a:lnTo>
                <a:lnTo>
                  <a:pt x="18" y="498"/>
                </a:lnTo>
                <a:lnTo>
                  <a:pt x="12" y="508"/>
                </a:lnTo>
                <a:lnTo>
                  <a:pt x="15" y="468"/>
                </a:lnTo>
                <a:lnTo>
                  <a:pt x="30" y="447"/>
                </a:lnTo>
                <a:lnTo>
                  <a:pt x="8" y="422"/>
                </a:lnTo>
                <a:lnTo>
                  <a:pt x="0" y="413"/>
                </a:lnTo>
                <a:lnTo>
                  <a:pt x="2" y="399"/>
                </a:lnTo>
                <a:lnTo>
                  <a:pt x="14" y="392"/>
                </a:lnTo>
                <a:lnTo>
                  <a:pt x="27" y="395"/>
                </a:lnTo>
                <a:lnTo>
                  <a:pt x="41" y="408"/>
                </a:lnTo>
                <a:lnTo>
                  <a:pt x="57" y="401"/>
                </a:lnTo>
                <a:lnTo>
                  <a:pt x="71" y="396"/>
                </a:lnTo>
                <a:lnTo>
                  <a:pt x="66" y="377"/>
                </a:lnTo>
                <a:lnTo>
                  <a:pt x="92" y="366"/>
                </a:lnTo>
                <a:lnTo>
                  <a:pt x="104" y="369"/>
                </a:lnTo>
                <a:lnTo>
                  <a:pt x="120" y="348"/>
                </a:lnTo>
                <a:lnTo>
                  <a:pt x="132" y="322"/>
                </a:lnTo>
                <a:lnTo>
                  <a:pt x="166" y="304"/>
                </a:lnTo>
                <a:lnTo>
                  <a:pt x="171" y="277"/>
                </a:lnTo>
                <a:lnTo>
                  <a:pt x="142" y="258"/>
                </a:lnTo>
                <a:lnTo>
                  <a:pt x="162" y="240"/>
                </a:lnTo>
                <a:lnTo>
                  <a:pt x="190" y="235"/>
                </a:lnTo>
                <a:lnTo>
                  <a:pt x="214" y="241"/>
                </a:lnTo>
                <a:lnTo>
                  <a:pt x="223" y="216"/>
                </a:lnTo>
                <a:lnTo>
                  <a:pt x="240" y="198"/>
                </a:lnTo>
                <a:lnTo>
                  <a:pt x="237" y="106"/>
                </a:lnTo>
                <a:lnTo>
                  <a:pt x="208" y="90"/>
                </a:lnTo>
                <a:lnTo>
                  <a:pt x="226" y="58"/>
                </a:lnTo>
                <a:lnTo>
                  <a:pt x="264" y="45"/>
                </a:lnTo>
                <a:lnTo>
                  <a:pt x="280" y="15"/>
                </a:lnTo>
                <a:lnTo>
                  <a:pt x="310" y="0"/>
                </a:lnTo>
                <a:lnTo>
                  <a:pt x="330" y="9"/>
                </a:lnTo>
                <a:lnTo>
                  <a:pt x="343" y="28"/>
                </a:lnTo>
                <a:lnTo>
                  <a:pt x="333" y="51"/>
                </a:lnTo>
                <a:lnTo>
                  <a:pt x="334" y="70"/>
                </a:lnTo>
                <a:lnTo>
                  <a:pt x="360" y="108"/>
                </a:lnTo>
                <a:lnTo>
                  <a:pt x="406" y="135"/>
                </a:lnTo>
                <a:lnTo>
                  <a:pt x="432" y="127"/>
                </a:lnTo>
                <a:lnTo>
                  <a:pt x="450" y="136"/>
                </a:lnTo>
                <a:lnTo>
                  <a:pt x="466" y="184"/>
                </a:lnTo>
                <a:lnTo>
                  <a:pt x="499" y="171"/>
                </a:lnTo>
                <a:lnTo>
                  <a:pt x="510" y="193"/>
                </a:lnTo>
                <a:lnTo>
                  <a:pt x="516" y="208"/>
                </a:lnTo>
                <a:lnTo>
                  <a:pt x="523" y="240"/>
                </a:lnTo>
                <a:lnTo>
                  <a:pt x="538" y="264"/>
                </a:lnTo>
                <a:lnTo>
                  <a:pt x="583" y="279"/>
                </a:lnTo>
                <a:lnTo>
                  <a:pt x="603" y="261"/>
                </a:lnTo>
                <a:lnTo>
                  <a:pt x="630" y="274"/>
                </a:lnTo>
                <a:lnTo>
                  <a:pt x="613" y="327"/>
                </a:lnTo>
                <a:lnTo>
                  <a:pt x="624" y="346"/>
                </a:lnTo>
                <a:lnTo>
                  <a:pt x="648" y="337"/>
                </a:lnTo>
                <a:lnTo>
                  <a:pt x="672" y="342"/>
                </a:lnTo>
                <a:lnTo>
                  <a:pt x="687" y="382"/>
                </a:lnTo>
                <a:lnTo>
                  <a:pt x="714" y="376"/>
                </a:lnTo>
                <a:lnTo>
                  <a:pt x="732" y="414"/>
                </a:lnTo>
                <a:lnTo>
                  <a:pt x="715" y="438"/>
                </a:lnTo>
                <a:lnTo>
                  <a:pt x="705" y="457"/>
                </a:lnTo>
                <a:lnTo>
                  <a:pt x="700" y="484"/>
                </a:lnTo>
                <a:lnTo>
                  <a:pt x="676" y="505"/>
                </a:lnTo>
                <a:lnTo>
                  <a:pt x="691" y="541"/>
                </a:lnTo>
                <a:lnTo>
                  <a:pt x="684" y="570"/>
                </a:lnTo>
                <a:lnTo>
                  <a:pt x="643" y="576"/>
                </a:lnTo>
                <a:lnTo>
                  <a:pt x="651" y="609"/>
                </a:lnTo>
                <a:lnTo>
                  <a:pt x="668" y="613"/>
                </a:lnTo>
                <a:lnTo>
                  <a:pt x="662" y="625"/>
                </a:lnTo>
                <a:lnTo>
                  <a:pt x="643" y="636"/>
                </a:lnTo>
                <a:lnTo>
                  <a:pt x="616" y="639"/>
                </a:lnTo>
                <a:lnTo>
                  <a:pt x="575" y="640"/>
                </a:lnTo>
                <a:lnTo>
                  <a:pt x="550" y="628"/>
                </a:lnTo>
                <a:lnTo>
                  <a:pt x="531" y="629"/>
                </a:lnTo>
                <a:lnTo>
                  <a:pt x="522" y="647"/>
                </a:lnTo>
                <a:lnTo>
                  <a:pt x="507" y="668"/>
                </a:lnTo>
                <a:lnTo>
                  <a:pt x="481" y="695"/>
                </a:lnTo>
                <a:lnTo>
                  <a:pt x="483" y="719"/>
                </a:lnTo>
                <a:lnTo>
                  <a:pt x="456" y="729"/>
                </a:lnTo>
                <a:lnTo>
                  <a:pt x="444" y="702"/>
                </a:lnTo>
                <a:lnTo>
                  <a:pt x="417" y="668"/>
                </a:lnTo>
                <a:lnTo>
                  <a:pt x="388" y="674"/>
                </a:lnTo>
                <a:lnTo>
                  <a:pt x="372" y="701"/>
                </a:lnTo>
                <a:lnTo>
                  <a:pt x="309" y="722"/>
                </a:lnTo>
                <a:lnTo>
                  <a:pt x="279" y="729"/>
                </a:lnTo>
                <a:lnTo>
                  <a:pt x="261" y="762"/>
                </a:lnTo>
                <a:lnTo>
                  <a:pt x="262" y="791"/>
                </a:lnTo>
                <a:lnTo>
                  <a:pt x="264" y="810"/>
                </a:lnTo>
                <a:lnTo>
                  <a:pt x="259" y="825"/>
                </a:lnTo>
                <a:lnTo>
                  <a:pt x="271" y="839"/>
                </a:lnTo>
                <a:lnTo>
                  <a:pt x="253" y="851"/>
                </a:lnTo>
                <a:lnTo>
                  <a:pt x="241" y="846"/>
                </a:lnTo>
                <a:lnTo>
                  <a:pt x="208" y="875"/>
                </a:lnTo>
                <a:close/>
              </a:path>
            </a:pathLst>
          </a:custGeom>
          <a:solidFill>
            <a:srgbClr val="009900">
              <a:alpha val="67000"/>
            </a:srgbClr>
          </a:solidFill>
          <a:ln w="324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"/>
          <p:cNvSpPr/>
          <p:nvPr/>
        </p:nvSpPr>
        <p:spPr>
          <a:xfrm>
            <a:off x="4284720" y="4743360"/>
            <a:ext cx="1092240" cy="2428920"/>
          </a:xfrm>
          <a:custGeom>
            <a:avLst/>
            <a:gdLst/>
            <a:ahLst/>
            <a:rect l="l" t="t" r="r" b="b"/>
            <a:pathLst>
              <a:path w="688" h="1530">
                <a:moveTo>
                  <a:pt x="104" y="492"/>
                </a:moveTo>
                <a:lnTo>
                  <a:pt x="114" y="483"/>
                </a:lnTo>
                <a:lnTo>
                  <a:pt x="118" y="445"/>
                </a:lnTo>
                <a:lnTo>
                  <a:pt x="111" y="429"/>
                </a:lnTo>
                <a:lnTo>
                  <a:pt x="89" y="417"/>
                </a:lnTo>
                <a:lnTo>
                  <a:pt x="66" y="405"/>
                </a:lnTo>
                <a:lnTo>
                  <a:pt x="56" y="403"/>
                </a:lnTo>
                <a:lnTo>
                  <a:pt x="34" y="402"/>
                </a:lnTo>
                <a:lnTo>
                  <a:pt x="22" y="378"/>
                </a:lnTo>
                <a:lnTo>
                  <a:pt x="30" y="354"/>
                </a:lnTo>
                <a:lnTo>
                  <a:pt x="30" y="326"/>
                </a:lnTo>
                <a:lnTo>
                  <a:pt x="40" y="302"/>
                </a:lnTo>
                <a:lnTo>
                  <a:pt x="37" y="279"/>
                </a:lnTo>
                <a:lnTo>
                  <a:pt x="24" y="268"/>
                </a:lnTo>
                <a:lnTo>
                  <a:pt x="4" y="248"/>
                </a:lnTo>
                <a:lnTo>
                  <a:pt x="28" y="216"/>
                </a:lnTo>
                <a:lnTo>
                  <a:pt x="46" y="177"/>
                </a:lnTo>
                <a:lnTo>
                  <a:pt x="52" y="150"/>
                </a:lnTo>
                <a:lnTo>
                  <a:pt x="85" y="122"/>
                </a:lnTo>
                <a:lnTo>
                  <a:pt x="106" y="74"/>
                </a:lnTo>
                <a:lnTo>
                  <a:pt x="130" y="56"/>
                </a:lnTo>
                <a:lnTo>
                  <a:pt x="132" y="36"/>
                </a:lnTo>
                <a:lnTo>
                  <a:pt x="142" y="29"/>
                </a:lnTo>
                <a:lnTo>
                  <a:pt x="162" y="0"/>
                </a:lnTo>
                <a:lnTo>
                  <a:pt x="173" y="5"/>
                </a:lnTo>
                <a:lnTo>
                  <a:pt x="175" y="29"/>
                </a:lnTo>
                <a:lnTo>
                  <a:pt x="167" y="52"/>
                </a:lnTo>
                <a:lnTo>
                  <a:pt x="179" y="78"/>
                </a:lnTo>
                <a:lnTo>
                  <a:pt x="187" y="89"/>
                </a:lnTo>
                <a:lnTo>
                  <a:pt x="211" y="93"/>
                </a:lnTo>
                <a:lnTo>
                  <a:pt x="246" y="81"/>
                </a:lnTo>
                <a:lnTo>
                  <a:pt x="276" y="77"/>
                </a:lnTo>
                <a:lnTo>
                  <a:pt x="295" y="53"/>
                </a:lnTo>
                <a:lnTo>
                  <a:pt x="309" y="66"/>
                </a:lnTo>
                <a:lnTo>
                  <a:pt x="326" y="72"/>
                </a:lnTo>
                <a:lnTo>
                  <a:pt x="345" y="108"/>
                </a:lnTo>
                <a:lnTo>
                  <a:pt x="349" y="154"/>
                </a:lnTo>
                <a:lnTo>
                  <a:pt x="363" y="164"/>
                </a:lnTo>
                <a:lnTo>
                  <a:pt x="400" y="169"/>
                </a:lnTo>
                <a:lnTo>
                  <a:pt x="410" y="170"/>
                </a:lnTo>
                <a:lnTo>
                  <a:pt x="442" y="193"/>
                </a:lnTo>
                <a:lnTo>
                  <a:pt x="464" y="211"/>
                </a:lnTo>
                <a:lnTo>
                  <a:pt x="468" y="220"/>
                </a:lnTo>
                <a:lnTo>
                  <a:pt x="491" y="301"/>
                </a:lnTo>
                <a:lnTo>
                  <a:pt x="500" y="346"/>
                </a:lnTo>
                <a:lnTo>
                  <a:pt x="499" y="360"/>
                </a:lnTo>
                <a:lnTo>
                  <a:pt x="493" y="369"/>
                </a:lnTo>
                <a:lnTo>
                  <a:pt x="496" y="384"/>
                </a:lnTo>
                <a:lnTo>
                  <a:pt x="486" y="401"/>
                </a:lnTo>
                <a:lnTo>
                  <a:pt x="489" y="438"/>
                </a:lnTo>
                <a:lnTo>
                  <a:pt x="472" y="462"/>
                </a:lnTo>
                <a:lnTo>
                  <a:pt x="478" y="491"/>
                </a:lnTo>
                <a:lnTo>
                  <a:pt x="472" y="524"/>
                </a:lnTo>
                <a:lnTo>
                  <a:pt x="486" y="536"/>
                </a:lnTo>
                <a:lnTo>
                  <a:pt x="481" y="554"/>
                </a:lnTo>
                <a:lnTo>
                  <a:pt x="456" y="567"/>
                </a:lnTo>
                <a:lnTo>
                  <a:pt x="447" y="588"/>
                </a:lnTo>
                <a:lnTo>
                  <a:pt x="456" y="605"/>
                </a:lnTo>
                <a:lnTo>
                  <a:pt x="471" y="627"/>
                </a:lnTo>
                <a:lnTo>
                  <a:pt x="492" y="642"/>
                </a:lnTo>
                <a:lnTo>
                  <a:pt x="483" y="663"/>
                </a:lnTo>
                <a:lnTo>
                  <a:pt x="468" y="683"/>
                </a:lnTo>
                <a:lnTo>
                  <a:pt x="471" y="719"/>
                </a:lnTo>
                <a:lnTo>
                  <a:pt x="490" y="762"/>
                </a:lnTo>
                <a:lnTo>
                  <a:pt x="502" y="785"/>
                </a:lnTo>
                <a:lnTo>
                  <a:pt x="499" y="806"/>
                </a:lnTo>
                <a:lnTo>
                  <a:pt x="538" y="816"/>
                </a:lnTo>
                <a:lnTo>
                  <a:pt x="555" y="881"/>
                </a:lnTo>
                <a:lnTo>
                  <a:pt x="564" y="909"/>
                </a:lnTo>
                <a:lnTo>
                  <a:pt x="586" y="908"/>
                </a:lnTo>
                <a:lnTo>
                  <a:pt x="595" y="902"/>
                </a:lnTo>
                <a:lnTo>
                  <a:pt x="610" y="893"/>
                </a:lnTo>
                <a:lnTo>
                  <a:pt x="634" y="896"/>
                </a:lnTo>
                <a:lnTo>
                  <a:pt x="648" y="897"/>
                </a:lnTo>
                <a:lnTo>
                  <a:pt x="659" y="910"/>
                </a:lnTo>
                <a:lnTo>
                  <a:pt x="663" y="945"/>
                </a:lnTo>
                <a:lnTo>
                  <a:pt x="654" y="963"/>
                </a:lnTo>
                <a:lnTo>
                  <a:pt x="655" y="987"/>
                </a:lnTo>
                <a:lnTo>
                  <a:pt x="678" y="998"/>
                </a:lnTo>
                <a:lnTo>
                  <a:pt x="688" y="1014"/>
                </a:lnTo>
                <a:lnTo>
                  <a:pt x="688" y="1052"/>
                </a:lnTo>
                <a:lnTo>
                  <a:pt x="672" y="1071"/>
                </a:lnTo>
                <a:lnTo>
                  <a:pt x="655" y="1095"/>
                </a:lnTo>
                <a:lnTo>
                  <a:pt x="646" y="1116"/>
                </a:lnTo>
                <a:lnTo>
                  <a:pt x="627" y="1109"/>
                </a:lnTo>
                <a:lnTo>
                  <a:pt x="603" y="1116"/>
                </a:lnTo>
                <a:lnTo>
                  <a:pt x="592" y="1145"/>
                </a:lnTo>
                <a:lnTo>
                  <a:pt x="577" y="1182"/>
                </a:lnTo>
                <a:lnTo>
                  <a:pt x="567" y="1190"/>
                </a:lnTo>
                <a:lnTo>
                  <a:pt x="560" y="1205"/>
                </a:lnTo>
                <a:lnTo>
                  <a:pt x="562" y="1229"/>
                </a:lnTo>
                <a:lnTo>
                  <a:pt x="550" y="1290"/>
                </a:lnTo>
                <a:lnTo>
                  <a:pt x="525" y="1297"/>
                </a:lnTo>
                <a:lnTo>
                  <a:pt x="523" y="1307"/>
                </a:lnTo>
                <a:lnTo>
                  <a:pt x="513" y="1311"/>
                </a:lnTo>
                <a:lnTo>
                  <a:pt x="499" y="1309"/>
                </a:lnTo>
                <a:lnTo>
                  <a:pt x="473" y="1315"/>
                </a:lnTo>
                <a:lnTo>
                  <a:pt x="465" y="1305"/>
                </a:lnTo>
                <a:lnTo>
                  <a:pt x="455" y="1304"/>
                </a:lnTo>
                <a:lnTo>
                  <a:pt x="449" y="1312"/>
                </a:lnTo>
                <a:lnTo>
                  <a:pt x="402" y="1345"/>
                </a:lnTo>
                <a:lnTo>
                  <a:pt x="417" y="1382"/>
                </a:lnTo>
                <a:lnTo>
                  <a:pt x="430" y="1397"/>
                </a:lnTo>
                <a:lnTo>
                  <a:pt x="441" y="1423"/>
                </a:lnTo>
                <a:lnTo>
                  <a:pt x="449" y="1434"/>
                </a:lnTo>
                <a:lnTo>
                  <a:pt x="437" y="1452"/>
                </a:lnTo>
                <a:lnTo>
                  <a:pt x="432" y="1456"/>
                </a:lnTo>
                <a:lnTo>
                  <a:pt x="408" y="1448"/>
                </a:lnTo>
                <a:lnTo>
                  <a:pt x="400" y="1447"/>
                </a:lnTo>
                <a:lnTo>
                  <a:pt x="407" y="1463"/>
                </a:lnTo>
                <a:lnTo>
                  <a:pt x="410" y="1477"/>
                </a:lnTo>
                <a:lnTo>
                  <a:pt x="375" y="1522"/>
                </a:lnTo>
                <a:lnTo>
                  <a:pt x="364" y="1530"/>
                </a:lnTo>
                <a:lnTo>
                  <a:pt x="350" y="1529"/>
                </a:lnTo>
                <a:lnTo>
                  <a:pt x="341" y="1517"/>
                </a:lnTo>
                <a:lnTo>
                  <a:pt x="328" y="1516"/>
                </a:lnTo>
                <a:lnTo>
                  <a:pt x="294" y="1508"/>
                </a:lnTo>
                <a:lnTo>
                  <a:pt x="285" y="1506"/>
                </a:lnTo>
                <a:lnTo>
                  <a:pt x="280" y="1506"/>
                </a:lnTo>
                <a:lnTo>
                  <a:pt x="275" y="1471"/>
                </a:lnTo>
                <a:lnTo>
                  <a:pt x="282" y="1413"/>
                </a:lnTo>
                <a:lnTo>
                  <a:pt x="252" y="1375"/>
                </a:lnTo>
                <a:lnTo>
                  <a:pt x="229" y="1324"/>
                </a:lnTo>
                <a:lnTo>
                  <a:pt x="220" y="1323"/>
                </a:lnTo>
                <a:lnTo>
                  <a:pt x="210" y="1322"/>
                </a:lnTo>
                <a:lnTo>
                  <a:pt x="183" y="1304"/>
                </a:lnTo>
                <a:lnTo>
                  <a:pt x="176" y="1293"/>
                </a:lnTo>
                <a:lnTo>
                  <a:pt x="129" y="1273"/>
                </a:lnTo>
                <a:lnTo>
                  <a:pt x="83" y="1253"/>
                </a:lnTo>
                <a:lnTo>
                  <a:pt x="61" y="1230"/>
                </a:lnTo>
                <a:lnTo>
                  <a:pt x="41" y="1203"/>
                </a:lnTo>
                <a:lnTo>
                  <a:pt x="0" y="1136"/>
                </a:lnTo>
                <a:lnTo>
                  <a:pt x="11" y="1127"/>
                </a:lnTo>
                <a:lnTo>
                  <a:pt x="16" y="1128"/>
                </a:lnTo>
                <a:lnTo>
                  <a:pt x="36" y="1155"/>
                </a:lnTo>
                <a:lnTo>
                  <a:pt x="45" y="1166"/>
                </a:lnTo>
                <a:lnTo>
                  <a:pt x="44" y="1175"/>
                </a:lnTo>
                <a:lnTo>
                  <a:pt x="57" y="1181"/>
                </a:lnTo>
                <a:lnTo>
                  <a:pt x="68" y="1178"/>
                </a:lnTo>
                <a:lnTo>
                  <a:pt x="79" y="1170"/>
                </a:lnTo>
                <a:lnTo>
                  <a:pt x="74" y="1130"/>
                </a:lnTo>
                <a:lnTo>
                  <a:pt x="68" y="1061"/>
                </a:lnTo>
                <a:lnTo>
                  <a:pt x="48" y="1058"/>
                </a:lnTo>
                <a:lnTo>
                  <a:pt x="43" y="1058"/>
                </a:lnTo>
                <a:lnTo>
                  <a:pt x="21" y="1041"/>
                </a:lnTo>
                <a:lnTo>
                  <a:pt x="4" y="1024"/>
                </a:lnTo>
                <a:lnTo>
                  <a:pt x="26" y="1002"/>
                </a:lnTo>
                <a:lnTo>
                  <a:pt x="39" y="936"/>
                </a:lnTo>
                <a:lnTo>
                  <a:pt x="42" y="912"/>
                </a:lnTo>
                <a:lnTo>
                  <a:pt x="63" y="900"/>
                </a:lnTo>
                <a:lnTo>
                  <a:pt x="68" y="900"/>
                </a:lnTo>
                <a:lnTo>
                  <a:pt x="89" y="889"/>
                </a:lnTo>
                <a:lnTo>
                  <a:pt x="92" y="869"/>
                </a:lnTo>
                <a:lnTo>
                  <a:pt x="83" y="854"/>
                </a:lnTo>
                <a:lnTo>
                  <a:pt x="61" y="836"/>
                </a:lnTo>
                <a:lnTo>
                  <a:pt x="52" y="835"/>
                </a:lnTo>
                <a:lnTo>
                  <a:pt x="64" y="812"/>
                </a:lnTo>
                <a:lnTo>
                  <a:pt x="85" y="718"/>
                </a:lnTo>
                <a:lnTo>
                  <a:pt x="87" y="698"/>
                </a:lnTo>
                <a:lnTo>
                  <a:pt x="79" y="693"/>
                </a:lnTo>
                <a:lnTo>
                  <a:pt x="70" y="682"/>
                </a:lnTo>
                <a:lnTo>
                  <a:pt x="64" y="691"/>
                </a:lnTo>
                <a:lnTo>
                  <a:pt x="52" y="632"/>
                </a:lnTo>
                <a:lnTo>
                  <a:pt x="86" y="553"/>
                </a:lnTo>
                <a:lnTo>
                  <a:pt x="106" y="550"/>
                </a:lnTo>
                <a:lnTo>
                  <a:pt x="108" y="532"/>
                </a:lnTo>
                <a:lnTo>
                  <a:pt x="110" y="517"/>
                </a:lnTo>
                <a:lnTo>
                  <a:pt x="104" y="492"/>
                </a:lnTo>
              </a:path>
            </a:pathLst>
          </a:custGeom>
          <a:solidFill>
            <a:srgbClr val="336600">
              <a:alpha val="67000"/>
            </a:srgbClr>
          </a:solidFill>
          <a:ln w="46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"/>
          <p:cNvSpPr/>
          <p:nvPr/>
        </p:nvSpPr>
        <p:spPr>
          <a:xfrm>
            <a:off x="1076400" y="1486080"/>
            <a:ext cx="4419360" cy="5314680"/>
          </a:xfrm>
          <a:custGeom>
            <a:avLst/>
            <a:gdLst/>
            <a:ahLst/>
            <a:rect l="l" t="t" r="r" b="b"/>
            <a:pathLst>
              <a:path w="2784" h="3348">
                <a:moveTo>
                  <a:pt x="2784" y="3348"/>
                </a:moveTo>
                <a:lnTo>
                  <a:pt x="2514" y="3060"/>
                </a:lnTo>
                <a:lnTo>
                  <a:pt x="2220" y="2742"/>
                </a:lnTo>
                <a:lnTo>
                  <a:pt x="2112" y="2364"/>
                </a:lnTo>
                <a:lnTo>
                  <a:pt x="2022" y="2180"/>
                </a:lnTo>
                <a:lnTo>
                  <a:pt x="1895" y="2026"/>
                </a:lnTo>
                <a:lnTo>
                  <a:pt x="1716" y="2146"/>
                </a:lnTo>
                <a:lnTo>
                  <a:pt x="1266" y="1788"/>
                </a:lnTo>
                <a:lnTo>
                  <a:pt x="1098" y="1614"/>
                </a:lnTo>
                <a:lnTo>
                  <a:pt x="900" y="1590"/>
                </a:lnTo>
                <a:lnTo>
                  <a:pt x="750" y="1452"/>
                </a:lnTo>
                <a:lnTo>
                  <a:pt x="685" y="1339"/>
                </a:lnTo>
                <a:lnTo>
                  <a:pt x="722" y="1157"/>
                </a:lnTo>
                <a:lnTo>
                  <a:pt x="649" y="1149"/>
                </a:lnTo>
                <a:lnTo>
                  <a:pt x="496" y="945"/>
                </a:lnTo>
                <a:lnTo>
                  <a:pt x="532" y="821"/>
                </a:lnTo>
                <a:lnTo>
                  <a:pt x="462" y="618"/>
                </a:lnTo>
                <a:lnTo>
                  <a:pt x="348" y="234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ffff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"/>
          <p:cNvSpPr/>
          <p:nvPr/>
        </p:nvSpPr>
        <p:spPr>
          <a:xfrm>
            <a:off x="1133640" y="2019240"/>
            <a:ext cx="2981160" cy="714600"/>
          </a:xfrm>
          <a:custGeom>
            <a:avLst/>
            <a:gdLst/>
            <a:ahLst/>
            <a:rect l="l" t="t" r="r" b="b"/>
            <a:pathLst>
              <a:path w="1878" h="450">
                <a:moveTo>
                  <a:pt x="0" y="450"/>
                </a:moveTo>
                <a:lnTo>
                  <a:pt x="222" y="270"/>
                </a:lnTo>
                <a:lnTo>
                  <a:pt x="360" y="270"/>
                </a:lnTo>
                <a:lnTo>
                  <a:pt x="546" y="258"/>
                </a:lnTo>
                <a:lnTo>
                  <a:pt x="594" y="216"/>
                </a:lnTo>
                <a:lnTo>
                  <a:pt x="654" y="210"/>
                </a:lnTo>
                <a:lnTo>
                  <a:pt x="690" y="132"/>
                </a:lnTo>
                <a:lnTo>
                  <a:pt x="786" y="44"/>
                </a:lnTo>
                <a:lnTo>
                  <a:pt x="882" y="48"/>
                </a:lnTo>
                <a:lnTo>
                  <a:pt x="966" y="18"/>
                </a:lnTo>
                <a:lnTo>
                  <a:pt x="1092" y="108"/>
                </a:lnTo>
                <a:lnTo>
                  <a:pt x="1218" y="0"/>
                </a:lnTo>
                <a:lnTo>
                  <a:pt x="1410" y="108"/>
                </a:lnTo>
                <a:lnTo>
                  <a:pt x="1668" y="138"/>
                </a:lnTo>
                <a:lnTo>
                  <a:pt x="1632" y="396"/>
                </a:lnTo>
                <a:lnTo>
                  <a:pt x="1878" y="402"/>
                </a:lnTo>
                <a:lnTo>
                  <a:pt x="1872" y="324"/>
                </a:ln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"/>
          <p:cNvSpPr/>
          <p:nvPr/>
        </p:nvSpPr>
        <p:spPr>
          <a:xfrm>
            <a:off x="4359240" y="3359160"/>
            <a:ext cx="260280" cy="393840"/>
          </a:xfrm>
          <a:custGeom>
            <a:avLst/>
            <a:gdLst/>
            <a:ahLst/>
            <a:rect l="l" t="t" r="r" b="b"/>
            <a:pathLst>
              <a:path w="158" h="248">
                <a:moveTo>
                  <a:pt x="0" y="0"/>
                </a:moveTo>
                <a:lnTo>
                  <a:pt x="158" y="248"/>
                </a:ln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"/>
          <p:cNvSpPr/>
          <p:nvPr/>
        </p:nvSpPr>
        <p:spPr>
          <a:xfrm>
            <a:off x="2577960" y="3994200"/>
            <a:ext cx="723960" cy="412560"/>
          </a:xfrm>
          <a:custGeom>
            <a:avLst/>
            <a:gdLst/>
            <a:ahLst/>
            <a:rect l="l" t="t" r="r" b="b"/>
            <a:pathLst>
              <a:path w="456" h="260">
                <a:moveTo>
                  <a:pt x="456" y="260"/>
                </a:moveTo>
                <a:lnTo>
                  <a:pt x="298" y="182"/>
                </a:lnTo>
                <a:lnTo>
                  <a:pt x="148" y="40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"/>
          <p:cNvSpPr/>
          <p:nvPr/>
        </p:nvSpPr>
        <p:spPr>
          <a:xfrm>
            <a:off x="5867280" y="3556080"/>
            <a:ext cx="581040" cy="590400"/>
          </a:xfrm>
          <a:custGeom>
            <a:avLst/>
            <a:gdLst/>
            <a:ahLst/>
            <a:rect l="l" t="t" r="r" b="b"/>
            <a:pathLst>
              <a:path w="366" h="372">
                <a:moveTo>
                  <a:pt x="0" y="372"/>
                </a:moveTo>
                <a:lnTo>
                  <a:pt x="366" y="0"/>
                </a:lnTo>
              </a:path>
            </a:pathLst>
          </a:custGeom>
          <a:noFill/>
          <a:ln w="3816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5" name=""/>
          <p:cNvSpPr/>
          <p:nvPr/>
        </p:nvSpPr>
        <p:spPr>
          <a:xfrm>
            <a:off x="5740560" y="4317840"/>
            <a:ext cx="161640" cy="114480"/>
          </a:xfrm>
          <a:prstGeom prst="line">
            <a:avLst/>
          </a:prstGeom>
          <a:ln w="28440">
            <a:solidFill>
              <a:srgbClr val="ccb37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6" name=""/>
          <p:cNvSpPr/>
          <p:nvPr/>
        </p:nvSpPr>
        <p:spPr>
          <a:xfrm flipH="1" flipV="1">
            <a:off x="5320800" y="5260680"/>
            <a:ext cx="57240" cy="114120"/>
          </a:xfrm>
          <a:prstGeom prst="line">
            <a:avLst/>
          </a:prstGeom>
          <a:ln w="38160">
            <a:solidFill>
              <a:srgbClr val="ccb37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7" name=""/>
          <p:cNvSpPr/>
          <p:nvPr/>
        </p:nvSpPr>
        <p:spPr>
          <a:xfrm>
            <a:off x="1800360" y="2409840"/>
            <a:ext cx="780840" cy="1581120"/>
          </a:xfrm>
          <a:custGeom>
            <a:avLst/>
            <a:gdLst/>
            <a:ahLst/>
            <a:rect l="l" t="t" r="r" b="b"/>
            <a:pathLst>
              <a:path w="492" h="996">
                <a:moveTo>
                  <a:pt x="492" y="996"/>
                </a:moveTo>
                <a:lnTo>
                  <a:pt x="426" y="990"/>
                </a:lnTo>
                <a:lnTo>
                  <a:pt x="306" y="900"/>
                </a:lnTo>
                <a:lnTo>
                  <a:pt x="216" y="732"/>
                </a:lnTo>
                <a:lnTo>
                  <a:pt x="270" y="660"/>
                </a:lnTo>
                <a:lnTo>
                  <a:pt x="270" y="576"/>
                </a:lnTo>
                <a:lnTo>
                  <a:pt x="114" y="468"/>
                </a:lnTo>
                <a:lnTo>
                  <a:pt x="42" y="336"/>
                </a:lnTo>
                <a:lnTo>
                  <a:pt x="96" y="228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8" name=""/>
          <p:cNvSpPr/>
          <p:nvPr/>
        </p:nvSpPr>
        <p:spPr>
          <a:xfrm>
            <a:off x="2867040" y="2124000"/>
            <a:ext cx="361800" cy="247680"/>
          </a:xfrm>
          <a:custGeom>
            <a:avLst/>
            <a:gdLst/>
            <a:ahLst/>
            <a:rect l="l" t="t" r="r" b="b"/>
            <a:pathLst>
              <a:path w="228" h="156">
                <a:moveTo>
                  <a:pt x="0" y="42"/>
                </a:moveTo>
                <a:lnTo>
                  <a:pt x="126" y="156"/>
                </a:lnTo>
                <a:lnTo>
                  <a:pt x="228" y="0"/>
                </a:ln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9" name=""/>
          <p:cNvSpPr/>
          <p:nvPr/>
        </p:nvSpPr>
        <p:spPr>
          <a:xfrm flipH="1" flipV="1">
            <a:off x="2276640" y="1752120"/>
            <a:ext cx="95040" cy="352440"/>
          </a:xfrm>
          <a:prstGeom prst="line">
            <a:avLst/>
          </a:prstGeom>
          <a:ln w="28440">
            <a:solidFill>
              <a:srgbClr val="ccb3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0" name=""/>
          <p:cNvSpPr/>
          <p:nvPr/>
        </p:nvSpPr>
        <p:spPr>
          <a:xfrm>
            <a:off x="2314440" y="1704960"/>
            <a:ext cx="771840" cy="324000"/>
          </a:xfrm>
          <a:custGeom>
            <a:avLst/>
            <a:gdLst/>
            <a:ahLst/>
            <a:rect l="l" t="t" r="r" b="b"/>
            <a:pathLst>
              <a:path w="474" h="210">
                <a:moveTo>
                  <a:pt x="0" y="126"/>
                </a:moveTo>
                <a:lnTo>
                  <a:pt x="258" y="0"/>
                </a:lnTo>
                <a:lnTo>
                  <a:pt x="474" y="210"/>
                </a:ln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1" name=""/>
          <p:cNvSpPr/>
          <p:nvPr/>
        </p:nvSpPr>
        <p:spPr>
          <a:xfrm>
            <a:off x="3057480" y="2371680"/>
            <a:ext cx="657360" cy="276120"/>
          </a:xfrm>
          <a:custGeom>
            <a:avLst/>
            <a:gdLst/>
            <a:ahLst/>
            <a:rect l="l" t="t" r="r" b="b"/>
            <a:pathLst>
              <a:path w="414" h="174">
                <a:moveTo>
                  <a:pt x="0" y="0"/>
                </a:moveTo>
                <a:lnTo>
                  <a:pt x="186" y="168"/>
                </a:lnTo>
                <a:lnTo>
                  <a:pt x="414" y="174"/>
                </a:ln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"/>
          <p:cNvSpPr/>
          <p:nvPr/>
        </p:nvSpPr>
        <p:spPr>
          <a:xfrm>
            <a:off x="3467160" y="2638440"/>
            <a:ext cx="247680" cy="809640"/>
          </a:xfrm>
          <a:custGeom>
            <a:avLst/>
            <a:gdLst/>
            <a:ahLst/>
            <a:rect l="l" t="t" r="r" b="b"/>
            <a:pathLst>
              <a:path w="156" h="510">
                <a:moveTo>
                  <a:pt x="0" y="510"/>
                </a:moveTo>
                <a:lnTo>
                  <a:pt x="138" y="312"/>
                </a:lnTo>
                <a:lnTo>
                  <a:pt x="108" y="102"/>
                </a:lnTo>
                <a:lnTo>
                  <a:pt x="156" y="0"/>
                </a:ln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"/>
          <p:cNvSpPr/>
          <p:nvPr/>
        </p:nvSpPr>
        <p:spPr>
          <a:xfrm flipH="1">
            <a:off x="5619240" y="5029200"/>
            <a:ext cx="1009800" cy="237960"/>
          </a:xfrm>
          <a:prstGeom prst="line">
            <a:avLst/>
          </a:prstGeom>
          <a:ln w="28440">
            <a:solidFill>
              <a:srgbClr val="ccb3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"/>
          <p:cNvSpPr/>
          <p:nvPr/>
        </p:nvSpPr>
        <p:spPr>
          <a:xfrm flipH="1">
            <a:off x="4962240" y="2171880"/>
            <a:ext cx="438120" cy="819000"/>
          </a:xfrm>
          <a:prstGeom prst="line">
            <a:avLst/>
          </a:prstGeom>
          <a:ln w="28440">
            <a:solidFill>
              <a:srgbClr val="ccb37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"/>
          <p:cNvSpPr/>
          <p:nvPr/>
        </p:nvSpPr>
        <p:spPr>
          <a:xfrm flipH="1">
            <a:off x="2408400" y="979560"/>
            <a:ext cx="1638000" cy="1104840"/>
          </a:xfrm>
          <a:prstGeom prst="line">
            <a:avLst/>
          </a:prstGeom>
          <a:ln w="28440">
            <a:solidFill>
              <a:srgbClr val="ccb37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"/>
          <p:cNvSpPr/>
          <p:nvPr/>
        </p:nvSpPr>
        <p:spPr>
          <a:xfrm>
            <a:off x="4600440" y="5829480"/>
            <a:ext cx="27000" cy="487080"/>
          </a:xfrm>
          <a:custGeom>
            <a:avLst/>
            <a:gdLst/>
            <a:ahLst/>
            <a:rect l="l" t="t" r="r" b="b"/>
            <a:pathLst>
              <a:path w="17" h="307">
                <a:moveTo>
                  <a:pt x="0" y="0"/>
                </a:moveTo>
                <a:lnTo>
                  <a:pt x="17" y="307"/>
                </a:lnTo>
              </a:path>
            </a:pathLst>
          </a:custGeom>
          <a:noFill/>
          <a:ln w="3816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"/>
          <p:cNvSpPr/>
          <p:nvPr/>
        </p:nvSpPr>
        <p:spPr>
          <a:xfrm>
            <a:off x="3048120" y="2371680"/>
            <a:ext cx="685800" cy="1381320"/>
          </a:xfrm>
          <a:custGeom>
            <a:avLst/>
            <a:gdLst/>
            <a:ahLst/>
            <a:rect l="l" t="t" r="r" b="b"/>
            <a:pathLst>
              <a:path w="432" h="870">
                <a:moveTo>
                  <a:pt x="0" y="0"/>
                </a:moveTo>
                <a:lnTo>
                  <a:pt x="6" y="384"/>
                </a:lnTo>
                <a:lnTo>
                  <a:pt x="240" y="684"/>
                </a:lnTo>
                <a:lnTo>
                  <a:pt x="432" y="870"/>
                </a:ln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"/>
          <p:cNvSpPr/>
          <p:nvPr/>
        </p:nvSpPr>
        <p:spPr>
          <a:xfrm>
            <a:off x="4105440" y="933480"/>
            <a:ext cx="1266840" cy="2438280"/>
          </a:xfrm>
          <a:custGeom>
            <a:avLst/>
            <a:gdLst/>
            <a:ahLst/>
            <a:rect l="l" t="t" r="r" b="b"/>
            <a:pathLst>
              <a:path w="798" h="1536">
                <a:moveTo>
                  <a:pt x="0" y="0"/>
                </a:moveTo>
                <a:lnTo>
                  <a:pt x="282" y="282"/>
                </a:lnTo>
                <a:lnTo>
                  <a:pt x="420" y="528"/>
                </a:lnTo>
                <a:lnTo>
                  <a:pt x="372" y="966"/>
                </a:lnTo>
                <a:lnTo>
                  <a:pt x="540" y="1284"/>
                </a:lnTo>
                <a:lnTo>
                  <a:pt x="690" y="1260"/>
                </a:lnTo>
                <a:lnTo>
                  <a:pt x="798" y="1368"/>
                </a:lnTo>
                <a:lnTo>
                  <a:pt x="738" y="1536"/>
                </a:ln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"/>
          <p:cNvSpPr/>
          <p:nvPr/>
        </p:nvSpPr>
        <p:spPr>
          <a:xfrm>
            <a:off x="4200480" y="2162160"/>
            <a:ext cx="501840" cy="371520"/>
          </a:xfrm>
          <a:custGeom>
            <a:avLst/>
            <a:gdLst/>
            <a:ahLst/>
            <a:rect l="l" t="t" r="r" b="b"/>
            <a:pathLst>
              <a:path w="316" h="234">
                <a:moveTo>
                  <a:pt x="0" y="0"/>
                </a:moveTo>
                <a:cubicBezTo>
                  <a:pt x="28" y="18"/>
                  <a:pt x="170" y="51"/>
                  <a:pt x="222" y="84"/>
                </a:cubicBezTo>
                <a:cubicBezTo>
                  <a:pt x="274" y="117"/>
                  <a:pt x="316" y="173"/>
                  <a:pt x="312" y="198"/>
                </a:cubicBezTo>
                <a:cubicBezTo>
                  <a:pt x="285" y="206"/>
                  <a:pt x="231" y="234"/>
                  <a:pt x="198" y="234"/>
                </a:cubicBez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"/>
          <p:cNvSpPr/>
          <p:nvPr/>
        </p:nvSpPr>
        <p:spPr>
          <a:xfrm>
            <a:off x="3781440" y="1378080"/>
            <a:ext cx="749160" cy="631800"/>
          </a:xfrm>
          <a:custGeom>
            <a:avLst/>
            <a:gdLst/>
            <a:ahLst/>
            <a:rect l="l" t="t" r="r" b="b"/>
            <a:pathLst>
              <a:path w="472" h="398">
                <a:moveTo>
                  <a:pt x="472" y="0"/>
                </a:moveTo>
                <a:lnTo>
                  <a:pt x="372" y="200"/>
                </a:lnTo>
                <a:lnTo>
                  <a:pt x="0" y="398"/>
                </a:ln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"/>
          <p:cNvSpPr/>
          <p:nvPr/>
        </p:nvSpPr>
        <p:spPr>
          <a:xfrm>
            <a:off x="3772080" y="2028960"/>
            <a:ext cx="9360" cy="209520"/>
          </a:xfrm>
          <a:custGeom>
            <a:avLst/>
            <a:gdLst/>
            <a:ahLst/>
            <a:rect l="l" t="t" r="r" b="b"/>
            <a:pathLst>
              <a:path w="6" h="132">
                <a:moveTo>
                  <a:pt x="6" y="0"/>
                </a:moveTo>
                <a:cubicBezTo>
                  <a:pt x="4" y="25"/>
                  <a:pt x="2" y="107"/>
                  <a:pt x="0" y="132"/>
                </a:cubicBez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"/>
          <p:cNvSpPr/>
          <p:nvPr/>
        </p:nvSpPr>
        <p:spPr>
          <a:xfrm>
            <a:off x="5253120" y="4583160"/>
            <a:ext cx="162000" cy="114120"/>
          </a:xfrm>
          <a:prstGeom prst="line">
            <a:avLst/>
          </a:prstGeom>
          <a:ln w="28440">
            <a:solidFill>
              <a:srgbClr val="ccb37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"/>
          <p:cNvSpPr/>
          <p:nvPr/>
        </p:nvSpPr>
        <p:spPr>
          <a:xfrm rot="7899000">
            <a:off x="2612160" y="414936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>
              <a:alpha val="25000"/>
            </a:srgbClr>
          </a:solidFill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"/>
          <p:cNvSpPr/>
          <p:nvPr/>
        </p:nvSpPr>
        <p:spPr>
          <a:xfrm rot="7899000">
            <a:off x="3868560" y="4928760"/>
            <a:ext cx="360360" cy="36072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>
              <a:alpha val="25000"/>
            </a:srgbClr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"/>
          <p:cNvSpPr/>
          <p:nvPr/>
        </p:nvSpPr>
        <p:spPr>
          <a:xfrm rot="16200000">
            <a:off x="4583160" y="159660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>
              <a:alpha val="25000"/>
            </a:srgbClr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"/>
          <p:cNvSpPr/>
          <p:nvPr/>
        </p:nvSpPr>
        <p:spPr>
          <a:xfrm>
            <a:off x="3809880" y="5915160"/>
            <a:ext cx="5286600" cy="1573200"/>
          </a:xfrm>
          <a:custGeom>
            <a:avLst/>
            <a:gdLst/>
            <a:ahLst/>
            <a:rect l="l" t="t" r="r" b="b"/>
            <a:pathLst>
              <a:path w="3330" h="991">
                <a:moveTo>
                  <a:pt x="3330" y="348"/>
                </a:moveTo>
                <a:lnTo>
                  <a:pt x="3186" y="138"/>
                </a:lnTo>
                <a:lnTo>
                  <a:pt x="3024" y="18"/>
                </a:lnTo>
                <a:lnTo>
                  <a:pt x="2676" y="0"/>
                </a:lnTo>
                <a:lnTo>
                  <a:pt x="2346" y="12"/>
                </a:lnTo>
                <a:lnTo>
                  <a:pt x="2148" y="108"/>
                </a:lnTo>
                <a:lnTo>
                  <a:pt x="1722" y="162"/>
                </a:lnTo>
                <a:lnTo>
                  <a:pt x="1595" y="255"/>
                </a:lnTo>
                <a:lnTo>
                  <a:pt x="1450" y="351"/>
                </a:lnTo>
                <a:lnTo>
                  <a:pt x="1181" y="584"/>
                </a:lnTo>
                <a:lnTo>
                  <a:pt x="967" y="821"/>
                </a:lnTo>
                <a:lnTo>
                  <a:pt x="743" y="965"/>
                </a:lnTo>
                <a:lnTo>
                  <a:pt x="647" y="991"/>
                </a:lnTo>
                <a:lnTo>
                  <a:pt x="504" y="954"/>
                </a:lnTo>
                <a:lnTo>
                  <a:pt x="317" y="847"/>
                </a:lnTo>
                <a:lnTo>
                  <a:pt x="102" y="697"/>
                </a:lnTo>
                <a:lnTo>
                  <a:pt x="0" y="565"/>
                </a:lnTo>
              </a:path>
            </a:pathLst>
          </a:custGeom>
          <a:noFill/>
          <a:ln w="57240">
            <a:solidFill>
              <a:srgbClr val="d60093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"/>
          <p:cNvSpPr/>
          <p:nvPr/>
        </p:nvSpPr>
        <p:spPr>
          <a:xfrm>
            <a:off x="3433680" y="6300720"/>
            <a:ext cx="3030480" cy="184320"/>
          </a:xfrm>
          <a:custGeom>
            <a:avLst/>
            <a:gdLst/>
            <a:ahLst/>
            <a:rect l="l" t="t" r="r" b="b"/>
            <a:pathLst>
              <a:path w="2754" h="168">
                <a:moveTo>
                  <a:pt x="2754" y="0"/>
                </a:moveTo>
                <a:lnTo>
                  <a:pt x="2532" y="48"/>
                </a:lnTo>
                <a:lnTo>
                  <a:pt x="2364" y="78"/>
                </a:lnTo>
                <a:lnTo>
                  <a:pt x="2136" y="168"/>
                </a:lnTo>
                <a:lnTo>
                  <a:pt x="1374" y="42"/>
                </a:lnTo>
                <a:lnTo>
                  <a:pt x="1152" y="42"/>
                </a:lnTo>
                <a:lnTo>
                  <a:pt x="924" y="24"/>
                </a:lnTo>
                <a:lnTo>
                  <a:pt x="786" y="42"/>
                </a:lnTo>
                <a:lnTo>
                  <a:pt x="738" y="78"/>
                </a:lnTo>
                <a:lnTo>
                  <a:pt x="624" y="138"/>
                </a:lnTo>
                <a:lnTo>
                  <a:pt x="450" y="144"/>
                </a:lnTo>
                <a:lnTo>
                  <a:pt x="288" y="84"/>
                </a:lnTo>
                <a:lnTo>
                  <a:pt x="156" y="66"/>
                </a:lnTo>
                <a:lnTo>
                  <a:pt x="102" y="90"/>
                </a:lnTo>
                <a:lnTo>
                  <a:pt x="0" y="66"/>
                </a:lnTo>
              </a:path>
            </a:pathLst>
          </a:custGeom>
          <a:noFill/>
          <a:ln w="57240">
            <a:solidFill>
              <a:srgbClr val="ff66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"/>
          <p:cNvSpPr/>
          <p:nvPr/>
        </p:nvSpPr>
        <p:spPr>
          <a:xfrm>
            <a:off x="3714840" y="838080"/>
            <a:ext cx="5400720" cy="5562720"/>
          </a:xfrm>
          <a:custGeom>
            <a:avLst/>
            <a:gdLst/>
            <a:ahLst/>
            <a:rect l="l" t="t" r="r" b="b"/>
            <a:pathLst>
              <a:path w="3402" h="3504">
                <a:moveTo>
                  <a:pt x="3402" y="3504"/>
                </a:moveTo>
                <a:lnTo>
                  <a:pt x="3312" y="3318"/>
                </a:lnTo>
                <a:lnTo>
                  <a:pt x="3360" y="3120"/>
                </a:lnTo>
                <a:lnTo>
                  <a:pt x="3342" y="2832"/>
                </a:lnTo>
                <a:lnTo>
                  <a:pt x="3222" y="2634"/>
                </a:lnTo>
                <a:lnTo>
                  <a:pt x="3180" y="2454"/>
                </a:lnTo>
                <a:lnTo>
                  <a:pt x="3102" y="2436"/>
                </a:lnTo>
                <a:lnTo>
                  <a:pt x="3096" y="2358"/>
                </a:lnTo>
                <a:lnTo>
                  <a:pt x="3042" y="2316"/>
                </a:lnTo>
                <a:lnTo>
                  <a:pt x="3024" y="2238"/>
                </a:lnTo>
                <a:lnTo>
                  <a:pt x="2982" y="2220"/>
                </a:lnTo>
                <a:lnTo>
                  <a:pt x="2946" y="2148"/>
                </a:lnTo>
                <a:lnTo>
                  <a:pt x="2880" y="2136"/>
                </a:lnTo>
                <a:lnTo>
                  <a:pt x="2874" y="2094"/>
                </a:lnTo>
                <a:lnTo>
                  <a:pt x="2598" y="2106"/>
                </a:lnTo>
                <a:lnTo>
                  <a:pt x="2598" y="2052"/>
                </a:lnTo>
                <a:lnTo>
                  <a:pt x="2508" y="2040"/>
                </a:lnTo>
                <a:lnTo>
                  <a:pt x="2472" y="1986"/>
                </a:lnTo>
                <a:lnTo>
                  <a:pt x="2400" y="1956"/>
                </a:lnTo>
                <a:lnTo>
                  <a:pt x="2358" y="1872"/>
                </a:lnTo>
                <a:lnTo>
                  <a:pt x="2304" y="1830"/>
                </a:lnTo>
                <a:lnTo>
                  <a:pt x="2268" y="1692"/>
                </a:lnTo>
                <a:lnTo>
                  <a:pt x="2100" y="1530"/>
                </a:lnTo>
                <a:lnTo>
                  <a:pt x="1752" y="1464"/>
                </a:lnTo>
                <a:lnTo>
                  <a:pt x="1590" y="1410"/>
                </a:lnTo>
                <a:lnTo>
                  <a:pt x="1584" y="1332"/>
                </a:lnTo>
                <a:lnTo>
                  <a:pt x="1524" y="1308"/>
                </a:lnTo>
                <a:lnTo>
                  <a:pt x="1452" y="1308"/>
                </a:lnTo>
                <a:lnTo>
                  <a:pt x="1434" y="1014"/>
                </a:lnTo>
                <a:lnTo>
                  <a:pt x="1356" y="948"/>
                </a:lnTo>
                <a:lnTo>
                  <a:pt x="1254" y="936"/>
                </a:lnTo>
                <a:lnTo>
                  <a:pt x="1194" y="924"/>
                </a:lnTo>
                <a:cubicBezTo>
                  <a:pt x="1150" y="854"/>
                  <a:pt x="1164" y="881"/>
                  <a:pt x="1146" y="846"/>
                </a:cubicBezTo>
                <a:lnTo>
                  <a:pt x="1038" y="834"/>
                </a:lnTo>
                <a:lnTo>
                  <a:pt x="828" y="606"/>
                </a:lnTo>
                <a:lnTo>
                  <a:pt x="744" y="546"/>
                </a:lnTo>
                <a:lnTo>
                  <a:pt x="660" y="552"/>
                </a:lnTo>
                <a:lnTo>
                  <a:pt x="540" y="312"/>
                </a:lnTo>
                <a:lnTo>
                  <a:pt x="354" y="126"/>
                </a:lnTo>
                <a:lnTo>
                  <a:pt x="186" y="48"/>
                </a:lnTo>
                <a:lnTo>
                  <a:pt x="30" y="36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00ff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39" name=""/>
          <p:cNvGrpSpPr/>
          <p:nvPr/>
        </p:nvGrpSpPr>
        <p:grpSpPr>
          <a:xfrm>
            <a:off x="4436640" y="5140800"/>
            <a:ext cx="4067640" cy="1351440"/>
            <a:chOff x="4436640" y="5140800"/>
            <a:chExt cx="4067640" cy="1351440"/>
          </a:xfrm>
        </p:grpSpPr>
        <p:sp>
          <p:nvSpPr>
            <p:cNvPr id="640" name=""/>
            <p:cNvSpPr/>
            <p:nvPr/>
          </p:nvSpPr>
          <p:spPr>
            <a:xfrm rot="3265200">
              <a:off x="5603400" y="5183640"/>
              <a:ext cx="360360" cy="495360"/>
            </a:xfrm>
            <a:prstGeom prst="leftArrow">
              <a:avLst>
                <a:gd name="adj1" fmla="val 49778"/>
                <a:gd name="adj2" fmla="val 51542"/>
              </a:avLst>
            </a:prstGeom>
            <a:solidFill>
              <a:srgbClr val="ffffff">
                <a:alpha val="50000"/>
              </a:srgbClr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1" name=""/>
            <p:cNvSpPr/>
            <p:nvPr/>
          </p:nvSpPr>
          <p:spPr>
            <a:xfrm rot="5400000">
              <a:off x="4533480" y="5837400"/>
              <a:ext cx="360360" cy="554040"/>
            </a:xfrm>
            <a:prstGeom prst="leftArrow">
              <a:avLst>
                <a:gd name="adj1" fmla="val 49778"/>
                <a:gd name="adj2" fmla="val 51542"/>
              </a:avLst>
            </a:prstGeom>
            <a:solidFill>
              <a:srgbClr val="ffffff">
                <a:alpha val="50000"/>
              </a:srgbClr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4997520" y="5575320"/>
              <a:ext cx="3506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  <a:ea typeface="Arial"/>
                </a:rPr>
                <a:t>Caspian or Russian gas via Greece (TGI or TAP</a:t>
              </a:r>
              <a:br>
                <a:rPr sz="1800"/>
              </a:b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  <a:ea typeface="Arial"/>
                </a:rPr>
                <a:t>or South Stream/’Sud’)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2122560" y="4459320"/>
            <a:ext cx="85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utura Md BT"/>
                <a:ea typeface="Arial"/>
              </a:rPr>
              <a:t>LNG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"/>
          <p:cNvSpPr/>
          <p:nvPr/>
        </p:nvSpPr>
        <p:spPr>
          <a:xfrm>
            <a:off x="752400" y="3267000"/>
            <a:ext cx="160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utura Md BT"/>
                <a:ea typeface="Arial"/>
              </a:rPr>
              <a:t>Mix of gas via Croa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5" name=""/>
          <p:cNvSpPr/>
          <p:nvPr/>
        </p:nvSpPr>
        <p:spPr>
          <a:xfrm>
            <a:off x="3063960" y="5199120"/>
            <a:ext cx="14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utura Md BT"/>
                <a:ea typeface="Arial"/>
              </a:rPr>
              <a:t>Offshore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6" name=""/>
          <p:cNvSpPr/>
          <p:nvPr/>
        </p:nvSpPr>
        <p:spPr>
          <a:xfrm>
            <a:off x="3265560" y="809640"/>
            <a:ext cx="160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utura Md BT"/>
                <a:ea typeface="Arial"/>
              </a:rPr>
              <a:t>Russian gas via Hungary and Serbia or Croa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7" name=""/>
          <p:cNvSpPr/>
          <p:nvPr/>
        </p:nvSpPr>
        <p:spPr>
          <a:xfrm>
            <a:off x="1036800" y="2163600"/>
            <a:ext cx="8073720" cy="870120"/>
          </a:xfrm>
          <a:custGeom>
            <a:avLst/>
            <a:gdLst/>
            <a:ahLst/>
            <a:rect l="l" t="t" r="r" b="b"/>
            <a:pathLst>
              <a:path w="5086" h="548">
                <a:moveTo>
                  <a:pt x="5086" y="463"/>
                </a:moveTo>
                <a:lnTo>
                  <a:pt x="4503" y="541"/>
                </a:lnTo>
                <a:lnTo>
                  <a:pt x="3843" y="548"/>
                </a:lnTo>
                <a:lnTo>
                  <a:pt x="3091" y="477"/>
                </a:lnTo>
                <a:lnTo>
                  <a:pt x="2466" y="520"/>
                </a:lnTo>
                <a:lnTo>
                  <a:pt x="2206" y="414"/>
                </a:lnTo>
                <a:lnTo>
                  <a:pt x="1312" y="270"/>
                </a:lnTo>
                <a:lnTo>
                  <a:pt x="1171" y="225"/>
                </a:lnTo>
                <a:lnTo>
                  <a:pt x="941" y="148"/>
                </a:lnTo>
                <a:lnTo>
                  <a:pt x="633" y="175"/>
                </a:lnTo>
                <a:lnTo>
                  <a:pt x="239" y="154"/>
                </a:lnTo>
                <a:lnTo>
                  <a:pt x="0" y="140"/>
                </a:lnTo>
                <a:lnTo>
                  <a:pt x="14" y="0"/>
                </a:lnTo>
              </a:path>
            </a:pathLst>
          </a:custGeom>
          <a:noFill/>
          <a:ln w="76320">
            <a:solidFill>
              <a:srgbClr val="b5e0e3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"/>
          <p:cNvGrpSpPr/>
          <p:nvPr/>
        </p:nvGrpSpPr>
        <p:grpSpPr>
          <a:xfrm>
            <a:off x="4839120" y="1660680"/>
            <a:ext cx="2712600" cy="1297440"/>
            <a:chOff x="4839120" y="1660680"/>
            <a:chExt cx="2712600" cy="1297440"/>
          </a:xfrm>
        </p:grpSpPr>
        <p:sp>
          <p:nvSpPr>
            <p:cNvPr id="649" name=""/>
            <p:cNvSpPr/>
            <p:nvPr/>
          </p:nvSpPr>
          <p:spPr>
            <a:xfrm rot="18088800">
              <a:off x="4906440" y="2530080"/>
              <a:ext cx="360360" cy="360360"/>
            </a:xfrm>
            <a:prstGeom prst="leftArrow">
              <a:avLst>
                <a:gd name="adj1" fmla="val 49778"/>
                <a:gd name="adj2" fmla="val 51542"/>
              </a:avLst>
            </a:prstGeom>
            <a:solidFill>
              <a:srgbClr val="ffffff">
                <a:alpha val="50000"/>
              </a:srgbClr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248440" y="1660680"/>
              <a:ext cx="2303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  <a:ea typeface="Arial"/>
                </a:rPr>
                <a:t>Caspian gas via Romania (Nabucco)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51" name=""/>
          <p:cNvSpPr/>
          <p:nvPr/>
        </p:nvSpPr>
        <p:spPr>
          <a:xfrm>
            <a:off x="1076400" y="1476360"/>
            <a:ext cx="8067600" cy="3809880"/>
          </a:xfrm>
          <a:custGeom>
            <a:avLst/>
            <a:gdLst/>
            <a:ahLst/>
            <a:rect l="l" t="t" r="r" b="b"/>
            <a:pathLst>
              <a:path w="5082" h="2400">
                <a:moveTo>
                  <a:pt x="5082" y="2400"/>
                </a:moveTo>
                <a:lnTo>
                  <a:pt x="4764" y="2040"/>
                </a:lnTo>
                <a:lnTo>
                  <a:pt x="4404" y="2094"/>
                </a:lnTo>
                <a:lnTo>
                  <a:pt x="3924" y="2298"/>
                </a:lnTo>
                <a:lnTo>
                  <a:pt x="3468" y="2238"/>
                </a:lnTo>
                <a:lnTo>
                  <a:pt x="2988" y="1692"/>
                </a:lnTo>
                <a:lnTo>
                  <a:pt x="2436" y="942"/>
                </a:lnTo>
                <a:lnTo>
                  <a:pt x="2237" y="842"/>
                </a:lnTo>
                <a:lnTo>
                  <a:pt x="1315" y="695"/>
                </a:lnTo>
                <a:lnTo>
                  <a:pt x="1174" y="650"/>
                </a:lnTo>
                <a:lnTo>
                  <a:pt x="944" y="573"/>
                </a:lnTo>
                <a:lnTo>
                  <a:pt x="804" y="390"/>
                </a:lnTo>
                <a:lnTo>
                  <a:pt x="318" y="246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66ff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52" name=""/>
          <p:cNvGrpSpPr/>
          <p:nvPr/>
        </p:nvGrpSpPr>
        <p:grpSpPr>
          <a:xfrm>
            <a:off x="5084640" y="2763720"/>
            <a:ext cx="4081680" cy="809280"/>
            <a:chOff x="5084640" y="2763720"/>
            <a:chExt cx="4081680" cy="809280"/>
          </a:xfrm>
        </p:grpSpPr>
        <p:sp>
          <p:nvSpPr>
            <p:cNvPr id="653" name=""/>
            <p:cNvSpPr/>
            <p:nvPr/>
          </p:nvSpPr>
          <p:spPr>
            <a:xfrm rot="21112200">
              <a:off x="5108040" y="2787480"/>
              <a:ext cx="360360" cy="360360"/>
            </a:xfrm>
            <a:prstGeom prst="leftArrow">
              <a:avLst>
                <a:gd name="adj1" fmla="val 49778"/>
                <a:gd name="adj2" fmla="val 51542"/>
              </a:avLst>
            </a:prstGeom>
            <a:solidFill>
              <a:srgbClr val="ffffff">
                <a:alpha val="50000"/>
              </a:srgbClr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5389560" y="2930400"/>
              <a:ext cx="3776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  <a:ea typeface="Arial"/>
                </a:rPr>
                <a:t>Caspian gas via Romania (White Stream &amp; PEGP)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55" name=""/>
          <p:cNvGrpSpPr/>
          <p:nvPr/>
        </p:nvGrpSpPr>
        <p:grpSpPr>
          <a:xfrm>
            <a:off x="5733720" y="3957480"/>
            <a:ext cx="3610440" cy="1191240"/>
            <a:chOff x="5733720" y="3957480"/>
            <a:chExt cx="3610440" cy="1191240"/>
          </a:xfrm>
        </p:grpSpPr>
        <p:sp>
          <p:nvSpPr>
            <p:cNvPr id="656" name=""/>
            <p:cNvSpPr/>
            <p:nvPr/>
          </p:nvSpPr>
          <p:spPr>
            <a:xfrm rot="2715000">
              <a:off x="5808240" y="4192560"/>
              <a:ext cx="360360" cy="360360"/>
            </a:xfrm>
            <a:prstGeom prst="leftArrow">
              <a:avLst>
                <a:gd name="adj1" fmla="val 49778"/>
                <a:gd name="adj2" fmla="val 51542"/>
              </a:avLst>
            </a:prstGeom>
            <a:solidFill>
              <a:srgbClr val="ffffff">
                <a:alpha val="50000"/>
              </a:srgbClr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6478560" y="3957480"/>
              <a:ext cx="28656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  <a:ea typeface="Arial"/>
                </a:rPr>
                <a:t>Russian gas</a:t>
              </a:r>
              <a:br>
                <a:rPr sz="1800"/>
              </a:b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  <a:ea typeface="Arial"/>
                </a:rPr>
                <a:t>via Bulgaria </a:t>
              </a:r>
              <a:br>
                <a:rPr sz="1800"/>
              </a:b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  <a:ea typeface="Arial"/>
                </a:rPr>
                <a:t>(Blue Stream or </a:t>
              </a:r>
              <a:br>
                <a:rPr sz="1800"/>
              </a:b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  <a:ea typeface="Arial"/>
                </a:rPr>
                <a:t>South Stream/ ’Nord’)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58" name=""/>
          <p:cNvSpPr/>
          <p:nvPr/>
        </p:nvSpPr>
        <p:spPr>
          <a:xfrm rot="7899000">
            <a:off x="1310400" y="244116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>
              <a:alpha val="25000"/>
            </a:srgbClr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9" name=""/>
          <p:cNvSpPr/>
          <p:nvPr/>
        </p:nvSpPr>
        <p:spPr>
          <a:xfrm>
            <a:off x="820800" y="2751120"/>
            <a:ext cx="85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utura Md BT"/>
                <a:ea typeface="Arial"/>
              </a:rPr>
              <a:t>LNG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0" name=""/>
          <p:cNvSpPr/>
          <p:nvPr/>
        </p:nvSpPr>
        <p:spPr>
          <a:xfrm rot="10800000">
            <a:off x="4146120" y="560196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>
              <a:alpha val="25000"/>
            </a:srgbClr>
          </a:solidFill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1" name=""/>
          <p:cNvSpPr/>
          <p:nvPr/>
        </p:nvSpPr>
        <p:spPr>
          <a:xfrm>
            <a:off x="3362400" y="5756400"/>
            <a:ext cx="85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utura Md BT"/>
                <a:ea typeface="Arial"/>
              </a:rPr>
              <a:t>LNG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2" name=""/>
          <p:cNvSpPr/>
          <p:nvPr/>
        </p:nvSpPr>
        <p:spPr>
          <a:xfrm>
            <a:off x="3454560" y="2987640"/>
            <a:ext cx="1511280" cy="793800"/>
          </a:xfrm>
          <a:custGeom>
            <a:avLst/>
            <a:gdLst/>
            <a:ahLst/>
            <a:rect l="l" t="t" r="r" b="b"/>
            <a:pathLst>
              <a:path w="952" h="500">
                <a:moveTo>
                  <a:pt x="952" y="0"/>
                </a:moveTo>
                <a:lnTo>
                  <a:pt x="184" y="500"/>
                </a:lnTo>
                <a:lnTo>
                  <a:pt x="0" y="300"/>
                </a:ln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3" name=""/>
          <p:cNvSpPr/>
          <p:nvPr/>
        </p:nvSpPr>
        <p:spPr>
          <a:xfrm>
            <a:off x="3265560" y="2979720"/>
            <a:ext cx="1697040" cy="1484280"/>
          </a:xfrm>
          <a:custGeom>
            <a:avLst/>
            <a:gdLst/>
            <a:ahLst/>
            <a:rect l="l" t="t" r="r" b="b"/>
            <a:pathLst>
              <a:path w="1069" h="935">
                <a:moveTo>
                  <a:pt x="1069" y="0"/>
                </a:moveTo>
                <a:lnTo>
                  <a:pt x="299" y="494"/>
                </a:lnTo>
                <a:lnTo>
                  <a:pt x="67" y="771"/>
                </a:lnTo>
                <a:lnTo>
                  <a:pt x="0" y="935"/>
                </a:lnTo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4" name=""/>
          <p:cNvSpPr/>
          <p:nvPr/>
        </p:nvSpPr>
        <p:spPr>
          <a:xfrm>
            <a:off x="1805040" y="2387520"/>
            <a:ext cx="4043160" cy="3441960"/>
          </a:xfrm>
          <a:custGeom>
            <a:avLst/>
            <a:gdLst/>
            <a:ahLst/>
            <a:rect l="l" t="t" r="r" b="b"/>
            <a:pathLst>
              <a:path w="2547" h="2168">
                <a:moveTo>
                  <a:pt x="1759" y="2168"/>
                </a:moveTo>
                <a:lnTo>
                  <a:pt x="1646" y="1772"/>
                </a:lnTo>
                <a:lnTo>
                  <a:pt x="1556" y="1585"/>
                </a:lnTo>
                <a:lnTo>
                  <a:pt x="1459" y="1473"/>
                </a:lnTo>
                <a:cubicBezTo>
                  <a:pt x="1412" y="1472"/>
                  <a:pt x="1369" y="1466"/>
                  <a:pt x="1272" y="1578"/>
                </a:cubicBezTo>
                <a:cubicBezTo>
                  <a:pt x="1092" y="1439"/>
                  <a:pt x="913" y="1301"/>
                  <a:pt x="913" y="1301"/>
                </a:cubicBezTo>
                <a:lnTo>
                  <a:pt x="658" y="1054"/>
                </a:lnTo>
                <a:lnTo>
                  <a:pt x="409" y="997"/>
                </a:lnTo>
                <a:lnTo>
                  <a:pt x="292" y="875"/>
                </a:lnTo>
                <a:lnTo>
                  <a:pt x="234" y="778"/>
                </a:lnTo>
                <a:lnTo>
                  <a:pt x="241" y="610"/>
                </a:lnTo>
                <a:lnTo>
                  <a:pt x="37" y="377"/>
                </a:lnTo>
                <a:lnTo>
                  <a:pt x="102" y="253"/>
                </a:lnTo>
                <a:lnTo>
                  <a:pt x="0" y="30"/>
                </a:lnTo>
                <a:lnTo>
                  <a:pt x="501" y="0"/>
                </a:lnTo>
                <a:lnTo>
                  <a:pt x="808" y="119"/>
                </a:lnTo>
                <a:lnTo>
                  <a:pt x="1691" y="254"/>
                </a:lnTo>
                <a:lnTo>
                  <a:pt x="1987" y="364"/>
                </a:lnTo>
                <a:lnTo>
                  <a:pt x="2547" y="1128"/>
                </a:lnTo>
                <a:lnTo>
                  <a:pt x="2271" y="1472"/>
                </a:lnTo>
                <a:lnTo>
                  <a:pt x="2371" y="1720"/>
                </a:lnTo>
                <a:lnTo>
                  <a:pt x="2391" y="1816"/>
                </a:lnTo>
                <a:lnTo>
                  <a:pt x="1759" y="2168"/>
                </a:lnTo>
                <a:close/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5" name=""/>
          <p:cNvSpPr/>
          <p:nvPr/>
        </p:nvSpPr>
        <p:spPr>
          <a:xfrm rot="15265800">
            <a:off x="2019240" y="338724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>
              <a:alpha val="25000"/>
            </a:srgbClr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"/>
          <p:cNvSpPr/>
          <p:nvPr/>
        </p:nvSpPr>
        <p:spPr>
          <a:xfrm rot="13470000">
            <a:off x="2936520" y="414252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>
              <a:alpha val="25000"/>
            </a:srgbClr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7" name=""/>
          <p:cNvSpPr/>
          <p:nvPr/>
        </p:nvSpPr>
        <p:spPr>
          <a:xfrm>
            <a:off x="228600" y="5029200"/>
            <a:ext cx="2209680" cy="609480"/>
          </a:xfrm>
          <a:prstGeom prst="rect">
            <a:avLst/>
          </a:prstGeom>
          <a:solidFill>
            <a:srgbClr val="003399">
              <a:alpha val="20000"/>
            </a:srgbClr>
          </a:solidFill>
          <a:ln w="22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"/>
          <p:cNvSpPr/>
          <p:nvPr/>
        </p:nvSpPr>
        <p:spPr>
          <a:xfrm>
            <a:off x="153360" y="4952880"/>
            <a:ext cx="228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3399"/>
                </a:solidFill>
                <a:latin typeface="Times New Roman"/>
              </a:rPr>
              <a:t>Concept 3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19EF26-3C86-4229-8FCA-2ADCEED0F4F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6600"/>
                </a:solidFill>
                <a:latin typeface="Times New Roman"/>
              </a:rPr>
              <a:t>Benefits of the Gas Ring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304560" y="1676160"/>
            <a:ext cx="8839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Unites 7 Balkan Energy Mar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Brings gas deep into currently ungasified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Allows for the development of gas tra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Enhances both diversity and technical security of supp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Links 7 Gas Markets with EU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Bulgaria, Romania, Greece and Hunga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Fosters regional economic co-operation in ener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Enables the Development of Gas Fired-Power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Creates environmental benefit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Allows for diversification of power generation 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Provides access to a competitive fuel for new gen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The development of gas-fired ‘anchor customers’ </a:t>
            </a: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will be of key importance to realize the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1" name=""/>
          <p:cNvSpPr/>
          <p:nvPr/>
        </p:nvSpPr>
        <p:spPr>
          <a:xfrm>
            <a:off x="533520" y="5638680"/>
            <a:ext cx="609480" cy="381240"/>
          </a:xfrm>
          <a:custGeom>
            <a:avLst/>
            <a:gdLst>
              <a:gd name="textAreaLeft" fmla="*/ 95040 w 609480"/>
              <a:gd name="textAreaRight" fmla="*/ 533520 w 60948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"/>
          <p:cNvSpPr/>
          <p:nvPr/>
        </p:nvSpPr>
        <p:spPr>
          <a:xfrm>
            <a:off x="457200" y="5410080"/>
            <a:ext cx="8458200" cy="990720"/>
          </a:xfrm>
          <a:prstGeom prst="rect">
            <a:avLst/>
          </a:prstGeom>
          <a:noFill/>
          <a:ln w="2232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8DA615-D805-4C89-B64F-7F27672D8C1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6600"/>
                </a:solidFill>
                <a:latin typeface="Times New Roman"/>
              </a:rPr>
              <a:t>Estimate of Investment Requirements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EC Gas Ring - about US$ 1 bill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CCGT Anchor Load –  US$1.3–2.3 bill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Gas Ring Transmission Tariff – US$23–35/Mcm, assum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Long-run demand of 7.3 Bcm/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33% initial anchor load (2.4 Bcm/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15 year build up to long-ru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Discounting at 15% over 25 yea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EC Gas Ring could be developed in phases, but </a:t>
            </a: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needs to be synchronized with CCGT power </a:t>
            </a: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statio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5" name=""/>
          <p:cNvSpPr/>
          <p:nvPr/>
        </p:nvSpPr>
        <p:spPr>
          <a:xfrm>
            <a:off x="685800" y="5029200"/>
            <a:ext cx="609480" cy="380880"/>
          </a:xfrm>
          <a:custGeom>
            <a:avLst/>
            <a:gdLst>
              <a:gd name="textAreaLeft" fmla="*/ 95040 w 609480"/>
              <a:gd name="textAreaRight" fmla="*/ 533520 w 6094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"/>
          <p:cNvSpPr/>
          <p:nvPr/>
        </p:nvSpPr>
        <p:spPr>
          <a:xfrm>
            <a:off x="533520" y="4572000"/>
            <a:ext cx="8153280" cy="1219320"/>
          </a:xfrm>
          <a:prstGeom prst="rect">
            <a:avLst/>
          </a:prstGeom>
          <a:noFill/>
          <a:ln w="2232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59AB38-CFDA-49E9-92B7-355EFB87397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7" name="" descr=""/>
          <p:cNvPicPr/>
          <p:nvPr/>
        </p:nvPicPr>
        <p:blipFill>
          <a:blip r:embed="rId1"/>
          <a:stretch/>
        </p:blipFill>
        <p:spPr>
          <a:xfrm>
            <a:off x="0" y="903240"/>
            <a:ext cx="9144000" cy="5954760"/>
          </a:xfrm>
          <a:prstGeom prst="rect">
            <a:avLst/>
          </a:prstGeom>
          <a:ln w="0">
            <a:noFill/>
          </a:ln>
        </p:spPr>
      </p:pic>
      <p:sp>
        <p:nvSpPr>
          <p:cNvPr id="678" name=""/>
          <p:cNvSpPr/>
          <p:nvPr/>
        </p:nvSpPr>
        <p:spPr>
          <a:xfrm>
            <a:off x="1076400" y="1486080"/>
            <a:ext cx="4419360" cy="5314680"/>
          </a:xfrm>
          <a:custGeom>
            <a:avLst/>
            <a:gdLst/>
            <a:ahLst/>
            <a:rect l="l" t="t" r="r" b="b"/>
            <a:pathLst>
              <a:path w="2784" h="3348">
                <a:moveTo>
                  <a:pt x="2784" y="3348"/>
                </a:moveTo>
                <a:lnTo>
                  <a:pt x="2514" y="3060"/>
                </a:lnTo>
                <a:lnTo>
                  <a:pt x="2220" y="2742"/>
                </a:lnTo>
                <a:lnTo>
                  <a:pt x="2112" y="2364"/>
                </a:lnTo>
                <a:lnTo>
                  <a:pt x="1878" y="1992"/>
                </a:lnTo>
                <a:lnTo>
                  <a:pt x="1266" y="1788"/>
                </a:lnTo>
                <a:lnTo>
                  <a:pt x="1098" y="1614"/>
                </a:lnTo>
                <a:lnTo>
                  <a:pt x="900" y="1590"/>
                </a:lnTo>
                <a:lnTo>
                  <a:pt x="750" y="1452"/>
                </a:lnTo>
                <a:lnTo>
                  <a:pt x="696" y="1266"/>
                </a:lnTo>
                <a:lnTo>
                  <a:pt x="558" y="816"/>
                </a:lnTo>
                <a:lnTo>
                  <a:pt x="462" y="618"/>
                </a:lnTo>
                <a:lnTo>
                  <a:pt x="348" y="234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ffff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9" name=""/>
          <p:cNvSpPr/>
          <p:nvPr/>
        </p:nvSpPr>
        <p:spPr>
          <a:xfrm rot="20718600">
            <a:off x="6086520" y="494316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0" name=""/>
          <p:cNvSpPr/>
          <p:nvPr/>
        </p:nvSpPr>
        <p:spPr>
          <a:xfrm rot="16200000">
            <a:off x="3594240" y="184608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ffff">
              <a:alpha val="50000"/>
            </a:srgbClr>
          </a:solidFill>
          <a:ln w="190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1" name=""/>
          <p:cNvSpPr/>
          <p:nvPr/>
        </p:nvSpPr>
        <p:spPr>
          <a:xfrm rot="16200000">
            <a:off x="2125800" y="150156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"/>
          <p:cNvSpPr/>
          <p:nvPr/>
        </p:nvSpPr>
        <p:spPr>
          <a:xfrm rot="16200000">
            <a:off x="4583160" y="159660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3" name=""/>
          <p:cNvSpPr/>
          <p:nvPr/>
        </p:nvSpPr>
        <p:spPr>
          <a:xfrm>
            <a:off x="3714840" y="838080"/>
            <a:ext cx="5400720" cy="5562720"/>
          </a:xfrm>
          <a:custGeom>
            <a:avLst/>
            <a:gdLst/>
            <a:ahLst/>
            <a:rect l="l" t="t" r="r" b="b"/>
            <a:pathLst>
              <a:path w="3402" h="3504">
                <a:moveTo>
                  <a:pt x="3402" y="3504"/>
                </a:moveTo>
                <a:lnTo>
                  <a:pt x="3312" y="3318"/>
                </a:lnTo>
                <a:lnTo>
                  <a:pt x="3360" y="3120"/>
                </a:lnTo>
                <a:lnTo>
                  <a:pt x="3342" y="2832"/>
                </a:lnTo>
                <a:lnTo>
                  <a:pt x="3222" y="2634"/>
                </a:lnTo>
                <a:lnTo>
                  <a:pt x="3180" y="2454"/>
                </a:lnTo>
                <a:lnTo>
                  <a:pt x="3102" y="2436"/>
                </a:lnTo>
                <a:lnTo>
                  <a:pt x="3096" y="2358"/>
                </a:lnTo>
                <a:lnTo>
                  <a:pt x="3042" y="2316"/>
                </a:lnTo>
                <a:lnTo>
                  <a:pt x="3024" y="2238"/>
                </a:lnTo>
                <a:lnTo>
                  <a:pt x="2982" y="2220"/>
                </a:lnTo>
                <a:lnTo>
                  <a:pt x="2946" y="2148"/>
                </a:lnTo>
                <a:lnTo>
                  <a:pt x="2880" y="2136"/>
                </a:lnTo>
                <a:lnTo>
                  <a:pt x="2874" y="2094"/>
                </a:lnTo>
                <a:lnTo>
                  <a:pt x="2598" y="2106"/>
                </a:lnTo>
                <a:lnTo>
                  <a:pt x="2598" y="2052"/>
                </a:lnTo>
                <a:lnTo>
                  <a:pt x="2508" y="2040"/>
                </a:lnTo>
                <a:lnTo>
                  <a:pt x="2472" y="1986"/>
                </a:lnTo>
                <a:lnTo>
                  <a:pt x="2400" y="1956"/>
                </a:lnTo>
                <a:lnTo>
                  <a:pt x="2358" y="1872"/>
                </a:lnTo>
                <a:lnTo>
                  <a:pt x="2304" y="1830"/>
                </a:lnTo>
                <a:lnTo>
                  <a:pt x="2268" y="1692"/>
                </a:lnTo>
                <a:lnTo>
                  <a:pt x="2100" y="1530"/>
                </a:lnTo>
                <a:lnTo>
                  <a:pt x="1752" y="1464"/>
                </a:lnTo>
                <a:lnTo>
                  <a:pt x="1590" y="1410"/>
                </a:lnTo>
                <a:lnTo>
                  <a:pt x="1584" y="1332"/>
                </a:lnTo>
                <a:lnTo>
                  <a:pt x="1524" y="1308"/>
                </a:lnTo>
                <a:lnTo>
                  <a:pt x="1452" y="1308"/>
                </a:lnTo>
                <a:lnTo>
                  <a:pt x="1434" y="1014"/>
                </a:lnTo>
                <a:lnTo>
                  <a:pt x="1356" y="948"/>
                </a:lnTo>
                <a:lnTo>
                  <a:pt x="1254" y="936"/>
                </a:lnTo>
                <a:lnTo>
                  <a:pt x="1194" y="924"/>
                </a:lnTo>
                <a:cubicBezTo>
                  <a:pt x="1150" y="854"/>
                  <a:pt x="1164" y="881"/>
                  <a:pt x="1146" y="846"/>
                </a:cubicBezTo>
                <a:lnTo>
                  <a:pt x="1038" y="834"/>
                </a:lnTo>
                <a:lnTo>
                  <a:pt x="828" y="606"/>
                </a:lnTo>
                <a:lnTo>
                  <a:pt x="744" y="546"/>
                </a:lnTo>
                <a:lnTo>
                  <a:pt x="660" y="552"/>
                </a:lnTo>
                <a:lnTo>
                  <a:pt x="540" y="312"/>
                </a:lnTo>
                <a:lnTo>
                  <a:pt x="354" y="126"/>
                </a:lnTo>
                <a:lnTo>
                  <a:pt x="186" y="48"/>
                </a:lnTo>
                <a:lnTo>
                  <a:pt x="30" y="36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00ff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4" name=""/>
          <p:cNvSpPr/>
          <p:nvPr/>
        </p:nvSpPr>
        <p:spPr>
          <a:xfrm>
            <a:off x="3433680" y="6300720"/>
            <a:ext cx="3030480" cy="184320"/>
          </a:xfrm>
          <a:custGeom>
            <a:avLst/>
            <a:gdLst/>
            <a:ahLst/>
            <a:rect l="l" t="t" r="r" b="b"/>
            <a:pathLst>
              <a:path w="2754" h="168">
                <a:moveTo>
                  <a:pt x="2754" y="0"/>
                </a:moveTo>
                <a:lnTo>
                  <a:pt x="2532" y="48"/>
                </a:lnTo>
                <a:lnTo>
                  <a:pt x="2364" y="78"/>
                </a:lnTo>
                <a:lnTo>
                  <a:pt x="2136" y="168"/>
                </a:lnTo>
                <a:lnTo>
                  <a:pt x="1374" y="42"/>
                </a:lnTo>
                <a:lnTo>
                  <a:pt x="1152" y="42"/>
                </a:lnTo>
                <a:lnTo>
                  <a:pt x="924" y="24"/>
                </a:lnTo>
                <a:lnTo>
                  <a:pt x="786" y="42"/>
                </a:lnTo>
                <a:lnTo>
                  <a:pt x="738" y="78"/>
                </a:lnTo>
                <a:lnTo>
                  <a:pt x="624" y="138"/>
                </a:lnTo>
                <a:lnTo>
                  <a:pt x="450" y="144"/>
                </a:lnTo>
                <a:lnTo>
                  <a:pt x="288" y="84"/>
                </a:lnTo>
                <a:lnTo>
                  <a:pt x="156" y="66"/>
                </a:lnTo>
                <a:lnTo>
                  <a:pt x="102" y="90"/>
                </a:lnTo>
                <a:lnTo>
                  <a:pt x="0" y="66"/>
                </a:lnTo>
              </a:path>
            </a:pathLst>
          </a:custGeom>
          <a:noFill/>
          <a:ln w="57240">
            <a:solidFill>
              <a:srgbClr val="ff66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5" name=""/>
          <p:cNvSpPr/>
          <p:nvPr/>
        </p:nvSpPr>
        <p:spPr>
          <a:xfrm>
            <a:off x="3809880" y="5915160"/>
            <a:ext cx="5286600" cy="1573200"/>
          </a:xfrm>
          <a:custGeom>
            <a:avLst/>
            <a:gdLst/>
            <a:ahLst/>
            <a:rect l="l" t="t" r="r" b="b"/>
            <a:pathLst>
              <a:path w="3330" h="991">
                <a:moveTo>
                  <a:pt x="3330" y="348"/>
                </a:moveTo>
                <a:lnTo>
                  <a:pt x="3186" y="138"/>
                </a:lnTo>
                <a:lnTo>
                  <a:pt x="3024" y="18"/>
                </a:lnTo>
                <a:lnTo>
                  <a:pt x="2676" y="0"/>
                </a:lnTo>
                <a:lnTo>
                  <a:pt x="2346" y="12"/>
                </a:lnTo>
                <a:lnTo>
                  <a:pt x="2148" y="108"/>
                </a:lnTo>
                <a:lnTo>
                  <a:pt x="1722" y="162"/>
                </a:lnTo>
                <a:lnTo>
                  <a:pt x="1595" y="255"/>
                </a:lnTo>
                <a:lnTo>
                  <a:pt x="1450" y="351"/>
                </a:lnTo>
                <a:lnTo>
                  <a:pt x="1181" y="584"/>
                </a:lnTo>
                <a:lnTo>
                  <a:pt x="967" y="821"/>
                </a:lnTo>
                <a:lnTo>
                  <a:pt x="743" y="965"/>
                </a:lnTo>
                <a:lnTo>
                  <a:pt x="647" y="991"/>
                </a:lnTo>
                <a:lnTo>
                  <a:pt x="504" y="954"/>
                </a:lnTo>
                <a:lnTo>
                  <a:pt x="317" y="847"/>
                </a:lnTo>
                <a:lnTo>
                  <a:pt x="102" y="697"/>
                </a:lnTo>
                <a:lnTo>
                  <a:pt x="0" y="565"/>
                </a:lnTo>
              </a:path>
            </a:pathLst>
          </a:custGeom>
          <a:noFill/>
          <a:ln w="57240">
            <a:solidFill>
              <a:srgbClr val="d60093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86" name=""/>
          <p:cNvGrpSpPr/>
          <p:nvPr/>
        </p:nvGrpSpPr>
        <p:grpSpPr>
          <a:xfrm>
            <a:off x="4016520" y="1827360"/>
            <a:ext cx="2490480" cy="3593520"/>
            <a:chOff x="4016520" y="1827360"/>
            <a:chExt cx="2490480" cy="3593520"/>
          </a:xfrm>
        </p:grpSpPr>
        <p:sp>
          <p:nvSpPr>
            <p:cNvPr id="687" name=""/>
            <p:cNvSpPr/>
            <p:nvPr/>
          </p:nvSpPr>
          <p:spPr>
            <a:xfrm>
              <a:off x="4016520" y="1827360"/>
              <a:ext cx="2490480" cy="3187440"/>
            </a:xfrm>
            <a:custGeom>
              <a:avLst/>
              <a:gdLst/>
              <a:ahLst/>
              <a:rect l="l" t="t" r="r" b="b"/>
              <a:pathLst>
                <a:path w="1569" h="2008">
                  <a:moveTo>
                    <a:pt x="377" y="1599"/>
                  </a:moveTo>
                  <a:lnTo>
                    <a:pt x="365" y="1605"/>
                  </a:lnTo>
                  <a:lnTo>
                    <a:pt x="350" y="1586"/>
                  </a:lnTo>
                  <a:lnTo>
                    <a:pt x="335" y="1560"/>
                  </a:lnTo>
                  <a:lnTo>
                    <a:pt x="323" y="1571"/>
                  </a:lnTo>
                  <a:lnTo>
                    <a:pt x="296" y="1560"/>
                  </a:lnTo>
                  <a:lnTo>
                    <a:pt x="281" y="1533"/>
                  </a:lnTo>
                  <a:lnTo>
                    <a:pt x="254" y="1524"/>
                  </a:lnTo>
                  <a:lnTo>
                    <a:pt x="253" y="1500"/>
                  </a:lnTo>
                  <a:lnTo>
                    <a:pt x="224" y="1476"/>
                  </a:lnTo>
                  <a:lnTo>
                    <a:pt x="213" y="1447"/>
                  </a:lnTo>
                  <a:lnTo>
                    <a:pt x="187" y="1445"/>
                  </a:lnTo>
                  <a:lnTo>
                    <a:pt x="173" y="1427"/>
                  </a:lnTo>
                  <a:lnTo>
                    <a:pt x="142" y="1419"/>
                  </a:lnTo>
                  <a:lnTo>
                    <a:pt x="130" y="1388"/>
                  </a:lnTo>
                  <a:lnTo>
                    <a:pt x="152" y="1386"/>
                  </a:lnTo>
                  <a:lnTo>
                    <a:pt x="160" y="1350"/>
                  </a:lnTo>
                  <a:lnTo>
                    <a:pt x="197" y="1347"/>
                  </a:lnTo>
                  <a:lnTo>
                    <a:pt x="220" y="1380"/>
                  </a:lnTo>
                  <a:lnTo>
                    <a:pt x="235" y="1358"/>
                  </a:lnTo>
                  <a:lnTo>
                    <a:pt x="253" y="1359"/>
                  </a:lnTo>
                  <a:lnTo>
                    <a:pt x="250" y="1328"/>
                  </a:lnTo>
                  <a:lnTo>
                    <a:pt x="266" y="1313"/>
                  </a:lnTo>
                  <a:lnTo>
                    <a:pt x="257" y="1293"/>
                  </a:lnTo>
                  <a:lnTo>
                    <a:pt x="250" y="1272"/>
                  </a:lnTo>
                  <a:lnTo>
                    <a:pt x="245" y="1267"/>
                  </a:lnTo>
                  <a:lnTo>
                    <a:pt x="247" y="1257"/>
                  </a:lnTo>
                  <a:lnTo>
                    <a:pt x="229" y="1245"/>
                  </a:lnTo>
                  <a:lnTo>
                    <a:pt x="202" y="1216"/>
                  </a:lnTo>
                  <a:lnTo>
                    <a:pt x="160" y="1162"/>
                  </a:lnTo>
                  <a:lnTo>
                    <a:pt x="155" y="1136"/>
                  </a:lnTo>
                  <a:lnTo>
                    <a:pt x="177" y="1139"/>
                  </a:lnTo>
                  <a:lnTo>
                    <a:pt x="200" y="1151"/>
                  </a:lnTo>
                  <a:lnTo>
                    <a:pt x="221" y="1155"/>
                  </a:lnTo>
                  <a:lnTo>
                    <a:pt x="240" y="1158"/>
                  </a:lnTo>
                  <a:lnTo>
                    <a:pt x="259" y="1159"/>
                  </a:lnTo>
                  <a:lnTo>
                    <a:pt x="277" y="1139"/>
                  </a:lnTo>
                  <a:lnTo>
                    <a:pt x="293" y="1128"/>
                  </a:lnTo>
                  <a:lnTo>
                    <a:pt x="295" y="1113"/>
                  </a:lnTo>
                  <a:lnTo>
                    <a:pt x="291" y="1102"/>
                  </a:lnTo>
                  <a:lnTo>
                    <a:pt x="245" y="1071"/>
                  </a:lnTo>
                  <a:lnTo>
                    <a:pt x="201" y="1027"/>
                  </a:lnTo>
                  <a:lnTo>
                    <a:pt x="153" y="1006"/>
                  </a:lnTo>
                  <a:lnTo>
                    <a:pt x="121" y="992"/>
                  </a:lnTo>
                  <a:lnTo>
                    <a:pt x="108" y="975"/>
                  </a:lnTo>
                  <a:lnTo>
                    <a:pt x="100" y="954"/>
                  </a:lnTo>
                  <a:lnTo>
                    <a:pt x="102" y="939"/>
                  </a:lnTo>
                  <a:lnTo>
                    <a:pt x="122" y="911"/>
                  </a:lnTo>
                  <a:lnTo>
                    <a:pt x="111" y="865"/>
                  </a:lnTo>
                  <a:lnTo>
                    <a:pt x="129" y="842"/>
                  </a:lnTo>
                  <a:lnTo>
                    <a:pt x="168" y="773"/>
                  </a:lnTo>
                  <a:lnTo>
                    <a:pt x="185" y="750"/>
                  </a:lnTo>
                  <a:lnTo>
                    <a:pt x="192" y="735"/>
                  </a:lnTo>
                  <a:lnTo>
                    <a:pt x="198" y="686"/>
                  </a:lnTo>
                  <a:lnTo>
                    <a:pt x="197" y="666"/>
                  </a:lnTo>
                  <a:lnTo>
                    <a:pt x="176" y="659"/>
                  </a:lnTo>
                  <a:lnTo>
                    <a:pt x="144" y="657"/>
                  </a:lnTo>
                  <a:lnTo>
                    <a:pt x="127" y="653"/>
                  </a:lnTo>
                  <a:lnTo>
                    <a:pt x="102" y="664"/>
                  </a:lnTo>
                  <a:lnTo>
                    <a:pt x="78" y="676"/>
                  </a:lnTo>
                  <a:lnTo>
                    <a:pt x="72" y="667"/>
                  </a:lnTo>
                  <a:lnTo>
                    <a:pt x="82" y="657"/>
                  </a:lnTo>
                  <a:lnTo>
                    <a:pt x="110" y="647"/>
                  </a:lnTo>
                  <a:lnTo>
                    <a:pt x="134" y="639"/>
                  </a:lnTo>
                  <a:lnTo>
                    <a:pt x="128" y="625"/>
                  </a:lnTo>
                  <a:lnTo>
                    <a:pt x="96" y="625"/>
                  </a:lnTo>
                  <a:lnTo>
                    <a:pt x="105" y="600"/>
                  </a:lnTo>
                  <a:lnTo>
                    <a:pt x="99" y="564"/>
                  </a:lnTo>
                  <a:lnTo>
                    <a:pt x="102" y="539"/>
                  </a:lnTo>
                  <a:lnTo>
                    <a:pt x="130" y="543"/>
                  </a:lnTo>
                  <a:lnTo>
                    <a:pt x="142" y="517"/>
                  </a:lnTo>
                  <a:lnTo>
                    <a:pt x="136" y="501"/>
                  </a:lnTo>
                  <a:lnTo>
                    <a:pt x="155" y="511"/>
                  </a:lnTo>
                  <a:lnTo>
                    <a:pt x="176" y="505"/>
                  </a:lnTo>
                  <a:lnTo>
                    <a:pt x="193" y="516"/>
                  </a:lnTo>
                  <a:lnTo>
                    <a:pt x="213" y="518"/>
                  </a:lnTo>
                  <a:lnTo>
                    <a:pt x="216" y="494"/>
                  </a:lnTo>
                  <a:lnTo>
                    <a:pt x="217" y="489"/>
                  </a:lnTo>
                  <a:lnTo>
                    <a:pt x="207" y="487"/>
                  </a:lnTo>
                  <a:lnTo>
                    <a:pt x="193" y="491"/>
                  </a:lnTo>
                  <a:lnTo>
                    <a:pt x="183" y="489"/>
                  </a:lnTo>
                  <a:lnTo>
                    <a:pt x="168" y="483"/>
                  </a:lnTo>
                  <a:lnTo>
                    <a:pt x="158" y="481"/>
                  </a:lnTo>
                  <a:lnTo>
                    <a:pt x="135" y="468"/>
                  </a:lnTo>
                  <a:lnTo>
                    <a:pt x="112" y="456"/>
                  </a:lnTo>
                  <a:lnTo>
                    <a:pt x="102" y="454"/>
                  </a:lnTo>
                  <a:lnTo>
                    <a:pt x="109" y="435"/>
                  </a:lnTo>
                  <a:lnTo>
                    <a:pt x="73" y="423"/>
                  </a:lnTo>
                  <a:lnTo>
                    <a:pt x="54" y="408"/>
                  </a:lnTo>
                  <a:lnTo>
                    <a:pt x="83" y="396"/>
                  </a:lnTo>
                  <a:lnTo>
                    <a:pt x="67" y="380"/>
                  </a:lnTo>
                  <a:lnTo>
                    <a:pt x="70" y="360"/>
                  </a:lnTo>
                  <a:lnTo>
                    <a:pt x="66" y="350"/>
                  </a:lnTo>
                  <a:lnTo>
                    <a:pt x="85" y="352"/>
                  </a:lnTo>
                  <a:lnTo>
                    <a:pt x="100" y="349"/>
                  </a:lnTo>
                  <a:lnTo>
                    <a:pt x="91" y="338"/>
                  </a:lnTo>
                  <a:lnTo>
                    <a:pt x="64" y="320"/>
                  </a:lnTo>
                  <a:lnTo>
                    <a:pt x="54" y="323"/>
                  </a:lnTo>
                  <a:lnTo>
                    <a:pt x="43" y="332"/>
                  </a:lnTo>
                  <a:lnTo>
                    <a:pt x="39" y="322"/>
                  </a:lnTo>
                  <a:lnTo>
                    <a:pt x="32" y="309"/>
                  </a:lnTo>
                  <a:lnTo>
                    <a:pt x="35" y="299"/>
                  </a:lnTo>
                  <a:lnTo>
                    <a:pt x="44" y="282"/>
                  </a:lnTo>
                  <a:lnTo>
                    <a:pt x="52" y="259"/>
                  </a:lnTo>
                  <a:lnTo>
                    <a:pt x="34" y="233"/>
                  </a:lnTo>
                  <a:lnTo>
                    <a:pt x="24" y="197"/>
                  </a:lnTo>
                  <a:lnTo>
                    <a:pt x="18" y="177"/>
                  </a:lnTo>
                  <a:lnTo>
                    <a:pt x="0" y="152"/>
                  </a:lnTo>
                  <a:lnTo>
                    <a:pt x="8" y="140"/>
                  </a:lnTo>
                  <a:lnTo>
                    <a:pt x="35" y="132"/>
                  </a:lnTo>
                  <a:lnTo>
                    <a:pt x="61" y="134"/>
                  </a:lnTo>
                  <a:lnTo>
                    <a:pt x="73" y="114"/>
                  </a:lnTo>
                  <a:lnTo>
                    <a:pt x="100" y="111"/>
                  </a:lnTo>
                  <a:lnTo>
                    <a:pt x="98" y="90"/>
                  </a:lnTo>
                  <a:lnTo>
                    <a:pt x="113" y="72"/>
                  </a:lnTo>
                  <a:lnTo>
                    <a:pt x="117" y="91"/>
                  </a:lnTo>
                  <a:lnTo>
                    <a:pt x="149" y="96"/>
                  </a:lnTo>
                  <a:lnTo>
                    <a:pt x="184" y="93"/>
                  </a:lnTo>
                  <a:lnTo>
                    <a:pt x="178" y="83"/>
                  </a:lnTo>
                  <a:lnTo>
                    <a:pt x="202" y="71"/>
                  </a:lnTo>
                  <a:lnTo>
                    <a:pt x="224" y="66"/>
                  </a:lnTo>
                  <a:lnTo>
                    <a:pt x="224" y="74"/>
                  </a:lnTo>
                  <a:lnTo>
                    <a:pt x="248" y="44"/>
                  </a:lnTo>
                  <a:lnTo>
                    <a:pt x="262" y="33"/>
                  </a:lnTo>
                  <a:lnTo>
                    <a:pt x="250" y="23"/>
                  </a:lnTo>
                  <a:lnTo>
                    <a:pt x="278" y="5"/>
                  </a:lnTo>
                  <a:lnTo>
                    <a:pt x="295" y="9"/>
                  </a:lnTo>
                  <a:lnTo>
                    <a:pt x="313" y="0"/>
                  </a:lnTo>
                  <a:lnTo>
                    <a:pt x="326" y="2"/>
                  </a:lnTo>
                  <a:lnTo>
                    <a:pt x="341" y="15"/>
                  </a:lnTo>
                  <a:lnTo>
                    <a:pt x="368" y="29"/>
                  </a:lnTo>
                  <a:lnTo>
                    <a:pt x="394" y="12"/>
                  </a:lnTo>
                  <a:lnTo>
                    <a:pt x="424" y="3"/>
                  </a:lnTo>
                  <a:lnTo>
                    <a:pt x="449" y="23"/>
                  </a:lnTo>
                  <a:lnTo>
                    <a:pt x="461" y="0"/>
                  </a:lnTo>
                  <a:lnTo>
                    <a:pt x="487" y="20"/>
                  </a:lnTo>
                  <a:lnTo>
                    <a:pt x="514" y="12"/>
                  </a:lnTo>
                  <a:lnTo>
                    <a:pt x="514" y="15"/>
                  </a:lnTo>
                  <a:lnTo>
                    <a:pt x="535" y="43"/>
                  </a:lnTo>
                  <a:lnTo>
                    <a:pt x="552" y="69"/>
                  </a:lnTo>
                  <a:lnTo>
                    <a:pt x="565" y="86"/>
                  </a:lnTo>
                  <a:lnTo>
                    <a:pt x="609" y="127"/>
                  </a:lnTo>
                  <a:lnTo>
                    <a:pt x="625" y="119"/>
                  </a:lnTo>
                  <a:lnTo>
                    <a:pt x="644" y="131"/>
                  </a:lnTo>
                  <a:lnTo>
                    <a:pt x="664" y="164"/>
                  </a:lnTo>
                  <a:lnTo>
                    <a:pt x="666" y="184"/>
                  </a:lnTo>
                  <a:lnTo>
                    <a:pt x="688" y="211"/>
                  </a:lnTo>
                  <a:lnTo>
                    <a:pt x="698" y="212"/>
                  </a:lnTo>
                  <a:lnTo>
                    <a:pt x="711" y="195"/>
                  </a:lnTo>
                  <a:lnTo>
                    <a:pt x="725" y="209"/>
                  </a:lnTo>
                  <a:lnTo>
                    <a:pt x="718" y="255"/>
                  </a:lnTo>
                  <a:lnTo>
                    <a:pt x="713" y="270"/>
                  </a:lnTo>
                  <a:lnTo>
                    <a:pt x="703" y="284"/>
                  </a:lnTo>
                  <a:lnTo>
                    <a:pt x="718" y="305"/>
                  </a:lnTo>
                  <a:lnTo>
                    <a:pt x="736" y="325"/>
                  </a:lnTo>
                  <a:lnTo>
                    <a:pt x="721" y="350"/>
                  </a:lnTo>
                  <a:lnTo>
                    <a:pt x="746" y="369"/>
                  </a:lnTo>
                  <a:lnTo>
                    <a:pt x="758" y="391"/>
                  </a:lnTo>
                  <a:lnTo>
                    <a:pt x="787" y="414"/>
                  </a:lnTo>
                  <a:lnTo>
                    <a:pt x="810" y="436"/>
                  </a:lnTo>
                  <a:lnTo>
                    <a:pt x="852" y="451"/>
                  </a:lnTo>
                  <a:lnTo>
                    <a:pt x="864" y="439"/>
                  </a:lnTo>
                  <a:lnTo>
                    <a:pt x="874" y="473"/>
                  </a:lnTo>
                  <a:lnTo>
                    <a:pt x="910" y="489"/>
                  </a:lnTo>
                  <a:lnTo>
                    <a:pt x="928" y="481"/>
                  </a:lnTo>
                  <a:lnTo>
                    <a:pt x="948" y="484"/>
                  </a:lnTo>
                  <a:lnTo>
                    <a:pt x="972" y="497"/>
                  </a:lnTo>
                  <a:lnTo>
                    <a:pt x="976" y="497"/>
                  </a:lnTo>
                  <a:lnTo>
                    <a:pt x="993" y="523"/>
                  </a:lnTo>
                  <a:lnTo>
                    <a:pt x="963" y="570"/>
                  </a:lnTo>
                  <a:lnTo>
                    <a:pt x="940" y="592"/>
                  </a:lnTo>
                  <a:lnTo>
                    <a:pt x="958" y="610"/>
                  </a:lnTo>
                  <a:lnTo>
                    <a:pt x="960" y="620"/>
                  </a:lnTo>
                  <a:lnTo>
                    <a:pt x="972" y="611"/>
                  </a:lnTo>
                  <a:lnTo>
                    <a:pt x="982" y="613"/>
                  </a:lnTo>
                  <a:lnTo>
                    <a:pt x="1005" y="626"/>
                  </a:lnTo>
                  <a:lnTo>
                    <a:pt x="1008" y="640"/>
                  </a:lnTo>
                  <a:lnTo>
                    <a:pt x="1007" y="650"/>
                  </a:lnTo>
                  <a:lnTo>
                    <a:pt x="991" y="658"/>
                  </a:lnTo>
                  <a:lnTo>
                    <a:pt x="981" y="662"/>
                  </a:lnTo>
                  <a:lnTo>
                    <a:pt x="976" y="661"/>
                  </a:lnTo>
                  <a:lnTo>
                    <a:pt x="956" y="659"/>
                  </a:lnTo>
                  <a:lnTo>
                    <a:pt x="941" y="667"/>
                  </a:lnTo>
                  <a:lnTo>
                    <a:pt x="938" y="692"/>
                  </a:lnTo>
                  <a:lnTo>
                    <a:pt x="950" y="708"/>
                  </a:lnTo>
                  <a:lnTo>
                    <a:pt x="974" y="712"/>
                  </a:lnTo>
                  <a:lnTo>
                    <a:pt x="984" y="713"/>
                  </a:lnTo>
                  <a:lnTo>
                    <a:pt x="999" y="715"/>
                  </a:lnTo>
                  <a:lnTo>
                    <a:pt x="1018" y="717"/>
                  </a:lnTo>
                  <a:lnTo>
                    <a:pt x="1023" y="718"/>
                  </a:lnTo>
                  <a:lnTo>
                    <a:pt x="1030" y="744"/>
                  </a:lnTo>
                  <a:lnTo>
                    <a:pt x="1037" y="765"/>
                  </a:lnTo>
                  <a:lnTo>
                    <a:pt x="1042" y="769"/>
                  </a:lnTo>
                  <a:lnTo>
                    <a:pt x="1077" y="773"/>
                  </a:lnTo>
                  <a:lnTo>
                    <a:pt x="1091" y="771"/>
                  </a:lnTo>
                  <a:lnTo>
                    <a:pt x="1141" y="777"/>
                  </a:lnTo>
                  <a:lnTo>
                    <a:pt x="1174" y="781"/>
                  </a:lnTo>
                  <a:lnTo>
                    <a:pt x="1186" y="807"/>
                  </a:lnTo>
                  <a:lnTo>
                    <a:pt x="1186" y="807"/>
                  </a:lnTo>
                  <a:lnTo>
                    <a:pt x="1194" y="823"/>
                  </a:lnTo>
                  <a:lnTo>
                    <a:pt x="1215" y="851"/>
                  </a:lnTo>
                  <a:lnTo>
                    <a:pt x="1229" y="863"/>
                  </a:lnTo>
                  <a:lnTo>
                    <a:pt x="1250" y="855"/>
                  </a:lnTo>
                  <a:lnTo>
                    <a:pt x="1272" y="797"/>
                  </a:lnTo>
                  <a:lnTo>
                    <a:pt x="1283" y="795"/>
                  </a:lnTo>
                  <a:lnTo>
                    <a:pt x="1290" y="775"/>
                  </a:lnTo>
                  <a:lnTo>
                    <a:pt x="1295" y="766"/>
                  </a:lnTo>
                  <a:lnTo>
                    <a:pt x="1316" y="762"/>
                  </a:lnTo>
                  <a:lnTo>
                    <a:pt x="1335" y="741"/>
                  </a:lnTo>
                  <a:lnTo>
                    <a:pt x="1347" y="739"/>
                  </a:lnTo>
                  <a:lnTo>
                    <a:pt x="1356" y="750"/>
                  </a:lnTo>
                  <a:lnTo>
                    <a:pt x="1364" y="750"/>
                  </a:lnTo>
                  <a:lnTo>
                    <a:pt x="1375" y="761"/>
                  </a:lnTo>
                  <a:lnTo>
                    <a:pt x="1394" y="773"/>
                  </a:lnTo>
                  <a:lnTo>
                    <a:pt x="1409" y="775"/>
                  </a:lnTo>
                  <a:lnTo>
                    <a:pt x="1419" y="776"/>
                  </a:lnTo>
                  <a:lnTo>
                    <a:pt x="1424" y="777"/>
                  </a:lnTo>
                  <a:lnTo>
                    <a:pt x="1441" y="789"/>
                  </a:lnTo>
                  <a:lnTo>
                    <a:pt x="1463" y="817"/>
                  </a:lnTo>
                  <a:lnTo>
                    <a:pt x="1453" y="820"/>
                  </a:lnTo>
                  <a:lnTo>
                    <a:pt x="1442" y="828"/>
                  </a:lnTo>
                  <a:lnTo>
                    <a:pt x="1437" y="828"/>
                  </a:lnTo>
                  <a:lnTo>
                    <a:pt x="1419" y="815"/>
                  </a:lnTo>
                  <a:lnTo>
                    <a:pt x="1414" y="815"/>
                  </a:lnTo>
                  <a:lnTo>
                    <a:pt x="1396" y="811"/>
                  </a:lnTo>
                  <a:lnTo>
                    <a:pt x="1382" y="825"/>
                  </a:lnTo>
                  <a:lnTo>
                    <a:pt x="1380" y="855"/>
                  </a:lnTo>
                  <a:lnTo>
                    <a:pt x="1362" y="853"/>
                  </a:lnTo>
                  <a:lnTo>
                    <a:pt x="1346" y="875"/>
                  </a:lnTo>
                  <a:lnTo>
                    <a:pt x="1366" y="907"/>
                  </a:lnTo>
                  <a:lnTo>
                    <a:pt x="1378" y="943"/>
                  </a:lnTo>
                  <a:lnTo>
                    <a:pt x="1408" y="957"/>
                  </a:lnTo>
                  <a:lnTo>
                    <a:pt x="1422" y="951"/>
                  </a:lnTo>
                  <a:lnTo>
                    <a:pt x="1427" y="951"/>
                  </a:lnTo>
                  <a:lnTo>
                    <a:pt x="1437" y="953"/>
                  </a:lnTo>
                  <a:lnTo>
                    <a:pt x="1445" y="964"/>
                  </a:lnTo>
                  <a:lnTo>
                    <a:pt x="1442" y="989"/>
                  </a:lnTo>
                  <a:lnTo>
                    <a:pt x="1442" y="989"/>
                  </a:lnTo>
                  <a:lnTo>
                    <a:pt x="1432" y="992"/>
                  </a:lnTo>
                  <a:lnTo>
                    <a:pt x="1419" y="1009"/>
                  </a:lnTo>
                  <a:lnTo>
                    <a:pt x="1409" y="1033"/>
                  </a:lnTo>
                  <a:lnTo>
                    <a:pt x="1415" y="1069"/>
                  </a:lnTo>
                  <a:lnTo>
                    <a:pt x="1392" y="1068"/>
                  </a:lnTo>
                  <a:lnTo>
                    <a:pt x="1383" y="1089"/>
                  </a:lnTo>
                  <a:lnTo>
                    <a:pt x="1354" y="1103"/>
                  </a:lnTo>
                  <a:lnTo>
                    <a:pt x="1335" y="1105"/>
                  </a:lnTo>
                  <a:lnTo>
                    <a:pt x="1335" y="1132"/>
                  </a:lnTo>
                  <a:lnTo>
                    <a:pt x="1335" y="1176"/>
                  </a:lnTo>
                  <a:lnTo>
                    <a:pt x="1321" y="1202"/>
                  </a:lnTo>
                  <a:lnTo>
                    <a:pt x="1333" y="1236"/>
                  </a:lnTo>
                  <a:lnTo>
                    <a:pt x="1339" y="1274"/>
                  </a:lnTo>
                  <a:lnTo>
                    <a:pt x="1369" y="1296"/>
                  </a:lnTo>
                  <a:lnTo>
                    <a:pt x="1370" y="1337"/>
                  </a:lnTo>
                  <a:lnTo>
                    <a:pt x="1388" y="1379"/>
                  </a:lnTo>
                  <a:lnTo>
                    <a:pt x="1426" y="1400"/>
                  </a:lnTo>
                  <a:lnTo>
                    <a:pt x="1405" y="1392"/>
                  </a:lnTo>
                  <a:lnTo>
                    <a:pt x="1437" y="1405"/>
                  </a:lnTo>
                  <a:lnTo>
                    <a:pt x="1443" y="1416"/>
                  </a:lnTo>
                  <a:lnTo>
                    <a:pt x="1458" y="1423"/>
                  </a:lnTo>
                  <a:lnTo>
                    <a:pt x="1481" y="1435"/>
                  </a:lnTo>
                  <a:lnTo>
                    <a:pt x="1506" y="1458"/>
                  </a:lnTo>
                  <a:lnTo>
                    <a:pt x="1517" y="1483"/>
                  </a:lnTo>
                  <a:lnTo>
                    <a:pt x="1533" y="1507"/>
                  </a:lnTo>
                  <a:lnTo>
                    <a:pt x="1568" y="1522"/>
                  </a:lnTo>
                  <a:lnTo>
                    <a:pt x="1569" y="1554"/>
                  </a:lnTo>
                  <a:lnTo>
                    <a:pt x="1559" y="1572"/>
                  </a:lnTo>
                  <a:lnTo>
                    <a:pt x="1547" y="1578"/>
                  </a:lnTo>
                  <a:lnTo>
                    <a:pt x="1538" y="1602"/>
                  </a:lnTo>
                  <a:lnTo>
                    <a:pt x="1519" y="1622"/>
                  </a:lnTo>
                  <a:lnTo>
                    <a:pt x="1504" y="1628"/>
                  </a:lnTo>
                  <a:lnTo>
                    <a:pt x="1493" y="1662"/>
                  </a:lnTo>
                  <a:lnTo>
                    <a:pt x="1477" y="1679"/>
                  </a:lnTo>
                  <a:lnTo>
                    <a:pt x="1456" y="1690"/>
                  </a:lnTo>
                  <a:lnTo>
                    <a:pt x="1433" y="1680"/>
                  </a:lnTo>
                  <a:lnTo>
                    <a:pt x="1415" y="1688"/>
                  </a:lnTo>
                  <a:lnTo>
                    <a:pt x="1402" y="1685"/>
                  </a:lnTo>
                  <a:lnTo>
                    <a:pt x="1388" y="1707"/>
                  </a:lnTo>
                  <a:lnTo>
                    <a:pt x="1367" y="1725"/>
                  </a:lnTo>
                  <a:lnTo>
                    <a:pt x="1388" y="1767"/>
                  </a:lnTo>
                  <a:lnTo>
                    <a:pt x="1378" y="1797"/>
                  </a:lnTo>
                  <a:lnTo>
                    <a:pt x="1376" y="1833"/>
                  </a:lnTo>
                  <a:lnTo>
                    <a:pt x="1364" y="1847"/>
                  </a:lnTo>
                  <a:lnTo>
                    <a:pt x="1390" y="1862"/>
                  </a:lnTo>
                  <a:lnTo>
                    <a:pt x="1406" y="1881"/>
                  </a:lnTo>
                  <a:lnTo>
                    <a:pt x="1420" y="1892"/>
                  </a:lnTo>
                  <a:lnTo>
                    <a:pt x="1411" y="1908"/>
                  </a:lnTo>
                  <a:lnTo>
                    <a:pt x="1406" y="1932"/>
                  </a:lnTo>
                  <a:lnTo>
                    <a:pt x="1388" y="1949"/>
                  </a:lnTo>
                  <a:lnTo>
                    <a:pt x="1378" y="1974"/>
                  </a:lnTo>
                  <a:lnTo>
                    <a:pt x="1363" y="1977"/>
                  </a:lnTo>
                  <a:lnTo>
                    <a:pt x="1351" y="1977"/>
                  </a:lnTo>
                  <a:lnTo>
                    <a:pt x="1337" y="1982"/>
                  </a:lnTo>
                  <a:lnTo>
                    <a:pt x="1307" y="1973"/>
                  </a:lnTo>
                  <a:lnTo>
                    <a:pt x="1274" y="1980"/>
                  </a:lnTo>
                  <a:lnTo>
                    <a:pt x="1229" y="1988"/>
                  </a:lnTo>
                  <a:lnTo>
                    <a:pt x="1180" y="1986"/>
                  </a:lnTo>
                  <a:lnTo>
                    <a:pt x="1155" y="2008"/>
                  </a:lnTo>
                  <a:lnTo>
                    <a:pt x="1133" y="2003"/>
                  </a:lnTo>
                  <a:lnTo>
                    <a:pt x="1116" y="1999"/>
                  </a:lnTo>
                  <a:lnTo>
                    <a:pt x="1107" y="1966"/>
                  </a:lnTo>
                  <a:lnTo>
                    <a:pt x="1149" y="1957"/>
                  </a:lnTo>
                  <a:lnTo>
                    <a:pt x="1155" y="1930"/>
                  </a:lnTo>
                  <a:lnTo>
                    <a:pt x="1140" y="1894"/>
                  </a:lnTo>
                  <a:lnTo>
                    <a:pt x="1164" y="1873"/>
                  </a:lnTo>
                  <a:lnTo>
                    <a:pt x="1170" y="1846"/>
                  </a:lnTo>
                  <a:lnTo>
                    <a:pt x="1179" y="1825"/>
                  </a:lnTo>
                  <a:lnTo>
                    <a:pt x="1197" y="1801"/>
                  </a:lnTo>
                  <a:lnTo>
                    <a:pt x="1176" y="1765"/>
                  </a:lnTo>
                  <a:lnTo>
                    <a:pt x="1152" y="1771"/>
                  </a:lnTo>
                  <a:lnTo>
                    <a:pt x="1134" y="1732"/>
                  </a:lnTo>
                  <a:lnTo>
                    <a:pt x="1116" y="1726"/>
                  </a:lnTo>
                  <a:lnTo>
                    <a:pt x="1089" y="1732"/>
                  </a:lnTo>
                  <a:lnTo>
                    <a:pt x="1080" y="1714"/>
                  </a:lnTo>
                  <a:lnTo>
                    <a:pt x="1092" y="1663"/>
                  </a:lnTo>
                  <a:lnTo>
                    <a:pt x="1065" y="1651"/>
                  </a:lnTo>
                  <a:lnTo>
                    <a:pt x="1044" y="1666"/>
                  </a:lnTo>
                  <a:lnTo>
                    <a:pt x="1008" y="1657"/>
                  </a:lnTo>
                  <a:lnTo>
                    <a:pt x="990" y="1633"/>
                  </a:lnTo>
                  <a:lnTo>
                    <a:pt x="984" y="1603"/>
                  </a:lnTo>
                  <a:lnTo>
                    <a:pt x="975" y="1579"/>
                  </a:lnTo>
                  <a:lnTo>
                    <a:pt x="960" y="1561"/>
                  </a:lnTo>
                  <a:lnTo>
                    <a:pt x="930" y="1573"/>
                  </a:lnTo>
                  <a:lnTo>
                    <a:pt x="912" y="1525"/>
                  </a:lnTo>
                  <a:lnTo>
                    <a:pt x="894" y="1513"/>
                  </a:lnTo>
                  <a:lnTo>
                    <a:pt x="870" y="1525"/>
                  </a:lnTo>
                  <a:lnTo>
                    <a:pt x="822" y="1495"/>
                  </a:lnTo>
                  <a:lnTo>
                    <a:pt x="798" y="1459"/>
                  </a:lnTo>
                  <a:lnTo>
                    <a:pt x="795" y="1444"/>
                  </a:lnTo>
                  <a:lnTo>
                    <a:pt x="810" y="1417"/>
                  </a:lnTo>
                  <a:lnTo>
                    <a:pt x="792" y="1399"/>
                  </a:lnTo>
                  <a:lnTo>
                    <a:pt x="771" y="1390"/>
                  </a:lnTo>
                  <a:lnTo>
                    <a:pt x="747" y="1405"/>
                  </a:lnTo>
                  <a:lnTo>
                    <a:pt x="726" y="1435"/>
                  </a:lnTo>
                  <a:lnTo>
                    <a:pt x="690" y="1447"/>
                  </a:lnTo>
                  <a:lnTo>
                    <a:pt x="672" y="1477"/>
                  </a:lnTo>
                  <a:lnTo>
                    <a:pt x="699" y="1498"/>
                  </a:lnTo>
                  <a:lnTo>
                    <a:pt x="702" y="1534"/>
                  </a:lnTo>
                  <a:lnTo>
                    <a:pt x="705" y="1585"/>
                  </a:lnTo>
                  <a:lnTo>
                    <a:pt x="690" y="1606"/>
                  </a:lnTo>
                  <a:lnTo>
                    <a:pt x="678" y="1633"/>
                  </a:lnTo>
                  <a:lnTo>
                    <a:pt x="651" y="1624"/>
                  </a:lnTo>
                  <a:lnTo>
                    <a:pt x="627" y="1630"/>
                  </a:lnTo>
                  <a:lnTo>
                    <a:pt x="609" y="1648"/>
                  </a:lnTo>
                  <a:lnTo>
                    <a:pt x="636" y="1669"/>
                  </a:lnTo>
                  <a:lnTo>
                    <a:pt x="619" y="1691"/>
                  </a:lnTo>
                  <a:lnTo>
                    <a:pt x="593" y="1704"/>
                  </a:lnTo>
                  <a:lnTo>
                    <a:pt x="560" y="1691"/>
                  </a:lnTo>
                  <a:lnTo>
                    <a:pt x="544" y="1677"/>
                  </a:lnTo>
                  <a:lnTo>
                    <a:pt x="521" y="1667"/>
                  </a:lnTo>
                  <a:lnTo>
                    <a:pt x="497" y="1667"/>
                  </a:lnTo>
                  <a:lnTo>
                    <a:pt x="482" y="1655"/>
                  </a:lnTo>
                  <a:lnTo>
                    <a:pt x="478" y="1640"/>
                  </a:lnTo>
                  <a:lnTo>
                    <a:pt x="430" y="1611"/>
                  </a:lnTo>
                  <a:lnTo>
                    <a:pt x="418" y="1589"/>
                  </a:lnTo>
                  <a:lnTo>
                    <a:pt x="397" y="1601"/>
                  </a:lnTo>
                  <a:lnTo>
                    <a:pt x="377" y="1599"/>
                  </a:lnTo>
                  <a:close/>
                </a:path>
              </a:pathLst>
            </a:custGeom>
            <a:solidFill>
              <a:srgbClr val="009900">
                <a:alpha val="67000"/>
              </a:srgbClr>
            </a:solidFill>
            <a:ln w="4680">
              <a:solidFill>
                <a:srgbClr val="6e6e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746600" y="4032000"/>
              <a:ext cx="1161720" cy="1388880"/>
            </a:xfrm>
            <a:custGeom>
              <a:avLst/>
              <a:gdLst/>
              <a:ahLst/>
              <a:rect l="l" t="t" r="r" b="b"/>
              <a:pathLst>
                <a:path w="732" h="875">
                  <a:moveTo>
                    <a:pt x="208" y="875"/>
                  </a:moveTo>
                  <a:lnTo>
                    <a:pt x="205" y="860"/>
                  </a:lnTo>
                  <a:lnTo>
                    <a:pt x="216" y="845"/>
                  </a:lnTo>
                  <a:lnTo>
                    <a:pt x="210" y="828"/>
                  </a:lnTo>
                  <a:lnTo>
                    <a:pt x="232" y="812"/>
                  </a:lnTo>
                  <a:lnTo>
                    <a:pt x="222" y="777"/>
                  </a:lnTo>
                  <a:lnTo>
                    <a:pt x="204" y="740"/>
                  </a:lnTo>
                  <a:lnTo>
                    <a:pt x="204" y="708"/>
                  </a:lnTo>
                  <a:lnTo>
                    <a:pt x="189" y="689"/>
                  </a:lnTo>
                  <a:lnTo>
                    <a:pt x="165" y="645"/>
                  </a:lnTo>
                  <a:lnTo>
                    <a:pt x="141" y="627"/>
                  </a:lnTo>
                  <a:lnTo>
                    <a:pt x="105" y="611"/>
                  </a:lnTo>
                  <a:lnTo>
                    <a:pt x="91" y="612"/>
                  </a:lnTo>
                  <a:lnTo>
                    <a:pt x="74" y="611"/>
                  </a:lnTo>
                  <a:lnTo>
                    <a:pt x="65" y="582"/>
                  </a:lnTo>
                  <a:lnTo>
                    <a:pt x="67" y="568"/>
                  </a:lnTo>
                  <a:lnTo>
                    <a:pt x="51" y="528"/>
                  </a:lnTo>
                  <a:lnTo>
                    <a:pt x="62" y="551"/>
                  </a:lnTo>
                  <a:lnTo>
                    <a:pt x="38" y="513"/>
                  </a:lnTo>
                  <a:lnTo>
                    <a:pt x="18" y="498"/>
                  </a:lnTo>
                  <a:lnTo>
                    <a:pt x="12" y="508"/>
                  </a:lnTo>
                  <a:lnTo>
                    <a:pt x="15" y="468"/>
                  </a:lnTo>
                  <a:lnTo>
                    <a:pt x="30" y="447"/>
                  </a:lnTo>
                  <a:lnTo>
                    <a:pt x="8" y="422"/>
                  </a:lnTo>
                  <a:lnTo>
                    <a:pt x="0" y="413"/>
                  </a:lnTo>
                  <a:lnTo>
                    <a:pt x="2" y="399"/>
                  </a:lnTo>
                  <a:lnTo>
                    <a:pt x="14" y="392"/>
                  </a:lnTo>
                  <a:lnTo>
                    <a:pt x="27" y="395"/>
                  </a:lnTo>
                  <a:lnTo>
                    <a:pt x="41" y="408"/>
                  </a:lnTo>
                  <a:lnTo>
                    <a:pt x="57" y="401"/>
                  </a:lnTo>
                  <a:lnTo>
                    <a:pt x="71" y="396"/>
                  </a:lnTo>
                  <a:lnTo>
                    <a:pt x="66" y="377"/>
                  </a:lnTo>
                  <a:lnTo>
                    <a:pt x="92" y="366"/>
                  </a:lnTo>
                  <a:lnTo>
                    <a:pt x="104" y="369"/>
                  </a:lnTo>
                  <a:lnTo>
                    <a:pt x="120" y="348"/>
                  </a:lnTo>
                  <a:lnTo>
                    <a:pt x="132" y="322"/>
                  </a:lnTo>
                  <a:lnTo>
                    <a:pt x="166" y="304"/>
                  </a:lnTo>
                  <a:lnTo>
                    <a:pt x="171" y="277"/>
                  </a:lnTo>
                  <a:lnTo>
                    <a:pt x="142" y="258"/>
                  </a:lnTo>
                  <a:lnTo>
                    <a:pt x="162" y="240"/>
                  </a:lnTo>
                  <a:lnTo>
                    <a:pt x="190" y="235"/>
                  </a:lnTo>
                  <a:lnTo>
                    <a:pt x="214" y="241"/>
                  </a:lnTo>
                  <a:lnTo>
                    <a:pt x="223" y="216"/>
                  </a:lnTo>
                  <a:lnTo>
                    <a:pt x="240" y="198"/>
                  </a:lnTo>
                  <a:lnTo>
                    <a:pt x="237" y="106"/>
                  </a:lnTo>
                  <a:lnTo>
                    <a:pt x="208" y="90"/>
                  </a:lnTo>
                  <a:lnTo>
                    <a:pt x="226" y="58"/>
                  </a:lnTo>
                  <a:lnTo>
                    <a:pt x="264" y="45"/>
                  </a:lnTo>
                  <a:lnTo>
                    <a:pt x="280" y="15"/>
                  </a:lnTo>
                  <a:lnTo>
                    <a:pt x="310" y="0"/>
                  </a:lnTo>
                  <a:lnTo>
                    <a:pt x="330" y="9"/>
                  </a:lnTo>
                  <a:lnTo>
                    <a:pt x="343" y="28"/>
                  </a:lnTo>
                  <a:lnTo>
                    <a:pt x="333" y="51"/>
                  </a:lnTo>
                  <a:lnTo>
                    <a:pt x="334" y="70"/>
                  </a:lnTo>
                  <a:lnTo>
                    <a:pt x="360" y="108"/>
                  </a:lnTo>
                  <a:lnTo>
                    <a:pt x="406" y="135"/>
                  </a:lnTo>
                  <a:lnTo>
                    <a:pt x="432" y="127"/>
                  </a:lnTo>
                  <a:lnTo>
                    <a:pt x="450" y="136"/>
                  </a:lnTo>
                  <a:lnTo>
                    <a:pt x="466" y="184"/>
                  </a:lnTo>
                  <a:lnTo>
                    <a:pt x="499" y="171"/>
                  </a:lnTo>
                  <a:lnTo>
                    <a:pt x="510" y="193"/>
                  </a:lnTo>
                  <a:lnTo>
                    <a:pt x="516" y="208"/>
                  </a:lnTo>
                  <a:lnTo>
                    <a:pt x="523" y="240"/>
                  </a:lnTo>
                  <a:lnTo>
                    <a:pt x="538" y="264"/>
                  </a:lnTo>
                  <a:lnTo>
                    <a:pt x="583" y="279"/>
                  </a:lnTo>
                  <a:lnTo>
                    <a:pt x="603" y="261"/>
                  </a:lnTo>
                  <a:lnTo>
                    <a:pt x="630" y="274"/>
                  </a:lnTo>
                  <a:lnTo>
                    <a:pt x="613" y="327"/>
                  </a:lnTo>
                  <a:lnTo>
                    <a:pt x="624" y="346"/>
                  </a:lnTo>
                  <a:lnTo>
                    <a:pt x="648" y="337"/>
                  </a:lnTo>
                  <a:lnTo>
                    <a:pt x="672" y="342"/>
                  </a:lnTo>
                  <a:lnTo>
                    <a:pt x="687" y="382"/>
                  </a:lnTo>
                  <a:lnTo>
                    <a:pt x="714" y="376"/>
                  </a:lnTo>
                  <a:lnTo>
                    <a:pt x="732" y="414"/>
                  </a:lnTo>
                  <a:lnTo>
                    <a:pt x="715" y="438"/>
                  </a:lnTo>
                  <a:lnTo>
                    <a:pt x="705" y="457"/>
                  </a:lnTo>
                  <a:lnTo>
                    <a:pt x="700" y="484"/>
                  </a:lnTo>
                  <a:lnTo>
                    <a:pt x="676" y="505"/>
                  </a:lnTo>
                  <a:lnTo>
                    <a:pt x="691" y="541"/>
                  </a:lnTo>
                  <a:lnTo>
                    <a:pt x="684" y="570"/>
                  </a:lnTo>
                  <a:lnTo>
                    <a:pt x="643" y="576"/>
                  </a:lnTo>
                  <a:lnTo>
                    <a:pt x="651" y="609"/>
                  </a:lnTo>
                  <a:lnTo>
                    <a:pt x="668" y="613"/>
                  </a:lnTo>
                  <a:lnTo>
                    <a:pt x="662" y="625"/>
                  </a:lnTo>
                  <a:lnTo>
                    <a:pt x="643" y="636"/>
                  </a:lnTo>
                  <a:lnTo>
                    <a:pt x="616" y="639"/>
                  </a:lnTo>
                  <a:lnTo>
                    <a:pt x="575" y="640"/>
                  </a:lnTo>
                  <a:lnTo>
                    <a:pt x="550" y="628"/>
                  </a:lnTo>
                  <a:lnTo>
                    <a:pt x="531" y="629"/>
                  </a:lnTo>
                  <a:lnTo>
                    <a:pt x="522" y="647"/>
                  </a:lnTo>
                  <a:lnTo>
                    <a:pt x="507" y="668"/>
                  </a:lnTo>
                  <a:lnTo>
                    <a:pt x="481" y="695"/>
                  </a:lnTo>
                  <a:lnTo>
                    <a:pt x="483" y="719"/>
                  </a:lnTo>
                  <a:lnTo>
                    <a:pt x="456" y="729"/>
                  </a:lnTo>
                  <a:lnTo>
                    <a:pt x="444" y="702"/>
                  </a:lnTo>
                  <a:lnTo>
                    <a:pt x="417" y="668"/>
                  </a:lnTo>
                  <a:lnTo>
                    <a:pt x="388" y="674"/>
                  </a:lnTo>
                  <a:lnTo>
                    <a:pt x="372" y="701"/>
                  </a:lnTo>
                  <a:lnTo>
                    <a:pt x="309" y="722"/>
                  </a:lnTo>
                  <a:lnTo>
                    <a:pt x="279" y="729"/>
                  </a:lnTo>
                  <a:lnTo>
                    <a:pt x="261" y="762"/>
                  </a:lnTo>
                  <a:lnTo>
                    <a:pt x="262" y="791"/>
                  </a:lnTo>
                  <a:lnTo>
                    <a:pt x="264" y="810"/>
                  </a:lnTo>
                  <a:lnTo>
                    <a:pt x="259" y="825"/>
                  </a:lnTo>
                  <a:lnTo>
                    <a:pt x="271" y="839"/>
                  </a:lnTo>
                  <a:lnTo>
                    <a:pt x="253" y="851"/>
                  </a:lnTo>
                  <a:lnTo>
                    <a:pt x="241" y="846"/>
                  </a:lnTo>
                  <a:lnTo>
                    <a:pt x="208" y="875"/>
                  </a:lnTo>
                  <a:close/>
                </a:path>
              </a:pathLst>
            </a:custGeom>
            <a:solidFill>
              <a:srgbClr val="009900">
                <a:alpha val="6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89" name=""/>
          <p:cNvSpPr/>
          <p:nvPr/>
        </p:nvSpPr>
        <p:spPr>
          <a:xfrm>
            <a:off x="2217600" y="2557440"/>
            <a:ext cx="2264040" cy="2252520"/>
          </a:xfrm>
          <a:custGeom>
            <a:avLst/>
            <a:gdLst/>
            <a:ahLst/>
            <a:rect l="l" t="t" r="r" b="b"/>
            <a:pathLst>
              <a:path w="1426" h="1419">
                <a:moveTo>
                  <a:pt x="678" y="1245"/>
                </a:moveTo>
                <a:lnTo>
                  <a:pt x="647" y="1216"/>
                </a:lnTo>
                <a:lnTo>
                  <a:pt x="703" y="1203"/>
                </a:lnTo>
                <a:lnTo>
                  <a:pt x="687" y="1171"/>
                </a:lnTo>
                <a:lnTo>
                  <a:pt x="678" y="1165"/>
                </a:lnTo>
                <a:lnTo>
                  <a:pt x="670" y="1154"/>
                </a:lnTo>
                <a:lnTo>
                  <a:pt x="657" y="1137"/>
                </a:lnTo>
                <a:lnTo>
                  <a:pt x="647" y="1115"/>
                </a:lnTo>
                <a:lnTo>
                  <a:pt x="605" y="1088"/>
                </a:lnTo>
                <a:lnTo>
                  <a:pt x="589" y="1062"/>
                </a:lnTo>
                <a:lnTo>
                  <a:pt x="562" y="1041"/>
                </a:lnTo>
                <a:lnTo>
                  <a:pt x="556" y="1017"/>
                </a:lnTo>
                <a:lnTo>
                  <a:pt x="551" y="998"/>
                </a:lnTo>
                <a:lnTo>
                  <a:pt x="545" y="963"/>
                </a:lnTo>
                <a:lnTo>
                  <a:pt x="548" y="933"/>
                </a:lnTo>
                <a:lnTo>
                  <a:pt x="530" y="927"/>
                </a:lnTo>
                <a:lnTo>
                  <a:pt x="500" y="921"/>
                </a:lnTo>
                <a:lnTo>
                  <a:pt x="487" y="912"/>
                </a:lnTo>
                <a:lnTo>
                  <a:pt x="475" y="902"/>
                </a:lnTo>
                <a:lnTo>
                  <a:pt x="461" y="884"/>
                </a:lnTo>
                <a:lnTo>
                  <a:pt x="440" y="869"/>
                </a:lnTo>
                <a:lnTo>
                  <a:pt x="430" y="851"/>
                </a:lnTo>
                <a:lnTo>
                  <a:pt x="424" y="837"/>
                </a:lnTo>
                <a:lnTo>
                  <a:pt x="407" y="816"/>
                </a:lnTo>
                <a:lnTo>
                  <a:pt x="364" y="777"/>
                </a:lnTo>
                <a:lnTo>
                  <a:pt x="349" y="746"/>
                </a:lnTo>
                <a:lnTo>
                  <a:pt x="341" y="720"/>
                </a:lnTo>
                <a:lnTo>
                  <a:pt x="319" y="702"/>
                </a:lnTo>
                <a:lnTo>
                  <a:pt x="305" y="690"/>
                </a:lnTo>
                <a:lnTo>
                  <a:pt x="271" y="642"/>
                </a:lnTo>
                <a:lnTo>
                  <a:pt x="262" y="631"/>
                </a:lnTo>
                <a:lnTo>
                  <a:pt x="238" y="628"/>
                </a:lnTo>
                <a:lnTo>
                  <a:pt x="228" y="627"/>
                </a:lnTo>
                <a:lnTo>
                  <a:pt x="202" y="599"/>
                </a:lnTo>
                <a:lnTo>
                  <a:pt x="194" y="582"/>
                </a:lnTo>
                <a:lnTo>
                  <a:pt x="186" y="566"/>
                </a:lnTo>
                <a:lnTo>
                  <a:pt x="173" y="545"/>
                </a:lnTo>
                <a:lnTo>
                  <a:pt x="165" y="539"/>
                </a:lnTo>
                <a:lnTo>
                  <a:pt x="161" y="515"/>
                </a:lnTo>
                <a:lnTo>
                  <a:pt x="157" y="485"/>
                </a:lnTo>
                <a:lnTo>
                  <a:pt x="167" y="456"/>
                </a:lnTo>
                <a:lnTo>
                  <a:pt x="129" y="383"/>
                </a:lnTo>
                <a:lnTo>
                  <a:pt x="121" y="372"/>
                </a:lnTo>
                <a:lnTo>
                  <a:pt x="107" y="360"/>
                </a:lnTo>
                <a:lnTo>
                  <a:pt x="97" y="342"/>
                </a:lnTo>
                <a:lnTo>
                  <a:pt x="118" y="329"/>
                </a:lnTo>
                <a:lnTo>
                  <a:pt x="100" y="297"/>
                </a:lnTo>
                <a:lnTo>
                  <a:pt x="68" y="276"/>
                </a:lnTo>
                <a:lnTo>
                  <a:pt x="68" y="254"/>
                </a:lnTo>
                <a:lnTo>
                  <a:pt x="43" y="251"/>
                </a:lnTo>
                <a:lnTo>
                  <a:pt x="16" y="257"/>
                </a:lnTo>
                <a:lnTo>
                  <a:pt x="0" y="222"/>
                </a:lnTo>
                <a:lnTo>
                  <a:pt x="25" y="206"/>
                </a:lnTo>
                <a:lnTo>
                  <a:pt x="11" y="183"/>
                </a:lnTo>
                <a:lnTo>
                  <a:pt x="4" y="150"/>
                </a:lnTo>
                <a:lnTo>
                  <a:pt x="25" y="122"/>
                </a:lnTo>
                <a:lnTo>
                  <a:pt x="14" y="86"/>
                </a:lnTo>
                <a:lnTo>
                  <a:pt x="23" y="65"/>
                </a:lnTo>
                <a:lnTo>
                  <a:pt x="22" y="41"/>
                </a:lnTo>
                <a:lnTo>
                  <a:pt x="35" y="20"/>
                </a:lnTo>
                <a:lnTo>
                  <a:pt x="55" y="12"/>
                </a:lnTo>
                <a:lnTo>
                  <a:pt x="88" y="17"/>
                </a:lnTo>
                <a:lnTo>
                  <a:pt x="109" y="17"/>
                </a:lnTo>
                <a:lnTo>
                  <a:pt x="128" y="53"/>
                </a:lnTo>
                <a:lnTo>
                  <a:pt x="131" y="74"/>
                </a:lnTo>
                <a:lnTo>
                  <a:pt x="167" y="104"/>
                </a:lnTo>
                <a:lnTo>
                  <a:pt x="178" y="113"/>
                </a:lnTo>
                <a:lnTo>
                  <a:pt x="202" y="123"/>
                </a:lnTo>
                <a:lnTo>
                  <a:pt x="227" y="123"/>
                </a:lnTo>
                <a:lnTo>
                  <a:pt x="220" y="93"/>
                </a:lnTo>
                <a:lnTo>
                  <a:pt x="244" y="101"/>
                </a:lnTo>
                <a:lnTo>
                  <a:pt x="253" y="68"/>
                </a:lnTo>
                <a:lnTo>
                  <a:pt x="278" y="51"/>
                </a:lnTo>
                <a:lnTo>
                  <a:pt x="295" y="18"/>
                </a:lnTo>
                <a:lnTo>
                  <a:pt x="305" y="17"/>
                </a:lnTo>
                <a:lnTo>
                  <a:pt x="316" y="12"/>
                </a:lnTo>
                <a:lnTo>
                  <a:pt x="343" y="35"/>
                </a:lnTo>
                <a:lnTo>
                  <a:pt x="364" y="33"/>
                </a:lnTo>
                <a:lnTo>
                  <a:pt x="385" y="39"/>
                </a:lnTo>
                <a:lnTo>
                  <a:pt x="412" y="38"/>
                </a:lnTo>
                <a:lnTo>
                  <a:pt x="424" y="14"/>
                </a:lnTo>
                <a:lnTo>
                  <a:pt x="440" y="0"/>
                </a:lnTo>
                <a:lnTo>
                  <a:pt x="460" y="26"/>
                </a:lnTo>
                <a:lnTo>
                  <a:pt x="481" y="29"/>
                </a:lnTo>
                <a:lnTo>
                  <a:pt x="517" y="60"/>
                </a:lnTo>
                <a:lnTo>
                  <a:pt x="557" y="66"/>
                </a:lnTo>
                <a:lnTo>
                  <a:pt x="565" y="44"/>
                </a:lnTo>
                <a:lnTo>
                  <a:pt x="589" y="72"/>
                </a:lnTo>
                <a:lnTo>
                  <a:pt x="622" y="71"/>
                </a:lnTo>
                <a:lnTo>
                  <a:pt x="637" y="83"/>
                </a:lnTo>
                <a:lnTo>
                  <a:pt x="668" y="87"/>
                </a:lnTo>
                <a:lnTo>
                  <a:pt x="706" y="75"/>
                </a:lnTo>
                <a:lnTo>
                  <a:pt x="727" y="89"/>
                </a:lnTo>
                <a:lnTo>
                  <a:pt x="746" y="105"/>
                </a:lnTo>
                <a:lnTo>
                  <a:pt x="773" y="117"/>
                </a:lnTo>
                <a:lnTo>
                  <a:pt x="799" y="105"/>
                </a:lnTo>
                <a:lnTo>
                  <a:pt x="809" y="90"/>
                </a:lnTo>
                <a:lnTo>
                  <a:pt x="826" y="75"/>
                </a:lnTo>
                <a:lnTo>
                  <a:pt x="852" y="75"/>
                </a:lnTo>
                <a:lnTo>
                  <a:pt x="856" y="98"/>
                </a:lnTo>
                <a:lnTo>
                  <a:pt x="890" y="108"/>
                </a:lnTo>
                <a:lnTo>
                  <a:pt x="916" y="98"/>
                </a:lnTo>
                <a:lnTo>
                  <a:pt x="914" y="78"/>
                </a:lnTo>
                <a:lnTo>
                  <a:pt x="932" y="80"/>
                </a:lnTo>
                <a:lnTo>
                  <a:pt x="950" y="98"/>
                </a:lnTo>
                <a:lnTo>
                  <a:pt x="979" y="95"/>
                </a:lnTo>
                <a:lnTo>
                  <a:pt x="1003" y="117"/>
                </a:lnTo>
                <a:lnTo>
                  <a:pt x="1025" y="125"/>
                </a:lnTo>
                <a:lnTo>
                  <a:pt x="1034" y="108"/>
                </a:lnTo>
                <a:lnTo>
                  <a:pt x="1075" y="114"/>
                </a:lnTo>
                <a:lnTo>
                  <a:pt x="1087" y="134"/>
                </a:lnTo>
                <a:lnTo>
                  <a:pt x="1096" y="153"/>
                </a:lnTo>
                <a:lnTo>
                  <a:pt x="1114" y="158"/>
                </a:lnTo>
                <a:lnTo>
                  <a:pt x="1112" y="177"/>
                </a:lnTo>
                <a:lnTo>
                  <a:pt x="1105" y="188"/>
                </a:lnTo>
                <a:lnTo>
                  <a:pt x="1123" y="212"/>
                </a:lnTo>
                <a:lnTo>
                  <a:pt x="1156" y="227"/>
                </a:lnTo>
                <a:lnTo>
                  <a:pt x="1219" y="227"/>
                </a:lnTo>
                <a:lnTo>
                  <a:pt x="1184" y="230"/>
                </a:lnTo>
                <a:lnTo>
                  <a:pt x="1241" y="209"/>
                </a:lnTo>
                <a:lnTo>
                  <a:pt x="1264" y="206"/>
                </a:lnTo>
                <a:lnTo>
                  <a:pt x="1285" y="204"/>
                </a:lnTo>
                <a:lnTo>
                  <a:pt x="1307" y="209"/>
                </a:lnTo>
                <a:lnTo>
                  <a:pt x="1322" y="218"/>
                </a:lnTo>
                <a:lnTo>
                  <a:pt x="1318" y="246"/>
                </a:lnTo>
                <a:lnTo>
                  <a:pt x="1319" y="268"/>
                </a:lnTo>
                <a:lnTo>
                  <a:pt x="1309" y="288"/>
                </a:lnTo>
                <a:lnTo>
                  <a:pt x="1256" y="372"/>
                </a:lnTo>
                <a:lnTo>
                  <a:pt x="1234" y="399"/>
                </a:lnTo>
                <a:lnTo>
                  <a:pt x="1244" y="446"/>
                </a:lnTo>
                <a:lnTo>
                  <a:pt x="1231" y="467"/>
                </a:lnTo>
                <a:lnTo>
                  <a:pt x="1226" y="489"/>
                </a:lnTo>
                <a:lnTo>
                  <a:pt x="1237" y="527"/>
                </a:lnTo>
                <a:lnTo>
                  <a:pt x="1274" y="546"/>
                </a:lnTo>
                <a:lnTo>
                  <a:pt x="1301" y="563"/>
                </a:lnTo>
                <a:lnTo>
                  <a:pt x="1331" y="575"/>
                </a:lnTo>
                <a:lnTo>
                  <a:pt x="1364" y="606"/>
                </a:lnTo>
                <a:lnTo>
                  <a:pt x="1379" y="626"/>
                </a:lnTo>
                <a:lnTo>
                  <a:pt x="1397" y="641"/>
                </a:lnTo>
                <a:lnTo>
                  <a:pt x="1418" y="653"/>
                </a:lnTo>
                <a:lnTo>
                  <a:pt x="1426" y="648"/>
                </a:lnTo>
                <a:lnTo>
                  <a:pt x="1392" y="679"/>
                </a:lnTo>
                <a:lnTo>
                  <a:pt x="1375" y="686"/>
                </a:lnTo>
                <a:lnTo>
                  <a:pt x="1373" y="689"/>
                </a:lnTo>
                <a:lnTo>
                  <a:pt x="1354" y="689"/>
                </a:lnTo>
                <a:lnTo>
                  <a:pt x="1328" y="677"/>
                </a:lnTo>
                <a:lnTo>
                  <a:pt x="1303" y="662"/>
                </a:lnTo>
                <a:lnTo>
                  <a:pt x="1280" y="663"/>
                </a:lnTo>
                <a:lnTo>
                  <a:pt x="1282" y="701"/>
                </a:lnTo>
                <a:lnTo>
                  <a:pt x="1301" y="731"/>
                </a:lnTo>
                <a:lnTo>
                  <a:pt x="1334" y="773"/>
                </a:lnTo>
                <a:lnTo>
                  <a:pt x="1366" y="791"/>
                </a:lnTo>
                <a:lnTo>
                  <a:pt x="1378" y="819"/>
                </a:lnTo>
                <a:lnTo>
                  <a:pt x="1388" y="848"/>
                </a:lnTo>
                <a:lnTo>
                  <a:pt x="1370" y="867"/>
                </a:lnTo>
                <a:lnTo>
                  <a:pt x="1371" y="888"/>
                </a:lnTo>
                <a:lnTo>
                  <a:pt x="1352" y="900"/>
                </a:lnTo>
                <a:lnTo>
                  <a:pt x="1334" y="879"/>
                </a:lnTo>
                <a:lnTo>
                  <a:pt x="1289" y="879"/>
                </a:lnTo>
                <a:lnTo>
                  <a:pt x="1279" y="918"/>
                </a:lnTo>
                <a:lnTo>
                  <a:pt x="1252" y="918"/>
                </a:lnTo>
                <a:lnTo>
                  <a:pt x="1226" y="926"/>
                </a:lnTo>
                <a:lnTo>
                  <a:pt x="1196" y="902"/>
                </a:lnTo>
                <a:lnTo>
                  <a:pt x="1177" y="917"/>
                </a:lnTo>
                <a:lnTo>
                  <a:pt x="1157" y="933"/>
                </a:lnTo>
                <a:lnTo>
                  <a:pt x="1172" y="944"/>
                </a:lnTo>
                <a:lnTo>
                  <a:pt x="1181" y="959"/>
                </a:lnTo>
                <a:lnTo>
                  <a:pt x="1199" y="969"/>
                </a:lnTo>
                <a:lnTo>
                  <a:pt x="1205" y="983"/>
                </a:lnTo>
                <a:lnTo>
                  <a:pt x="1214" y="1032"/>
                </a:lnTo>
                <a:lnTo>
                  <a:pt x="1204" y="1038"/>
                </a:lnTo>
                <a:lnTo>
                  <a:pt x="1195" y="1056"/>
                </a:lnTo>
                <a:lnTo>
                  <a:pt x="1179" y="1041"/>
                </a:lnTo>
                <a:lnTo>
                  <a:pt x="1176" y="1025"/>
                </a:lnTo>
                <a:lnTo>
                  <a:pt x="1163" y="1002"/>
                </a:lnTo>
                <a:lnTo>
                  <a:pt x="1127" y="1001"/>
                </a:lnTo>
                <a:lnTo>
                  <a:pt x="1121" y="1020"/>
                </a:lnTo>
                <a:lnTo>
                  <a:pt x="1091" y="1034"/>
                </a:lnTo>
                <a:lnTo>
                  <a:pt x="1079" y="1054"/>
                </a:lnTo>
                <a:lnTo>
                  <a:pt x="1054" y="1100"/>
                </a:lnTo>
                <a:lnTo>
                  <a:pt x="1051" y="1128"/>
                </a:lnTo>
                <a:lnTo>
                  <a:pt x="1057" y="1143"/>
                </a:lnTo>
                <a:lnTo>
                  <a:pt x="1060" y="1166"/>
                </a:lnTo>
                <a:lnTo>
                  <a:pt x="1034" y="1173"/>
                </a:lnTo>
                <a:lnTo>
                  <a:pt x="1024" y="1172"/>
                </a:lnTo>
                <a:lnTo>
                  <a:pt x="1010" y="1176"/>
                </a:lnTo>
                <a:lnTo>
                  <a:pt x="998" y="1187"/>
                </a:lnTo>
                <a:lnTo>
                  <a:pt x="982" y="1205"/>
                </a:lnTo>
                <a:lnTo>
                  <a:pt x="985" y="1256"/>
                </a:lnTo>
                <a:lnTo>
                  <a:pt x="974" y="1278"/>
                </a:lnTo>
                <a:lnTo>
                  <a:pt x="985" y="1307"/>
                </a:lnTo>
                <a:lnTo>
                  <a:pt x="992" y="1332"/>
                </a:lnTo>
                <a:lnTo>
                  <a:pt x="1016" y="1346"/>
                </a:lnTo>
                <a:lnTo>
                  <a:pt x="1021" y="1373"/>
                </a:lnTo>
                <a:lnTo>
                  <a:pt x="1015" y="1383"/>
                </a:lnTo>
                <a:lnTo>
                  <a:pt x="1018" y="1403"/>
                </a:lnTo>
                <a:lnTo>
                  <a:pt x="995" y="1404"/>
                </a:lnTo>
                <a:lnTo>
                  <a:pt x="984" y="1419"/>
                </a:lnTo>
                <a:lnTo>
                  <a:pt x="984" y="1419"/>
                </a:lnTo>
                <a:lnTo>
                  <a:pt x="962" y="1401"/>
                </a:lnTo>
                <a:lnTo>
                  <a:pt x="948" y="1389"/>
                </a:lnTo>
                <a:lnTo>
                  <a:pt x="938" y="1388"/>
                </a:lnTo>
                <a:lnTo>
                  <a:pt x="932" y="1397"/>
                </a:lnTo>
                <a:lnTo>
                  <a:pt x="912" y="1395"/>
                </a:lnTo>
                <a:lnTo>
                  <a:pt x="901" y="1373"/>
                </a:lnTo>
                <a:lnTo>
                  <a:pt x="880" y="1359"/>
                </a:lnTo>
                <a:lnTo>
                  <a:pt x="868" y="1343"/>
                </a:lnTo>
                <a:lnTo>
                  <a:pt x="827" y="1317"/>
                </a:lnTo>
                <a:lnTo>
                  <a:pt x="805" y="1287"/>
                </a:lnTo>
                <a:lnTo>
                  <a:pt x="781" y="1280"/>
                </a:lnTo>
                <a:lnTo>
                  <a:pt x="761" y="1257"/>
                </a:lnTo>
                <a:lnTo>
                  <a:pt x="748" y="1224"/>
                </a:lnTo>
                <a:lnTo>
                  <a:pt x="734" y="1237"/>
                </a:lnTo>
                <a:lnTo>
                  <a:pt x="709" y="1224"/>
                </a:lnTo>
                <a:lnTo>
                  <a:pt x="696" y="1222"/>
                </a:lnTo>
                <a:lnTo>
                  <a:pt x="694" y="1232"/>
                </a:lnTo>
                <a:lnTo>
                  <a:pt x="678" y="1245"/>
                </a:lnTo>
              </a:path>
            </a:pathLst>
          </a:custGeom>
          <a:solidFill>
            <a:srgbClr val="336600">
              <a:alpha val="67000"/>
            </a:srgbClr>
          </a:solidFill>
          <a:ln w="46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"/>
          <p:cNvSpPr/>
          <p:nvPr/>
        </p:nvSpPr>
        <p:spPr>
          <a:xfrm>
            <a:off x="1036800" y="2163600"/>
            <a:ext cx="8073720" cy="870120"/>
          </a:xfrm>
          <a:custGeom>
            <a:avLst/>
            <a:gdLst/>
            <a:ahLst/>
            <a:rect l="l" t="t" r="r" b="b"/>
            <a:pathLst>
              <a:path w="5086" h="548">
                <a:moveTo>
                  <a:pt x="5086" y="463"/>
                </a:moveTo>
                <a:lnTo>
                  <a:pt x="4503" y="541"/>
                </a:lnTo>
                <a:lnTo>
                  <a:pt x="3843" y="548"/>
                </a:lnTo>
                <a:lnTo>
                  <a:pt x="3091" y="477"/>
                </a:lnTo>
                <a:lnTo>
                  <a:pt x="2466" y="520"/>
                </a:lnTo>
                <a:lnTo>
                  <a:pt x="2206" y="414"/>
                </a:lnTo>
                <a:lnTo>
                  <a:pt x="1312" y="270"/>
                </a:lnTo>
                <a:lnTo>
                  <a:pt x="1171" y="225"/>
                </a:lnTo>
                <a:lnTo>
                  <a:pt x="941" y="148"/>
                </a:lnTo>
                <a:lnTo>
                  <a:pt x="633" y="175"/>
                </a:lnTo>
                <a:lnTo>
                  <a:pt x="239" y="154"/>
                </a:lnTo>
                <a:lnTo>
                  <a:pt x="0" y="140"/>
                </a:lnTo>
                <a:lnTo>
                  <a:pt x="14" y="0"/>
                </a:lnTo>
              </a:path>
            </a:pathLst>
          </a:custGeom>
          <a:noFill/>
          <a:ln w="76320">
            <a:solidFill>
              <a:srgbClr val="b5e0e3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1" name=""/>
          <p:cNvSpPr/>
          <p:nvPr/>
        </p:nvSpPr>
        <p:spPr>
          <a:xfrm>
            <a:off x="1076400" y="1476360"/>
            <a:ext cx="8067600" cy="3809880"/>
          </a:xfrm>
          <a:custGeom>
            <a:avLst/>
            <a:gdLst/>
            <a:ahLst/>
            <a:rect l="l" t="t" r="r" b="b"/>
            <a:pathLst>
              <a:path w="5082" h="2400">
                <a:moveTo>
                  <a:pt x="5082" y="2400"/>
                </a:moveTo>
                <a:lnTo>
                  <a:pt x="4764" y="2040"/>
                </a:lnTo>
                <a:lnTo>
                  <a:pt x="4404" y="2094"/>
                </a:lnTo>
                <a:lnTo>
                  <a:pt x="3924" y="2298"/>
                </a:lnTo>
                <a:lnTo>
                  <a:pt x="3468" y="2238"/>
                </a:lnTo>
                <a:lnTo>
                  <a:pt x="2988" y="1692"/>
                </a:lnTo>
                <a:lnTo>
                  <a:pt x="2436" y="942"/>
                </a:lnTo>
                <a:lnTo>
                  <a:pt x="2237" y="842"/>
                </a:lnTo>
                <a:lnTo>
                  <a:pt x="1315" y="695"/>
                </a:lnTo>
                <a:lnTo>
                  <a:pt x="1174" y="650"/>
                </a:lnTo>
                <a:lnTo>
                  <a:pt x="944" y="573"/>
                </a:lnTo>
                <a:lnTo>
                  <a:pt x="804" y="390"/>
                </a:lnTo>
                <a:lnTo>
                  <a:pt x="318" y="246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66ff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2" name=""/>
          <p:cNvSpPr/>
          <p:nvPr/>
        </p:nvSpPr>
        <p:spPr>
          <a:xfrm>
            <a:off x="0" y="905040"/>
            <a:ext cx="9144000" cy="5952960"/>
          </a:xfrm>
          <a:prstGeom prst="rect">
            <a:avLst/>
          </a:prstGeom>
          <a:solidFill>
            <a:srgbClr val="969696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3" name=""/>
          <p:cNvSpPr/>
          <p:nvPr/>
        </p:nvSpPr>
        <p:spPr>
          <a:xfrm>
            <a:off x="5014800" y="4976640"/>
            <a:ext cx="1557360" cy="1224000"/>
          </a:xfrm>
          <a:custGeom>
            <a:avLst/>
            <a:gdLst/>
            <a:ahLst/>
            <a:rect l="l" t="t" r="r" b="b"/>
            <a:pathLst>
              <a:path w="981" h="771">
                <a:moveTo>
                  <a:pt x="36" y="305"/>
                </a:moveTo>
                <a:lnTo>
                  <a:pt x="66" y="264"/>
                </a:lnTo>
                <a:lnTo>
                  <a:pt x="95" y="267"/>
                </a:lnTo>
                <a:lnTo>
                  <a:pt x="107" y="248"/>
                </a:lnTo>
                <a:lnTo>
                  <a:pt x="101" y="228"/>
                </a:lnTo>
                <a:lnTo>
                  <a:pt x="102" y="208"/>
                </a:lnTo>
                <a:lnTo>
                  <a:pt x="99" y="173"/>
                </a:lnTo>
                <a:lnTo>
                  <a:pt x="113" y="146"/>
                </a:lnTo>
                <a:lnTo>
                  <a:pt x="162" y="133"/>
                </a:lnTo>
                <a:lnTo>
                  <a:pt x="203" y="116"/>
                </a:lnTo>
                <a:lnTo>
                  <a:pt x="225" y="90"/>
                </a:lnTo>
                <a:lnTo>
                  <a:pt x="244" y="83"/>
                </a:lnTo>
                <a:lnTo>
                  <a:pt x="267" y="120"/>
                </a:lnTo>
                <a:lnTo>
                  <a:pt x="287" y="147"/>
                </a:lnTo>
                <a:lnTo>
                  <a:pt x="314" y="134"/>
                </a:lnTo>
                <a:lnTo>
                  <a:pt x="317" y="110"/>
                </a:lnTo>
                <a:lnTo>
                  <a:pt x="350" y="81"/>
                </a:lnTo>
                <a:lnTo>
                  <a:pt x="368" y="48"/>
                </a:lnTo>
                <a:lnTo>
                  <a:pt x="405" y="57"/>
                </a:lnTo>
                <a:lnTo>
                  <a:pt x="459" y="59"/>
                </a:lnTo>
                <a:lnTo>
                  <a:pt x="482" y="54"/>
                </a:lnTo>
                <a:lnTo>
                  <a:pt x="494" y="47"/>
                </a:lnTo>
                <a:lnTo>
                  <a:pt x="502" y="39"/>
                </a:lnTo>
                <a:lnTo>
                  <a:pt x="504" y="24"/>
                </a:lnTo>
                <a:lnTo>
                  <a:pt x="527" y="32"/>
                </a:lnTo>
                <a:lnTo>
                  <a:pt x="555" y="17"/>
                </a:lnTo>
                <a:lnTo>
                  <a:pt x="611" y="15"/>
                </a:lnTo>
                <a:lnTo>
                  <a:pt x="657" y="8"/>
                </a:lnTo>
                <a:lnTo>
                  <a:pt x="686" y="0"/>
                </a:lnTo>
                <a:lnTo>
                  <a:pt x="716" y="14"/>
                </a:lnTo>
                <a:lnTo>
                  <a:pt x="735" y="17"/>
                </a:lnTo>
                <a:lnTo>
                  <a:pt x="749" y="38"/>
                </a:lnTo>
                <a:lnTo>
                  <a:pt x="776" y="75"/>
                </a:lnTo>
                <a:lnTo>
                  <a:pt x="803" y="117"/>
                </a:lnTo>
                <a:lnTo>
                  <a:pt x="855" y="144"/>
                </a:lnTo>
                <a:lnTo>
                  <a:pt x="891" y="149"/>
                </a:lnTo>
                <a:lnTo>
                  <a:pt x="918" y="161"/>
                </a:lnTo>
                <a:lnTo>
                  <a:pt x="915" y="198"/>
                </a:lnTo>
                <a:lnTo>
                  <a:pt x="948" y="255"/>
                </a:lnTo>
                <a:lnTo>
                  <a:pt x="963" y="284"/>
                </a:lnTo>
                <a:lnTo>
                  <a:pt x="981" y="294"/>
                </a:lnTo>
                <a:lnTo>
                  <a:pt x="981" y="308"/>
                </a:lnTo>
                <a:lnTo>
                  <a:pt x="977" y="326"/>
                </a:lnTo>
                <a:lnTo>
                  <a:pt x="966" y="335"/>
                </a:lnTo>
                <a:lnTo>
                  <a:pt x="951" y="356"/>
                </a:lnTo>
                <a:lnTo>
                  <a:pt x="956" y="377"/>
                </a:lnTo>
                <a:lnTo>
                  <a:pt x="959" y="398"/>
                </a:lnTo>
                <a:lnTo>
                  <a:pt x="954" y="426"/>
                </a:lnTo>
                <a:lnTo>
                  <a:pt x="963" y="446"/>
                </a:lnTo>
                <a:lnTo>
                  <a:pt x="956" y="462"/>
                </a:lnTo>
                <a:lnTo>
                  <a:pt x="960" y="489"/>
                </a:lnTo>
                <a:lnTo>
                  <a:pt x="953" y="497"/>
                </a:lnTo>
                <a:lnTo>
                  <a:pt x="920" y="500"/>
                </a:lnTo>
                <a:lnTo>
                  <a:pt x="894" y="506"/>
                </a:lnTo>
                <a:lnTo>
                  <a:pt x="882" y="530"/>
                </a:lnTo>
                <a:lnTo>
                  <a:pt x="879" y="567"/>
                </a:lnTo>
                <a:lnTo>
                  <a:pt x="885" y="546"/>
                </a:lnTo>
                <a:lnTo>
                  <a:pt x="882" y="593"/>
                </a:lnTo>
                <a:lnTo>
                  <a:pt x="870" y="602"/>
                </a:lnTo>
                <a:lnTo>
                  <a:pt x="849" y="587"/>
                </a:lnTo>
                <a:lnTo>
                  <a:pt x="821" y="612"/>
                </a:lnTo>
                <a:lnTo>
                  <a:pt x="800" y="615"/>
                </a:lnTo>
                <a:lnTo>
                  <a:pt x="767" y="618"/>
                </a:lnTo>
                <a:lnTo>
                  <a:pt x="747" y="611"/>
                </a:lnTo>
                <a:lnTo>
                  <a:pt x="728" y="615"/>
                </a:lnTo>
                <a:lnTo>
                  <a:pt x="705" y="602"/>
                </a:lnTo>
                <a:lnTo>
                  <a:pt x="663" y="605"/>
                </a:lnTo>
                <a:lnTo>
                  <a:pt x="647" y="624"/>
                </a:lnTo>
                <a:lnTo>
                  <a:pt x="617" y="615"/>
                </a:lnTo>
                <a:lnTo>
                  <a:pt x="567" y="636"/>
                </a:lnTo>
                <a:lnTo>
                  <a:pt x="557" y="654"/>
                </a:lnTo>
                <a:lnTo>
                  <a:pt x="552" y="672"/>
                </a:lnTo>
                <a:lnTo>
                  <a:pt x="522" y="704"/>
                </a:lnTo>
                <a:lnTo>
                  <a:pt x="524" y="717"/>
                </a:lnTo>
                <a:lnTo>
                  <a:pt x="509" y="728"/>
                </a:lnTo>
                <a:lnTo>
                  <a:pt x="480" y="725"/>
                </a:lnTo>
                <a:lnTo>
                  <a:pt x="474" y="738"/>
                </a:lnTo>
                <a:lnTo>
                  <a:pt x="450" y="746"/>
                </a:lnTo>
                <a:lnTo>
                  <a:pt x="443" y="761"/>
                </a:lnTo>
                <a:lnTo>
                  <a:pt x="420" y="753"/>
                </a:lnTo>
                <a:lnTo>
                  <a:pt x="416" y="738"/>
                </a:lnTo>
                <a:lnTo>
                  <a:pt x="395" y="741"/>
                </a:lnTo>
                <a:lnTo>
                  <a:pt x="368" y="738"/>
                </a:lnTo>
                <a:lnTo>
                  <a:pt x="348" y="758"/>
                </a:lnTo>
                <a:lnTo>
                  <a:pt x="312" y="767"/>
                </a:lnTo>
                <a:lnTo>
                  <a:pt x="291" y="756"/>
                </a:lnTo>
                <a:lnTo>
                  <a:pt x="269" y="771"/>
                </a:lnTo>
                <a:lnTo>
                  <a:pt x="212" y="770"/>
                </a:lnTo>
                <a:lnTo>
                  <a:pt x="206" y="762"/>
                </a:lnTo>
                <a:lnTo>
                  <a:pt x="198" y="746"/>
                </a:lnTo>
                <a:lnTo>
                  <a:pt x="183" y="738"/>
                </a:lnTo>
                <a:lnTo>
                  <a:pt x="168" y="738"/>
                </a:lnTo>
                <a:lnTo>
                  <a:pt x="146" y="735"/>
                </a:lnTo>
                <a:lnTo>
                  <a:pt x="134" y="749"/>
                </a:lnTo>
                <a:lnTo>
                  <a:pt x="108" y="752"/>
                </a:lnTo>
                <a:lnTo>
                  <a:pt x="81" y="665"/>
                </a:lnTo>
                <a:lnTo>
                  <a:pt x="63" y="653"/>
                </a:lnTo>
                <a:lnTo>
                  <a:pt x="50" y="651"/>
                </a:lnTo>
                <a:lnTo>
                  <a:pt x="56" y="630"/>
                </a:lnTo>
                <a:lnTo>
                  <a:pt x="26" y="597"/>
                </a:lnTo>
                <a:lnTo>
                  <a:pt x="18" y="573"/>
                </a:lnTo>
                <a:lnTo>
                  <a:pt x="18" y="558"/>
                </a:lnTo>
                <a:lnTo>
                  <a:pt x="11" y="539"/>
                </a:lnTo>
                <a:lnTo>
                  <a:pt x="22" y="530"/>
                </a:lnTo>
                <a:lnTo>
                  <a:pt x="39" y="495"/>
                </a:lnTo>
                <a:lnTo>
                  <a:pt x="14" y="473"/>
                </a:lnTo>
                <a:lnTo>
                  <a:pt x="14" y="468"/>
                </a:lnTo>
                <a:lnTo>
                  <a:pt x="9" y="456"/>
                </a:lnTo>
                <a:lnTo>
                  <a:pt x="2" y="444"/>
                </a:lnTo>
                <a:lnTo>
                  <a:pt x="0" y="425"/>
                </a:lnTo>
                <a:lnTo>
                  <a:pt x="32" y="414"/>
                </a:lnTo>
                <a:lnTo>
                  <a:pt x="38" y="392"/>
                </a:lnTo>
                <a:lnTo>
                  <a:pt x="20" y="368"/>
                </a:lnTo>
                <a:lnTo>
                  <a:pt x="29" y="342"/>
                </a:lnTo>
                <a:lnTo>
                  <a:pt x="17" y="323"/>
                </a:lnTo>
                <a:lnTo>
                  <a:pt x="45" y="291"/>
                </a:lnTo>
              </a:path>
            </a:pathLst>
          </a:custGeom>
          <a:solidFill>
            <a:srgbClr val="003300">
              <a:alpha val="67000"/>
            </a:srgbClr>
          </a:solidFill>
          <a:ln w="46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4" name=""/>
          <p:cNvSpPr/>
          <p:nvPr/>
        </p:nvSpPr>
        <p:spPr>
          <a:xfrm rot="420000">
            <a:off x="885600" y="1496520"/>
            <a:ext cx="3402000" cy="3297240"/>
          </a:xfrm>
          <a:custGeom>
            <a:avLst/>
            <a:gdLst/>
            <a:ahLst/>
            <a:rect l="l" t="t" r="r" b="b"/>
            <a:pathLst>
              <a:path w="441" h="421">
                <a:moveTo>
                  <a:pt x="329" y="372"/>
                </a:moveTo>
                <a:lnTo>
                  <a:pt x="325" y="372"/>
                </a:lnTo>
                <a:lnTo>
                  <a:pt x="322" y="369"/>
                </a:lnTo>
                <a:lnTo>
                  <a:pt x="320" y="367"/>
                </a:lnTo>
                <a:lnTo>
                  <a:pt x="320" y="366"/>
                </a:lnTo>
                <a:lnTo>
                  <a:pt x="319" y="364"/>
                </a:lnTo>
                <a:lnTo>
                  <a:pt x="309" y="356"/>
                </a:lnTo>
                <a:lnTo>
                  <a:pt x="302" y="352"/>
                </a:lnTo>
                <a:lnTo>
                  <a:pt x="299" y="352"/>
                </a:lnTo>
                <a:lnTo>
                  <a:pt x="295" y="351"/>
                </a:lnTo>
                <a:lnTo>
                  <a:pt x="292" y="349"/>
                </a:lnTo>
                <a:lnTo>
                  <a:pt x="287" y="346"/>
                </a:lnTo>
                <a:lnTo>
                  <a:pt x="285" y="342"/>
                </a:lnTo>
                <a:lnTo>
                  <a:pt x="275" y="332"/>
                </a:lnTo>
                <a:lnTo>
                  <a:pt x="270" y="329"/>
                </a:lnTo>
                <a:lnTo>
                  <a:pt x="269" y="329"/>
                </a:lnTo>
                <a:lnTo>
                  <a:pt x="267" y="329"/>
                </a:lnTo>
                <a:lnTo>
                  <a:pt x="265" y="329"/>
                </a:lnTo>
                <a:lnTo>
                  <a:pt x="262" y="329"/>
                </a:lnTo>
                <a:lnTo>
                  <a:pt x="259" y="329"/>
                </a:lnTo>
                <a:lnTo>
                  <a:pt x="252" y="327"/>
                </a:lnTo>
                <a:lnTo>
                  <a:pt x="250" y="326"/>
                </a:lnTo>
                <a:lnTo>
                  <a:pt x="240" y="321"/>
                </a:lnTo>
                <a:lnTo>
                  <a:pt x="237" y="319"/>
                </a:lnTo>
                <a:lnTo>
                  <a:pt x="235" y="317"/>
                </a:lnTo>
                <a:lnTo>
                  <a:pt x="229" y="317"/>
                </a:lnTo>
                <a:lnTo>
                  <a:pt x="225" y="319"/>
                </a:lnTo>
                <a:lnTo>
                  <a:pt x="217" y="322"/>
                </a:lnTo>
                <a:lnTo>
                  <a:pt x="215" y="324"/>
                </a:lnTo>
                <a:lnTo>
                  <a:pt x="210" y="327"/>
                </a:lnTo>
                <a:lnTo>
                  <a:pt x="205" y="327"/>
                </a:lnTo>
                <a:lnTo>
                  <a:pt x="202" y="324"/>
                </a:lnTo>
                <a:lnTo>
                  <a:pt x="195" y="319"/>
                </a:lnTo>
                <a:lnTo>
                  <a:pt x="195" y="312"/>
                </a:lnTo>
                <a:lnTo>
                  <a:pt x="199" y="311"/>
                </a:lnTo>
                <a:lnTo>
                  <a:pt x="195" y="306"/>
                </a:lnTo>
                <a:lnTo>
                  <a:pt x="184" y="299"/>
                </a:lnTo>
                <a:lnTo>
                  <a:pt x="175" y="297"/>
                </a:lnTo>
                <a:lnTo>
                  <a:pt x="169" y="291"/>
                </a:lnTo>
                <a:lnTo>
                  <a:pt x="164" y="287"/>
                </a:lnTo>
                <a:lnTo>
                  <a:pt x="162" y="286"/>
                </a:lnTo>
                <a:lnTo>
                  <a:pt x="160" y="284"/>
                </a:lnTo>
                <a:lnTo>
                  <a:pt x="157" y="284"/>
                </a:lnTo>
                <a:lnTo>
                  <a:pt x="152" y="279"/>
                </a:lnTo>
                <a:lnTo>
                  <a:pt x="142" y="269"/>
                </a:lnTo>
                <a:lnTo>
                  <a:pt x="138" y="264"/>
                </a:lnTo>
                <a:lnTo>
                  <a:pt x="132" y="255"/>
                </a:lnTo>
                <a:lnTo>
                  <a:pt x="128" y="249"/>
                </a:lnTo>
                <a:lnTo>
                  <a:pt x="130" y="247"/>
                </a:lnTo>
                <a:lnTo>
                  <a:pt x="135" y="249"/>
                </a:lnTo>
                <a:lnTo>
                  <a:pt x="142" y="249"/>
                </a:lnTo>
                <a:lnTo>
                  <a:pt x="140" y="244"/>
                </a:lnTo>
                <a:lnTo>
                  <a:pt x="143" y="244"/>
                </a:lnTo>
                <a:lnTo>
                  <a:pt x="145" y="245"/>
                </a:lnTo>
                <a:lnTo>
                  <a:pt x="148" y="247"/>
                </a:lnTo>
                <a:lnTo>
                  <a:pt x="152" y="247"/>
                </a:lnTo>
                <a:lnTo>
                  <a:pt x="159" y="247"/>
                </a:lnTo>
                <a:lnTo>
                  <a:pt x="157" y="245"/>
                </a:lnTo>
                <a:lnTo>
                  <a:pt x="155" y="245"/>
                </a:lnTo>
                <a:lnTo>
                  <a:pt x="153" y="245"/>
                </a:lnTo>
                <a:lnTo>
                  <a:pt x="138" y="237"/>
                </a:lnTo>
                <a:lnTo>
                  <a:pt x="132" y="230"/>
                </a:lnTo>
                <a:lnTo>
                  <a:pt x="128" y="227"/>
                </a:lnTo>
                <a:lnTo>
                  <a:pt x="125" y="222"/>
                </a:lnTo>
                <a:lnTo>
                  <a:pt x="118" y="217"/>
                </a:lnTo>
                <a:lnTo>
                  <a:pt x="117" y="215"/>
                </a:lnTo>
                <a:lnTo>
                  <a:pt x="115" y="214"/>
                </a:lnTo>
                <a:lnTo>
                  <a:pt x="112" y="209"/>
                </a:lnTo>
                <a:lnTo>
                  <a:pt x="108" y="204"/>
                </a:lnTo>
                <a:lnTo>
                  <a:pt x="108" y="202"/>
                </a:lnTo>
                <a:lnTo>
                  <a:pt x="107" y="192"/>
                </a:lnTo>
                <a:lnTo>
                  <a:pt x="107" y="187"/>
                </a:lnTo>
                <a:lnTo>
                  <a:pt x="107" y="184"/>
                </a:lnTo>
                <a:lnTo>
                  <a:pt x="108" y="180"/>
                </a:lnTo>
                <a:lnTo>
                  <a:pt x="108" y="175"/>
                </a:lnTo>
                <a:lnTo>
                  <a:pt x="100" y="160"/>
                </a:lnTo>
                <a:lnTo>
                  <a:pt x="98" y="159"/>
                </a:lnTo>
                <a:lnTo>
                  <a:pt x="95" y="159"/>
                </a:lnTo>
                <a:lnTo>
                  <a:pt x="93" y="157"/>
                </a:lnTo>
                <a:lnTo>
                  <a:pt x="88" y="154"/>
                </a:lnTo>
                <a:lnTo>
                  <a:pt x="82" y="147"/>
                </a:lnTo>
                <a:lnTo>
                  <a:pt x="73" y="140"/>
                </a:lnTo>
                <a:lnTo>
                  <a:pt x="70" y="140"/>
                </a:lnTo>
                <a:lnTo>
                  <a:pt x="62" y="137"/>
                </a:lnTo>
                <a:lnTo>
                  <a:pt x="58" y="142"/>
                </a:lnTo>
                <a:lnTo>
                  <a:pt x="57" y="150"/>
                </a:lnTo>
                <a:lnTo>
                  <a:pt x="57" y="154"/>
                </a:lnTo>
                <a:lnTo>
                  <a:pt x="57" y="157"/>
                </a:lnTo>
                <a:lnTo>
                  <a:pt x="55" y="160"/>
                </a:lnTo>
                <a:lnTo>
                  <a:pt x="55" y="162"/>
                </a:lnTo>
                <a:lnTo>
                  <a:pt x="52" y="167"/>
                </a:lnTo>
                <a:lnTo>
                  <a:pt x="50" y="170"/>
                </a:lnTo>
                <a:lnTo>
                  <a:pt x="52" y="177"/>
                </a:lnTo>
                <a:lnTo>
                  <a:pt x="50" y="179"/>
                </a:lnTo>
                <a:lnTo>
                  <a:pt x="47" y="180"/>
                </a:lnTo>
                <a:lnTo>
                  <a:pt x="40" y="187"/>
                </a:lnTo>
                <a:lnTo>
                  <a:pt x="38" y="192"/>
                </a:lnTo>
                <a:lnTo>
                  <a:pt x="38" y="195"/>
                </a:lnTo>
                <a:lnTo>
                  <a:pt x="40" y="195"/>
                </a:lnTo>
                <a:lnTo>
                  <a:pt x="33" y="200"/>
                </a:lnTo>
                <a:lnTo>
                  <a:pt x="27" y="192"/>
                </a:lnTo>
                <a:lnTo>
                  <a:pt x="28" y="190"/>
                </a:lnTo>
                <a:lnTo>
                  <a:pt x="22" y="179"/>
                </a:lnTo>
                <a:lnTo>
                  <a:pt x="15" y="172"/>
                </a:lnTo>
                <a:lnTo>
                  <a:pt x="8" y="160"/>
                </a:lnTo>
                <a:lnTo>
                  <a:pt x="8" y="150"/>
                </a:lnTo>
                <a:lnTo>
                  <a:pt x="7" y="145"/>
                </a:lnTo>
                <a:lnTo>
                  <a:pt x="2" y="135"/>
                </a:lnTo>
                <a:lnTo>
                  <a:pt x="0" y="124"/>
                </a:lnTo>
                <a:lnTo>
                  <a:pt x="3" y="125"/>
                </a:lnTo>
                <a:lnTo>
                  <a:pt x="7" y="127"/>
                </a:lnTo>
                <a:lnTo>
                  <a:pt x="10" y="129"/>
                </a:lnTo>
                <a:lnTo>
                  <a:pt x="13" y="130"/>
                </a:lnTo>
                <a:lnTo>
                  <a:pt x="15" y="130"/>
                </a:lnTo>
                <a:lnTo>
                  <a:pt x="30" y="129"/>
                </a:lnTo>
                <a:lnTo>
                  <a:pt x="33" y="127"/>
                </a:lnTo>
                <a:lnTo>
                  <a:pt x="35" y="127"/>
                </a:lnTo>
                <a:lnTo>
                  <a:pt x="47" y="125"/>
                </a:lnTo>
                <a:lnTo>
                  <a:pt x="65" y="122"/>
                </a:lnTo>
                <a:lnTo>
                  <a:pt x="67" y="122"/>
                </a:lnTo>
                <a:lnTo>
                  <a:pt x="73" y="115"/>
                </a:lnTo>
                <a:lnTo>
                  <a:pt x="75" y="109"/>
                </a:lnTo>
                <a:lnTo>
                  <a:pt x="78" y="102"/>
                </a:lnTo>
                <a:lnTo>
                  <a:pt x="80" y="102"/>
                </a:lnTo>
                <a:lnTo>
                  <a:pt x="80" y="105"/>
                </a:lnTo>
                <a:lnTo>
                  <a:pt x="82" y="109"/>
                </a:lnTo>
                <a:lnTo>
                  <a:pt x="90" y="117"/>
                </a:lnTo>
                <a:lnTo>
                  <a:pt x="98" y="122"/>
                </a:lnTo>
                <a:lnTo>
                  <a:pt x="100" y="122"/>
                </a:lnTo>
                <a:lnTo>
                  <a:pt x="103" y="120"/>
                </a:lnTo>
                <a:lnTo>
                  <a:pt x="108" y="119"/>
                </a:lnTo>
                <a:lnTo>
                  <a:pt x="117" y="120"/>
                </a:lnTo>
                <a:lnTo>
                  <a:pt x="123" y="125"/>
                </a:lnTo>
                <a:lnTo>
                  <a:pt x="132" y="120"/>
                </a:lnTo>
                <a:lnTo>
                  <a:pt x="133" y="112"/>
                </a:lnTo>
                <a:lnTo>
                  <a:pt x="132" y="107"/>
                </a:lnTo>
                <a:lnTo>
                  <a:pt x="132" y="102"/>
                </a:lnTo>
                <a:lnTo>
                  <a:pt x="135" y="100"/>
                </a:lnTo>
                <a:lnTo>
                  <a:pt x="135" y="94"/>
                </a:lnTo>
                <a:lnTo>
                  <a:pt x="130" y="95"/>
                </a:lnTo>
                <a:lnTo>
                  <a:pt x="130" y="92"/>
                </a:lnTo>
                <a:lnTo>
                  <a:pt x="132" y="89"/>
                </a:lnTo>
                <a:lnTo>
                  <a:pt x="133" y="89"/>
                </a:lnTo>
                <a:lnTo>
                  <a:pt x="145" y="80"/>
                </a:lnTo>
                <a:lnTo>
                  <a:pt x="153" y="79"/>
                </a:lnTo>
                <a:lnTo>
                  <a:pt x="155" y="79"/>
                </a:lnTo>
                <a:lnTo>
                  <a:pt x="157" y="80"/>
                </a:lnTo>
                <a:lnTo>
                  <a:pt x="159" y="79"/>
                </a:lnTo>
                <a:lnTo>
                  <a:pt x="160" y="67"/>
                </a:lnTo>
                <a:lnTo>
                  <a:pt x="159" y="55"/>
                </a:lnTo>
                <a:lnTo>
                  <a:pt x="155" y="53"/>
                </a:lnTo>
                <a:lnTo>
                  <a:pt x="152" y="52"/>
                </a:lnTo>
                <a:lnTo>
                  <a:pt x="150" y="48"/>
                </a:lnTo>
                <a:lnTo>
                  <a:pt x="150" y="47"/>
                </a:lnTo>
                <a:lnTo>
                  <a:pt x="150" y="43"/>
                </a:lnTo>
                <a:lnTo>
                  <a:pt x="153" y="38"/>
                </a:lnTo>
                <a:lnTo>
                  <a:pt x="155" y="37"/>
                </a:lnTo>
                <a:lnTo>
                  <a:pt x="164" y="35"/>
                </a:lnTo>
                <a:lnTo>
                  <a:pt x="179" y="27"/>
                </a:lnTo>
                <a:lnTo>
                  <a:pt x="184" y="23"/>
                </a:lnTo>
                <a:lnTo>
                  <a:pt x="182" y="20"/>
                </a:lnTo>
                <a:lnTo>
                  <a:pt x="182" y="18"/>
                </a:lnTo>
                <a:lnTo>
                  <a:pt x="187" y="15"/>
                </a:lnTo>
                <a:lnTo>
                  <a:pt x="195" y="13"/>
                </a:lnTo>
                <a:lnTo>
                  <a:pt x="194" y="5"/>
                </a:lnTo>
                <a:lnTo>
                  <a:pt x="195" y="3"/>
                </a:lnTo>
                <a:lnTo>
                  <a:pt x="197" y="2"/>
                </a:lnTo>
                <a:lnTo>
                  <a:pt x="200" y="0"/>
                </a:lnTo>
                <a:lnTo>
                  <a:pt x="204" y="0"/>
                </a:lnTo>
                <a:lnTo>
                  <a:pt x="209" y="2"/>
                </a:lnTo>
                <a:lnTo>
                  <a:pt x="212" y="2"/>
                </a:lnTo>
                <a:lnTo>
                  <a:pt x="214" y="3"/>
                </a:lnTo>
                <a:lnTo>
                  <a:pt x="217" y="5"/>
                </a:lnTo>
                <a:lnTo>
                  <a:pt x="219" y="5"/>
                </a:lnTo>
                <a:lnTo>
                  <a:pt x="220" y="5"/>
                </a:lnTo>
                <a:lnTo>
                  <a:pt x="222" y="5"/>
                </a:lnTo>
                <a:lnTo>
                  <a:pt x="224" y="5"/>
                </a:lnTo>
                <a:lnTo>
                  <a:pt x="235" y="12"/>
                </a:lnTo>
                <a:lnTo>
                  <a:pt x="239" y="15"/>
                </a:lnTo>
                <a:lnTo>
                  <a:pt x="240" y="17"/>
                </a:lnTo>
                <a:lnTo>
                  <a:pt x="242" y="20"/>
                </a:lnTo>
                <a:lnTo>
                  <a:pt x="242" y="22"/>
                </a:lnTo>
                <a:lnTo>
                  <a:pt x="242" y="23"/>
                </a:lnTo>
                <a:lnTo>
                  <a:pt x="245" y="25"/>
                </a:lnTo>
                <a:lnTo>
                  <a:pt x="247" y="27"/>
                </a:lnTo>
                <a:lnTo>
                  <a:pt x="249" y="28"/>
                </a:lnTo>
                <a:lnTo>
                  <a:pt x="254" y="30"/>
                </a:lnTo>
                <a:lnTo>
                  <a:pt x="262" y="32"/>
                </a:lnTo>
                <a:lnTo>
                  <a:pt x="265" y="35"/>
                </a:lnTo>
                <a:lnTo>
                  <a:pt x="270" y="42"/>
                </a:lnTo>
                <a:lnTo>
                  <a:pt x="272" y="45"/>
                </a:lnTo>
                <a:lnTo>
                  <a:pt x="272" y="48"/>
                </a:lnTo>
                <a:lnTo>
                  <a:pt x="277" y="53"/>
                </a:lnTo>
                <a:lnTo>
                  <a:pt x="280" y="55"/>
                </a:lnTo>
                <a:lnTo>
                  <a:pt x="282" y="57"/>
                </a:lnTo>
                <a:lnTo>
                  <a:pt x="285" y="57"/>
                </a:lnTo>
                <a:lnTo>
                  <a:pt x="287" y="53"/>
                </a:lnTo>
                <a:lnTo>
                  <a:pt x="297" y="55"/>
                </a:lnTo>
                <a:lnTo>
                  <a:pt x="300" y="58"/>
                </a:lnTo>
                <a:lnTo>
                  <a:pt x="302" y="60"/>
                </a:lnTo>
                <a:lnTo>
                  <a:pt x="302" y="63"/>
                </a:lnTo>
                <a:lnTo>
                  <a:pt x="304" y="65"/>
                </a:lnTo>
                <a:lnTo>
                  <a:pt x="320" y="68"/>
                </a:lnTo>
                <a:lnTo>
                  <a:pt x="329" y="68"/>
                </a:lnTo>
                <a:lnTo>
                  <a:pt x="341" y="67"/>
                </a:lnTo>
                <a:lnTo>
                  <a:pt x="344" y="67"/>
                </a:lnTo>
                <a:lnTo>
                  <a:pt x="346" y="67"/>
                </a:lnTo>
                <a:lnTo>
                  <a:pt x="347" y="68"/>
                </a:lnTo>
                <a:lnTo>
                  <a:pt x="354" y="68"/>
                </a:lnTo>
                <a:lnTo>
                  <a:pt x="359" y="68"/>
                </a:lnTo>
                <a:lnTo>
                  <a:pt x="361" y="68"/>
                </a:lnTo>
                <a:lnTo>
                  <a:pt x="369" y="62"/>
                </a:lnTo>
                <a:lnTo>
                  <a:pt x="372" y="58"/>
                </a:lnTo>
                <a:lnTo>
                  <a:pt x="374" y="55"/>
                </a:lnTo>
                <a:lnTo>
                  <a:pt x="381" y="48"/>
                </a:lnTo>
                <a:lnTo>
                  <a:pt x="386" y="50"/>
                </a:lnTo>
                <a:lnTo>
                  <a:pt x="387" y="48"/>
                </a:lnTo>
                <a:lnTo>
                  <a:pt x="387" y="47"/>
                </a:lnTo>
                <a:lnTo>
                  <a:pt x="389" y="52"/>
                </a:lnTo>
                <a:lnTo>
                  <a:pt x="394" y="57"/>
                </a:lnTo>
                <a:lnTo>
                  <a:pt x="396" y="57"/>
                </a:lnTo>
                <a:lnTo>
                  <a:pt x="399" y="60"/>
                </a:lnTo>
                <a:lnTo>
                  <a:pt x="402" y="72"/>
                </a:lnTo>
                <a:lnTo>
                  <a:pt x="401" y="77"/>
                </a:lnTo>
                <a:lnTo>
                  <a:pt x="397" y="79"/>
                </a:lnTo>
                <a:lnTo>
                  <a:pt x="397" y="84"/>
                </a:lnTo>
                <a:lnTo>
                  <a:pt x="401" y="85"/>
                </a:lnTo>
                <a:lnTo>
                  <a:pt x="402" y="87"/>
                </a:lnTo>
                <a:lnTo>
                  <a:pt x="404" y="85"/>
                </a:lnTo>
                <a:lnTo>
                  <a:pt x="406" y="84"/>
                </a:lnTo>
                <a:lnTo>
                  <a:pt x="412" y="87"/>
                </a:lnTo>
                <a:lnTo>
                  <a:pt x="414" y="89"/>
                </a:lnTo>
                <a:lnTo>
                  <a:pt x="411" y="90"/>
                </a:lnTo>
                <a:lnTo>
                  <a:pt x="407" y="90"/>
                </a:lnTo>
                <a:lnTo>
                  <a:pt x="406" y="90"/>
                </a:lnTo>
                <a:lnTo>
                  <a:pt x="406" y="102"/>
                </a:lnTo>
                <a:lnTo>
                  <a:pt x="417" y="110"/>
                </a:lnTo>
                <a:lnTo>
                  <a:pt x="419" y="110"/>
                </a:lnTo>
                <a:lnTo>
                  <a:pt x="424" y="112"/>
                </a:lnTo>
                <a:lnTo>
                  <a:pt x="429" y="114"/>
                </a:lnTo>
                <a:lnTo>
                  <a:pt x="431" y="114"/>
                </a:lnTo>
                <a:lnTo>
                  <a:pt x="434" y="115"/>
                </a:lnTo>
                <a:lnTo>
                  <a:pt x="436" y="115"/>
                </a:lnTo>
                <a:lnTo>
                  <a:pt x="439" y="114"/>
                </a:lnTo>
                <a:lnTo>
                  <a:pt x="441" y="114"/>
                </a:lnTo>
                <a:lnTo>
                  <a:pt x="441" y="115"/>
                </a:lnTo>
                <a:lnTo>
                  <a:pt x="441" y="120"/>
                </a:lnTo>
                <a:lnTo>
                  <a:pt x="437" y="120"/>
                </a:lnTo>
                <a:lnTo>
                  <a:pt x="429" y="120"/>
                </a:lnTo>
                <a:lnTo>
                  <a:pt x="426" y="119"/>
                </a:lnTo>
                <a:lnTo>
                  <a:pt x="424" y="119"/>
                </a:lnTo>
                <a:lnTo>
                  <a:pt x="422" y="119"/>
                </a:lnTo>
                <a:lnTo>
                  <a:pt x="419" y="132"/>
                </a:lnTo>
                <a:lnTo>
                  <a:pt x="421" y="139"/>
                </a:lnTo>
                <a:lnTo>
                  <a:pt x="417" y="150"/>
                </a:lnTo>
                <a:lnTo>
                  <a:pt x="414" y="152"/>
                </a:lnTo>
                <a:lnTo>
                  <a:pt x="416" y="155"/>
                </a:lnTo>
                <a:lnTo>
                  <a:pt x="417" y="157"/>
                </a:lnTo>
                <a:lnTo>
                  <a:pt x="412" y="159"/>
                </a:lnTo>
                <a:lnTo>
                  <a:pt x="402" y="159"/>
                </a:lnTo>
                <a:lnTo>
                  <a:pt x="399" y="155"/>
                </a:lnTo>
                <a:lnTo>
                  <a:pt x="397" y="154"/>
                </a:lnTo>
                <a:lnTo>
                  <a:pt x="396" y="150"/>
                </a:lnTo>
                <a:lnTo>
                  <a:pt x="399" y="150"/>
                </a:lnTo>
                <a:lnTo>
                  <a:pt x="397" y="145"/>
                </a:lnTo>
                <a:lnTo>
                  <a:pt x="384" y="137"/>
                </a:lnTo>
                <a:lnTo>
                  <a:pt x="369" y="137"/>
                </a:lnTo>
                <a:lnTo>
                  <a:pt x="356" y="135"/>
                </a:lnTo>
                <a:lnTo>
                  <a:pt x="352" y="137"/>
                </a:lnTo>
                <a:lnTo>
                  <a:pt x="354" y="139"/>
                </a:lnTo>
                <a:lnTo>
                  <a:pt x="352" y="140"/>
                </a:lnTo>
                <a:lnTo>
                  <a:pt x="351" y="142"/>
                </a:lnTo>
                <a:lnTo>
                  <a:pt x="346" y="142"/>
                </a:lnTo>
                <a:lnTo>
                  <a:pt x="342" y="140"/>
                </a:lnTo>
                <a:lnTo>
                  <a:pt x="332" y="144"/>
                </a:lnTo>
                <a:lnTo>
                  <a:pt x="331" y="145"/>
                </a:lnTo>
                <a:lnTo>
                  <a:pt x="327" y="147"/>
                </a:lnTo>
                <a:lnTo>
                  <a:pt x="325" y="147"/>
                </a:lnTo>
                <a:lnTo>
                  <a:pt x="319" y="144"/>
                </a:lnTo>
                <a:lnTo>
                  <a:pt x="314" y="140"/>
                </a:lnTo>
                <a:lnTo>
                  <a:pt x="307" y="144"/>
                </a:lnTo>
                <a:lnTo>
                  <a:pt x="300" y="144"/>
                </a:lnTo>
                <a:lnTo>
                  <a:pt x="299" y="144"/>
                </a:lnTo>
                <a:lnTo>
                  <a:pt x="282" y="139"/>
                </a:lnTo>
                <a:lnTo>
                  <a:pt x="280" y="142"/>
                </a:lnTo>
                <a:lnTo>
                  <a:pt x="275" y="142"/>
                </a:lnTo>
                <a:lnTo>
                  <a:pt x="267" y="139"/>
                </a:lnTo>
                <a:lnTo>
                  <a:pt x="265" y="137"/>
                </a:lnTo>
                <a:lnTo>
                  <a:pt x="255" y="132"/>
                </a:lnTo>
                <a:lnTo>
                  <a:pt x="250" y="139"/>
                </a:lnTo>
                <a:lnTo>
                  <a:pt x="249" y="140"/>
                </a:lnTo>
                <a:lnTo>
                  <a:pt x="239" y="140"/>
                </a:lnTo>
                <a:lnTo>
                  <a:pt x="237" y="139"/>
                </a:lnTo>
                <a:lnTo>
                  <a:pt x="234" y="139"/>
                </a:lnTo>
                <a:lnTo>
                  <a:pt x="232" y="137"/>
                </a:lnTo>
                <a:lnTo>
                  <a:pt x="227" y="139"/>
                </a:lnTo>
                <a:lnTo>
                  <a:pt x="225" y="140"/>
                </a:lnTo>
                <a:lnTo>
                  <a:pt x="224" y="144"/>
                </a:lnTo>
                <a:lnTo>
                  <a:pt x="219" y="150"/>
                </a:lnTo>
                <a:lnTo>
                  <a:pt x="215" y="159"/>
                </a:lnTo>
                <a:lnTo>
                  <a:pt x="215" y="162"/>
                </a:lnTo>
                <a:lnTo>
                  <a:pt x="210" y="164"/>
                </a:lnTo>
                <a:lnTo>
                  <a:pt x="209" y="162"/>
                </a:lnTo>
                <a:lnTo>
                  <a:pt x="205" y="160"/>
                </a:lnTo>
                <a:lnTo>
                  <a:pt x="204" y="160"/>
                </a:lnTo>
                <a:lnTo>
                  <a:pt x="197" y="152"/>
                </a:lnTo>
                <a:lnTo>
                  <a:pt x="189" y="142"/>
                </a:lnTo>
                <a:lnTo>
                  <a:pt x="182" y="142"/>
                </a:lnTo>
                <a:lnTo>
                  <a:pt x="179" y="142"/>
                </a:lnTo>
                <a:lnTo>
                  <a:pt x="175" y="145"/>
                </a:lnTo>
                <a:lnTo>
                  <a:pt x="174" y="147"/>
                </a:lnTo>
                <a:lnTo>
                  <a:pt x="172" y="149"/>
                </a:lnTo>
                <a:lnTo>
                  <a:pt x="170" y="159"/>
                </a:lnTo>
                <a:lnTo>
                  <a:pt x="170" y="160"/>
                </a:lnTo>
                <a:lnTo>
                  <a:pt x="172" y="175"/>
                </a:lnTo>
                <a:lnTo>
                  <a:pt x="172" y="187"/>
                </a:lnTo>
                <a:lnTo>
                  <a:pt x="174" y="190"/>
                </a:lnTo>
                <a:lnTo>
                  <a:pt x="182" y="197"/>
                </a:lnTo>
                <a:lnTo>
                  <a:pt x="187" y="197"/>
                </a:lnTo>
                <a:lnTo>
                  <a:pt x="189" y="199"/>
                </a:lnTo>
                <a:lnTo>
                  <a:pt x="194" y="207"/>
                </a:lnTo>
                <a:lnTo>
                  <a:pt x="195" y="210"/>
                </a:lnTo>
                <a:lnTo>
                  <a:pt x="199" y="215"/>
                </a:lnTo>
                <a:lnTo>
                  <a:pt x="202" y="217"/>
                </a:lnTo>
                <a:lnTo>
                  <a:pt x="204" y="219"/>
                </a:lnTo>
                <a:lnTo>
                  <a:pt x="210" y="234"/>
                </a:lnTo>
                <a:lnTo>
                  <a:pt x="210" y="237"/>
                </a:lnTo>
                <a:lnTo>
                  <a:pt x="207" y="250"/>
                </a:lnTo>
                <a:lnTo>
                  <a:pt x="209" y="250"/>
                </a:lnTo>
                <a:lnTo>
                  <a:pt x="212" y="250"/>
                </a:lnTo>
                <a:lnTo>
                  <a:pt x="215" y="249"/>
                </a:lnTo>
                <a:lnTo>
                  <a:pt x="217" y="250"/>
                </a:lnTo>
                <a:lnTo>
                  <a:pt x="220" y="254"/>
                </a:lnTo>
                <a:lnTo>
                  <a:pt x="222" y="257"/>
                </a:lnTo>
                <a:lnTo>
                  <a:pt x="224" y="260"/>
                </a:lnTo>
                <a:lnTo>
                  <a:pt x="230" y="265"/>
                </a:lnTo>
                <a:lnTo>
                  <a:pt x="232" y="265"/>
                </a:lnTo>
                <a:lnTo>
                  <a:pt x="237" y="265"/>
                </a:lnTo>
                <a:lnTo>
                  <a:pt x="239" y="267"/>
                </a:lnTo>
                <a:lnTo>
                  <a:pt x="247" y="277"/>
                </a:lnTo>
                <a:lnTo>
                  <a:pt x="252" y="282"/>
                </a:lnTo>
                <a:lnTo>
                  <a:pt x="254" y="286"/>
                </a:lnTo>
                <a:lnTo>
                  <a:pt x="264" y="296"/>
                </a:lnTo>
                <a:lnTo>
                  <a:pt x="272" y="306"/>
                </a:lnTo>
                <a:lnTo>
                  <a:pt x="274" y="307"/>
                </a:lnTo>
                <a:lnTo>
                  <a:pt x="275" y="309"/>
                </a:lnTo>
                <a:lnTo>
                  <a:pt x="282" y="314"/>
                </a:lnTo>
                <a:lnTo>
                  <a:pt x="284" y="314"/>
                </a:lnTo>
                <a:lnTo>
                  <a:pt x="287" y="316"/>
                </a:lnTo>
                <a:lnTo>
                  <a:pt x="290" y="317"/>
                </a:lnTo>
                <a:lnTo>
                  <a:pt x="297" y="319"/>
                </a:lnTo>
                <a:lnTo>
                  <a:pt x="299" y="321"/>
                </a:lnTo>
                <a:lnTo>
                  <a:pt x="300" y="322"/>
                </a:lnTo>
                <a:lnTo>
                  <a:pt x="299" y="324"/>
                </a:lnTo>
                <a:lnTo>
                  <a:pt x="302" y="334"/>
                </a:lnTo>
                <a:lnTo>
                  <a:pt x="304" y="337"/>
                </a:lnTo>
                <a:lnTo>
                  <a:pt x="304" y="339"/>
                </a:lnTo>
                <a:lnTo>
                  <a:pt x="315" y="349"/>
                </a:lnTo>
                <a:lnTo>
                  <a:pt x="327" y="354"/>
                </a:lnTo>
                <a:lnTo>
                  <a:pt x="329" y="356"/>
                </a:lnTo>
                <a:lnTo>
                  <a:pt x="332" y="359"/>
                </a:lnTo>
                <a:lnTo>
                  <a:pt x="334" y="361"/>
                </a:lnTo>
                <a:lnTo>
                  <a:pt x="336" y="362"/>
                </a:lnTo>
                <a:lnTo>
                  <a:pt x="337" y="369"/>
                </a:lnTo>
                <a:lnTo>
                  <a:pt x="329" y="372"/>
                </a:lnTo>
                <a:moveTo>
                  <a:pt x="336" y="377"/>
                </a:moveTo>
                <a:lnTo>
                  <a:pt x="339" y="374"/>
                </a:lnTo>
                <a:lnTo>
                  <a:pt x="339" y="372"/>
                </a:lnTo>
                <a:lnTo>
                  <a:pt x="342" y="374"/>
                </a:lnTo>
                <a:lnTo>
                  <a:pt x="347" y="374"/>
                </a:lnTo>
                <a:lnTo>
                  <a:pt x="351" y="379"/>
                </a:lnTo>
                <a:lnTo>
                  <a:pt x="354" y="382"/>
                </a:lnTo>
                <a:lnTo>
                  <a:pt x="361" y="386"/>
                </a:lnTo>
                <a:lnTo>
                  <a:pt x="364" y="387"/>
                </a:lnTo>
                <a:lnTo>
                  <a:pt x="377" y="394"/>
                </a:lnTo>
                <a:lnTo>
                  <a:pt x="384" y="397"/>
                </a:lnTo>
                <a:lnTo>
                  <a:pt x="387" y="401"/>
                </a:lnTo>
                <a:lnTo>
                  <a:pt x="391" y="401"/>
                </a:lnTo>
                <a:lnTo>
                  <a:pt x="392" y="399"/>
                </a:lnTo>
                <a:lnTo>
                  <a:pt x="394" y="399"/>
                </a:lnTo>
                <a:lnTo>
                  <a:pt x="397" y="401"/>
                </a:lnTo>
                <a:lnTo>
                  <a:pt x="402" y="404"/>
                </a:lnTo>
                <a:lnTo>
                  <a:pt x="402" y="409"/>
                </a:lnTo>
                <a:lnTo>
                  <a:pt x="402" y="412"/>
                </a:lnTo>
                <a:lnTo>
                  <a:pt x="404" y="414"/>
                </a:lnTo>
                <a:lnTo>
                  <a:pt x="407" y="416"/>
                </a:lnTo>
                <a:lnTo>
                  <a:pt x="409" y="417"/>
                </a:lnTo>
                <a:lnTo>
                  <a:pt x="409" y="421"/>
                </a:lnTo>
                <a:lnTo>
                  <a:pt x="396" y="412"/>
                </a:lnTo>
                <a:lnTo>
                  <a:pt x="382" y="406"/>
                </a:lnTo>
                <a:lnTo>
                  <a:pt x="371" y="397"/>
                </a:lnTo>
                <a:lnTo>
                  <a:pt x="354" y="389"/>
                </a:lnTo>
                <a:lnTo>
                  <a:pt x="344" y="386"/>
                </a:lnTo>
                <a:lnTo>
                  <a:pt x="329" y="384"/>
                </a:lnTo>
                <a:lnTo>
                  <a:pt x="319" y="381"/>
                </a:lnTo>
                <a:lnTo>
                  <a:pt x="314" y="377"/>
                </a:lnTo>
                <a:lnTo>
                  <a:pt x="300" y="371"/>
                </a:lnTo>
                <a:lnTo>
                  <a:pt x="299" y="372"/>
                </a:lnTo>
                <a:lnTo>
                  <a:pt x="295" y="372"/>
                </a:lnTo>
                <a:lnTo>
                  <a:pt x="290" y="372"/>
                </a:lnTo>
                <a:lnTo>
                  <a:pt x="285" y="371"/>
                </a:lnTo>
                <a:lnTo>
                  <a:pt x="284" y="366"/>
                </a:lnTo>
                <a:lnTo>
                  <a:pt x="305" y="367"/>
                </a:lnTo>
                <a:lnTo>
                  <a:pt x="307" y="367"/>
                </a:lnTo>
                <a:lnTo>
                  <a:pt x="319" y="372"/>
                </a:lnTo>
                <a:lnTo>
                  <a:pt x="325" y="376"/>
                </a:lnTo>
                <a:lnTo>
                  <a:pt x="336" y="379"/>
                </a:lnTo>
                <a:lnTo>
                  <a:pt x="336" y="377"/>
                </a:lnTo>
                <a:moveTo>
                  <a:pt x="95" y="179"/>
                </a:moveTo>
                <a:lnTo>
                  <a:pt x="93" y="179"/>
                </a:lnTo>
                <a:lnTo>
                  <a:pt x="92" y="179"/>
                </a:lnTo>
                <a:lnTo>
                  <a:pt x="87" y="177"/>
                </a:lnTo>
                <a:lnTo>
                  <a:pt x="75" y="170"/>
                </a:lnTo>
                <a:lnTo>
                  <a:pt x="73" y="169"/>
                </a:lnTo>
                <a:lnTo>
                  <a:pt x="72" y="167"/>
                </a:lnTo>
                <a:lnTo>
                  <a:pt x="72" y="165"/>
                </a:lnTo>
                <a:lnTo>
                  <a:pt x="78" y="149"/>
                </a:lnTo>
                <a:lnTo>
                  <a:pt x="78" y="147"/>
                </a:lnTo>
                <a:lnTo>
                  <a:pt x="82" y="149"/>
                </a:lnTo>
                <a:lnTo>
                  <a:pt x="88" y="160"/>
                </a:lnTo>
                <a:lnTo>
                  <a:pt x="92" y="165"/>
                </a:lnTo>
                <a:lnTo>
                  <a:pt x="98" y="172"/>
                </a:lnTo>
                <a:lnTo>
                  <a:pt x="100" y="172"/>
                </a:lnTo>
                <a:lnTo>
                  <a:pt x="100" y="174"/>
                </a:lnTo>
                <a:lnTo>
                  <a:pt x="100" y="175"/>
                </a:lnTo>
                <a:lnTo>
                  <a:pt x="97" y="179"/>
                </a:lnTo>
                <a:lnTo>
                  <a:pt x="95" y="179"/>
                </a:lnTo>
                <a:moveTo>
                  <a:pt x="257" y="346"/>
                </a:moveTo>
                <a:lnTo>
                  <a:pt x="252" y="346"/>
                </a:lnTo>
                <a:lnTo>
                  <a:pt x="249" y="346"/>
                </a:lnTo>
                <a:lnTo>
                  <a:pt x="244" y="346"/>
                </a:lnTo>
                <a:lnTo>
                  <a:pt x="242" y="344"/>
                </a:lnTo>
                <a:lnTo>
                  <a:pt x="235" y="342"/>
                </a:lnTo>
                <a:lnTo>
                  <a:pt x="235" y="341"/>
                </a:lnTo>
                <a:lnTo>
                  <a:pt x="237" y="334"/>
                </a:lnTo>
                <a:lnTo>
                  <a:pt x="249" y="334"/>
                </a:lnTo>
                <a:lnTo>
                  <a:pt x="257" y="334"/>
                </a:lnTo>
                <a:lnTo>
                  <a:pt x="262" y="334"/>
                </a:lnTo>
                <a:lnTo>
                  <a:pt x="264" y="334"/>
                </a:lnTo>
                <a:lnTo>
                  <a:pt x="265" y="336"/>
                </a:lnTo>
                <a:lnTo>
                  <a:pt x="272" y="337"/>
                </a:lnTo>
                <a:lnTo>
                  <a:pt x="272" y="341"/>
                </a:lnTo>
                <a:lnTo>
                  <a:pt x="269" y="344"/>
                </a:lnTo>
                <a:lnTo>
                  <a:pt x="267" y="344"/>
                </a:lnTo>
                <a:lnTo>
                  <a:pt x="265" y="344"/>
                </a:lnTo>
                <a:lnTo>
                  <a:pt x="259" y="344"/>
                </a:lnTo>
                <a:lnTo>
                  <a:pt x="259" y="346"/>
                </a:lnTo>
                <a:lnTo>
                  <a:pt x="257" y="346"/>
                </a:lnTo>
                <a:moveTo>
                  <a:pt x="78" y="215"/>
                </a:moveTo>
                <a:lnTo>
                  <a:pt x="75" y="214"/>
                </a:lnTo>
                <a:lnTo>
                  <a:pt x="70" y="207"/>
                </a:lnTo>
                <a:lnTo>
                  <a:pt x="65" y="190"/>
                </a:lnTo>
                <a:lnTo>
                  <a:pt x="65" y="184"/>
                </a:lnTo>
                <a:lnTo>
                  <a:pt x="67" y="184"/>
                </a:lnTo>
                <a:lnTo>
                  <a:pt x="70" y="184"/>
                </a:lnTo>
                <a:lnTo>
                  <a:pt x="68" y="179"/>
                </a:lnTo>
                <a:lnTo>
                  <a:pt x="65" y="170"/>
                </a:lnTo>
                <a:lnTo>
                  <a:pt x="65" y="169"/>
                </a:lnTo>
                <a:lnTo>
                  <a:pt x="63" y="167"/>
                </a:lnTo>
                <a:lnTo>
                  <a:pt x="62" y="167"/>
                </a:lnTo>
                <a:lnTo>
                  <a:pt x="60" y="164"/>
                </a:lnTo>
                <a:lnTo>
                  <a:pt x="58" y="162"/>
                </a:lnTo>
                <a:lnTo>
                  <a:pt x="62" y="157"/>
                </a:lnTo>
                <a:lnTo>
                  <a:pt x="62" y="155"/>
                </a:lnTo>
                <a:lnTo>
                  <a:pt x="65" y="157"/>
                </a:lnTo>
                <a:lnTo>
                  <a:pt x="67" y="159"/>
                </a:lnTo>
                <a:lnTo>
                  <a:pt x="65" y="160"/>
                </a:lnTo>
                <a:lnTo>
                  <a:pt x="65" y="162"/>
                </a:lnTo>
                <a:lnTo>
                  <a:pt x="65" y="164"/>
                </a:lnTo>
                <a:lnTo>
                  <a:pt x="67" y="169"/>
                </a:lnTo>
                <a:lnTo>
                  <a:pt x="70" y="174"/>
                </a:lnTo>
                <a:lnTo>
                  <a:pt x="70" y="175"/>
                </a:lnTo>
                <a:lnTo>
                  <a:pt x="72" y="175"/>
                </a:lnTo>
                <a:lnTo>
                  <a:pt x="75" y="192"/>
                </a:lnTo>
                <a:lnTo>
                  <a:pt x="77" y="202"/>
                </a:lnTo>
                <a:lnTo>
                  <a:pt x="80" y="209"/>
                </a:lnTo>
                <a:lnTo>
                  <a:pt x="82" y="212"/>
                </a:lnTo>
                <a:lnTo>
                  <a:pt x="80" y="215"/>
                </a:lnTo>
                <a:lnTo>
                  <a:pt x="78" y="215"/>
                </a:lnTo>
                <a:moveTo>
                  <a:pt x="97" y="205"/>
                </a:moveTo>
                <a:lnTo>
                  <a:pt x="107" y="214"/>
                </a:lnTo>
                <a:lnTo>
                  <a:pt x="110" y="214"/>
                </a:lnTo>
                <a:lnTo>
                  <a:pt x="112" y="214"/>
                </a:lnTo>
                <a:lnTo>
                  <a:pt x="113" y="215"/>
                </a:lnTo>
                <a:lnTo>
                  <a:pt x="120" y="222"/>
                </a:lnTo>
                <a:lnTo>
                  <a:pt x="123" y="225"/>
                </a:lnTo>
                <a:lnTo>
                  <a:pt x="122" y="225"/>
                </a:lnTo>
                <a:lnTo>
                  <a:pt x="118" y="222"/>
                </a:lnTo>
                <a:lnTo>
                  <a:pt x="115" y="222"/>
                </a:lnTo>
                <a:lnTo>
                  <a:pt x="118" y="225"/>
                </a:lnTo>
                <a:lnTo>
                  <a:pt x="122" y="229"/>
                </a:lnTo>
                <a:lnTo>
                  <a:pt x="120" y="225"/>
                </a:lnTo>
                <a:lnTo>
                  <a:pt x="122" y="227"/>
                </a:lnTo>
                <a:lnTo>
                  <a:pt x="125" y="229"/>
                </a:lnTo>
                <a:lnTo>
                  <a:pt x="127" y="230"/>
                </a:lnTo>
                <a:lnTo>
                  <a:pt x="137" y="239"/>
                </a:lnTo>
                <a:lnTo>
                  <a:pt x="138" y="240"/>
                </a:lnTo>
                <a:lnTo>
                  <a:pt x="135" y="244"/>
                </a:lnTo>
                <a:lnTo>
                  <a:pt x="132" y="245"/>
                </a:lnTo>
                <a:lnTo>
                  <a:pt x="130" y="244"/>
                </a:lnTo>
                <a:lnTo>
                  <a:pt x="128" y="244"/>
                </a:lnTo>
                <a:lnTo>
                  <a:pt x="127" y="242"/>
                </a:lnTo>
                <a:lnTo>
                  <a:pt x="120" y="232"/>
                </a:lnTo>
                <a:lnTo>
                  <a:pt x="118" y="230"/>
                </a:lnTo>
                <a:lnTo>
                  <a:pt x="112" y="224"/>
                </a:lnTo>
                <a:lnTo>
                  <a:pt x="97" y="207"/>
                </a:lnTo>
                <a:lnTo>
                  <a:pt x="97" y="205"/>
                </a:lnTo>
                <a:moveTo>
                  <a:pt x="287" y="359"/>
                </a:moveTo>
                <a:lnTo>
                  <a:pt x="274" y="359"/>
                </a:lnTo>
                <a:lnTo>
                  <a:pt x="257" y="361"/>
                </a:lnTo>
                <a:lnTo>
                  <a:pt x="255" y="361"/>
                </a:lnTo>
                <a:lnTo>
                  <a:pt x="247" y="359"/>
                </a:lnTo>
                <a:lnTo>
                  <a:pt x="240" y="357"/>
                </a:lnTo>
                <a:lnTo>
                  <a:pt x="239" y="357"/>
                </a:lnTo>
                <a:lnTo>
                  <a:pt x="234" y="354"/>
                </a:lnTo>
                <a:lnTo>
                  <a:pt x="240" y="352"/>
                </a:lnTo>
                <a:lnTo>
                  <a:pt x="242" y="352"/>
                </a:lnTo>
                <a:lnTo>
                  <a:pt x="249" y="351"/>
                </a:lnTo>
                <a:lnTo>
                  <a:pt x="252" y="351"/>
                </a:lnTo>
                <a:lnTo>
                  <a:pt x="255" y="352"/>
                </a:lnTo>
                <a:lnTo>
                  <a:pt x="267" y="356"/>
                </a:lnTo>
                <a:lnTo>
                  <a:pt x="279" y="356"/>
                </a:lnTo>
                <a:lnTo>
                  <a:pt x="292" y="356"/>
                </a:lnTo>
                <a:lnTo>
                  <a:pt x="292" y="357"/>
                </a:lnTo>
                <a:lnTo>
                  <a:pt x="287" y="359"/>
                </a:lnTo>
                <a:moveTo>
                  <a:pt x="275" y="382"/>
                </a:moveTo>
                <a:lnTo>
                  <a:pt x="272" y="382"/>
                </a:lnTo>
                <a:lnTo>
                  <a:pt x="264" y="381"/>
                </a:lnTo>
                <a:lnTo>
                  <a:pt x="259" y="381"/>
                </a:lnTo>
                <a:lnTo>
                  <a:pt x="255" y="376"/>
                </a:lnTo>
                <a:lnTo>
                  <a:pt x="257" y="374"/>
                </a:lnTo>
                <a:lnTo>
                  <a:pt x="260" y="374"/>
                </a:lnTo>
                <a:lnTo>
                  <a:pt x="262" y="374"/>
                </a:lnTo>
                <a:lnTo>
                  <a:pt x="264" y="374"/>
                </a:lnTo>
                <a:lnTo>
                  <a:pt x="265" y="376"/>
                </a:lnTo>
                <a:lnTo>
                  <a:pt x="267" y="376"/>
                </a:lnTo>
                <a:lnTo>
                  <a:pt x="270" y="376"/>
                </a:lnTo>
                <a:lnTo>
                  <a:pt x="274" y="376"/>
                </a:lnTo>
                <a:lnTo>
                  <a:pt x="275" y="376"/>
                </a:lnTo>
                <a:lnTo>
                  <a:pt x="277" y="376"/>
                </a:lnTo>
                <a:lnTo>
                  <a:pt x="277" y="374"/>
                </a:lnTo>
                <a:lnTo>
                  <a:pt x="280" y="374"/>
                </a:lnTo>
                <a:lnTo>
                  <a:pt x="282" y="374"/>
                </a:lnTo>
                <a:lnTo>
                  <a:pt x="285" y="372"/>
                </a:lnTo>
                <a:lnTo>
                  <a:pt x="287" y="372"/>
                </a:lnTo>
                <a:lnTo>
                  <a:pt x="295" y="374"/>
                </a:lnTo>
                <a:lnTo>
                  <a:pt x="299" y="377"/>
                </a:lnTo>
                <a:lnTo>
                  <a:pt x="295" y="379"/>
                </a:lnTo>
                <a:lnTo>
                  <a:pt x="294" y="379"/>
                </a:lnTo>
                <a:lnTo>
                  <a:pt x="280" y="381"/>
                </a:lnTo>
                <a:lnTo>
                  <a:pt x="275" y="382"/>
                </a:lnTo>
                <a:moveTo>
                  <a:pt x="346" y="397"/>
                </a:moveTo>
                <a:lnTo>
                  <a:pt x="344" y="397"/>
                </a:lnTo>
                <a:lnTo>
                  <a:pt x="342" y="396"/>
                </a:lnTo>
                <a:lnTo>
                  <a:pt x="341" y="396"/>
                </a:lnTo>
                <a:lnTo>
                  <a:pt x="336" y="396"/>
                </a:lnTo>
                <a:lnTo>
                  <a:pt x="334" y="396"/>
                </a:lnTo>
                <a:lnTo>
                  <a:pt x="329" y="396"/>
                </a:lnTo>
                <a:lnTo>
                  <a:pt x="315" y="394"/>
                </a:lnTo>
                <a:lnTo>
                  <a:pt x="314" y="392"/>
                </a:lnTo>
                <a:lnTo>
                  <a:pt x="312" y="392"/>
                </a:lnTo>
                <a:lnTo>
                  <a:pt x="310" y="391"/>
                </a:lnTo>
                <a:lnTo>
                  <a:pt x="314" y="389"/>
                </a:lnTo>
                <a:lnTo>
                  <a:pt x="315" y="389"/>
                </a:lnTo>
                <a:lnTo>
                  <a:pt x="317" y="389"/>
                </a:lnTo>
                <a:lnTo>
                  <a:pt x="339" y="394"/>
                </a:lnTo>
                <a:lnTo>
                  <a:pt x="344" y="396"/>
                </a:lnTo>
                <a:lnTo>
                  <a:pt x="346" y="397"/>
                </a:lnTo>
                <a:moveTo>
                  <a:pt x="137" y="291"/>
                </a:moveTo>
                <a:lnTo>
                  <a:pt x="133" y="289"/>
                </a:lnTo>
                <a:lnTo>
                  <a:pt x="133" y="287"/>
                </a:lnTo>
                <a:lnTo>
                  <a:pt x="130" y="286"/>
                </a:lnTo>
                <a:lnTo>
                  <a:pt x="130" y="284"/>
                </a:lnTo>
                <a:lnTo>
                  <a:pt x="127" y="282"/>
                </a:lnTo>
                <a:lnTo>
                  <a:pt x="127" y="281"/>
                </a:lnTo>
                <a:lnTo>
                  <a:pt x="125" y="279"/>
                </a:lnTo>
                <a:lnTo>
                  <a:pt x="123" y="277"/>
                </a:lnTo>
                <a:lnTo>
                  <a:pt x="123" y="276"/>
                </a:lnTo>
                <a:lnTo>
                  <a:pt x="120" y="272"/>
                </a:lnTo>
                <a:lnTo>
                  <a:pt x="118" y="270"/>
                </a:lnTo>
                <a:lnTo>
                  <a:pt x="115" y="267"/>
                </a:lnTo>
                <a:lnTo>
                  <a:pt x="112" y="264"/>
                </a:lnTo>
                <a:lnTo>
                  <a:pt x="110" y="264"/>
                </a:lnTo>
                <a:lnTo>
                  <a:pt x="110" y="262"/>
                </a:lnTo>
                <a:lnTo>
                  <a:pt x="108" y="260"/>
                </a:lnTo>
                <a:lnTo>
                  <a:pt x="120" y="269"/>
                </a:lnTo>
                <a:lnTo>
                  <a:pt x="123" y="274"/>
                </a:lnTo>
                <a:lnTo>
                  <a:pt x="125" y="276"/>
                </a:lnTo>
                <a:lnTo>
                  <a:pt x="128" y="279"/>
                </a:lnTo>
                <a:lnTo>
                  <a:pt x="133" y="282"/>
                </a:lnTo>
                <a:lnTo>
                  <a:pt x="138" y="286"/>
                </a:lnTo>
                <a:lnTo>
                  <a:pt x="140" y="287"/>
                </a:lnTo>
                <a:lnTo>
                  <a:pt x="138" y="287"/>
                </a:lnTo>
                <a:lnTo>
                  <a:pt x="137" y="291"/>
                </a:lnTo>
                <a:moveTo>
                  <a:pt x="214" y="376"/>
                </a:moveTo>
                <a:lnTo>
                  <a:pt x="212" y="376"/>
                </a:lnTo>
                <a:lnTo>
                  <a:pt x="210" y="371"/>
                </a:lnTo>
                <a:lnTo>
                  <a:pt x="210" y="369"/>
                </a:lnTo>
                <a:lnTo>
                  <a:pt x="212" y="369"/>
                </a:lnTo>
                <a:lnTo>
                  <a:pt x="214" y="369"/>
                </a:lnTo>
                <a:lnTo>
                  <a:pt x="215" y="369"/>
                </a:lnTo>
                <a:lnTo>
                  <a:pt x="217" y="367"/>
                </a:lnTo>
                <a:lnTo>
                  <a:pt x="220" y="367"/>
                </a:lnTo>
                <a:lnTo>
                  <a:pt x="224" y="367"/>
                </a:lnTo>
                <a:lnTo>
                  <a:pt x="225" y="369"/>
                </a:lnTo>
                <a:lnTo>
                  <a:pt x="222" y="374"/>
                </a:lnTo>
                <a:lnTo>
                  <a:pt x="214" y="376"/>
                </a:lnTo>
                <a:moveTo>
                  <a:pt x="82" y="230"/>
                </a:moveTo>
                <a:lnTo>
                  <a:pt x="82" y="229"/>
                </a:lnTo>
                <a:lnTo>
                  <a:pt x="70" y="217"/>
                </a:lnTo>
                <a:lnTo>
                  <a:pt x="68" y="210"/>
                </a:lnTo>
                <a:lnTo>
                  <a:pt x="67" y="205"/>
                </a:lnTo>
                <a:lnTo>
                  <a:pt x="70" y="207"/>
                </a:lnTo>
                <a:lnTo>
                  <a:pt x="72" y="209"/>
                </a:lnTo>
                <a:lnTo>
                  <a:pt x="72" y="210"/>
                </a:lnTo>
                <a:lnTo>
                  <a:pt x="72" y="214"/>
                </a:lnTo>
                <a:lnTo>
                  <a:pt x="72" y="217"/>
                </a:lnTo>
                <a:lnTo>
                  <a:pt x="73" y="217"/>
                </a:lnTo>
                <a:lnTo>
                  <a:pt x="73" y="219"/>
                </a:lnTo>
                <a:lnTo>
                  <a:pt x="78" y="224"/>
                </a:lnTo>
                <a:lnTo>
                  <a:pt x="80" y="224"/>
                </a:lnTo>
                <a:lnTo>
                  <a:pt x="82" y="225"/>
                </a:lnTo>
                <a:lnTo>
                  <a:pt x="83" y="227"/>
                </a:lnTo>
                <a:lnTo>
                  <a:pt x="82" y="229"/>
                </a:lnTo>
                <a:lnTo>
                  <a:pt x="82" y="230"/>
                </a:lnTo>
              </a:path>
            </a:pathLst>
          </a:custGeom>
          <a:solidFill>
            <a:srgbClr val="003300">
              <a:alpha val="67000"/>
            </a:srgbClr>
          </a:solidFill>
          <a:ln w="46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5" name=""/>
          <p:cNvSpPr/>
          <p:nvPr/>
        </p:nvSpPr>
        <p:spPr>
          <a:xfrm>
            <a:off x="3770280" y="4014720"/>
            <a:ext cx="1163520" cy="1395360"/>
          </a:xfrm>
          <a:custGeom>
            <a:avLst/>
            <a:gdLst/>
            <a:ahLst/>
            <a:rect l="l" t="t" r="r" b="b"/>
            <a:pathLst>
              <a:path w="733" h="879">
                <a:moveTo>
                  <a:pt x="0" y="511"/>
                </a:moveTo>
                <a:lnTo>
                  <a:pt x="0" y="511"/>
                </a:lnTo>
                <a:lnTo>
                  <a:pt x="25" y="497"/>
                </a:lnTo>
                <a:lnTo>
                  <a:pt x="45" y="497"/>
                </a:lnTo>
                <a:lnTo>
                  <a:pt x="40" y="480"/>
                </a:lnTo>
                <a:lnTo>
                  <a:pt x="50" y="467"/>
                </a:lnTo>
                <a:lnTo>
                  <a:pt x="44" y="431"/>
                </a:lnTo>
                <a:lnTo>
                  <a:pt x="28" y="420"/>
                </a:lnTo>
                <a:lnTo>
                  <a:pt x="13" y="402"/>
                </a:lnTo>
                <a:lnTo>
                  <a:pt x="3" y="377"/>
                </a:lnTo>
                <a:lnTo>
                  <a:pt x="15" y="347"/>
                </a:lnTo>
                <a:lnTo>
                  <a:pt x="11" y="302"/>
                </a:lnTo>
                <a:lnTo>
                  <a:pt x="19" y="287"/>
                </a:lnTo>
                <a:lnTo>
                  <a:pt x="29" y="279"/>
                </a:lnTo>
                <a:lnTo>
                  <a:pt x="39" y="275"/>
                </a:lnTo>
                <a:lnTo>
                  <a:pt x="50" y="268"/>
                </a:lnTo>
                <a:lnTo>
                  <a:pt x="75" y="261"/>
                </a:lnTo>
                <a:lnTo>
                  <a:pt x="77" y="246"/>
                </a:lnTo>
                <a:lnTo>
                  <a:pt x="80" y="221"/>
                </a:lnTo>
                <a:lnTo>
                  <a:pt x="79" y="203"/>
                </a:lnTo>
                <a:lnTo>
                  <a:pt x="102" y="153"/>
                </a:lnTo>
                <a:lnTo>
                  <a:pt x="108" y="134"/>
                </a:lnTo>
                <a:lnTo>
                  <a:pt x="150" y="114"/>
                </a:lnTo>
                <a:lnTo>
                  <a:pt x="156" y="96"/>
                </a:lnTo>
                <a:lnTo>
                  <a:pt x="175" y="98"/>
                </a:lnTo>
                <a:lnTo>
                  <a:pt x="192" y="120"/>
                </a:lnTo>
                <a:lnTo>
                  <a:pt x="195" y="135"/>
                </a:lnTo>
                <a:lnTo>
                  <a:pt x="215" y="153"/>
                </a:lnTo>
                <a:lnTo>
                  <a:pt x="227" y="139"/>
                </a:lnTo>
                <a:lnTo>
                  <a:pt x="246" y="127"/>
                </a:lnTo>
                <a:lnTo>
                  <a:pt x="226" y="54"/>
                </a:lnTo>
                <a:lnTo>
                  <a:pt x="216" y="52"/>
                </a:lnTo>
                <a:lnTo>
                  <a:pt x="206" y="46"/>
                </a:lnTo>
                <a:lnTo>
                  <a:pt x="207" y="29"/>
                </a:lnTo>
                <a:lnTo>
                  <a:pt x="194" y="20"/>
                </a:lnTo>
                <a:lnTo>
                  <a:pt x="217" y="0"/>
                </a:lnTo>
                <a:lnTo>
                  <a:pt x="244" y="30"/>
                </a:lnTo>
                <a:lnTo>
                  <a:pt x="271" y="15"/>
                </a:lnTo>
                <a:lnTo>
                  <a:pt x="283" y="29"/>
                </a:lnTo>
                <a:lnTo>
                  <a:pt x="295" y="47"/>
                </a:lnTo>
                <a:lnTo>
                  <a:pt x="319" y="55"/>
                </a:lnTo>
                <a:lnTo>
                  <a:pt x="343" y="79"/>
                </a:lnTo>
                <a:lnTo>
                  <a:pt x="361" y="79"/>
                </a:lnTo>
                <a:lnTo>
                  <a:pt x="377" y="109"/>
                </a:lnTo>
                <a:lnTo>
                  <a:pt x="403" y="129"/>
                </a:lnTo>
                <a:lnTo>
                  <a:pt x="405" y="155"/>
                </a:lnTo>
                <a:lnTo>
                  <a:pt x="433" y="167"/>
                </a:lnTo>
                <a:lnTo>
                  <a:pt x="447" y="195"/>
                </a:lnTo>
                <a:lnTo>
                  <a:pt x="479" y="203"/>
                </a:lnTo>
                <a:lnTo>
                  <a:pt x="489" y="195"/>
                </a:lnTo>
                <a:lnTo>
                  <a:pt x="498" y="216"/>
                </a:lnTo>
                <a:lnTo>
                  <a:pt x="520" y="237"/>
                </a:lnTo>
                <a:lnTo>
                  <a:pt x="538" y="233"/>
                </a:lnTo>
                <a:lnTo>
                  <a:pt x="555" y="236"/>
                </a:lnTo>
                <a:lnTo>
                  <a:pt x="570" y="225"/>
                </a:lnTo>
                <a:lnTo>
                  <a:pt x="576" y="242"/>
                </a:lnTo>
                <a:lnTo>
                  <a:pt x="627" y="270"/>
                </a:lnTo>
                <a:lnTo>
                  <a:pt x="633" y="290"/>
                </a:lnTo>
                <a:lnTo>
                  <a:pt x="646" y="302"/>
                </a:lnTo>
                <a:lnTo>
                  <a:pt x="681" y="303"/>
                </a:lnTo>
                <a:lnTo>
                  <a:pt x="705" y="317"/>
                </a:lnTo>
                <a:lnTo>
                  <a:pt x="718" y="327"/>
                </a:lnTo>
                <a:lnTo>
                  <a:pt x="731" y="332"/>
                </a:lnTo>
                <a:lnTo>
                  <a:pt x="733" y="365"/>
                </a:lnTo>
                <a:lnTo>
                  <a:pt x="715" y="375"/>
                </a:lnTo>
                <a:lnTo>
                  <a:pt x="689" y="380"/>
                </a:lnTo>
                <a:lnTo>
                  <a:pt x="678" y="392"/>
                </a:lnTo>
                <a:lnTo>
                  <a:pt x="679" y="407"/>
                </a:lnTo>
                <a:lnTo>
                  <a:pt x="666" y="411"/>
                </a:lnTo>
                <a:lnTo>
                  <a:pt x="630" y="395"/>
                </a:lnTo>
                <a:lnTo>
                  <a:pt x="603" y="417"/>
                </a:lnTo>
                <a:lnTo>
                  <a:pt x="606" y="435"/>
                </a:lnTo>
                <a:lnTo>
                  <a:pt x="634" y="461"/>
                </a:lnTo>
                <a:lnTo>
                  <a:pt x="628" y="480"/>
                </a:lnTo>
                <a:lnTo>
                  <a:pt x="625" y="504"/>
                </a:lnTo>
                <a:lnTo>
                  <a:pt x="604" y="509"/>
                </a:lnTo>
                <a:lnTo>
                  <a:pt x="588" y="528"/>
                </a:lnTo>
                <a:lnTo>
                  <a:pt x="565" y="527"/>
                </a:lnTo>
                <a:lnTo>
                  <a:pt x="546" y="539"/>
                </a:lnTo>
                <a:lnTo>
                  <a:pt x="531" y="552"/>
                </a:lnTo>
                <a:lnTo>
                  <a:pt x="513" y="543"/>
                </a:lnTo>
                <a:lnTo>
                  <a:pt x="500" y="522"/>
                </a:lnTo>
                <a:lnTo>
                  <a:pt x="508" y="498"/>
                </a:lnTo>
                <a:lnTo>
                  <a:pt x="507" y="473"/>
                </a:lnTo>
                <a:lnTo>
                  <a:pt x="489" y="447"/>
                </a:lnTo>
                <a:lnTo>
                  <a:pt x="466" y="468"/>
                </a:lnTo>
                <a:lnTo>
                  <a:pt x="450" y="491"/>
                </a:lnTo>
                <a:lnTo>
                  <a:pt x="448" y="506"/>
                </a:lnTo>
                <a:lnTo>
                  <a:pt x="444" y="516"/>
                </a:lnTo>
                <a:lnTo>
                  <a:pt x="420" y="528"/>
                </a:lnTo>
                <a:lnTo>
                  <a:pt x="412" y="558"/>
                </a:lnTo>
                <a:lnTo>
                  <a:pt x="387" y="590"/>
                </a:lnTo>
                <a:lnTo>
                  <a:pt x="370" y="605"/>
                </a:lnTo>
                <a:lnTo>
                  <a:pt x="361" y="636"/>
                </a:lnTo>
                <a:lnTo>
                  <a:pt x="334" y="683"/>
                </a:lnTo>
                <a:lnTo>
                  <a:pt x="315" y="705"/>
                </a:lnTo>
                <a:lnTo>
                  <a:pt x="331" y="728"/>
                </a:lnTo>
                <a:lnTo>
                  <a:pt x="348" y="740"/>
                </a:lnTo>
                <a:lnTo>
                  <a:pt x="354" y="744"/>
                </a:lnTo>
                <a:lnTo>
                  <a:pt x="358" y="756"/>
                </a:lnTo>
                <a:lnTo>
                  <a:pt x="351" y="767"/>
                </a:lnTo>
                <a:lnTo>
                  <a:pt x="345" y="794"/>
                </a:lnTo>
                <a:lnTo>
                  <a:pt x="346" y="804"/>
                </a:lnTo>
                <a:lnTo>
                  <a:pt x="345" y="822"/>
                </a:lnTo>
                <a:lnTo>
                  <a:pt x="343" y="838"/>
                </a:lnTo>
                <a:lnTo>
                  <a:pt x="350" y="854"/>
                </a:lnTo>
                <a:lnTo>
                  <a:pt x="351" y="879"/>
                </a:lnTo>
                <a:lnTo>
                  <a:pt x="329" y="866"/>
                </a:lnTo>
                <a:lnTo>
                  <a:pt x="325" y="861"/>
                </a:lnTo>
                <a:lnTo>
                  <a:pt x="300" y="858"/>
                </a:lnTo>
                <a:lnTo>
                  <a:pt x="277" y="845"/>
                </a:lnTo>
                <a:lnTo>
                  <a:pt x="269" y="834"/>
                </a:lnTo>
                <a:lnTo>
                  <a:pt x="261" y="817"/>
                </a:lnTo>
                <a:lnTo>
                  <a:pt x="262" y="804"/>
                </a:lnTo>
                <a:lnTo>
                  <a:pt x="265" y="784"/>
                </a:lnTo>
                <a:lnTo>
                  <a:pt x="239" y="750"/>
                </a:lnTo>
                <a:lnTo>
                  <a:pt x="230" y="739"/>
                </a:lnTo>
                <a:lnTo>
                  <a:pt x="217" y="728"/>
                </a:lnTo>
                <a:lnTo>
                  <a:pt x="199" y="710"/>
                </a:lnTo>
                <a:lnTo>
                  <a:pt x="164" y="667"/>
                </a:lnTo>
                <a:lnTo>
                  <a:pt x="150" y="665"/>
                </a:lnTo>
                <a:lnTo>
                  <a:pt x="141" y="664"/>
                </a:lnTo>
                <a:lnTo>
                  <a:pt x="118" y="645"/>
                </a:lnTo>
                <a:lnTo>
                  <a:pt x="73" y="610"/>
                </a:lnTo>
                <a:lnTo>
                  <a:pt x="61" y="619"/>
                </a:lnTo>
                <a:lnTo>
                  <a:pt x="48" y="607"/>
                </a:lnTo>
                <a:lnTo>
                  <a:pt x="39" y="570"/>
                </a:lnTo>
                <a:lnTo>
                  <a:pt x="58" y="572"/>
                </a:lnTo>
                <a:lnTo>
                  <a:pt x="64" y="594"/>
                </a:lnTo>
                <a:lnTo>
                  <a:pt x="98" y="598"/>
                </a:lnTo>
                <a:lnTo>
                  <a:pt x="99" y="588"/>
                </a:lnTo>
                <a:lnTo>
                  <a:pt x="87" y="572"/>
                </a:lnTo>
                <a:lnTo>
                  <a:pt x="24" y="567"/>
                </a:lnTo>
                <a:lnTo>
                  <a:pt x="18" y="573"/>
                </a:lnTo>
                <a:lnTo>
                  <a:pt x="18" y="573"/>
                </a:lnTo>
                <a:lnTo>
                  <a:pt x="10" y="560"/>
                </a:lnTo>
                <a:lnTo>
                  <a:pt x="7" y="549"/>
                </a:lnTo>
                <a:lnTo>
                  <a:pt x="0" y="534"/>
                </a:lnTo>
                <a:lnTo>
                  <a:pt x="0" y="511"/>
                </a:lnTo>
                <a:lnTo>
                  <a:pt x="0" y="511"/>
                </a:lnTo>
                <a:close/>
              </a:path>
            </a:pathLst>
          </a:custGeom>
          <a:solidFill>
            <a:srgbClr val="003300">
              <a:alpha val="67000"/>
            </a:srgbClr>
          </a:solidFill>
          <a:ln w="46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"/>
          <p:cNvSpPr/>
          <p:nvPr/>
        </p:nvSpPr>
        <p:spPr>
          <a:xfrm>
            <a:off x="4284720" y="4743360"/>
            <a:ext cx="1092240" cy="2428920"/>
          </a:xfrm>
          <a:custGeom>
            <a:avLst/>
            <a:gdLst/>
            <a:ahLst/>
            <a:rect l="l" t="t" r="r" b="b"/>
            <a:pathLst>
              <a:path w="688" h="1530">
                <a:moveTo>
                  <a:pt x="104" y="492"/>
                </a:moveTo>
                <a:lnTo>
                  <a:pt x="114" y="483"/>
                </a:lnTo>
                <a:lnTo>
                  <a:pt x="118" y="445"/>
                </a:lnTo>
                <a:lnTo>
                  <a:pt x="111" y="429"/>
                </a:lnTo>
                <a:lnTo>
                  <a:pt x="89" y="417"/>
                </a:lnTo>
                <a:lnTo>
                  <a:pt x="66" y="405"/>
                </a:lnTo>
                <a:lnTo>
                  <a:pt x="56" y="403"/>
                </a:lnTo>
                <a:lnTo>
                  <a:pt x="34" y="402"/>
                </a:lnTo>
                <a:lnTo>
                  <a:pt x="22" y="378"/>
                </a:lnTo>
                <a:lnTo>
                  <a:pt x="30" y="354"/>
                </a:lnTo>
                <a:lnTo>
                  <a:pt x="30" y="326"/>
                </a:lnTo>
                <a:lnTo>
                  <a:pt x="40" y="302"/>
                </a:lnTo>
                <a:lnTo>
                  <a:pt x="37" y="279"/>
                </a:lnTo>
                <a:lnTo>
                  <a:pt x="24" y="268"/>
                </a:lnTo>
                <a:lnTo>
                  <a:pt x="4" y="248"/>
                </a:lnTo>
                <a:lnTo>
                  <a:pt x="28" y="216"/>
                </a:lnTo>
                <a:lnTo>
                  <a:pt x="46" y="177"/>
                </a:lnTo>
                <a:lnTo>
                  <a:pt x="52" y="150"/>
                </a:lnTo>
                <a:lnTo>
                  <a:pt x="85" y="122"/>
                </a:lnTo>
                <a:lnTo>
                  <a:pt x="106" y="74"/>
                </a:lnTo>
                <a:lnTo>
                  <a:pt x="130" y="56"/>
                </a:lnTo>
                <a:lnTo>
                  <a:pt x="132" y="36"/>
                </a:lnTo>
                <a:lnTo>
                  <a:pt x="142" y="29"/>
                </a:lnTo>
                <a:lnTo>
                  <a:pt x="162" y="0"/>
                </a:lnTo>
                <a:lnTo>
                  <a:pt x="173" y="5"/>
                </a:lnTo>
                <a:lnTo>
                  <a:pt x="175" y="29"/>
                </a:lnTo>
                <a:lnTo>
                  <a:pt x="167" y="52"/>
                </a:lnTo>
                <a:lnTo>
                  <a:pt x="179" y="78"/>
                </a:lnTo>
                <a:lnTo>
                  <a:pt x="187" y="89"/>
                </a:lnTo>
                <a:lnTo>
                  <a:pt x="211" y="93"/>
                </a:lnTo>
                <a:lnTo>
                  <a:pt x="246" y="81"/>
                </a:lnTo>
                <a:lnTo>
                  <a:pt x="276" y="77"/>
                </a:lnTo>
                <a:lnTo>
                  <a:pt x="295" y="53"/>
                </a:lnTo>
                <a:lnTo>
                  <a:pt x="309" y="66"/>
                </a:lnTo>
                <a:lnTo>
                  <a:pt x="326" y="72"/>
                </a:lnTo>
                <a:lnTo>
                  <a:pt x="345" y="108"/>
                </a:lnTo>
                <a:lnTo>
                  <a:pt x="349" y="154"/>
                </a:lnTo>
                <a:lnTo>
                  <a:pt x="363" y="164"/>
                </a:lnTo>
                <a:lnTo>
                  <a:pt x="400" y="169"/>
                </a:lnTo>
                <a:lnTo>
                  <a:pt x="410" y="170"/>
                </a:lnTo>
                <a:lnTo>
                  <a:pt x="442" y="193"/>
                </a:lnTo>
                <a:lnTo>
                  <a:pt x="464" y="211"/>
                </a:lnTo>
                <a:lnTo>
                  <a:pt x="468" y="220"/>
                </a:lnTo>
                <a:lnTo>
                  <a:pt x="491" y="301"/>
                </a:lnTo>
                <a:lnTo>
                  <a:pt x="500" y="346"/>
                </a:lnTo>
                <a:lnTo>
                  <a:pt x="499" y="360"/>
                </a:lnTo>
                <a:lnTo>
                  <a:pt x="493" y="369"/>
                </a:lnTo>
                <a:lnTo>
                  <a:pt x="496" y="384"/>
                </a:lnTo>
                <a:lnTo>
                  <a:pt x="486" y="401"/>
                </a:lnTo>
                <a:lnTo>
                  <a:pt x="489" y="438"/>
                </a:lnTo>
                <a:lnTo>
                  <a:pt x="472" y="462"/>
                </a:lnTo>
                <a:lnTo>
                  <a:pt x="478" y="491"/>
                </a:lnTo>
                <a:lnTo>
                  <a:pt x="472" y="524"/>
                </a:lnTo>
                <a:lnTo>
                  <a:pt x="486" y="536"/>
                </a:lnTo>
                <a:lnTo>
                  <a:pt x="481" y="554"/>
                </a:lnTo>
                <a:lnTo>
                  <a:pt x="456" y="567"/>
                </a:lnTo>
                <a:lnTo>
                  <a:pt x="447" y="588"/>
                </a:lnTo>
                <a:lnTo>
                  <a:pt x="456" y="605"/>
                </a:lnTo>
                <a:lnTo>
                  <a:pt x="471" y="627"/>
                </a:lnTo>
                <a:lnTo>
                  <a:pt x="492" y="642"/>
                </a:lnTo>
                <a:lnTo>
                  <a:pt x="483" y="663"/>
                </a:lnTo>
                <a:lnTo>
                  <a:pt x="468" y="683"/>
                </a:lnTo>
                <a:lnTo>
                  <a:pt x="471" y="719"/>
                </a:lnTo>
                <a:lnTo>
                  <a:pt x="490" y="762"/>
                </a:lnTo>
                <a:lnTo>
                  <a:pt x="502" y="785"/>
                </a:lnTo>
                <a:lnTo>
                  <a:pt x="499" y="806"/>
                </a:lnTo>
                <a:lnTo>
                  <a:pt x="538" y="816"/>
                </a:lnTo>
                <a:lnTo>
                  <a:pt x="555" y="881"/>
                </a:lnTo>
                <a:lnTo>
                  <a:pt x="564" y="909"/>
                </a:lnTo>
                <a:lnTo>
                  <a:pt x="586" y="908"/>
                </a:lnTo>
                <a:lnTo>
                  <a:pt x="595" y="902"/>
                </a:lnTo>
                <a:lnTo>
                  <a:pt x="610" y="893"/>
                </a:lnTo>
                <a:lnTo>
                  <a:pt x="634" y="896"/>
                </a:lnTo>
                <a:lnTo>
                  <a:pt x="648" y="897"/>
                </a:lnTo>
                <a:lnTo>
                  <a:pt x="659" y="910"/>
                </a:lnTo>
                <a:lnTo>
                  <a:pt x="663" y="945"/>
                </a:lnTo>
                <a:lnTo>
                  <a:pt x="654" y="963"/>
                </a:lnTo>
                <a:lnTo>
                  <a:pt x="655" y="987"/>
                </a:lnTo>
                <a:lnTo>
                  <a:pt x="678" y="998"/>
                </a:lnTo>
                <a:lnTo>
                  <a:pt x="688" y="1014"/>
                </a:lnTo>
                <a:lnTo>
                  <a:pt x="688" y="1052"/>
                </a:lnTo>
                <a:lnTo>
                  <a:pt x="672" y="1071"/>
                </a:lnTo>
                <a:lnTo>
                  <a:pt x="655" y="1095"/>
                </a:lnTo>
                <a:lnTo>
                  <a:pt x="646" y="1116"/>
                </a:lnTo>
                <a:lnTo>
                  <a:pt x="627" y="1109"/>
                </a:lnTo>
                <a:lnTo>
                  <a:pt x="603" y="1116"/>
                </a:lnTo>
                <a:lnTo>
                  <a:pt x="592" y="1145"/>
                </a:lnTo>
                <a:lnTo>
                  <a:pt x="577" y="1182"/>
                </a:lnTo>
                <a:lnTo>
                  <a:pt x="567" y="1190"/>
                </a:lnTo>
                <a:lnTo>
                  <a:pt x="560" y="1205"/>
                </a:lnTo>
                <a:lnTo>
                  <a:pt x="562" y="1229"/>
                </a:lnTo>
                <a:lnTo>
                  <a:pt x="550" y="1290"/>
                </a:lnTo>
                <a:lnTo>
                  <a:pt x="525" y="1297"/>
                </a:lnTo>
                <a:lnTo>
                  <a:pt x="523" y="1307"/>
                </a:lnTo>
                <a:lnTo>
                  <a:pt x="513" y="1311"/>
                </a:lnTo>
                <a:lnTo>
                  <a:pt x="499" y="1309"/>
                </a:lnTo>
                <a:lnTo>
                  <a:pt x="473" y="1315"/>
                </a:lnTo>
                <a:lnTo>
                  <a:pt x="465" y="1305"/>
                </a:lnTo>
                <a:lnTo>
                  <a:pt x="455" y="1304"/>
                </a:lnTo>
                <a:lnTo>
                  <a:pt x="449" y="1312"/>
                </a:lnTo>
                <a:lnTo>
                  <a:pt x="402" y="1345"/>
                </a:lnTo>
                <a:lnTo>
                  <a:pt x="417" y="1382"/>
                </a:lnTo>
                <a:lnTo>
                  <a:pt x="430" y="1397"/>
                </a:lnTo>
                <a:lnTo>
                  <a:pt x="441" y="1423"/>
                </a:lnTo>
                <a:lnTo>
                  <a:pt x="449" y="1434"/>
                </a:lnTo>
                <a:lnTo>
                  <a:pt x="437" y="1452"/>
                </a:lnTo>
                <a:lnTo>
                  <a:pt x="432" y="1456"/>
                </a:lnTo>
                <a:lnTo>
                  <a:pt x="408" y="1448"/>
                </a:lnTo>
                <a:lnTo>
                  <a:pt x="400" y="1447"/>
                </a:lnTo>
                <a:lnTo>
                  <a:pt x="407" y="1463"/>
                </a:lnTo>
                <a:lnTo>
                  <a:pt x="410" y="1477"/>
                </a:lnTo>
                <a:lnTo>
                  <a:pt x="375" y="1522"/>
                </a:lnTo>
                <a:lnTo>
                  <a:pt x="364" y="1530"/>
                </a:lnTo>
                <a:lnTo>
                  <a:pt x="350" y="1529"/>
                </a:lnTo>
                <a:lnTo>
                  <a:pt x="341" y="1517"/>
                </a:lnTo>
                <a:lnTo>
                  <a:pt x="328" y="1516"/>
                </a:lnTo>
                <a:lnTo>
                  <a:pt x="294" y="1508"/>
                </a:lnTo>
                <a:lnTo>
                  <a:pt x="285" y="1506"/>
                </a:lnTo>
                <a:lnTo>
                  <a:pt x="280" y="1506"/>
                </a:lnTo>
                <a:lnTo>
                  <a:pt x="275" y="1471"/>
                </a:lnTo>
                <a:lnTo>
                  <a:pt x="282" y="1413"/>
                </a:lnTo>
                <a:lnTo>
                  <a:pt x="252" y="1375"/>
                </a:lnTo>
                <a:lnTo>
                  <a:pt x="229" y="1324"/>
                </a:lnTo>
                <a:lnTo>
                  <a:pt x="220" y="1323"/>
                </a:lnTo>
                <a:lnTo>
                  <a:pt x="210" y="1322"/>
                </a:lnTo>
                <a:lnTo>
                  <a:pt x="183" y="1304"/>
                </a:lnTo>
                <a:lnTo>
                  <a:pt x="176" y="1293"/>
                </a:lnTo>
                <a:lnTo>
                  <a:pt x="129" y="1273"/>
                </a:lnTo>
                <a:lnTo>
                  <a:pt x="83" y="1253"/>
                </a:lnTo>
                <a:lnTo>
                  <a:pt x="61" y="1230"/>
                </a:lnTo>
                <a:lnTo>
                  <a:pt x="41" y="1203"/>
                </a:lnTo>
                <a:lnTo>
                  <a:pt x="0" y="1136"/>
                </a:lnTo>
                <a:lnTo>
                  <a:pt x="11" y="1127"/>
                </a:lnTo>
                <a:lnTo>
                  <a:pt x="16" y="1128"/>
                </a:lnTo>
                <a:lnTo>
                  <a:pt x="36" y="1155"/>
                </a:lnTo>
                <a:lnTo>
                  <a:pt x="45" y="1166"/>
                </a:lnTo>
                <a:lnTo>
                  <a:pt x="44" y="1175"/>
                </a:lnTo>
                <a:lnTo>
                  <a:pt x="57" y="1181"/>
                </a:lnTo>
                <a:lnTo>
                  <a:pt x="68" y="1178"/>
                </a:lnTo>
                <a:lnTo>
                  <a:pt x="79" y="1170"/>
                </a:lnTo>
                <a:lnTo>
                  <a:pt x="74" y="1130"/>
                </a:lnTo>
                <a:lnTo>
                  <a:pt x="68" y="1061"/>
                </a:lnTo>
                <a:lnTo>
                  <a:pt x="48" y="1058"/>
                </a:lnTo>
                <a:lnTo>
                  <a:pt x="43" y="1058"/>
                </a:lnTo>
                <a:lnTo>
                  <a:pt x="21" y="1041"/>
                </a:lnTo>
                <a:lnTo>
                  <a:pt x="4" y="1024"/>
                </a:lnTo>
                <a:lnTo>
                  <a:pt x="26" y="1002"/>
                </a:lnTo>
                <a:lnTo>
                  <a:pt x="39" y="936"/>
                </a:lnTo>
                <a:lnTo>
                  <a:pt x="42" y="912"/>
                </a:lnTo>
                <a:lnTo>
                  <a:pt x="63" y="900"/>
                </a:lnTo>
                <a:lnTo>
                  <a:pt x="68" y="900"/>
                </a:lnTo>
                <a:lnTo>
                  <a:pt x="89" y="889"/>
                </a:lnTo>
                <a:lnTo>
                  <a:pt x="92" y="869"/>
                </a:lnTo>
                <a:lnTo>
                  <a:pt x="83" y="854"/>
                </a:lnTo>
                <a:lnTo>
                  <a:pt x="61" y="836"/>
                </a:lnTo>
                <a:lnTo>
                  <a:pt x="52" y="835"/>
                </a:lnTo>
                <a:lnTo>
                  <a:pt x="64" y="812"/>
                </a:lnTo>
                <a:lnTo>
                  <a:pt x="85" y="718"/>
                </a:lnTo>
                <a:lnTo>
                  <a:pt x="87" y="698"/>
                </a:lnTo>
                <a:lnTo>
                  <a:pt x="79" y="693"/>
                </a:lnTo>
                <a:lnTo>
                  <a:pt x="70" y="682"/>
                </a:lnTo>
                <a:lnTo>
                  <a:pt x="64" y="691"/>
                </a:lnTo>
                <a:lnTo>
                  <a:pt x="52" y="632"/>
                </a:lnTo>
                <a:lnTo>
                  <a:pt x="86" y="553"/>
                </a:lnTo>
                <a:lnTo>
                  <a:pt x="106" y="550"/>
                </a:lnTo>
                <a:lnTo>
                  <a:pt x="108" y="532"/>
                </a:lnTo>
                <a:lnTo>
                  <a:pt x="110" y="517"/>
                </a:lnTo>
                <a:lnTo>
                  <a:pt x="104" y="492"/>
                </a:lnTo>
              </a:path>
            </a:pathLst>
          </a:custGeom>
          <a:solidFill>
            <a:srgbClr val="336600">
              <a:alpha val="67000"/>
            </a:srgbClr>
          </a:solidFill>
          <a:ln w="46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1133640" y="2019240"/>
            <a:ext cx="2981160" cy="714600"/>
          </a:xfrm>
          <a:custGeom>
            <a:avLst/>
            <a:gdLst/>
            <a:ahLst/>
            <a:rect l="l" t="t" r="r" b="b"/>
            <a:pathLst>
              <a:path w="1878" h="450">
                <a:moveTo>
                  <a:pt x="0" y="450"/>
                </a:moveTo>
                <a:lnTo>
                  <a:pt x="222" y="270"/>
                </a:lnTo>
                <a:lnTo>
                  <a:pt x="360" y="270"/>
                </a:lnTo>
                <a:lnTo>
                  <a:pt x="546" y="258"/>
                </a:lnTo>
                <a:lnTo>
                  <a:pt x="594" y="216"/>
                </a:lnTo>
                <a:lnTo>
                  <a:pt x="654" y="210"/>
                </a:lnTo>
                <a:lnTo>
                  <a:pt x="690" y="132"/>
                </a:lnTo>
                <a:lnTo>
                  <a:pt x="786" y="44"/>
                </a:lnTo>
                <a:lnTo>
                  <a:pt x="882" y="48"/>
                </a:lnTo>
                <a:lnTo>
                  <a:pt x="966" y="18"/>
                </a:lnTo>
                <a:lnTo>
                  <a:pt x="1092" y="108"/>
                </a:lnTo>
                <a:lnTo>
                  <a:pt x="1218" y="0"/>
                </a:lnTo>
                <a:lnTo>
                  <a:pt x="1410" y="108"/>
                </a:lnTo>
                <a:lnTo>
                  <a:pt x="1668" y="138"/>
                </a:lnTo>
                <a:lnTo>
                  <a:pt x="1632" y="396"/>
                </a:lnTo>
                <a:lnTo>
                  <a:pt x="1878" y="402"/>
                </a:lnTo>
                <a:lnTo>
                  <a:pt x="1872" y="324"/>
                </a:ln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"/>
          <p:cNvSpPr/>
          <p:nvPr/>
        </p:nvSpPr>
        <p:spPr>
          <a:xfrm>
            <a:off x="4359240" y="3359160"/>
            <a:ext cx="260280" cy="393840"/>
          </a:xfrm>
          <a:custGeom>
            <a:avLst/>
            <a:gdLst/>
            <a:ahLst/>
            <a:rect l="l" t="t" r="r" b="b"/>
            <a:pathLst>
              <a:path w="158" h="248">
                <a:moveTo>
                  <a:pt x="0" y="0"/>
                </a:moveTo>
                <a:lnTo>
                  <a:pt x="158" y="248"/>
                </a:ln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9" name=""/>
          <p:cNvSpPr/>
          <p:nvPr/>
        </p:nvSpPr>
        <p:spPr>
          <a:xfrm>
            <a:off x="4746600" y="4032360"/>
            <a:ext cx="1162080" cy="1388880"/>
          </a:xfrm>
          <a:custGeom>
            <a:avLst/>
            <a:gdLst/>
            <a:ahLst/>
            <a:rect l="l" t="t" r="r" b="b"/>
            <a:pathLst>
              <a:path w="732" h="875">
                <a:moveTo>
                  <a:pt x="208" y="875"/>
                </a:moveTo>
                <a:lnTo>
                  <a:pt x="205" y="860"/>
                </a:lnTo>
                <a:lnTo>
                  <a:pt x="216" y="845"/>
                </a:lnTo>
                <a:lnTo>
                  <a:pt x="210" y="828"/>
                </a:lnTo>
                <a:lnTo>
                  <a:pt x="232" y="812"/>
                </a:lnTo>
                <a:lnTo>
                  <a:pt x="222" y="777"/>
                </a:lnTo>
                <a:lnTo>
                  <a:pt x="204" y="740"/>
                </a:lnTo>
                <a:lnTo>
                  <a:pt x="204" y="708"/>
                </a:lnTo>
                <a:lnTo>
                  <a:pt x="189" y="689"/>
                </a:lnTo>
                <a:lnTo>
                  <a:pt x="165" y="645"/>
                </a:lnTo>
                <a:lnTo>
                  <a:pt x="141" y="627"/>
                </a:lnTo>
                <a:lnTo>
                  <a:pt x="105" y="611"/>
                </a:lnTo>
                <a:lnTo>
                  <a:pt x="91" y="612"/>
                </a:lnTo>
                <a:lnTo>
                  <a:pt x="74" y="611"/>
                </a:lnTo>
                <a:lnTo>
                  <a:pt x="65" y="582"/>
                </a:lnTo>
                <a:lnTo>
                  <a:pt x="67" y="568"/>
                </a:lnTo>
                <a:lnTo>
                  <a:pt x="51" y="528"/>
                </a:lnTo>
                <a:lnTo>
                  <a:pt x="62" y="551"/>
                </a:lnTo>
                <a:lnTo>
                  <a:pt x="38" y="513"/>
                </a:lnTo>
                <a:lnTo>
                  <a:pt x="18" y="498"/>
                </a:lnTo>
                <a:lnTo>
                  <a:pt x="12" y="508"/>
                </a:lnTo>
                <a:lnTo>
                  <a:pt x="15" y="468"/>
                </a:lnTo>
                <a:lnTo>
                  <a:pt x="30" y="447"/>
                </a:lnTo>
                <a:lnTo>
                  <a:pt x="8" y="422"/>
                </a:lnTo>
                <a:lnTo>
                  <a:pt x="0" y="413"/>
                </a:lnTo>
                <a:lnTo>
                  <a:pt x="2" y="399"/>
                </a:lnTo>
                <a:lnTo>
                  <a:pt x="14" y="392"/>
                </a:lnTo>
                <a:lnTo>
                  <a:pt x="27" y="395"/>
                </a:lnTo>
                <a:lnTo>
                  <a:pt x="41" y="408"/>
                </a:lnTo>
                <a:lnTo>
                  <a:pt x="57" y="401"/>
                </a:lnTo>
                <a:lnTo>
                  <a:pt x="71" y="396"/>
                </a:lnTo>
                <a:lnTo>
                  <a:pt x="66" y="377"/>
                </a:lnTo>
                <a:lnTo>
                  <a:pt x="92" y="366"/>
                </a:lnTo>
                <a:lnTo>
                  <a:pt x="104" y="369"/>
                </a:lnTo>
                <a:lnTo>
                  <a:pt x="120" y="348"/>
                </a:lnTo>
                <a:lnTo>
                  <a:pt x="132" y="322"/>
                </a:lnTo>
                <a:lnTo>
                  <a:pt x="166" y="304"/>
                </a:lnTo>
                <a:lnTo>
                  <a:pt x="171" y="277"/>
                </a:lnTo>
                <a:lnTo>
                  <a:pt x="142" y="258"/>
                </a:lnTo>
                <a:lnTo>
                  <a:pt x="162" y="240"/>
                </a:lnTo>
                <a:lnTo>
                  <a:pt x="190" y="235"/>
                </a:lnTo>
                <a:lnTo>
                  <a:pt x="214" y="241"/>
                </a:lnTo>
                <a:lnTo>
                  <a:pt x="223" y="216"/>
                </a:lnTo>
                <a:lnTo>
                  <a:pt x="240" y="198"/>
                </a:lnTo>
                <a:lnTo>
                  <a:pt x="237" y="106"/>
                </a:lnTo>
                <a:lnTo>
                  <a:pt x="208" y="90"/>
                </a:lnTo>
                <a:lnTo>
                  <a:pt x="226" y="58"/>
                </a:lnTo>
                <a:lnTo>
                  <a:pt x="264" y="45"/>
                </a:lnTo>
                <a:lnTo>
                  <a:pt x="280" y="15"/>
                </a:lnTo>
                <a:lnTo>
                  <a:pt x="310" y="0"/>
                </a:lnTo>
                <a:lnTo>
                  <a:pt x="330" y="9"/>
                </a:lnTo>
                <a:lnTo>
                  <a:pt x="343" y="28"/>
                </a:lnTo>
                <a:lnTo>
                  <a:pt x="333" y="51"/>
                </a:lnTo>
                <a:lnTo>
                  <a:pt x="334" y="70"/>
                </a:lnTo>
                <a:lnTo>
                  <a:pt x="360" y="108"/>
                </a:lnTo>
                <a:lnTo>
                  <a:pt x="406" y="135"/>
                </a:lnTo>
                <a:lnTo>
                  <a:pt x="432" y="127"/>
                </a:lnTo>
                <a:lnTo>
                  <a:pt x="450" y="136"/>
                </a:lnTo>
                <a:lnTo>
                  <a:pt x="466" y="184"/>
                </a:lnTo>
                <a:lnTo>
                  <a:pt x="499" y="171"/>
                </a:lnTo>
                <a:lnTo>
                  <a:pt x="510" y="193"/>
                </a:lnTo>
                <a:lnTo>
                  <a:pt x="516" y="208"/>
                </a:lnTo>
                <a:lnTo>
                  <a:pt x="523" y="240"/>
                </a:lnTo>
                <a:lnTo>
                  <a:pt x="538" y="264"/>
                </a:lnTo>
                <a:lnTo>
                  <a:pt x="583" y="279"/>
                </a:lnTo>
                <a:lnTo>
                  <a:pt x="603" y="261"/>
                </a:lnTo>
                <a:lnTo>
                  <a:pt x="630" y="274"/>
                </a:lnTo>
                <a:lnTo>
                  <a:pt x="613" y="327"/>
                </a:lnTo>
                <a:lnTo>
                  <a:pt x="624" y="346"/>
                </a:lnTo>
                <a:lnTo>
                  <a:pt x="648" y="337"/>
                </a:lnTo>
                <a:lnTo>
                  <a:pt x="672" y="342"/>
                </a:lnTo>
                <a:lnTo>
                  <a:pt x="687" y="382"/>
                </a:lnTo>
                <a:lnTo>
                  <a:pt x="714" y="376"/>
                </a:lnTo>
                <a:lnTo>
                  <a:pt x="732" y="414"/>
                </a:lnTo>
                <a:lnTo>
                  <a:pt x="715" y="438"/>
                </a:lnTo>
                <a:lnTo>
                  <a:pt x="705" y="457"/>
                </a:lnTo>
                <a:lnTo>
                  <a:pt x="700" y="484"/>
                </a:lnTo>
                <a:lnTo>
                  <a:pt x="676" y="505"/>
                </a:lnTo>
                <a:lnTo>
                  <a:pt x="691" y="541"/>
                </a:lnTo>
                <a:lnTo>
                  <a:pt x="684" y="570"/>
                </a:lnTo>
                <a:lnTo>
                  <a:pt x="643" y="576"/>
                </a:lnTo>
                <a:lnTo>
                  <a:pt x="651" y="609"/>
                </a:lnTo>
                <a:lnTo>
                  <a:pt x="668" y="613"/>
                </a:lnTo>
                <a:lnTo>
                  <a:pt x="662" y="625"/>
                </a:lnTo>
                <a:lnTo>
                  <a:pt x="643" y="636"/>
                </a:lnTo>
                <a:lnTo>
                  <a:pt x="616" y="639"/>
                </a:lnTo>
                <a:lnTo>
                  <a:pt x="575" y="640"/>
                </a:lnTo>
                <a:lnTo>
                  <a:pt x="550" y="628"/>
                </a:lnTo>
                <a:lnTo>
                  <a:pt x="531" y="629"/>
                </a:lnTo>
                <a:lnTo>
                  <a:pt x="522" y="647"/>
                </a:lnTo>
                <a:lnTo>
                  <a:pt x="507" y="668"/>
                </a:lnTo>
                <a:lnTo>
                  <a:pt x="481" y="695"/>
                </a:lnTo>
                <a:lnTo>
                  <a:pt x="483" y="719"/>
                </a:lnTo>
                <a:lnTo>
                  <a:pt x="456" y="729"/>
                </a:lnTo>
                <a:lnTo>
                  <a:pt x="444" y="702"/>
                </a:lnTo>
                <a:lnTo>
                  <a:pt x="417" y="668"/>
                </a:lnTo>
                <a:lnTo>
                  <a:pt x="388" y="674"/>
                </a:lnTo>
                <a:lnTo>
                  <a:pt x="372" y="701"/>
                </a:lnTo>
                <a:lnTo>
                  <a:pt x="309" y="722"/>
                </a:lnTo>
                <a:lnTo>
                  <a:pt x="279" y="729"/>
                </a:lnTo>
                <a:lnTo>
                  <a:pt x="261" y="762"/>
                </a:lnTo>
                <a:lnTo>
                  <a:pt x="262" y="791"/>
                </a:lnTo>
                <a:lnTo>
                  <a:pt x="264" y="810"/>
                </a:lnTo>
                <a:lnTo>
                  <a:pt x="259" y="825"/>
                </a:lnTo>
                <a:lnTo>
                  <a:pt x="271" y="839"/>
                </a:lnTo>
                <a:lnTo>
                  <a:pt x="253" y="851"/>
                </a:lnTo>
                <a:lnTo>
                  <a:pt x="241" y="846"/>
                </a:lnTo>
                <a:lnTo>
                  <a:pt x="208" y="875"/>
                </a:lnTo>
                <a:close/>
              </a:path>
            </a:pathLst>
          </a:custGeom>
          <a:solidFill>
            <a:srgbClr val="009900">
              <a:alpha val="67000"/>
            </a:srgbClr>
          </a:solidFill>
          <a:ln w="324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0" name=""/>
          <p:cNvSpPr/>
          <p:nvPr/>
        </p:nvSpPr>
        <p:spPr>
          <a:xfrm>
            <a:off x="5423040" y="4165560"/>
            <a:ext cx="431640" cy="546120"/>
          </a:xfrm>
          <a:custGeom>
            <a:avLst/>
            <a:gdLst/>
            <a:ahLst/>
            <a:rect l="l" t="t" r="r" b="b"/>
            <a:pathLst>
              <a:path w="272" h="344">
                <a:moveTo>
                  <a:pt x="272" y="0"/>
                </a:moveTo>
                <a:lnTo>
                  <a:pt x="0" y="344"/>
                </a:lnTo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1" name=""/>
          <p:cNvSpPr/>
          <p:nvPr/>
        </p:nvSpPr>
        <p:spPr>
          <a:xfrm>
            <a:off x="5867280" y="3556080"/>
            <a:ext cx="581040" cy="590400"/>
          </a:xfrm>
          <a:custGeom>
            <a:avLst/>
            <a:gdLst/>
            <a:ahLst/>
            <a:rect l="l" t="t" r="r" b="b"/>
            <a:pathLst>
              <a:path w="366" h="372">
                <a:moveTo>
                  <a:pt x="0" y="372"/>
                </a:moveTo>
                <a:lnTo>
                  <a:pt x="366" y="0"/>
                </a:lnTo>
              </a:path>
            </a:pathLst>
          </a:custGeom>
          <a:noFill/>
          <a:ln w="3816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"/>
          <p:cNvSpPr/>
          <p:nvPr/>
        </p:nvSpPr>
        <p:spPr>
          <a:xfrm>
            <a:off x="5740560" y="4317840"/>
            <a:ext cx="161640" cy="114480"/>
          </a:xfrm>
          <a:prstGeom prst="line">
            <a:avLst/>
          </a:prstGeom>
          <a:ln w="28440">
            <a:solidFill>
              <a:srgbClr val="ccb37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3" name=""/>
          <p:cNvSpPr/>
          <p:nvPr/>
        </p:nvSpPr>
        <p:spPr>
          <a:xfrm>
            <a:off x="4597560" y="5270400"/>
            <a:ext cx="1022040" cy="559080"/>
          </a:xfrm>
          <a:custGeom>
            <a:avLst/>
            <a:gdLst/>
            <a:ahLst/>
            <a:rect l="l" t="t" r="r" b="b"/>
            <a:pathLst>
              <a:path w="644" h="352">
                <a:moveTo>
                  <a:pt x="644" y="0"/>
                </a:moveTo>
                <a:lnTo>
                  <a:pt x="0" y="352"/>
                </a:lnTo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4" name=""/>
          <p:cNvSpPr/>
          <p:nvPr/>
        </p:nvSpPr>
        <p:spPr>
          <a:xfrm flipH="1" flipV="1">
            <a:off x="5320800" y="5260680"/>
            <a:ext cx="57240" cy="114120"/>
          </a:xfrm>
          <a:prstGeom prst="line">
            <a:avLst/>
          </a:prstGeom>
          <a:ln w="38160">
            <a:solidFill>
              <a:srgbClr val="ccb37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5" name=""/>
          <p:cNvSpPr/>
          <p:nvPr/>
        </p:nvSpPr>
        <p:spPr>
          <a:xfrm>
            <a:off x="1800360" y="2409840"/>
            <a:ext cx="780840" cy="1581120"/>
          </a:xfrm>
          <a:custGeom>
            <a:avLst/>
            <a:gdLst/>
            <a:ahLst/>
            <a:rect l="l" t="t" r="r" b="b"/>
            <a:pathLst>
              <a:path w="492" h="996">
                <a:moveTo>
                  <a:pt x="492" y="996"/>
                </a:moveTo>
                <a:lnTo>
                  <a:pt x="426" y="990"/>
                </a:lnTo>
                <a:lnTo>
                  <a:pt x="306" y="900"/>
                </a:lnTo>
                <a:lnTo>
                  <a:pt x="216" y="732"/>
                </a:lnTo>
                <a:lnTo>
                  <a:pt x="270" y="660"/>
                </a:lnTo>
                <a:lnTo>
                  <a:pt x="270" y="576"/>
                </a:lnTo>
                <a:lnTo>
                  <a:pt x="114" y="468"/>
                </a:lnTo>
                <a:lnTo>
                  <a:pt x="42" y="336"/>
                </a:lnTo>
                <a:lnTo>
                  <a:pt x="96" y="228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6" name=""/>
          <p:cNvSpPr/>
          <p:nvPr/>
        </p:nvSpPr>
        <p:spPr>
          <a:xfrm>
            <a:off x="2867040" y="2124000"/>
            <a:ext cx="361800" cy="247680"/>
          </a:xfrm>
          <a:custGeom>
            <a:avLst/>
            <a:gdLst/>
            <a:ahLst/>
            <a:rect l="l" t="t" r="r" b="b"/>
            <a:pathLst>
              <a:path w="228" h="156">
                <a:moveTo>
                  <a:pt x="0" y="42"/>
                </a:moveTo>
                <a:lnTo>
                  <a:pt x="126" y="156"/>
                </a:lnTo>
                <a:lnTo>
                  <a:pt x="228" y="0"/>
                </a:ln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7" name=""/>
          <p:cNvSpPr/>
          <p:nvPr/>
        </p:nvSpPr>
        <p:spPr>
          <a:xfrm flipH="1" flipV="1">
            <a:off x="2276640" y="1752120"/>
            <a:ext cx="95040" cy="352440"/>
          </a:xfrm>
          <a:prstGeom prst="line">
            <a:avLst/>
          </a:prstGeom>
          <a:ln w="28440">
            <a:solidFill>
              <a:srgbClr val="ccb3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8" name=""/>
          <p:cNvSpPr/>
          <p:nvPr/>
        </p:nvSpPr>
        <p:spPr>
          <a:xfrm>
            <a:off x="2314440" y="1704960"/>
            <a:ext cx="771840" cy="324000"/>
          </a:xfrm>
          <a:custGeom>
            <a:avLst/>
            <a:gdLst/>
            <a:ahLst/>
            <a:rect l="l" t="t" r="r" b="b"/>
            <a:pathLst>
              <a:path w="474" h="210">
                <a:moveTo>
                  <a:pt x="0" y="126"/>
                </a:moveTo>
                <a:lnTo>
                  <a:pt x="258" y="0"/>
                </a:lnTo>
                <a:lnTo>
                  <a:pt x="474" y="210"/>
                </a:ln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9" name=""/>
          <p:cNvSpPr/>
          <p:nvPr/>
        </p:nvSpPr>
        <p:spPr>
          <a:xfrm>
            <a:off x="3057480" y="2371680"/>
            <a:ext cx="657360" cy="276120"/>
          </a:xfrm>
          <a:custGeom>
            <a:avLst/>
            <a:gdLst/>
            <a:ahLst/>
            <a:rect l="l" t="t" r="r" b="b"/>
            <a:pathLst>
              <a:path w="414" h="174">
                <a:moveTo>
                  <a:pt x="0" y="0"/>
                </a:moveTo>
                <a:lnTo>
                  <a:pt x="186" y="168"/>
                </a:lnTo>
                <a:lnTo>
                  <a:pt x="414" y="174"/>
                </a:ln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0" name=""/>
          <p:cNvSpPr/>
          <p:nvPr/>
        </p:nvSpPr>
        <p:spPr>
          <a:xfrm>
            <a:off x="3467160" y="2638440"/>
            <a:ext cx="247680" cy="809640"/>
          </a:xfrm>
          <a:custGeom>
            <a:avLst/>
            <a:gdLst/>
            <a:ahLst/>
            <a:rect l="l" t="t" r="r" b="b"/>
            <a:pathLst>
              <a:path w="156" h="510">
                <a:moveTo>
                  <a:pt x="0" y="510"/>
                </a:moveTo>
                <a:lnTo>
                  <a:pt x="138" y="312"/>
                </a:lnTo>
                <a:lnTo>
                  <a:pt x="108" y="102"/>
                </a:lnTo>
                <a:lnTo>
                  <a:pt x="156" y="0"/>
                </a:ln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1" name=""/>
          <p:cNvSpPr/>
          <p:nvPr/>
        </p:nvSpPr>
        <p:spPr>
          <a:xfrm>
            <a:off x="5410080" y="4714920"/>
            <a:ext cx="190800" cy="552240"/>
          </a:xfrm>
          <a:custGeom>
            <a:avLst/>
            <a:gdLst/>
            <a:ahLst/>
            <a:rect l="l" t="t" r="r" b="b"/>
            <a:pathLst>
              <a:path w="120" h="348">
                <a:moveTo>
                  <a:pt x="120" y="348"/>
                </a:moveTo>
                <a:cubicBezTo>
                  <a:pt x="110" y="314"/>
                  <a:pt x="96" y="282"/>
                  <a:pt x="96" y="246"/>
                </a:cubicBezTo>
                <a:lnTo>
                  <a:pt x="0" y="0"/>
                </a:lnTo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2" name=""/>
          <p:cNvSpPr/>
          <p:nvPr/>
        </p:nvSpPr>
        <p:spPr>
          <a:xfrm flipH="1">
            <a:off x="5619240" y="5029200"/>
            <a:ext cx="1009800" cy="237960"/>
          </a:xfrm>
          <a:prstGeom prst="line">
            <a:avLst/>
          </a:prstGeom>
          <a:ln w="28440">
            <a:solidFill>
              <a:srgbClr val="ccb3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3" name=""/>
          <p:cNvSpPr/>
          <p:nvPr/>
        </p:nvSpPr>
        <p:spPr>
          <a:xfrm>
            <a:off x="4952880" y="2962440"/>
            <a:ext cx="876600" cy="12096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4" name=""/>
          <p:cNvSpPr/>
          <p:nvPr/>
        </p:nvSpPr>
        <p:spPr>
          <a:xfrm flipH="1">
            <a:off x="4962240" y="2171880"/>
            <a:ext cx="438120" cy="819000"/>
          </a:xfrm>
          <a:prstGeom prst="line">
            <a:avLst/>
          </a:prstGeom>
          <a:ln w="28440">
            <a:solidFill>
              <a:srgbClr val="ccb37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5" name=""/>
          <p:cNvSpPr/>
          <p:nvPr/>
        </p:nvSpPr>
        <p:spPr>
          <a:xfrm flipH="1">
            <a:off x="2408400" y="979560"/>
            <a:ext cx="1638000" cy="1104840"/>
          </a:xfrm>
          <a:prstGeom prst="line">
            <a:avLst/>
          </a:prstGeom>
          <a:ln w="28440">
            <a:solidFill>
              <a:srgbClr val="ccb37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6" name=""/>
          <p:cNvSpPr/>
          <p:nvPr/>
        </p:nvSpPr>
        <p:spPr>
          <a:xfrm>
            <a:off x="4600440" y="5829480"/>
            <a:ext cx="27000" cy="487080"/>
          </a:xfrm>
          <a:custGeom>
            <a:avLst/>
            <a:gdLst/>
            <a:ahLst/>
            <a:rect l="l" t="t" r="r" b="b"/>
            <a:pathLst>
              <a:path w="17" h="307">
                <a:moveTo>
                  <a:pt x="0" y="0"/>
                </a:moveTo>
                <a:lnTo>
                  <a:pt x="17" y="307"/>
                </a:lnTo>
              </a:path>
            </a:pathLst>
          </a:custGeom>
          <a:noFill/>
          <a:ln w="3816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7" name=""/>
          <p:cNvSpPr/>
          <p:nvPr/>
        </p:nvSpPr>
        <p:spPr>
          <a:xfrm>
            <a:off x="3048120" y="2371680"/>
            <a:ext cx="685800" cy="1381320"/>
          </a:xfrm>
          <a:custGeom>
            <a:avLst/>
            <a:gdLst/>
            <a:ahLst/>
            <a:rect l="l" t="t" r="r" b="b"/>
            <a:pathLst>
              <a:path w="432" h="870">
                <a:moveTo>
                  <a:pt x="0" y="0"/>
                </a:moveTo>
                <a:lnTo>
                  <a:pt x="6" y="384"/>
                </a:lnTo>
                <a:lnTo>
                  <a:pt x="240" y="684"/>
                </a:lnTo>
                <a:lnTo>
                  <a:pt x="432" y="870"/>
                </a:ln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8" name=""/>
          <p:cNvSpPr/>
          <p:nvPr/>
        </p:nvSpPr>
        <p:spPr>
          <a:xfrm>
            <a:off x="4105440" y="933480"/>
            <a:ext cx="1266840" cy="2438280"/>
          </a:xfrm>
          <a:custGeom>
            <a:avLst/>
            <a:gdLst/>
            <a:ahLst/>
            <a:rect l="l" t="t" r="r" b="b"/>
            <a:pathLst>
              <a:path w="798" h="1536">
                <a:moveTo>
                  <a:pt x="0" y="0"/>
                </a:moveTo>
                <a:lnTo>
                  <a:pt x="282" y="282"/>
                </a:lnTo>
                <a:lnTo>
                  <a:pt x="420" y="528"/>
                </a:lnTo>
                <a:lnTo>
                  <a:pt x="372" y="966"/>
                </a:lnTo>
                <a:lnTo>
                  <a:pt x="540" y="1284"/>
                </a:lnTo>
                <a:lnTo>
                  <a:pt x="690" y="1260"/>
                </a:lnTo>
                <a:lnTo>
                  <a:pt x="798" y="1368"/>
                </a:lnTo>
                <a:lnTo>
                  <a:pt x="738" y="1536"/>
                </a:ln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9" name=""/>
          <p:cNvSpPr/>
          <p:nvPr/>
        </p:nvSpPr>
        <p:spPr>
          <a:xfrm>
            <a:off x="4200480" y="2162160"/>
            <a:ext cx="501840" cy="371520"/>
          </a:xfrm>
          <a:custGeom>
            <a:avLst/>
            <a:gdLst/>
            <a:ahLst/>
            <a:rect l="l" t="t" r="r" b="b"/>
            <a:pathLst>
              <a:path w="316" h="234">
                <a:moveTo>
                  <a:pt x="0" y="0"/>
                </a:moveTo>
                <a:cubicBezTo>
                  <a:pt x="28" y="18"/>
                  <a:pt x="170" y="51"/>
                  <a:pt x="222" y="84"/>
                </a:cubicBezTo>
                <a:cubicBezTo>
                  <a:pt x="274" y="117"/>
                  <a:pt x="316" y="173"/>
                  <a:pt x="312" y="198"/>
                </a:cubicBezTo>
                <a:cubicBezTo>
                  <a:pt x="285" y="206"/>
                  <a:pt x="231" y="234"/>
                  <a:pt x="198" y="234"/>
                </a:cubicBez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0" name=""/>
          <p:cNvSpPr/>
          <p:nvPr/>
        </p:nvSpPr>
        <p:spPr>
          <a:xfrm>
            <a:off x="3781440" y="1378080"/>
            <a:ext cx="749160" cy="631800"/>
          </a:xfrm>
          <a:custGeom>
            <a:avLst/>
            <a:gdLst/>
            <a:ahLst/>
            <a:rect l="l" t="t" r="r" b="b"/>
            <a:pathLst>
              <a:path w="472" h="398">
                <a:moveTo>
                  <a:pt x="472" y="0"/>
                </a:moveTo>
                <a:lnTo>
                  <a:pt x="372" y="200"/>
                </a:lnTo>
                <a:lnTo>
                  <a:pt x="0" y="398"/>
                </a:ln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1" name=""/>
          <p:cNvSpPr/>
          <p:nvPr/>
        </p:nvSpPr>
        <p:spPr>
          <a:xfrm>
            <a:off x="3772080" y="2028960"/>
            <a:ext cx="9360" cy="209520"/>
          </a:xfrm>
          <a:custGeom>
            <a:avLst/>
            <a:gdLst/>
            <a:ahLst/>
            <a:rect l="l" t="t" r="r" b="b"/>
            <a:pathLst>
              <a:path w="6" h="132">
                <a:moveTo>
                  <a:pt x="6" y="0"/>
                </a:moveTo>
                <a:cubicBezTo>
                  <a:pt x="4" y="25"/>
                  <a:pt x="2" y="107"/>
                  <a:pt x="0" y="132"/>
                </a:cubicBez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2" name=""/>
          <p:cNvSpPr/>
          <p:nvPr/>
        </p:nvSpPr>
        <p:spPr>
          <a:xfrm>
            <a:off x="4257720" y="4905360"/>
            <a:ext cx="333360" cy="905040"/>
          </a:xfrm>
          <a:custGeom>
            <a:avLst/>
            <a:gdLst/>
            <a:ahLst/>
            <a:rect l="l" t="t" r="r" b="b"/>
            <a:pathLst>
              <a:path w="210" h="570">
                <a:moveTo>
                  <a:pt x="0" y="0"/>
                </a:moveTo>
                <a:lnTo>
                  <a:pt x="108" y="204"/>
                </a:lnTo>
                <a:lnTo>
                  <a:pt x="210" y="570"/>
                </a:lnTo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3" name=""/>
          <p:cNvSpPr/>
          <p:nvPr/>
        </p:nvSpPr>
        <p:spPr>
          <a:xfrm>
            <a:off x="3289320" y="3759120"/>
            <a:ext cx="968400" cy="1146240"/>
          </a:xfrm>
          <a:custGeom>
            <a:avLst/>
            <a:gdLst/>
            <a:ahLst/>
            <a:rect l="l" t="t" r="r" b="b"/>
            <a:pathLst>
              <a:path w="610" h="722">
                <a:moveTo>
                  <a:pt x="288" y="0"/>
                </a:moveTo>
                <a:lnTo>
                  <a:pt x="56" y="264"/>
                </a:lnTo>
                <a:lnTo>
                  <a:pt x="0" y="408"/>
                </a:lnTo>
                <a:lnTo>
                  <a:pt x="478" y="554"/>
                </a:lnTo>
                <a:lnTo>
                  <a:pt x="610" y="722"/>
                </a:lnTo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4" name=""/>
          <p:cNvSpPr/>
          <p:nvPr/>
        </p:nvSpPr>
        <p:spPr>
          <a:xfrm>
            <a:off x="5253120" y="4583160"/>
            <a:ext cx="162000" cy="114120"/>
          </a:xfrm>
          <a:prstGeom prst="line">
            <a:avLst/>
          </a:prstGeom>
          <a:ln w="28440">
            <a:solidFill>
              <a:srgbClr val="ccb37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5" name=""/>
          <p:cNvSpPr/>
          <p:nvPr/>
        </p:nvSpPr>
        <p:spPr>
          <a:xfrm>
            <a:off x="3746520" y="2965320"/>
            <a:ext cx="1219320" cy="793800"/>
          </a:xfrm>
          <a:custGeom>
            <a:avLst/>
            <a:gdLst/>
            <a:ahLst/>
            <a:rect l="l" t="t" r="r" b="b"/>
            <a:pathLst>
              <a:path w="768" h="500">
                <a:moveTo>
                  <a:pt x="768" y="0"/>
                </a:moveTo>
                <a:lnTo>
                  <a:pt x="0" y="500"/>
                </a:lnTo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6" name=""/>
          <p:cNvSpPr/>
          <p:nvPr/>
        </p:nvSpPr>
        <p:spPr>
          <a:xfrm>
            <a:off x="4429080" y="5624640"/>
            <a:ext cx="360360" cy="360360"/>
          </a:xfrm>
          <a:prstGeom prst="ellipse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7" name=""/>
          <p:cNvSpPr/>
          <p:nvPr/>
        </p:nvSpPr>
        <p:spPr>
          <a:xfrm>
            <a:off x="2577960" y="3994200"/>
            <a:ext cx="723960" cy="412560"/>
          </a:xfrm>
          <a:custGeom>
            <a:avLst/>
            <a:gdLst/>
            <a:ahLst/>
            <a:rect l="l" t="t" r="r" b="b"/>
            <a:pathLst>
              <a:path w="456" h="260">
                <a:moveTo>
                  <a:pt x="456" y="260"/>
                </a:moveTo>
                <a:lnTo>
                  <a:pt x="298" y="182"/>
                </a:lnTo>
                <a:lnTo>
                  <a:pt x="148" y="4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8" name=""/>
          <p:cNvSpPr/>
          <p:nvPr/>
        </p:nvSpPr>
        <p:spPr>
          <a:xfrm rot="2715000">
            <a:off x="4701960" y="595800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ffff">
              <a:alpha val="50000"/>
            </a:srgbClr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9" name=""/>
          <p:cNvSpPr/>
          <p:nvPr/>
        </p:nvSpPr>
        <p:spPr>
          <a:xfrm>
            <a:off x="2389320" y="3832200"/>
            <a:ext cx="360360" cy="360360"/>
          </a:xfrm>
          <a:prstGeom prst="ellipse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0" name=""/>
          <p:cNvSpPr/>
          <p:nvPr/>
        </p:nvSpPr>
        <p:spPr>
          <a:xfrm>
            <a:off x="5581800" y="5257800"/>
            <a:ext cx="176040" cy="430200"/>
          </a:xfrm>
          <a:custGeom>
            <a:avLst/>
            <a:gdLst/>
            <a:ahLst/>
            <a:rect l="l" t="t" r="r" b="b"/>
            <a:pathLst>
              <a:path w="111" h="271">
                <a:moveTo>
                  <a:pt x="111" y="27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1" name=""/>
          <p:cNvSpPr/>
          <p:nvPr/>
        </p:nvSpPr>
        <p:spPr>
          <a:xfrm>
            <a:off x="5564160" y="5502240"/>
            <a:ext cx="360360" cy="360360"/>
          </a:xfrm>
          <a:prstGeom prst="ellipse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2" name=""/>
          <p:cNvSpPr/>
          <p:nvPr/>
        </p:nvSpPr>
        <p:spPr>
          <a:xfrm rot="2715000">
            <a:off x="5812920" y="585936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ffff">
              <a:alpha val="50000"/>
            </a:srgbClr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3" name=""/>
          <p:cNvSpPr/>
          <p:nvPr/>
        </p:nvSpPr>
        <p:spPr>
          <a:xfrm>
            <a:off x="4025880" y="4689360"/>
            <a:ext cx="360360" cy="360360"/>
          </a:xfrm>
          <a:prstGeom prst="ellipse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4" name=""/>
          <p:cNvSpPr/>
          <p:nvPr/>
        </p:nvSpPr>
        <p:spPr>
          <a:xfrm rot="2715000">
            <a:off x="5820840" y="418932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ffff">
              <a:alpha val="50000"/>
            </a:srgbClr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5" name=""/>
          <p:cNvSpPr/>
          <p:nvPr/>
        </p:nvSpPr>
        <p:spPr>
          <a:xfrm rot="18088800">
            <a:off x="4895640" y="257472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ffff">
              <a:alpha val="50000"/>
            </a:srgbClr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6" name=""/>
          <p:cNvSpPr/>
          <p:nvPr/>
        </p:nvSpPr>
        <p:spPr>
          <a:xfrm>
            <a:off x="5259240" y="4559400"/>
            <a:ext cx="360360" cy="360360"/>
          </a:xfrm>
          <a:prstGeom prst="ellipse">
            <a:avLst/>
          </a:prstGeom>
          <a:noFill/>
          <a:ln w="57240">
            <a:solidFill>
              <a:srgbClr val="ffcc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37" name=""/>
          <p:cNvGrpSpPr/>
          <p:nvPr/>
        </p:nvGrpSpPr>
        <p:grpSpPr>
          <a:xfrm>
            <a:off x="685800" y="1143000"/>
            <a:ext cx="7831080" cy="1008720"/>
            <a:chOff x="685800" y="1143000"/>
            <a:chExt cx="7831080" cy="1008720"/>
          </a:xfrm>
        </p:grpSpPr>
        <p:sp>
          <p:nvSpPr>
            <p:cNvPr id="738" name=""/>
            <p:cNvSpPr/>
            <p:nvPr/>
          </p:nvSpPr>
          <p:spPr>
            <a:xfrm>
              <a:off x="685800" y="1284480"/>
              <a:ext cx="539640" cy="539640"/>
            </a:xfrm>
            <a:prstGeom prst="rightArrow">
              <a:avLst>
                <a:gd name="adj1" fmla="val 50250"/>
                <a:gd name="adj2" fmla="val 43843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1249200" y="1143000"/>
              <a:ext cx="7267680" cy="1008720"/>
            </a:xfrm>
            <a:prstGeom prst="rect">
              <a:avLst/>
            </a:prstGeom>
            <a:solidFill>
              <a:srgbClr val="808080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2100 to 3000 MW of combined cycle gas turbine capacity in coastal and south-western Balkans required as anchor load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40" name=""/>
          <p:cNvSpPr/>
          <p:nvPr/>
        </p:nvSpPr>
        <p:spPr>
          <a:xfrm>
            <a:off x="2124000" y="4851360"/>
            <a:ext cx="1819440" cy="1819440"/>
          </a:xfrm>
          <a:prstGeom prst="ellipse">
            <a:avLst/>
          </a:prstGeom>
          <a:solidFill>
            <a:srgbClr val="0066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2.3 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o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3.7 </a:t>
            </a:r>
            <a:r>
              <a:rPr b="0" i="1" lang="en-GB" sz="3200" spc="-1" strike="noStrike">
                <a:solidFill>
                  <a:srgbClr val="ffffff"/>
                </a:solidFill>
                <a:latin typeface="Arial"/>
              </a:rPr>
              <a:t>bcm/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1" name=""/>
          <p:cNvSpPr/>
          <p:nvPr/>
        </p:nvSpPr>
        <p:spPr>
          <a:xfrm rot="21112200">
            <a:off x="5108040" y="278748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ffff">
              <a:alpha val="50000"/>
            </a:srgbClr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2" name=""/>
          <p:cNvSpPr/>
          <p:nvPr/>
        </p:nvSpPr>
        <p:spPr>
          <a:xfrm>
            <a:off x="1795320" y="2374920"/>
            <a:ext cx="3167280" cy="1639800"/>
          </a:xfrm>
          <a:custGeom>
            <a:avLst/>
            <a:gdLst/>
            <a:ahLst/>
            <a:rect l="l" t="t" r="r" b="b"/>
            <a:pathLst>
              <a:path w="1995" h="1033">
                <a:moveTo>
                  <a:pt x="1995" y="372"/>
                </a:moveTo>
                <a:lnTo>
                  <a:pt x="1700" y="260"/>
                </a:lnTo>
                <a:lnTo>
                  <a:pt x="815" y="127"/>
                </a:lnTo>
                <a:lnTo>
                  <a:pt x="506" y="0"/>
                </a:lnTo>
                <a:lnTo>
                  <a:pt x="0" y="28"/>
                </a:lnTo>
                <a:lnTo>
                  <a:pt x="98" y="218"/>
                </a:lnTo>
                <a:lnTo>
                  <a:pt x="49" y="365"/>
                </a:lnTo>
                <a:lnTo>
                  <a:pt x="126" y="506"/>
                </a:lnTo>
                <a:lnTo>
                  <a:pt x="274" y="597"/>
                </a:lnTo>
                <a:lnTo>
                  <a:pt x="239" y="780"/>
                </a:lnTo>
                <a:lnTo>
                  <a:pt x="288" y="892"/>
                </a:lnTo>
                <a:lnTo>
                  <a:pt x="499" y="1033"/>
                </a:lnTo>
              </a:path>
            </a:pathLst>
          </a:custGeom>
          <a:noFill/>
          <a:ln w="5724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3" name=""/>
          <p:cNvSpPr/>
          <p:nvPr/>
        </p:nvSpPr>
        <p:spPr>
          <a:xfrm rot="15288600">
            <a:off x="2050560" y="348408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ffff">
              <a:alpha val="50000"/>
            </a:srgbClr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2074E-CDD1-4FC4-9E68-D93667D6850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10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10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9144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6600"/>
                </a:solidFill>
                <a:latin typeface="Times New Roman"/>
              </a:rPr>
              <a:t>Challenges Ahead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80010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ahoma"/>
              </a:rPr>
              <a:t>Economic viability of the Ring demonstr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ahoma"/>
              </a:rPr>
              <a:t>Indirect environmental, health, security of supply, diversification benefits not quant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ahoma"/>
              </a:rPr>
              <a:t>However, major political and commercial ri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Could jeopardize/delay construction of Gas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Could potentially increase costs of construction as investors require higher retu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336699"/>
                </a:solidFill>
                <a:latin typeface="Tahoma"/>
              </a:rPr>
              <a:t>The overall economic, social and environmental benefits of the Gas Ring                 justify public/grant financing in order to attract the required private fin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6" name=""/>
          <p:cNvSpPr/>
          <p:nvPr/>
        </p:nvSpPr>
        <p:spPr>
          <a:xfrm>
            <a:off x="685800" y="4724280"/>
            <a:ext cx="7848720" cy="1524240"/>
          </a:xfrm>
          <a:prstGeom prst="rect">
            <a:avLst/>
          </a:prstGeom>
          <a:noFill/>
          <a:ln w="2232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78F24A-5B43-43C6-B560-D22ACF28B86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6600"/>
                </a:solidFill>
                <a:latin typeface="Times New Roman"/>
              </a:rPr>
              <a:t>Next Steps to Realize Gas Ring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Tahoma"/>
              </a:rPr>
              <a:t>Presentation of final SEE Gasification Study at Gas Forum in Maribor, November 200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Tahoma"/>
              </a:rPr>
              <a:t>Discussion on EU, IFI, donor financing to mitigate commercial/political risks of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Tahoma"/>
              </a:rPr>
              <a:t>SEE countries have to prioritize Ring invest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Tahoma"/>
              </a:rPr>
              <a:t>EC Ministerial in December 2007 – opportunity to discuss Ring at politic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9DA5DF-4081-4742-ABB5-927A887D8C7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/>
          </p:nvPr>
        </p:nvSpPr>
        <p:spPr>
          <a:xfrm>
            <a:off x="380520" y="1523880"/>
            <a:ext cx="85345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Electric Power Syst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Installed capacity of 45 GW needs significant investment/ upgra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22 GW of new/upgraded generation capacity required until 202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Environmental upgrades to meet EU standards (incl. SO</a:t>
            </a:r>
            <a:r>
              <a:rPr b="0" lang="en-US" sz="1400" spc="-1" strike="noStrike">
                <a:solidFill>
                  <a:srgbClr val="336699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 and CO</a:t>
            </a:r>
            <a:r>
              <a:rPr b="0" lang="en-US" sz="1400" spc="-1" strike="noStrike">
                <a:solidFill>
                  <a:srgbClr val="336699"/>
                </a:solidFill>
                <a:latin typeface="Tahoma"/>
              </a:rPr>
              <a:t>2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GIS Study shows ‘avoided investments’ of 4.5 GW if least cost regional approach for power generation development adopted</a:t>
            </a:r>
            <a:r>
              <a:rPr b="0" lang="en-US" sz="2000" spc="-1" strike="noStrike">
                <a:solidFill>
                  <a:srgbClr val="e5d093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Natural Gas System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Security of supply concerns (highly dependent on Russian g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Regional and national gas networks are underdevelop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Substantial investment requirements for power </a:t>
            </a: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and gas to close emerging energy supply and </a:t>
            </a: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demand g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6600"/>
                </a:solidFill>
                <a:latin typeface="Times New Roman"/>
              </a:rPr>
              <a:t>SEE Energy Challenge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09480" y="5334120"/>
            <a:ext cx="609840" cy="380880"/>
          </a:xfrm>
          <a:custGeom>
            <a:avLst/>
            <a:gdLst>
              <a:gd name="textAreaLeft" fmla="*/ 95040 w 609840"/>
              <a:gd name="textAreaRight" fmla="*/ 533880 w 60984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"/>
          <p:cNvSpPr/>
          <p:nvPr/>
        </p:nvSpPr>
        <p:spPr>
          <a:xfrm>
            <a:off x="457200" y="4952880"/>
            <a:ext cx="8305920" cy="1143000"/>
          </a:xfrm>
          <a:prstGeom prst="rect">
            <a:avLst/>
          </a:prstGeom>
          <a:noFill/>
          <a:ln w="2232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04AF19-FA39-418B-8A99-FB6B51A560A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6002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6600"/>
                </a:solidFill>
                <a:latin typeface="Times New Roman"/>
              </a:rPr>
              <a:t>The SEE Gasification Study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ahoma"/>
              </a:rPr>
              <a:t>Objective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Identify </a:t>
            </a: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viable</a:t>
            </a: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 regional, cross-border and country-specific gas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ahoma"/>
              </a:rPr>
              <a:t>Financing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World Bank and KfW financed/supported by 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Inception Report presented at Mini-Gas Forum in Vienna, October 200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Interim Report presented at Mini-Gas Forum in Vienna, May 200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Draft Final Report will be presented at Gas Forum in Maribor, November 200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"/>
          <p:cNvSpPr/>
          <p:nvPr/>
        </p:nvSpPr>
        <p:spPr>
          <a:xfrm>
            <a:off x="762120" y="5410080"/>
            <a:ext cx="609480" cy="381240"/>
          </a:xfrm>
          <a:custGeom>
            <a:avLst/>
            <a:gdLst>
              <a:gd name="textAreaLeft" fmla="*/ 95040 w 609480"/>
              <a:gd name="textAreaRight" fmla="*/ 533520 w 60948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"/>
          <p:cNvSpPr/>
          <p:nvPr/>
        </p:nvSpPr>
        <p:spPr>
          <a:xfrm>
            <a:off x="533520" y="5181480"/>
            <a:ext cx="7924680" cy="914400"/>
          </a:xfrm>
          <a:prstGeom prst="rect">
            <a:avLst/>
          </a:prstGeom>
          <a:noFill/>
          <a:ln w="2232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5395ED-1237-4874-8415-3E67F04DB5E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6600"/>
                </a:solidFill>
                <a:latin typeface="Times New Roman"/>
              </a:rPr>
              <a:t>Study Approach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ahoma"/>
              </a:rPr>
              <a:t>Includes ‘Nine’ Gas Mar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Albania, Bosnia and Herzegovina, Bulgaria, Croatia, Kosovo, Macedonia, Montenegro, Romania, Serb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ahoma"/>
              </a:rPr>
              <a:t>Key Tasks of Stu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Long term gas demand foreca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Analyze various piped gas sources (Russia,  Caspian and Middle E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Economics of new gas transmission pipe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Economics of LNG compared to piped g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Regulatory and institutional barri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111BAB-023C-47DB-8071-A4804F29013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76212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6600"/>
                </a:solidFill>
                <a:latin typeface="Times New Roman"/>
              </a:rPr>
              <a:t>Projected Gas Demand in SEE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7848720" cy="4929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A75DAB-1C37-4CE2-85EB-7A04859A221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7617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6600"/>
                </a:solidFill>
                <a:latin typeface="Times New Roman"/>
              </a:rPr>
              <a:t>Is Gas A Competitive Fuel for SEE?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ahoma"/>
              </a:rPr>
              <a:t>Economic netback calculations indicate th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Gas is competitive for residential, commercial, industrial custom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GIS shows viability of installing 2-3 GW of new CCG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ahoma"/>
              </a:rPr>
              <a:t>Benefits by ‘Internalizing’ Negative Externa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Environmental/climate change benefits are substantial (eg lower emissions of CCGT pla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Health benefits (eg indoor pollution decreases by households switching to ga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Other benefits (diversification of energy sources, security of suppl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F249B5-7CAD-4543-81C5-30CC33E8F6D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6600"/>
                </a:solidFill>
                <a:latin typeface="Times New Roman"/>
              </a:rPr>
              <a:t>Current Gas Situation in SEE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ahoma"/>
              </a:rPr>
              <a:t>Partial Gas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Croatia, Romania most extensiv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Limited or no gas network in Bosnia and Herzegovina, Macedonia, Montenegro, Albania, Kosov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ahoma"/>
              </a:rPr>
              <a:t>Separate National System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Limited inter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No volume synergies and regional trading opportun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ahoma"/>
              </a:rPr>
              <a:t>Mostly Dependent on Russia G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Some domestic production - Croatia, Bulgaria, Roman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05511B-98EF-425D-A8BF-393A1D44334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3772080" y="4022640"/>
            <a:ext cx="1196640" cy="1416240"/>
          </a:xfrm>
          <a:custGeom>
            <a:avLst/>
            <a:gdLst/>
            <a:ahLst/>
            <a:rect l="l" t="t" r="r" b="b"/>
            <a:pathLst>
              <a:path w="754" h="892">
                <a:moveTo>
                  <a:pt x="5" y="514"/>
                </a:moveTo>
                <a:lnTo>
                  <a:pt x="5" y="514"/>
                </a:lnTo>
                <a:lnTo>
                  <a:pt x="42" y="494"/>
                </a:lnTo>
                <a:lnTo>
                  <a:pt x="54" y="480"/>
                </a:lnTo>
                <a:lnTo>
                  <a:pt x="55" y="470"/>
                </a:lnTo>
                <a:lnTo>
                  <a:pt x="49" y="434"/>
                </a:lnTo>
                <a:lnTo>
                  <a:pt x="35" y="433"/>
                </a:lnTo>
                <a:lnTo>
                  <a:pt x="18" y="405"/>
                </a:lnTo>
                <a:lnTo>
                  <a:pt x="6" y="380"/>
                </a:lnTo>
                <a:lnTo>
                  <a:pt x="16" y="305"/>
                </a:lnTo>
                <a:lnTo>
                  <a:pt x="27" y="291"/>
                </a:lnTo>
                <a:lnTo>
                  <a:pt x="34" y="282"/>
                </a:lnTo>
                <a:lnTo>
                  <a:pt x="44" y="278"/>
                </a:lnTo>
                <a:lnTo>
                  <a:pt x="55" y="271"/>
                </a:lnTo>
                <a:lnTo>
                  <a:pt x="80" y="264"/>
                </a:lnTo>
                <a:lnTo>
                  <a:pt x="82" y="249"/>
                </a:lnTo>
                <a:lnTo>
                  <a:pt x="85" y="224"/>
                </a:lnTo>
                <a:lnTo>
                  <a:pt x="76" y="213"/>
                </a:lnTo>
                <a:lnTo>
                  <a:pt x="99" y="151"/>
                </a:lnTo>
                <a:lnTo>
                  <a:pt x="155" y="108"/>
                </a:lnTo>
                <a:lnTo>
                  <a:pt x="175" y="100"/>
                </a:lnTo>
                <a:lnTo>
                  <a:pt x="180" y="101"/>
                </a:lnTo>
                <a:lnTo>
                  <a:pt x="197" y="123"/>
                </a:lnTo>
                <a:lnTo>
                  <a:pt x="200" y="138"/>
                </a:lnTo>
                <a:lnTo>
                  <a:pt x="221" y="166"/>
                </a:lnTo>
                <a:lnTo>
                  <a:pt x="241" y="169"/>
                </a:lnTo>
                <a:lnTo>
                  <a:pt x="243" y="154"/>
                </a:lnTo>
                <a:lnTo>
                  <a:pt x="251" y="130"/>
                </a:lnTo>
                <a:lnTo>
                  <a:pt x="231" y="57"/>
                </a:lnTo>
                <a:lnTo>
                  <a:pt x="221" y="55"/>
                </a:lnTo>
                <a:lnTo>
                  <a:pt x="211" y="49"/>
                </a:lnTo>
                <a:lnTo>
                  <a:pt x="196" y="47"/>
                </a:lnTo>
                <a:lnTo>
                  <a:pt x="199" y="23"/>
                </a:lnTo>
                <a:lnTo>
                  <a:pt x="217" y="0"/>
                </a:lnTo>
                <a:lnTo>
                  <a:pt x="300" y="16"/>
                </a:lnTo>
                <a:lnTo>
                  <a:pt x="300" y="16"/>
                </a:lnTo>
                <a:lnTo>
                  <a:pt x="326" y="4"/>
                </a:lnTo>
                <a:lnTo>
                  <a:pt x="334" y="32"/>
                </a:lnTo>
                <a:lnTo>
                  <a:pt x="340" y="56"/>
                </a:lnTo>
                <a:lnTo>
                  <a:pt x="364" y="68"/>
                </a:lnTo>
                <a:lnTo>
                  <a:pt x="397" y="71"/>
                </a:lnTo>
                <a:lnTo>
                  <a:pt x="418" y="98"/>
                </a:lnTo>
                <a:lnTo>
                  <a:pt x="439" y="116"/>
                </a:lnTo>
                <a:lnTo>
                  <a:pt x="487" y="140"/>
                </a:lnTo>
                <a:lnTo>
                  <a:pt x="523" y="149"/>
                </a:lnTo>
                <a:lnTo>
                  <a:pt x="568" y="173"/>
                </a:lnTo>
                <a:lnTo>
                  <a:pt x="595" y="200"/>
                </a:lnTo>
                <a:lnTo>
                  <a:pt x="640" y="212"/>
                </a:lnTo>
                <a:lnTo>
                  <a:pt x="676" y="248"/>
                </a:lnTo>
                <a:lnTo>
                  <a:pt x="724" y="263"/>
                </a:lnTo>
                <a:lnTo>
                  <a:pt x="742" y="287"/>
                </a:lnTo>
                <a:lnTo>
                  <a:pt x="754" y="323"/>
                </a:lnTo>
                <a:lnTo>
                  <a:pt x="736" y="335"/>
                </a:lnTo>
                <a:lnTo>
                  <a:pt x="709" y="338"/>
                </a:lnTo>
                <a:lnTo>
                  <a:pt x="697" y="356"/>
                </a:lnTo>
                <a:lnTo>
                  <a:pt x="694" y="383"/>
                </a:lnTo>
                <a:lnTo>
                  <a:pt x="709" y="404"/>
                </a:lnTo>
                <a:lnTo>
                  <a:pt x="706" y="425"/>
                </a:lnTo>
                <a:lnTo>
                  <a:pt x="694" y="431"/>
                </a:lnTo>
                <a:lnTo>
                  <a:pt x="670" y="422"/>
                </a:lnTo>
                <a:lnTo>
                  <a:pt x="640" y="407"/>
                </a:lnTo>
                <a:lnTo>
                  <a:pt x="616" y="383"/>
                </a:lnTo>
                <a:lnTo>
                  <a:pt x="583" y="392"/>
                </a:lnTo>
                <a:lnTo>
                  <a:pt x="568" y="413"/>
                </a:lnTo>
                <a:lnTo>
                  <a:pt x="592" y="437"/>
                </a:lnTo>
                <a:lnTo>
                  <a:pt x="625" y="446"/>
                </a:lnTo>
                <a:lnTo>
                  <a:pt x="637" y="482"/>
                </a:lnTo>
                <a:lnTo>
                  <a:pt x="631" y="516"/>
                </a:lnTo>
                <a:lnTo>
                  <a:pt x="631" y="516"/>
                </a:lnTo>
                <a:lnTo>
                  <a:pt x="578" y="544"/>
                </a:lnTo>
                <a:lnTo>
                  <a:pt x="530" y="564"/>
                </a:lnTo>
                <a:lnTo>
                  <a:pt x="526" y="563"/>
                </a:lnTo>
                <a:lnTo>
                  <a:pt x="517" y="552"/>
                </a:lnTo>
                <a:lnTo>
                  <a:pt x="505" y="525"/>
                </a:lnTo>
                <a:lnTo>
                  <a:pt x="513" y="501"/>
                </a:lnTo>
                <a:lnTo>
                  <a:pt x="512" y="476"/>
                </a:lnTo>
                <a:lnTo>
                  <a:pt x="493" y="464"/>
                </a:lnTo>
                <a:lnTo>
                  <a:pt x="465" y="485"/>
                </a:lnTo>
                <a:lnTo>
                  <a:pt x="455" y="494"/>
                </a:lnTo>
                <a:lnTo>
                  <a:pt x="453" y="509"/>
                </a:lnTo>
                <a:lnTo>
                  <a:pt x="451" y="529"/>
                </a:lnTo>
                <a:lnTo>
                  <a:pt x="414" y="579"/>
                </a:lnTo>
                <a:lnTo>
                  <a:pt x="328" y="718"/>
                </a:lnTo>
                <a:lnTo>
                  <a:pt x="346" y="731"/>
                </a:lnTo>
                <a:lnTo>
                  <a:pt x="359" y="747"/>
                </a:lnTo>
                <a:lnTo>
                  <a:pt x="372" y="759"/>
                </a:lnTo>
                <a:lnTo>
                  <a:pt x="365" y="773"/>
                </a:lnTo>
                <a:lnTo>
                  <a:pt x="348" y="841"/>
                </a:lnTo>
                <a:lnTo>
                  <a:pt x="355" y="857"/>
                </a:lnTo>
                <a:lnTo>
                  <a:pt x="356" y="892"/>
                </a:lnTo>
                <a:lnTo>
                  <a:pt x="334" y="869"/>
                </a:lnTo>
                <a:lnTo>
                  <a:pt x="330" y="864"/>
                </a:lnTo>
                <a:lnTo>
                  <a:pt x="305" y="861"/>
                </a:lnTo>
                <a:lnTo>
                  <a:pt x="282" y="848"/>
                </a:lnTo>
                <a:lnTo>
                  <a:pt x="274" y="837"/>
                </a:lnTo>
                <a:lnTo>
                  <a:pt x="266" y="820"/>
                </a:lnTo>
                <a:lnTo>
                  <a:pt x="267" y="807"/>
                </a:lnTo>
                <a:lnTo>
                  <a:pt x="270" y="787"/>
                </a:lnTo>
                <a:lnTo>
                  <a:pt x="244" y="753"/>
                </a:lnTo>
                <a:lnTo>
                  <a:pt x="235" y="742"/>
                </a:lnTo>
                <a:lnTo>
                  <a:pt x="222" y="731"/>
                </a:lnTo>
                <a:lnTo>
                  <a:pt x="204" y="713"/>
                </a:lnTo>
                <a:lnTo>
                  <a:pt x="169" y="670"/>
                </a:lnTo>
                <a:lnTo>
                  <a:pt x="155" y="668"/>
                </a:lnTo>
                <a:lnTo>
                  <a:pt x="146" y="667"/>
                </a:lnTo>
                <a:lnTo>
                  <a:pt x="78" y="613"/>
                </a:lnTo>
                <a:lnTo>
                  <a:pt x="66" y="622"/>
                </a:lnTo>
                <a:lnTo>
                  <a:pt x="53" y="610"/>
                </a:lnTo>
                <a:lnTo>
                  <a:pt x="41" y="583"/>
                </a:lnTo>
                <a:lnTo>
                  <a:pt x="56" y="585"/>
                </a:lnTo>
                <a:lnTo>
                  <a:pt x="69" y="597"/>
                </a:lnTo>
                <a:lnTo>
                  <a:pt x="103" y="601"/>
                </a:lnTo>
                <a:lnTo>
                  <a:pt x="104" y="591"/>
                </a:lnTo>
                <a:lnTo>
                  <a:pt x="92" y="575"/>
                </a:lnTo>
                <a:lnTo>
                  <a:pt x="23" y="576"/>
                </a:lnTo>
                <a:lnTo>
                  <a:pt x="23" y="576"/>
                </a:lnTo>
                <a:lnTo>
                  <a:pt x="23" y="576"/>
                </a:lnTo>
                <a:lnTo>
                  <a:pt x="9" y="564"/>
                </a:lnTo>
                <a:lnTo>
                  <a:pt x="0" y="553"/>
                </a:lnTo>
                <a:lnTo>
                  <a:pt x="2" y="538"/>
                </a:lnTo>
                <a:lnTo>
                  <a:pt x="5" y="514"/>
                </a:lnTo>
              </a:path>
            </a:pathLst>
          </a:custGeom>
          <a:solidFill>
            <a:srgbClr val="003300"/>
          </a:solidFill>
          <a:ln w="46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0" y="903240"/>
            <a:ext cx="9144000" cy="595476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>
            <a:off x="4745160" y="4041720"/>
            <a:ext cx="1162080" cy="1389240"/>
          </a:xfrm>
          <a:custGeom>
            <a:avLst/>
            <a:gdLst/>
            <a:ahLst/>
            <a:rect l="l" t="t" r="r" b="b"/>
            <a:pathLst>
              <a:path w="732" h="875">
                <a:moveTo>
                  <a:pt x="208" y="875"/>
                </a:moveTo>
                <a:lnTo>
                  <a:pt x="205" y="860"/>
                </a:lnTo>
                <a:lnTo>
                  <a:pt x="216" y="845"/>
                </a:lnTo>
                <a:lnTo>
                  <a:pt x="210" y="828"/>
                </a:lnTo>
                <a:lnTo>
                  <a:pt x="232" y="812"/>
                </a:lnTo>
                <a:lnTo>
                  <a:pt x="222" y="777"/>
                </a:lnTo>
                <a:lnTo>
                  <a:pt x="204" y="740"/>
                </a:lnTo>
                <a:lnTo>
                  <a:pt x="204" y="708"/>
                </a:lnTo>
                <a:lnTo>
                  <a:pt x="189" y="689"/>
                </a:lnTo>
                <a:lnTo>
                  <a:pt x="165" y="645"/>
                </a:lnTo>
                <a:lnTo>
                  <a:pt x="141" y="627"/>
                </a:lnTo>
                <a:lnTo>
                  <a:pt x="105" y="611"/>
                </a:lnTo>
                <a:lnTo>
                  <a:pt x="91" y="612"/>
                </a:lnTo>
                <a:lnTo>
                  <a:pt x="74" y="611"/>
                </a:lnTo>
                <a:lnTo>
                  <a:pt x="65" y="582"/>
                </a:lnTo>
                <a:lnTo>
                  <a:pt x="67" y="568"/>
                </a:lnTo>
                <a:lnTo>
                  <a:pt x="51" y="528"/>
                </a:lnTo>
                <a:lnTo>
                  <a:pt x="62" y="551"/>
                </a:lnTo>
                <a:lnTo>
                  <a:pt x="38" y="513"/>
                </a:lnTo>
                <a:lnTo>
                  <a:pt x="18" y="498"/>
                </a:lnTo>
                <a:lnTo>
                  <a:pt x="12" y="508"/>
                </a:lnTo>
                <a:lnTo>
                  <a:pt x="15" y="468"/>
                </a:lnTo>
                <a:lnTo>
                  <a:pt x="30" y="447"/>
                </a:lnTo>
                <a:lnTo>
                  <a:pt x="8" y="422"/>
                </a:lnTo>
                <a:lnTo>
                  <a:pt x="0" y="413"/>
                </a:lnTo>
                <a:lnTo>
                  <a:pt x="2" y="399"/>
                </a:lnTo>
                <a:lnTo>
                  <a:pt x="14" y="392"/>
                </a:lnTo>
                <a:lnTo>
                  <a:pt x="27" y="395"/>
                </a:lnTo>
                <a:lnTo>
                  <a:pt x="41" y="408"/>
                </a:lnTo>
                <a:lnTo>
                  <a:pt x="57" y="401"/>
                </a:lnTo>
                <a:lnTo>
                  <a:pt x="71" y="396"/>
                </a:lnTo>
                <a:lnTo>
                  <a:pt x="66" y="377"/>
                </a:lnTo>
                <a:lnTo>
                  <a:pt x="92" y="366"/>
                </a:lnTo>
                <a:lnTo>
                  <a:pt x="104" y="369"/>
                </a:lnTo>
                <a:lnTo>
                  <a:pt x="120" y="348"/>
                </a:lnTo>
                <a:lnTo>
                  <a:pt x="132" y="322"/>
                </a:lnTo>
                <a:lnTo>
                  <a:pt x="166" y="304"/>
                </a:lnTo>
                <a:lnTo>
                  <a:pt x="171" y="277"/>
                </a:lnTo>
                <a:lnTo>
                  <a:pt x="142" y="258"/>
                </a:lnTo>
                <a:lnTo>
                  <a:pt x="162" y="240"/>
                </a:lnTo>
                <a:lnTo>
                  <a:pt x="190" y="235"/>
                </a:lnTo>
                <a:lnTo>
                  <a:pt x="214" y="241"/>
                </a:lnTo>
                <a:lnTo>
                  <a:pt x="223" y="216"/>
                </a:lnTo>
                <a:lnTo>
                  <a:pt x="240" y="198"/>
                </a:lnTo>
                <a:lnTo>
                  <a:pt x="237" y="106"/>
                </a:lnTo>
                <a:lnTo>
                  <a:pt x="208" y="90"/>
                </a:lnTo>
                <a:lnTo>
                  <a:pt x="226" y="58"/>
                </a:lnTo>
                <a:lnTo>
                  <a:pt x="264" y="45"/>
                </a:lnTo>
                <a:lnTo>
                  <a:pt x="280" y="15"/>
                </a:lnTo>
                <a:lnTo>
                  <a:pt x="310" y="0"/>
                </a:lnTo>
                <a:lnTo>
                  <a:pt x="330" y="9"/>
                </a:lnTo>
                <a:lnTo>
                  <a:pt x="343" y="28"/>
                </a:lnTo>
                <a:lnTo>
                  <a:pt x="333" y="51"/>
                </a:lnTo>
                <a:lnTo>
                  <a:pt x="334" y="70"/>
                </a:lnTo>
                <a:lnTo>
                  <a:pt x="360" y="108"/>
                </a:lnTo>
                <a:lnTo>
                  <a:pt x="406" y="135"/>
                </a:lnTo>
                <a:lnTo>
                  <a:pt x="432" y="127"/>
                </a:lnTo>
                <a:lnTo>
                  <a:pt x="450" y="136"/>
                </a:lnTo>
                <a:lnTo>
                  <a:pt x="466" y="184"/>
                </a:lnTo>
                <a:lnTo>
                  <a:pt x="499" y="171"/>
                </a:lnTo>
                <a:lnTo>
                  <a:pt x="510" y="193"/>
                </a:lnTo>
                <a:lnTo>
                  <a:pt x="516" y="208"/>
                </a:lnTo>
                <a:lnTo>
                  <a:pt x="523" y="240"/>
                </a:lnTo>
                <a:lnTo>
                  <a:pt x="538" y="264"/>
                </a:lnTo>
                <a:lnTo>
                  <a:pt x="583" y="279"/>
                </a:lnTo>
                <a:lnTo>
                  <a:pt x="603" y="261"/>
                </a:lnTo>
                <a:lnTo>
                  <a:pt x="630" y="274"/>
                </a:lnTo>
                <a:lnTo>
                  <a:pt x="613" y="327"/>
                </a:lnTo>
                <a:lnTo>
                  <a:pt x="624" y="346"/>
                </a:lnTo>
                <a:lnTo>
                  <a:pt x="648" y="337"/>
                </a:lnTo>
                <a:lnTo>
                  <a:pt x="672" y="342"/>
                </a:lnTo>
                <a:lnTo>
                  <a:pt x="687" y="382"/>
                </a:lnTo>
                <a:lnTo>
                  <a:pt x="714" y="376"/>
                </a:lnTo>
                <a:lnTo>
                  <a:pt x="732" y="414"/>
                </a:lnTo>
                <a:lnTo>
                  <a:pt x="715" y="438"/>
                </a:lnTo>
                <a:lnTo>
                  <a:pt x="705" y="457"/>
                </a:lnTo>
                <a:lnTo>
                  <a:pt x="700" y="484"/>
                </a:lnTo>
                <a:lnTo>
                  <a:pt x="676" y="505"/>
                </a:lnTo>
                <a:lnTo>
                  <a:pt x="691" y="541"/>
                </a:lnTo>
                <a:lnTo>
                  <a:pt x="684" y="570"/>
                </a:lnTo>
                <a:lnTo>
                  <a:pt x="643" y="576"/>
                </a:lnTo>
                <a:lnTo>
                  <a:pt x="651" y="609"/>
                </a:lnTo>
                <a:lnTo>
                  <a:pt x="668" y="613"/>
                </a:lnTo>
                <a:lnTo>
                  <a:pt x="662" y="625"/>
                </a:lnTo>
                <a:lnTo>
                  <a:pt x="643" y="636"/>
                </a:lnTo>
                <a:lnTo>
                  <a:pt x="616" y="639"/>
                </a:lnTo>
                <a:lnTo>
                  <a:pt x="575" y="640"/>
                </a:lnTo>
                <a:lnTo>
                  <a:pt x="550" y="628"/>
                </a:lnTo>
                <a:lnTo>
                  <a:pt x="531" y="629"/>
                </a:lnTo>
                <a:lnTo>
                  <a:pt x="522" y="647"/>
                </a:lnTo>
                <a:lnTo>
                  <a:pt x="507" y="668"/>
                </a:lnTo>
                <a:lnTo>
                  <a:pt x="481" y="695"/>
                </a:lnTo>
                <a:lnTo>
                  <a:pt x="483" y="719"/>
                </a:lnTo>
                <a:lnTo>
                  <a:pt x="456" y="729"/>
                </a:lnTo>
                <a:lnTo>
                  <a:pt x="444" y="702"/>
                </a:lnTo>
                <a:lnTo>
                  <a:pt x="417" y="668"/>
                </a:lnTo>
                <a:lnTo>
                  <a:pt x="388" y="674"/>
                </a:lnTo>
                <a:lnTo>
                  <a:pt x="372" y="701"/>
                </a:lnTo>
                <a:lnTo>
                  <a:pt x="309" y="722"/>
                </a:lnTo>
                <a:lnTo>
                  <a:pt x="279" y="729"/>
                </a:lnTo>
                <a:lnTo>
                  <a:pt x="261" y="762"/>
                </a:lnTo>
                <a:lnTo>
                  <a:pt x="262" y="791"/>
                </a:lnTo>
                <a:lnTo>
                  <a:pt x="264" y="810"/>
                </a:lnTo>
                <a:lnTo>
                  <a:pt x="259" y="825"/>
                </a:lnTo>
                <a:lnTo>
                  <a:pt x="271" y="839"/>
                </a:lnTo>
                <a:lnTo>
                  <a:pt x="253" y="851"/>
                </a:lnTo>
                <a:lnTo>
                  <a:pt x="241" y="846"/>
                </a:lnTo>
                <a:lnTo>
                  <a:pt x="208" y="875"/>
                </a:lnTo>
                <a:close/>
              </a:path>
            </a:pathLst>
          </a:custGeom>
          <a:solidFill>
            <a:srgbClr val="009900">
              <a:alpha val="67000"/>
            </a:srgbClr>
          </a:solidFill>
          <a:ln w="324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1" name=""/>
          <p:cNvSpPr/>
          <p:nvPr/>
        </p:nvSpPr>
        <p:spPr>
          <a:xfrm>
            <a:off x="4284720" y="4743360"/>
            <a:ext cx="1092240" cy="2428920"/>
          </a:xfrm>
          <a:custGeom>
            <a:avLst/>
            <a:gdLst/>
            <a:ahLst/>
            <a:rect l="l" t="t" r="r" b="b"/>
            <a:pathLst>
              <a:path w="688" h="1530">
                <a:moveTo>
                  <a:pt x="104" y="492"/>
                </a:moveTo>
                <a:lnTo>
                  <a:pt x="114" y="483"/>
                </a:lnTo>
                <a:lnTo>
                  <a:pt x="118" y="445"/>
                </a:lnTo>
                <a:lnTo>
                  <a:pt x="111" y="429"/>
                </a:lnTo>
                <a:lnTo>
                  <a:pt x="89" y="417"/>
                </a:lnTo>
                <a:lnTo>
                  <a:pt x="66" y="405"/>
                </a:lnTo>
                <a:lnTo>
                  <a:pt x="56" y="403"/>
                </a:lnTo>
                <a:lnTo>
                  <a:pt x="34" y="402"/>
                </a:lnTo>
                <a:lnTo>
                  <a:pt x="22" y="378"/>
                </a:lnTo>
                <a:lnTo>
                  <a:pt x="30" y="354"/>
                </a:lnTo>
                <a:lnTo>
                  <a:pt x="30" y="326"/>
                </a:lnTo>
                <a:lnTo>
                  <a:pt x="40" y="302"/>
                </a:lnTo>
                <a:lnTo>
                  <a:pt x="37" y="279"/>
                </a:lnTo>
                <a:lnTo>
                  <a:pt x="24" y="268"/>
                </a:lnTo>
                <a:lnTo>
                  <a:pt x="4" y="248"/>
                </a:lnTo>
                <a:lnTo>
                  <a:pt x="28" y="216"/>
                </a:lnTo>
                <a:lnTo>
                  <a:pt x="46" y="177"/>
                </a:lnTo>
                <a:lnTo>
                  <a:pt x="52" y="150"/>
                </a:lnTo>
                <a:lnTo>
                  <a:pt x="85" y="122"/>
                </a:lnTo>
                <a:lnTo>
                  <a:pt x="106" y="74"/>
                </a:lnTo>
                <a:lnTo>
                  <a:pt x="130" y="56"/>
                </a:lnTo>
                <a:lnTo>
                  <a:pt x="132" y="36"/>
                </a:lnTo>
                <a:lnTo>
                  <a:pt x="142" y="29"/>
                </a:lnTo>
                <a:lnTo>
                  <a:pt x="162" y="0"/>
                </a:lnTo>
                <a:lnTo>
                  <a:pt x="173" y="5"/>
                </a:lnTo>
                <a:lnTo>
                  <a:pt x="175" y="29"/>
                </a:lnTo>
                <a:lnTo>
                  <a:pt x="167" y="52"/>
                </a:lnTo>
                <a:lnTo>
                  <a:pt x="179" y="78"/>
                </a:lnTo>
                <a:lnTo>
                  <a:pt x="187" y="89"/>
                </a:lnTo>
                <a:lnTo>
                  <a:pt x="211" y="93"/>
                </a:lnTo>
                <a:lnTo>
                  <a:pt x="246" y="81"/>
                </a:lnTo>
                <a:lnTo>
                  <a:pt x="276" y="77"/>
                </a:lnTo>
                <a:lnTo>
                  <a:pt x="295" y="53"/>
                </a:lnTo>
                <a:lnTo>
                  <a:pt x="309" y="66"/>
                </a:lnTo>
                <a:lnTo>
                  <a:pt x="326" y="72"/>
                </a:lnTo>
                <a:lnTo>
                  <a:pt x="345" y="108"/>
                </a:lnTo>
                <a:lnTo>
                  <a:pt x="349" y="154"/>
                </a:lnTo>
                <a:lnTo>
                  <a:pt x="363" y="164"/>
                </a:lnTo>
                <a:lnTo>
                  <a:pt x="400" y="169"/>
                </a:lnTo>
                <a:lnTo>
                  <a:pt x="410" y="170"/>
                </a:lnTo>
                <a:lnTo>
                  <a:pt x="442" y="193"/>
                </a:lnTo>
                <a:lnTo>
                  <a:pt x="464" y="211"/>
                </a:lnTo>
                <a:lnTo>
                  <a:pt x="468" y="220"/>
                </a:lnTo>
                <a:lnTo>
                  <a:pt x="491" y="301"/>
                </a:lnTo>
                <a:lnTo>
                  <a:pt x="500" y="346"/>
                </a:lnTo>
                <a:lnTo>
                  <a:pt x="499" y="360"/>
                </a:lnTo>
                <a:lnTo>
                  <a:pt x="493" y="369"/>
                </a:lnTo>
                <a:lnTo>
                  <a:pt x="496" y="384"/>
                </a:lnTo>
                <a:lnTo>
                  <a:pt x="486" y="401"/>
                </a:lnTo>
                <a:lnTo>
                  <a:pt x="489" y="438"/>
                </a:lnTo>
                <a:lnTo>
                  <a:pt x="472" y="462"/>
                </a:lnTo>
                <a:lnTo>
                  <a:pt x="478" y="491"/>
                </a:lnTo>
                <a:lnTo>
                  <a:pt x="472" y="524"/>
                </a:lnTo>
                <a:lnTo>
                  <a:pt x="486" y="536"/>
                </a:lnTo>
                <a:lnTo>
                  <a:pt x="481" y="554"/>
                </a:lnTo>
                <a:lnTo>
                  <a:pt x="456" y="567"/>
                </a:lnTo>
                <a:lnTo>
                  <a:pt x="447" y="588"/>
                </a:lnTo>
                <a:lnTo>
                  <a:pt x="456" y="605"/>
                </a:lnTo>
                <a:lnTo>
                  <a:pt x="471" y="627"/>
                </a:lnTo>
                <a:lnTo>
                  <a:pt x="492" y="642"/>
                </a:lnTo>
                <a:lnTo>
                  <a:pt x="483" y="663"/>
                </a:lnTo>
                <a:lnTo>
                  <a:pt x="468" y="683"/>
                </a:lnTo>
                <a:lnTo>
                  <a:pt x="471" y="719"/>
                </a:lnTo>
                <a:lnTo>
                  <a:pt x="490" y="762"/>
                </a:lnTo>
                <a:lnTo>
                  <a:pt x="502" y="785"/>
                </a:lnTo>
                <a:lnTo>
                  <a:pt x="499" y="806"/>
                </a:lnTo>
                <a:lnTo>
                  <a:pt x="538" y="816"/>
                </a:lnTo>
                <a:lnTo>
                  <a:pt x="555" y="881"/>
                </a:lnTo>
                <a:lnTo>
                  <a:pt x="564" y="909"/>
                </a:lnTo>
                <a:lnTo>
                  <a:pt x="586" y="908"/>
                </a:lnTo>
                <a:lnTo>
                  <a:pt x="595" y="902"/>
                </a:lnTo>
                <a:lnTo>
                  <a:pt x="610" y="893"/>
                </a:lnTo>
                <a:lnTo>
                  <a:pt x="634" y="896"/>
                </a:lnTo>
                <a:lnTo>
                  <a:pt x="648" y="897"/>
                </a:lnTo>
                <a:lnTo>
                  <a:pt x="659" y="910"/>
                </a:lnTo>
                <a:lnTo>
                  <a:pt x="663" y="945"/>
                </a:lnTo>
                <a:lnTo>
                  <a:pt x="654" y="963"/>
                </a:lnTo>
                <a:lnTo>
                  <a:pt x="655" y="987"/>
                </a:lnTo>
                <a:lnTo>
                  <a:pt x="678" y="998"/>
                </a:lnTo>
                <a:lnTo>
                  <a:pt x="688" y="1014"/>
                </a:lnTo>
                <a:lnTo>
                  <a:pt x="688" y="1052"/>
                </a:lnTo>
                <a:lnTo>
                  <a:pt x="672" y="1071"/>
                </a:lnTo>
                <a:lnTo>
                  <a:pt x="655" y="1095"/>
                </a:lnTo>
                <a:lnTo>
                  <a:pt x="646" y="1116"/>
                </a:lnTo>
                <a:lnTo>
                  <a:pt x="627" y="1109"/>
                </a:lnTo>
                <a:lnTo>
                  <a:pt x="603" y="1116"/>
                </a:lnTo>
                <a:lnTo>
                  <a:pt x="592" y="1145"/>
                </a:lnTo>
                <a:lnTo>
                  <a:pt x="577" y="1182"/>
                </a:lnTo>
                <a:lnTo>
                  <a:pt x="567" y="1190"/>
                </a:lnTo>
                <a:lnTo>
                  <a:pt x="560" y="1205"/>
                </a:lnTo>
                <a:lnTo>
                  <a:pt x="562" y="1229"/>
                </a:lnTo>
                <a:lnTo>
                  <a:pt x="550" y="1290"/>
                </a:lnTo>
                <a:lnTo>
                  <a:pt x="525" y="1297"/>
                </a:lnTo>
                <a:lnTo>
                  <a:pt x="523" y="1307"/>
                </a:lnTo>
                <a:lnTo>
                  <a:pt x="513" y="1311"/>
                </a:lnTo>
                <a:lnTo>
                  <a:pt x="499" y="1309"/>
                </a:lnTo>
                <a:lnTo>
                  <a:pt x="473" y="1315"/>
                </a:lnTo>
                <a:lnTo>
                  <a:pt x="465" y="1305"/>
                </a:lnTo>
                <a:lnTo>
                  <a:pt x="455" y="1304"/>
                </a:lnTo>
                <a:lnTo>
                  <a:pt x="449" y="1312"/>
                </a:lnTo>
                <a:lnTo>
                  <a:pt x="402" y="1345"/>
                </a:lnTo>
                <a:lnTo>
                  <a:pt x="417" y="1382"/>
                </a:lnTo>
                <a:lnTo>
                  <a:pt x="430" y="1397"/>
                </a:lnTo>
                <a:lnTo>
                  <a:pt x="441" y="1423"/>
                </a:lnTo>
                <a:lnTo>
                  <a:pt x="449" y="1434"/>
                </a:lnTo>
                <a:lnTo>
                  <a:pt x="437" y="1452"/>
                </a:lnTo>
                <a:lnTo>
                  <a:pt x="432" y="1456"/>
                </a:lnTo>
                <a:lnTo>
                  <a:pt x="408" y="1448"/>
                </a:lnTo>
                <a:lnTo>
                  <a:pt x="400" y="1447"/>
                </a:lnTo>
                <a:lnTo>
                  <a:pt x="407" y="1463"/>
                </a:lnTo>
                <a:lnTo>
                  <a:pt x="410" y="1477"/>
                </a:lnTo>
                <a:lnTo>
                  <a:pt x="375" y="1522"/>
                </a:lnTo>
                <a:lnTo>
                  <a:pt x="364" y="1530"/>
                </a:lnTo>
                <a:lnTo>
                  <a:pt x="350" y="1529"/>
                </a:lnTo>
                <a:lnTo>
                  <a:pt x="341" y="1517"/>
                </a:lnTo>
                <a:lnTo>
                  <a:pt x="328" y="1516"/>
                </a:lnTo>
                <a:lnTo>
                  <a:pt x="294" y="1508"/>
                </a:lnTo>
                <a:lnTo>
                  <a:pt x="285" y="1506"/>
                </a:lnTo>
                <a:lnTo>
                  <a:pt x="280" y="1506"/>
                </a:lnTo>
                <a:lnTo>
                  <a:pt x="275" y="1471"/>
                </a:lnTo>
                <a:lnTo>
                  <a:pt x="282" y="1413"/>
                </a:lnTo>
                <a:lnTo>
                  <a:pt x="252" y="1375"/>
                </a:lnTo>
                <a:lnTo>
                  <a:pt x="229" y="1324"/>
                </a:lnTo>
                <a:lnTo>
                  <a:pt x="220" y="1323"/>
                </a:lnTo>
                <a:lnTo>
                  <a:pt x="210" y="1322"/>
                </a:lnTo>
                <a:lnTo>
                  <a:pt x="183" y="1304"/>
                </a:lnTo>
                <a:lnTo>
                  <a:pt x="176" y="1293"/>
                </a:lnTo>
                <a:lnTo>
                  <a:pt x="129" y="1273"/>
                </a:lnTo>
                <a:lnTo>
                  <a:pt x="83" y="1253"/>
                </a:lnTo>
                <a:lnTo>
                  <a:pt x="61" y="1230"/>
                </a:lnTo>
                <a:lnTo>
                  <a:pt x="41" y="1203"/>
                </a:lnTo>
                <a:lnTo>
                  <a:pt x="0" y="1136"/>
                </a:lnTo>
                <a:lnTo>
                  <a:pt x="11" y="1127"/>
                </a:lnTo>
                <a:lnTo>
                  <a:pt x="16" y="1128"/>
                </a:lnTo>
                <a:lnTo>
                  <a:pt x="36" y="1155"/>
                </a:lnTo>
                <a:lnTo>
                  <a:pt x="45" y="1166"/>
                </a:lnTo>
                <a:lnTo>
                  <a:pt x="44" y="1175"/>
                </a:lnTo>
                <a:lnTo>
                  <a:pt x="57" y="1181"/>
                </a:lnTo>
                <a:lnTo>
                  <a:pt x="68" y="1178"/>
                </a:lnTo>
                <a:lnTo>
                  <a:pt x="79" y="1170"/>
                </a:lnTo>
                <a:lnTo>
                  <a:pt x="74" y="1130"/>
                </a:lnTo>
                <a:lnTo>
                  <a:pt x="68" y="1061"/>
                </a:lnTo>
                <a:lnTo>
                  <a:pt x="48" y="1058"/>
                </a:lnTo>
                <a:lnTo>
                  <a:pt x="43" y="1058"/>
                </a:lnTo>
                <a:lnTo>
                  <a:pt x="21" y="1041"/>
                </a:lnTo>
                <a:lnTo>
                  <a:pt x="4" y="1024"/>
                </a:lnTo>
                <a:lnTo>
                  <a:pt x="26" y="1002"/>
                </a:lnTo>
                <a:lnTo>
                  <a:pt x="39" y="936"/>
                </a:lnTo>
                <a:lnTo>
                  <a:pt x="42" y="912"/>
                </a:lnTo>
                <a:lnTo>
                  <a:pt x="63" y="900"/>
                </a:lnTo>
                <a:lnTo>
                  <a:pt x="68" y="900"/>
                </a:lnTo>
                <a:lnTo>
                  <a:pt x="89" y="889"/>
                </a:lnTo>
                <a:lnTo>
                  <a:pt x="92" y="869"/>
                </a:lnTo>
                <a:lnTo>
                  <a:pt x="83" y="854"/>
                </a:lnTo>
                <a:lnTo>
                  <a:pt x="61" y="836"/>
                </a:lnTo>
                <a:lnTo>
                  <a:pt x="52" y="835"/>
                </a:lnTo>
                <a:lnTo>
                  <a:pt x="64" y="812"/>
                </a:lnTo>
                <a:lnTo>
                  <a:pt x="85" y="718"/>
                </a:lnTo>
                <a:lnTo>
                  <a:pt x="87" y="698"/>
                </a:lnTo>
                <a:lnTo>
                  <a:pt x="79" y="693"/>
                </a:lnTo>
                <a:lnTo>
                  <a:pt x="70" y="682"/>
                </a:lnTo>
                <a:lnTo>
                  <a:pt x="64" y="691"/>
                </a:lnTo>
                <a:lnTo>
                  <a:pt x="52" y="632"/>
                </a:lnTo>
                <a:lnTo>
                  <a:pt x="86" y="553"/>
                </a:lnTo>
                <a:lnTo>
                  <a:pt x="106" y="550"/>
                </a:lnTo>
                <a:lnTo>
                  <a:pt x="108" y="532"/>
                </a:lnTo>
                <a:lnTo>
                  <a:pt x="110" y="517"/>
                </a:lnTo>
                <a:lnTo>
                  <a:pt x="104" y="492"/>
                </a:lnTo>
              </a:path>
            </a:pathLst>
          </a:custGeom>
          <a:solidFill>
            <a:srgbClr val="336600">
              <a:alpha val="67000"/>
            </a:srgbClr>
          </a:solidFill>
          <a:ln w="46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"/>
          <p:cNvSpPr/>
          <p:nvPr/>
        </p:nvSpPr>
        <p:spPr>
          <a:xfrm>
            <a:off x="3770280" y="4014720"/>
            <a:ext cx="1163520" cy="1395360"/>
          </a:xfrm>
          <a:custGeom>
            <a:avLst/>
            <a:gdLst/>
            <a:ahLst/>
            <a:rect l="l" t="t" r="r" b="b"/>
            <a:pathLst>
              <a:path w="733" h="879">
                <a:moveTo>
                  <a:pt x="0" y="511"/>
                </a:moveTo>
                <a:lnTo>
                  <a:pt x="0" y="511"/>
                </a:lnTo>
                <a:lnTo>
                  <a:pt x="25" y="497"/>
                </a:lnTo>
                <a:lnTo>
                  <a:pt x="45" y="497"/>
                </a:lnTo>
                <a:lnTo>
                  <a:pt x="40" y="480"/>
                </a:lnTo>
                <a:lnTo>
                  <a:pt x="50" y="467"/>
                </a:lnTo>
                <a:lnTo>
                  <a:pt x="44" y="431"/>
                </a:lnTo>
                <a:lnTo>
                  <a:pt x="28" y="420"/>
                </a:lnTo>
                <a:lnTo>
                  <a:pt x="13" y="402"/>
                </a:lnTo>
                <a:lnTo>
                  <a:pt x="3" y="377"/>
                </a:lnTo>
                <a:lnTo>
                  <a:pt x="15" y="347"/>
                </a:lnTo>
                <a:lnTo>
                  <a:pt x="11" y="302"/>
                </a:lnTo>
                <a:lnTo>
                  <a:pt x="19" y="287"/>
                </a:lnTo>
                <a:lnTo>
                  <a:pt x="29" y="279"/>
                </a:lnTo>
                <a:lnTo>
                  <a:pt x="39" y="275"/>
                </a:lnTo>
                <a:lnTo>
                  <a:pt x="50" y="268"/>
                </a:lnTo>
                <a:lnTo>
                  <a:pt x="75" y="261"/>
                </a:lnTo>
                <a:lnTo>
                  <a:pt x="77" y="246"/>
                </a:lnTo>
                <a:lnTo>
                  <a:pt x="80" y="221"/>
                </a:lnTo>
                <a:lnTo>
                  <a:pt x="79" y="203"/>
                </a:lnTo>
                <a:lnTo>
                  <a:pt x="102" y="153"/>
                </a:lnTo>
                <a:lnTo>
                  <a:pt x="108" y="134"/>
                </a:lnTo>
                <a:lnTo>
                  <a:pt x="150" y="114"/>
                </a:lnTo>
                <a:lnTo>
                  <a:pt x="156" y="96"/>
                </a:lnTo>
                <a:lnTo>
                  <a:pt x="175" y="98"/>
                </a:lnTo>
                <a:lnTo>
                  <a:pt x="192" y="120"/>
                </a:lnTo>
                <a:lnTo>
                  <a:pt x="195" y="135"/>
                </a:lnTo>
                <a:lnTo>
                  <a:pt x="215" y="153"/>
                </a:lnTo>
                <a:lnTo>
                  <a:pt x="227" y="139"/>
                </a:lnTo>
                <a:lnTo>
                  <a:pt x="246" y="127"/>
                </a:lnTo>
                <a:lnTo>
                  <a:pt x="226" y="54"/>
                </a:lnTo>
                <a:lnTo>
                  <a:pt x="216" y="52"/>
                </a:lnTo>
                <a:lnTo>
                  <a:pt x="206" y="46"/>
                </a:lnTo>
                <a:lnTo>
                  <a:pt x="207" y="29"/>
                </a:lnTo>
                <a:lnTo>
                  <a:pt x="194" y="20"/>
                </a:lnTo>
                <a:lnTo>
                  <a:pt x="217" y="0"/>
                </a:lnTo>
                <a:lnTo>
                  <a:pt x="244" y="30"/>
                </a:lnTo>
                <a:lnTo>
                  <a:pt x="271" y="15"/>
                </a:lnTo>
                <a:lnTo>
                  <a:pt x="283" y="29"/>
                </a:lnTo>
                <a:lnTo>
                  <a:pt x="295" y="47"/>
                </a:lnTo>
                <a:lnTo>
                  <a:pt x="319" y="55"/>
                </a:lnTo>
                <a:lnTo>
                  <a:pt x="343" y="79"/>
                </a:lnTo>
                <a:lnTo>
                  <a:pt x="361" y="79"/>
                </a:lnTo>
                <a:lnTo>
                  <a:pt x="377" y="109"/>
                </a:lnTo>
                <a:lnTo>
                  <a:pt x="403" y="129"/>
                </a:lnTo>
                <a:lnTo>
                  <a:pt x="405" y="155"/>
                </a:lnTo>
                <a:lnTo>
                  <a:pt x="433" y="167"/>
                </a:lnTo>
                <a:lnTo>
                  <a:pt x="447" y="195"/>
                </a:lnTo>
                <a:lnTo>
                  <a:pt x="479" y="203"/>
                </a:lnTo>
                <a:lnTo>
                  <a:pt x="489" y="195"/>
                </a:lnTo>
                <a:lnTo>
                  <a:pt x="498" y="216"/>
                </a:lnTo>
                <a:lnTo>
                  <a:pt x="520" y="237"/>
                </a:lnTo>
                <a:lnTo>
                  <a:pt x="538" y="233"/>
                </a:lnTo>
                <a:lnTo>
                  <a:pt x="555" y="236"/>
                </a:lnTo>
                <a:lnTo>
                  <a:pt x="570" y="225"/>
                </a:lnTo>
                <a:lnTo>
                  <a:pt x="576" y="242"/>
                </a:lnTo>
                <a:lnTo>
                  <a:pt x="627" y="270"/>
                </a:lnTo>
                <a:lnTo>
                  <a:pt x="633" y="290"/>
                </a:lnTo>
                <a:lnTo>
                  <a:pt x="646" y="302"/>
                </a:lnTo>
                <a:lnTo>
                  <a:pt x="681" y="303"/>
                </a:lnTo>
                <a:lnTo>
                  <a:pt x="705" y="317"/>
                </a:lnTo>
                <a:lnTo>
                  <a:pt x="718" y="327"/>
                </a:lnTo>
                <a:lnTo>
                  <a:pt x="731" y="332"/>
                </a:lnTo>
                <a:lnTo>
                  <a:pt x="733" y="365"/>
                </a:lnTo>
                <a:lnTo>
                  <a:pt x="715" y="375"/>
                </a:lnTo>
                <a:lnTo>
                  <a:pt x="689" y="380"/>
                </a:lnTo>
                <a:lnTo>
                  <a:pt x="678" y="392"/>
                </a:lnTo>
                <a:lnTo>
                  <a:pt x="679" y="407"/>
                </a:lnTo>
                <a:lnTo>
                  <a:pt x="666" y="411"/>
                </a:lnTo>
                <a:lnTo>
                  <a:pt x="630" y="395"/>
                </a:lnTo>
                <a:lnTo>
                  <a:pt x="603" y="417"/>
                </a:lnTo>
                <a:lnTo>
                  <a:pt x="606" y="435"/>
                </a:lnTo>
                <a:lnTo>
                  <a:pt x="634" y="461"/>
                </a:lnTo>
                <a:lnTo>
                  <a:pt x="628" y="480"/>
                </a:lnTo>
                <a:lnTo>
                  <a:pt x="625" y="504"/>
                </a:lnTo>
                <a:lnTo>
                  <a:pt x="604" y="509"/>
                </a:lnTo>
                <a:lnTo>
                  <a:pt x="588" y="528"/>
                </a:lnTo>
                <a:lnTo>
                  <a:pt x="565" y="527"/>
                </a:lnTo>
                <a:lnTo>
                  <a:pt x="546" y="539"/>
                </a:lnTo>
                <a:lnTo>
                  <a:pt x="531" y="552"/>
                </a:lnTo>
                <a:lnTo>
                  <a:pt x="513" y="543"/>
                </a:lnTo>
                <a:lnTo>
                  <a:pt x="500" y="522"/>
                </a:lnTo>
                <a:lnTo>
                  <a:pt x="508" y="498"/>
                </a:lnTo>
                <a:lnTo>
                  <a:pt x="507" y="473"/>
                </a:lnTo>
                <a:lnTo>
                  <a:pt x="489" y="447"/>
                </a:lnTo>
                <a:lnTo>
                  <a:pt x="466" y="468"/>
                </a:lnTo>
                <a:lnTo>
                  <a:pt x="450" y="491"/>
                </a:lnTo>
                <a:lnTo>
                  <a:pt x="448" y="506"/>
                </a:lnTo>
                <a:lnTo>
                  <a:pt x="444" y="516"/>
                </a:lnTo>
                <a:lnTo>
                  <a:pt x="420" y="528"/>
                </a:lnTo>
                <a:lnTo>
                  <a:pt x="412" y="558"/>
                </a:lnTo>
                <a:lnTo>
                  <a:pt x="387" y="590"/>
                </a:lnTo>
                <a:lnTo>
                  <a:pt x="370" y="605"/>
                </a:lnTo>
                <a:lnTo>
                  <a:pt x="361" y="636"/>
                </a:lnTo>
                <a:lnTo>
                  <a:pt x="334" y="683"/>
                </a:lnTo>
                <a:lnTo>
                  <a:pt x="315" y="705"/>
                </a:lnTo>
                <a:lnTo>
                  <a:pt x="331" y="728"/>
                </a:lnTo>
                <a:lnTo>
                  <a:pt x="348" y="740"/>
                </a:lnTo>
                <a:lnTo>
                  <a:pt x="354" y="744"/>
                </a:lnTo>
                <a:lnTo>
                  <a:pt x="358" y="756"/>
                </a:lnTo>
                <a:lnTo>
                  <a:pt x="351" y="767"/>
                </a:lnTo>
                <a:lnTo>
                  <a:pt x="345" y="794"/>
                </a:lnTo>
                <a:lnTo>
                  <a:pt x="346" y="804"/>
                </a:lnTo>
                <a:lnTo>
                  <a:pt x="345" y="822"/>
                </a:lnTo>
                <a:lnTo>
                  <a:pt x="343" y="838"/>
                </a:lnTo>
                <a:lnTo>
                  <a:pt x="350" y="854"/>
                </a:lnTo>
                <a:lnTo>
                  <a:pt x="351" y="879"/>
                </a:lnTo>
                <a:lnTo>
                  <a:pt x="329" y="866"/>
                </a:lnTo>
                <a:lnTo>
                  <a:pt x="325" y="861"/>
                </a:lnTo>
                <a:lnTo>
                  <a:pt x="300" y="858"/>
                </a:lnTo>
                <a:lnTo>
                  <a:pt x="277" y="845"/>
                </a:lnTo>
                <a:lnTo>
                  <a:pt x="269" y="834"/>
                </a:lnTo>
                <a:lnTo>
                  <a:pt x="261" y="817"/>
                </a:lnTo>
                <a:lnTo>
                  <a:pt x="262" y="804"/>
                </a:lnTo>
                <a:lnTo>
                  <a:pt x="265" y="784"/>
                </a:lnTo>
                <a:lnTo>
                  <a:pt x="239" y="750"/>
                </a:lnTo>
                <a:lnTo>
                  <a:pt x="230" y="739"/>
                </a:lnTo>
                <a:lnTo>
                  <a:pt x="217" y="728"/>
                </a:lnTo>
                <a:lnTo>
                  <a:pt x="199" y="710"/>
                </a:lnTo>
                <a:lnTo>
                  <a:pt x="164" y="667"/>
                </a:lnTo>
                <a:lnTo>
                  <a:pt x="150" y="665"/>
                </a:lnTo>
                <a:lnTo>
                  <a:pt x="141" y="664"/>
                </a:lnTo>
                <a:lnTo>
                  <a:pt x="118" y="645"/>
                </a:lnTo>
                <a:lnTo>
                  <a:pt x="73" y="610"/>
                </a:lnTo>
                <a:lnTo>
                  <a:pt x="61" y="619"/>
                </a:lnTo>
                <a:lnTo>
                  <a:pt x="48" y="607"/>
                </a:lnTo>
                <a:lnTo>
                  <a:pt x="39" y="570"/>
                </a:lnTo>
                <a:lnTo>
                  <a:pt x="58" y="572"/>
                </a:lnTo>
                <a:lnTo>
                  <a:pt x="64" y="594"/>
                </a:lnTo>
                <a:lnTo>
                  <a:pt x="98" y="598"/>
                </a:lnTo>
                <a:lnTo>
                  <a:pt x="99" y="588"/>
                </a:lnTo>
                <a:lnTo>
                  <a:pt x="87" y="572"/>
                </a:lnTo>
                <a:lnTo>
                  <a:pt x="24" y="567"/>
                </a:lnTo>
                <a:lnTo>
                  <a:pt x="18" y="573"/>
                </a:lnTo>
                <a:lnTo>
                  <a:pt x="18" y="573"/>
                </a:lnTo>
                <a:lnTo>
                  <a:pt x="10" y="560"/>
                </a:lnTo>
                <a:lnTo>
                  <a:pt x="7" y="549"/>
                </a:lnTo>
                <a:lnTo>
                  <a:pt x="0" y="534"/>
                </a:lnTo>
                <a:lnTo>
                  <a:pt x="0" y="511"/>
                </a:lnTo>
                <a:lnTo>
                  <a:pt x="0" y="511"/>
                </a:lnTo>
                <a:close/>
              </a:path>
            </a:pathLst>
          </a:custGeom>
          <a:solidFill>
            <a:srgbClr val="003300">
              <a:alpha val="67000"/>
            </a:srgbClr>
          </a:solidFill>
          <a:ln w="46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4014720" y="1836720"/>
            <a:ext cx="2490840" cy="3187800"/>
          </a:xfrm>
          <a:custGeom>
            <a:avLst/>
            <a:gdLst/>
            <a:ahLst/>
            <a:rect l="l" t="t" r="r" b="b"/>
            <a:pathLst>
              <a:path w="1569" h="2008">
                <a:moveTo>
                  <a:pt x="377" y="1599"/>
                </a:moveTo>
                <a:lnTo>
                  <a:pt x="365" y="1605"/>
                </a:lnTo>
                <a:lnTo>
                  <a:pt x="350" y="1586"/>
                </a:lnTo>
                <a:lnTo>
                  <a:pt x="335" y="1560"/>
                </a:lnTo>
                <a:lnTo>
                  <a:pt x="323" y="1571"/>
                </a:lnTo>
                <a:lnTo>
                  <a:pt x="296" y="1560"/>
                </a:lnTo>
                <a:lnTo>
                  <a:pt x="281" y="1533"/>
                </a:lnTo>
                <a:lnTo>
                  <a:pt x="254" y="1524"/>
                </a:lnTo>
                <a:lnTo>
                  <a:pt x="253" y="1500"/>
                </a:lnTo>
                <a:lnTo>
                  <a:pt x="224" y="1476"/>
                </a:lnTo>
                <a:lnTo>
                  <a:pt x="213" y="1447"/>
                </a:lnTo>
                <a:lnTo>
                  <a:pt x="187" y="1445"/>
                </a:lnTo>
                <a:lnTo>
                  <a:pt x="173" y="1427"/>
                </a:lnTo>
                <a:lnTo>
                  <a:pt x="142" y="1419"/>
                </a:lnTo>
                <a:lnTo>
                  <a:pt x="130" y="1388"/>
                </a:lnTo>
                <a:lnTo>
                  <a:pt x="152" y="1386"/>
                </a:lnTo>
                <a:lnTo>
                  <a:pt x="160" y="1350"/>
                </a:lnTo>
                <a:lnTo>
                  <a:pt x="197" y="1347"/>
                </a:lnTo>
                <a:lnTo>
                  <a:pt x="220" y="1380"/>
                </a:lnTo>
                <a:lnTo>
                  <a:pt x="235" y="1358"/>
                </a:lnTo>
                <a:lnTo>
                  <a:pt x="253" y="1359"/>
                </a:lnTo>
                <a:lnTo>
                  <a:pt x="250" y="1328"/>
                </a:lnTo>
                <a:lnTo>
                  <a:pt x="266" y="1313"/>
                </a:lnTo>
                <a:lnTo>
                  <a:pt x="257" y="1293"/>
                </a:lnTo>
                <a:lnTo>
                  <a:pt x="250" y="1272"/>
                </a:lnTo>
                <a:lnTo>
                  <a:pt x="245" y="1267"/>
                </a:lnTo>
                <a:lnTo>
                  <a:pt x="247" y="1257"/>
                </a:lnTo>
                <a:lnTo>
                  <a:pt x="229" y="1245"/>
                </a:lnTo>
                <a:lnTo>
                  <a:pt x="202" y="1216"/>
                </a:lnTo>
                <a:lnTo>
                  <a:pt x="160" y="1162"/>
                </a:lnTo>
                <a:lnTo>
                  <a:pt x="155" y="1136"/>
                </a:lnTo>
                <a:lnTo>
                  <a:pt x="177" y="1139"/>
                </a:lnTo>
                <a:lnTo>
                  <a:pt x="200" y="1151"/>
                </a:lnTo>
                <a:lnTo>
                  <a:pt x="221" y="1155"/>
                </a:lnTo>
                <a:lnTo>
                  <a:pt x="240" y="1158"/>
                </a:lnTo>
                <a:lnTo>
                  <a:pt x="259" y="1159"/>
                </a:lnTo>
                <a:lnTo>
                  <a:pt x="277" y="1139"/>
                </a:lnTo>
                <a:lnTo>
                  <a:pt x="293" y="1128"/>
                </a:lnTo>
                <a:lnTo>
                  <a:pt x="295" y="1113"/>
                </a:lnTo>
                <a:lnTo>
                  <a:pt x="291" y="1102"/>
                </a:lnTo>
                <a:lnTo>
                  <a:pt x="245" y="1071"/>
                </a:lnTo>
                <a:lnTo>
                  <a:pt x="201" y="1027"/>
                </a:lnTo>
                <a:lnTo>
                  <a:pt x="153" y="1006"/>
                </a:lnTo>
                <a:lnTo>
                  <a:pt x="121" y="992"/>
                </a:lnTo>
                <a:lnTo>
                  <a:pt x="108" y="975"/>
                </a:lnTo>
                <a:lnTo>
                  <a:pt x="100" y="954"/>
                </a:lnTo>
                <a:lnTo>
                  <a:pt x="102" y="939"/>
                </a:lnTo>
                <a:lnTo>
                  <a:pt x="122" y="911"/>
                </a:lnTo>
                <a:lnTo>
                  <a:pt x="111" y="865"/>
                </a:lnTo>
                <a:lnTo>
                  <a:pt x="129" y="842"/>
                </a:lnTo>
                <a:lnTo>
                  <a:pt x="168" y="773"/>
                </a:lnTo>
                <a:lnTo>
                  <a:pt x="185" y="750"/>
                </a:lnTo>
                <a:lnTo>
                  <a:pt x="192" y="735"/>
                </a:lnTo>
                <a:lnTo>
                  <a:pt x="198" y="686"/>
                </a:lnTo>
                <a:lnTo>
                  <a:pt x="197" y="666"/>
                </a:lnTo>
                <a:lnTo>
                  <a:pt x="176" y="659"/>
                </a:lnTo>
                <a:lnTo>
                  <a:pt x="144" y="657"/>
                </a:lnTo>
                <a:lnTo>
                  <a:pt x="127" y="653"/>
                </a:lnTo>
                <a:lnTo>
                  <a:pt x="102" y="664"/>
                </a:lnTo>
                <a:lnTo>
                  <a:pt x="78" y="676"/>
                </a:lnTo>
                <a:lnTo>
                  <a:pt x="72" y="667"/>
                </a:lnTo>
                <a:lnTo>
                  <a:pt x="82" y="657"/>
                </a:lnTo>
                <a:lnTo>
                  <a:pt x="110" y="647"/>
                </a:lnTo>
                <a:lnTo>
                  <a:pt x="134" y="639"/>
                </a:lnTo>
                <a:lnTo>
                  <a:pt x="128" y="625"/>
                </a:lnTo>
                <a:lnTo>
                  <a:pt x="96" y="625"/>
                </a:lnTo>
                <a:lnTo>
                  <a:pt x="105" y="600"/>
                </a:lnTo>
                <a:lnTo>
                  <a:pt x="99" y="564"/>
                </a:lnTo>
                <a:lnTo>
                  <a:pt x="102" y="539"/>
                </a:lnTo>
                <a:lnTo>
                  <a:pt x="130" y="543"/>
                </a:lnTo>
                <a:lnTo>
                  <a:pt x="142" y="517"/>
                </a:lnTo>
                <a:lnTo>
                  <a:pt x="136" y="501"/>
                </a:lnTo>
                <a:lnTo>
                  <a:pt x="155" y="511"/>
                </a:lnTo>
                <a:lnTo>
                  <a:pt x="176" y="505"/>
                </a:lnTo>
                <a:lnTo>
                  <a:pt x="193" y="516"/>
                </a:lnTo>
                <a:lnTo>
                  <a:pt x="213" y="518"/>
                </a:lnTo>
                <a:lnTo>
                  <a:pt x="216" y="494"/>
                </a:lnTo>
                <a:lnTo>
                  <a:pt x="217" y="489"/>
                </a:lnTo>
                <a:lnTo>
                  <a:pt x="207" y="487"/>
                </a:lnTo>
                <a:lnTo>
                  <a:pt x="193" y="491"/>
                </a:lnTo>
                <a:lnTo>
                  <a:pt x="183" y="489"/>
                </a:lnTo>
                <a:lnTo>
                  <a:pt x="168" y="483"/>
                </a:lnTo>
                <a:lnTo>
                  <a:pt x="158" y="481"/>
                </a:lnTo>
                <a:lnTo>
                  <a:pt x="135" y="468"/>
                </a:lnTo>
                <a:lnTo>
                  <a:pt x="112" y="456"/>
                </a:lnTo>
                <a:lnTo>
                  <a:pt x="102" y="454"/>
                </a:lnTo>
                <a:lnTo>
                  <a:pt x="109" y="435"/>
                </a:lnTo>
                <a:lnTo>
                  <a:pt x="73" y="423"/>
                </a:lnTo>
                <a:lnTo>
                  <a:pt x="54" y="408"/>
                </a:lnTo>
                <a:lnTo>
                  <a:pt x="83" y="396"/>
                </a:lnTo>
                <a:lnTo>
                  <a:pt x="67" y="380"/>
                </a:lnTo>
                <a:lnTo>
                  <a:pt x="70" y="360"/>
                </a:lnTo>
                <a:lnTo>
                  <a:pt x="66" y="350"/>
                </a:lnTo>
                <a:lnTo>
                  <a:pt x="85" y="352"/>
                </a:lnTo>
                <a:lnTo>
                  <a:pt x="100" y="349"/>
                </a:lnTo>
                <a:lnTo>
                  <a:pt x="91" y="338"/>
                </a:lnTo>
                <a:lnTo>
                  <a:pt x="64" y="320"/>
                </a:lnTo>
                <a:lnTo>
                  <a:pt x="54" y="323"/>
                </a:lnTo>
                <a:lnTo>
                  <a:pt x="43" y="332"/>
                </a:lnTo>
                <a:lnTo>
                  <a:pt x="39" y="322"/>
                </a:lnTo>
                <a:lnTo>
                  <a:pt x="32" y="309"/>
                </a:lnTo>
                <a:lnTo>
                  <a:pt x="35" y="299"/>
                </a:lnTo>
                <a:lnTo>
                  <a:pt x="44" y="282"/>
                </a:lnTo>
                <a:lnTo>
                  <a:pt x="52" y="259"/>
                </a:lnTo>
                <a:lnTo>
                  <a:pt x="34" y="233"/>
                </a:lnTo>
                <a:lnTo>
                  <a:pt x="24" y="197"/>
                </a:lnTo>
                <a:lnTo>
                  <a:pt x="18" y="177"/>
                </a:lnTo>
                <a:lnTo>
                  <a:pt x="0" y="152"/>
                </a:lnTo>
                <a:lnTo>
                  <a:pt x="8" y="140"/>
                </a:lnTo>
                <a:lnTo>
                  <a:pt x="35" y="132"/>
                </a:lnTo>
                <a:lnTo>
                  <a:pt x="61" y="134"/>
                </a:lnTo>
                <a:lnTo>
                  <a:pt x="73" y="114"/>
                </a:lnTo>
                <a:lnTo>
                  <a:pt x="100" y="111"/>
                </a:lnTo>
                <a:lnTo>
                  <a:pt x="98" y="90"/>
                </a:lnTo>
                <a:lnTo>
                  <a:pt x="113" y="72"/>
                </a:lnTo>
                <a:lnTo>
                  <a:pt x="117" y="91"/>
                </a:lnTo>
                <a:lnTo>
                  <a:pt x="149" y="96"/>
                </a:lnTo>
                <a:lnTo>
                  <a:pt x="184" y="93"/>
                </a:lnTo>
                <a:lnTo>
                  <a:pt x="178" y="83"/>
                </a:lnTo>
                <a:lnTo>
                  <a:pt x="202" y="71"/>
                </a:lnTo>
                <a:lnTo>
                  <a:pt x="224" y="66"/>
                </a:lnTo>
                <a:lnTo>
                  <a:pt x="224" y="74"/>
                </a:lnTo>
                <a:lnTo>
                  <a:pt x="248" y="44"/>
                </a:lnTo>
                <a:lnTo>
                  <a:pt x="262" y="33"/>
                </a:lnTo>
                <a:lnTo>
                  <a:pt x="250" y="23"/>
                </a:lnTo>
                <a:lnTo>
                  <a:pt x="278" y="5"/>
                </a:lnTo>
                <a:lnTo>
                  <a:pt x="295" y="9"/>
                </a:lnTo>
                <a:lnTo>
                  <a:pt x="313" y="0"/>
                </a:lnTo>
                <a:lnTo>
                  <a:pt x="326" y="2"/>
                </a:lnTo>
                <a:lnTo>
                  <a:pt x="341" y="15"/>
                </a:lnTo>
                <a:lnTo>
                  <a:pt x="368" y="29"/>
                </a:lnTo>
                <a:lnTo>
                  <a:pt x="394" y="12"/>
                </a:lnTo>
                <a:lnTo>
                  <a:pt x="424" y="3"/>
                </a:lnTo>
                <a:lnTo>
                  <a:pt x="449" y="23"/>
                </a:lnTo>
                <a:lnTo>
                  <a:pt x="461" y="0"/>
                </a:lnTo>
                <a:lnTo>
                  <a:pt x="487" y="20"/>
                </a:lnTo>
                <a:lnTo>
                  <a:pt x="514" y="12"/>
                </a:lnTo>
                <a:lnTo>
                  <a:pt x="514" y="15"/>
                </a:lnTo>
                <a:lnTo>
                  <a:pt x="535" y="43"/>
                </a:lnTo>
                <a:lnTo>
                  <a:pt x="552" y="69"/>
                </a:lnTo>
                <a:lnTo>
                  <a:pt x="565" y="86"/>
                </a:lnTo>
                <a:lnTo>
                  <a:pt x="609" y="127"/>
                </a:lnTo>
                <a:lnTo>
                  <a:pt x="625" y="119"/>
                </a:lnTo>
                <a:lnTo>
                  <a:pt x="644" y="131"/>
                </a:lnTo>
                <a:lnTo>
                  <a:pt x="664" y="164"/>
                </a:lnTo>
                <a:lnTo>
                  <a:pt x="666" y="184"/>
                </a:lnTo>
                <a:lnTo>
                  <a:pt x="688" y="211"/>
                </a:lnTo>
                <a:lnTo>
                  <a:pt x="698" y="212"/>
                </a:lnTo>
                <a:lnTo>
                  <a:pt x="711" y="195"/>
                </a:lnTo>
                <a:lnTo>
                  <a:pt x="725" y="209"/>
                </a:lnTo>
                <a:lnTo>
                  <a:pt x="718" y="255"/>
                </a:lnTo>
                <a:lnTo>
                  <a:pt x="713" y="270"/>
                </a:lnTo>
                <a:lnTo>
                  <a:pt x="703" y="284"/>
                </a:lnTo>
                <a:lnTo>
                  <a:pt x="718" y="305"/>
                </a:lnTo>
                <a:lnTo>
                  <a:pt x="736" y="325"/>
                </a:lnTo>
                <a:lnTo>
                  <a:pt x="721" y="350"/>
                </a:lnTo>
                <a:lnTo>
                  <a:pt x="746" y="369"/>
                </a:lnTo>
                <a:lnTo>
                  <a:pt x="758" y="391"/>
                </a:lnTo>
                <a:lnTo>
                  <a:pt x="787" y="414"/>
                </a:lnTo>
                <a:lnTo>
                  <a:pt x="810" y="436"/>
                </a:lnTo>
                <a:lnTo>
                  <a:pt x="852" y="451"/>
                </a:lnTo>
                <a:lnTo>
                  <a:pt x="864" y="439"/>
                </a:lnTo>
                <a:lnTo>
                  <a:pt x="874" y="473"/>
                </a:lnTo>
                <a:lnTo>
                  <a:pt x="910" y="489"/>
                </a:lnTo>
                <a:lnTo>
                  <a:pt x="928" y="481"/>
                </a:lnTo>
                <a:lnTo>
                  <a:pt x="948" y="484"/>
                </a:lnTo>
                <a:lnTo>
                  <a:pt x="972" y="497"/>
                </a:lnTo>
                <a:lnTo>
                  <a:pt x="976" y="497"/>
                </a:lnTo>
                <a:lnTo>
                  <a:pt x="993" y="523"/>
                </a:lnTo>
                <a:lnTo>
                  <a:pt x="963" y="570"/>
                </a:lnTo>
                <a:lnTo>
                  <a:pt x="940" y="592"/>
                </a:lnTo>
                <a:lnTo>
                  <a:pt x="958" y="610"/>
                </a:lnTo>
                <a:lnTo>
                  <a:pt x="960" y="620"/>
                </a:lnTo>
                <a:lnTo>
                  <a:pt x="972" y="611"/>
                </a:lnTo>
                <a:lnTo>
                  <a:pt x="982" y="613"/>
                </a:lnTo>
                <a:lnTo>
                  <a:pt x="1005" y="626"/>
                </a:lnTo>
                <a:lnTo>
                  <a:pt x="1008" y="640"/>
                </a:lnTo>
                <a:lnTo>
                  <a:pt x="1007" y="650"/>
                </a:lnTo>
                <a:lnTo>
                  <a:pt x="991" y="658"/>
                </a:lnTo>
                <a:lnTo>
                  <a:pt x="981" y="662"/>
                </a:lnTo>
                <a:lnTo>
                  <a:pt x="976" y="661"/>
                </a:lnTo>
                <a:lnTo>
                  <a:pt x="956" y="659"/>
                </a:lnTo>
                <a:lnTo>
                  <a:pt x="941" y="667"/>
                </a:lnTo>
                <a:lnTo>
                  <a:pt x="938" y="692"/>
                </a:lnTo>
                <a:lnTo>
                  <a:pt x="950" y="708"/>
                </a:lnTo>
                <a:lnTo>
                  <a:pt x="974" y="712"/>
                </a:lnTo>
                <a:lnTo>
                  <a:pt x="984" y="713"/>
                </a:lnTo>
                <a:lnTo>
                  <a:pt x="999" y="715"/>
                </a:lnTo>
                <a:lnTo>
                  <a:pt x="1018" y="717"/>
                </a:lnTo>
                <a:lnTo>
                  <a:pt x="1023" y="718"/>
                </a:lnTo>
                <a:lnTo>
                  <a:pt x="1030" y="744"/>
                </a:lnTo>
                <a:lnTo>
                  <a:pt x="1037" y="765"/>
                </a:lnTo>
                <a:lnTo>
                  <a:pt x="1042" y="769"/>
                </a:lnTo>
                <a:lnTo>
                  <a:pt x="1077" y="773"/>
                </a:lnTo>
                <a:lnTo>
                  <a:pt x="1091" y="771"/>
                </a:lnTo>
                <a:lnTo>
                  <a:pt x="1141" y="777"/>
                </a:lnTo>
                <a:lnTo>
                  <a:pt x="1174" y="781"/>
                </a:lnTo>
                <a:lnTo>
                  <a:pt x="1186" y="807"/>
                </a:lnTo>
                <a:lnTo>
                  <a:pt x="1186" y="807"/>
                </a:lnTo>
                <a:lnTo>
                  <a:pt x="1194" y="823"/>
                </a:lnTo>
                <a:lnTo>
                  <a:pt x="1215" y="851"/>
                </a:lnTo>
                <a:lnTo>
                  <a:pt x="1229" y="863"/>
                </a:lnTo>
                <a:lnTo>
                  <a:pt x="1250" y="855"/>
                </a:lnTo>
                <a:lnTo>
                  <a:pt x="1272" y="797"/>
                </a:lnTo>
                <a:lnTo>
                  <a:pt x="1283" y="795"/>
                </a:lnTo>
                <a:lnTo>
                  <a:pt x="1290" y="775"/>
                </a:lnTo>
                <a:lnTo>
                  <a:pt x="1295" y="766"/>
                </a:lnTo>
                <a:lnTo>
                  <a:pt x="1316" y="762"/>
                </a:lnTo>
                <a:lnTo>
                  <a:pt x="1335" y="741"/>
                </a:lnTo>
                <a:lnTo>
                  <a:pt x="1347" y="739"/>
                </a:lnTo>
                <a:lnTo>
                  <a:pt x="1356" y="750"/>
                </a:lnTo>
                <a:lnTo>
                  <a:pt x="1364" y="750"/>
                </a:lnTo>
                <a:lnTo>
                  <a:pt x="1375" y="761"/>
                </a:lnTo>
                <a:lnTo>
                  <a:pt x="1394" y="773"/>
                </a:lnTo>
                <a:lnTo>
                  <a:pt x="1409" y="775"/>
                </a:lnTo>
                <a:lnTo>
                  <a:pt x="1419" y="776"/>
                </a:lnTo>
                <a:lnTo>
                  <a:pt x="1424" y="777"/>
                </a:lnTo>
                <a:lnTo>
                  <a:pt x="1441" y="789"/>
                </a:lnTo>
                <a:lnTo>
                  <a:pt x="1463" y="817"/>
                </a:lnTo>
                <a:lnTo>
                  <a:pt x="1453" y="820"/>
                </a:lnTo>
                <a:lnTo>
                  <a:pt x="1442" y="828"/>
                </a:lnTo>
                <a:lnTo>
                  <a:pt x="1437" y="828"/>
                </a:lnTo>
                <a:lnTo>
                  <a:pt x="1419" y="815"/>
                </a:lnTo>
                <a:lnTo>
                  <a:pt x="1414" y="815"/>
                </a:lnTo>
                <a:lnTo>
                  <a:pt x="1396" y="811"/>
                </a:lnTo>
                <a:lnTo>
                  <a:pt x="1382" y="825"/>
                </a:lnTo>
                <a:lnTo>
                  <a:pt x="1380" y="855"/>
                </a:lnTo>
                <a:lnTo>
                  <a:pt x="1362" y="853"/>
                </a:lnTo>
                <a:lnTo>
                  <a:pt x="1346" y="875"/>
                </a:lnTo>
                <a:lnTo>
                  <a:pt x="1366" y="907"/>
                </a:lnTo>
                <a:lnTo>
                  <a:pt x="1378" y="943"/>
                </a:lnTo>
                <a:lnTo>
                  <a:pt x="1408" y="957"/>
                </a:lnTo>
                <a:lnTo>
                  <a:pt x="1422" y="951"/>
                </a:lnTo>
                <a:lnTo>
                  <a:pt x="1427" y="951"/>
                </a:lnTo>
                <a:lnTo>
                  <a:pt x="1437" y="953"/>
                </a:lnTo>
                <a:lnTo>
                  <a:pt x="1445" y="964"/>
                </a:lnTo>
                <a:lnTo>
                  <a:pt x="1442" y="989"/>
                </a:lnTo>
                <a:lnTo>
                  <a:pt x="1442" y="989"/>
                </a:lnTo>
                <a:lnTo>
                  <a:pt x="1432" y="992"/>
                </a:lnTo>
                <a:lnTo>
                  <a:pt x="1419" y="1009"/>
                </a:lnTo>
                <a:lnTo>
                  <a:pt x="1409" y="1033"/>
                </a:lnTo>
                <a:lnTo>
                  <a:pt x="1415" y="1069"/>
                </a:lnTo>
                <a:lnTo>
                  <a:pt x="1392" y="1068"/>
                </a:lnTo>
                <a:lnTo>
                  <a:pt x="1383" y="1089"/>
                </a:lnTo>
                <a:lnTo>
                  <a:pt x="1354" y="1103"/>
                </a:lnTo>
                <a:lnTo>
                  <a:pt x="1335" y="1105"/>
                </a:lnTo>
                <a:lnTo>
                  <a:pt x="1335" y="1132"/>
                </a:lnTo>
                <a:lnTo>
                  <a:pt x="1335" y="1176"/>
                </a:lnTo>
                <a:lnTo>
                  <a:pt x="1321" y="1202"/>
                </a:lnTo>
                <a:lnTo>
                  <a:pt x="1333" y="1236"/>
                </a:lnTo>
                <a:lnTo>
                  <a:pt x="1339" y="1274"/>
                </a:lnTo>
                <a:lnTo>
                  <a:pt x="1369" y="1296"/>
                </a:lnTo>
                <a:lnTo>
                  <a:pt x="1370" y="1337"/>
                </a:lnTo>
                <a:lnTo>
                  <a:pt x="1388" y="1379"/>
                </a:lnTo>
                <a:lnTo>
                  <a:pt x="1426" y="1400"/>
                </a:lnTo>
                <a:lnTo>
                  <a:pt x="1405" y="1392"/>
                </a:lnTo>
                <a:lnTo>
                  <a:pt x="1437" y="1405"/>
                </a:lnTo>
                <a:lnTo>
                  <a:pt x="1443" y="1416"/>
                </a:lnTo>
                <a:lnTo>
                  <a:pt x="1458" y="1423"/>
                </a:lnTo>
                <a:lnTo>
                  <a:pt x="1481" y="1435"/>
                </a:lnTo>
                <a:lnTo>
                  <a:pt x="1506" y="1458"/>
                </a:lnTo>
                <a:lnTo>
                  <a:pt x="1517" y="1483"/>
                </a:lnTo>
                <a:lnTo>
                  <a:pt x="1533" y="1507"/>
                </a:lnTo>
                <a:lnTo>
                  <a:pt x="1568" y="1522"/>
                </a:lnTo>
                <a:lnTo>
                  <a:pt x="1569" y="1554"/>
                </a:lnTo>
                <a:lnTo>
                  <a:pt x="1559" y="1572"/>
                </a:lnTo>
                <a:lnTo>
                  <a:pt x="1547" y="1578"/>
                </a:lnTo>
                <a:lnTo>
                  <a:pt x="1538" y="1602"/>
                </a:lnTo>
                <a:lnTo>
                  <a:pt x="1519" y="1622"/>
                </a:lnTo>
                <a:lnTo>
                  <a:pt x="1504" y="1628"/>
                </a:lnTo>
                <a:lnTo>
                  <a:pt x="1493" y="1662"/>
                </a:lnTo>
                <a:lnTo>
                  <a:pt x="1477" y="1679"/>
                </a:lnTo>
                <a:lnTo>
                  <a:pt x="1456" y="1690"/>
                </a:lnTo>
                <a:lnTo>
                  <a:pt x="1433" y="1680"/>
                </a:lnTo>
                <a:lnTo>
                  <a:pt x="1415" y="1688"/>
                </a:lnTo>
                <a:lnTo>
                  <a:pt x="1402" y="1685"/>
                </a:lnTo>
                <a:lnTo>
                  <a:pt x="1388" y="1707"/>
                </a:lnTo>
                <a:lnTo>
                  <a:pt x="1367" y="1725"/>
                </a:lnTo>
                <a:lnTo>
                  <a:pt x="1388" y="1767"/>
                </a:lnTo>
                <a:lnTo>
                  <a:pt x="1378" y="1797"/>
                </a:lnTo>
                <a:lnTo>
                  <a:pt x="1376" y="1833"/>
                </a:lnTo>
                <a:lnTo>
                  <a:pt x="1364" y="1847"/>
                </a:lnTo>
                <a:lnTo>
                  <a:pt x="1390" y="1862"/>
                </a:lnTo>
                <a:lnTo>
                  <a:pt x="1406" y="1881"/>
                </a:lnTo>
                <a:lnTo>
                  <a:pt x="1420" y="1892"/>
                </a:lnTo>
                <a:lnTo>
                  <a:pt x="1411" y="1908"/>
                </a:lnTo>
                <a:lnTo>
                  <a:pt x="1406" y="1932"/>
                </a:lnTo>
                <a:lnTo>
                  <a:pt x="1388" y="1949"/>
                </a:lnTo>
                <a:lnTo>
                  <a:pt x="1378" y="1974"/>
                </a:lnTo>
                <a:lnTo>
                  <a:pt x="1363" y="1977"/>
                </a:lnTo>
                <a:lnTo>
                  <a:pt x="1351" y="1977"/>
                </a:lnTo>
                <a:lnTo>
                  <a:pt x="1337" y="1982"/>
                </a:lnTo>
                <a:lnTo>
                  <a:pt x="1307" y="1973"/>
                </a:lnTo>
                <a:lnTo>
                  <a:pt x="1274" y="1980"/>
                </a:lnTo>
                <a:lnTo>
                  <a:pt x="1229" y="1988"/>
                </a:lnTo>
                <a:lnTo>
                  <a:pt x="1180" y="1986"/>
                </a:lnTo>
                <a:lnTo>
                  <a:pt x="1155" y="2008"/>
                </a:lnTo>
                <a:lnTo>
                  <a:pt x="1133" y="2003"/>
                </a:lnTo>
                <a:lnTo>
                  <a:pt x="1116" y="1999"/>
                </a:lnTo>
                <a:lnTo>
                  <a:pt x="1107" y="1966"/>
                </a:lnTo>
                <a:lnTo>
                  <a:pt x="1149" y="1957"/>
                </a:lnTo>
                <a:lnTo>
                  <a:pt x="1155" y="1930"/>
                </a:lnTo>
                <a:lnTo>
                  <a:pt x="1140" y="1894"/>
                </a:lnTo>
                <a:lnTo>
                  <a:pt x="1164" y="1873"/>
                </a:lnTo>
                <a:lnTo>
                  <a:pt x="1170" y="1846"/>
                </a:lnTo>
                <a:lnTo>
                  <a:pt x="1179" y="1825"/>
                </a:lnTo>
                <a:lnTo>
                  <a:pt x="1197" y="1801"/>
                </a:lnTo>
                <a:lnTo>
                  <a:pt x="1176" y="1765"/>
                </a:lnTo>
                <a:lnTo>
                  <a:pt x="1152" y="1771"/>
                </a:lnTo>
                <a:lnTo>
                  <a:pt x="1134" y="1732"/>
                </a:lnTo>
                <a:lnTo>
                  <a:pt x="1116" y="1726"/>
                </a:lnTo>
                <a:lnTo>
                  <a:pt x="1089" y="1732"/>
                </a:lnTo>
                <a:lnTo>
                  <a:pt x="1080" y="1714"/>
                </a:lnTo>
                <a:lnTo>
                  <a:pt x="1092" y="1663"/>
                </a:lnTo>
                <a:lnTo>
                  <a:pt x="1065" y="1651"/>
                </a:lnTo>
                <a:lnTo>
                  <a:pt x="1044" y="1666"/>
                </a:lnTo>
                <a:lnTo>
                  <a:pt x="1008" y="1657"/>
                </a:lnTo>
                <a:lnTo>
                  <a:pt x="990" y="1633"/>
                </a:lnTo>
                <a:lnTo>
                  <a:pt x="984" y="1603"/>
                </a:lnTo>
                <a:lnTo>
                  <a:pt x="975" y="1579"/>
                </a:lnTo>
                <a:lnTo>
                  <a:pt x="960" y="1561"/>
                </a:lnTo>
                <a:lnTo>
                  <a:pt x="930" y="1573"/>
                </a:lnTo>
                <a:lnTo>
                  <a:pt x="912" y="1525"/>
                </a:lnTo>
                <a:lnTo>
                  <a:pt x="894" y="1513"/>
                </a:lnTo>
                <a:lnTo>
                  <a:pt x="870" y="1525"/>
                </a:lnTo>
                <a:lnTo>
                  <a:pt x="822" y="1495"/>
                </a:lnTo>
                <a:lnTo>
                  <a:pt x="798" y="1459"/>
                </a:lnTo>
                <a:lnTo>
                  <a:pt x="795" y="1444"/>
                </a:lnTo>
                <a:lnTo>
                  <a:pt x="810" y="1417"/>
                </a:lnTo>
                <a:lnTo>
                  <a:pt x="792" y="1399"/>
                </a:lnTo>
                <a:lnTo>
                  <a:pt x="771" y="1390"/>
                </a:lnTo>
                <a:lnTo>
                  <a:pt x="747" y="1405"/>
                </a:lnTo>
                <a:lnTo>
                  <a:pt x="726" y="1435"/>
                </a:lnTo>
                <a:lnTo>
                  <a:pt x="690" y="1447"/>
                </a:lnTo>
                <a:lnTo>
                  <a:pt x="672" y="1477"/>
                </a:lnTo>
                <a:lnTo>
                  <a:pt x="699" y="1498"/>
                </a:lnTo>
                <a:lnTo>
                  <a:pt x="702" y="1534"/>
                </a:lnTo>
                <a:lnTo>
                  <a:pt x="705" y="1585"/>
                </a:lnTo>
                <a:lnTo>
                  <a:pt x="690" y="1606"/>
                </a:lnTo>
                <a:lnTo>
                  <a:pt x="678" y="1633"/>
                </a:lnTo>
                <a:lnTo>
                  <a:pt x="651" y="1624"/>
                </a:lnTo>
                <a:lnTo>
                  <a:pt x="627" y="1630"/>
                </a:lnTo>
                <a:lnTo>
                  <a:pt x="609" y="1648"/>
                </a:lnTo>
                <a:lnTo>
                  <a:pt x="636" y="1669"/>
                </a:lnTo>
                <a:lnTo>
                  <a:pt x="619" y="1691"/>
                </a:lnTo>
                <a:lnTo>
                  <a:pt x="593" y="1704"/>
                </a:lnTo>
                <a:lnTo>
                  <a:pt x="560" y="1691"/>
                </a:lnTo>
                <a:lnTo>
                  <a:pt x="544" y="1677"/>
                </a:lnTo>
                <a:lnTo>
                  <a:pt x="521" y="1667"/>
                </a:lnTo>
                <a:lnTo>
                  <a:pt x="497" y="1667"/>
                </a:lnTo>
                <a:lnTo>
                  <a:pt x="482" y="1655"/>
                </a:lnTo>
                <a:lnTo>
                  <a:pt x="478" y="1640"/>
                </a:lnTo>
                <a:lnTo>
                  <a:pt x="430" y="1611"/>
                </a:lnTo>
                <a:lnTo>
                  <a:pt x="418" y="1589"/>
                </a:lnTo>
                <a:lnTo>
                  <a:pt x="397" y="1601"/>
                </a:lnTo>
                <a:lnTo>
                  <a:pt x="377" y="1599"/>
                </a:lnTo>
                <a:close/>
              </a:path>
            </a:pathLst>
          </a:custGeom>
          <a:solidFill>
            <a:srgbClr val="009900">
              <a:alpha val="67000"/>
            </a:srgbClr>
          </a:solidFill>
          <a:ln w="46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"/>
          <p:cNvSpPr/>
          <p:nvPr/>
        </p:nvSpPr>
        <p:spPr>
          <a:xfrm>
            <a:off x="2216160" y="2567160"/>
            <a:ext cx="2263680" cy="2252520"/>
          </a:xfrm>
          <a:custGeom>
            <a:avLst/>
            <a:gdLst/>
            <a:ahLst/>
            <a:rect l="l" t="t" r="r" b="b"/>
            <a:pathLst>
              <a:path w="1426" h="1419">
                <a:moveTo>
                  <a:pt x="678" y="1245"/>
                </a:moveTo>
                <a:lnTo>
                  <a:pt x="647" y="1216"/>
                </a:lnTo>
                <a:lnTo>
                  <a:pt x="703" y="1203"/>
                </a:lnTo>
                <a:lnTo>
                  <a:pt x="687" y="1171"/>
                </a:lnTo>
                <a:lnTo>
                  <a:pt x="678" y="1165"/>
                </a:lnTo>
                <a:lnTo>
                  <a:pt x="670" y="1154"/>
                </a:lnTo>
                <a:lnTo>
                  <a:pt x="657" y="1137"/>
                </a:lnTo>
                <a:lnTo>
                  <a:pt x="647" y="1115"/>
                </a:lnTo>
                <a:lnTo>
                  <a:pt x="605" y="1088"/>
                </a:lnTo>
                <a:lnTo>
                  <a:pt x="589" y="1062"/>
                </a:lnTo>
                <a:lnTo>
                  <a:pt x="562" y="1041"/>
                </a:lnTo>
                <a:lnTo>
                  <a:pt x="556" y="1017"/>
                </a:lnTo>
                <a:lnTo>
                  <a:pt x="551" y="998"/>
                </a:lnTo>
                <a:lnTo>
                  <a:pt x="545" y="963"/>
                </a:lnTo>
                <a:lnTo>
                  <a:pt x="548" y="933"/>
                </a:lnTo>
                <a:lnTo>
                  <a:pt x="530" y="927"/>
                </a:lnTo>
                <a:lnTo>
                  <a:pt x="500" y="921"/>
                </a:lnTo>
                <a:lnTo>
                  <a:pt x="487" y="912"/>
                </a:lnTo>
                <a:lnTo>
                  <a:pt x="475" y="902"/>
                </a:lnTo>
                <a:lnTo>
                  <a:pt x="461" y="884"/>
                </a:lnTo>
                <a:lnTo>
                  <a:pt x="440" y="869"/>
                </a:lnTo>
                <a:lnTo>
                  <a:pt x="430" y="851"/>
                </a:lnTo>
                <a:lnTo>
                  <a:pt x="424" y="837"/>
                </a:lnTo>
                <a:lnTo>
                  <a:pt x="407" y="816"/>
                </a:lnTo>
                <a:lnTo>
                  <a:pt x="364" y="777"/>
                </a:lnTo>
                <a:lnTo>
                  <a:pt x="349" y="746"/>
                </a:lnTo>
                <a:lnTo>
                  <a:pt x="341" y="720"/>
                </a:lnTo>
                <a:lnTo>
                  <a:pt x="319" y="702"/>
                </a:lnTo>
                <a:lnTo>
                  <a:pt x="305" y="690"/>
                </a:lnTo>
                <a:lnTo>
                  <a:pt x="271" y="642"/>
                </a:lnTo>
                <a:lnTo>
                  <a:pt x="262" y="631"/>
                </a:lnTo>
                <a:lnTo>
                  <a:pt x="238" y="628"/>
                </a:lnTo>
                <a:lnTo>
                  <a:pt x="228" y="627"/>
                </a:lnTo>
                <a:lnTo>
                  <a:pt x="202" y="599"/>
                </a:lnTo>
                <a:lnTo>
                  <a:pt x="194" y="582"/>
                </a:lnTo>
                <a:lnTo>
                  <a:pt x="186" y="566"/>
                </a:lnTo>
                <a:lnTo>
                  <a:pt x="173" y="545"/>
                </a:lnTo>
                <a:lnTo>
                  <a:pt x="165" y="539"/>
                </a:lnTo>
                <a:lnTo>
                  <a:pt x="161" y="515"/>
                </a:lnTo>
                <a:lnTo>
                  <a:pt x="157" y="485"/>
                </a:lnTo>
                <a:lnTo>
                  <a:pt x="167" y="456"/>
                </a:lnTo>
                <a:lnTo>
                  <a:pt x="129" y="383"/>
                </a:lnTo>
                <a:lnTo>
                  <a:pt x="121" y="372"/>
                </a:lnTo>
                <a:lnTo>
                  <a:pt x="107" y="360"/>
                </a:lnTo>
                <a:lnTo>
                  <a:pt x="97" y="342"/>
                </a:lnTo>
                <a:lnTo>
                  <a:pt x="118" y="329"/>
                </a:lnTo>
                <a:lnTo>
                  <a:pt x="100" y="297"/>
                </a:lnTo>
                <a:lnTo>
                  <a:pt x="68" y="276"/>
                </a:lnTo>
                <a:lnTo>
                  <a:pt x="68" y="254"/>
                </a:lnTo>
                <a:lnTo>
                  <a:pt x="43" y="251"/>
                </a:lnTo>
                <a:lnTo>
                  <a:pt x="16" y="257"/>
                </a:lnTo>
                <a:lnTo>
                  <a:pt x="0" y="222"/>
                </a:lnTo>
                <a:lnTo>
                  <a:pt x="25" y="206"/>
                </a:lnTo>
                <a:lnTo>
                  <a:pt x="11" y="183"/>
                </a:lnTo>
                <a:lnTo>
                  <a:pt x="4" y="150"/>
                </a:lnTo>
                <a:lnTo>
                  <a:pt x="25" y="122"/>
                </a:lnTo>
                <a:lnTo>
                  <a:pt x="14" y="86"/>
                </a:lnTo>
                <a:lnTo>
                  <a:pt x="23" y="65"/>
                </a:lnTo>
                <a:lnTo>
                  <a:pt x="22" y="41"/>
                </a:lnTo>
                <a:lnTo>
                  <a:pt x="35" y="20"/>
                </a:lnTo>
                <a:lnTo>
                  <a:pt x="55" y="12"/>
                </a:lnTo>
                <a:lnTo>
                  <a:pt x="88" y="17"/>
                </a:lnTo>
                <a:lnTo>
                  <a:pt x="109" y="17"/>
                </a:lnTo>
                <a:lnTo>
                  <a:pt x="128" y="53"/>
                </a:lnTo>
                <a:lnTo>
                  <a:pt x="131" y="74"/>
                </a:lnTo>
                <a:lnTo>
                  <a:pt x="167" y="104"/>
                </a:lnTo>
                <a:lnTo>
                  <a:pt x="178" y="113"/>
                </a:lnTo>
                <a:lnTo>
                  <a:pt x="202" y="123"/>
                </a:lnTo>
                <a:lnTo>
                  <a:pt x="227" y="123"/>
                </a:lnTo>
                <a:lnTo>
                  <a:pt x="220" y="93"/>
                </a:lnTo>
                <a:lnTo>
                  <a:pt x="244" y="101"/>
                </a:lnTo>
                <a:lnTo>
                  <a:pt x="253" y="68"/>
                </a:lnTo>
                <a:lnTo>
                  <a:pt x="278" y="51"/>
                </a:lnTo>
                <a:lnTo>
                  <a:pt x="295" y="18"/>
                </a:lnTo>
                <a:lnTo>
                  <a:pt x="305" y="17"/>
                </a:lnTo>
                <a:lnTo>
                  <a:pt x="316" y="12"/>
                </a:lnTo>
                <a:lnTo>
                  <a:pt x="343" y="35"/>
                </a:lnTo>
                <a:lnTo>
                  <a:pt x="364" y="33"/>
                </a:lnTo>
                <a:lnTo>
                  <a:pt x="385" y="39"/>
                </a:lnTo>
                <a:lnTo>
                  <a:pt x="412" y="38"/>
                </a:lnTo>
                <a:lnTo>
                  <a:pt x="424" y="14"/>
                </a:lnTo>
                <a:lnTo>
                  <a:pt x="440" y="0"/>
                </a:lnTo>
                <a:lnTo>
                  <a:pt x="460" y="26"/>
                </a:lnTo>
                <a:lnTo>
                  <a:pt x="481" y="29"/>
                </a:lnTo>
                <a:lnTo>
                  <a:pt x="517" y="60"/>
                </a:lnTo>
                <a:lnTo>
                  <a:pt x="557" y="66"/>
                </a:lnTo>
                <a:lnTo>
                  <a:pt x="565" y="44"/>
                </a:lnTo>
                <a:lnTo>
                  <a:pt x="589" y="72"/>
                </a:lnTo>
                <a:lnTo>
                  <a:pt x="622" y="71"/>
                </a:lnTo>
                <a:lnTo>
                  <a:pt x="637" y="83"/>
                </a:lnTo>
                <a:lnTo>
                  <a:pt x="668" y="87"/>
                </a:lnTo>
                <a:lnTo>
                  <a:pt x="706" y="75"/>
                </a:lnTo>
                <a:lnTo>
                  <a:pt x="727" y="89"/>
                </a:lnTo>
                <a:lnTo>
                  <a:pt x="746" y="105"/>
                </a:lnTo>
                <a:lnTo>
                  <a:pt x="773" y="117"/>
                </a:lnTo>
                <a:lnTo>
                  <a:pt x="799" y="105"/>
                </a:lnTo>
                <a:lnTo>
                  <a:pt x="809" y="90"/>
                </a:lnTo>
                <a:lnTo>
                  <a:pt x="826" y="75"/>
                </a:lnTo>
                <a:lnTo>
                  <a:pt x="852" y="75"/>
                </a:lnTo>
                <a:lnTo>
                  <a:pt x="856" y="98"/>
                </a:lnTo>
                <a:lnTo>
                  <a:pt x="890" y="108"/>
                </a:lnTo>
                <a:lnTo>
                  <a:pt x="916" y="98"/>
                </a:lnTo>
                <a:lnTo>
                  <a:pt x="914" y="78"/>
                </a:lnTo>
                <a:lnTo>
                  <a:pt x="932" y="80"/>
                </a:lnTo>
                <a:lnTo>
                  <a:pt x="950" y="98"/>
                </a:lnTo>
                <a:lnTo>
                  <a:pt x="979" y="95"/>
                </a:lnTo>
                <a:lnTo>
                  <a:pt x="1003" y="117"/>
                </a:lnTo>
                <a:lnTo>
                  <a:pt x="1025" y="125"/>
                </a:lnTo>
                <a:lnTo>
                  <a:pt x="1034" y="108"/>
                </a:lnTo>
                <a:lnTo>
                  <a:pt x="1075" y="114"/>
                </a:lnTo>
                <a:lnTo>
                  <a:pt x="1087" y="134"/>
                </a:lnTo>
                <a:lnTo>
                  <a:pt x="1096" y="153"/>
                </a:lnTo>
                <a:lnTo>
                  <a:pt x="1114" y="158"/>
                </a:lnTo>
                <a:lnTo>
                  <a:pt x="1112" y="177"/>
                </a:lnTo>
                <a:lnTo>
                  <a:pt x="1105" y="188"/>
                </a:lnTo>
                <a:lnTo>
                  <a:pt x="1123" y="212"/>
                </a:lnTo>
                <a:lnTo>
                  <a:pt x="1156" y="227"/>
                </a:lnTo>
                <a:lnTo>
                  <a:pt x="1219" y="227"/>
                </a:lnTo>
                <a:lnTo>
                  <a:pt x="1184" y="230"/>
                </a:lnTo>
                <a:lnTo>
                  <a:pt x="1241" y="209"/>
                </a:lnTo>
                <a:lnTo>
                  <a:pt x="1264" y="206"/>
                </a:lnTo>
                <a:lnTo>
                  <a:pt x="1285" y="204"/>
                </a:lnTo>
                <a:lnTo>
                  <a:pt x="1307" y="209"/>
                </a:lnTo>
                <a:lnTo>
                  <a:pt x="1322" y="218"/>
                </a:lnTo>
                <a:lnTo>
                  <a:pt x="1318" y="246"/>
                </a:lnTo>
                <a:lnTo>
                  <a:pt x="1319" y="268"/>
                </a:lnTo>
                <a:lnTo>
                  <a:pt x="1309" y="288"/>
                </a:lnTo>
                <a:lnTo>
                  <a:pt x="1256" y="372"/>
                </a:lnTo>
                <a:lnTo>
                  <a:pt x="1234" y="399"/>
                </a:lnTo>
                <a:lnTo>
                  <a:pt x="1244" y="446"/>
                </a:lnTo>
                <a:lnTo>
                  <a:pt x="1231" y="467"/>
                </a:lnTo>
                <a:lnTo>
                  <a:pt x="1226" y="489"/>
                </a:lnTo>
                <a:lnTo>
                  <a:pt x="1237" y="527"/>
                </a:lnTo>
                <a:lnTo>
                  <a:pt x="1274" y="546"/>
                </a:lnTo>
                <a:lnTo>
                  <a:pt x="1301" y="563"/>
                </a:lnTo>
                <a:lnTo>
                  <a:pt x="1331" y="575"/>
                </a:lnTo>
                <a:lnTo>
                  <a:pt x="1364" y="606"/>
                </a:lnTo>
                <a:lnTo>
                  <a:pt x="1379" y="626"/>
                </a:lnTo>
                <a:lnTo>
                  <a:pt x="1397" y="641"/>
                </a:lnTo>
                <a:lnTo>
                  <a:pt x="1418" y="653"/>
                </a:lnTo>
                <a:lnTo>
                  <a:pt x="1426" y="648"/>
                </a:lnTo>
                <a:lnTo>
                  <a:pt x="1392" y="679"/>
                </a:lnTo>
                <a:lnTo>
                  <a:pt x="1375" y="686"/>
                </a:lnTo>
                <a:lnTo>
                  <a:pt x="1373" y="689"/>
                </a:lnTo>
                <a:lnTo>
                  <a:pt x="1354" y="689"/>
                </a:lnTo>
                <a:lnTo>
                  <a:pt x="1328" y="677"/>
                </a:lnTo>
                <a:lnTo>
                  <a:pt x="1303" y="662"/>
                </a:lnTo>
                <a:lnTo>
                  <a:pt x="1280" y="663"/>
                </a:lnTo>
                <a:lnTo>
                  <a:pt x="1282" y="701"/>
                </a:lnTo>
                <a:lnTo>
                  <a:pt x="1301" y="731"/>
                </a:lnTo>
                <a:lnTo>
                  <a:pt x="1334" y="773"/>
                </a:lnTo>
                <a:lnTo>
                  <a:pt x="1366" y="791"/>
                </a:lnTo>
                <a:lnTo>
                  <a:pt x="1378" y="819"/>
                </a:lnTo>
                <a:lnTo>
                  <a:pt x="1388" y="848"/>
                </a:lnTo>
                <a:lnTo>
                  <a:pt x="1370" y="867"/>
                </a:lnTo>
                <a:lnTo>
                  <a:pt x="1371" y="888"/>
                </a:lnTo>
                <a:lnTo>
                  <a:pt x="1352" y="900"/>
                </a:lnTo>
                <a:lnTo>
                  <a:pt x="1334" y="879"/>
                </a:lnTo>
                <a:lnTo>
                  <a:pt x="1289" y="879"/>
                </a:lnTo>
                <a:lnTo>
                  <a:pt x="1279" y="918"/>
                </a:lnTo>
                <a:lnTo>
                  <a:pt x="1252" y="918"/>
                </a:lnTo>
                <a:lnTo>
                  <a:pt x="1226" y="926"/>
                </a:lnTo>
                <a:lnTo>
                  <a:pt x="1196" y="902"/>
                </a:lnTo>
                <a:lnTo>
                  <a:pt x="1177" y="917"/>
                </a:lnTo>
                <a:lnTo>
                  <a:pt x="1157" y="933"/>
                </a:lnTo>
                <a:lnTo>
                  <a:pt x="1172" y="944"/>
                </a:lnTo>
                <a:lnTo>
                  <a:pt x="1181" y="959"/>
                </a:lnTo>
                <a:lnTo>
                  <a:pt x="1199" y="969"/>
                </a:lnTo>
                <a:lnTo>
                  <a:pt x="1205" y="983"/>
                </a:lnTo>
                <a:lnTo>
                  <a:pt x="1214" y="1032"/>
                </a:lnTo>
                <a:lnTo>
                  <a:pt x="1204" y="1038"/>
                </a:lnTo>
                <a:lnTo>
                  <a:pt x="1195" y="1056"/>
                </a:lnTo>
                <a:lnTo>
                  <a:pt x="1179" y="1041"/>
                </a:lnTo>
                <a:lnTo>
                  <a:pt x="1176" y="1025"/>
                </a:lnTo>
                <a:lnTo>
                  <a:pt x="1163" y="1002"/>
                </a:lnTo>
                <a:lnTo>
                  <a:pt x="1127" y="1001"/>
                </a:lnTo>
                <a:lnTo>
                  <a:pt x="1121" y="1020"/>
                </a:lnTo>
                <a:lnTo>
                  <a:pt x="1091" y="1034"/>
                </a:lnTo>
                <a:lnTo>
                  <a:pt x="1079" y="1054"/>
                </a:lnTo>
                <a:lnTo>
                  <a:pt x="1054" y="1100"/>
                </a:lnTo>
                <a:lnTo>
                  <a:pt x="1051" y="1128"/>
                </a:lnTo>
                <a:lnTo>
                  <a:pt x="1057" y="1143"/>
                </a:lnTo>
                <a:lnTo>
                  <a:pt x="1060" y="1166"/>
                </a:lnTo>
                <a:lnTo>
                  <a:pt x="1034" y="1173"/>
                </a:lnTo>
                <a:lnTo>
                  <a:pt x="1024" y="1172"/>
                </a:lnTo>
                <a:lnTo>
                  <a:pt x="1010" y="1176"/>
                </a:lnTo>
                <a:lnTo>
                  <a:pt x="998" y="1187"/>
                </a:lnTo>
                <a:lnTo>
                  <a:pt x="982" y="1205"/>
                </a:lnTo>
                <a:lnTo>
                  <a:pt x="985" y="1256"/>
                </a:lnTo>
                <a:lnTo>
                  <a:pt x="974" y="1278"/>
                </a:lnTo>
                <a:lnTo>
                  <a:pt x="985" y="1307"/>
                </a:lnTo>
                <a:lnTo>
                  <a:pt x="992" y="1332"/>
                </a:lnTo>
                <a:lnTo>
                  <a:pt x="1016" y="1346"/>
                </a:lnTo>
                <a:lnTo>
                  <a:pt x="1021" y="1373"/>
                </a:lnTo>
                <a:lnTo>
                  <a:pt x="1015" y="1383"/>
                </a:lnTo>
                <a:lnTo>
                  <a:pt x="1018" y="1403"/>
                </a:lnTo>
                <a:lnTo>
                  <a:pt x="995" y="1404"/>
                </a:lnTo>
                <a:lnTo>
                  <a:pt x="984" y="1419"/>
                </a:lnTo>
                <a:lnTo>
                  <a:pt x="984" y="1419"/>
                </a:lnTo>
                <a:lnTo>
                  <a:pt x="962" y="1401"/>
                </a:lnTo>
                <a:lnTo>
                  <a:pt x="948" y="1389"/>
                </a:lnTo>
                <a:lnTo>
                  <a:pt x="938" y="1388"/>
                </a:lnTo>
                <a:lnTo>
                  <a:pt x="932" y="1397"/>
                </a:lnTo>
                <a:lnTo>
                  <a:pt x="912" y="1395"/>
                </a:lnTo>
                <a:lnTo>
                  <a:pt x="901" y="1373"/>
                </a:lnTo>
                <a:lnTo>
                  <a:pt x="880" y="1359"/>
                </a:lnTo>
                <a:lnTo>
                  <a:pt x="868" y="1343"/>
                </a:lnTo>
                <a:lnTo>
                  <a:pt x="827" y="1317"/>
                </a:lnTo>
                <a:lnTo>
                  <a:pt x="805" y="1287"/>
                </a:lnTo>
                <a:lnTo>
                  <a:pt x="781" y="1280"/>
                </a:lnTo>
                <a:lnTo>
                  <a:pt x="761" y="1257"/>
                </a:lnTo>
                <a:lnTo>
                  <a:pt x="748" y="1224"/>
                </a:lnTo>
                <a:lnTo>
                  <a:pt x="734" y="1237"/>
                </a:lnTo>
                <a:lnTo>
                  <a:pt x="709" y="1224"/>
                </a:lnTo>
                <a:lnTo>
                  <a:pt x="696" y="1222"/>
                </a:lnTo>
                <a:lnTo>
                  <a:pt x="694" y="1232"/>
                </a:lnTo>
                <a:lnTo>
                  <a:pt x="678" y="1245"/>
                </a:lnTo>
              </a:path>
            </a:pathLst>
          </a:custGeom>
          <a:solidFill>
            <a:srgbClr val="336600">
              <a:alpha val="67000"/>
            </a:srgbClr>
          </a:solidFill>
          <a:ln w="46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"/>
          <p:cNvSpPr/>
          <p:nvPr/>
        </p:nvSpPr>
        <p:spPr>
          <a:xfrm rot="420000">
            <a:off x="914040" y="1523520"/>
            <a:ext cx="3402000" cy="3297240"/>
          </a:xfrm>
          <a:custGeom>
            <a:avLst/>
            <a:gdLst/>
            <a:ahLst/>
            <a:rect l="l" t="t" r="r" b="b"/>
            <a:pathLst>
              <a:path w="441" h="421">
                <a:moveTo>
                  <a:pt x="329" y="372"/>
                </a:moveTo>
                <a:lnTo>
                  <a:pt x="325" y="372"/>
                </a:lnTo>
                <a:lnTo>
                  <a:pt x="322" y="369"/>
                </a:lnTo>
                <a:lnTo>
                  <a:pt x="320" y="367"/>
                </a:lnTo>
                <a:lnTo>
                  <a:pt x="320" y="366"/>
                </a:lnTo>
                <a:lnTo>
                  <a:pt x="319" y="364"/>
                </a:lnTo>
                <a:lnTo>
                  <a:pt x="309" y="356"/>
                </a:lnTo>
                <a:lnTo>
                  <a:pt x="302" y="352"/>
                </a:lnTo>
                <a:lnTo>
                  <a:pt x="299" y="352"/>
                </a:lnTo>
                <a:lnTo>
                  <a:pt x="295" y="351"/>
                </a:lnTo>
                <a:lnTo>
                  <a:pt x="292" y="349"/>
                </a:lnTo>
                <a:lnTo>
                  <a:pt x="287" y="346"/>
                </a:lnTo>
                <a:lnTo>
                  <a:pt x="285" y="342"/>
                </a:lnTo>
                <a:lnTo>
                  <a:pt x="275" y="332"/>
                </a:lnTo>
                <a:lnTo>
                  <a:pt x="270" y="329"/>
                </a:lnTo>
                <a:lnTo>
                  <a:pt x="269" y="329"/>
                </a:lnTo>
                <a:lnTo>
                  <a:pt x="267" y="329"/>
                </a:lnTo>
                <a:lnTo>
                  <a:pt x="265" y="329"/>
                </a:lnTo>
                <a:lnTo>
                  <a:pt x="262" y="329"/>
                </a:lnTo>
                <a:lnTo>
                  <a:pt x="259" y="329"/>
                </a:lnTo>
                <a:lnTo>
                  <a:pt x="252" y="327"/>
                </a:lnTo>
                <a:lnTo>
                  <a:pt x="250" y="326"/>
                </a:lnTo>
                <a:lnTo>
                  <a:pt x="240" y="321"/>
                </a:lnTo>
                <a:lnTo>
                  <a:pt x="237" y="319"/>
                </a:lnTo>
                <a:lnTo>
                  <a:pt x="235" y="317"/>
                </a:lnTo>
                <a:lnTo>
                  <a:pt x="229" y="317"/>
                </a:lnTo>
                <a:lnTo>
                  <a:pt x="225" y="319"/>
                </a:lnTo>
                <a:lnTo>
                  <a:pt x="217" y="322"/>
                </a:lnTo>
                <a:lnTo>
                  <a:pt x="215" y="324"/>
                </a:lnTo>
                <a:lnTo>
                  <a:pt x="210" y="327"/>
                </a:lnTo>
                <a:lnTo>
                  <a:pt x="205" y="327"/>
                </a:lnTo>
                <a:lnTo>
                  <a:pt x="202" y="324"/>
                </a:lnTo>
                <a:lnTo>
                  <a:pt x="195" y="319"/>
                </a:lnTo>
                <a:lnTo>
                  <a:pt x="195" y="312"/>
                </a:lnTo>
                <a:lnTo>
                  <a:pt x="199" y="311"/>
                </a:lnTo>
                <a:lnTo>
                  <a:pt x="195" y="306"/>
                </a:lnTo>
                <a:lnTo>
                  <a:pt x="184" y="299"/>
                </a:lnTo>
                <a:lnTo>
                  <a:pt x="175" y="297"/>
                </a:lnTo>
                <a:lnTo>
                  <a:pt x="169" y="291"/>
                </a:lnTo>
                <a:lnTo>
                  <a:pt x="164" y="287"/>
                </a:lnTo>
                <a:lnTo>
                  <a:pt x="162" y="286"/>
                </a:lnTo>
                <a:lnTo>
                  <a:pt x="160" y="284"/>
                </a:lnTo>
                <a:lnTo>
                  <a:pt x="157" y="284"/>
                </a:lnTo>
                <a:lnTo>
                  <a:pt x="152" y="279"/>
                </a:lnTo>
                <a:lnTo>
                  <a:pt x="142" y="269"/>
                </a:lnTo>
                <a:lnTo>
                  <a:pt x="138" y="264"/>
                </a:lnTo>
                <a:lnTo>
                  <a:pt x="132" y="255"/>
                </a:lnTo>
                <a:lnTo>
                  <a:pt x="128" y="249"/>
                </a:lnTo>
                <a:lnTo>
                  <a:pt x="130" y="247"/>
                </a:lnTo>
                <a:lnTo>
                  <a:pt x="135" y="249"/>
                </a:lnTo>
                <a:lnTo>
                  <a:pt x="142" y="249"/>
                </a:lnTo>
                <a:lnTo>
                  <a:pt x="140" y="244"/>
                </a:lnTo>
                <a:lnTo>
                  <a:pt x="143" y="244"/>
                </a:lnTo>
                <a:lnTo>
                  <a:pt x="145" y="245"/>
                </a:lnTo>
                <a:lnTo>
                  <a:pt x="148" y="247"/>
                </a:lnTo>
                <a:lnTo>
                  <a:pt x="152" y="247"/>
                </a:lnTo>
                <a:lnTo>
                  <a:pt x="159" y="247"/>
                </a:lnTo>
                <a:lnTo>
                  <a:pt x="157" y="245"/>
                </a:lnTo>
                <a:lnTo>
                  <a:pt x="155" y="245"/>
                </a:lnTo>
                <a:lnTo>
                  <a:pt x="153" y="245"/>
                </a:lnTo>
                <a:lnTo>
                  <a:pt x="138" y="237"/>
                </a:lnTo>
                <a:lnTo>
                  <a:pt x="132" y="230"/>
                </a:lnTo>
                <a:lnTo>
                  <a:pt x="128" y="227"/>
                </a:lnTo>
                <a:lnTo>
                  <a:pt x="125" y="222"/>
                </a:lnTo>
                <a:lnTo>
                  <a:pt x="118" y="217"/>
                </a:lnTo>
                <a:lnTo>
                  <a:pt x="117" y="215"/>
                </a:lnTo>
                <a:lnTo>
                  <a:pt x="115" y="214"/>
                </a:lnTo>
                <a:lnTo>
                  <a:pt x="112" y="209"/>
                </a:lnTo>
                <a:lnTo>
                  <a:pt x="108" y="204"/>
                </a:lnTo>
                <a:lnTo>
                  <a:pt x="108" y="202"/>
                </a:lnTo>
                <a:lnTo>
                  <a:pt x="107" y="192"/>
                </a:lnTo>
                <a:lnTo>
                  <a:pt x="107" y="187"/>
                </a:lnTo>
                <a:lnTo>
                  <a:pt x="107" y="184"/>
                </a:lnTo>
                <a:lnTo>
                  <a:pt x="108" y="180"/>
                </a:lnTo>
                <a:lnTo>
                  <a:pt x="108" y="175"/>
                </a:lnTo>
                <a:lnTo>
                  <a:pt x="100" y="160"/>
                </a:lnTo>
                <a:lnTo>
                  <a:pt x="98" y="159"/>
                </a:lnTo>
                <a:lnTo>
                  <a:pt x="95" y="159"/>
                </a:lnTo>
                <a:lnTo>
                  <a:pt x="93" y="157"/>
                </a:lnTo>
                <a:lnTo>
                  <a:pt x="88" y="154"/>
                </a:lnTo>
                <a:lnTo>
                  <a:pt x="82" y="147"/>
                </a:lnTo>
                <a:lnTo>
                  <a:pt x="73" y="140"/>
                </a:lnTo>
                <a:lnTo>
                  <a:pt x="70" y="140"/>
                </a:lnTo>
                <a:lnTo>
                  <a:pt x="62" y="137"/>
                </a:lnTo>
                <a:lnTo>
                  <a:pt x="58" y="142"/>
                </a:lnTo>
                <a:lnTo>
                  <a:pt x="57" y="150"/>
                </a:lnTo>
                <a:lnTo>
                  <a:pt x="57" y="154"/>
                </a:lnTo>
                <a:lnTo>
                  <a:pt x="57" y="157"/>
                </a:lnTo>
                <a:lnTo>
                  <a:pt x="55" y="160"/>
                </a:lnTo>
                <a:lnTo>
                  <a:pt x="55" y="162"/>
                </a:lnTo>
                <a:lnTo>
                  <a:pt x="52" y="167"/>
                </a:lnTo>
                <a:lnTo>
                  <a:pt x="50" y="170"/>
                </a:lnTo>
                <a:lnTo>
                  <a:pt x="52" y="177"/>
                </a:lnTo>
                <a:lnTo>
                  <a:pt x="50" y="179"/>
                </a:lnTo>
                <a:lnTo>
                  <a:pt x="47" y="180"/>
                </a:lnTo>
                <a:lnTo>
                  <a:pt x="40" y="187"/>
                </a:lnTo>
                <a:lnTo>
                  <a:pt x="38" y="192"/>
                </a:lnTo>
                <a:lnTo>
                  <a:pt x="38" y="195"/>
                </a:lnTo>
                <a:lnTo>
                  <a:pt x="40" y="195"/>
                </a:lnTo>
                <a:lnTo>
                  <a:pt x="33" y="200"/>
                </a:lnTo>
                <a:lnTo>
                  <a:pt x="27" y="192"/>
                </a:lnTo>
                <a:lnTo>
                  <a:pt x="28" y="190"/>
                </a:lnTo>
                <a:lnTo>
                  <a:pt x="22" y="179"/>
                </a:lnTo>
                <a:lnTo>
                  <a:pt x="15" y="172"/>
                </a:lnTo>
                <a:lnTo>
                  <a:pt x="8" y="160"/>
                </a:lnTo>
                <a:lnTo>
                  <a:pt x="8" y="150"/>
                </a:lnTo>
                <a:lnTo>
                  <a:pt x="7" y="145"/>
                </a:lnTo>
                <a:lnTo>
                  <a:pt x="2" y="135"/>
                </a:lnTo>
                <a:lnTo>
                  <a:pt x="0" y="124"/>
                </a:lnTo>
                <a:lnTo>
                  <a:pt x="3" y="125"/>
                </a:lnTo>
                <a:lnTo>
                  <a:pt x="7" y="127"/>
                </a:lnTo>
                <a:lnTo>
                  <a:pt x="10" y="129"/>
                </a:lnTo>
                <a:lnTo>
                  <a:pt x="13" y="130"/>
                </a:lnTo>
                <a:lnTo>
                  <a:pt x="15" y="130"/>
                </a:lnTo>
                <a:lnTo>
                  <a:pt x="30" y="129"/>
                </a:lnTo>
                <a:lnTo>
                  <a:pt x="33" y="127"/>
                </a:lnTo>
                <a:lnTo>
                  <a:pt x="35" y="127"/>
                </a:lnTo>
                <a:lnTo>
                  <a:pt x="47" y="125"/>
                </a:lnTo>
                <a:lnTo>
                  <a:pt x="65" y="122"/>
                </a:lnTo>
                <a:lnTo>
                  <a:pt x="67" y="122"/>
                </a:lnTo>
                <a:lnTo>
                  <a:pt x="73" y="115"/>
                </a:lnTo>
                <a:lnTo>
                  <a:pt x="75" y="109"/>
                </a:lnTo>
                <a:lnTo>
                  <a:pt x="78" y="102"/>
                </a:lnTo>
                <a:lnTo>
                  <a:pt x="80" y="102"/>
                </a:lnTo>
                <a:lnTo>
                  <a:pt x="80" y="105"/>
                </a:lnTo>
                <a:lnTo>
                  <a:pt x="82" y="109"/>
                </a:lnTo>
                <a:lnTo>
                  <a:pt x="90" y="117"/>
                </a:lnTo>
                <a:lnTo>
                  <a:pt x="98" y="122"/>
                </a:lnTo>
                <a:lnTo>
                  <a:pt x="100" y="122"/>
                </a:lnTo>
                <a:lnTo>
                  <a:pt x="103" y="120"/>
                </a:lnTo>
                <a:lnTo>
                  <a:pt x="108" y="119"/>
                </a:lnTo>
                <a:lnTo>
                  <a:pt x="117" y="120"/>
                </a:lnTo>
                <a:lnTo>
                  <a:pt x="123" y="125"/>
                </a:lnTo>
                <a:lnTo>
                  <a:pt x="132" y="120"/>
                </a:lnTo>
                <a:lnTo>
                  <a:pt x="133" y="112"/>
                </a:lnTo>
                <a:lnTo>
                  <a:pt x="132" y="107"/>
                </a:lnTo>
                <a:lnTo>
                  <a:pt x="132" y="102"/>
                </a:lnTo>
                <a:lnTo>
                  <a:pt x="135" y="100"/>
                </a:lnTo>
                <a:lnTo>
                  <a:pt x="135" y="94"/>
                </a:lnTo>
                <a:lnTo>
                  <a:pt x="130" y="95"/>
                </a:lnTo>
                <a:lnTo>
                  <a:pt x="130" y="92"/>
                </a:lnTo>
                <a:lnTo>
                  <a:pt x="132" y="89"/>
                </a:lnTo>
                <a:lnTo>
                  <a:pt x="133" y="89"/>
                </a:lnTo>
                <a:lnTo>
                  <a:pt x="145" y="80"/>
                </a:lnTo>
                <a:lnTo>
                  <a:pt x="153" y="79"/>
                </a:lnTo>
                <a:lnTo>
                  <a:pt x="155" y="79"/>
                </a:lnTo>
                <a:lnTo>
                  <a:pt x="157" y="80"/>
                </a:lnTo>
                <a:lnTo>
                  <a:pt x="159" y="79"/>
                </a:lnTo>
                <a:lnTo>
                  <a:pt x="160" y="67"/>
                </a:lnTo>
                <a:lnTo>
                  <a:pt x="159" y="55"/>
                </a:lnTo>
                <a:lnTo>
                  <a:pt x="155" y="53"/>
                </a:lnTo>
                <a:lnTo>
                  <a:pt x="152" y="52"/>
                </a:lnTo>
                <a:lnTo>
                  <a:pt x="150" y="48"/>
                </a:lnTo>
                <a:lnTo>
                  <a:pt x="150" y="47"/>
                </a:lnTo>
                <a:lnTo>
                  <a:pt x="150" y="43"/>
                </a:lnTo>
                <a:lnTo>
                  <a:pt x="153" y="38"/>
                </a:lnTo>
                <a:lnTo>
                  <a:pt x="155" y="37"/>
                </a:lnTo>
                <a:lnTo>
                  <a:pt x="164" y="35"/>
                </a:lnTo>
                <a:lnTo>
                  <a:pt x="179" y="27"/>
                </a:lnTo>
                <a:lnTo>
                  <a:pt x="184" y="23"/>
                </a:lnTo>
                <a:lnTo>
                  <a:pt x="182" y="20"/>
                </a:lnTo>
                <a:lnTo>
                  <a:pt x="182" y="18"/>
                </a:lnTo>
                <a:lnTo>
                  <a:pt x="187" y="15"/>
                </a:lnTo>
                <a:lnTo>
                  <a:pt x="195" y="13"/>
                </a:lnTo>
                <a:lnTo>
                  <a:pt x="194" y="5"/>
                </a:lnTo>
                <a:lnTo>
                  <a:pt x="195" y="3"/>
                </a:lnTo>
                <a:lnTo>
                  <a:pt x="197" y="2"/>
                </a:lnTo>
                <a:lnTo>
                  <a:pt x="200" y="0"/>
                </a:lnTo>
                <a:lnTo>
                  <a:pt x="204" y="0"/>
                </a:lnTo>
                <a:lnTo>
                  <a:pt x="209" y="2"/>
                </a:lnTo>
                <a:lnTo>
                  <a:pt x="212" y="2"/>
                </a:lnTo>
                <a:lnTo>
                  <a:pt x="214" y="3"/>
                </a:lnTo>
                <a:lnTo>
                  <a:pt x="217" y="5"/>
                </a:lnTo>
                <a:lnTo>
                  <a:pt x="219" y="5"/>
                </a:lnTo>
                <a:lnTo>
                  <a:pt x="220" y="5"/>
                </a:lnTo>
                <a:lnTo>
                  <a:pt x="222" y="5"/>
                </a:lnTo>
                <a:lnTo>
                  <a:pt x="224" y="5"/>
                </a:lnTo>
                <a:lnTo>
                  <a:pt x="235" y="12"/>
                </a:lnTo>
                <a:lnTo>
                  <a:pt x="239" y="15"/>
                </a:lnTo>
                <a:lnTo>
                  <a:pt x="240" y="17"/>
                </a:lnTo>
                <a:lnTo>
                  <a:pt x="242" y="20"/>
                </a:lnTo>
                <a:lnTo>
                  <a:pt x="242" y="22"/>
                </a:lnTo>
                <a:lnTo>
                  <a:pt x="242" y="23"/>
                </a:lnTo>
                <a:lnTo>
                  <a:pt x="245" y="25"/>
                </a:lnTo>
                <a:lnTo>
                  <a:pt x="247" y="27"/>
                </a:lnTo>
                <a:lnTo>
                  <a:pt x="249" y="28"/>
                </a:lnTo>
                <a:lnTo>
                  <a:pt x="254" y="30"/>
                </a:lnTo>
                <a:lnTo>
                  <a:pt x="262" y="32"/>
                </a:lnTo>
                <a:lnTo>
                  <a:pt x="265" y="35"/>
                </a:lnTo>
                <a:lnTo>
                  <a:pt x="270" y="42"/>
                </a:lnTo>
                <a:lnTo>
                  <a:pt x="272" y="45"/>
                </a:lnTo>
                <a:lnTo>
                  <a:pt x="272" y="48"/>
                </a:lnTo>
                <a:lnTo>
                  <a:pt x="277" y="53"/>
                </a:lnTo>
                <a:lnTo>
                  <a:pt x="280" y="55"/>
                </a:lnTo>
                <a:lnTo>
                  <a:pt x="282" y="57"/>
                </a:lnTo>
                <a:lnTo>
                  <a:pt x="285" y="57"/>
                </a:lnTo>
                <a:lnTo>
                  <a:pt x="287" y="53"/>
                </a:lnTo>
                <a:lnTo>
                  <a:pt x="297" y="55"/>
                </a:lnTo>
                <a:lnTo>
                  <a:pt x="300" y="58"/>
                </a:lnTo>
                <a:lnTo>
                  <a:pt x="302" y="60"/>
                </a:lnTo>
                <a:lnTo>
                  <a:pt x="302" y="63"/>
                </a:lnTo>
                <a:lnTo>
                  <a:pt x="304" y="65"/>
                </a:lnTo>
                <a:lnTo>
                  <a:pt x="320" y="68"/>
                </a:lnTo>
                <a:lnTo>
                  <a:pt x="329" y="68"/>
                </a:lnTo>
                <a:lnTo>
                  <a:pt x="341" y="67"/>
                </a:lnTo>
                <a:lnTo>
                  <a:pt x="344" y="67"/>
                </a:lnTo>
                <a:lnTo>
                  <a:pt x="346" y="67"/>
                </a:lnTo>
                <a:lnTo>
                  <a:pt x="347" y="68"/>
                </a:lnTo>
                <a:lnTo>
                  <a:pt x="354" y="68"/>
                </a:lnTo>
                <a:lnTo>
                  <a:pt x="359" y="68"/>
                </a:lnTo>
                <a:lnTo>
                  <a:pt x="361" y="68"/>
                </a:lnTo>
                <a:lnTo>
                  <a:pt x="369" y="62"/>
                </a:lnTo>
                <a:lnTo>
                  <a:pt x="372" y="58"/>
                </a:lnTo>
                <a:lnTo>
                  <a:pt x="374" y="55"/>
                </a:lnTo>
                <a:lnTo>
                  <a:pt x="381" y="48"/>
                </a:lnTo>
                <a:lnTo>
                  <a:pt x="386" y="50"/>
                </a:lnTo>
                <a:lnTo>
                  <a:pt x="387" y="48"/>
                </a:lnTo>
                <a:lnTo>
                  <a:pt x="387" y="47"/>
                </a:lnTo>
                <a:lnTo>
                  <a:pt x="389" y="52"/>
                </a:lnTo>
                <a:lnTo>
                  <a:pt x="394" y="57"/>
                </a:lnTo>
                <a:lnTo>
                  <a:pt x="396" y="57"/>
                </a:lnTo>
                <a:lnTo>
                  <a:pt x="399" y="60"/>
                </a:lnTo>
                <a:lnTo>
                  <a:pt x="402" y="72"/>
                </a:lnTo>
                <a:lnTo>
                  <a:pt x="401" y="77"/>
                </a:lnTo>
                <a:lnTo>
                  <a:pt x="397" y="79"/>
                </a:lnTo>
                <a:lnTo>
                  <a:pt x="397" y="84"/>
                </a:lnTo>
                <a:lnTo>
                  <a:pt x="401" y="85"/>
                </a:lnTo>
                <a:lnTo>
                  <a:pt x="402" y="87"/>
                </a:lnTo>
                <a:lnTo>
                  <a:pt x="404" y="85"/>
                </a:lnTo>
                <a:lnTo>
                  <a:pt x="406" y="84"/>
                </a:lnTo>
                <a:lnTo>
                  <a:pt x="412" y="87"/>
                </a:lnTo>
                <a:lnTo>
                  <a:pt x="414" y="89"/>
                </a:lnTo>
                <a:lnTo>
                  <a:pt x="411" y="90"/>
                </a:lnTo>
                <a:lnTo>
                  <a:pt x="407" y="90"/>
                </a:lnTo>
                <a:lnTo>
                  <a:pt x="406" y="90"/>
                </a:lnTo>
                <a:lnTo>
                  <a:pt x="406" y="102"/>
                </a:lnTo>
                <a:lnTo>
                  <a:pt x="417" y="110"/>
                </a:lnTo>
                <a:lnTo>
                  <a:pt x="419" y="110"/>
                </a:lnTo>
                <a:lnTo>
                  <a:pt x="424" y="112"/>
                </a:lnTo>
                <a:lnTo>
                  <a:pt x="429" y="114"/>
                </a:lnTo>
                <a:lnTo>
                  <a:pt x="431" y="114"/>
                </a:lnTo>
                <a:lnTo>
                  <a:pt x="434" y="115"/>
                </a:lnTo>
                <a:lnTo>
                  <a:pt x="436" y="115"/>
                </a:lnTo>
                <a:lnTo>
                  <a:pt x="439" y="114"/>
                </a:lnTo>
                <a:lnTo>
                  <a:pt x="441" y="114"/>
                </a:lnTo>
                <a:lnTo>
                  <a:pt x="441" y="115"/>
                </a:lnTo>
                <a:lnTo>
                  <a:pt x="441" y="120"/>
                </a:lnTo>
                <a:lnTo>
                  <a:pt x="437" y="120"/>
                </a:lnTo>
                <a:lnTo>
                  <a:pt x="429" y="120"/>
                </a:lnTo>
                <a:lnTo>
                  <a:pt x="426" y="119"/>
                </a:lnTo>
                <a:lnTo>
                  <a:pt x="424" y="119"/>
                </a:lnTo>
                <a:lnTo>
                  <a:pt x="422" y="119"/>
                </a:lnTo>
                <a:lnTo>
                  <a:pt x="419" y="132"/>
                </a:lnTo>
                <a:lnTo>
                  <a:pt x="421" y="139"/>
                </a:lnTo>
                <a:lnTo>
                  <a:pt x="417" y="150"/>
                </a:lnTo>
                <a:lnTo>
                  <a:pt x="414" y="152"/>
                </a:lnTo>
                <a:lnTo>
                  <a:pt x="416" y="155"/>
                </a:lnTo>
                <a:lnTo>
                  <a:pt x="417" y="157"/>
                </a:lnTo>
                <a:lnTo>
                  <a:pt x="412" y="159"/>
                </a:lnTo>
                <a:lnTo>
                  <a:pt x="402" y="159"/>
                </a:lnTo>
                <a:lnTo>
                  <a:pt x="399" y="155"/>
                </a:lnTo>
                <a:lnTo>
                  <a:pt x="397" y="154"/>
                </a:lnTo>
                <a:lnTo>
                  <a:pt x="396" y="150"/>
                </a:lnTo>
                <a:lnTo>
                  <a:pt x="399" y="150"/>
                </a:lnTo>
                <a:lnTo>
                  <a:pt x="397" y="145"/>
                </a:lnTo>
                <a:lnTo>
                  <a:pt x="384" y="137"/>
                </a:lnTo>
                <a:lnTo>
                  <a:pt x="369" y="137"/>
                </a:lnTo>
                <a:lnTo>
                  <a:pt x="356" y="135"/>
                </a:lnTo>
                <a:lnTo>
                  <a:pt x="352" y="137"/>
                </a:lnTo>
                <a:lnTo>
                  <a:pt x="354" y="139"/>
                </a:lnTo>
                <a:lnTo>
                  <a:pt x="352" y="140"/>
                </a:lnTo>
                <a:lnTo>
                  <a:pt x="351" y="142"/>
                </a:lnTo>
                <a:lnTo>
                  <a:pt x="346" y="142"/>
                </a:lnTo>
                <a:lnTo>
                  <a:pt x="342" y="140"/>
                </a:lnTo>
                <a:lnTo>
                  <a:pt x="332" y="144"/>
                </a:lnTo>
                <a:lnTo>
                  <a:pt x="331" y="145"/>
                </a:lnTo>
                <a:lnTo>
                  <a:pt x="327" y="147"/>
                </a:lnTo>
                <a:lnTo>
                  <a:pt x="325" y="147"/>
                </a:lnTo>
                <a:lnTo>
                  <a:pt x="319" y="144"/>
                </a:lnTo>
                <a:lnTo>
                  <a:pt x="314" y="140"/>
                </a:lnTo>
                <a:lnTo>
                  <a:pt x="307" y="144"/>
                </a:lnTo>
                <a:lnTo>
                  <a:pt x="300" y="144"/>
                </a:lnTo>
                <a:lnTo>
                  <a:pt x="299" y="144"/>
                </a:lnTo>
                <a:lnTo>
                  <a:pt x="282" y="139"/>
                </a:lnTo>
                <a:lnTo>
                  <a:pt x="280" y="142"/>
                </a:lnTo>
                <a:lnTo>
                  <a:pt x="275" y="142"/>
                </a:lnTo>
                <a:lnTo>
                  <a:pt x="267" y="139"/>
                </a:lnTo>
                <a:lnTo>
                  <a:pt x="265" y="137"/>
                </a:lnTo>
                <a:lnTo>
                  <a:pt x="255" y="132"/>
                </a:lnTo>
                <a:lnTo>
                  <a:pt x="250" y="139"/>
                </a:lnTo>
                <a:lnTo>
                  <a:pt x="249" y="140"/>
                </a:lnTo>
                <a:lnTo>
                  <a:pt x="239" y="140"/>
                </a:lnTo>
                <a:lnTo>
                  <a:pt x="237" y="139"/>
                </a:lnTo>
                <a:lnTo>
                  <a:pt x="234" y="139"/>
                </a:lnTo>
                <a:lnTo>
                  <a:pt x="232" y="137"/>
                </a:lnTo>
                <a:lnTo>
                  <a:pt x="227" y="139"/>
                </a:lnTo>
                <a:lnTo>
                  <a:pt x="225" y="140"/>
                </a:lnTo>
                <a:lnTo>
                  <a:pt x="224" y="144"/>
                </a:lnTo>
                <a:lnTo>
                  <a:pt x="219" y="150"/>
                </a:lnTo>
                <a:lnTo>
                  <a:pt x="215" y="159"/>
                </a:lnTo>
                <a:lnTo>
                  <a:pt x="215" y="162"/>
                </a:lnTo>
                <a:lnTo>
                  <a:pt x="210" y="164"/>
                </a:lnTo>
                <a:lnTo>
                  <a:pt x="209" y="162"/>
                </a:lnTo>
                <a:lnTo>
                  <a:pt x="205" y="160"/>
                </a:lnTo>
                <a:lnTo>
                  <a:pt x="204" y="160"/>
                </a:lnTo>
                <a:lnTo>
                  <a:pt x="197" y="152"/>
                </a:lnTo>
                <a:lnTo>
                  <a:pt x="189" y="142"/>
                </a:lnTo>
                <a:lnTo>
                  <a:pt x="182" y="142"/>
                </a:lnTo>
                <a:lnTo>
                  <a:pt x="179" y="142"/>
                </a:lnTo>
                <a:lnTo>
                  <a:pt x="175" y="145"/>
                </a:lnTo>
                <a:lnTo>
                  <a:pt x="174" y="147"/>
                </a:lnTo>
                <a:lnTo>
                  <a:pt x="172" y="149"/>
                </a:lnTo>
                <a:lnTo>
                  <a:pt x="170" y="159"/>
                </a:lnTo>
                <a:lnTo>
                  <a:pt x="170" y="160"/>
                </a:lnTo>
                <a:lnTo>
                  <a:pt x="172" y="175"/>
                </a:lnTo>
                <a:lnTo>
                  <a:pt x="172" y="187"/>
                </a:lnTo>
                <a:lnTo>
                  <a:pt x="174" y="190"/>
                </a:lnTo>
                <a:lnTo>
                  <a:pt x="182" y="197"/>
                </a:lnTo>
                <a:lnTo>
                  <a:pt x="187" y="197"/>
                </a:lnTo>
                <a:lnTo>
                  <a:pt x="189" y="199"/>
                </a:lnTo>
                <a:lnTo>
                  <a:pt x="194" y="207"/>
                </a:lnTo>
                <a:lnTo>
                  <a:pt x="195" y="210"/>
                </a:lnTo>
                <a:lnTo>
                  <a:pt x="199" y="215"/>
                </a:lnTo>
                <a:lnTo>
                  <a:pt x="202" y="217"/>
                </a:lnTo>
                <a:lnTo>
                  <a:pt x="204" y="219"/>
                </a:lnTo>
                <a:lnTo>
                  <a:pt x="210" y="234"/>
                </a:lnTo>
                <a:lnTo>
                  <a:pt x="210" y="237"/>
                </a:lnTo>
                <a:lnTo>
                  <a:pt x="207" y="250"/>
                </a:lnTo>
                <a:lnTo>
                  <a:pt x="209" y="250"/>
                </a:lnTo>
                <a:lnTo>
                  <a:pt x="212" y="250"/>
                </a:lnTo>
                <a:lnTo>
                  <a:pt x="215" y="249"/>
                </a:lnTo>
                <a:lnTo>
                  <a:pt x="217" y="250"/>
                </a:lnTo>
                <a:lnTo>
                  <a:pt x="220" y="254"/>
                </a:lnTo>
                <a:lnTo>
                  <a:pt x="222" y="257"/>
                </a:lnTo>
                <a:lnTo>
                  <a:pt x="224" y="260"/>
                </a:lnTo>
                <a:lnTo>
                  <a:pt x="230" y="265"/>
                </a:lnTo>
                <a:lnTo>
                  <a:pt x="232" y="265"/>
                </a:lnTo>
                <a:lnTo>
                  <a:pt x="237" y="265"/>
                </a:lnTo>
                <a:lnTo>
                  <a:pt x="239" y="267"/>
                </a:lnTo>
                <a:lnTo>
                  <a:pt x="247" y="277"/>
                </a:lnTo>
                <a:lnTo>
                  <a:pt x="252" y="282"/>
                </a:lnTo>
                <a:lnTo>
                  <a:pt x="254" y="286"/>
                </a:lnTo>
                <a:lnTo>
                  <a:pt x="264" y="296"/>
                </a:lnTo>
                <a:lnTo>
                  <a:pt x="272" y="306"/>
                </a:lnTo>
                <a:lnTo>
                  <a:pt x="274" y="307"/>
                </a:lnTo>
                <a:lnTo>
                  <a:pt x="275" y="309"/>
                </a:lnTo>
                <a:lnTo>
                  <a:pt x="282" y="314"/>
                </a:lnTo>
                <a:lnTo>
                  <a:pt x="284" y="314"/>
                </a:lnTo>
                <a:lnTo>
                  <a:pt x="287" y="316"/>
                </a:lnTo>
                <a:lnTo>
                  <a:pt x="290" y="317"/>
                </a:lnTo>
                <a:lnTo>
                  <a:pt x="297" y="319"/>
                </a:lnTo>
                <a:lnTo>
                  <a:pt x="299" y="321"/>
                </a:lnTo>
                <a:lnTo>
                  <a:pt x="300" y="322"/>
                </a:lnTo>
                <a:lnTo>
                  <a:pt x="299" y="324"/>
                </a:lnTo>
                <a:lnTo>
                  <a:pt x="302" y="334"/>
                </a:lnTo>
                <a:lnTo>
                  <a:pt x="304" y="337"/>
                </a:lnTo>
                <a:lnTo>
                  <a:pt x="304" y="339"/>
                </a:lnTo>
                <a:lnTo>
                  <a:pt x="315" y="349"/>
                </a:lnTo>
                <a:lnTo>
                  <a:pt x="327" y="354"/>
                </a:lnTo>
                <a:lnTo>
                  <a:pt x="329" y="356"/>
                </a:lnTo>
                <a:lnTo>
                  <a:pt x="332" y="359"/>
                </a:lnTo>
                <a:lnTo>
                  <a:pt x="334" y="361"/>
                </a:lnTo>
                <a:lnTo>
                  <a:pt x="336" y="362"/>
                </a:lnTo>
                <a:lnTo>
                  <a:pt x="337" y="369"/>
                </a:lnTo>
                <a:lnTo>
                  <a:pt x="329" y="372"/>
                </a:lnTo>
                <a:moveTo>
                  <a:pt x="336" y="377"/>
                </a:moveTo>
                <a:lnTo>
                  <a:pt x="339" y="374"/>
                </a:lnTo>
                <a:lnTo>
                  <a:pt x="339" y="372"/>
                </a:lnTo>
                <a:lnTo>
                  <a:pt x="342" y="374"/>
                </a:lnTo>
                <a:lnTo>
                  <a:pt x="347" y="374"/>
                </a:lnTo>
                <a:lnTo>
                  <a:pt x="351" y="379"/>
                </a:lnTo>
                <a:lnTo>
                  <a:pt x="354" y="382"/>
                </a:lnTo>
                <a:lnTo>
                  <a:pt x="361" y="386"/>
                </a:lnTo>
                <a:lnTo>
                  <a:pt x="364" y="387"/>
                </a:lnTo>
                <a:lnTo>
                  <a:pt x="377" y="394"/>
                </a:lnTo>
                <a:lnTo>
                  <a:pt x="384" y="397"/>
                </a:lnTo>
                <a:lnTo>
                  <a:pt x="387" y="401"/>
                </a:lnTo>
                <a:lnTo>
                  <a:pt x="391" y="401"/>
                </a:lnTo>
                <a:lnTo>
                  <a:pt x="392" y="399"/>
                </a:lnTo>
                <a:lnTo>
                  <a:pt x="394" y="399"/>
                </a:lnTo>
                <a:lnTo>
                  <a:pt x="397" y="401"/>
                </a:lnTo>
                <a:lnTo>
                  <a:pt x="402" y="404"/>
                </a:lnTo>
                <a:lnTo>
                  <a:pt x="402" y="409"/>
                </a:lnTo>
                <a:lnTo>
                  <a:pt x="402" y="412"/>
                </a:lnTo>
                <a:lnTo>
                  <a:pt x="404" y="414"/>
                </a:lnTo>
                <a:lnTo>
                  <a:pt x="407" y="416"/>
                </a:lnTo>
                <a:lnTo>
                  <a:pt x="409" y="417"/>
                </a:lnTo>
                <a:lnTo>
                  <a:pt x="409" y="421"/>
                </a:lnTo>
                <a:lnTo>
                  <a:pt x="396" y="412"/>
                </a:lnTo>
                <a:lnTo>
                  <a:pt x="382" y="406"/>
                </a:lnTo>
                <a:lnTo>
                  <a:pt x="371" y="397"/>
                </a:lnTo>
                <a:lnTo>
                  <a:pt x="354" y="389"/>
                </a:lnTo>
                <a:lnTo>
                  <a:pt x="344" y="386"/>
                </a:lnTo>
                <a:lnTo>
                  <a:pt x="329" y="384"/>
                </a:lnTo>
                <a:lnTo>
                  <a:pt x="319" y="381"/>
                </a:lnTo>
                <a:lnTo>
                  <a:pt x="314" y="377"/>
                </a:lnTo>
                <a:lnTo>
                  <a:pt x="300" y="371"/>
                </a:lnTo>
                <a:lnTo>
                  <a:pt x="299" y="372"/>
                </a:lnTo>
                <a:lnTo>
                  <a:pt x="295" y="372"/>
                </a:lnTo>
                <a:lnTo>
                  <a:pt x="290" y="372"/>
                </a:lnTo>
                <a:lnTo>
                  <a:pt x="285" y="371"/>
                </a:lnTo>
                <a:lnTo>
                  <a:pt x="284" y="366"/>
                </a:lnTo>
                <a:lnTo>
                  <a:pt x="305" y="367"/>
                </a:lnTo>
                <a:lnTo>
                  <a:pt x="307" y="367"/>
                </a:lnTo>
                <a:lnTo>
                  <a:pt x="319" y="372"/>
                </a:lnTo>
                <a:lnTo>
                  <a:pt x="325" y="376"/>
                </a:lnTo>
                <a:lnTo>
                  <a:pt x="336" y="379"/>
                </a:lnTo>
                <a:lnTo>
                  <a:pt x="336" y="377"/>
                </a:lnTo>
                <a:moveTo>
                  <a:pt x="95" y="179"/>
                </a:moveTo>
                <a:lnTo>
                  <a:pt x="93" y="179"/>
                </a:lnTo>
                <a:lnTo>
                  <a:pt x="92" y="179"/>
                </a:lnTo>
                <a:lnTo>
                  <a:pt x="87" y="177"/>
                </a:lnTo>
                <a:lnTo>
                  <a:pt x="75" y="170"/>
                </a:lnTo>
                <a:lnTo>
                  <a:pt x="73" y="169"/>
                </a:lnTo>
                <a:lnTo>
                  <a:pt x="72" y="167"/>
                </a:lnTo>
                <a:lnTo>
                  <a:pt x="72" y="165"/>
                </a:lnTo>
                <a:lnTo>
                  <a:pt x="78" y="149"/>
                </a:lnTo>
                <a:lnTo>
                  <a:pt x="78" y="147"/>
                </a:lnTo>
                <a:lnTo>
                  <a:pt x="82" y="149"/>
                </a:lnTo>
                <a:lnTo>
                  <a:pt x="88" y="160"/>
                </a:lnTo>
                <a:lnTo>
                  <a:pt x="92" y="165"/>
                </a:lnTo>
                <a:lnTo>
                  <a:pt x="98" y="172"/>
                </a:lnTo>
                <a:lnTo>
                  <a:pt x="100" y="172"/>
                </a:lnTo>
                <a:lnTo>
                  <a:pt x="100" y="174"/>
                </a:lnTo>
                <a:lnTo>
                  <a:pt x="100" y="175"/>
                </a:lnTo>
                <a:lnTo>
                  <a:pt x="97" y="179"/>
                </a:lnTo>
                <a:lnTo>
                  <a:pt x="95" y="179"/>
                </a:lnTo>
                <a:moveTo>
                  <a:pt x="257" y="346"/>
                </a:moveTo>
                <a:lnTo>
                  <a:pt x="252" y="346"/>
                </a:lnTo>
                <a:lnTo>
                  <a:pt x="249" y="346"/>
                </a:lnTo>
                <a:lnTo>
                  <a:pt x="244" y="346"/>
                </a:lnTo>
                <a:lnTo>
                  <a:pt x="242" y="344"/>
                </a:lnTo>
                <a:lnTo>
                  <a:pt x="235" y="342"/>
                </a:lnTo>
                <a:lnTo>
                  <a:pt x="235" y="341"/>
                </a:lnTo>
                <a:lnTo>
                  <a:pt x="237" y="334"/>
                </a:lnTo>
                <a:lnTo>
                  <a:pt x="249" y="334"/>
                </a:lnTo>
                <a:lnTo>
                  <a:pt x="257" y="334"/>
                </a:lnTo>
                <a:lnTo>
                  <a:pt x="262" y="334"/>
                </a:lnTo>
                <a:lnTo>
                  <a:pt x="264" y="334"/>
                </a:lnTo>
                <a:lnTo>
                  <a:pt x="265" y="336"/>
                </a:lnTo>
                <a:lnTo>
                  <a:pt x="272" y="337"/>
                </a:lnTo>
                <a:lnTo>
                  <a:pt x="272" y="341"/>
                </a:lnTo>
                <a:lnTo>
                  <a:pt x="269" y="344"/>
                </a:lnTo>
                <a:lnTo>
                  <a:pt x="267" y="344"/>
                </a:lnTo>
                <a:lnTo>
                  <a:pt x="265" y="344"/>
                </a:lnTo>
                <a:lnTo>
                  <a:pt x="259" y="344"/>
                </a:lnTo>
                <a:lnTo>
                  <a:pt x="259" y="346"/>
                </a:lnTo>
                <a:lnTo>
                  <a:pt x="257" y="346"/>
                </a:lnTo>
                <a:moveTo>
                  <a:pt x="78" y="215"/>
                </a:moveTo>
                <a:lnTo>
                  <a:pt x="75" y="214"/>
                </a:lnTo>
                <a:lnTo>
                  <a:pt x="70" y="207"/>
                </a:lnTo>
                <a:lnTo>
                  <a:pt x="65" y="190"/>
                </a:lnTo>
                <a:lnTo>
                  <a:pt x="65" y="184"/>
                </a:lnTo>
                <a:lnTo>
                  <a:pt x="67" y="184"/>
                </a:lnTo>
                <a:lnTo>
                  <a:pt x="70" y="184"/>
                </a:lnTo>
                <a:lnTo>
                  <a:pt x="68" y="179"/>
                </a:lnTo>
                <a:lnTo>
                  <a:pt x="65" y="170"/>
                </a:lnTo>
                <a:lnTo>
                  <a:pt x="65" y="169"/>
                </a:lnTo>
                <a:lnTo>
                  <a:pt x="63" y="167"/>
                </a:lnTo>
                <a:lnTo>
                  <a:pt x="62" y="167"/>
                </a:lnTo>
                <a:lnTo>
                  <a:pt x="60" y="164"/>
                </a:lnTo>
                <a:lnTo>
                  <a:pt x="58" y="162"/>
                </a:lnTo>
                <a:lnTo>
                  <a:pt x="62" y="157"/>
                </a:lnTo>
                <a:lnTo>
                  <a:pt x="62" y="155"/>
                </a:lnTo>
                <a:lnTo>
                  <a:pt x="65" y="157"/>
                </a:lnTo>
                <a:lnTo>
                  <a:pt x="67" y="159"/>
                </a:lnTo>
                <a:lnTo>
                  <a:pt x="65" y="160"/>
                </a:lnTo>
                <a:lnTo>
                  <a:pt x="65" y="162"/>
                </a:lnTo>
                <a:lnTo>
                  <a:pt x="65" y="164"/>
                </a:lnTo>
                <a:lnTo>
                  <a:pt x="67" y="169"/>
                </a:lnTo>
                <a:lnTo>
                  <a:pt x="70" y="174"/>
                </a:lnTo>
                <a:lnTo>
                  <a:pt x="70" y="175"/>
                </a:lnTo>
                <a:lnTo>
                  <a:pt x="72" y="175"/>
                </a:lnTo>
                <a:lnTo>
                  <a:pt x="75" y="192"/>
                </a:lnTo>
                <a:lnTo>
                  <a:pt x="77" y="202"/>
                </a:lnTo>
                <a:lnTo>
                  <a:pt x="80" y="209"/>
                </a:lnTo>
                <a:lnTo>
                  <a:pt x="82" y="212"/>
                </a:lnTo>
                <a:lnTo>
                  <a:pt x="80" y="215"/>
                </a:lnTo>
                <a:lnTo>
                  <a:pt x="78" y="215"/>
                </a:lnTo>
                <a:moveTo>
                  <a:pt x="97" y="205"/>
                </a:moveTo>
                <a:lnTo>
                  <a:pt x="107" y="214"/>
                </a:lnTo>
                <a:lnTo>
                  <a:pt x="110" y="214"/>
                </a:lnTo>
                <a:lnTo>
                  <a:pt x="112" y="214"/>
                </a:lnTo>
                <a:lnTo>
                  <a:pt x="113" y="215"/>
                </a:lnTo>
                <a:lnTo>
                  <a:pt x="120" y="222"/>
                </a:lnTo>
                <a:lnTo>
                  <a:pt x="123" y="225"/>
                </a:lnTo>
                <a:lnTo>
                  <a:pt x="122" y="225"/>
                </a:lnTo>
                <a:lnTo>
                  <a:pt x="118" y="222"/>
                </a:lnTo>
                <a:lnTo>
                  <a:pt x="115" y="222"/>
                </a:lnTo>
                <a:lnTo>
                  <a:pt x="118" y="225"/>
                </a:lnTo>
                <a:lnTo>
                  <a:pt x="122" y="229"/>
                </a:lnTo>
                <a:lnTo>
                  <a:pt x="120" y="225"/>
                </a:lnTo>
                <a:lnTo>
                  <a:pt x="122" y="227"/>
                </a:lnTo>
                <a:lnTo>
                  <a:pt x="125" y="229"/>
                </a:lnTo>
                <a:lnTo>
                  <a:pt x="127" y="230"/>
                </a:lnTo>
                <a:lnTo>
                  <a:pt x="137" y="239"/>
                </a:lnTo>
                <a:lnTo>
                  <a:pt x="138" y="240"/>
                </a:lnTo>
                <a:lnTo>
                  <a:pt x="135" y="244"/>
                </a:lnTo>
                <a:lnTo>
                  <a:pt x="132" y="245"/>
                </a:lnTo>
                <a:lnTo>
                  <a:pt x="130" y="244"/>
                </a:lnTo>
                <a:lnTo>
                  <a:pt x="128" y="244"/>
                </a:lnTo>
                <a:lnTo>
                  <a:pt x="127" y="242"/>
                </a:lnTo>
                <a:lnTo>
                  <a:pt x="120" y="232"/>
                </a:lnTo>
                <a:lnTo>
                  <a:pt x="118" y="230"/>
                </a:lnTo>
                <a:lnTo>
                  <a:pt x="112" y="224"/>
                </a:lnTo>
                <a:lnTo>
                  <a:pt x="97" y="207"/>
                </a:lnTo>
                <a:lnTo>
                  <a:pt x="97" y="205"/>
                </a:lnTo>
                <a:moveTo>
                  <a:pt x="287" y="359"/>
                </a:moveTo>
                <a:lnTo>
                  <a:pt x="274" y="359"/>
                </a:lnTo>
                <a:lnTo>
                  <a:pt x="257" y="361"/>
                </a:lnTo>
                <a:lnTo>
                  <a:pt x="255" y="361"/>
                </a:lnTo>
                <a:lnTo>
                  <a:pt x="247" y="359"/>
                </a:lnTo>
                <a:lnTo>
                  <a:pt x="240" y="357"/>
                </a:lnTo>
                <a:lnTo>
                  <a:pt x="239" y="357"/>
                </a:lnTo>
                <a:lnTo>
                  <a:pt x="234" y="354"/>
                </a:lnTo>
                <a:lnTo>
                  <a:pt x="240" y="352"/>
                </a:lnTo>
                <a:lnTo>
                  <a:pt x="242" y="352"/>
                </a:lnTo>
                <a:lnTo>
                  <a:pt x="249" y="351"/>
                </a:lnTo>
                <a:lnTo>
                  <a:pt x="252" y="351"/>
                </a:lnTo>
                <a:lnTo>
                  <a:pt x="255" y="352"/>
                </a:lnTo>
                <a:lnTo>
                  <a:pt x="267" y="356"/>
                </a:lnTo>
                <a:lnTo>
                  <a:pt x="279" y="356"/>
                </a:lnTo>
                <a:lnTo>
                  <a:pt x="292" y="356"/>
                </a:lnTo>
                <a:lnTo>
                  <a:pt x="292" y="357"/>
                </a:lnTo>
                <a:lnTo>
                  <a:pt x="287" y="359"/>
                </a:lnTo>
                <a:moveTo>
                  <a:pt x="275" y="382"/>
                </a:moveTo>
                <a:lnTo>
                  <a:pt x="272" y="382"/>
                </a:lnTo>
                <a:lnTo>
                  <a:pt x="264" y="381"/>
                </a:lnTo>
                <a:lnTo>
                  <a:pt x="259" y="381"/>
                </a:lnTo>
                <a:lnTo>
                  <a:pt x="255" y="376"/>
                </a:lnTo>
                <a:lnTo>
                  <a:pt x="257" y="374"/>
                </a:lnTo>
                <a:lnTo>
                  <a:pt x="260" y="374"/>
                </a:lnTo>
                <a:lnTo>
                  <a:pt x="262" y="374"/>
                </a:lnTo>
                <a:lnTo>
                  <a:pt x="264" y="374"/>
                </a:lnTo>
                <a:lnTo>
                  <a:pt x="265" y="376"/>
                </a:lnTo>
                <a:lnTo>
                  <a:pt x="267" y="376"/>
                </a:lnTo>
                <a:lnTo>
                  <a:pt x="270" y="376"/>
                </a:lnTo>
                <a:lnTo>
                  <a:pt x="274" y="376"/>
                </a:lnTo>
                <a:lnTo>
                  <a:pt x="275" y="376"/>
                </a:lnTo>
                <a:lnTo>
                  <a:pt x="277" y="376"/>
                </a:lnTo>
                <a:lnTo>
                  <a:pt x="277" y="374"/>
                </a:lnTo>
                <a:lnTo>
                  <a:pt x="280" y="374"/>
                </a:lnTo>
                <a:lnTo>
                  <a:pt x="282" y="374"/>
                </a:lnTo>
                <a:lnTo>
                  <a:pt x="285" y="372"/>
                </a:lnTo>
                <a:lnTo>
                  <a:pt x="287" y="372"/>
                </a:lnTo>
                <a:lnTo>
                  <a:pt x="295" y="374"/>
                </a:lnTo>
                <a:lnTo>
                  <a:pt x="299" y="377"/>
                </a:lnTo>
                <a:lnTo>
                  <a:pt x="295" y="379"/>
                </a:lnTo>
                <a:lnTo>
                  <a:pt x="294" y="379"/>
                </a:lnTo>
                <a:lnTo>
                  <a:pt x="280" y="381"/>
                </a:lnTo>
                <a:lnTo>
                  <a:pt x="275" y="382"/>
                </a:lnTo>
                <a:moveTo>
                  <a:pt x="346" y="397"/>
                </a:moveTo>
                <a:lnTo>
                  <a:pt x="344" y="397"/>
                </a:lnTo>
                <a:lnTo>
                  <a:pt x="342" y="396"/>
                </a:lnTo>
                <a:lnTo>
                  <a:pt x="341" y="396"/>
                </a:lnTo>
                <a:lnTo>
                  <a:pt x="336" y="396"/>
                </a:lnTo>
                <a:lnTo>
                  <a:pt x="334" y="396"/>
                </a:lnTo>
                <a:lnTo>
                  <a:pt x="329" y="396"/>
                </a:lnTo>
                <a:lnTo>
                  <a:pt x="315" y="394"/>
                </a:lnTo>
                <a:lnTo>
                  <a:pt x="314" y="392"/>
                </a:lnTo>
                <a:lnTo>
                  <a:pt x="312" y="392"/>
                </a:lnTo>
                <a:lnTo>
                  <a:pt x="310" y="391"/>
                </a:lnTo>
                <a:lnTo>
                  <a:pt x="314" y="389"/>
                </a:lnTo>
                <a:lnTo>
                  <a:pt x="315" y="389"/>
                </a:lnTo>
                <a:lnTo>
                  <a:pt x="317" y="389"/>
                </a:lnTo>
                <a:lnTo>
                  <a:pt x="339" y="394"/>
                </a:lnTo>
                <a:lnTo>
                  <a:pt x="344" y="396"/>
                </a:lnTo>
                <a:lnTo>
                  <a:pt x="346" y="397"/>
                </a:lnTo>
                <a:moveTo>
                  <a:pt x="137" y="291"/>
                </a:moveTo>
                <a:lnTo>
                  <a:pt x="133" y="289"/>
                </a:lnTo>
                <a:lnTo>
                  <a:pt x="133" y="287"/>
                </a:lnTo>
                <a:lnTo>
                  <a:pt x="130" y="286"/>
                </a:lnTo>
                <a:lnTo>
                  <a:pt x="130" y="284"/>
                </a:lnTo>
                <a:lnTo>
                  <a:pt x="127" y="282"/>
                </a:lnTo>
                <a:lnTo>
                  <a:pt x="127" y="281"/>
                </a:lnTo>
                <a:lnTo>
                  <a:pt x="125" y="279"/>
                </a:lnTo>
                <a:lnTo>
                  <a:pt x="123" y="277"/>
                </a:lnTo>
                <a:lnTo>
                  <a:pt x="123" y="276"/>
                </a:lnTo>
                <a:lnTo>
                  <a:pt x="120" y="272"/>
                </a:lnTo>
                <a:lnTo>
                  <a:pt x="118" y="270"/>
                </a:lnTo>
                <a:lnTo>
                  <a:pt x="115" y="267"/>
                </a:lnTo>
                <a:lnTo>
                  <a:pt x="112" y="264"/>
                </a:lnTo>
                <a:lnTo>
                  <a:pt x="110" y="264"/>
                </a:lnTo>
                <a:lnTo>
                  <a:pt x="110" y="262"/>
                </a:lnTo>
                <a:lnTo>
                  <a:pt x="108" y="260"/>
                </a:lnTo>
                <a:lnTo>
                  <a:pt x="120" y="269"/>
                </a:lnTo>
                <a:lnTo>
                  <a:pt x="123" y="274"/>
                </a:lnTo>
                <a:lnTo>
                  <a:pt x="125" y="276"/>
                </a:lnTo>
                <a:lnTo>
                  <a:pt x="128" y="279"/>
                </a:lnTo>
                <a:lnTo>
                  <a:pt x="133" y="282"/>
                </a:lnTo>
                <a:lnTo>
                  <a:pt x="138" y="286"/>
                </a:lnTo>
                <a:lnTo>
                  <a:pt x="140" y="287"/>
                </a:lnTo>
                <a:lnTo>
                  <a:pt x="138" y="287"/>
                </a:lnTo>
                <a:lnTo>
                  <a:pt x="137" y="291"/>
                </a:lnTo>
                <a:moveTo>
                  <a:pt x="214" y="376"/>
                </a:moveTo>
                <a:lnTo>
                  <a:pt x="212" y="376"/>
                </a:lnTo>
                <a:lnTo>
                  <a:pt x="210" y="371"/>
                </a:lnTo>
                <a:lnTo>
                  <a:pt x="210" y="369"/>
                </a:lnTo>
                <a:lnTo>
                  <a:pt x="212" y="369"/>
                </a:lnTo>
                <a:lnTo>
                  <a:pt x="214" y="369"/>
                </a:lnTo>
                <a:lnTo>
                  <a:pt x="215" y="369"/>
                </a:lnTo>
                <a:lnTo>
                  <a:pt x="217" y="367"/>
                </a:lnTo>
                <a:lnTo>
                  <a:pt x="220" y="367"/>
                </a:lnTo>
                <a:lnTo>
                  <a:pt x="224" y="367"/>
                </a:lnTo>
                <a:lnTo>
                  <a:pt x="225" y="369"/>
                </a:lnTo>
                <a:lnTo>
                  <a:pt x="222" y="374"/>
                </a:lnTo>
                <a:lnTo>
                  <a:pt x="214" y="376"/>
                </a:lnTo>
                <a:moveTo>
                  <a:pt x="82" y="230"/>
                </a:moveTo>
                <a:lnTo>
                  <a:pt x="82" y="229"/>
                </a:lnTo>
                <a:lnTo>
                  <a:pt x="70" y="217"/>
                </a:lnTo>
                <a:lnTo>
                  <a:pt x="68" y="210"/>
                </a:lnTo>
                <a:lnTo>
                  <a:pt x="67" y="205"/>
                </a:lnTo>
                <a:lnTo>
                  <a:pt x="70" y="207"/>
                </a:lnTo>
                <a:lnTo>
                  <a:pt x="72" y="209"/>
                </a:lnTo>
                <a:lnTo>
                  <a:pt x="72" y="210"/>
                </a:lnTo>
                <a:lnTo>
                  <a:pt x="72" y="214"/>
                </a:lnTo>
                <a:lnTo>
                  <a:pt x="72" y="217"/>
                </a:lnTo>
                <a:lnTo>
                  <a:pt x="73" y="217"/>
                </a:lnTo>
                <a:lnTo>
                  <a:pt x="73" y="219"/>
                </a:lnTo>
                <a:lnTo>
                  <a:pt x="78" y="224"/>
                </a:lnTo>
                <a:lnTo>
                  <a:pt x="80" y="224"/>
                </a:lnTo>
                <a:lnTo>
                  <a:pt x="82" y="225"/>
                </a:lnTo>
                <a:lnTo>
                  <a:pt x="83" y="227"/>
                </a:lnTo>
                <a:lnTo>
                  <a:pt x="82" y="229"/>
                </a:lnTo>
                <a:lnTo>
                  <a:pt x="82" y="230"/>
                </a:lnTo>
              </a:path>
            </a:pathLst>
          </a:custGeom>
          <a:solidFill>
            <a:srgbClr val="003300">
              <a:alpha val="67000"/>
            </a:srgbClr>
          </a:solidFill>
          <a:ln w="46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"/>
          <p:cNvSpPr/>
          <p:nvPr/>
        </p:nvSpPr>
        <p:spPr>
          <a:xfrm rot="8672400">
            <a:off x="904320" y="256680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" name=""/>
          <p:cNvSpPr/>
          <p:nvPr/>
        </p:nvSpPr>
        <p:spPr>
          <a:xfrm rot="16200000">
            <a:off x="2125800" y="150156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3454560" y="933480"/>
            <a:ext cx="2393640" cy="3228840"/>
            <a:chOff x="3454560" y="933480"/>
            <a:chExt cx="2393640" cy="3228840"/>
          </a:xfrm>
        </p:grpSpPr>
        <p:sp>
          <p:nvSpPr>
            <p:cNvPr id="359" name=""/>
            <p:cNvSpPr/>
            <p:nvPr/>
          </p:nvSpPr>
          <p:spPr>
            <a:xfrm rot="16200000">
              <a:off x="4575240" y="1598400"/>
              <a:ext cx="360360" cy="360360"/>
            </a:xfrm>
            <a:prstGeom prst="leftArrow">
              <a:avLst>
                <a:gd name="adj1" fmla="val 49778"/>
                <a:gd name="adj2" fmla="val 5154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454560" y="2965320"/>
              <a:ext cx="1511280" cy="793800"/>
            </a:xfrm>
            <a:custGeom>
              <a:avLst/>
              <a:gdLst/>
              <a:ahLst/>
              <a:rect l="l" t="t" r="r" b="b"/>
              <a:pathLst>
                <a:path w="952" h="500">
                  <a:moveTo>
                    <a:pt x="952" y="0"/>
                  </a:moveTo>
                  <a:lnTo>
                    <a:pt x="184" y="500"/>
                  </a:lnTo>
                  <a:lnTo>
                    <a:pt x="0" y="300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952880" y="2962440"/>
              <a:ext cx="895320" cy="11998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105440" y="933480"/>
              <a:ext cx="1266840" cy="2438280"/>
            </a:xfrm>
            <a:custGeom>
              <a:avLst/>
              <a:gdLst/>
              <a:ahLst/>
              <a:rect l="l" t="t" r="r" b="b"/>
              <a:pathLst>
                <a:path w="798" h="1536">
                  <a:moveTo>
                    <a:pt x="0" y="0"/>
                  </a:moveTo>
                  <a:lnTo>
                    <a:pt x="282" y="282"/>
                  </a:lnTo>
                  <a:lnTo>
                    <a:pt x="420" y="528"/>
                  </a:lnTo>
                  <a:lnTo>
                    <a:pt x="372" y="966"/>
                  </a:lnTo>
                  <a:lnTo>
                    <a:pt x="540" y="1284"/>
                  </a:lnTo>
                  <a:lnTo>
                    <a:pt x="690" y="1260"/>
                  </a:lnTo>
                  <a:lnTo>
                    <a:pt x="798" y="1368"/>
                  </a:lnTo>
                  <a:lnTo>
                    <a:pt x="738" y="1536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200480" y="2162160"/>
              <a:ext cx="501840" cy="371520"/>
            </a:xfrm>
            <a:custGeom>
              <a:avLst/>
              <a:gdLst/>
              <a:ahLst/>
              <a:rect l="l" t="t" r="r" b="b"/>
              <a:pathLst>
                <a:path w="316" h="234">
                  <a:moveTo>
                    <a:pt x="0" y="0"/>
                  </a:moveTo>
                  <a:cubicBezTo>
                    <a:pt x="28" y="18"/>
                    <a:pt x="170" y="51"/>
                    <a:pt x="222" y="84"/>
                  </a:cubicBezTo>
                  <a:cubicBezTo>
                    <a:pt x="274" y="117"/>
                    <a:pt x="316" y="173"/>
                    <a:pt x="312" y="198"/>
                  </a:cubicBezTo>
                  <a:cubicBezTo>
                    <a:pt x="285" y="206"/>
                    <a:pt x="231" y="234"/>
                    <a:pt x="198" y="234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781440" y="1378080"/>
              <a:ext cx="749160" cy="631800"/>
            </a:xfrm>
            <a:custGeom>
              <a:avLst/>
              <a:gdLst/>
              <a:ahLst/>
              <a:rect l="l" t="t" r="r" b="b"/>
              <a:pathLst>
                <a:path w="472" h="398">
                  <a:moveTo>
                    <a:pt x="472" y="0"/>
                  </a:moveTo>
                  <a:lnTo>
                    <a:pt x="372" y="200"/>
                  </a:lnTo>
                  <a:lnTo>
                    <a:pt x="0" y="398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65" name=""/>
          <p:cNvSpPr/>
          <p:nvPr/>
        </p:nvSpPr>
        <p:spPr>
          <a:xfrm rot="480000">
            <a:off x="4900680" y="-228600"/>
            <a:ext cx="5408640" cy="4106880"/>
          </a:xfrm>
          <a:custGeom>
            <a:avLst/>
            <a:gdLst/>
            <a:ahLst/>
            <a:rect l="l" t="t" r="r" b="b"/>
            <a:pathLst>
              <a:path w="708" h="521">
                <a:moveTo>
                  <a:pt x="344" y="514"/>
                </a:moveTo>
                <a:lnTo>
                  <a:pt x="344" y="514"/>
                </a:lnTo>
                <a:lnTo>
                  <a:pt x="342" y="514"/>
                </a:lnTo>
                <a:lnTo>
                  <a:pt x="339" y="516"/>
                </a:lnTo>
                <a:lnTo>
                  <a:pt x="337" y="516"/>
                </a:lnTo>
                <a:lnTo>
                  <a:pt x="334" y="518"/>
                </a:lnTo>
                <a:lnTo>
                  <a:pt x="332" y="518"/>
                </a:lnTo>
                <a:lnTo>
                  <a:pt x="329" y="518"/>
                </a:lnTo>
                <a:lnTo>
                  <a:pt x="326" y="516"/>
                </a:lnTo>
                <a:lnTo>
                  <a:pt x="319" y="514"/>
                </a:lnTo>
                <a:lnTo>
                  <a:pt x="301" y="513"/>
                </a:lnTo>
                <a:lnTo>
                  <a:pt x="291" y="514"/>
                </a:lnTo>
                <a:lnTo>
                  <a:pt x="289" y="514"/>
                </a:lnTo>
                <a:lnTo>
                  <a:pt x="286" y="514"/>
                </a:lnTo>
                <a:lnTo>
                  <a:pt x="282" y="513"/>
                </a:lnTo>
                <a:lnTo>
                  <a:pt x="281" y="511"/>
                </a:lnTo>
                <a:lnTo>
                  <a:pt x="276" y="511"/>
                </a:lnTo>
                <a:lnTo>
                  <a:pt x="274" y="511"/>
                </a:lnTo>
                <a:lnTo>
                  <a:pt x="264" y="513"/>
                </a:lnTo>
                <a:lnTo>
                  <a:pt x="262" y="514"/>
                </a:lnTo>
                <a:lnTo>
                  <a:pt x="259" y="516"/>
                </a:lnTo>
                <a:lnTo>
                  <a:pt x="257" y="516"/>
                </a:lnTo>
                <a:lnTo>
                  <a:pt x="254" y="518"/>
                </a:lnTo>
                <a:lnTo>
                  <a:pt x="254" y="519"/>
                </a:lnTo>
                <a:lnTo>
                  <a:pt x="247" y="521"/>
                </a:lnTo>
                <a:lnTo>
                  <a:pt x="241" y="521"/>
                </a:lnTo>
                <a:lnTo>
                  <a:pt x="234" y="519"/>
                </a:lnTo>
                <a:lnTo>
                  <a:pt x="232" y="519"/>
                </a:lnTo>
                <a:lnTo>
                  <a:pt x="231" y="518"/>
                </a:lnTo>
                <a:lnTo>
                  <a:pt x="229" y="514"/>
                </a:lnTo>
                <a:lnTo>
                  <a:pt x="231" y="504"/>
                </a:lnTo>
                <a:lnTo>
                  <a:pt x="232" y="503"/>
                </a:lnTo>
                <a:lnTo>
                  <a:pt x="236" y="501"/>
                </a:lnTo>
                <a:lnTo>
                  <a:pt x="239" y="501"/>
                </a:lnTo>
                <a:lnTo>
                  <a:pt x="241" y="496"/>
                </a:lnTo>
                <a:lnTo>
                  <a:pt x="241" y="493"/>
                </a:lnTo>
                <a:lnTo>
                  <a:pt x="239" y="491"/>
                </a:lnTo>
                <a:lnTo>
                  <a:pt x="237" y="491"/>
                </a:lnTo>
                <a:lnTo>
                  <a:pt x="234" y="491"/>
                </a:lnTo>
                <a:lnTo>
                  <a:pt x="231" y="491"/>
                </a:lnTo>
                <a:lnTo>
                  <a:pt x="212" y="483"/>
                </a:lnTo>
                <a:lnTo>
                  <a:pt x="211" y="483"/>
                </a:lnTo>
                <a:lnTo>
                  <a:pt x="211" y="478"/>
                </a:lnTo>
                <a:lnTo>
                  <a:pt x="209" y="476"/>
                </a:lnTo>
                <a:lnTo>
                  <a:pt x="207" y="476"/>
                </a:lnTo>
                <a:lnTo>
                  <a:pt x="206" y="476"/>
                </a:lnTo>
                <a:lnTo>
                  <a:pt x="202" y="476"/>
                </a:lnTo>
                <a:lnTo>
                  <a:pt x="199" y="473"/>
                </a:lnTo>
                <a:lnTo>
                  <a:pt x="197" y="471"/>
                </a:lnTo>
                <a:lnTo>
                  <a:pt x="191" y="461"/>
                </a:lnTo>
                <a:lnTo>
                  <a:pt x="191" y="458"/>
                </a:lnTo>
                <a:lnTo>
                  <a:pt x="197" y="449"/>
                </a:lnTo>
                <a:lnTo>
                  <a:pt x="201" y="449"/>
                </a:lnTo>
                <a:lnTo>
                  <a:pt x="202" y="449"/>
                </a:lnTo>
                <a:lnTo>
                  <a:pt x="206" y="451"/>
                </a:lnTo>
                <a:lnTo>
                  <a:pt x="207" y="451"/>
                </a:lnTo>
                <a:lnTo>
                  <a:pt x="209" y="449"/>
                </a:lnTo>
                <a:lnTo>
                  <a:pt x="211" y="448"/>
                </a:lnTo>
                <a:lnTo>
                  <a:pt x="206" y="443"/>
                </a:lnTo>
                <a:lnTo>
                  <a:pt x="202" y="441"/>
                </a:lnTo>
                <a:lnTo>
                  <a:pt x="201" y="441"/>
                </a:lnTo>
                <a:lnTo>
                  <a:pt x="199" y="441"/>
                </a:lnTo>
                <a:lnTo>
                  <a:pt x="196" y="441"/>
                </a:lnTo>
                <a:lnTo>
                  <a:pt x="192" y="439"/>
                </a:lnTo>
                <a:lnTo>
                  <a:pt x="191" y="436"/>
                </a:lnTo>
                <a:lnTo>
                  <a:pt x="189" y="434"/>
                </a:lnTo>
                <a:lnTo>
                  <a:pt x="186" y="434"/>
                </a:lnTo>
                <a:lnTo>
                  <a:pt x="184" y="434"/>
                </a:lnTo>
                <a:lnTo>
                  <a:pt x="175" y="441"/>
                </a:lnTo>
                <a:lnTo>
                  <a:pt x="175" y="444"/>
                </a:lnTo>
                <a:lnTo>
                  <a:pt x="174" y="448"/>
                </a:lnTo>
                <a:lnTo>
                  <a:pt x="172" y="449"/>
                </a:lnTo>
                <a:lnTo>
                  <a:pt x="169" y="461"/>
                </a:lnTo>
                <a:lnTo>
                  <a:pt x="165" y="463"/>
                </a:lnTo>
                <a:lnTo>
                  <a:pt x="162" y="461"/>
                </a:lnTo>
                <a:lnTo>
                  <a:pt x="157" y="456"/>
                </a:lnTo>
                <a:lnTo>
                  <a:pt x="155" y="453"/>
                </a:lnTo>
                <a:lnTo>
                  <a:pt x="155" y="453"/>
                </a:lnTo>
                <a:lnTo>
                  <a:pt x="152" y="448"/>
                </a:lnTo>
                <a:lnTo>
                  <a:pt x="145" y="448"/>
                </a:lnTo>
                <a:lnTo>
                  <a:pt x="135" y="448"/>
                </a:lnTo>
                <a:lnTo>
                  <a:pt x="132" y="449"/>
                </a:lnTo>
                <a:lnTo>
                  <a:pt x="125" y="449"/>
                </a:lnTo>
                <a:lnTo>
                  <a:pt x="124" y="448"/>
                </a:lnTo>
                <a:lnTo>
                  <a:pt x="122" y="444"/>
                </a:lnTo>
                <a:lnTo>
                  <a:pt x="120" y="439"/>
                </a:lnTo>
                <a:lnTo>
                  <a:pt x="119" y="439"/>
                </a:lnTo>
                <a:lnTo>
                  <a:pt x="115" y="439"/>
                </a:lnTo>
                <a:lnTo>
                  <a:pt x="112" y="439"/>
                </a:lnTo>
                <a:lnTo>
                  <a:pt x="110" y="439"/>
                </a:lnTo>
                <a:lnTo>
                  <a:pt x="105" y="439"/>
                </a:lnTo>
                <a:lnTo>
                  <a:pt x="102" y="436"/>
                </a:lnTo>
                <a:lnTo>
                  <a:pt x="102" y="431"/>
                </a:lnTo>
                <a:lnTo>
                  <a:pt x="105" y="429"/>
                </a:lnTo>
                <a:lnTo>
                  <a:pt x="109" y="429"/>
                </a:lnTo>
                <a:lnTo>
                  <a:pt x="110" y="429"/>
                </a:lnTo>
                <a:lnTo>
                  <a:pt x="112" y="428"/>
                </a:lnTo>
                <a:lnTo>
                  <a:pt x="115" y="426"/>
                </a:lnTo>
                <a:lnTo>
                  <a:pt x="115" y="424"/>
                </a:lnTo>
                <a:lnTo>
                  <a:pt x="114" y="421"/>
                </a:lnTo>
                <a:lnTo>
                  <a:pt x="109" y="419"/>
                </a:lnTo>
                <a:lnTo>
                  <a:pt x="107" y="419"/>
                </a:lnTo>
                <a:lnTo>
                  <a:pt x="105" y="421"/>
                </a:lnTo>
                <a:lnTo>
                  <a:pt x="104" y="419"/>
                </a:lnTo>
                <a:lnTo>
                  <a:pt x="100" y="416"/>
                </a:lnTo>
                <a:lnTo>
                  <a:pt x="104" y="411"/>
                </a:lnTo>
                <a:lnTo>
                  <a:pt x="109" y="401"/>
                </a:lnTo>
                <a:lnTo>
                  <a:pt x="105" y="396"/>
                </a:lnTo>
                <a:lnTo>
                  <a:pt x="104" y="396"/>
                </a:lnTo>
                <a:lnTo>
                  <a:pt x="99" y="394"/>
                </a:lnTo>
                <a:lnTo>
                  <a:pt x="95" y="394"/>
                </a:lnTo>
                <a:lnTo>
                  <a:pt x="89" y="394"/>
                </a:lnTo>
                <a:lnTo>
                  <a:pt x="70" y="388"/>
                </a:lnTo>
                <a:lnTo>
                  <a:pt x="65" y="384"/>
                </a:lnTo>
                <a:lnTo>
                  <a:pt x="50" y="373"/>
                </a:lnTo>
                <a:lnTo>
                  <a:pt x="49" y="369"/>
                </a:lnTo>
                <a:lnTo>
                  <a:pt x="45" y="359"/>
                </a:lnTo>
                <a:lnTo>
                  <a:pt x="45" y="357"/>
                </a:lnTo>
                <a:lnTo>
                  <a:pt x="47" y="354"/>
                </a:lnTo>
                <a:lnTo>
                  <a:pt x="45" y="344"/>
                </a:lnTo>
                <a:lnTo>
                  <a:pt x="44" y="342"/>
                </a:lnTo>
                <a:lnTo>
                  <a:pt x="42" y="346"/>
                </a:lnTo>
                <a:lnTo>
                  <a:pt x="40" y="346"/>
                </a:lnTo>
                <a:lnTo>
                  <a:pt x="35" y="341"/>
                </a:lnTo>
                <a:lnTo>
                  <a:pt x="34" y="337"/>
                </a:lnTo>
                <a:lnTo>
                  <a:pt x="29" y="331"/>
                </a:lnTo>
                <a:lnTo>
                  <a:pt x="25" y="329"/>
                </a:lnTo>
                <a:lnTo>
                  <a:pt x="22" y="331"/>
                </a:lnTo>
                <a:lnTo>
                  <a:pt x="12" y="324"/>
                </a:lnTo>
                <a:lnTo>
                  <a:pt x="9" y="321"/>
                </a:lnTo>
                <a:lnTo>
                  <a:pt x="5" y="316"/>
                </a:lnTo>
                <a:lnTo>
                  <a:pt x="0" y="311"/>
                </a:lnTo>
                <a:lnTo>
                  <a:pt x="2" y="309"/>
                </a:lnTo>
                <a:lnTo>
                  <a:pt x="5" y="306"/>
                </a:lnTo>
                <a:lnTo>
                  <a:pt x="17" y="302"/>
                </a:lnTo>
                <a:lnTo>
                  <a:pt x="20" y="302"/>
                </a:lnTo>
                <a:lnTo>
                  <a:pt x="22" y="302"/>
                </a:lnTo>
                <a:lnTo>
                  <a:pt x="24" y="304"/>
                </a:lnTo>
                <a:lnTo>
                  <a:pt x="27" y="306"/>
                </a:lnTo>
                <a:lnTo>
                  <a:pt x="32" y="304"/>
                </a:lnTo>
                <a:lnTo>
                  <a:pt x="34" y="301"/>
                </a:lnTo>
                <a:lnTo>
                  <a:pt x="34" y="301"/>
                </a:lnTo>
                <a:lnTo>
                  <a:pt x="34" y="299"/>
                </a:lnTo>
                <a:lnTo>
                  <a:pt x="35" y="292"/>
                </a:lnTo>
                <a:lnTo>
                  <a:pt x="37" y="291"/>
                </a:lnTo>
                <a:lnTo>
                  <a:pt x="37" y="289"/>
                </a:lnTo>
                <a:lnTo>
                  <a:pt x="39" y="289"/>
                </a:lnTo>
                <a:lnTo>
                  <a:pt x="40" y="287"/>
                </a:lnTo>
                <a:lnTo>
                  <a:pt x="42" y="287"/>
                </a:lnTo>
                <a:lnTo>
                  <a:pt x="52" y="289"/>
                </a:lnTo>
                <a:lnTo>
                  <a:pt x="55" y="289"/>
                </a:lnTo>
                <a:lnTo>
                  <a:pt x="59" y="289"/>
                </a:lnTo>
                <a:lnTo>
                  <a:pt x="64" y="282"/>
                </a:lnTo>
                <a:lnTo>
                  <a:pt x="64" y="279"/>
                </a:lnTo>
                <a:lnTo>
                  <a:pt x="64" y="274"/>
                </a:lnTo>
                <a:lnTo>
                  <a:pt x="65" y="272"/>
                </a:lnTo>
                <a:lnTo>
                  <a:pt x="65" y="271"/>
                </a:lnTo>
                <a:lnTo>
                  <a:pt x="70" y="264"/>
                </a:lnTo>
                <a:lnTo>
                  <a:pt x="69" y="256"/>
                </a:lnTo>
                <a:lnTo>
                  <a:pt x="69" y="251"/>
                </a:lnTo>
                <a:lnTo>
                  <a:pt x="70" y="247"/>
                </a:lnTo>
                <a:lnTo>
                  <a:pt x="79" y="239"/>
                </a:lnTo>
                <a:lnTo>
                  <a:pt x="80" y="237"/>
                </a:lnTo>
                <a:lnTo>
                  <a:pt x="80" y="237"/>
                </a:lnTo>
                <a:lnTo>
                  <a:pt x="82" y="234"/>
                </a:lnTo>
                <a:lnTo>
                  <a:pt x="80" y="231"/>
                </a:lnTo>
                <a:lnTo>
                  <a:pt x="80" y="222"/>
                </a:lnTo>
                <a:lnTo>
                  <a:pt x="85" y="216"/>
                </a:lnTo>
                <a:lnTo>
                  <a:pt x="89" y="207"/>
                </a:lnTo>
                <a:lnTo>
                  <a:pt x="90" y="202"/>
                </a:lnTo>
                <a:lnTo>
                  <a:pt x="87" y="201"/>
                </a:lnTo>
                <a:lnTo>
                  <a:pt x="87" y="201"/>
                </a:lnTo>
                <a:lnTo>
                  <a:pt x="90" y="194"/>
                </a:lnTo>
                <a:lnTo>
                  <a:pt x="92" y="191"/>
                </a:lnTo>
                <a:lnTo>
                  <a:pt x="94" y="189"/>
                </a:lnTo>
                <a:lnTo>
                  <a:pt x="97" y="179"/>
                </a:lnTo>
                <a:lnTo>
                  <a:pt x="97" y="177"/>
                </a:lnTo>
                <a:lnTo>
                  <a:pt x="97" y="169"/>
                </a:lnTo>
                <a:lnTo>
                  <a:pt x="100" y="162"/>
                </a:lnTo>
                <a:lnTo>
                  <a:pt x="102" y="160"/>
                </a:lnTo>
                <a:lnTo>
                  <a:pt x="105" y="159"/>
                </a:lnTo>
                <a:lnTo>
                  <a:pt x="105" y="157"/>
                </a:lnTo>
                <a:lnTo>
                  <a:pt x="105" y="154"/>
                </a:lnTo>
                <a:lnTo>
                  <a:pt x="105" y="150"/>
                </a:lnTo>
                <a:lnTo>
                  <a:pt x="104" y="149"/>
                </a:lnTo>
                <a:lnTo>
                  <a:pt x="104" y="144"/>
                </a:lnTo>
                <a:lnTo>
                  <a:pt x="105" y="142"/>
                </a:lnTo>
                <a:lnTo>
                  <a:pt x="110" y="135"/>
                </a:lnTo>
                <a:lnTo>
                  <a:pt x="114" y="134"/>
                </a:lnTo>
                <a:lnTo>
                  <a:pt x="114" y="134"/>
                </a:lnTo>
                <a:lnTo>
                  <a:pt x="114" y="132"/>
                </a:lnTo>
                <a:lnTo>
                  <a:pt x="114" y="130"/>
                </a:lnTo>
                <a:lnTo>
                  <a:pt x="115" y="124"/>
                </a:lnTo>
                <a:lnTo>
                  <a:pt x="119" y="119"/>
                </a:lnTo>
                <a:lnTo>
                  <a:pt x="120" y="115"/>
                </a:lnTo>
                <a:lnTo>
                  <a:pt x="129" y="109"/>
                </a:lnTo>
                <a:lnTo>
                  <a:pt x="132" y="109"/>
                </a:lnTo>
                <a:lnTo>
                  <a:pt x="132" y="109"/>
                </a:lnTo>
                <a:lnTo>
                  <a:pt x="137" y="110"/>
                </a:lnTo>
                <a:lnTo>
                  <a:pt x="140" y="110"/>
                </a:lnTo>
                <a:lnTo>
                  <a:pt x="142" y="110"/>
                </a:lnTo>
                <a:lnTo>
                  <a:pt x="144" y="109"/>
                </a:lnTo>
                <a:lnTo>
                  <a:pt x="150" y="100"/>
                </a:lnTo>
                <a:lnTo>
                  <a:pt x="157" y="87"/>
                </a:lnTo>
                <a:lnTo>
                  <a:pt x="157" y="87"/>
                </a:lnTo>
                <a:lnTo>
                  <a:pt x="159" y="85"/>
                </a:lnTo>
                <a:lnTo>
                  <a:pt x="167" y="82"/>
                </a:lnTo>
                <a:lnTo>
                  <a:pt x="169" y="79"/>
                </a:lnTo>
                <a:lnTo>
                  <a:pt x="170" y="75"/>
                </a:lnTo>
                <a:lnTo>
                  <a:pt x="170" y="74"/>
                </a:lnTo>
                <a:lnTo>
                  <a:pt x="170" y="70"/>
                </a:lnTo>
                <a:lnTo>
                  <a:pt x="172" y="69"/>
                </a:lnTo>
                <a:lnTo>
                  <a:pt x="174" y="67"/>
                </a:lnTo>
                <a:lnTo>
                  <a:pt x="181" y="69"/>
                </a:lnTo>
                <a:lnTo>
                  <a:pt x="182" y="70"/>
                </a:lnTo>
                <a:lnTo>
                  <a:pt x="184" y="72"/>
                </a:lnTo>
                <a:lnTo>
                  <a:pt x="187" y="74"/>
                </a:lnTo>
                <a:lnTo>
                  <a:pt x="192" y="75"/>
                </a:lnTo>
                <a:lnTo>
                  <a:pt x="199" y="77"/>
                </a:lnTo>
                <a:lnTo>
                  <a:pt x="199" y="75"/>
                </a:lnTo>
                <a:lnTo>
                  <a:pt x="202" y="74"/>
                </a:lnTo>
                <a:lnTo>
                  <a:pt x="222" y="74"/>
                </a:lnTo>
                <a:lnTo>
                  <a:pt x="232" y="72"/>
                </a:lnTo>
                <a:lnTo>
                  <a:pt x="236" y="72"/>
                </a:lnTo>
                <a:lnTo>
                  <a:pt x="241" y="74"/>
                </a:lnTo>
                <a:lnTo>
                  <a:pt x="244" y="75"/>
                </a:lnTo>
                <a:lnTo>
                  <a:pt x="252" y="75"/>
                </a:lnTo>
                <a:lnTo>
                  <a:pt x="257" y="70"/>
                </a:lnTo>
                <a:lnTo>
                  <a:pt x="262" y="67"/>
                </a:lnTo>
                <a:lnTo>
                  <a:pt x="266" y="67"/>
                </a:lnTo>
                <a:lnTo>
                  <a:pt x="272" y="65"/>
                </a:lnTo>
                <a:lnTo>
                  <a:pt x="274" y="65"/>
                </a:lnTo>
                <a:lnTo>
                  <a:pt x="276" y="65"/>
                </a:lnTo>
                <a:lnTo>
                  <a:pt x="277" y="67"/>
                </a:lnTo>
                <a:lnTo>
                  <a:pt x="282" y="70"/>
                </a:lnTo>
                <a:lnTo>
                  <a:pt x="282" y="74"/>
                </a:lnTo>
                <a:lnTo>
                  <a:pt x="284" y="74"/>
                </a:lnTo>
                <a:lnTo>
                  <a:pt x="286" y="75"/>
                </a:lnTo>
                <a:lnTo>
                  <a:pt x="291" y="77"/>
                </a:lnTo>
                <a:lnTo>
                  <a:pt x="292" y="75"/>
                </a:lnTo>
                <a:lnTo>
                  <a:pt x="294" y="77"/>
                </a:lnTo>
                <a:lnTo>
                  <a:pt x="297" y="82"/>
                </a:lnTo>
                <a:lnTo>
                  <a:pt x="301" y="85"/>
                </a:lnTo>
                <a:lnTo>
                  <a:pt x="304" y="85"/>
                </a:lnTo>
                <a:lnTo>
                  <a:pt x="306" y="84"/>
                </a:lnTo>
                <a:lnTo>
                  <a:pt x="307" y="84"/>
                </a:lnTo>
                <a:lnTo>
                  <a:pt x="309" y="84"/>
                </a:lnTo>
                <a:lnTo>
                  <a:pt x="311" y="82"/>
                </a:lnTo>
                <a:lnTo>
                  <a:pt x="311" y="82"/>
                </a:lnTo>
                <a:lnTo>
                  <a:pt x="314" y="80"/>
                </a:lnTo>
                <a:lnTo>
                  <a:pt x="316" y="77"/>
                </a:lnTo>
                <a:lnTo>
                  <a:pt x="317" y="74"/>
                </a:lnTo>
                <a:lnTo>
                  <a:pt x="317" y="70"/>
                </a:lnTo>
                <a:lnTo>
                  <a:pt x="321" y="64"/>
                </a:lnTo>
                <a:lnTo>
                  <a:pt x="322" y="62"/>
                </a:lnTo>
                <a:lnTo>
                  <a:pt x="327" y="59"/>
                </a:lnTo>
                <a:lnTo>
                  <a:pt x="339" y="54"/>
                </a:lnTo>
                <a:lnTo>
                  <a:pt x="341" y="54"/>
                </a:lnTo>
                <a:lnTo>
                  <a:pt x="342" y="52"/>
                </a:lnTo>
                <a:lnTo>
                  <a:pt x="344" y="52"/>
                </a:lnTo>
                <a:lnTo>
                  <a:pt x="349" y="52"/>
                </a:lnTo>
                <a:lnTo>
                  <a:pt x="358" y="49"/>
                </a:lnTo>
                <a:lnTo>
                  <a:pt x="359" y="47"/>
                </a:lnTo>
                <a:lnTo>
                  <a:pt x="361" y="45"/>
                </a:lnTo>
                <a:lnTo>
                  <a:pt x="366" y="44"/>
                </a:lnTo>
                <a:lnTo>
                  <a:pt x="374" y="40"/>
                </a:lnTo>
                <a:lnTo>
                  <a:pt x="379" y="40"/>
                </a:lnTo>
                <a:lnTo>
                  <a:pt x="379" y="40"/>
                </a:lnTo>
                <a:lnTo>
                  <a:pt x="383" y="39"/>
                </a:lnTo>
                <a:lnTo>
                  <a:pt x="384" y="37"/>
                </a:lnTo>
                <a:lnTo>
                  <a:pt x="388" y="27"/>
                </a:lnTo>
                <a:lnTo>
                  <a:pt x="389" y="15"/>
                </a:lnTo>
                <a:lnTo>
                  <a:pt x="398" y="9"/>
                </a:lnTo>
                <a:lnTo>
                  <a:pt x="401" y="9"/>
                </a:lnTo>
                <a:lnTo>
                  <a:pt x="403" y="9"/>
                </a:lnTo>
                <a:lnTo>
                  <a:pt x="404" y="7"/>
                </a:lnTo>
                <a:lnTo>
                  <a:pt x="409" y="2"/>
                </a:lnTo>
                <a:lnTo>
                  <a:pt x="413" y="0"/>
                </a:lnTo>
                <a:lnTo>
                  <a:pt x="421" y="0"/>
                </a:lnTo>
                <a:lnTo>
                  <a:pt x="433" y="5"/>
                </a:lnTo>
                <a:lnTo>
                  <a:pt x="436" y="7"/>
                </a:lnTo>
                <a:lnTo>
                  <a:pt x="451" y="22"/>
                </a:lnTo>
                <a:lnTo>
                  <a:pt x="456" y="30"/>
                </a:lnTo>
                <a:lnTo>
                  <a:pt x="458" y="37"/>
                </a:lnTo>
                <a:lnTo>
                  <a:pt x="461" y="42"/>
                </a:lnTo>
                <a:lnTo>
                  <a:pt x="468" y="50"/>
                </a:lnTo>
                <a:lnTo>
                  <a:pt x="469" y="54"/>
                </a:lnTo>
                <a:lnTo>
                  <a:pt x="471" y="55"/>
                </a:lnTo>
                <a:lnTo>
                  <a:pt x="474" y="57"/>
                </a:lnTo>
                <a:lnTo>
                  <a:pt x="481" y="62"/>
                </a:lnTo>
                <a:lnTo>
                  <a:pt x="486" y="69"/>
                </a:lnTo>
                <a:lnTo>
                  <a:pt x="496" y="80"/>
                </a:lnTo>
                <a:lnTo>
                  <a:pt x="501" y="85"/>
                </a:lnTo>
                <a:lnTo>
                  <a:pt x="504" y="85"/>
                </a:lnTo>
                <a:lnTo>
                  <a:pt x="508" y="85"/>
                </a:lnTo>
                <a:lnTo>
                  <a:pt x="509" y="89"/>
                </a:lnTo>
                <a:lnTo>
                  <a:pt x="514" y="94"/>
                </a:lnTo>
                <a:lnTo>
                  <a:pt x="516" y="99"/>
                </a:lnTo>
                <a:lnTo>
                  <a:pt x="523" y="102"/>
                </a:lnTo>
                <a:lnTo>
                  <a:pt x="530" y="107"/>
                </a:lnTo>
                <a:lnTo>
                  <a:pt x="535" y="109"/>
                </a:lnTo>
                <a:lnTo>
                  <a:pt x="536" y="109"/>
                </a:lnTo>
                <a:lnTo>
                  <a:pt x="541" y="112"/>
                </a:lnTo>
                <a:lnTo>
                  <a:pt x="545" y="117"/>
                </a:lnTo>
                <a:lnTo>
                  <a:pt x="546" y="120"/>
                </a:lnTo>
                <a:lnTo>
                  <a:pt x="546" y="124"/>
                </a:lnTo>
                <a:lnTo>
                  <a:pt x="548" y="125"/>
                </a:lnTo>
                <a:lnTo>
                  <a:pt x="555" y="135"/>
                </a:lnTo>
                <a:lnTo>
                  <a:pt x="556" y="139"/>
                </a:lnTo>
                <a:lnTo>
                  <a:pt x="560" y="140"/>
                </a:lnTo>
                <a:lnTo>
                  <a:pt x="563" y="147"/>
                </a:lnTo>
                <a:lnTo>
                  <a:pt x="568" y="165"/>
                </a:lnTo>
                <a:lnTo>
                  <a:pt x="566" y="177"/>
                </a:lnTo>
                <a:lnTo>
                  <a:pt x="566" y="192"/>
                </a:lnTo>
                <a:lnTo>
                  <a:pt x="566" y="202"/>
                </a:lnTo>
                <a:lnTo>
                  <a:pt x="565" y="206"/>
                </a:lnTo>
                <a:lnTo>
                  <a:pt x="568" y="214"/>
                </a:lnTo>
                <a:lnTo>
                  <a:pt x="570" y="216"/>
                </a:lnTo>
                <a:lnTo>
                  <a:pt x="571" y="221"/>
                </a:lnTo>
                <a:lnTo>
                  <a:pt x="580" y="241"/>
                </a:lnTo>
                <a:lnTo>
                  <a:pt x="581" y="246"/>
                </a:lnTo>
                <a:lnTo>
                  <a:pt x="581" y="251"/>
                </a:lnTo>
                <a:lnTo>
                  <a:pt x="581" y="251"/>
                </a:lnTo>
                <a:lnTo>
                  <a:pt x="576" y="256"/>
                </a:lnTo>
                <a:lnTo>
                  <a:pt x="588" y="266"/>
                </a:lnTo>
                <a:lnTo>
                  <a:pt x="590" y="267"/>
                </a:lnTo>
                <a:lnTo>
                  <a:pt x="591" y="267"/>
                </a:lnTo>
                <a:lnTo>
                  <a:pt x="591" y="267"/>
                </a:lnTo>
                <a:lnTo>
                  <a:pt x="596" y="269"/>
                </a:lnTo>
                <a:lnTo>
                  <a:pt x="596" y="272"/>
                </a:lnTo>
                <a:lnTo>
                  <a:pt x="600" y="276"/>
                </a:lnTo>
                <a:lnTo>
                  <a:pt x="601" y="277"/>
                </a:lnTo>
                <a:lnTo>
                  <a:pt x="603" y="279"/>
                </a:lnTo>
                <a:lnTo>
                  <a:pt x="606" y="281"/>
                </a:lnTo>
                <a:lnTo>
                  <a:pt x="621" y="282"/>
                </a:lnTo>
                <a:lnTo>
                  <a:pt x="631" y="282"/>
                </a:lnTo>
                <a:lnTo>
                  <a:pt x="638" y="279"/>
                </a:lnTo>
                <a:lnTo>
                  <a:pt x="640" y="271"/>
                </a:lnTo>
                <a:lnTo>
                  <a:pt x="648" y="267"/>
                </a:lnTo>
                <a:lnTo>
                  <a:pt x="663" y="251"/>
                </a:lnTo>
                <a:lnTo>
                  <a:pt x="670" y="247"/>
                </a:lnTo>
                <a:lnTo>
                  <a:pt x="676" y="246"/>
                </a:lnTo>
                <a:lnTo>
                  <a:pt x="685" y="247"/>
                </a:lnTo>
                <a:lnTo>
                  <a:pt x="690" y="247"/>
                </a:lnTo>
                <a:lnTo>
                  <a:pt x="693" y="249"/>
                </a:lnTo>
                <a:lnTo>
                  <a:pt x="697" y="251"/>
                </a:lnTo>
                <a:lnTo>
                  <a:pt x="698" y="252"/>
                </a:lnTo>
                <a:lnTo>
                  <a:pt x="700" y="256"/>
                </a:lnTo>
                <a:lnTo>
                  <a:pt x="700" y="257"/>
                </a:lnTo>
                <a:lnTo>
                  <a:pt x="702" y="264"/>
                </a:lnTo>
                <a:lnTo>
                  <a:pt x="698" y="266"/>
                </a:lnTo>
                <a:lnTo>
                  <a:pt x="702" y="269"/>
                </a:lnTo>
                <a:lnTo>
                  <a:pt x="705" y="274"/>
                </a:lnTo>
                <a:lnTo>
                  <a:pt x="707" y="289"/>
                </a:lnTo>
                <a:lnTo>
                  <a:pt x="708" y="304"/>
                </a:lnTo>
                <a:lnTo>
                  <a:pt x="705" y="307"/>
                </a:lnTo>
                <a:lnTo>
                  <a:pt x="698" y="311"/>
                </a:lnTo>
                <a:lnTo>
                  <a:pt x="693" y="312"/>
                </a:lnTo>
                <a:lnTo>
                  <a:pt x="690" y="312"/>
                </a:lnTo>
                <a:lnTo>
                  <a:pt x="683" y="316"/>
                </a:lnTo>
                <a:lnTo>
                  <a:pt x="681" y="316"/>
                </a:lnTo>
                <a:lnTo>
                  <a:pt x="670" y="316"/>
                </a:lnTo>
                <a:lnTo>
                  <a:pt x="666" y="314"/>
                </a:lnTo>
                <a:lnTo>
                  <a:pt x="665" y="306"/>
                </a:lnTo>
                <a:lnTo>
                  <a:pt x="666" y="304"/>
                </a:lnTo>
                <a:lnTo>
                  <a:pt x="668" y="301"/>
                </a:lnTo>
                <a:lnTo>
                  <a:pt x="663" y="297"/>
                </a:lnTo>
                <a:lnTo>
                  <a:pt x="658" y="299"/>
                </a:lnTo>
                <a:lnTo>
                  <a:pt x="653" y="304"/>
                </a:lnTo>
                <a:lnTo>
                  <a:pt x="651" y="307"/>
                </a:lnTo>
                <a:lnTo>
                  <a:pt x="653" y="314"/>
                </a:lnTo>
                <a:lnTo>
                  <a:pt x="655" y="316"/>
                </a:lnTo>
                <a:lnTo>
                  <a:pt x="660" y="317"/>
                </a:lnTo>
                <a:lnTo>
                  <a:pt x="660" y="324"/>
                </a:lnTo>
                <a:lnTo>
                  <a:pt x="660" y="326"/>
                </a:lnTo>
                <a:lnTo>
                  <a:pt x="656" y="327"/>
                </a:lnTo>
                <a:lnTo>
                  <a:pt x="653" y="332"/>
                </a:lnTo>
                <a:lnTo>
                  <a:pt x="651" y="334"/>
                </a:lnTo>
                <a:lnTo>
                  <a:pt x="653" y="339"/>
                </a:lnTo>
                <a:lnTo>
                  <a:pt x="653" y="341"/>
                </a:lnTo>
                <a:lnTo>
                  <a:pt x="655" y="341"/>
                </a:lnTo>
                <a:lnTo>
                  <a:pt x="658" y="339"/>
                </a:lnTo>
                <a:lnTo>
                  <a:pt x="661" y="334"/>
                </a:lnTo>
                <a:lnTo>
                  <a:pt x="661" y="332"/>
                </a:lnTo>
                <a:lnTo>
                  <a:pt x="660" y="331"/>
                </a:lnTo>
                <a:lnTo>
                  <a:pt x="663" y="331"/>
                </a:lnTo>
                <a:lnTo>
                  <a:pt x="665" y="331"/>
                </a:lnTo>
                <a:lnTo>
                  <a:pt x="668" y="332"/>
                </a:lnTo>
                <a:lnTo>
                  <a:pt x="666" y="336"/>
                </a:lnTo>
                <a:lnTo>
                  <a:pt x="666" y="339"/>
                </a:lnTo>
                <a:lnTo>
                  <a:pt x="666" y="334"/>
                </a:lnTo>
                <a:lnTo>
                  <a:pt x="665" y="332"/>
                </a:lnTo>
                <a:lnTo>
                  <a:pt x="656" y="342"/>
                </a:lnTo>
                <a:lnTo>
                  <a:pt x="655" y="341"/>
                </a:lnTo>
                <a:lnTo>
                  <a:pt x="653" y="342"/>
                </a:lnTo>
                <a:lnTo>
                  <a:pt x="655" y="354"/>
                </a:lnTo>
                <a:lnTo>
                  <a:pt x="658" y="351"/>
                </a:lnTo>
                <a:lnTo>
                  <a:pt x="665" y="341"/>
                </a:lnTo>
                <a:lnTo>
                  <a:pt x="665" y="344"/>
                </a:lnTo>
                <a:lnTo>
                  <a:pt x="663" y="349"/>
                </a:lnTo>
                <a:lnTo>
                  <a:pt x="661" y="354"/>
                </a:lnTo>
                <a:lnTo>
                  <a:pt x="661" y="356"/>
                </a:lnTo>
                <a:lnTo>
                  <a:pt x="660" y="359"/>
                </a:lnTo>
                <a:lnTo>
                  <a:pt x="656" y="362"/>
                </a:lnTo>
                <a:lnTo>
                  <a:pt x="651" y="376"/>
                </a:lnTo>
                <a:lnTo>
                  <a:pt x="651" y="379"/>
                </a:lnTo>
                <a:lnTo>
                  <a:pt x="651" y="381"/>
                </a:lnTo>
                <a:lnTo>
                  <a:pt x="655" y="393"/>
                </a:lnTo>
                <a:lnTo>
                  <a:pt x="663" y="411"/>
                </a:lnTo>
                <a:lnTo>
                  <a:pt x="661" y="414"/>
                </a:lnTo>
                <a:lnTo>
                  <a:pt x="661" y="423"/>
                </a:lnTo>
                <a:lnTo>
                  <a:pt x="661" y="428"/>
                </a:lnTo>
                <a:lnTo>
                  <a:pt x="661" y="431"/>
                </a:lnTo>
                <a:lnTo>
                  <a:pt x="661" y="434"/>
                </a:lnTo>
                <a:lnTo>
                  <a:pt x="663" y="436"/>
                </a:lnTo>
                <a:lnTo>
                  <a:pt x="655" y="439"/>
                </a:lnTo>
                <a:lnTo>
                  <a:pt x="650" y="439"/>
                </a:lnTo>
                <a:lnTo>
                  <a:pt x="638" y="441"/>
                </a:lnTo>
                <a:lnTo>
                  <a:pt x="636" y="441"/>
                </a:lnTo>
                <a:lnTo>
                  <a:pt x="631" y="439"/>
                </a:lnTo>
                <a:lnTo>
                  <a:pt x="628" y="439"/>
                </a:lnTo>
                <a:lnTo>
                  <a:pt x="620" y="438"/>
                </a:lnTo>
                <a:lnTo>
                  <a:pt x="616" y="436"/>
                </a:lnTo>
                <a:lnTo>
                  <a:pt x="611" y="428"/>
                </a:lnTo>
                <a:lnTo>
                  <a:pt x="610" y="424"/>
                </a:lnTo>
                <a:lnTo>
                  <a:pt x="606" y="423"/>
                </a:lnTo>
                <a:lnTo>
                  <a:pt x="603" y="426"/>
                </a:lnTo>
                <a:lnTo>
                  <a:pt x="601" y="428"/>
                </a:lnTo>
                <a:lnTo>
                  <a:pt x="600" y="428"/>
                </a:lnTo>
                <a:lnTo>
                  <a:pt x="595" y="431"/>
                </a:lnTo>
                <a:lnTo>
                  <a:pt x="593" y="429"/>
                </a:lnTo>
                <a:lnTo>
                  <a:pt x="591" y="428"/>
                </a:lnTo>
                <a:lnTo>
                  <a:pt x="588" y="424"/>
                </a:lnTo>
                <a:lnTo>
                  <a:pt x="586" y="423"/>
                </a:lnTo>
                <a:lnTo>
                  <a:pt x="585" y="426"/>
                </a:lnTo>
                <a:lnTo>
                  <a:pt x="573" y="429"/>
                </a:lnTo>
                <a:lnTo>
                  <a:pt x="568" y="429"/>
                </a:lnTo>
                <a:lnTo>
                  <a:pt x="558" y="426"/>
                </a:lnTo>
                <a:lnTo>
                  <a:pt x="556" y="424"/>
                </a:lnTo>
                <a:lnTo>
                  <a:pt x="556" y="421"/>
                </a:lnTo>
                <a:lnTo>
                  <a:pt x="555" y="423"/>
                </a:lnTo>
                <a:lnTo>
                  <a:pt x="553" y="423"/>
                </a:lnTo>
                <a:lnTo>
                  <a:pt x="550" y="423"/>
                </a:lnTo>
                <a:lnTo>
                  <a:pt x="548" y="423"/>
                </a:lnTo>
                <a:lnTo>
                  <a:pt x="543" y="423"/>
                </a:lnTo>
                <a:lnTo>
                  <a:pt x="538" y="424"/>
                </a:lnTo>
                <a:lnTo>
                  <a:pt x="530" y="428"/>
                </a:lnTo>
                <a:lnTo>
                  <a:pt x="528" y="428"/>
                </a:lnTo>
                <a:lnTo>
                  <a:pt x="525" y="431"/>
                </a:lnTo>
                <a:lnTo>
                  <a:pt x="521" y="433"/>
                </a:lnTo>
                <a:lnTo>
                  <a:pt x="513" y="438"/>
                </a:lnTo>
                <a:lnTo>
                  <a:pt x="498" y="443"/>
                </a:lnTo>
                <a:lnTo>
                  <a:pt x="496" y="444"/>
                </a:lnTo>
                <a:lnTo>
                  <a:pt x="494" y="444"/>
                </a:lnTo>
                <a:lnTo>
                  <a:pt x="491" y="446"/>
                </a:lnTo>
                <a:lnTo>
                  <a:pt x="486" y="448"/>
                </a:lnTo>
                <a:lnTo>
                  <a:pt x="474" y="456"/>
                </a:lnTo>
                <a:lnTo>
                  <a:pt x="473" y="458"/>
                </a:lnTo>
                <a:lnTo>
                  <a:pt x="471" y="461"/>
                </a:lnTo>
                <a:lnTo>
                  <a:pt x="463" y="473"/>
                </a:lnTo>
                <a:lnTo>
                  <a:pt x="459" y="479"/>
                </a:lnTo>
                <a:lnTo>
                  <a:pt x="454" y="489"/>
                </a:lnTo>
                <a:lnTo>
                  <a:pt x="453" y="491"/>
                </a:lnTo>
                <a:lnTo>
                  <a:pt x="451" y="493"/>
                </a:lnTo>
                <a:lnTo>
                  <a:pt x="448" y="494"/>
                </a:lnTo>
                <a:lnTo>
                  <a:pt x="443" y="498"/>
                </a:lnTo>
                <a:lnTo>
                  <a:pt x="438" y="501"/>
                </a:lnTo>
                <a:lnTo>
                  <a:pt x="433" y="503"/>
                </a:lnTo>
                <a:lnTo>
                  <a:pt x="429" y="504"/>
                </a:lnTo>
                <a:lnTo>
                  <a:pt x="426" y="506"/>
                </a:lnTo>
                <a:lnTo>
                  <a:pt x="423" y="506"/>
                </a:lnTo>
                <a:lnTo>
                  <a:pt x="421" y="504"/>
                </a:lnTo>
                <a:lnTo>
                  <a:pt x="416" y="503"/>
                </a:lnTo>
                <a:lnTo>
                  <a:pt x="413" y="501"/>
                </a:lnTo>
                <a:lnTo>
                  <a:pt x="398" y="503"/>
                </a:lnTo>
                <a:lnTo>
                  <a:pt x="386" y="504"/>
                </a:lnTo>
                <a:lnTo>
                  <a:pt x="379" y="506"/>
                </a:lnTo>
                <a:lnTo>
                  <a:pt x="374" y="506"/>
                </a:lnTo>
                <a:lnTo>
                  <a:pt x="373" y="506"/>
                </a:lnTo>
                <a:lnTo>
                  <a:pt x="364" y="504"/>
                </a:lnTo>
                <a:lnTo>
                  <a:pt x="361" y="504"/>
                </a:lnTo>
                <a:lnTo>
                  <a:pt x="359" y="504"/>
                </a:lnTo>
                <a:lnTo>
                  <a:pt x="358" y="504"/>
                </a:lnTo>
                <a:lnTo>
                  <a:pt x="354" y="508"/>
                </a:lnTo>
                <a:lnTo>
                  <a:pt x="353" y="509"/>
                </a:lnTo>
                <a:lnTo>
                  <a:pt x="351" y="511"/>
                </a:lnTo>
                <a:lnTo>
                  <a:pt x="347" y="514"/>
                </a:lnTo>
                <a:lnTo>
                  <a:pt x="344" y="514"/>
                </a:lnTo>
              </a:path>
            </a:pathLst>
          </a:custGeom>
          <a:solidFill>
            <a:srgbClr val="003300">
              <a:alpha val="67000"/>
            </a:srgbClr>
          </a:solidFill>
          <a:ln w="46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"/>
          <p:cNvSpPr/>
          <p:nvPr/>
        </p:nvSpPr>
        <p:spPr>
          <a:xfrm rot="480000">
            <a:off x="6025680" y="3168360"/>
            <a:ext cx="3591000" cy="2760480"/>
          </a:xfrm>
          <a:custGeom>
            <a:avLst/>
            <a:gdLst/>
            <a:ahLst/>
            <a:rect l="l" t="t" r="r" b="b"/>
            <a:pathLst>
              <a:path w="476" h="359">
                <a:moveTo>
                  <a:pt x="90" y="359"/>
                </a:moveTo>
                <a:lnTo>
                  <a:pt x="92" y="357"/>
                </a:lnTo>
                <a:lnTo>
                  <a:pt x="92" y="356"/>
                </a:lnTo>
                <a:lnTo>
                  <a:pt x="88" y="344"/>
                </a:lnTo>
                <a:lnTo>
                  <a:pt x="87" y="332"/>
                </a:lnTo>
                <a:lnTo>
                  <a:pt x="85" y="329"/>
                </a:lnTo>
                <a:lnTo>
                  <a:pt x="88" y="324"/>
                </a:lnTo>
                <a:lnTo>
                  <a:pt x="90" y="320"/>
                </a:lnTo>
                <a:lnTo>
                  <a:pt x="90" y="317"/>
                </a:lnTo>
                <a:lnTo>
                  <a:pt x="88" y="314"/>
                </a:lnTo>
                <a:lnTo>
                  <a:pt x="83" y="314"/>
                </a:lnTo>
                <a:lnTo>
                  <a:pt x="82" y="310"/>
                </a:lnTo>
                <a:lnTo>
                  <a:pt x="77" y="304"/>
                </a:lnTo>
                <a:lnTo>
                  <a:pt x="73" y="297"/>
                </a:lnTo>
                <a:lnTo>
                  <a:pt x="68" y="289"/>
                </a:lnTo>
                <a:lnTo>
                  <a:pt x="57" y="287"/>
                </a:lnTo>
                <a:lnTo>
                  <a:pt x="50" y="284"/>
                </a:lnTo>
                <a:lnTo>
                  <a:pt x="42" y="280"/>
                </a:lnTo>
                <a:lnTo>
                  <a:pt x="32" y="269"/>
                </a:lnTo>
                <a:lnTo>
                  <a:pt x="27" y="264"/>
                </a:lnTo>
                <a:lnTo>
                  <a:pt x="30" y="262"/>
                </a:lnTo>
                <a:lnTo>
                  <a:pt x="33" y="259"/>
                </a:lnTo>
                <a:lnTo>
                  <a:pt x="38" y="254"/>
                </a:lnTo>
                <a:lnTo>
                  <a:pt x="38" y="252"/>
                </a:lnTo>
                <a:lnTo>
                  <a:pt x="40" y="245"/>
                </a:lnTo>
                <a:lnTo>
                  <a:pt x="38" y="242"/>
                </a:lnTo>
                <a:lnTo>
                  <a:pt x="35" y="240"/>
                </a:lnTo>
                <a:lnTo>
                  <a:pt x="32" y="237"/>
                </a:lnTo>
                <a:lnTo>
                  <a:pt x="28" y="234"/>
                </a:lnTo>
                <a:lnTo>
                  <a:pt x="25" y="212"/>
                </a:lnTo>
                <a:lnTo>
                  <a:pt x="30" y="205"/>
                </a:lnTo>
                <a:lnTo>
                  <a:pt x="35" y="202"/>
                </a:lnTo>
                <a:lnTo>
                  <a:pt x="37" y="202"/>
                </a:lnTo>
                <a:lnTo>
                  <a:pt x="40" y="202"/>
                </a:lnTo>
                <a:lnTo>
                  <a:pt x="47" y="200"/>
                </a:lnTo>
                <a:lnTo>
                  <a:pt x="60" y="175"/>
                </a:lnTo>
                <a:lnTo>
                  <a:pt x="60" y="170"/>
                </a:lnTo>
                <a:lnTo>
                  <a:pt x="60" y="165"/>
                </a:lnTo>
                <a:lnTo>
                  <a:pt x="55" y="164"/>
                </a:lnTo>
                <a:lnTo>
                  <a:pt x="52" y="162"/>
                </a:lnTo>
                <a:lnTo>
                  <a:pt x="47" y="157"/>
                </a:lnTo>
                <a:lnTo>
                  <a:pt x="45" y="154"/>
                </a:lnTo>
                <a:lnTo>
                  <a:pt x="38" y="148"/>
                </a:lnTo>
                <a:lnTo>
                  <a:pt x="35" y="147"/>
                </a:lnTo>
                <a:lnTo>
                  <a:pt x="32" y="147"/>
                </a:lnTo>
                <a:lnTo>
                  <a:pt x="28" y="145"/>
                </a:lnTo>
                <a:lnTo>
                  <a:pt x="20" y="142"/>
                </a:lnTo>
                <a:lnTo>
                  <a:pt x="7" y="118"/>
                </a:lnTo>
                <a:lnTo>
                  <a:pt x="0" y="107"/>
                </a:lnTo>
                <a:lnTo>
                  <a:pt x="2" y="87"/>
                </a:lnTo>
                <a:lnTo>
                  <a:pt x="10" y="80"/>
                </a:lnTo>
                <a:lnTo>
                  <a:pt x="13" y="73"/>
                </a:lnTo>
                <a:lnTo>
                  <a:pt x="13" y="68"/>
                </a:lnTo>
                <a:lnTo>
                  <a:pt x="15" y="63"/>
                </a:lnTo>
                <a:lnTo>
                  <a:pt x="17" y="62"/>
                </a:lnTo>
                <a:lnTo>
                  <a:pt x="17" y="62"/>
                </a:lnTo>
                <a:lnTo>
                  <a:pt x="18" y="62"/>
                </a:lnTo>
                <a:lnTo>
                  <a:pt x="37" y="70"/>
                </a:lnTo>
                <a:lnTo>
                  <a:pt x="40" y="70"/>
                </a:lnTo>
                <a:lnTo>
                  <a:pt x="43" y="70"/>
                </a:lnTo>
                <a:lnTo>
                  <a:pt x="45" y="70"/>
                </a:lnTo>
                <a:lnTo>
                  <a:pt x="47" y="72"/>
                </a:lnTo>
                <a:lnTo>
                  <a:pt x="47" y="75"/>
                </a:lnTo>
                <a:lnTo>
                  <a:pt x="45" y="80"/>
                </a:lnTo>
                <a:lnTo>
                  <a:pt x="42" y="80"/>
                </a:lnTo>
                <a:lnTo>
                  <a:pt x="38" y="82"/>
                </a:lnTo>
                <a:lnTo>
                  <a:pt x="37" y="83"/>
                </a:lnTo>
                <a:lnTo>
                  <a:pt x="35" y="93"/>
                </a:lnTo>
                <a:lnTo>
                  <a:pt x="37" y="97"/>
                </a:lnTo>
                <a:lnTo>
                  <a:pt x="38" y="98"/>
                </a:lnTo>
                <a:lnTo>
                  <a:pt x="40" y="98"/>
                </a:lnTo>
                <a:lnTo>
                  <a:pt x="47" y="100"/>
                </a:lnTo>
                <a:lnTo>
                  <a:pt x="53" y="100"/>
                </a:lnTo>
                <a:lnTo>
                  <a:pt x="60" y="98"/>
                </a:lnTo>
                <a:lnTo>
                  <a:pt x="60" y="97"/>
                </a:lnTo>
                <a:lnTo>
                  <a:pt x="63" y="95"/>
                </a:lnTo>
                <a:lnTo>
                  <a:pt x="65" y="95"/>
                </a:lnTo>
                <a:lnTo>
                  <a:pt x="68" y="93"/>
                </a:lnTo>
                <a:lnTo>
                  <a:pt x="70" y="92"/>
                </a:lnTo>
                <a:lnTo>
                  <a:pt x="80" y="90"/>
                </a:lnTo>
                <a:lnTo>
                  <a:pt x="82" y="90"/>
                </a:lnTo>
                <a:lnTo>
                  <a:pt x="87" y="90"/>
                </a:lnTo>
                <a:lnTo>
                  <a:pt x="88" y="92"/>
                </a:lnTo>
                <a:lnTo>
                  <a:pt x="92" y="93"/>
                </a:lnTo>
                <a:lnTo>
                  <a:pt x="95" y="93"/>
                </a:lnTo>
                <a:lnTo>
                  <a:pt x="97" y="93"/>
                </a:lnTo>
                <a:lnTo>
                  <a:pt x="107" y="92"/>
                </a:lnTo>
                <a:lnTo>
                  <a:pt x="125" y="93"/>
                </a:lnTo>
                <a:lnTo>
                  <a:pt x="132" y="95"/>
                </a:lnTo>
                <a:lnTo>
                  <a:pt x="135" y="97"/>
                </a:lnTo>
                <a:lnTo>
                  <a:pt x="138" y="97"/>
                </a:lnTo>
                <a:lnTo>
                  <a:pt x="140" y="97"/>
                </a:lnTo>
                <a:lnTo>
                  <a:pt x="143" y="95"/>
                </a:lnTo>
                <a:lnTo>
                  <a:pt x="145" y="95"/>
                </a:lnTo>
                <a:lnTo>
                  <a:pt x="148" y="93"/>
                </a:lnTo>
                <a:lnTo>
                  <a:pt x="150" y="93"/>
                </a:lnTo>
                <a:lnTo>
                  <a:pt x="150" y="93"/>
                </a:lnTo>
                <a:lnTo>
                  <a:pt x="153" y="93"/>
                </a:lnTo>
                <a:lnTo>
                  <a:pt x="157" y="90"/>
                </a:lnTo>
                <a:lnTo>
                  <a:pt x="159" y="88"/>
                </a:lnTo>
                <a:lnTo>
                  <a:pt x="160" y="87"/>
                </a:lnTo>
                <a:lnTo>
                  <a:pt x="164" y="83"/>
                </a:lnTo>
                <a:lnTo>
                  <a:pt x="165" y="83"/>
                </a:lnTo>
                <a:lnTo>
                  <a:pt x="167" y="83"/>
                </a:lnTo>
                <a:lnTo>
                  <a:pt x="170" y="83"/>
                </a:lnTo>
                <a:lnTo>
                  <a:pt x="179" y="85"/>
                </a:lnTo>
                <a:lnTo>
                  <a:pt x="180" y="85"/>
                </a:lnTo>
                <a:lnTo>
                  <a:pt x="185" y="85"/>
                </a:lnTo>
                <a:lnTo>
                  <a:pt x="192" y="83"/>
                </a:lnTo>
                <a:lnTo>
                  <a:pt x="204" y="82"/>
                </a:lnTo>
                <a:lnTo>
                  <a:pt x="219" y="80"/>
                </a:lnTo>
                <a:lnTo>
                  <a:pt x="222" y="82"/>
                </a:lnTo>
                <a:lnTo>
                  <a:pt x="227" y="83"/>
                </a:lnTo>
                <a:lnTo>
                  <a:pt x="229" y="85"/>
                </a:lnTo>
                <a:lnTo>
                  <a:pt x="232" y="85"/>
                </a:lnTo>
                <a:lnTo>
                  <a:pt x="235" y="83"/>
                </a:lnTo>
                <a:lnTo>
                  <a:pt x="239" y="82"/>
                </a:lnTo>
                <a:lnTo>
                  <a:pt x="244" y="80"/>
                </a:lnTo>
                <a:lnTo>
                  <a:pt x="249" y="77"/>
                </a:lnTo>
                <a:lnTo>
                  <a:pt x="254" y="73"/>
                </a:lnTo>
                <a:lnTo>
                  <a:pt x="257" y="72"/>
                </a:lnTo>
                <a:lnTo>
                  <a:pt x="259" y="70"/>
                </a:lnTo>
                <a:lnTo>
                  <a:pt x="260" y="68"/>
                </a:lnTo>
                <a:lnTo>
                  <a:pt x="265" y="58"/>
                </a:lnTo>
                <a:lnTo>
                  <a:pt x="269" y="52"/>
                </a:lnTo>
                <a:lnTo>
                  <a:pt x="277" y="40"/>
                </a:lnTo>
                <a:lnTo>
                  <a:pt x="279" y="37"/>
                </a:lnTo>
                <a:lnTo>
                  <a:pt x="280" y="35"/>
                </a:lnTo>
                <a:lnTo>
                  <a:pt x="292" y="27"/>
                </a:lnTo>
                <a:lnTo>
                  <a:pt x="297" y="25"/>
                </a:lnTo>
                <a:lnTo>
                  <a:pt x="300" y="23"/>
                </a:lnTo>
                <a:lnTo>
                  <a:pt x="302" y="23"/>
                </a:lnTo>
                <a:lnTo>
                  <a:pt x="304" y="22"/>
                </a:lnTo>
                <a:lnTo>
                  <a:pt x="319" y="17"/>
                </a:lnTo>
                <a:lnTo>
                  <a:pt x="327" y="12"/>
                </a:lnTo>
                <a:lnTo>
                  <a:pt x="331" y="10"/>
                </a:lnTo>
                <a:lnTo>
                  <a:pt x="334" y="7"/>
                </a:lnTo>
                <a:lnTo>
                  <a:pt x="336" y="7"/>
                </a:lnTo>
                <a:lnTo>
                  <a:pt x="344" y="3"/>
                </a:lnTo>
                <a:lnTo>
                  <a:pt x="349" y="2"/>
                </a:lnTo>
                <a:lnTo>
                  <a:pt x="354" y="2"/>
                </a:lnTo>
                <a:lnTo>
                  <a:pt x="356" y="2"/>
                </a:lnTo>
                <a:lnTo>
                  <a:pt x="359" y="2"/>
                </a:lnTo>
                <a:lnTo>
                  <a:pt x="361" y="2"/>
                </a:lnTo>
                <a:lnTo>
                  <a:pt x="362" y="0"/>
                </a:lnTo>
                <a:lnTo>
                  <a:pt x="362" y="3"/>
                </a:lnTo>
                <a:lnTo>
                  <a:pt x="364" y="5"/>
                </a:lnTo>
                <a:lnTo>
                  <a:pt x="374" y="8"/>
                </a:lnTo>
                <a:lnTo>
                  <a:pt x="379" y="8"/>
                </a:lnTo>
                <a:lnTo>
                  <a:pt x="391" y="5"/>
                </a:lnTo>
                <a:lnTo>
                  <a:pt x="392" y="2"/>
                </a:lnTo>
                <a:lnTo>
                  <a:pt x="394" y="3"/>
                </a:lnTo>
                <a:lnTo>
                  <a:pt x="397" y="7"/>
                </a:lnTo>
                <a:lnTo>
                  <a:pt x="399" y="8"/>
                </a:lnTo>
                <a:lnTo>
                  <a:pt x="401" y="10"/>
                </a:lnTo>
                <a:lnTo>
                  <a:pt x="406" y="7"/>
                </a:lnTo>
                <a:lnTo>
                  <a:pt x="407" y="7"/>
                </a:lnTo>
                <a:lnTo>
                  <a:pt x="409" y="5"/>
                </a:lnTo>
                <a:lnTo>
                  <a:pt x="412" y="2"/>
                </a:lnTo>
                <a:lnTo>
                  <a:pt x="416" y="3"/>
                </a:lnTo>
                <a:lnTo>
                  <a:pt x="417" y="7"/>
                </a:lnTo>
                <a:lnTo>
                  <a:pt x="422" y="15"/>
                </a:lnTo>
                <a:lnTo>
                  <a:pt x="426" y="17"/>
                </a:lnTo>
                <a:lnTo>
                  <a:pt x="434" y="18"/>
                </a:lnTo>
                <a:lnTo>
                  <a:pt x="437" y="18"/>
                </a:lnTo>
                <a:lnTo>
                  <a:pt x="442" y="20"/>
                </a:lnTo>
                <a:lnTo>
                  <a:pt x="444" y="20"/>
                </a:lnTo>
                <a:lnTo>
                  <a:pt x="456" y="18"/>
                </a:lnTo>
                <a:lnTo>
                  <a:pt x="461" y="18"/>
                </a:lnTo>
                <a:lnTo>
                  <a:pt x="469" y="15"/>
                </a:lnTo>
                <a:lnTo>
                  <a:pt x="469" y="17"/>
                </a:lnTo>
                <a:lnTo>
                  <a:pt x="469" y="22"/>
                </a:lnTo>
                <a:lnTo>
                  <a:pt x="472" y="32"/>
                </a:lnTo>
                <a:lnTo>
                  <a:pt x="474" y="33"/>
                </a:lnTo>
                <a:lnTo>
                  <a:pt x="476" y="37"/>
                </a:lnTo>
                <a:lnTo>
                  <a:pt x="476" y="40"/>
                </a:lnTo>
                <a:lnTo>
                  <a:pt x="474" y="47"/>
                </a:lnTo>
                <a:lnTo>
                  <a:pt x="474" y="48"/>
                </a:lnTo>
                <a:lnTo>
                  <a:pt x="472" y="50"/>
                </a:lnTo>
                <a:lnTo>
                  <a:pt x="471" y="53"/>
                </a:lnTo>
                <a:lnTo>
                  <a:pt x="469" y="55"/>
                </a:lnTo>
                <a:lnTo>
                  <a:pt x="467" y="55"/>
                </a:lnTo>
                <a:lnTo>
                  <a:pt x="464" y="55"/>
                </a:lnTo>
                <a:lnTo>
                  <a:pt x="462" y="53"/>
                </a:lnTo>
                <a:lnTo>
                  <a:pt x="459" y="53"/>
                </a:lnTo>
                <a:lnTo>
                  <a:pt x="456" y="55"/>
                </a:lnTo>
                <a:lnTo>
                  <a:pt x="446" y="58"/>
                </a:lnTo>
                <a:lnTo>
                  <a:pt x="444" y="60"/>
                </a:lnTo>
                <a:lnTo>
                  <a:pt x="442" y="65"/>
                </a:lnTo>
                <a:lnTo>
                  <a:pt x="442" y="68"/>
                </a:lnTo>
                <a:lnTo>
                  <a:pt x="441" y="73"/>
                </a:lnTo>
                <a:lnTo>
                  <a:pt x="441" y="80"/>
                </a:lnTo>
                <a:lnTo>
                  <a:pt x="436" y="87"/>
                </a:lnTo>
                <a:lnTo>
                  <a:pt x="436" y="102"/>
                </a:lnTo>
                <a:lnTo>
                  <a:pt x="436" y="103"/>
                </a:lnTo>
                <a:lnTo>
                  <a:pt x="439" y="113"/>
                </a:lnTo>
                <a:lnTo>
                  <a:pt x="441" y="117"/>
                </a:lnTo>
                <a:lnTo>
                  <a:pt x="441" y="120"/>
                </a:lnTo>
                <a:lnTo>
                  <a:pt x="439" y="122"/>
                </a:lnTo>
                <a:lnTo>
                  <a:pt x="442" y="127"/>
                </a:lnTo>
                <a:lnTo>
                  <a:pt x="444" y="135"/>
                </a:lnTo>
                <a:lnTo>
                  <a:pt x="437" y="137"/>
                </a:lnTo>
                <a:lnTo>
                  <a:pt x="434" y="137"/>
                </a:lnTo>
                <a:lnTo>
                  <a:pt x="432" y="138"/>
                </a:lnTo>
                <a:lnTo>
                  <a:pt x="426" y="148"/>
                </a:lnTo>
                <a:lnTo>
                  <a:pt x="419" y="159"/>
                </a:lnTo>
                <a:lnTo>
                  <a:pt x="417" y="160"/>
                </a:lnTo>
                <a:lnTo>
                  <a:pt x="416" y="169"/>
                </a:lnTo>
                <a:lnTo>
                  <a:pt x="417" y="170"/>
                </a:lnTo>
                <a:lnTo>
                  <a:pt x="422" y="170"/>
                </a:lnTo>
                <a:lnTo>
                  <a:pt x="424" y="169"/>
                </a:lnTo>
                <a:lnTo>
                  <a:pt x="429" y="167"/>
                </a:lnTo>
                <a:lnTo>
                  <a:pt x="436" y="169"/>
                </a:lnTo>
                <a:lnTo>
                  <a:pt x="437" y="172"/>
                </a:lnTo>
                <a:lnTo>
                  <a:pt x="439" y="174"/>
                </a:lnTo>
                <a:lnTo>
                  <a:pt x="446" y="185"/>
                </a:lnTo>
                <a:lnTo>
                  <a:pt x="447" y="187"/>
                </a:lnTo>
                <a:lnTo>
                  <a:pt x="456" y="192"/>
                </a:lnTo>
                <a:lnTo>
                  <a:pt x="459" y="194"/>
                </a:lnTo>
                <a:lnTo>
                  <a:pt x="462" y="197"/>
                </a:lnTo>
                <a:lnTo>
                  <a:pt x="466" y="199"/>
                </a:lnTo>
                <a:lnTo>
                  <a:pt x="469" y="202"/>
                </a:lnTo>
                <a:lnTo>
                  <a:pt x="472" y="207"/>
                </a:lnTo>
                <a:lnTo>
                  <a:pt x="472" y="207"/>
                </a:lnTo>
                <a:lnTo>
                  <a:pt x="469" y="209"/>
                </a:lnTo>
                <a:lnTo>
                  <a:pt x="462" y="209"/>
                </a:lnTo>
                <a:lnTo>
                  <a:pt x="461" y="209"/>
                </a:lnTo>
                <a:lnTo>
                  <a:pt x="457" y="209"/>
                </a:lnTo>
                <a:lnTo>
                  <a:pt x="449" y="214"/>
                </a:lnTo>
                <a:lnTo>
                  <a:pt x="444" y="217"/>
                </a:lnTo>
                <a:lnTo>
                  <a:pt x="441" y="220"/>
                </a:lnTo>
                <a:lnTo>
                  <a:pt x="439" y="224"/>
                </a:lnTo>
                <a:lnTo>
                  <a:pt x="427" y="219"/>
                </a:lnTo>
                <a:lnTo>
                  <a:pt x="426" y="219"/>
                </a:lnTo>
                <a:lnTo>
                  <a:pt x="424" y="217"/>
                </a:lnTo>
                <a:lnTo>
                  <a:pt x="421" y="214"/>
                </a:lnTo>
                <a:lnTo>
                  <a:pt x="419" y="212"/>
                </a:lnTo>
                <a:lnTo>
                  <a:pt x="416" y="210"/>
                </a:lnTo>
                <a:lnTo>
                  <a:pt x="412" y="209"/>
                </a:lnTo>
                <a:lnTo>
                  <a:pt x="409" y="209"/>
                </a:lnTo>
                <a:lnTo>
                  <a:pt x="397" y="214"/>
                </a:lnTo>
                <a:lnTo>
                  <a:pt x="394" y="215"/>
                </a:lnTo>
                <a:lnTo>
                  <a:pt x="391" y="225"/>
                </a:lnTo>
                <a:lnTo>
                  <a:pt x="387" y="225"/>
                </a:lnTo>
                <a:lnTo>
                  <a:pt x="364" y="235"/>
                </a:lnTo>
                <a:lnTo>
                  <a:pt x="361" y="239"/>
                </a:lnTo>
                <a:lnTo>
                  <a:pt x="362" y="244"/>
                </a:lnTo>
                <a:lnTo>
                  <a:pt x="362" y="245"/>
                </a:lnTo>
                <a:lnTo>
                  <a:pt x="362" y="249"/>
                </a:lnTo>
                <a:lnTo>
                  <a:pt x="362" y="250"/>
                </a:lnTo>
                <a:lnTo>
                  <a:pt x="357" y="252"/>
                </a:lnTo>
                <a:lnTo>
                  <a:pt x="354" y="254"/>
                </a:lnTo>
                <a:lnTo>
                  <a:pt x="349" y="254"/>
                </a:lnTo>
                <a:lnTo>
                  <a:pt x="347" y="259"/>
                </a:lnTo>
                <a:lnTo>
                  <a:pt x="347" y="264"/>
                </a:lnTo>
                <a:lnTo>
                  <a:pt x="351" y="265"/>
                </a:lnTo>
                <a:lnTo>
                  <a:pt x="351" y="265"/>
                </a:lnTo>
                <a:lnTo>
                  <a:pt x="346" y="267"/>
                </a:lnTo>
                <a:lnTo>
                  <a:pt x="344" y="267"/>
                </a:lnTo>
                <a:lnTo>
                  <a:pt x="341" y="265"/>
                </a:lnTo>
                <a:lnTo>
                  <a:pt x="336" y="265"/>
                </a:lnTo>
                <a:lnTo>
                  <a:pt x="332" y="267"/>
                </a:lnTo>
                <a:lnTo>
                  <a:pt x="329" y="270"/>
                </a:lnTo>
                <a:lnTo>
                  <a:pt x="329" y="274"/>
                </a:lnTo>
                <a:lnTo>
                  <a:pt x="329" y="277"/>
                </a:lnTo>
                <a:lnTo>
                  <a:pt x="332" y="279"/>
                </a:lnTo>
                <a:lnTo>
                  <a:pt x="334" y="279"/>
                </a:lnTo>
                <a:lnTo>
                  <a:pt x="341" y="287"/>
                </a:lnTo>
                <a:lnTo>
                  <a:pt x="344" y="297"/>
                </a:lnTo>
                <a:lnTo>
                  <a:pt x="342" y="307"/>
                </a:lnTo>
                <a:lnTo>
                  <a:pt x="331" y="314"/>
                </a:lnTo>
                <a:lnTo>
                  <a:pt x="324" y="315"/>
                </a:lnTo>
                <a:lnTo>
                  <a:pt x="322" y="315"/>
                </a:lnTo>
                <a:lnTo>
                  <a:pt x="317" y="314"/>
                </a:lnTo>
                <a:lnTo>
                  <a:pt x="304" y="319"/>
                </a:lnTo>
                <a:lnTo>
                  <a:pt x="297" y="320"/>
                </a:lnTo>
                <a:lnTo>
                  <a:pt x="294" y="324"/>
                </a:lnTo>
                <a:lnTo>
                  <a:pt x="282" y="332"/>
                </a:lnTo>
                <a:lnTo>
                  <a:pt x="277" y="334"/>
                </a:lnTo>
                <a:lnTo>
                  <a:pt x="274" y="332"/>
                </a:lnTo>
                <a:lnTo>
                  <a:pt x="269" y="329"/>
                </a:lnTo>
                <a:lnTo>
                  <a:pt x="269" y="329"/>
                </a:lnTo>
                <a:lnTo>
                  <a:pt x="265" y="327"/>
                </a:lnTo>
                <a:lnTo>
                  <a:pt x="257" y="324"/>
                </a:lnTo>
                <a:lnTo>
                  <a:pt x="255" y="324"/>
                </a:lnTo>
                <a:lnTo>
                  <a:pt x="244" y="322"/>
                </a:lnTo>
                <a:lnTo>
                  <a:pt x="237" y="324"/>
                </a:lnTo>
                <a:lnTo>
                  <a:pt x="237" y="327"/>
                </a:lnTo>
                <a:lnTo>
                  <a:pt x="237" y="329"/>
                </a:lnTo>
                <a:lnTo>
                  <a:pt x="234" y="329"/>
                </a:lnTo>
                <a:lnTo>
                  <a:pt x="220" y="324"/>
                </a:lnTo>
                <a:lnTo>
                  <a:pt x="215" y="319"/>
                </a:lnTo>
                <a:lnTo>
                  <a:pt x="207" y="314"/>
                </a:lnTo>
                <a:lnTo>
                  <a:pt x="194" y="317"/>
                </a:lnTo>
                <a:lnTo>
                  <a:pt x="190" y="315"/>
                </a:lnTo>
                <a:lnTo>
                  <a:pt x="187" y="317"/>
                </a:lnTo>
                <a:lnTo>
                  <a:pt x="185" y="319"/>
                </a:lnTo>
                <a:lnTo>
                  <a:pt x="182" y="320"/>
                </a:lnTo>
                <a:lnTo>
                  <a:pt x="177" y="320"/>
                </a:lnTo>
                <a:lnTo>
                  <a:pt x="175" y="324"/>
                </a:lnTo>
                <a:lnTo>
                  <a:pt x="177" y="327"/>
                </a:lnTo>
                <a:lnTo>
                  <a:pt x="170" y="334"/>
                </a:lnTo>
                <a:lnTo>
                  <a:pt x="162" y="334"/>
                </a:lnTo>
                <a:lnTo>
                  <a:pt x="155" y="337"/>
                </a:lnTo>
                <a:lnTo>
                  <a:pt x="152" y="340"/>
                </a:lnTo>
                <a:lnTo>
                  <a:pt x="143" y="345"/>
                </a:lnTo>
                <a:lnTo>
                  <a:pt x="142" y="345"/>
                </a:lnTo>
                <a:lnTo>
                  <a:pt x="137" y="344"/>
                </a:lnTo>
                <a:lnTo>
                  <a:pt x="128" y="344"/>
                </a:lnTo>
                <a:lnTo>
                  <a:pt x="117" y="347"/>
                </a:lnTo>
                <a:lnTo>
                  <a:pt x="112" y="351"/>
                </a:lnTo>
                <a:lnTo>
                  <a:pt x="113" y="354"/>
                </a:lnTo>
                <a:lnTo>
                  <a:pt x="112" y="356"/>
                </a:lnTo>
                <a:lnTo>
                  <a:pt x="110" y="357"/>
                </a:lnTo>
                <a:lnTo>
                  <a:pt x="105" y="359"/>
                </a:lnTo>
                <a:lnTo>
                  <a:pt x="103" y="359"/>
                </a:lnTo>
                <a:lnTo>
                  <a:pt x="93" y="359"/>
                </a:lnTo>
                <a:lnTo>
                  <a:pt x="90" y="359"/>
                </a:lnTo>
              </a:path>
            </a:pathLst>
          </a:custGeom>
          <a:solidFill>
            <a:srgbClr val="336600">
              <a:alpha val="67000"/>
            </a:srgbClr>
          </a:solidFill>
          <a:ln w="46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5014800" y="4903560"/>
            <a:ext cx="2124360" cy="1297080"/>
            <a:chOff x="5014800" y="4903560"/>
            <a:chExt cx="2124360" cy="1297080"/>
          </a:xfrm>
        </p:grpSpPr>
        <p:sp>
          <p:nvSpPr>
            <p:cNvPr id="368" name=""/>
            <p:cNvSpPr/>
            <p:nvPr/>
          </p:nvSpPr>
          <p:spPr>
            <a:xfrm>
              <a:off x="5014800" y="4976640"/>
              <a:ext cx="1557360" cy="1224000"/>
            </a:xfrm>
            <a:custGeom>
              <a:avLst/>
              <a:gdLst/>
              <a:ahLst/>
              <a:rect l="l" t="t" r="r" b="b"/>
              <a:pathLst>
                <a:path w="981" h="771">
                  <a:moveTo>
                    <a:pt x="36" y="305"/>
                  </a:moveTo>
                  <a:lnTo>
                    <a:pt x="66" y="264"/>
                  </a:lnTo>
                  <a:lnTo>
                    <a:pt x="95" y="267"/>
                  </a:lnTo>
                  <a:lnTo>
                    <a:pt x="107" y="248"/>
                  </a:lnTo>
                  <a:lnTo>
                    <a:pt x="101" y="228"/>
                  </a:lnTo>
                  <a:lnTo>
                    <a:pt x="102" y="208"/>
                  </a:lnTo>
                  <a:lnTo>
                    <a:pt x="99" y="173"/>
                  </a:lnTo>
                  <a:lnTo>
                    <a:pt x="113" y="146"/>
                  </a:lnTo>
                  <a:lnTo>
                    <a:pt x="162" y="133"/>
                  </a:lnTo>
                  <a:lnTo>
                    <a:pt x="203" y="116"/>
                  </a:lnTo>
                  <a:lnTo>
                    <a:pt x="225" y="90"/>
                  </a:lnTo>
                  <a:lnTo>
                    <a:pt x="244" y="83"/>
                  </a:lnTo>
                  <a:lnTo>
                    <a:pt x="267" y="120"/>
                  </a:lnTo>
                  <a:lnTo>
                    <a:pt x="287" y="147"/>
                  </a:lnTo>
                  <a:lnTo>
                    <a:pt x="314" y="134"/>
                  </a:lnTo>
                  <a:lnTo>
                    <a:pt x="317" y="110"/>
                  </a:lnTo>
                  <a:lnTo>
                    <a:pt x="350" y="81"/>
                  </a:lnTo>
                  <a:lnTo>
                    <a:pt x="368" y="48"/>
                  </a:lnTo>
                  <a:lnTo>
                    <a:pt x="405" y="57"/>
                  </a:lnTo>
                  <a:lnTo>
                    <a:pt x="459" y="59"/>
                  </a:lnTo>
                  <a:lnTo>
                    <a:pt x="482" y="54"/>
                  </a:lnTo>
                  <a:lnTo>
                    <a:pt x="494" y="47"/>
                  </a:lnTo>
                  <a:lnTo>
                    <a:pt x="502" y="39"/>
                  </a:lnTo>
                  <a:lnTo>
                    <a:pt x="504" y="24"/>
                  </a:lnTo>
                  <a:lnTo>
                    <a:pt x="527" y="32"/>
                  </a:lnTo>
                  <a:lnTo>
                    <a:pt x="555" y="17"/>
                  </a:lnTo>
                  <a:lnTo>
                    <a:pt x="611" y="15"/>
                  </a:lnTo>
                  <a:lnTo>
                    <a:pt x="657" y="8"/>
                  </a:lnTo>
                  <a:lnTo>
                    <a:pt x="686" y="0"/>
                  </a:lnTo>
                  <a:lnTo>
                    <a:pt x="716" y="14"/>
                  </a:lnTo>
                  <a:lnTo>
                    <a:pt x="735" y="17"/>
                  </a:lnTo>
                  <a:lnTo>
                    <a:pt x="749" y="38"/>
                  </a:lnTo>
                  <a:lnTo>
                    <a:pt x="776" y="75"/>
                  </a:lnTo>
                  <a:lnTo>
                    <a:pt x="803" y="117"/>
                  </a:lnTo>
                  <a:lnTo>
                    <a:pt x="855" y="144"/>
                  </a:lnTo>
                  <a:lnTo>
                    <a:pt x="891" y="149"/>
                  </a:lnTo>
                  <a:lnTo>
                    <a:pt x="918" y="161"/>
                  </a:lnTo>
                  <a:lnTo>
                    <a:pt x="915" y="198"/>
                  </a:lnTo>
                  <a:lnTo>
                    <a:pt x="948" y="255"/>
                  </a:lnTo>
                  <a:lnTo>
                    <a:pt x="963" y="284"/>
                  </a:lnTo>
                  <a:lnTo>
                    <a:pt x="981" y="294"/>
                  </a:lnTo>
                  <a:lnTo>
                    <a:pt x="981" y="308"/>
                  </a:lnTo>
                  <a:lnTo>
                    <a:pt x="977" y="326"/>
                  </a:lnTo>
                  <a:lnTo>
                    <a:pt x="966" y="335"/>
                  </a:lnTo>
                  <a:lnTo>
                    <a:pt x="951" y="356"/>
                  </a:lnTo>
                  <a:lnTo>
                    <a:pt x="956" y="377"/>
                  </a:lnTo>
                  <a:lnTo>
                    <a:pt x="959" y="398"/>
                  </a:lnTo>
                  <a:lnTo>
                    <a:pt x="954" y="426"/>
                  </a:lnTo>
                  <a:lnTo>
                    <a:pt x="963" y="446"/>
                  </a:lnTo>
                  <a:lnTo>
                    <a:pt x="956" y="462"/>
                  </a:lnTo>
                  <a:lnTo>
                    <a:pt x="960" y="489"/>
                  </a:lnTo>
                  <a:lnTo>
                    <a:pt x="953" y="497"/>
                  </a:lnTo>
                  <a:lnTo>
                    <a:pt x="920" y="500"/>
                  </a:lnTo>
                  <a:lnTo>
                    <a:pt x="894" y="506"/>
                  </a:lnTo>
                  <a:lnTo>
                    <a:pt x="882" y="530"/>
                  </a:lnTo>
                  <a:lnTo>
                    <a:pt x="879" y="567"/>
                  </a:lnTo>
                  <a:lnTo>
                    <a:pt x="885" y="546"/>
                  </a:lnTo>
                  <a:lnTo>
                    <a:pt x="882" y="593"/>
                  </a:lnTo>
                  <a:lnTo>
                    <a:pt x="870" y="602"/>
                  </a:lnTo>
                  <a:lnTo>
                    <a:pt x="849" y="587"/>
                  </a:lnTo>
                  <a:lnTo>
                    <a:pt x="821" y="612"/>
                  </a:lnTo>
                  <a:lnTo>
                    <a:pt x="800" y="615"/>
                  </a:lnTo>
                  <a:lnTo>
                    <a:pt x="767" y="618"/>
                  </a:lnTo>
                  <a:lnTo>
                    <a:pt x="747" y="611"/>
                  </a:lnTo>
                  <a:lnTo>
                    <a:pt x="728" y="615"/>
                  </a:lnTo>
                  <a:lnTo>
                    <a:pt x="705" y="602"/>
                  </a:lnTo>
                  <a:lnTo>
                    <a:pt x="663" y="605"/>
                  </a:lnTo>
                  <a:lnTo>
                    <a:pt x="647" y="624"/>
                  </a:lnTo>
                  <a:lnTo>
                    <a:pt x="617" y="615"/>
                  </a:lnTo>
                  <a:lnTo>
                    <a:pt x="567" y="636"/>
                  </a:lnTo>
                  <a:lnTo>
                    <a:pt x="557" y="654"/>
                  </a:lnTo>
                  <a:lnTo>
                    <a:pt x="552" y="672"/>
                  </a:lnTo>
                  <a:lnTo>
                    <a:pt x="522" y="704"/>
                  </a:lnTo>
                  <a:lnTo>
                    <a:pt x="524" y="717"/>
                  </a:lnTo>
                  <a:lnTo>
                    <a:pt x="509" y="728"/>
                  </a:lnTo>
                  <a:lnTo>
                    <a:pt x="480" y="725"/>
                  </a:lnTo>
                  <a:lnTo>
                    <a:pt x="474" y="738"/>
                  </a:lnTo>
                  <a:lnTo>
                    <a:pt x="450" y="746"/>
                  </a:lnTo>
                  <a:lnTo>
                    <a:pt x="443" y="761"/>
                  </a:lnTo>
                  <a:lnTo>
                    <a:pt x="420" y="753"/>
                  </a:lnTo>
                  <a:lnTo>
                    <a:pt x="416" y="738"/>
                  </a:lnTo>
                  <a:lnTo>
                    <a:pt x="395" y="741"/>
                  </a:lnTo>
                  <a:lnTo>
                    <a:pt x="368" y="738"/>
                  </a:lnTo>
                  <a:lnTo>
                    <a:pt x="348" y="758"/>
                  </a:lnTo>
                  <a:lnTo>
                    <a:pt x="312" y="767"/>
                  </a:lnTo>
                  <a:lnTo>
                    <a:pt x="291" y="756"/>
                  </a:lnTo>
                  <a:lnTo>
                    <a:pt x="269" y="771"/>
                  </a:lnTo>
                  <a:lnTo>
                    <a:pt x="212" y="770"/>
                  </a:lnTo>
                  <a:lnTo>
                    <a:pt x="206" y="762"/>
                  </a:lnTo>
                  <a:lnTo>
                    <a:pt x="198" y="746"/>
                  </a:lnTo>
                  <a:lnTo>
                    <a:pt x="183" y="738"/>
                  </a:lnTo>
                  <a:lnTo>
                    <a:pt x="168" y="738"/>
                  </a:lnTo>
                  <a:lnTo>
                    <a:pt x="146" y="735"/>
                  </a:lnTo>
                  <a:lnTo>
                    <a:pt x="134" y="749"/>
                  </a:lnTo>
                  <a:lnTo>
                    <a:pt x="108" y="752"/>
                  </a:lnTo>
                  <a:lnTo>
                    <a:pt x="81" y="665"/>
                  </a:lnTo>
                  <a:lnTo>
                    <a:pt x="63" y="653"/>
                  </a:lnTo>
                  <a:lnTo>
                    <a:pt x="50" y="651"/>
                  </a:lnTo>
                  <a:lnTo>
                    <a:pt x="56" y="630"/>
                  </a:lnTo>
                  <a:lnTo>
                    <a:pt x="26" y="597"/>
                  </a:lnTo>
                  <a:lnTo>
                    <a:pt x="18" y="573"/>
                  </a:lnTo>
                  <a:lnTo>
                    <a:pt x="18" y="558"/>
                  </a:lnTo>
                  <a:lnTo>
                    <a:pt x="11" y="539"/>
                  </a:lnTo>
                  <a:lnTo>
                    <a:pt x="22" y="530"/>
                  </a:lnTo>
                  <a:lnTo>
                    <a:pt x="39" y="495"/>
                  </a:lnTo>
                  <a:lnTo>
                    <a:pt x="14" y="473"/>
                  </a:lnTo>
                  <a:lnTo>
                    <a:pt x="14" y="468"/>
                  </a:lnTo>
                  <a:lnTo>
                    <a:pt x="9" y="456"/>
                  </a:lnTo>
                  <a:lnTo>
                    <a:pt x="2" y="444"/>
                  </a:lnTo>
                  <a:lnTo>
                    <a:pt x="0" y="425"/>
                  </a:lnTo>
                  <a:lnTo>
                    <a:pt x="32" y="414"/>
                  </a:lnTo>
                  <a:lnTo>
                    <a:pt x="38" y="392"/>
                  </a:lnTo>
                  <a:lnTo>
                    <a:pt x="20" y="368"/>
                  </a:lnTo>
                  <a:lnTo>
                    <a:pt x="29" y="342"/>
                  </a:lnTo>
                  <a:lnTo>
                    <a:pt x="17" y="323"/>
                  </a:lnTo>
                  <a:lnTo>
                    <a:pt x="45" y="291"/>
                  </a:lnTo>
                </a:path>
              </a:pathLst>
            </a:custGeom>
            <a:solidFill>
              <a:srgbClr val="003300">
                <a:alpha val="67000"/>
              </a:srgbClr>
            </a:solidFill>
            <a:ln w="4680">
              <a:solidFill>
                <a:srgbClr val="6e6e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9" name=""/>
            <p:cNvSpPr/>
            <p:nvPr/>
          </p:nvSpPr>
          <p:spPr>
            <a:xfrm rot="20718600">
              <a:off x="6086520" y="4943160"/>
              <a:ext cx="360360" cy="360360"/>
            </a:xfrm>
            <a:prstGeom prst="leftArrow">
              <a:avLst>
                <a:gd name="adj1" fmla="val 49778"/>
                <a:gd name="adj2" fmla="val 5154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619600" y="4913280"/>
              <a:ext cx="1519560" cy="353880"/>
            </a:xfrm>
            <a:custGeom>
              <a:avLst/>
              <a:gdLst/>
              <a:ahLst/>
              <a:rect l="l" t="t" r="r" b="b"/>
              <a:pathLst>
                <a:path w="943" h="223">
                  <a:moveTo>
                    <a:pt x="943" y="0"/>
                  </a:moveTo>
                  <a:lnTo>
                    <a:pt x="0" y="223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1133640" y="1704960"/>
            <a:ext cx="2981160" cy="1028880"/>
            <a:chOff x="1133640" y="1704960"/>
            <a:chExt cx="2981160" cy="1028880"/>
          </a:xfrm>
        </p:grpSpPr>
        <p:sp>
          <p:nvSpPr>
            <p:cNvPr id="372" name=""/>
            <p:cNvSpPr/>
            <p:nvPr/>
          </p:nvSpPr>
          <p:spPr>
            <a:xfrm>
              <a:off x="1133640" y="2048040"/>
              <a:ext cx="2981160" cy="685800"/>
            </a:xfrm>
            <a:custGeom>
              <a:avLst/>
              <a:gdLst/>
              <a:ahLst/>
              <a:rect l="l" t="t" r="r" b="b"/>
              <a:pathLst>
                <a:path w="1878" h="432">
                  <a:moveTo>
                    <a:pt x="0" y="432"/>
                  </a:moveTo>
                  <a:lnTo>
                    <a:pt x="222" y="252"/>
                  </a:lnTo>
                  <a:lnTo>
                    <a:pt x="360" y="252"/>
                  </a:lnTo>
                  <a:lnTo>
                    <a:pt x="546" y="240"/>
                  </a:lnTo>
                  <a:lnTo>
                    <a:pt x="594" y="198"/>
                  </a:lnTo>
                  <a:lnTo>
                    <a:pt x="654" y="192"/>
                  </a:lnTo>
                  <a:lnTo>
                    <a:pt x="690" y="114"/>
                  </a:lnTo>
                  <a:lnTo>
                    <a:pt x="786" y="26"/>
                  </a:lnTo>
                  <a:lnTo>
                    <a:pt x="882" y="30"/>
                  </a:lnTo>
                  <a:lnTo>
                    <a:pt x="966" y="0"/>
                  </a:lnTo>
                  <a:lnTo>
                    <a:pt x="1086" y="90"/>
                  </a:lnTo>
                  <a:lnTo>
                    <a:pt x="1212" y="204"/>
                  </a:lnTo>
                  <a:lnTo>
                    <a:pt x="1338" y="342"/>
                  </a:lnTo>
                  <a:lnTo>
                    <a:pt x="1632" y="378"/>
                  </a:lnTo>
                  <a:lnTo>
                    <a:pt x="1878" y="384"/>
                  </a:lnTo>
                  <a:lnTo>
                    <a:pt x="1872" y="306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857680" y="2028960"/>
              <a:ext cx="371160" cy="342720"/>
            </a:xfrm>
            <a:custGeom>
              <a:avLst/>
              <a:gdLst/>
              <a:ahLst/>
              <a:rect l="l" t="t" r="r" b="b"/>
              <a:pathLst>
                <a:path w="234" h="216">
                  <a:moveTo>
                    <a:pt x="132" y="0"/>
                  </a:moveTo>
                  <a:lnTo>
                    <a:pt x="0" y="108"/>
                  </a:lnTo>
                  <a:lnTo>
                    <a:pt x="132" y="216"/>
                  </a:lnTo>
                  <a:lnTo>
                    <a:pt x="234" y="60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"/>
            <p:cNvSpPr/>
            <p:nvPr/>
          </p:nvSpPr>
          <p:spPr>
            <a:xfrm flipH="1" flipV="1">
              <a:off x="2276640" y="1752120"/>
              <a:ext cx="95040" cy="352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314440" y="1704960"/>
              <a:ext cx="1438560" cy="933480"/>
            </a:xfrm>
            <a:custGeom>
              <a:avLst/>
              <a:gdLst/>
              <a:ahLst/>
              <a:rect l="l" t="t" r="r" b="b"/>
              <a:pathLst>
                <a:path w="906" h="588">
                  <a:moveTo>
                    <a:pt x="0" y="122"/>
                  </a:moveTo>
                  <a:lnTo>
                    <a:pt x="265" y="0"/>
                  </a:lnTo>
                  <a:lnTo>
                    <a:pt x="474" y="198"/>
                  </a:lnTo>
                  <a:lnTo>
                    <a:pt x="582" y="270"/>
                  </a:lnTo>
                  <a:lnTo>
                    <a:pt x="690" y="300"/>
                  </a:lnTo>
                  <a:lnTo>
                    <a:pt x="906" y="330"/>
                  </a:lnTo>
                  <a:lnTo>
                    <a:pt x="888" y="588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733920" y="2238480"/>
              <a:ext cx="304560" cy="133200"/>
            </a:xfrm>
            <a:custGeom>
              <a:avLst/>
              <a:gdLst/>
              <a:ahLst/>
              <a:rect l="l" t="t" r="r" b="b"/>
              <a:pathLst>
                <a:path w="192" h="84">
                  <a:moveTo>
                    <a:pt x="192" y="78"/>
                  </a:moveTo>
                  <a:lnTo>
                    <a:pt x="120" y="84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77" name=""/>
          <p:cNvSpPr/>
          <p:nvPr/>
        </p:nvSpPr>
        <p:spPr>
          <a:xfrm>
            <a:off x="6622920" y="220176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eb’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"/>
          <p:cNvSpPr/>
          <p:nvPr/>
        </p:nvSpPr>
        <p:spPr>
          <a:xfrm>
            <a:off x="7530480" y="427356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"/>
          <p:cNvSpPr/>
          <p:nvPr/>
        </p:nvSpPr>
        <p:spPr>
          <a:xfrm>
            <a:off x="3729240" y="3648240"/>
            <a:ext cx="191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linear-radi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"/>
          <p:cNvSpPr/>
          <p:nvPr/>
        </p:nvSpPr>
        <p:spPr>
          <a:xfrm>
            <a:off x="1787400" y="231948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"/>
          <p:cNvSpPr/>
          <p:nvPr/>
        </p:nvSpPr>
        <p:spPr>
          <a:xfrm>
            <a:off x="5384880" y="5261040"/>
            <a:ext cx="8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pu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5232960" y="253800"/>
            <a:ext cx="4244760" cy="3450240"/>
            <a:chOff x="5232960" y="253800"/>
            <a:chExt cx="4244760" cy="3450240"/>
          </a:xfrm>
        </p:grpSpPr>
        <p:sp>
          <p:nvSpPr>
            <p:cNvPr id="383" name=""/>
            <p:cNvSpPr/>
            <p:nvPr/>
          </p:nvSpPr>
          <p:spPr>
            <a:xfrm rot="441600">
              <a:off x="8795880" y="2068200"/>
              <a:ext cx="360360" cy="360360"/>
            </a:xfrm>
            <a:prstGeom prst="leftArrow">
              <a:avLst>
                <a:gd name="adj1" fmla="val 49778"/>
                <a:gd name="adj2" fmla="val 5154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4" name=""/>
            <p:cNvSpPr/>
            <p:nvPr/>
          </p:nvSpPr>
          <p:spPr>
            <a:xfrm rot="13929600">
              <a:off x="6797160" y="926640"/>
              <a:ext cx="360360" cy="360360"/>
            </a:xfrm>
            <a:prstGeom prst="leftArrow">
              <a:avLst>
                <a:gd name="adj1" fmla="val 49778"/>
                <a:gd name="adj2" fmla="val 5154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5" name=""/>
            <p:cNvGrpSpPr/>
            <p:nvPr/>
          </p:nvGrpSpPr>
          <p:grpSpPr>
            <a:xfrm>
              <a:off x="5232960" y="253800"/>
              <a:ext cx="4244760" cy="3450240"/>
              <a:chOff x="5232960" y="253800"/>
              <a:chExt cx="4244760" cy="3450240"/>
            </a:xfrm>
          </p:grpSpPr>
          <p:sp>
            <p:nvSpPr>
              <p:cNvPr id="386" name=""/>
              <p:cNvSpPr/>
              <p:nvPr/>
            </p:nvSpPr>
            <p:spPr>
              <a:xfrm rot="20760000">
                <a:off x="5410800" y="1600920"/>
                <a:ext cx="2670480" cy="1800360"/>
              </a:xfrm>
              <a:custGeom>
                <a:avLst/>
                <a:gdLst/>
                <a:ahLst/>
                <a:rect l="l" t="t" r="r" b="b"/>
                <a:pathLst>
                  <a:path w="1152" h="777">
                    <a:moveTo>
                      <a:pt x="0" y="90"/>
                    </a:moveTo>
                    <a:lnTo>
                      <a:pt x="139" y="118"/>
                    </a:lnTo>
                    <a:lnTo>
                      <a:pt x="195" y="208"/>
                    </a:lnTo>
                    <a:lnTo>
                      <a:pt x="396" y="229"/>
                    </a:lnTo>
                    <a:lnTo>
                      <a:pt x="424" y="145"/>
                    </a:lnTo>
                    <a:lnTo>
                      <a:pt x="555" y="69"/>
                    </a:lnTo>
                    <a:lnTo>
                      <a:pt x="736" y="0"/>
                    </a:lnTo>
                    <a:lnTo>
                      <a:pt x="916" y="277"/>
                    </a:lnTo>
                    <a:lnTo>
                      <a:pt x="1048" y="333"/>
                    </a:lnTo>
                    <a:lnTo>
                      <a:pt x="1062" y="513"/>
                    </a:lnTo>
                    <a:lnTo>
                      <a:pt x="1152" y="583"/>
                    </a:lnTo>
                    <a:lnTo>
                      <a:pt x="1152" y="777"/>
                    </a:lnTo>
                    <a:lnTo>
                      <a:pt x="812" y="638"/>
                    </a:lnTo>
                    <a:lnTo>
                      <a:pt x="555" y="534"/>
                    </a:lnTo>
                    <a:lnTo>
                      <a:pt x="479" y="548"/>
                    </a:lnTo>
                    <a:lnTo>
                      <a:pt x="555" y="714"/>
                    </a:lnTo>
                  </a:path>
                </a:pathLst>
              </a:cu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rot="20760000">
                <a:off x="8447040" y="705600"/>
                <a:ext cx="836640" cy="1705680"/>
              </a:xfrm>
              <a:custGeom>
                <a:avLst/>
                <a:gdLst/>
                <a:ahLst/>
                <a:rect l="l" t="t" r="r" b="b"/>
                <a:pathLst>
                  <a:path w="361" h="736">
                    <a:moveTo>
                      <a:pt x="361" y="736"/>
                    </a:moveTo>
                    <a:cubicBezTo>
                      <a:pt x="301" y="713"/>
                      <a:pt x="324" y="724"/>
                      <a:pt x="292" y="708"/>
                    </a:cubicBezTo>
                    <a:lnTo>
                      <a:pt x="188" y="680"/>
                    </a:lnTo>
                    <a:lnTo>
                      <a:pt x="84" y="416"/>
                    </a:lnTo>
                    <a:lnTo>
                      <a:pt x="90" y="333"/>
                    </a:lnTo>
                    <a:lnTo>
                      <a:pt x="0" y="312"/>
                    </a:lnTo>
                    <a:lnTo>
                      <a:pt x="0" y="35"/>
                    </a:lnTo>
                    <a:lnTo>
                      <a:pt x="250" y="0"/>
                    </a:lnTo>
                  </a:path>
                </a:pathLst>
              </a:cu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 rot="20760000">
                <a:off x="6896520" y="1288080"/>
                <a:ext cx="1511280" cy="514440"/>
              </a:xfrm>
              <a:custGeom>
                <a:avLst/>
                <a:gdLst/>
                <a:ahLst/>
                <a:rect l="l" t="t" r="r" b="b"/>
                <a:pathLst>
                  <a:path w="652" h="222">
                    <a:moveTo>
                      <a:pt x="652" y="173"/>
                    </a:moveTo>
                    <a:lnTo>
                      <a:pt x="479" y="222"/>
                    </a:lnTo>
                    <a:lnTo>
                      <a:pt x="278" y="97"/>
                    </a:lnTo>
                    <a:lnTo>
                      <a:pt x="49" y="0"/>
                    </a:lnTo>
                    <a:lnTo>
                      <a:pt x="0" y="28"/>
                    </a:lnTo>
                  </a:path>
                </a:pathLst>
              </a:cu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rot="20760000">
                <a:off x="7245720" y="2176560"/>
                <a:ext cx="718560" cy="1462320"/>
              </a:xfrm>
              <a:custGeom>
                <a:avLst/>
                <a:gdLst/>
                <a:ahLst/>
                <a:rect l="l" t="t" r="r" b="b"/>
                <a:pathLst>
                  <a:path w="310" h="631">
                    <a:moveTo>
                      <a:pt x="310" y="0"/>
                    </a:moveTo>
                    <a:cubicBezTo>
                      <a:pt x="266" y="49"/>
                      <a:pt x="92" y="213"/>
                      <a:pt x="46" y="291"/>
                    </a:cubicBezTo>
                    <a:cubicBezTo>
                      <a:pt x="0" y="369"/>
                      <a:pt x="30" y="408"/>
                      <a:pt x="33" y="465"/>
                    </a:cubicBezTo>
                    <a:cubicBezTo>
                      <a:pt x="36" y="522"/>
                      <a:pt x="55" y="597"/>
                      <a:pt x="61" y="631"/>
                    </a:cubicBezTo>
                  </a:path>
                </a:pathLst>
              </a:cu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rot="20760000">
                <a:off x="8172000" y="2239200"/>
                <a:ext cx="1047600" cy="660600"/>
              </a:xfrm>
              <a:custGeom>
                <a:avLst/>
                <a:gdLst/>
                <a:ahLst/>
                <a:rect l="l" t="t" r="r" b="b"/>
                <a:pathLst>
                  <a:path w="424" h="285">
                    <a:moveTo>
                      <a:pt x="361" y="0"/>
                    </a:moveTo>
                    <a:lnTo>
                      <a:pt x="0" y="285"/>
                    </a:lnTo>
                    <a:lnTo>
                      <a:pt x="278" y="229"/>
                    </a:lnTo>
                    <a:lnTo>
                      <a:pt x="424" y="132"/>
                    </a:lnTo>
                    <a:lnTo>
                      <a:pt x="361" y="0"/>
                    </a:lnTo>
                    <a:close/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rot="20760000">
                <a:off x="6374520" y="344520"/>
                <a:ext cx="980640" cy="1865520"/>
              </a:xfrm>
              <a:custGeom>
                <a:avLst/>
                <a:gdLst/>
                <a:ahLst/>
                <a:rect l="l" t="t" r="r" b="b"/>
                <a:pathLst>
                  <a:path w="423" h="805">
                    <a:moveTo>
                      <a:pt x="423" y="805"/>
                    </a:moveTo>
                    <a:cubicBezTo>
                      <a:pt x="408" y="738"/>
                      <a:pt x="409" y="764"/>
                      <a:pt x="409" y="729"/>
                    </a:cubicBezTo>
                    <a:lnTo>
                      <a:pt x="312" y="500"/>
                    </a:lnTo>
                    <a:lnTo>
                      <a:pt x="333" y="465"/>
                    </a:lnTo>
                    <a:lnTo>
                      <a:pt x="263" y="319"/>
                    </a:lnTo>
                    <a:lnTo>
                      <a:pt x="222" y="187"/>
                    </a:lnTo>
                    <a:lnTo>
                      <a:pt x="131" y="180"/>
                    </a:lnTo>
                    <a:lnTo>
                      <a:pt x="104" y="76"/>
                    </a:ln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flipH="1" flipV="1">
                <a:off x="6251400" y="2176560"/>
                <a:ext cx="444240" cy="71784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93" name=""/>
          <p:cNvGrpSpPr/>
          <p:nvPr/>
        </p:nvGrpSpPr>
        <p:grpSpPr>
          <a:xfrm>
            <a:off x="6464520" y="5048280"/>
            <a:ext cx="423360" cy="1061280"/>
            <a:chOff x="6464520" y="5048280"/>
            <a:chExt cx="423360" cy="1061280"/>
          </a:xfrm>
        </p:grpSpPr>
        <p:sp>
          <p:nvSpPr>
            <p:cNvPr id="394" name=""/>
            <p:cNvSpPr/>
            <p:nvPr/>
          </p:nvSpPr>
          <p:spPr>
            <a:xfrm rot="15530400">
              <a:off x="6495840" y="5717520"/>
              <a:ext cx="360360" cy="360360"/>
            </a:xfrm>
            <a:prstGeom prst="leftArrow">
              <a:avLst>
                <a:gd name="adj1" fmla="val 49778"/>
                <a:gd name="adj2" fmla="val 51542"/>
              </a:avLst>
            </a:prstGeom>
            <a:solidFill>
              <a:srgbClr val="ff0000">
                <a:alpha val="50000"/>
              </a:srgbClr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554880" y="5048280"/>
              <a:ext cx="122400" cy="936720"/>
            </a:xfrm>
            <a:prstGeom prst="line">
              <a:avLst/>
            </a:prstGeom>
            <a:ln w="28440">
              <a:solidFill>
                <a:srgbClr val="ccb37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96" name=""/>
          <p:cNvSpPr/>
          <p:nvPr/>
        </p:nvSpPr>
        <p:spPr>
          <a:xfrm rot="15112800">
            <a:off x="8783280" y="464292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>
              <a:alpha val="50000"/>
            </a:srgbClr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6986520" y="950040"/>
            <a:ext cx="3799440" cy="4578840"/>
            <a:chOff x="6986520" y="950040"/>
            <a:chExt cx="3799440" cy="4578840"/>
          </a:xfrm>
        </p:grpSpPr>
        <p:sp>
          <p:nvSpPr>
            <p:cNvPr id="398" name=""/>
            <p:cNvSpPr/>
            <p:nvPr/>
          </p:nvSpPr>
          <p:spPr>
            <a:xfrm>
              <a:off x="8683560" y="3727440"/>
              <a:ext cx="360360" cy="360360"/>
            </a:xfrm>
            <a:prstGeom prst="leftArrow">
              <a:avLst>
                <a:gd name="adj1" fmla="val 49778"/>
                <a:gd name="adj2" fmla="val 5154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"/>
            <p:cNvSpPr/>
            <p:nvPr/>
          </p:nvSpPr>
          <p:spPr>
            <a:xfrm rot="20760000">
              <a:off x="8526240" y="1100160"/>
              <a:ext cx="1768320" cy="4278240"/>
            </a:xfrm>
            <a:custGeom>
              <a:avLst/>
              <a:gdLst/>
              <a:ahLst/>
              <a:rect l="l" t="t" r="r" b="b"/>
              <a:pathLst>
                <a:path w="763" h="1846">
                  <a:moveTo>
                    <a:pt x="763" y="0"/>
                  </a:moveTo>
                  <a:lnTo>
                    <a:pt x="513" y="521"/>
                  </a:lnTo>
                  <a:lnTo>
                    <a:pt x="520" y="659"/>
                  </a:lnTo>
                  <a:lnTo>
                    <a:pt x="347" y="1006"/>
                  </a:lnTo>
                  <a:lnTo>
                    <a:pt x="0" y="1423"/>
                  </a:lnTo>
                  <a:lnTo>
                    <a:pt x="34" y="1631"/>
                  </a:lnTo>
                  <a:lnTo>
                    <a:pt x="111" y="1749"/>
                  </a:lnTo>
                  <a:lnTo>
                    <a:pt x="194" y="1846"/>
                  </a:lnTo>
                </a:path>
              </a:pathLst>
            </a:custGeom>
            <a:noFill/>
            <a:ln w="57240">
              <a:solidFill>
                <a:srgbClr val="ccb37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986520" y="3887640"/>
              <a:ext cx="2157480" cy="1036800"/>
            </a:xfrm>
            <a:custGeom>
              <a:avLst/>
              <a:gdLst/>
              <a:ahLst/>
              <a:rect l="l" t="t" r="r" b="b"/>
              <a:pathLst>
                <a:path w="1359" h="653">
                  <a:moveTo>
                    <a:pt x="1359" y="9"/>
                  </a:moveTo>
                  <a:cubicBezTo>
                    <a:pt x="1300" y="13"/>
                    <a:pt x="1101" y="0"/>
                    <a:pt x="999" y="36"/>
                  </a:cubicBezTo>
                  <a:cubicBezTo>
                    <a:pt x="899" y="71"/>
                    <a:pt x="863" y="188"/>
                    <a:pt x="755" y="223"/>
                  </a:cubicBezTo>
                  <a:lnTo>
                    <a:pt x="352" y="239"/>
                  </a:lnTo>
                  <a:lnTo>
                    <a:pt x="66" y="353"/>
                  </a:lnTo>
                  <a:lnTo>
                    <a:pt x="0" y="546"/>
                  </a:lnTo>
                  <a:lnTo>
                    <a:pt x="96" y="653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"/>
            <p:cNvSpPr/>
            <p:nvPr/>
          </p:nvSpPr>
          <p:spPr>
            <a:xfrm rot="20760000">
              <a:off x="7130520" y="4707000"/>
              <a:ext cx="1722600" cy="241200"/>
            </a:xfrm>
            <a:custGeom>
              <a:avLst/>
              <a:gdLst/>
              <a:ahLst/>
              <a:rect l="l" t="t" r="r" b="b"/>
              <a:pathLst>
                <a:path w="743" h="104">
                  <a:moveTo>
                    <a:pt x="0" y="0"/>
                  </a:moveTo>
                  <a:lnTo>
                    <a:pt x="83" y="56"/>
                  </a:lnTo>
                  <a:lnTo>
                    <a:pt x="160" y="63"/>
                  </a:lnTo>
                  <a:lnTo>
                    <a:pt x="257" y="104"/>
                  </a:lnTo>
                  <a:lnTo>
                    <a:pt x="437" y="63"/>
                  </a:lnTo>
                  <a:lnTo>
                    <a:pt x="562" y="35"/>
                  </a:lnTo>
                  <a:lnTo>
                    <a:pt x="646" y="49"/>
                  </a:lnTo>
                  <a:lnTo>
                    <a:pt x="743" y="21"/>
                  </a:ln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02" name=""/>
          <p:cNvSpPr/>
          <p:nvPr/>
        </p:nvSpPr>
        <p:spPr>
          <a:xfrm>
            <a:off x="763560" y="3962520"/>
            <a:ext cx="2873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cc6600"/>
                </a:solidFill>
                <a:latin typeface="Times New Roman"/>
              </a:rPr>
              <a:t>Current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cc6600"/>
                </a:solidFill>
                <a:latin typeface="Times New Roman"/>
              </a:rPr>
              <a:t>Situat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3" name=""/>
          <p:cNvSpPr/>
          <p:nvPr/>
        </p:nvSpPr>
        <p:spPr>
          <a:xfrm>
            <a:off x="1066680" y="3809880"/>
            <a:ext cx="2743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"/>
          <p:cNvSpPr/>
          <p:nvPr/>
        </p:nvSpPr>
        <p:spPr>
          <a:xfrm>
            <a:off x="228600" y="4343400"/>
            <a:ext cx="990720" cy="533520"/>
          </a:xfrm>
          <a:custGeom>
            <a:avLst/>
            <a:gdLst>
              <a:gd name="textAreaLeft" fmla="*/ 154800 w 990720"/>
              <a:gd name="textAreaRight" fmla="*/ 866880 w 99072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66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"/>
          <p:cNvSpPr/>
          <p:nvPr/>
        </p:nvSpPr>
        <p:spPr>
          <a:xfrm>
            <a:off x="152280" y="4038480"/>
            <a:ext cx="3429000" cy="1143000"/>
          </a:xfrm>
          <a:prstGeom prst="rect">
            <a:avLst/>
          </a:prstGeom>
          <a:solidFill>
            <a:srgbClr val="cc6600">
              <a:alpha val="20000"/>
            </a:srgbClr>
          </a:solidFill>
          <a:ln w="2232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9A12E7-272F-465C-BEAD-C06CAB3C9D2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6600"/>
                </a:solidFill>
                <a:latin typeface="Times New Roman"/>
              </a:rPr>
              <a:t>Potential Supply Sources of Gas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153280" cy="45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ahoma"/>
              </a:rPr>
              <a:t>Sources of Future Gas Sup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Russian, Caspian and Middle East ‘piped’ g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LNG proposals along Adriatic coast and Black Se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ahoma"/>
              </a:rPr>
              <a:t>SEE Gasification Study indicates: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Caspian/Middle East gas competitive to Russian g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Economics of LNG for gasification of SEE currently being analy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6699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336699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336699"/>
                </a:solidFill>
                <a:latin typeface="Tahoma"/>
              </a:rPr>
              <a:t>Many new pipelines are proposed but </a:t>
            </a:r>
            <a:r>
              <a:rPr b="1" lang="en-US" sz="2800" spc="-1" strike="noStrike">
                <a:solidFill>
                  <a:srgbClr val="336699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336699"/>
                </a:solidFill>
                <a:latin typeface="Tahoma"/>
              </a:rPr>
              <a:t>not all will be built at onc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"/>
          <p:cNvSpPr/>
          <p:nvPr/>
        </p:nvSpPr>
        <p:spPr>
          <a:xfrm>
            <a:off x="762120" y="5181480"/>
            <a:ext cx="609480" cy="381240"/>
          </a:xfrm>
          <a:custGeom>
            <a:avLst/>
            <a:gdLst>
              <a:gd name="textAreaLeft" fmla="*/ 95040 w 609480"/>
              <a:gd name="textAreaRight" fmla="*/ 533520 w 60948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" name=""/>
          <p:cNvSpPr/>
          <p:nvPr/>
        </p:nvSpPr>
        <p:spPr>
          <a:xfrm>
            <a:off x="609480" y="4876920"/>
            <a:ext cx="7848720" cy="990360"/>
          </a:xfrm>
          <a:prstGeom prst="rect">
            <a:avLst/>
          </a:prstGeom>
          <a:noFill/>
          <a:ln w="2232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F59C52-A86D-4C4B-8BD2-535A1E56A39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1T14:29:05Z</dcterms:created>
  <dc:creator>wb264733</dc:creator>
  <dc:description/>
  <dc:language>en-US</dc:language>
  <cp:lastModifiedBy>wb180718</cp:lastModifiedBy>
  <dcterms:modified xsi:type="dcterms:W3CDTF">2007-09-25T04:49:12Z</dcterms:modified>
  <cp:revision>268</cp:revision>
  <dc:subject/>
  <dc:title>Yemen</dc:title>
</cp:coreProperties>
</file>