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E8E8-07D7-480F-94A7-83DC3E9CA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E7EA-D494-4973-856A-D4D3E572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1FB3-5888-45C4-A602-D28B19B40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7193-E2CA-4C5D-9FA2-B47DB43DD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2C7A5-133F-487E-A3DE-8E5857860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F76BE-F57B-4527-8061-C986675A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245C-3310-4E9C-AD42-68377B3F3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2DC6-AACB-43CB-A00B-94358551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40F11-0DE6-4EB2-A130-9BA90EEB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4BA57-05A6-4891-81B8-DA4F825D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E31F-14E5-4E20-8184-A5A6F8E8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3EE1-EF02-42CD-9776-22521653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994D-B7A7-4F55-AD9C-53AA63A2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63D6-9851-4770-A9B0-0D5F5D19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02CE-BC17-4B7A-B904-A3A6A199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9F39-B01B-42E8-9421-D1F946B39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665AF-C7E1-4009-8196-0C6E87515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40E8-0934-436E-A89D-4FA4A8A5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F0A7-E817-4285-AAF6-7507BF7B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8491-14D9-4C86-B866-98E27A73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755C-CE34-4B02-A13E-DF770F89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3194-6E18-4D97-98AB-98072DFF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2C8E-61CB-4627-BDC2-0335BDDE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0F88-3E7D-4A39-ABCE-5BACA1C7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7F76-8EB7-4024-9D2B-00D5525E4C0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4FFC-02C2-4306-B1FB-A117FEEEAE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330066"/>
                </a:solidFill>
                <a:latin typeface="Arial"/>
              </a:rPr>
              <a:t>World Bank ECA Region Approach to Climate Change Adaptation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n Ho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17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FY08-10 Pilot Program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543800" cy="4267080"/>
          </a:xfrm>
          <a:prstGeom prst="rect">
            <a:avLst/>
          </a:prstGeom>
          <a:solidFill>
            <a:srgbClr val="ccffff">
              <a:alpha val="6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Programmatic ESW in ECS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 Review – January 3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it approval for funding in FY09 &amp;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utput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n keeping with programmatic ESW, varies from workshop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chnical review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licy n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es parallel Trust Fund requ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 by ECSSD with ECA-wide eng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advisory group and external expe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to ECA Disaster Risk Management and EU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s to Bank-wide ESW and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portunistic partnerships: EC, WMO, IPCC and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996B-B766-4F12-B0E3-037B9D4F620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First-Tier Pilot Sub-region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590920" y="2362320"/>
            <a:ext cx="5333760" cy="20955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847080" y="278748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ti-sec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47720" y="1523880"/>
            <a:ext cx="29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outh Cauca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ater; livelihoods; energ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00520" y="4572000"/>
            <a:ext cx="251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old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rought &amp; ru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lihoods; agricultu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491440" y="4494240"/>
            <a:ext cx="315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entral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elting glaciers; hydro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&amp; agriculture; pover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3429000"/>
            <a:ext cx="15242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657600" y="3504960"/>
            <a:ext cx="2286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6400440" y="38095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952520" y="2133720"/>
            <a:ext cx="22860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3160" y="5165640"/>
            <a:ext cx="22183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Resources (thru FY1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$1.M + BB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$1.3 M + Trust Fun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$TBD co-fund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29D0-BEAC-4061-9F20-CBE236FF27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Example Sub-regional Pilots: </a:t>
            </a:r>
            <a:br>
              <a:rPr sz="3200"/>
            </a:b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SE Europe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267080" y="990720"/>
            <a:ext cx="3035520" cy="33526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61520" y="1600200"/>
            <a:ext cx="3472560" cy="42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ome Client &amp; ECA Inter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CROATIA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: ports; biodiversity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coastal water &amp; wastewater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Roads; energy efficiency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ALBANIA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: dam safety an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hydropower; coastal zon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management; natural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resources managemen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disaster risk reduc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BOSNIA &amp; HERZEGOVINA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Agriculture; forest and land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transboundary water manage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29240" y="4451400"/>
            <a:ext cx="314136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Impacts by mid-century?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ummer mean temp +2.2° 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ean annual rainfall -9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ean annual runoff – 25%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eat waves longer; rainf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nsity high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46280" y="624852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: World Bank (W. Westphal) review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from multiple models under IPCC A1B scenari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B8CF-E264-4F02-9735-4761A3A4C2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Pilot Program Activiti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315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of natural climate variability and recent tre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forecasts of climate and impacts (20-30 ye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ng climate and sector people together to assess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value-added downscaled models and sectoral impact assess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ssessments to frame adaptation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ine linkages to livelihoods and poverty re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monetary value on op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 institutional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ously engage decision-makers and stakeholders (client and World Ban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5029200"/>
            <a:ext cx="7696440" cy="914400"/>
          </a:xfrm>
          <a:prstGeom prst="rightArrow">
            <a:avLst>
              <a:gd name="adj1" fmla="val 50000"/>
              <a:gd name="adj2" fmla="val 21042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...workshops, analytical reports, policy notes, lending project ID….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828B-64AA-4A62-AF41-E1E34430C0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EXT News Releases in FY10?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1600200"/>
            <a:ext cx="4267080" cy="1905120"/>
          </a:xfrm>
          <a:prstGeom prst="verticalScroll">
            <a:avLst>
              <a:gd name="adj" fmla="val 12500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1905120"/>
            <a:ext cx="411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PS includes climate resi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griculture and inve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 hydropower and flood contr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 2010-2030 projection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666880" y="3276720"/>
            <a:ext cx="3733920" cy="1904760"/>
          </a:xfrm>
          <a:prstGeom prst="vertic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4880" y="3581280"/>
            <a:ext cx="3181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orld Bank health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mental in stemm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preceden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read of malari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114800" y="5029200"/>
            <a:ext cx="3657600" cy="1523880"/>
          </a:xfrm>
          <a:prstGeom prst="vertic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56320" y="5241960"/>
            <a:ext cx="225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w OP 9.20 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imate-proofing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orld standar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2E93-112F-4AC3-B5F4-01F96D1603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asic Principle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84440"/>
            <a:ext cx="76960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“business as usual”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mission of greenhouse ga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continue to cause global temperatures to rise from that of nearly 1 degree C at present to 1.8 to 4+ degrees C by yr. 2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mpac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people and ecosystems have already occur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s will b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sitive in pla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e.g. in northern E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Fewer cold-related death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Longer growing seas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New tourism opportunit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overall impacts expected to b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verwhelmingly nega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global temperature rise is over 2 degrees some impacts may be irreversible and especially sev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ub-regions and sectors are particularl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ulner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08EA-0668-4858-AD96-5C59E7C08E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asic Principle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tig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fforts reduce emissions or enhance the capture of emissions, thereby reducing impacts, e.g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-user efficiency and con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generation efficiency improvements and decrease in c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bon capture and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ive energy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igation facilitated through carbon finance incentives, international agreements, economic instruments, regulatio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the most ambitious global mitigation will not be sufficient, however,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dap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grams are needed so that populations and critical ecosystems cope with residual imp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orestation (including prevention of deforestation) as well as investment in clean energy can provid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tigation and adap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C82A-5E8A-428B-95A6-2724226D0A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Current ECA Program on Mitigation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33520" y="1600200"/>
          <a:ext cx="7772400" cy="4932360"/>
        </p:xfrm>
        <a:graphic>
          <a:graphicData uri="http://schemas.openxmlformats.org/drawingml/2006/table">
            <a:tbl>
              <a:tblPr/>
              <a:tblGrid>
                <a:gridCol w="1539720"/>
                <a:gridCol w="2933640"/>
                <a:gridCol w="3299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ategic Are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der Implement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der Prepar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ergy Effici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cedonia Sustainable Energy (GE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bia Energy Efficiency (LEN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erbaijan Power Transmiss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raine Alchevsk Steel Mill Modernization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newable Energy (including hydropowe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oFund 1 Project (TA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and Walbrzych Fuel Switch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raine Hydropower Rehab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orgia Small Hydro Rehab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erbaijan Azerenerji Hydropower Optimization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and Wind Power Plant Puck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 Renewable Energy Umbrella Facility (GE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rkey Hydroelectric Efficiency Improve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ission Reductions from Thermal Power Pla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raine Thermal Power Plant Rehabilitation (ESMAP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sovo Lignite Power (TA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S Sche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tvia GIS Implementation (Fee-Svc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kraine GIS implementation support (PHRD TA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ania; Design Options for GIS Scheme for Emissions Reduction (TA; LEN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: Design options for GIS (PHRD; 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lobal Gas Flaring Reduction Progr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 Danilovsk Gas Flaring Reduction and Rosneft Associated Gas Recovery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bekistan Uzbekneftegaz Associated Gas Recovery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BD22-E165-4FA4-813B-7633602507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0066"/>
                </a:solidFill>
                <a:latin typeface="Arial"/>
              </a:rPr>
              <a:t>ECA Will Be Impacted</a:t>
            </a:r>
            <a:endParaRPr b="1" lang="en-US" sz="3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ydropower in Southeastern Europ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lacier-fed water supplies in Central As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griculture in drought-stricken Moldov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lood-prone areas in Central Europ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elting permafrost in Northern Russ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astal development along Baltic as sea level ri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astal development along the Caspian as it goes up (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or down or up or dow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ealth of elderly across Southern EC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5CC9-0EDC-4455-9E14-003348AAFE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Adaptation: Simple? Complex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0773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and planting of drought-tolerant cro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troduce more efficient irrigation technolog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large storage reservoirs at hydropower pla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fer hydropower development in upland watershed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rengthen flood control dykes; shift to non-structural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hift transport networks from projected future flood-prone are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hift population and industry from areas expected to be impacted by rising sea level and reduced water suppl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and programs for biodiversity protection in landscapes rather than park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and surveillance and response to health impacts from heat and vector-borne diseas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3FB2-FD72-4926-A6B8-A59A189D28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ECA’s Two-Pronged Approach for Analytical Work on Adaptation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1981080"/>
            <a:ext cx="7711920" cy="10994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Umbrella Repor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summarize in a non-technical manner what is known about climate change and its likely impacts across EC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TL- Marianne F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1440" y="3444840"/>
            <a:ext cx="7459200" cy="1739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ilot Progra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assist selected client countr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 the range and likely impacts from clima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 on vulnerable sub-sectors in sensitive sub-reg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to develop candidate adaptation approach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TL – Ron Hoff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1B5B-38D7-4288-B48D-0AD596131D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Analytical Work in the EU Contex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1752480"/>
            <a:ext cx="2743200" cy="762120"/>
          </a:xfrm>
          <a:prstGeom prst="rightArrow">
            <a:avLst>
              <a:gd name="adj1" fmla="val 50000"/>
              <a:gd name="adj2" fmla="val 89986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CA Umbrella Re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2895480"/>
            <a:ext cx="5790960" cy="914400"/>
          </a:xfrm>
          <a:custGeom>
            <a:avLst/>
            <a:gdLst>
              <a:gd name="textAreaLeft" fmla="*/ 904680 w 5790960"/>
              <a:gd name="textAreaRight" fmla="*/ 5067360 w 579096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4419720"/>
            <a:ext cx="1981440" cy="3045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Y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52680" y="4419720"/>
            <a:ext cx="2362320" cy="3045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Y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4419720"/>
            <a:ext cx="2514600" cy="3045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Y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08960" y="3137040"/>
            <a:ext cx="3448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CA “Drill-down” Pilot Progr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68040" y="1928880"/>
            <a:ext cx="381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o inform Bank staff and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48920" y="3757680"/>
            <a:ext cx="36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o facilitate country partner dialog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20178600">
            <a:off x="3170160" y="2437920"/>
            <a:ext cx="595440" cy="614520"/>
          </a:xfrm>
          <a:custGeom>
            <a:avLst/>
            <a:gdLst>
              <a:gd name="textAreaLeft" fmla="*/ 79560 w 595440"/>
              <a:gd name="textAreaRight" fmla="*/ 515880 w 595440"/>
              <a:gd name="textAreaTop" fmla="*/ 107280 h 614520"/>
              <a:gd name="textAreaBottom" fmla="*/ 445680 h 61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8000">
              <a:alpha val="58000"/>
            </a:srgbClr>
          </a:solidFill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5486400"/>
            <a:ext cx="6705360" cy="304920"/>
          </a:xfrm>
          <a:prstGeom prst="rect">
            <a:avLst/>
          </a:prstGeom>
          <a:solidFill>
            <a:srgbClr val="0066f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 White Paper on Adaptation (legal options and fina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62320" y="5105520"/>
            <a:ext cx="2133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EC Draft “White” pap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181480" y="5105520"/>
            <a:ext cx="1701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EU Council a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733920" y="4800240"/>
            <a:ext cx="68580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5257440" y="4800240"/>
            <a:ext cx="22860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7880" y="5105520"/>
            <a:ext cx="1701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EC “Green paper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8853200">
            <a:off x="764280" y="5335920"/>
            <a:ext cx="228600" cy="681120"/>
          </a:xfrm>
          <a:custGeom>
            <a:avLst/>
            <a:gdLst>
              <a:gd name="textAreaLeft" fmla="*/ 30600 w 228600"/>
              <a:gd name="textAreaRight" fmla="*/ 198000 w 228600"/>
              <a:gd name="textAreaTop" fmla="*/ 119160 h 681120"/>
              <a:gd name="textAreaBottom" fmla="*/ 493920 h 68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80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59080" y="5105520"/>
            <a:ext cx="1645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EU Programm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7391520" y="4800240"/>
            <a:ext cx="759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08080" y="6019920"/>
            <a:ext cx="1607040" cy="30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 14 - Pozn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06680" y="6019920"/>
            <a:ext cx="2049120" cy="30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 15 - Copenha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648320" y="48002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086600" y="48002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9D64-A5BD-484F-B36B-A38CC6DA23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66"/>
                </a:solidFill>
                <a:latin typeface="Arial"/>
              </a:rPr>
              <a:t>Umbrella Report - </a:t>
            </a:r>
            <a:r>
              <a:rPr b="0" i="1" lang="en-US" sz="2700" spc="-1" strike="noStrike">
                <a:solidFill>
                  <a:srgbClr val="330066"/>
                </a:solidFill>
                <a:latin typeface="Arial"/>
              </a:rPr>
              <a:t>“Managing Uncertainty: Adapting to Climate Change in ECA”</a:t>
            </a:r>
            <a:endParaRPr b="1" lang="en-US" sz="2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hat and 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echnical summary of what is known about climate change and its likely impacts in EC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gnize that despite expanding research, inherent uncertainty will need to be understood and manag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 conclusions on associated needs and options for adaptation in our client countr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 dialogue on the development of practical adaptation strategies for priority activities/ a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ow and wh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main report (70-80 pages)…possible Flag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oral background papers in process (built-environment, water, urban, health, agriculture…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y and sector reports in Jun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nks to extensive ECSSD staff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9C6F-5A95-446F-B068-CC3E1E95E1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6:37:06Z</dcterms:created>
  <dc:creator>wb75914</dc:creator>
  <dc:description/>
  <dc:language>en-US</dc:language>
  <cp:lastModifiedBy>wb75914</cp:lastModifiedBy>
  <dcterms:modified xsi:type="dcterms:W3CDTF">2008-04-16T07:28:11Z</dcterms:modified>
  <cp:revision>44</cp:revision>
  <dc:subject/>
  <dc:title>Adaptation to Climate Change</dc:title>
</cp:coreProperties>
</file>