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6FDA-DE2C-4433-BC2C-55FE5610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074-0F6A-4FB4-B7D7-D124F3E6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D068-47BA-4399-8A84-AFD8E895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A05-56EC-49A1-9E59-D491032D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69E4-969B-4641-AA7E-B2FA4374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D10F-4DE0-47EE-9F64-62706C64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A553-F9F6-4AC7-870F-D839A92B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A8BB-7209-4ACF-82C3-61A1E3F7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E06C-C2FA-45C2-93CB-B0CBEE34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3D9D-A18D-4DD6-B7D0-73D5D1DF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C905-9CE0-4840-9D7B-16989CBE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36E-3C32-409D-B09B-E1AD9562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47C1-8D70-4B87-B18F-694A2452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6410-56C7-4D19-9A52-695F2C50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7CE2-2F07-44D8-BA6A-A833674A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10AE-5CAF-4EFB-B992-AB697F83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10DA-99A1-4B82-AA95-108671AB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504-3103-4639-A3CF-C29C4126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52B6-F499-4F2C-A3E6-BEF43FAA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649-EFDD-4597-B802-A369DA09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F637-F02D-4096-BF7F-98E058B1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9EE-9AE0-43E0-A1AC-F48ECCF5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2C4-E24A-46BD-8E0D-91027834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66C-6CF7-45C3-AF30-E77CCCD0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F870-5EE7-4C70-9D4C-15B6D01DA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2075-A147-4BFD-97C7-6BFC94BEB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276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The EU Water Initiative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Successful water polici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2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tting up the management instruments required by the institutional framework to carry out the institutions’ tas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aling with crosscutting issues, such as financing, capacity-building, awareness-raising, and stakeholder information and consul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National Policy Dialogue - Concept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jor instrument within the EUWI, including the EUWI-EECCA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olving on the basis of lessons lear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 National Key Partner + 1 Strategic Partner + Relevant Stake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trategic Partner :EU Member State, non-EU Member State or international organisation (one for each NP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mand dri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NPD process – Key Element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13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sequence of activities depen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 countries’ past achiev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urgency of tasks a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vironmental Performance Reviews (OECD, UNECE), UNDP country papers, GWP analysis and the UNECE Assessment of the Status of Transboundary Waters are valuable sources of inspi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NPD process is a dialogue and not a technical project; it should however facilitate developing projects that address jointly identified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nefits from one to other countries. From a wide rage of IWRM issues, each country should address a specific sub-set of issues, preferably not to be repeated in other count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63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EECCA NPDs </a:t>
            </a:r>
            <a:br>
              <a:rPr sz="4000"/>
            </a:b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Running – Planned - Announce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195640" y="2852280"/>
            <a:ext cx="496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menia, Mold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kraine, Kyrgy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men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IWRM issues under the NPD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author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ating an enabling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tablishing basic institution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ole of NGOs in River Basin Counc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Management Pl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ementation of EU WFD in at least one bas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face water and groundwater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nking IWRM plans and water safety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under arid/semi-arid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large national bas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transboundary basins with high conflict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MED EUW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reece l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Joint Process WFD-EUW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ordination with other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H20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Activi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olicy develop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untry dialog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« Technical » 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FD Joi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ater Dir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apacity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Joint Pro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s if the WFD were to be appli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hemat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esting and che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Ensuring/Enabling suc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litical w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ational Policies; International Commi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gislative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mplemen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e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ina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Right cyc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1905120"/>
            <a:ext cx="4419720" cy="4419360"/>
          </a:xfrm>
          <a:custGeom>
            <a:avLst/>
            <a:gdLst>
              <a:gd name="textAreaLeft" fmla="*/ 0 w 4419720"/>
              <a:gd name="textAreaRight" fmla="*/ 4420080 w 4419720"/>
              <a:gd name="textAreaTop" fmla="*/ 0 h 4419360"/>
              <a:gd name="textAreaBottom" fmla="*/ 4419720 h 4419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7100323"/>
                <a:lnTo>
                  <a:pt x="13596" y="21232"/>
                </a:lnTo>
                <a:arcTo wR="10800" hR="10800" stAng="4499677" swAng="1710032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2670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1676520"/>
            <a:ext cx="220968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22096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devi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as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876920"/>
            <a:ext cx="221004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dentif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f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EUWI – Water for lif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ebdings"/>
                <a:ea typeface="Webdings"/>
              </a:rPr>
              <a:t>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ive from EU Member States &amp; European Com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ibute to the achievement of MDGs and WSSD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Supply and Sanitati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W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grated Water Resources Management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IW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a balanc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uman water nee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os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ontribute to halting or reversing the loss o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al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Actions to meet the water and sanitation MD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artnership approa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involve all parties concerned through multistakeholder process (EU, partner countries, international organisations, NGOs, private sector, IFIs and other donors et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4 Regional components (Africa, EECCA, Mediterranean, Latin Amer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rocess – No direct financial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UWI Obj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olitical commitment to ac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mote better water governance arrange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mprove coordination and coop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ctor-wide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artnerships for 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courage regional and sub-regional cooperation on water management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talyse additional fund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Taking the Initiative forward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the major gaps to achieve targ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entify immediate action and ensure finance by national/regional consul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ign long term action programmes - national and transbound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financial mechanisms and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t new mechanisms in place for co-ordination and fin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85680" y="1976400"/>
            <a:ext cx="7248600" cy="26766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HE KEY ELEMENTS OF </a:t>
            </a: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IWRM UNDER THE WF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3124080"/>
            <a:ext cx="2209680" cy="366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558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nv.  obj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5888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ll wa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cipl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kehol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3701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asu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73392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ter dir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2160" y="5251320"/>
            <a:ext cx="4356000" cy="458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ver Basin Management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198108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1d58"/>
                </a:solidFill>
                <a:latin typeface="Times New Roman"/>
              </a:rPr>
              <a:t>River bas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77840" y="1320840"/>
            <a:ext cx="4095720" cy="1587600"/>
            <a:chOff x="177840" y="1320840"/>
            <a:chExt cx="4095720" cy="158760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177840" y="1320840"/>
              <a:ext cx="409572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12920" y="1509840"/>
              <a:ext cx="9522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quality, ecology, quanti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56080" y="1295280"/>
            <a:ext cx="3802320" cy="1646280"/>
            <a:chOff x="5356080" y="1295280"/>
            <a:chExt cx="3802320" cy="1646280"/>
          </a:xfrm>
        </p:grpSpPr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356080" y="1295280"/>
              <a:ext cx="38023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118280" y="1484280"/>
              <a:ext cx="1765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urface, groundwater, transitional, coast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5560" y="3211560"/>
            <a:ext cx="3395520" cy="2322360"/>
            <a:chOff x="25560" y="3211560"/>
            <a:chExt cx="3395520" cy="232236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25560" y="3211560"/>
              <a:ext cx="339552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60280" y="448164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ydrology, hydraulics, ecology economics…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43400" y="3768840"/>
            <a:ext cx="3990960" cy="1841400"/>
            <a:chOff x="5243400" y="3768840"/>
            <a:chExt cx="3990960" cy="1841400"/>
          </a:xfrm>
        </p:grpSpPr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5243400" y="3768840"/>
              <a:ext cx="399096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88968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Nitrates, Urban Waste Water Treatment.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727600" y="3184560"/>
            <a:ext cx="3583080" cy="2425680"/>
            <a:chOff x="5727600" y="3184560"/>
            <a:chExt cx="3583080" cy="2425680"/>
          </a:xfrm>
        </p:grpSpPr>
        <p:pic>
          <p:nvPicPr>
            <p:cNvPr id="187" name="" descr=""/>
            <p:cNvPicPr/>
            <p:nvPr/>
          </p:nvPicPr>
          <p:blipFill>
            <a:blip r:embed="rId5"/>
            <a:stretch/>
          </p:blipFill>
          <p:spPr>
            <a:xfrm>
              <a:off x="5727600" y="3184560"/>
              <a:ext cx="358308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96600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Gov. agencies, water suppliers, env. NGOs, civil soci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560" y="3759120"/>
            <a:ext cx="4143240" cy="2319480"/>
            <a:chOff x="25560" y="3759120"/>
            <a:chExt cx="4143240" cy="2319480"/>
          </a:xfrm>
        </p:grpSpPr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25560" y="3759120"/>
              <a:ext cx="414324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60280" y="4751280"/>
              <a:ext cx="26798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Regulatory and control, economic instruments, voluntary agreements, supply and demand bas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4421160" y="3970440"/>
            <a:ext cx="566640" cy="1201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8600" y="6400800"/>
            <a:ext cx="8915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1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ving toward an enabling environment of appropriate policies, strategies and legislation for sustainable water resources development and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tting in place the institutional framework conducive for the implementation of the policies, strategies and legisl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0:06:11Z</dcterms:created>
  <dc:creator>Rainer E. Enderlein</dc:creator>
  <dc:description/>
  <dc:language>en-US</dc:language>
  <cp:lastModifiedBy>Jose Rizo</cp:lastModifiedBy>
  <dcterms:modified xsi:type="dcterms:W3CDTF">2007-10-26T12:23:3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46924421</vt:r8>
  </property>
  <property fmtid="{D5CDD505-2E9C-101B-9397-08002B2CF9AE}" pid="3" name="_AuthorEmail">
    <vt:lpwstr>Pierre.Hecq@ec.europa.eu</vt:lpwstr>
  </property>
  <property fmtid="{D5CDD505-2E9C-101B-9397-08002B2CF9AE}" pid="4" name="_AuthorEmailDisplayName">
    <vt:lpwstr>HECQ Pierre (ENV)</vt:lpwstr>
  </property>
  <property fmtid="{D5CDD505-2E9C-101B-9397-08002B2CF9AE}" pid="5" name="_EmailSubject">
    <vt:lpwstr>Présentation EC-WB 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