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F39-BEC4-4B02-92C6-9A8E0F6A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FB5-E86B-49FB-9149-ABEDBDE9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EF7-C08B-40CF-A8ED-3657A618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127-B5D7-4BE3-8EF8-96E45776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564-C8E7-426A-B017-69B2E2EA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B88-70C2-4364-B484-F28A1B02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7B1-EA36-4A89-B491-83FBAF0A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E13-4B88-4E63-A77B-307F6647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29A-C072-4D26-90D6-7B2691D1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700-5728-452D-A3B4-F004E2AB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EF3-31F9-4002-8CE6-55622170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CE86-CC57-4885-BBA9-EBB1742E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91E1-E3ED-4232-BA61-C02E93518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-36000"/>
          </a:blip>
          <a:srcRect l="0" t="0" r="4769" b="0"/>
          <a:stretch/>
        </p:blipFill>
        <p:spPr>
          <a:xfrm>
            <a:off x="7924680" y="60958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theastern European Economies: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ook, Risks, and Policy Priorit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manuel van der Mensbrug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Representative of the IMF to th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94360" y="0"/>
            <a:ext cx="2249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70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llout of financial turbulence is a key downside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451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turbulence has raised borrowing costs for emerging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3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ulence could reduce demand for SEE exports from a less confiden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486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inancial turbulence may cause foreign banks to tighten credi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63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Making SEE more Resili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and deep financia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Europe remains an attractive region for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and prospective EU membership anchors policies and spurs institutional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part of capital inflows is F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ll, a happy ending is not guarant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balances may result in capital flow re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one country may spread to another through cross-border conta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and risks assessments by borrowers and lenders may prov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financing is becoming increa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accession is no pana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arding against the downside risks and secure continued successful conver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 generally needs tightening to contain inflationary pres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tightening needed to cool overheating economies with large current account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upervisors need to stay on the ball and ensure strong financi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structural reforms to improve investment climate, flexibility of markets, and reap benefits from international economic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surpluses will dampen excess demand and provide buffers against sh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421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argeting and efficiency of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e state aid to EU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ize public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public sector wages to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 buffers and prepare contingency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tax system and improve tax administration/reduce tax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scal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guard long-term fiscal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ong banking sector is key to withstand turb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Europe has been growing rapidly, reflecting convergence with the W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ystems need to be further developed to contribute to resilience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9800" y="914400"/>
            <a:ext cx="86742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reforms are needed to continue the transition and support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9800" y="762120"/>
            <a:ext cx="8674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business environment more 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corruption will be beneficial for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74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trade integration has upward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, though not all, SEE countries are also successfully containing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382760"/>
            <a:ext cx="80071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llenge: continue to catch up rapid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ring more jobs to the formal economy so that benefits are wid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ccount imbalances are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gh external debt creates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7384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ar-term outlook for SEE remains favo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04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718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owing seems likely further ahead as global and European growth softe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080" y="914400"/>
            <a:ext cx="86738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3:06:32Z</dcterms:created>
  <dc:creator>avamvakidis</dc:creator>
  <dc:description/>
  <dc:language>en-US</dc:language>
  <cp:lastModifiedBy>evandermensbrugghe</cp:lastModifiedBy>
  <dcterms:modified xsi:type="dcterms:W3CDTF">2008-01-22T15:18:42Z</dcterms:modified>
  <cp:revision>870</cp:revision>
  <dc:subject/>
  <dc:title>The Southeastern European Economies:  Vulnerabilities, Challenges and  Opportunities </dc:title>
</cp:coreProperties>
</file>