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26560" y="412272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2264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2944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3196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2656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2944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3196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982800" y="771480"/>
            <a:ext cx="783720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2264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826560" y="412272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92264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2944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3196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82656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2944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23196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982800" y="771480"/>
            <a:ext cx="783720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2264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826560" y="412272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92264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2944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3196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82656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52944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23196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82800" y="771480"/>
            <a:ext cx="783720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2264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05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189000"/>
            <a:ext cx="9144000" cy="6669000"/>
            <a:chOff x="0" y="189000"/>
            <a:chExt cx="9144000" cy="6669000"/>
          </a:xfrm>
        </p:grpSpPr>
        <p:sp>
          <p:nvSpPr>
            <p:cNvPr id="2" name=""/>
            <p:cNvSpPr/>
            <p:nvPr/>
          </p:nvSpPr>
          <p:spPr>
            <a:xfrm>
              <a:off x="6355800" y="4023000"/>
              <a:ext cx="1628640" cy="2216520"/>
            </a:xfrm>
            <a:custGeom>
              <a:avLst/>
              <a:gdLst/>
              <a:ahLst/>
              <a:rect l="l" t="t" r="r" b="b"/>
              <a:pathLst>
                <a:path w="513" h="698">
                  <a:moveTo>
                    <a:pt x="110" y="696"/>
                  </a:moveTo>
                  <a:cubicBezTo>
                    <a:pt x="110" y="398"/>
                    <a:pt x="272" y="138"/>
                    <a:pt x="513" y="0"/>
                  </a:cubicBezTo>
                  <a:cubicBezTo>
                    <a:pt x="242" y="130"/>
                    <a:pt x="44" y="389"/>
                    <a:pt x="0" y="698"/>
                  </a:cubicBezTo>
                  <a:cubicBezTo>
                    <a:pt x="110" y="698"/>
                    <a:pt x="110" y="698"/>
                    <a:pt x="110" y="698"/>
                  </a:cubicBezTo>
                  <a:cubicBezTo>
                    <a:pt x="110" y="697"/>
                    <a:pt x="110" y="696"/>
                    <a:pt x="110" y="6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89000"/>
              <a:ext cx="9144000" cy="6669000"/>
            </a:xfrm>
            <a:custGeom>
              <a:avLst/>
              <a:gdLst/>
              <a:ahLst/>
              <a:rect l="l" t="t" r="r" b="b"/>
              <a:pathLst>
                <a:path w="2880" h="2100">
                  <a:moveTo>
                    <a:pt x="2515" y="1207"/>
                  </a:moveTo>
                  <a:cubicBezTo>
                    <a:pt x="2623" y="1144"/>
                    <a:pt x="2748" y="1106"/>
                    <a:pt x="2880" y="1101"/>
                  </a:cubicBezTo>
                  <a:cubicBezTo>
                    <a:pt x="2880" y="117"/>
                    <a:pt x="2880" y="117"/>
                    <a:pt x="2880" y="117"/>
                  </a:cubicBezTo>
                  <a:cubicBezTo>
                    <a:pt x="1470" y="211"/>
                    <a:pt x="796" y="0"/>
                    <a:pt x="376" y="0"/>
                  </a:cubicBezTo>
                  <a:cubicBezTo>
                    <a:pt x="65" y="0"/>
                    <a:pt x="8" y="169"/>
                    <a:pt x="0" y="258"/>
                  </a:cubicBezTo>
                  <a:cubicBezTo>
                    <a:pt x="0" y="258"/>
                    <a:pt x="0" y="258"/>
                    <a:pt x="0" y="978"/>
                  </a:cubicBezTo>
                  <a:cubicBezTo>
                    <a:pt x="0" y="2100"/>
                    <a:pt x="0" y="2100"/>
                    <a:pt x="0" y="2100"/>
                  </a:cubicBezTo>
                  <a:cubicBezTo>
                    <a:pt x="2880" y="2100"/>
                    <a:pt x="2880" y="2100"/>
                    <a:pt x="2880" y="2100"/>
                  </a:cubicBezTo>
                  <a:cubicBezTo>
                    <a:pt x="2880" y="1905"/>
                    <a:pt x="2880" y="1905"/>
                    <a:pt x="2880" y="1905"/>
                  </a:cubicBezTo>
                  <a:cubicBezTo>
                    <a:pt x="2002" y="1905"/>
                    <a:pt x="2002" y="1905"/>
                    <a:pt x="2002" y="1905"/>
                  </a:cubicBezTo>
                  <a:cubicBezTo>
                    <a:pt x="2046" y="1596"/>
                    <a:pt x="2244" y="1337"/>
                    <a:pt x="2515" y="12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"/>
          <p:cNvGrpSpPr/>
          <p:nvPr/>
        </p:nvGrpSpPr>
        <p:grpSpPr>
          <a:xfrm>
            <a:off x="0" y="189000"/>
            <a:ext cx="9144000" cy="6669000"/>
            <a:chOff x="0" y="189000"/>
            <a:chExt cx="9144000" cy="6669000"/>
          </a:xfrm>
        </p:grpSpPr>
        <p:grpSp>
          <p:nvGrpSpPr>
            <p:cNvPr id="5" name="Group 152"/>
            <p:cNvGrpSpPr/>
            <p:nvPr/>
          </p:nvGrpSpPr>
          <p:grpSpPr>
            <a:xfrm>
              <a:off x="0" y="189000"/>
              <a:ext cx="9144000" cy="4321080"/>
              <a:chOff x="0" y="189000"/>
              <a:chExt cx="9144000" cy="4321080"/>
            </a:xfrm>
          </p:grpSpPr>
          <p:sp>
            <p:nvSpPr>
              <p:cNvPr id="6" name="Freeform 5"/>
              <p:cNvSpPr/>
              <p:nvPr/>
            </p:nvSpPr>
            <p:spPr>
              <a:xfrm>
                <a:off x="0" y="189000"/>
                <a:ext cx="9144000" cy="3392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Rectangle 38"/>
              <p:cNvSpPr/>
              <p:nvPr/>
            </p:nvSpPr>
            <p:spPr>
              <a:xfrm>
                <a:off x="0" y="3296160"/>
                <a:ext cx="9144000" cy="1213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4221000"/>
              <a:ext cx="9144000" cy="263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06520" indent="-228600">
              <a:buClr>
                <a:srgbClr val="005b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14400" indent="-228600">
              <a:buClr>
                <a:srgbClr val="005bab"/>
              </a:buClr>
              <a:buSzPct val="125000"/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22640" indent="-228600">
              <a:buClr>
                <a:srgbClr val="005b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2264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2264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67"/>
          <p:cNvSpPr/>
          <p:nvPr/>
        </p:nvSpPr>
        <p:spPr>
          <a:xfrm>
            <a:off x="7932240" y="6389640"/>
            <a:ext cx="34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bab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5bab"/>
                </a:solidFill>
                <a:latin typeface="Trebuchet MS"/>
              </a:rPr>
              <a:t>|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Slide Number Placeholder 4"/>
          <p:cNvSpPr/>
          <p:nvPr/>
        </p:nvSpPr>
        <p:spPr>
          <a:xfrm>
            <a:off x="8172360" y="634536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926E-EBE8-4DF5-AE94-8C520107BC4B}" type="slidenum">
              <a:rPr b="0" lang="en-US" sz="1000" spc="-1" strike="noStrike">
                <a:solidFill>
                  <a:srgbClr val="005ba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ooter Placeholder 6"/>
          <p:cNvSpPr/>
          <p:nvPr/>
        </p:nvSpPr>
        <p:spPr>
          <a:xfrm>
            <a:off x="2857680" y="6350040"/>
            <a:ext cx="5229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bab"/>
                </a:solidFill>
                <a:latin typeface="Arial"/>
              </a:rPr>
              <a:t>Transeuropean Networks Energy &amp;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Title 1"/>
          <p:cNvSpPr/>
          <p:nvPr/>
        </p:nvSpPr>
        <p:spPr>
          <a:xfrm>
            <a:off x="324000" y="522360"/>
            <a:ext cx="5000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7120" indent="-357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ecc3b"/>
                </a:solidFill>
                <a:latin typeface="Wingdings"/>
                <a:ea typeface="Wingdings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" name=""/>
          <p:cNvGrpSpPr/>
          <p:nvPr/>
        </p:nvGrpSpPr>
        <p:grpSpPr>
          <a:xfrm>
            <a:off x="390600" y="4952880"/>
            <a:ext cx="431640" cy="1644840"/>
            <a:chOff x="390600" y="4952880"/>
            <a:chExt cx="431640" cy="1644840"/>
          </a:xfrm>
        </p:grpSpPr>
        <p:grpSp>
          <p:nvGrpSpPr>
            <p:cNvPr id="16" name="Group 109"/>
            <p:cNvGrpSpPr/>
            <p:nvPr/>
          </p:nvGrpSpPr>
          <p:grpSpPr>
            <a:xfrm>
              <a:off x="392040" y="6294600"/>
              <a:ext cx="430200" cy="303120"/>
              <a:chOff x="392040" y="6294600"/>
              <a:chExt cx="430200" cy="303120"/>
            </a:xfrm>
          </p:grpSpPr>
          <p:sp>
            <p:nvSpPr>
              <p:cNvPr id="17" name="Rectangle 56"/>
              <p:cNvSpPr/>
              <p:nvPr/>
            </p:nvSpPr>
            <p:spPr>
              <a:xfrm>
                <a:off x="392040" y="6294600"/>
                <a:ext cx="430200" cy="303120"/>
              </a:xfrm>
              <a:prstGeom prst="rect">
                <a:avLst/>
              </a:prstGeom>
              <a:solidFill>
                <a:srgbClr val="034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57"/>
              <p:cNvSpPr/>
              <p:nvPr/>
            </p:nvSpPr>
            <p:spPr>
              <a:xfrm>
                <a:off x="603360" y="6441840"/>
                <a:ext cx="720" cy="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Line 58"/>
              <p:cNvSpPr/>
              <p:nvPr/>
            </p:nvSpPr>
            <p:spPr>
              <a:xfrm>
                <a:off x="603360" y="6441840"/>
                <a:ext cx="720" cy="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59"/>
              <p:cNvSpPr/>
              <p:nvPr/>
            </p:nvSpPr>
            <p:spPr>
              <a:xfrm>
                <a:off x="584280" y="6315120"/>
                <a:ext cx="349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Freeform 60"/>
              <p:cNvSpPr/>
              <p:nvPr/>
            </p:nvSpPr>
            <p:spPr>
              <a:xfrm>
                <a:off x="584280" y="6315120"/>
                <a:ext cx="349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Freeform 61"/>
              <p:cNvSpPr/>
              <p:nvPr/>
            </p:nvSpPr>
            <p:spPr>
              <a:xfrm>
                <a:off x="527040" y="6329520"/>
                <a:ext cx="36720" cy="3420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Freeform 62"/>
              <p:cNvSpPr/>
              <p:nvPr/>
            </p:nvSpPr>
            <p:spPr>
              <a:xfrm>
                <a:off x="527040" y="6329520"/>
                <a:ext cx="36720" cy="34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63"/>
              <p:cNvSpPr/>
              <p:nvPr/>
            </p:nvSpPr>
            <p:spPr>
              <a:xfrm>
                <a:off x="528840" y="6518160"/>
                <a:ext cx="3744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64"/>
              <p:cNvSpPr/>
              <p:nvPr/>
            </p:nvSpPr>
            <p:spPr>
              <a:xfrm>
                <a:off x="528840" y="6518160"/>
                <a:ext cx="3744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65"/>
              <p:cNvSpPr/>
              <p:nvPr/>
            </p:nvSpPr>
            <p:spPr>
              <a:xfrm>
                <a:off x="584280" y="6534360"/>
                <a:ext cx="349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66"/>
              <p:cNvSpPr/>
              <p:nvPr/>
            </p:nvSpPr>
            <p:spPr>
              <a:xfrm>
                <a:off x="584280" y="6534360"/>
                <a:ext cx="349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67"/>
              <p:cNvSpPr/>
              <p:nvPr/>
            </p:nvSpPr>
            <p:spPr>
              <a:xfrm>
                <a:off x="488520" y="647856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68"/>
              <p:cNvSpPr/>
              <p:nvPr/>
            </p:nvSpPr>
            <p:spPr>
              <a:xfrm>
                <a:off x="488520" y="647856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69"/>
              <p:cNvSpPr/>
              <p:nvPr/>
            </p:nvSpPr>
            <p:spPr>
              <a:xfrm>
                <a:off x="474120" y="642384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70"/>
              <p:cNvSpPr/>
              <p:nvPr/>
            </p:nvSpPr>
            <p:spPr>
              <a:xfrm>
                <a:off x="474120" y="642384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71"/>
              <p:cNvSpPr/>
              <p:nvPr/>
            </p:nvSpPr>
            <p:spPr>
              <a:xfrm>
                <a:off x="488520" y="636804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72"/>
              <p:cNvSpPr/>
              <p:nvPr/>
            </p:nvSpPr>
            <p:spPr>
              <a:xfrm>
                <a:off x="488520" y="636804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Freeform 73"/>
              <p:cNvSpPr/>
              <p:nvPr/>
            </p:nvSpPr>
            <p:spPr>
              <a:xfrm>
                <a:off x="640080" y="6329520"/>
                <a:ext cx="36720" cy="3420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Freeform 74"/>
              <p:cNvSpPr/>
              <p:nvPr/>
            </p:nvSpPr>
            <p:spPr>
              <a:xfrm>
                <a:off x="640080" y="6329520"/>
                <a:ext cx="36720" cy="34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75"/>
              <p:cNvSpPr/>
              <p:nvPr/>
            </p:nvSpPr>
            <p:spPr>
              <a:xfrm>
                <a:off x="678600" y="6370560"/>
                <a:ext cx="36720" cy="3420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76"/>
              <p:cNvSpPr/>
              <p:nvPr/>
            </p:nvSpPr>
            <p:spPr>
              <a:xfrm>
                <a:off x="678600" y="6370560"/>
                <a:ext cx="36720" cy="34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77"/>
              <p:cNvSpPr/>
              <p:nvPr/>
            </p:nvSpPr>
            <p:spPr>
              <a:xfrm>
                <a:off x="693000" y="642564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78"/>
              <p:cNvSpPr/>
              <p:nvPr/>
            </p:nvSpPr>
            <p:spPr>
              <a:xfrm>
                <a:off x="693000" y="642564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Freeform 79"/>
              <p:cNvSpPr/>
              <p:nvPr/>
            </p:nvSpPr>
            <p:spPr>
              <a:xfrm>
                <a:off x="678600" y="647856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Freeform 80"/>
              <p:cNvSpPr/>
              <p:nvPr/>
            </p:nvSpPr>
            <p:spPr>
              <a:xfrm>
                <a:off x="678600" y="647856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Freeform 81"/>
              <p:cNvSpPr/>
              <p:nvPr/>
            </p:nvSpPr>
            <p:spPr>
              <a:xfrm>
                <a:off x="640080" y="651996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Freeform 82"/>
              <p:cNvSpPr/>
              <p:nvPr/>
            </p:nvSpPr>
            <p:spPr>
              <a:xfrm>
                <a:off x="640080" y="651996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90600" y="4952880"/>
              <a:ext cx="431640" cy="11509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19040" y="3539880"/>
            <a:ext cx="5769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bab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  <a:p>
            <a:pPr lvl="1" marL="5317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263520" algn="ctr">
              <a:buClr>
                <a:srgbClr val="005ba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214200" algn="ctr">
              <a:buClr>
                <a:srgbClr val="005bab"/>
              </a:buClr>
              <a:buSzPct val="125000"/>
              <a:buFont typeface="Arial"/>
              <a:buChar char="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65240" algn="ctr">
              <a:buClr>
                <a:srgbClr val="005bab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65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65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tle 1"/>
          <p:cNvSpPr/>
          <p:nvPr/>
        </p:nvSpPr>
        <p:spPr>
          <a:xfrm>
            <a:off x="324000" y="-20520"/>
            <a:ext cx="5000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7120" indent="-357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ecc3b"/>
                </a:solidFill>
                <a:latin typeface="Wingdings"/>
                <a:ea typeface="Wingdings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82800" y="229680"/>
            <a:ext cx="78372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0" y="0"/>
            <a:ext cx="9144000" cy="3141360"/>
            <a:chOff x="0" y="0"/>
            <a:chExt cx="9144000" cy="3141360"/>
          </a:xfrm>
        </p:grpSpPr>
        <p:pic>
          <p:nvPicPr>
            <p:cNvPr id="15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274840" cy="311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2"/>
            <a:stretch/>
          </p:blipFill>
          <p:spPr>
            <a:xfrm>
              <a:off x="2124000" y="0"/>
              <a:ext cx="2340000" cy="31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3"/>
            <a:stretch/>
          </p:blipFill>
          <p:spPr>
            <a:xfrm>
              <a:off x="4356000" y="0"/>
              <a:ext cx="2340000" cy="31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4"/>
            <a:stretch/>
          </p:blipFill>
          <p:spPr>
            <a:xfrm>
              <a:off x="6588000" y="0"/>
              <a:ext cx="2556000" cy="311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" name="Group 152"/>
          <p:cNvGrpSpPr/>
          <p:nvPr/>
        </p:nvGrpSpPr>
        <p:grpSpPr>
          <a:xfrm>
            <a:off x="0" y="2536920"/>
            <a:ext cx="9144000" cy="4321080"/>
            <a:chOff x="0" y="2536920"/>
            <a:chExt cx="9144000" cy="4321080"/>
          </a:xfrm>
        </p:grpSpPr>
        <p:sp>
          <p:nvSpPr>
            <p:cNvPr id="163" name="Freeform 5"/>
            <p:cNvSpPr/>
            <p:nvPr/>
          </p:nvSpPr>
          <p:spPr>
            <a:xfrm>
              <a:off x="0" y="2536920"/>
              <a:ext cx="9144000" cy="3392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38"/>
            <p:cNvSpPr/>
            <p:nvPr/>
          </p:nvSpPr>
          <p:spPr>
            <a:xfrm>
              <a:off x="0" y="5644080"/>
              <a:ext cx="9144000" cy="121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Mr François Bégeot – Policy Offic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Date Placeholder 3"/>
          <p:cNvSpPr/>
          <p:nvPr/>
        </p:nvSpPr>
        <p:spPr>
          <a:xfrm>
            <a:off x="3119400" y="5661000"/>
            <a:ext cx="31082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119040" y="3539880"/>
            <a:ext cx="5769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THE TINA STUDY FOR TUR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119400" y="5084640"/>
            <a:ext cx="5773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5bab"/>
                </a:solidFill>
                <a:latin typeface="Arial"/>
              </a:rPr>
              <a:t>IFIAG Transport Working Group</a:t>
            </a: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5bab"/>
                </a:solidFill>
                <a:latin typeface="Arial"/>
              </a:rPr>
              <a:t>14 April 2008</a:t>
            </a: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  <p:sp>
        <p:nvSpPr>
          <p:cNvPr id="168" name="TextBox 70"/>
          <p:cNvSpPr/>
          <p:nvPr/>
        </p:nvSpPr>
        <p:spPr>
          <a:xfrm>
            <a:off x="336240" y="6364440"/>
            <a:ext cx="8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Arial"/>
                <a:ea typeface="Arial"/>
              </a:rPr>
              <a:t>EUROPEAN</a:t>
            </a:r>
            <a:br>
              <a:rPr sz="800"/>
            </a:br>
            <a:r>
              <a:rPr b="0" lang="fr-BE" sz="800" spc="-1" strike="noStrike">
                <a:solidFill>
                  <a:srgbClr val="000000"/>
                </a:solidFill>
                <a:latin typeface="Arial"/>
                <a:ea typeface="Arial"/>
              </a:rPr>
              <a:t>COMMI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109"/>
          <p:cNvGrpSpPr/>
          <p:nvPr/>
        </p:nvGrpSpPr>
        <p:grpSpPr>
          <a:xfrm>
            <a:off x="396720" y="5873760"/>
            <a:ext cx="719280" cy="506520"/>
            <a:chOff x="396720" y="5873760"/>
            <a:chExt cx="719280" cy="506520"/>
          </a:xfrm>
        </p:grpSpPr>
        <p:sp>
          <p:nvSpPr>
            <p:cNvPr id="170" name="Rectangle 56"/>
            <p:cNvSpPr/>
            <p:nvPr/>
          </p:nvSpPr>
          <p:spPr>
            <a:xfrm>
              <a:off x="396720" y="5873760"/>
              <a:ext cx="719280" cy="506520"/>
            </a:xfrm>
            <a:prstGeom prst="rect">
              <a:avLst/>
            </a:prstGeom>
            <a:solidFill>
              <a:srgbClr val="034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57"/>
            <p:cNvSpPr/>
            <p:nvPr/>
          </p:nvSpPr>
          <p:spPr>
            <a:xfrm>
              <a:off x="749880" y="6120000"/>
              <a:ext cx="10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58"/>
            <p:cNvSpPr/>
            <p:nvPr/>
          </p:nvSpPr>
          <p:spPr>
            <a:xfrm>
              <a:off x="749880" y="6120000"/>
              <a:ext cx="10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59"/>
            <p:cNvSpPr/>
            <p:nvPr/>
          </p:nvSpPr>
          <p:spPr>
            <a:xfrm>
              <a:off x="718560" y="5907960"/>
              <a:ext cx="5832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60"/>
            <p:cNvSpPr/>
            <p:nvPr/>
          </p:nvSpPr>
          <p:spPr>
            <a:xfrm>
              <a:off x="718560" y="5907960"/>
              <a:ext cx="5832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61"/>
            <p:cNvSpPr/>
            <p:nvPr/>
          </p:nvSpPr>
          <p:spPr>
            <a:xfrm>
              <a:off x="622440" y="5932440"/>
              <a:ext cx="61200" cy="5724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62"/>
            <p:cNvSpPr/>
            <p:nvPr/>
          </p:nvSpPr>
          <p:spPr>
            <a:xfrm>
              <a:off x="622440" y="5932440"/>
              <a:ext cx="61200" cy="57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63"/>
            <p:cNvSpPr/>
            <p:nvPr/>
          </p:nvSpPr>
          <p:spPr>
            <a:xfrm>
              <a:off x="625320" y="6247440"/>
              <a:ext cx="6264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64"/>
            <p:cNvSpPr/>
            <p:nvPr/>
          </p:nvSpPr>
          <p:spPr>
            <a:xfrm>
              <a:off x="625320" y="6247440"/>
              <a:ext cx="6264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65"/>
            <p:cNvSpPr/>
            <p:nvPr/>
          </p:nvSpPr>
          <p:spPr>
            <a:xfrm>
              <a:off x="718560" y="6274440"/>
              <a:ext cx="5832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66"/>
            <p:cNvSpPr/>
            <p:nvPr/>
          </p:nvSpPr>
          <p:spPr>
            <a:xfrm>
              <a:off x="718560" y="6274440"/>
              <a:ext cx="5832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67"/>
            <p:cNvSpPr/>
            <p:nvPr/>
          </p:nvSpPr>
          <p:spPr>
            <a:xfrm>
              <a:off x="558360" y="6181560"/>
              <a:ext cx="612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68"/>
            <p:cNvSpPr/>
            <p:nvPr/>
          </p:nvSpPr>
          <p:spPr>
            <a:xfrm>
              <a:off x="558360" y="6181560"/>
              <a:ext cx="612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69"/>
            <p:cNvSpPr/>
            <p:nvPr/>
          </p:nvSpPr>
          <p:spPr>
            <a:xfrm>
              <a:off x="533880" y="6089760"/>
              <a:ext cx="612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70"/>
            <p:cNvSpPr/>
            <p:nvPr/>
          </p:nvSpPr>
          <p:spPr>
            <a:xfrm>
              <a:off x="533880" y="6089760"/>
              <a:ext cx="612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71"/>
            <p:cNvSpPr/>
            <p:nvPr/>
          </p:nvSpPr>
          <p:spPr>
            <a:xfrm>
              <a:off x="558360" y="5996880"/>
              <a:ext cx="612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72"/>
            <p:cNvSpPr/>
            <p:nvPr/>
          </p:nvSpPr>
          <p:spPr>
            <a:xfrm>
              <a:off x="558360" y="5996880"/>
              <a:ext cx="612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73"/>
            <p:cNvSpPr/>
            <p:nvPr/>
          </p:nvSpPr>
          <p:spPr>
            <a:xfrm>
              <a:off x="811440" y="5932440"/>
              <a:ext cx="61200" cy="5724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74"/>
            <p:cNvSpPr/>
            <p:nvPr/>
          </p:nvSpPr>
          <p:spPr>
            <a:xfrm>
              <a:off x="811440" y="5932440"/>
              <a:ext cx="61200" cy="57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75"/>
            <p:cNvSpPr/>
            <p:nvPr/>
          </p:nvSpPr>
          <p:spPr>
            <a:xfrm>
              <a:off x="875880" y="6000840"/>
              <a:ext cx="61200" cy="5724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76"/>
            <p:cNvSpPr/>
            <p:nvPr/>
          </p:nvSpPr>
          <p:spPr>
            <a:xfrm>
              <a:off x="875880" y="6000840"/>
              <a:ext cx="61200" cy="57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77"/>
            <p:cNvSpPr/>
            <p:nvPr/>
          </p:nvSpPr>
          <p:spPr>
            <a:xfrm>
              <a:off x="900000" y="6092640"/>
              <a:ext cx="612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78"/>
            <p:cNvSpPr/>
            <p:nvPr/>
          </p:nvSpPr>
          <p:spPr>
            <a:xfrm>
              <a:off x="900000" y="6092640"/>
              <a:ext cx="612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79"/>
            <p:cNvSpPr/>
            <p:nvPr/>
          </p:nvSpPr>
          <p:spPr>
            <a:xfrm>
              <a:off x="875880" y="6181560"/>
              <a:ext cx="612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80"/>
            <p:cNvSpPr/>
            <p:nvPr/>
          </p:nvSpPr>
          <p:spPr>
            <a:xfrm>
              <a:off x="875880" y="6181560"/>
              <a:ext cx="612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81"/>
            <p:cNvSpPr/>
            <p:nvPr/>
          </p:nvSpPr>
          <p:spPr>
            <a:xfrm>
              <a:off x="811440" y="6250320"/>
              <a:ext cx="612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82"/>
            <p:cNvSpPr/>
            <p:nvPr/>
          </p:nvSpPr>
          <p:spPr>
            <a:xfrm>
              <a:off x="811440" y="6250320"/>
              <a:ext cx="612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396720" y="3633840"/>
            <a:ext cx="719280" cy="19144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800"/>
                            </p:stCondLst>
                            <p:childTnLst>
                              <p:par>
                                <p:cTn id="2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300"/>
                            </p:stCondLst>
                            <p:childTnLst>
                              <p:par>
                                <p:cTn id="2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-71280" y="189000"/>
            <a:ext cx="9331200" cy="64166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PROJECT PRIORIT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d of a Multi-Criteria Analysis based on projects defined by Tur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3 Rail projects mainly in the West side of Turkey and to improve main connections with 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5 Road projects mainly to upgrade existing r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 ports projects in all seas in order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nter-ali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increase capacity for co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Text Placeholder 2" descr=""/>
          <p:cNvPicPr/>
          <p:nvPr/>
        </p:nvPicPr>
        <p:blipFill>
          <a:blip r:embed="rId1"/>
          <a:stretch/>
        </p:blipFill>
        <p:spPr>
          <a:xfrm>
            <a:off x="0" y="338040"/>
            <a:ext cx="9217080" cy="65199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Text Placeholder 2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674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COST OF THE CORE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ail Network: € 8,878 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oad Network: € 8,595 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irports: € 1,185 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eaports: € 1,488 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otal Cost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€ 20,145 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urkey by defining its Core Network has a sound basis to negotiate the future TEN-T network in the framework of Chapter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ed to develop a project pipeline with further investments supported by appropriate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rease administrative capacity as well as regulatory measures in particular to improve rail competi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motion of Public Private Part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71280" y="764640"/>
            <a:ext cx="783756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755640" y="-38736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5640" y="4046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THANK YOU FOR YOUR AT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95640" y="602136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Britannic Bold"/>
              </a:rPr>
              <a:t>ISTANB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develop a multi-modal transport network (Core Network) within the Republic of Turkey comprising of roads, railway lines, seaports and airports using the TINA methodolog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THREE MAIN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ment of a traffic forecasting model and the projection of traffic flows for 2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ng and analyzing the multimodal network, and then prioritizing potential network improvement projects by means of a Multi-Criteria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ment of a common database using GIS technolo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TURKEY’S UNIQUE GEOGRAPHIC LOCA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OFFERS MANY POSSIBILITI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roving transport in the North-South and East-West axes to better integrate Turkish transport with international transport network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roving intermodal transport facilities and services, to take advantage of the strong growth in container transport; a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roving maritime connections and nodal points (seaports), to take advantage of their potential strategic role as industrial and logistic platfor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526680" cy="65502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THE CORE NETWORK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based on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ree main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8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network should be consistent with the criteria set forth in the EU guidelines for development of the TEN-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8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technical features of the future infrastructure should ensure consistency between the capacity of the network components and the expected traffic lev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8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time horizon for network completion should be 202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THE CORE NETWORK (I)</a:t>
            </a:r>
            <a:br>
              <a:rPr sz="3200"/>
            </a:b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Horizon 20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re Railways : 10,912 k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which High Speed Rail Lines 3,50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Potential Network Extensions (not yet part of the Core Network)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1,438 km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re Roads: 11,984 k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Potential Network Extensions (not yet part of the Core Network)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350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THE CORE NETWORK (II)</a:t>
            </a:r>
            <a:br>
              <a:rPr sz="3200"/>
            </a:b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Horizon 20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lnSpc>
                <a:spcPct val="9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r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tegory A: 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tegory B: 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tegory C: 6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tal number of airports:   2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tegory A: 2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tegory B: 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tegory C: 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tal number of seaports: 3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-71280" y="185760"/>
            <a:ext cx="9335880" cy="64180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10:53:32Z</dcterms:created>
  <dc:creator>Kathy</dc:creator>
  <dc:description/>
  <dc:language>en-US</dc:language>
  <cp:lastModifiedBy>begeofr</cp:lastModifiedBy>
  <dcterms:modified xsi:type="dcterms:W3CDTF">2008-04-14T05:54:08Z</dcterms:modified>
  <cp:revision>110</cp:revision>
  <dc:subject>NEW GUIDELINES</dc:subject>
  <dc:title>DG TREN</dc:title>
</cp:coreProperties>
</file>