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15138" cy="995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EB5C-E6FB-4078-8CDF-2C38F667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E12E-1C1D-4713-86FC-C386839E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6153-9A51-4721-983C-21C5FF40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941A-B3F8-4A6C-9631-D0E932BB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D3F9-ED55-4132-9704-D2DC42CA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21E5-A427-4F92-A144-4EFD6919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B89C-228E-4B81-A174-CB24C3FD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FED5-28ED-4FC1-83E4-316E33F1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8B74-D7E4-4272-945E-28A0960C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9F29-879B-45B8-BE16-61A979EC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DDB9-9DD9-44F4-970A-EC01B9EF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143C-34F3-452E-8218-4B5010A0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651E-CB33-4DB7-8472-52178CA0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31F7-6F3A-4924-98B8-A4C90454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37C1-5B57-41D7-BBD9-3BC77934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4DCA-06B5-41C5-A372-242EA70E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FAE3-5BD1-4A23-A36E-B46DAD8F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2EAB-DD87-48B5-8CF6-BD5F4166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95D8-ED37-4483-85D0-A60F5CC4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CDA6-19AF-449E-B5FF-F0FBF2C7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B9E7-78EB-4C00-A122-C2AFA1AD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E1EF-F092-48BE-8D9A-82DB5EC7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025E-DFAD-43FE-85FF-F263BD8B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502D-70E2-4391-9AFA-25E04752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2254-6B48-4F00-BB24-5B4265EC2E4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486400" cy="5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2666880" y="6248520"/>
            <a:ext cx="381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23B0-090D-4C0A-BE39-EA6F07FF5C2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486400" cy="568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Verdana"/>
              </a:rPr>
              <a:t>International Financial Institutions Advisory Group meeting on Transport</a:t>
            </a:r>
            <a:br>
              <a:rPr sz="2400"/>
            </a:br>
            <a:r>
              <a:rPr b="1" i="1" lang="en-US" sz="1600" spc="-1" strike="noStrike">
                <a:solidFill>
                  <a:srgbClr val="ccecff"/>
                </a:solidFill>
                <a:latin typeface="Verdana"/>
              </a:rPr>
              <a:t>April 14, 2008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28600" y="40381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Update on SEETO Activities in 2008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6AA6-4948-4A33-9607-16426A52CA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Verdana"/>
              </a:rPr>
              <a:t>Priorities of 2008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o improve the general quality of the Multi-annual Plan and, specifically, the quality of the analysis of projects’ statu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o improve the data collection proces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o assist the Steering Committee and to facilitate its work on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the reform of railways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order-crossing issues, including the establishment of the Border-Crossing Working Group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oad safety issues, including the establishment of the Road Safety Working Group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o fill the vacancies in personnel and to improve the internal procedures of the Permanent Secretaria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D69D-DA6F-4274-B1F8-E249FCA57D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ecff"/>
                </a:solidFill>
                <a:latin typeface="Arial"/>
              </a:rPr>
              <a:t>Assistance to SC for fostering policy reforms and harmonisation in the transport sector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 u="sng">
                <a:solidFill>
                  <a:srgbClr val="ffffff"/>
                </a:solidFill>
                <a:uFillTx/>
                <a:latin typeface="Verdana"/>
              </a:rPr>
              <a:t>In the framework of the implementation of the 2007 Addendum to the MoU for a South East European Railway Transport Area, provide support to the SC for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60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Verdana"/>
              </a:rPr>
              <a:t>a) the preparation of a detailed timetable for the implementation the targets foreseen in the Addendum signed on 4.12.2007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Verdana"/>
              </a:rPr>
              <a:t>b) fostering the preparation of a Common Network Statement, as proposed by the Railways Working Group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224172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C09F-2BD6-45CB-97D2-C8E87A7948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Between two MAP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ETIS ver.2 is launche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frastructure projects have been financed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e.g. Belgrade by pass in Serbia, Corridor Vc in Bosnia, Route 7 and parts of Corridor VIII in Albania, Corridor X in Macedonia, rail Corridor X in Croatia, etc...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tinuation on work on the soft measure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ailway Addendum on MoU was signed in December 2007 and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ailway working group start with activities for implementation of Addendu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ailway working group support preparation of network statemen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operation with Corridors secretariat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62EA-9317-4E3F-808E-F0B009AEB0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MAP 2009-13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</a:rPr>
              <a:t>Same Structure – Improved and Updated Content!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. Introductio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. Description of the core network and its conditio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Description and Condition in 2007 for all transport mod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3. Assessment of core network performanc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Traffic, Bottlenecks and Accessibility in 2007 for all transport modes and Border Crossings and Road Safet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4. Priority projects of the core net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To identify common projects of regional interes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5. Transport policy and sector reform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Sector Reforms, EU Policy Guidelines, Horizontal Measures, Priority Soft Measure for 2009, Soft Measures Priorities and Draft Action Pla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6. Monitoring, evaluation and expected achievement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Describe Monitoring,  Basic Indicators – Evolution 2005-2008, A Vision for Future MAPs, Expected Achievements, Implementation and Associated Risks, Expected decision making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3919-E0B9-4502-813D-FE957CB16F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tages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efining key data providers in March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nd of April Workshop for data collection and SEETIS 2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for users, National Coordinators and Key User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ata Collection Start in May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ternal 1st Draft: end of June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Draft by:  end of Jul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akeholder Comments by: early September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Draft: end of September (end of data collection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C Meeting – Adoption: October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nal version for Printing: November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Annual Meeting of Ministers: 4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December 2008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2F9F-70CB-4DB2-AD70-A778957C2D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400" spc="-1" strike="noStrike">
                <a:solidFill>
                  <a:srgbClr val="ffff00"/>
                </a:solidFill>
                <a:latin typeface="Verdana"/>
              </a:rPr>
              <a:t>Thank you for your attention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5A2E-C368-4D7F-A15C-D80D550757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08:12:10Z</dcterms:created>
  <dc:creator> </dc:creator>
  <dc:description/>
  <dc:language>en-US</dc:language>
  <cp:lastModifiedBy>SEETO</cp:lastModifiedBy>
  <dcterms:modified xsi:type="dcterms:W3CDTF">2008-04-13T18:42:02Z</dcterms:modified>
  <cp:revision>184</cp:revision>
  <dc:subject/>
  <dc:title>ISG Presentation for MAP 2008-12</dc:title>
</cp:coreProperties>
</file>