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82800" y="771480"/>
            <a:ext cx="78372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26560" y="1810800"/>
            <a:ext cx="799308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826560" y="4122720"/>
            <a:ext cx="799308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82800" y="771480"/>
            <a:ext cx="78372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26560" y="1810800"/>
            <a:ext cx="3900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22640" y="1810800"/>
            <a:ext cx="3900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26560" y="4122720"/>
            <a:ext cx="3900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922640" y="4122720"/>
            <a:ext cx="3900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82800" y="771480"/>
            <a:ext cx="78372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26560" y="1810800"/>
            <a:ext cx="2573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529440" y="1810800"/>
            <a:ext cx="2573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31960" y="1810800"/>
            <a:ext cx="2573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826560" y="4122720"/>
            <a:ext cx="2573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529440" y="4122720"/>
            <a:ext cx="2573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31960" y="4122720"/>
            <a:ext cx="2573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82800" y="771480"/>
            <a:ext cx="78372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826560" y="1810800"/>
            <a:ext cx="7993080" cy="442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bab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82800" y="771480"/>
            <a:ext cx="78372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26560" y="1810800"/>
            <a:ext cx="7993080" cy="44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82800" y="771480"/>
            <a:ext cx="78372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26560" y="1810800"/>
            <a:ext cx="3900600" cy="44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922640" y="1810800"/>
            <a:ext cx="3900600" cy="44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82800" y="771480"/>
            <a:ext cx="78372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982800" y="771480"/>
            <a:ext cx="7837200" cy="48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bab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82800" y="771480"/>
            <a:ext cx="78372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826560" y="1810800"/>
            <a:ext cx="3900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922640" y="1810800"/>
            <a:ext cx="3900600" cy="44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826560" y="4122720"/>
            <a:ext cx="3900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82800" y="771480"/>
            <a:ext cx="78372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826560" y="1810800"/>
            <a:ext cx="7993080" cy="442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bab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82800" y="771480"/>
            <a:ext cx="78372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26560" y="1810800"/>
            <a:ext cx="3900600" cy="44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922640" y="1810800"/>
            <a:ext cx="3900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922640" y="4122720"/>
            <a:ext cx="3900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82800" y="771480"/>
            <a:ext cx="78372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26560" y="1810800"/>
            <a:ext cx="3900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922640" y="1810800"/>
            <a:ext cx="3900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826560" y="4122720"/>
            <a:ext cx="799308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82800" y="771480"/>
            <a:ext cx="78372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26560" y="1810800"/>
            <a:ext cx="799308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826560" y="4122720"/>
            <a:ext cx="799308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82800" y="771480"/>
            <a:ext cx="78372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26560" y="1810800"/>
            <a:ext cx="3900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922640" y="1810800"/>
            <a:ext cx="3900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826560" y="4122720"/>
            <a:ext cx="3900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922640" y="4122720"/>
            <a:ext cx="3900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82800" y="771480"/>
            <a:ext cx="78372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26560" y="1810800"/>
            <a:ext cx="2573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529440" y="1810800"/>
            <a:ext cx="2573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231960" y="1810800"/>
            <a:ext cx="2573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826560" y="4122720"/>
            <a:ext cx="2573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529440" y="4122720"/>
            <a:ext cx="2573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231960" y="4122720"/>
            <a:ext cx="2573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82800" y="771480"/>
            <a:ext cx="78372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826560" y="1810800"/>
            <a:ext cx="7993080" cy="442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bab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82800" y="771480"/>
            <a:ext cx="78372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26560" y="1810800"/>
            <a:ext cx="7993080" cy="44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82800" y="771480"/>
            <a:ext cx="78372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26560" y="1810800"/>
            <a:ext cx="3900600" cy="44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922640" y="1810800"/>
            <a:ext cx="3900600" cy="44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82800" y="771480"/>
            <a:ext cx="78372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82800" y="771480"/>
            <a:ext cx="78372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26560" y="1810800"/>
            <a:ext cx="7993080" cy="44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982800" y="771480"/>
            <a:ext cx="7837200" cy="48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bab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82800" y="771480"/>
            <a:ext cx="78372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26560" y="1810800"/>
            <a:ext cx="3900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922640" y="1810800"/>
            <a:ext cx="3900600" cy="44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826560" y="4122720"/>
            <a:ext cx="3900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82800" y="771480"/>
            <a:ext cx="78372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26560" y="1810800"/>
            <a:ext cx="3900600" cy="44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922640" y="1810800"/>
            <a:ext cx="3900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922640" y="4122720"/>
            <a:ext cx="3900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82800" y="771480"/>
            <a:ext cx="78372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26560" y="1810800"/>
            <a:ext cx="3900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922640" y="1810800"/>
            <a:ext cx="3900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826560" y="4122720"/>
            <a:ext cx="799308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82800" y="771480"/>
            <a:ext cx="78372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26560" y="1810800"/>
            <a:ext cx="799308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826560" y="4122720"/>
            <a:ext cx="799308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82800" y="771480"/>
            <a:ext cx="78372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26560" y="1810800"/>
            <a:ext cx="3900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922640" y="1810800"/>
            <a:ext cx="3900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26560" y="4122720"/>
            <a:ext cx="3900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922640" y="4122720"/>
            <a:ext cx="3900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82800" y="771480"/>
            <a:ext cx="78372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26560" y="1810800"/>
            <a:ext cx="2573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529440" y="1810800"/>
            <a:ext cx="2573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231960" y="1810800"/>
            <a:ext cx="2573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826560" y="4122720"/>
            <a:ext cx="2573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529440" y="4122720"/>
            <a:ext cx="2573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6231960" y="4122720"/>
            <a:ext cx="2573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82800" y="771480"/>
            <a:ext cx="78372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26560" y="1810800"/>
            <a:ext cx="3900600" cy="44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22640" y="1810800"/>
            <a:ext cx="3900600" cy="44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82800" y="771480"/>
            <a:ext cx="78372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982800" y="771480"/>
            <a:ext cx="7837200" cy="48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bab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82800" y="771480"/>
            <a:ext cx="78372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6560" y="1810800"/>
            <a:ext cx="3900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22640" y="1810800"/>
            <a:ext cx="3900600" cy="44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826560" y="4122720"/>
            <a:ext cx="3900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82800" y="771480"/>
            <a:ext cx="78372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26560" y="1810800"/>
            <a:ext cx="3900600" cy="44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22640" y="1810800"/>
            <a:ext cx="3900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922640" y="4122720"/>
            <a:ext cx="3900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82800" y="771480"/>
            <a:ext cx="78372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26560" y="1810800"/>
            <a:ext cx="3900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22640" y="1810800"/>
            <a:ext cx="3900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26560" y="4122720"/>
            <a:ext cx="799308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1052640"/>
          </a:xfrm>
          <a:prstGeom prst="rect">
            <a:avLst/>
          </a:prstGeom>
          <a:solidFill>
            <a:srgbClr val="005b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0" y="189000"/>
            <a:ext cx="9144000" cy="6669000"/>
            <a:chOff x="0" y="189000"/>
            <a:chExt cx="9144000" cy="6669000"/>
          </a:xfrm>
        </p:grpSpPr>
        <p:sp>
          <p:nvSpPr>
            <p:cNvPr id="2" name=""/>
            <p:cNvSpPr/>
            <p:nvPr/>
          </p:nvSpPr>
          <p:spPr>
            <a:xfrm>
              <a:off x="6355800" y="4023000"/>
              <a:ext cx="1628640" cy="2216520"/>
            </a:xfrm>
            <a:custGeom>
              <a:avLst/>
              <a:gdLst/>
              <a:ahLst/>
              <a:rect l="l" t="t" r="r" b="b"/>
              <a:pathLst>
                <a:path w="513" h="698">
                  <a:moveTo>
                    <a:pt x="110" y="696"/>
                  </a:moveTo>
                  <a:cubicBezTo>
                    <a:pt x="110" y="398"/>
                    <a:pt x="272" y="138"/>
                    <a:pt x="513" y="0"/>
                  </a:cubicBezTo>
                  <a:cubicBezTo>
                    <a:pt x="242" y="130"/>
                    <a:pt x="44" y="389"/>
                    <a:pt x="0" y="698"/>
                  </a:cubicBezTo>
                  <a:cubicBezTo>
                    <a:pt x="110" y="698"/>
                    <a:pt x="110" y="698"/>
                    <a:pt x="110" y="698"/>
                  </a:cubicBezTo>
                  <a:cubicBezTo>
                    <a:pt x="110" y="697"/>
                    <a:pt x="110" y="696"/>
                    <a:pt x="110" y="69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89000"/>
              <a:ext cx="9144000" cy="6669000"/>
            </a:xfrm>
            <a:custGeom>
              <a:avLst/>
              <a:gdLst/>
              <a:ahLst/>
              <a:rect l="l" t="t" r="r" b="b"/>
              <a:pathLst>
                <a:path w="2880" h="2100">
                  <a:moveTo>
                    <a:pt x="2515" y="1207"/>
                  </a:moveTo>
                  <a:cubicBezTo>
                    <a:pt x="2623" y="1144"/>
                    <a:pt x="2748" y="1106"/>
                    <a:pt x="2880" y="1101"/>
                  </a:cubicBezTo>
                  <a:cubicBezTo>
                    <a:pt x="2880" y="117"/>
                    <a:pt x="2880" y="117"/>
                    <a:pt x="2880" y="117"/>
                  </a:cubicBezTo>
                  <a:cubicBezTo>
                    <a:pt x="1470" y="211"/>
                    <a:pt x="796" y="0"/>
                    <a:pt x="376" y="0"/>
                  </a:cubicBezTo>
                  <a:cubicBezTo>
                    <a:pt x="65" y="0"/>
                    <a:pt x="8" y="169"/>
                    <a:pt x="0" y="258"/>
                  </a:cubicBezTo>
                  <a:cubicBezTo>
                    <a:pt x="0" y="258"/>
                    <a:pt x="0" y="258"/>
                    <a:pt x="0" y="978"/>
                  </a:cubicBezTo>
                  <a:cubicBezTo>
                    <a:pt x="0" y="2100"/>
                    <a:pt x="0" y="2100"/>
                    <a:pt x="0" y="2100"/>
                  </a:cubicBezTo>
                  <a:cubicBezTo>
                    <a:pt x="2880" y="2100"/>
                    <a:pt x="2880" y="2100"/>
                    <a:pt x="2880" y="2100"/>
                  </a:cubicBezTo>
                  <a:cubicBezTo>
                    <a:pt x="2880" y="1905"/>
                    <a:pt x="2880" y="1905"/>
                    <a:pt x="2880" y="1905"/>
                  </a:cubicBezTo>
                  <a:cubicBezTo>
                    <a:pt x="2002" y="1905"/>
                    <a:pt x="2002" y="1905"/>
                    <a:pt x="2002" y="1905"/>
                  </a:cubicBezTo>
                  <a:cubicBezTo>
                    <a:pt x="2046" y="1596"/>
                    <a:pt x="2244" y="1337"/>
                    <a:pt x="2515" y="120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" name=""/>
          <p:cNvGrpSpPr/>
          <p:nvPr/>
        </p:nvGrpSpPr>
        <p:grpSpPr>
          <a:xfrm>
            <a:off x="0" y="189000"/>
            <a:ext cx="9144000" cy="6669000"/>
            <a:chOff x="0" y="189000"/>
            <a:chExt cx="9144000" cy="6669000"/>
          </a:xfrm>
        </p:grpSpPr>
        <p:grpSp>
          <p:nvGrpSpPr>
            <p:cNvPr id="5" name="Group 152"/>
            <p:cNvGrpSpPr/>
            <p:nvPr/>
          </p:nvGrpSpPr>
          <p:grpSpPr>
            <a:xfrm>
              <a:off x="0" y="189000"/>
              <a:ext cx="9144000" cy="4321080"/>
              <a:chOff x="0" y="189000"/>
              <a:chExt cx="9144000" cy="4321080"/>
            </a:xfrm>
          </p:grpSpPr>
          <p:sp>
            <p:nvSpPr>
              <p:cNvPr id="6" name="Freeform 5"/>
              <p:cNvSpPr/>
              <p:nvPr/>
            </p:nvSpPr>
            <p:spPr>
              <a:xfrm>
                <a:off x="0" y="189000"/>
                <a:ext cx="9144000" cy="33926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Rectangle 38"/>
              <p:cNvSpPr/>
              <p:nvPr/>
            </p:nvSpPr>
            <p:spPr>
              <a:xfrm>
                <a:off x="0" y="3296160"/>
                <a:ext cx="9144000" cy="1213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0" y="4221000"/>
              <a:ext cx="9144000" cy="2637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body"/>
          </p:nvPr>
        </p:nvSpPr>
        <p:spPr>
          <a:xfrm>
            <a:off x="826560" y="1810800"/>
            <a:ext cx="7993080" cy="44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4600" indent="-444600">
              <a:buClr>
                <a:srgbClr val="005bab"/>
              </a:buClr>
              <a:buSzPct val="400000"/>
              <a:buFont typeface="Trebuchet MS"/>
              <a:buChar char=".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8640" indent="-368280">
              <a:buClr>
                <a:srgbClr val="005bab"/>
              </a:buClr>
              <a:buSzPct val="125000"/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406520" indent="-228600">
              <a:buClr>
                <a:srgbClr val="005ba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814400" indent="-228600">
              <a:buClr>
                <a:srgbClr val="005bab"/>
              </a:buClr>
              <a:buSzPct val="125000"/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222640" indent="-228600">
              <a:buClr>
                <a:srgbClr val="005ba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22264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22264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67"/>
          <p:cNvSpPr/>
          <p:nvPr/>
        </p:nvSpPr>
        <p:spPr>
          <a:xfrm>
            <a:off x="7932240" y="6389640"/>
            <a:ext cx="34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5bab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5bab"/>
                </a:solidFill>
                <a:latin typeface="Trebuchet MS"/>
              </a:rPr>
              <a:t>|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Slide Number Placeholder 4"/>
          <p:cNvSpPr/>
          <p:nvPr/>
        </p:nvSpPr>
        <p:spPr>
          <a:xfrm>
            <a:off x="8172360" y="6345360"/>
            <a:ext cx="51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235D0-2E28-4256-8468-18E47BC72A02}" type="slidenum">
              <a:rPr b="0" lang="en-US" sz="1000" spc="-1" strike="noStrike">
                <a:solidFill>
                  <a:srgbClr val="005ba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Footer Placeholder 6"/>
          <p:cNvSpPr/>
          <p:nvPr/>
        </p:nvSpPr>
        <p:spPr>
          <a:xfrm>
            <a:off x="2857680" y="6350040"/>
            <a:ext cx="5229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5bab"/>
                </a:solidFill>
                <a:latin typeface="Arial"/>
              </a:rPr>
              <a:t>Transeuropean Networks Energy &amp; Trans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Title 1"/>
          <p:cNvSpPr/>
          <p:nvPr/>
        </p:nvSpPr>
        <p:spPr>
          <a:xfrm>
            <a:off x="324000" y="522360"/>
            <a:ext cx="50004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357120" indent="-3571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ecc3b"/>
                </a:solidFill>
                <a:latin typeface="Wingdings"/>
                <a:ea typeface="Wingdings"/>
              </a:rPr>
              <a:t>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title"/>
          </p:nvPr>
        </p:nvSpPr>
        <p:spPr>
          <a:xfrm>
            <a:off x="982800" y="771480"/>
            <a:ext cx="78372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" name=""/>
          <p:cNvGrpSpPr/>
          <p:nvPr/>
        </p:nvGrpSpPr>
        <p:grpSpPr>
          <a:xfrm>
            <a:off x="390600" y="4952880"/>
            <a:ext cx="431640" cy="1644840"/>
            <a:chOff x="390600" y="4952880"/>
            <a:chExt cx="431640" cy="1644840"/>
          </a:xfrm>
        </p:grpSpPr>
        <p:grpSp>
          <p:nvGrpSpPr>
            <p:cNvPr id="16" name="Group 109"/>
            <p:cNvGrpSpPr/>
            <p:nvPr/>
          </p:nvGrpSpPr>
          <p:grpSpPr>
            <a:xfrm>
              <a:off x="392040" y="6294600"/>
              <a:ext cx="430200" cy="303120"/>
              <a:chOff x="392040" y="6294600"/>
              <a:chExt cx="430200" cy="303120"/>
            </a:xfrm>
          </p:grpSpPr>
          <p:sp>
            <p:nvSpPr>
              <p:cNvPr id="17" name="Rectangle 56"/>
              <p:cNvSpPr/>
              <p:nvPr/>
            </p:nvSpPr>
            <p:spPr>
              <a:xfrm>
                <a:off x="392040" y="6294600"/>
                <a:ext cx="430200" cy="303120"/>
              </a:xfrm>
              <a:prstGeom prst="rect">
                <a:avLst/>
              </a:prstGeom>
              <a:solidFill>
                <a:srgbClr val="034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Line 57"/>
              <p:cNvSpPr/>
              <p:nvPr/>
            </p:nvSpPr>
            <p:spPr>
              <a:xfrm>
                <a:off x="603360" y="6441840"/>
                <a:ext cx="720" cy="72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Line 58"/>
              <p:cNvSpPr/>
              <p:nvPr/>
            </p:nvSpPr>
            <p:spPr>
              <a:xfrm>
                <a:off x="603360" y="6441840"/>
                <a:ext cx="720" cy="72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Freeform 59"/>
              <p:cNvSpPr/>
              <p:nvPr/>
            </p:nvSpPr>
            <p:spPr>
              <a:xfrm>
                <a:off x="584280" y="6315120"/>
                <a:ext cx="34920" cy="34920"/>
              </a:xfrm>
              <a:prstGeom prst="pie">
                <a:avLst/>
              </a:prstGeom>
              <a:solidFill>
                <a:srgbClr val="fff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Freeform 60"/>
              <p:cNvSpPr/>
              <p:nvPr/>
            </p:nvSpPr>
            <p:spPr>
              <a:xfrm>
                <a:off x="584280" y="6315120"/>
                <a:ext cx="34920" cy="349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Freeform 61"/>
              <p:cNvSpPr/>
              <p:nvPr/>
            </p:nvSpPr>
            <p:spPr>
              <a:xfrm>
                <a:off x="527040" y="6329520"/>
                <a:ext cx="36720" cy="34200"/>
              </a:xfrm>
              <a:prstGeom prst="pie">
                <a:avLst/>
              </a:prstGeom>
              <a:solidFill>
                <a:srgbClr val="fff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Freeform 62"/>
              <p:cNvSpPr/>
              <p:nvPr/>
            </p:nvSpPr>
            <p:spPr>
              <a:xfrm>
                <a:off x="527040" y="6329520"/>
                <a:ext cx="36720" cy="342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Freeform 63"/>
              <p:cNvSpPr/>
              <p:nvPr/>
            </p:nvSpPr>
            <p:spPr>
              <a:xfrm>
                <a:off x="528840" y="6518160"/>
                <a:ext cx="37440" cy="34920"/>
              </a:xfrm>
              <a:prstGeom prst="pie">
                <a:avLst/>
              </a:prstGeom>
              <a:solidFill>
                <a:srgbClr val="fff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Freeform 64"/>
              <p:cNvSpPr/>
              <p:nvPr/>
            </p:nvSpPr>
            <p:spPr>
              <a:xfrm>
                <a:off x="528840" y="6518160"/>
                <a:ext cx="37440" cy="349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" name="Freeform 65"/>
              <p:cNvSpPr/>
              <p:nvPr/>
            </p:nvSpPr>
            <p:spPr>
              <a:xfrm>
                <a:off x="584280" y="6534360"/>
                <a:ext cx="34920" cy="34920"/>
              </a:xfrm>
              <a:prstGeom prst="pie">
                <a:avLst/>
              </a:prstGeom>
              <a:solidFill>
                <a:srgbClr val="fff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Freeform 66"/>
              <p:cNvSpPr/>
              <p:nvPr/>
            </p:nvSpPr>
            <p:spPr>
              <a:xfrm>
                <a:off x="584280" y="6534360"/>
                <a:ext cx="34920" cy="349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" name="Freeform 67"/>
              <p:cNvSpPr/>
              <p:nvPr/>
            </p:nvSpPr>
            <p:spPr>
              <a:xfrm>
                <a:off x="488520" y="6478560"/>
                <a:ext cx="36720" cy="34920"/>
              </a:xfrm>
              <a:prstGeom prst="pie">
                <a:avLst/>
              </a:prstGeom>
              <a:solidFill>
                <a:srgbClr val="fff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" name="Freeform 68"/>
              <p:cNvSpPr/>
              <p:nvPr/>
            </p:nvSpPr>
            <p:spPr>
              <a:xfrm>
                <a:off x="488520" y="6478560"/>
                <a:ext cx="36720" cy="349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" name="Freeform 69"/>
              <p:cNvSpPr/>
              <p:nvPr/>
            </p:nvSpPr>
            <p:spPr>
              <a:xfrm>
                <a:off x="474120" y="6423840"/>
                <a:ext cx="36720" cy="34920"/>
              </a:xfrm>
              <a:prstGeom prst="pie">
                <a:avLst/>
              </a:prstGeom>
              <a:solidFill>
                <a:srgbClr val="fff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" name="Freeform 70"/>
              <p:cNvSpPr/>
              <p:nvPr/>
            </p:nvSpPr>
            <p:spPr>
              <a:xfrm>
                <a:off x="474120" y="6423840"/>
                <a:ext cx="36720" cy="349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" name="Freeform 71"/>
              <p:cNvSpPr/>
              <p:nvPr/>
            </p:nvSpPr>
            <p:spPr>
              <a:xfrm>
                <a:off x="488520" y="6368040"/>
                <a:ext cx="36720" cy="34920"/>
              </a:xfrm>
              <a:prstGeom prst="pie">
                <a:avLst/>
              </a:prstGeom>
              <a:solidFill>
                <a:srgbClr val="fff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" name="Freeform 72"/>
              <p:cNvSpPr/>
              <p:nvPr/>
            </p:nvSpPr>
            <p:spPr>
              <a:xfrm>
                <a:off x="488520" y="6368040"/>
                <a:ext cx="36720" cy="349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" name="Freeform 73"/>
              <p:cNvSpPr/>
              <p:nvPr/>
            </p:nvSpPr>
            <p:spPr>
              <a:xfrm>
                <a:off x="640080" y="6329520"/>
                <a:ext cx="36720" cy="34200"/>
              </a:xfrm>
              <a:prstGeom prst="pie">
                <a:avLst/>
              </a:prstGeom>
              <a:solidFill>
                <a:srgbClr val="fff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" name="Freeform 74"/>
              <p:cNvSpPr/>
              <p:nvPr/>
            </p:nvSpPr>
            <p:spPr>
              <a:xfrm>
                <a:off x="640080" y="6329520"/>
                <a:ext cx="36720" cy="342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" name="Freeform 75"/>
              <p:cNvSpPr/>
              <p:nvPr/>
            </p:nvSpPr>
            <p:spPr>
              <a:xfrm>
                <a:off x="678600" y="6370560"/>
                <a:ext cx="36720" cy="34200"/>
              </a:xfrm>
              <a:prstGeom prst="pie">
                <a:avLst/>
              </a:prstGeom>
              <a:solidFill>
                <a:srgbClr val="fff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" name="Freeform 76"/>
              <p:cNvSpPr/>
              <p:nvPr/>
            </p:nvSpPr>
            <p:spPr>
              <a:xfrm>
                <a:off x="678600" y="6370560"/>
                <a:ext cx="36720" cy="342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" name="Freeform 77"/>
              <p:cNvSpPr/>
              <p:nvPr/>
            </p:nvSpPr>
            <p:spPr>
              <a:xfrm>
                <a:off x="693000" y="6425640"/>
                <a:ext cx="36720" cy="34920"/>
              </a:xfrm>
              <a:prstGeom prst="pie">
                <a:avLst/>
              </a:prstGeom>
              <a:solidFill>
                <a:srgbClr val="fff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" name="Freeform 78"/>
              <p:cNvSpPr/>
              <p:nvPr/>
            </p:nvSpPr>
            <p:spPr>
              <a:xfrm>
                <a:off x="693000" y="6425640"/>
                <a:ext cx="36720" cy="349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" name="Freeform 79"/>
              <p:cNvSpPr/>
              <p:nvPr/>
            </p:nvSpPr>
            <p:spPr>
              <a:xfrm>
                <a:off x="678600" y="6478560"/>
                <a:ext cx="36720" cy="34920"/>
              </a:xfrm>
              <a:prstGeom prst="pie">
                <a:avLst/>
              </a:prstGeom>
              <a:solidFill>
                <a:srgbClr val="fff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" name="Freeform 80"/>
              <p:cNvSpPr/>
              <p:nvPr/>
            </p:nvSpPr>
            <p:spPr>
              <a:xfrm>
                <a:off x="678600" y="6478560"/>
                <a:ext cx="36720" cy="349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" name="Freeform 81"/>
              <p:cNvSpPr/>
              <p:nvPr/>
            </p:nvSpPr>
            <p:spPr>
              <a:xfrm>
                <a:off x="640080" y="6519960"/>
                <a:ext cx="36720" cy="34920"/>
              </a:xfrm>
              <a:prstGeom prst="pie">
                <a:avLst/>
              </a:prstGeom>
              <a:solidFill>
                <a:srgbClr val="fff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" name="Freeform 82"/>
              <p:cNvSpPr/>
              <p:nvPr/>
            </p:nvSpPr>
            <p:spPr>
              <a:xfrm>
                <a:off x="640080" y="6519960"/>
                <a:ext cx="36720" cy="349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4" name="" descr=""/>
            <p:cNvPicPr/>
            <p:nvPr/>
          </p:nvPicPr>
          <p:blipFill>
            <a:blip r:embed="rId2"/>
            <a:stretch/>
          </p:blipFill>
          <p:spPr>
            <a:xfrm>
              <a:off x="390600" y="4952880"/>
              <a:ext cx="431640" cy="115092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119040" y="3539880"/>
            <a:ext cx="5769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bab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5bab"/>
              </a:solidFill>
              <a:latin typeface="Arial"/>
            </a:endParaRPr>
          </a:p>
          <a:p>
            <a:pPr lvl="1" marL="5317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263520" algn="ctr">
              <a:buClr>
                <a:srgbClr val="005bab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214200" algn="ctr">
              <a:buClr>
                <a:srgbClr val="005bab"/>
              </a:buClr>
              <a:buSzPct val="125000"/>
              <a:buFont typeface="Arial"/>
              <a:buChar char="­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165240" algn="ctr">
              <a:buClr>
                <a:srgbClr val="005bab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165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165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itle 1"/>
          <p:cNvSpPr/>
          <p:nvPr/>
        </p:nvSpPr>
        <p:spPr>
          <a:xfrm>
            <a:off x="324000" y="-20520"/>
            <a:ext cx="50004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357120" indent="-3571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ecc3b"/>
                </a:solidFill>
                <a:latin typeface="Wingdings"/>
                <a:ea typeface="Wingdings"/>
              </a:rPr>
              <a:t>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82800" y="229680"/>
            <a:ext cx="783720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1.jpeg"/><Relationship Id="rId6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"/>
          <p:cNvGrpSpPr/>
          <p:nvPr/>
        </p:nvGrpSpPr>
        <p:grpSpPr>
          <a:xfrm>
            <a:off x="0" y="0"/>
            <a:ext cx="9144000" cy="3141360"/>
            <a:chOff x="0" y="0"/>
            <a:chExt cx="9144000" cy="3141360"/>
          </a:xfrm>
        </p:grpSpPr>
        <p:pic>
          <p:nvPicPr>
            <p:cNvPr id="158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2274840" cy="3117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9" name="" descr=""/>
            <p:cNvPicPr/>
            <p:nvPr/>
          </p:nvPicPr>
          <p:blipFill>
            <a:blip r:embed="rId2"/>
            <a:stretch/>
          </p:blipFill>
          <p:spPr>
            <a:xfrm>
              <a:off x="2124000" y="0"/>
              <a:ext cx="2340000" cy="314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0" name="" descr=""/>
            <p:cNvPicPr/>
            <p:nvPr/>
          </p:nvPicPr>
          <p:blipFill>
            <a:blip r:embed="rId3"/>
            <a:stretch/>
          </p:blipFill>
          <p:spPr>
            <a:xfrm>
              <a:off x="4356000" y="0"/>
              <a:ext cx="2340000" cy="314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" name="" descr=""/>
            <p:cNvPicPr/>
            <p:nvPr/>
          </p:nvPicPr>
          <p:blipFill>
            <a:blip r:embed="rId4"/>
            <a:stretch/>
          </p:blipFill>
          <p:spPr>
            <a:xfrm>
              <a:off x="6588000" y="0"/>
              <a:ext cx="2556000" cy="3117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2" name="Group 152"/>
          <p:cNvGrpSpPr/>
          <p:nvPr/>
        </p:nvGrpSpPr>
        <p:grpSpPr>
          <a:xfrm>
            <a:off x="0" y="2536920"/>
            <a:ext cx="9144000" cy="4321080"/>
            <a:chOff x="0" y="2536920"/>
            <a:chExt cx="9144000" cy="4321080"/>
          </a:xfrm>
        </p:grpSpPr>
        <p:sp>
          <p:nvSpPr>
            <p:cNvPr id="163" name="Freeform 5"/>
            <p:cNvSpPr/>
            <p:nvPr/>
          </p:nvSpPr>
          <p:spPr>
            <a:xfrm>
              <a:off x="0" y="2536920"/>
              <a:ext cx="9144000" cy="3392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Rectangle 38"/>
            <p:cNvSpPr/>
            <p:nvPr/>
          </p:nvSpPr>
          <p:spPr>
            <a:xfrm>
              <a:off x="0" y="5644080"/>
              <a:ext cx="9144000" cy="1213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fr-BE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fr-BE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fr-BE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fr-BE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fr-BE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fr-BE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fr-BE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fr-BE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fr-BE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fr-BE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fr-BE" sz="1800" spc="-1" strike="noStrike">
                  <a:solidFill>
                    <a:srgbClr val="000000"/>
                  </a:solidFill>
                  <a:latin typeface="Arial"/>
                </a:rPr>
                <a:t>Mr François Bégeot – Policy Offic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Date Placeholder 3"/>
          <p:cNvSpPr/>
          <p:nvPr/>
        </p:nvSpPr>
        <p:spPr>
          <a:xfrm>
            <a:off x="3119400" y="5661000"/>
            <a:ext cx="31082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119040" y="3539880"/>
            <a:ext cx="5769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THE TINA STUDY FOR TURK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119400" y="5084640"/>
            <a:ext cx="57736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5bab"/>
                </a:solidFill>
                <a:latin typeface="Arial"/>
              </a:rPr>
              <a:t>IFIAG Transport Working Group</a:t>
            </a:r>
            <a:endParaRPr b="0" lang="en-US" sz="2800" spc="-1" strike="noStrike">
              <a:solidFill>
                <a:srgbClr val="005bab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5bab"/>
                </a:solidFill>
                <a:latin typeface="Arial"/>
              </a:rPr>
              <a:t>14 April 2008</a:t>
            </a:r>
            <a:endParaRPr b="0" lang="en-US" sz="2800" spc="-1" strike="noStrike">
              <a:solidFill>
                <a:srgbClr val="005bab"/>
              </a:solidFill>
              <a:latin typeface="Arial"/>
            </a:endParaRPr>
          </a:p>
        </p:txBody>
      </p:sp>
      <p:sp>
        <p:nvSpPr>
          <p:cNvPr id="168" name="TextBox 70"/>
          <p:cNvSpPr/>
          <p:nvPr/>
        </p:nvSpPr>
        <p:spPr>
          <a:xfrm>
            <a:off x="336240" y="6364440"/>
            <a:ext cx="85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800" spc="-1" strike="noStrike">
                <a:solidFill>
                  <a:srgbClr val="000000"/>
                </a:solidFill>
                <a:latin typeface="Arial"/>
                <a:ea typeface="Arial"/>
              </a:rPr>
              <a:t>EUROPEAN</a:t>
            </a:r>
            <a:br>
              <a:rPr sz="800"/>
            </a:br>
            <a:r>
              <a:rPr b="0" lang="fr-BE" sz="800" spc="-1" strike="noStrike">
                <a:solidFill>
                  <a:srgbClr val="000000"/>
                </a:solidFill>
                <a:latin typeface="Arial"/>
                <a:ea typeface="Arial"/>
              </a:rPr>
              <a:t>COMMISS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Group 109"/>
          <p:cNvGrpSpPr/>
          <p:nvPr/>
        </p:nvGrpSpPr>
        <p:grpSpPr>
          <a:xfrm>
            <a:off x="396720" y="5873760"/>
            <a:ext cx="719280" cy="506520"/>
            <a:chOff x="396720" y="5873760"/>
            <a:chExt cx="719280" cy="506520"/>
          </a:xfrm>
        </p:grpSpPr>
        <p:sp>
          <p:nvSpPr>
            <p:cNvPr id="170" name="Rectangle 56"/>
            <p:cNvSpPr/>
            <p:nvPr/>
          </p:nvSpPr>
          <p:spPr>
            <a:xfrm>
              <a:off x="396720" y="5873760"/>
              <a:ext cx="719280" cy="506520"/>
            </a:xfrm>
            <a:prstGeom prst="rect">
              <a:avLst/>
            </a:prstGeom>
            <a:solidFill>
              <a:srgbClr val="034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Line 57"/>
            <p:cNvSpPr/>
            <p:nvPr/>
          </p:nvSpPr>
          <p:spPr>
            <a:xfrm>
              <a:off x="749880" y="6120000"/>
              <a:ext cx="108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Line 58"/>
            <p:cNvSpPr/>
            <p:nvPr/>
          </p:nvSpPr>
          <p:spPr>
            <a:xfrm>
              <a:off x="749880" y="6120000"/>
              <a:ext cx="108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59"/>
            <p:cNvSpPr/>
            <p:nvPr/>
          </p:nvSpPr>
          <p:spPr>
            <a:xfrm>
              <a:off x="718560" y="5907960"/>
              <a:ext cx="58320" cy="58680"/>
            </a:xfrm>
            <a:prstGeom prst="pie">
              <a:avLst/>
            </a:pr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60"/>
            <p:cNvSpPr/>
            <p:nvPr/>
          </p:nvSpPr>
          <p:spPr>
            <a:xfrm>
              <a:off x="718560" y="5907960"/>
              <a:ext cx="58320" cy="586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Freeform 61"/>
            <p:cNvSpPr/>
            <p:nvPr/>
          </p:nvSpPr>
          <p:spPr>
            <a:xfrm>
              <a:off x="622440" y="5932440"/>
              <a:ext cx="61200" cy="57240"/>
            </a:xfrm>
            <a:prstGeom prst="pie">
              <a:avLst/>
            </a:pr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62"/>
            <p:cNvSpPr/>
            <p:nvPr/>
          </p:nvSpPr>
          <p:spPr>
            <a:xfrm>
              <a:off x="622440" y="5932440"/>
              <a:ext cx="61200" cy="572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63"/>
            <p:cNvSpPr/>
            <p:nvPr/>
          </p:nvSpPr>
          <p:spPr>
            <a:xfrm>
              <a:off x="625320" y="6247440"/>
              <a:ext cx="62640" cy="58680"/>
            </a:xfrm>
            <a:prstGeom prst="pie">
              <a:avLst/>
            </a:pr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64"/>
            <p:cNvSpPr/>
            <p:nvPr/>
          </p:nvSpPr>
          <p:spPr>
            <a:xfrm>
              <a:off x="625320" y="6247440"/>
              <a:ext cx="62640" cy="586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65"/>
            <p:cNvSpPr/>
            <p:nvPr/>
          </p:nvSpPr>
          <p:spPr>
            <a:xfrm>
              <a:off x="718560" y="6274440"/>
              <a:ext cx="58320" cy="58680"/>
            </a:xfrm>
            <a:prstGeom prst="pie">
              <a:avLst/>
            </a:pr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Freeform 66"/>
            <p:cNvSpPr/>
            <p:nvPr/>
          </p:nvSpPr>
          <p:spPr>
            <a:xfrm>
              <a:off x="718560" y="6274440"/>
              <a:ext cx="58320" cy="586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Freeform 67"/>
            <p:cNvSpPr/>
            <p:nvPr/>
          </p:nvSpPr>
          <p:spPr>
            <a:xfrm>
              <a:off x="558360" y="6181560"/>
              <a:ext cx="61200" cy="58680"/>
            </a:xfrm>
            <a:prstGeom prst="pie">
              <a:avLst/>
            </a:pr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68"/>
            <p:cNvSpPr/>
            <p:nvPr/>
          </p:nvSpPr>
          <p:spPr>
            <a:xfrm>
              <a:off x="558360" y="6181560"/>
              <a:ext cx="61200" cy="586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69"/>
            <p:cNvSpPr/>
            <p:nvPr/>
          </p:nvSpPr>
          <p:spPr>
            <a:xfrm>
              <a:off x="533880" y="6089760"/>
              <a:ext cx="61200" cy="58680"/>
            </a:xfrm>
            <a:prstGeom prst="pie">
              <a:avLst/>
            </a:pr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70"/>
            <p:cNvSpPr/>
            <p:nvPr/>
          </p:nvSpPr>
          <p:spPr>
            <a:xfrm>
              <a:off x="533880" y="6089760"/>
              <a:ext cx="61200" cy="586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71"/>
            <p:cNvSpPr/>
            <p:nvPr/>
          </p:nvSpPr>
          <p:spPr>
            <a:xfrm>
              <a:off x="558360" y="5996880"/>
              <a:ext cx="61200" cy="58680"/>
            </a:xfrm>
            <a:prstGeom prst="pie">
              <a:avLst/>
            </a:pr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72"/>
            <p:cNvSpPr/>
            <p:nvPr/>
          </p:nvSpPr>
          <p:spPr>
            <a:xfrm>
              <a:off x="558360" y="5996880"/>
              <a:ext cx="61200" cy="586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73"/>
            <p:cNvSpPr/>
            <p:nvPr/>
          </p:nvSpPr>
          <p:spPr>
            <a:xfrm>
              <a:off x="811440" y="5932440"/>
              <a:ext cx="61200" cy="57240"/>
            </a:xfrm>
            <a:prstGeom prst="pie">
              <a:avLst/>
            </a:pr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74"/>
            <p:cNvSpPr/>
            <p:nvPr/>
          </p:nvSpPr>
          <p:spPr>
            <a:xfrm>
              <a:off x="811440" y="5932440"/>
              <a:ext cx="61200" cy="572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75"/>
            <p:cNvSpPr/>
            <p:nvPr/>
          </p:nvSpPr>
          <p:spPr>
            <a:xfrm>
              <a:off x="875880" y="6000840"/>
              <a:ext cx="61200" cy="57240"/>
            </a:xfrm>
            <a:prstGeom prst="pie">
              <a:avLst/>
            </a:pr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76"/>
            <p:cNvSpPr/>
            <p:nvPr/>
          </p:nvSpPr>
          <p:spPr>
            <a:xfrm>
              <a:off x="875880" y="6000840"/>
              <a:ext cx="61200" cy="572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77"/>
            <p:cNvSpPr/>
            <p:nvPr/>
          </p:nvSpPr>
          <p:spPr>
            <a:xfrm>
              <a:off x="900000" y="6092640"/>
              <a:ext cx="61200" cy="58680"/>
            </a:xfrm>
            <a:prstGeom prst="pie">
              <a:avLst/>
            </a:pr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78"/>
            <p:cNvSpPr/>
            <p:nvPr/>
          </p:nvSpPr>
          <p:spPr>
            <a:xfrm>
              <a:off x="900000" y="6092640"/>
              <a:ext cx="61200" cy="586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79"/>
            <p:cNvSpPr/>
            <p:nvPr/>
          </p:nvSpPr>
          <p:spPr>
            <a:xfrm>
              <a:off x="875880" y="6181560"/>
              <a:ext cx="61200" cy="58680"/>
            </a:xfrm>
            <a:prstGeom prst="pie">
              <a:avLst/>
            </a:pr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80"/>
            <p:cNvSpPr/>
            <p:nvPr/>
          </p:nvSpPr>
          <p:spPr>
            <a:xfrm>
              <a:off x="875880" y="6181560"/>
              <a:ext cx="61200" cy="586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81"/>
            <p:cNvSpPr/>
            <p:nvPr/>
          </p:nvSpPr>
          <p:spPr>
            <a:xfrm>
              <a:off x="811440" y="6250320"/>
              <a:ext cx="61200" cy="58680"/>
            </a:xfrm>
            <a:prstGeom prst="pie">
              <a:avLst/>
            </a:pr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82"/>
            <p:cNvSpPr/>
            <p:nvPr/>
          </p:nvSpPr>
          <p:spPr>
            <a:xfrm>
              <a:off x="811440" y="6250320"/>
              <a:ext cx="61200" cy="586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396720" y="3633840"/>
            <a:ext cx="719280" cy="191448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1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2" presetSubtype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8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800"/>
                            </p:stCondLst>
                            <p:childTnLst>
                              <p:par>
                                <p:cTn id="20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3300"/>
                            </p:stCondLst>
                            <p:childTnLst>
                              <p:par>
                                <p:cTn id="24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6" dur="5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-71280" y="189000"/>
            <a:ext cx="9331200" cy="641664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82800" y="771480"/>
            <a:ext cx="78372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ecc3b"/>
                </a:solidFill>
                <a:latin typeface="Arial"/>
              </a:rPr>
              <a:t>PROJECT PRIORITIS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826560" y="1810800"/>
            <a:ext cx="7993080" cy="44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4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ed of a Multi-Criteria Analysis based on projects defined by Turk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4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buClr>
                <a:srgbClr val="005bab"/>
              </a:buClr>
              <a:buSzPct val="400000"/>
              <a:buFont typeface="Trebuchet MS"/>
              <a:buChar char=".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3 Rail projects mainly in the West side of Turkey and to improve main connections with p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buClr>
                <a:srgbClr val="005bab"/>
              </a:buClr>
              <a:buSzPct val="400000"/>
              <a:buFont typeface="Trebuchet MS"/>
              <a:buChar char=".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5 Road projects mainly to upgrade existing roa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buClr>
                <a:srgbClr val="005bab"/>
              </a:buClr>
              <a:buSzPct val="400000"/>
              <a:buFont typeface="Trebuchet MS"/>
              <a:buChar char=".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5 ports projects in all seas in order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inter-alia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to increase capacity for contain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4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4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82800" y="771480"/>
            <a:ext cx="78372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Text Placeholder 2" descr=""/>
          <p:cNvPicPr/>
          <p:nvPr/>
        </p:nvPicPr>
        <p:blipFill>
          <a:blip r:embed="rId1"/>
          <a:stretch/>
        </p:blipFill>
        <p:spPr>
          <a:xfrm>
            <a:off x="0" y="338040"/>
            <a:ext cx="9217080" cy="651996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82800" y="771480"/>
            <a:ext cx="78372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Text Placeholder 2" descr="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646740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82800" y="771480"/>
            <a:ext cx="78372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ecc3b"/>
                </a:solidFill>
                <a:latin typeface="Arial"/>
              </a:rPr>
              <a:t>COST OF THE CORE NET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26560" y="1810800"/>
            <a:ext cx="7993080" cy="44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4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4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Rail Network: € 8,878 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4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Road Network: € 8,595 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4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Airports: € 1,185 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4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Seaports: € 1,488 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4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4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Total Cost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€ 20,145 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4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4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4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4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82800" y="771480"/>
            <a:ext cx="78372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ecc3b"/>
                </a:solidFill>
                <a:latin typeface="Arial"/>
              </a:rPr>
              <a:t>NEX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826560" y="1810800"/>
            <a:ext cx="7993080" cy="44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4600" indent="-444600">
              <a:buClr>
                <a:srgbClr val="005bab"/>
              </a:buClr>
              <a:buSzPct val="400000"/>
              <a:buFont typeface="Trebuchet MS"/>
              <a:buChar char=".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urkey by defining its Core Network has a sound basis to negotiate the future TEN-T network in the framework of Chapter 2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buClr>
                <a:srgbClr val="005bab"/>
              </a:buClr>
              <a:buSzPct val="400000"/>
              <a:buFont typeface="Trebuchet MS"/>
              <a:buChar char=".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eed to develop a project pipeline with further investments supported by appropriate stud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buClr>
                <a:srgbClr val="005bab"/>
              </a:buClr>
              <a:buSzPct val="400000"/>
              <a:buFont typeface="Trebuchet MS"/>
              <a:buChar char=".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crease administrative capacity as well as regulatory measures in particular to improve rail competitive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buClr>
                <a:srgbClr val="005bab"/>
              </a:buClr>
              <a:buSzPct val="400000"/>
              <a:buFont typeface="Trebuchet MS"/>
              <a:buChar char=".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motion of Public Private Partner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71280" y="764640"/>
            <a:ext cx="783756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ecc3b"/>
                </a:solidFill>
                <a:latin typeface="Arial"/>
              </a:rPr>
              <a:t>NEX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826560" y="1810800"/>
            <a:ext cx="7993080" cy="44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755640" y="-387360"/>
            <a:ext cx="820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55640" y="40464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ecc3b"/>
                </a:solidFill>
                <a:latin typeface="Arial"/>
              </a:rPr>
              <a:t>THANK YOU FOR YOUR ATTEN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195640" y="6021360"/>
            <a:ext cx="51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eaeaea"/>
                </a:solidFill>
                <a:latin typeface="Britannic Bold"/>
              </a:rPr>
              <a:t>ISTANBU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82800" y="771480"/>
            <a:ext cx="78372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ecc3b"/>
                </a:solidFill>
                <a:latin typeface="Arial"/>
              </a:rPr>
              <a:t>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26560" y="1810800"/>
            <a:ext cx="7993080" cy="44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4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4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4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o develop a multi-modal transport network (Core Network) within the Republic of Turkey comprising of roads, railway lines, seaports and airports using the TINA methodolog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4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4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4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82800" y="771480"/>
            <a:ext cx="78372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ecc3b"/>
                </a:solidFill>
                <a:latin typeface="Arial"/>
              </a:rPr>
              <a:t>THREE MAIN 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26560" y="1810800"/>
            <a:ext cx="7993080" cy="44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4600" indent="-444600">
              <a:buClr>
                <a:srgbClr val="005bab"/>
              </a:buClr>
              <a:buSzPct val="400000"/>
              <a:buFont typeface="Trebuchet MS"/>
              <a:buChar char=".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velopment of a traffic forecasting model and the projection of traffic flows for 20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4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buClr>
                <a:srgbClr val="005bab"/>
              </a:buClr>
              <a:buSzPct val="400000"/>
              <a:buFont typeface="Trebuchet MS"/>
              <a:buChar char=".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fining and analyzing the multimodal network, and then prioritizing potential network improvement projects by means of a Multi-Criteria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4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buClr>
                <a:srgbClr val="005bab"/>
              </a:buClr>
              <a:buSzPct val="400000"/>
              <a:buFont typeface="Trebuchet MS"/>
              <a:buChar char=".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velopment of a common database using GIS technolog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4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horz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10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2000"/>
                            </p:stCondLst>
                            <p:childTnLst>
                              <p:par>
                                <p:cTn id="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1000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3000"/>
                            </p:stCondLst>
                            <p:childTnLst>
                              <p:par>
                                <p:cTn id="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1000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82800" y="771480"/>
            <a:ext cx="78372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ecc3b"/>
                </a:solidFill>
                <a:latin typeface="Arial"/>
              </a:rPr>
              <a:t>TURKEY’S UNIQUE GEOGRAPHIC LOCATION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9ecc3b"/>
                </a:solidFill>
                <a:latin typeface="Arial"/>
              </a:rPr>
              <a:t>OFFERS MANY POSSIBILITIE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826560" y="1810800"/>
            <a:ext cx="7993080" cy="44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4600" indent="-444600">
              <a:buClr>
                <a:srgbClr val="005bab"/>
              </a:buClr>
              <a:buSzPct val="400000"/>
              <a:buFont typeface="Trebuchet MS"/>
              <a:buChar char=".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mproving transport in the North-South and East-West axes to better integrate Turkish transport with international transport network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buClr>
                <a:srgbClr val="005bab"/>
              </a:buClr>
              <a:buSzPct val="400000"/>
              <a:buFont typeface="Trebuchet MS"/>
              <a:buChar char=".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mproving intermodal transport facilities and services, to take advantage of the strong growth in container transport; and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buClr>
                <a:srgbClr val="005bab"/>
              </a:buClr>
              <a:buSzPct val="400000"/>
              <a:buFont typeface="Trebuchet MS"/>
              <a:buChar char=".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mproving maritime connections and nodal points (seaports), to take advantage of their potential strategic role as industrial and logistic platform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4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-181080" y="0"/>
            <a:ext cx="9526680" cy="655020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82800" y="771480"/>
            <a:ext cx="78372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ecc3b"/>
                </a:solidFill>
                <a:latin typeface="Arial"/>
              </a:rPr>
              <a:t>THE CORE NETWORK DEFIN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26560" y="1810800"/>
            <a:ext cx="7993080" cy="44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460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s based on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hree main assump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4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80000"/>
              </a:lnSpc>
              <a:buClr>
                <a:srgbClr val="005bab"/>
              </a:buClr>
              <a:buSzPct val="400000"/>
              <a:buFont typeface="Trebuchet MS"/>
              <a:buChar char=".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the network should be consistent with the criteria set forth in the EU guidelines for development of the TEN-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44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80000"/>
              </a:lnSpc>
              <a:buClr>
                <a:srgbClr val="005bab"/>
              </a:buClr>
              <a:buSzPct val="400000"/>
              <a:buFont typeface="Trebuchet MS"/>
              <a:buChar char=".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the technical features of the future infrastructure should ensure consistency between the capacity of the network components and the expected traffic leve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44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80000"/>
              </a:lnSpc>
              <a:buClr>
                <a:srgbClr val="005bab"/>
              </a:buClr>
              <a:buSzPct val="400000"/>
              <a:buFont typeface="Trebuchet MS"/>
              <a:buChar char=".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The time horizon for network completion should be 2020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44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982800" y="771480"/>
            <a:ext cx="78372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ecc3b"/>
                </a:solidFill>
                <a:latin typeface="Arial"/>
              </a:rPr>
              <a:t>THE CORE NETWORK (I)</a:t>
            </a:r>
            <a:br>
              <a:rPr sz="3200"/>
            </a:br>
            <a:r>
              <a:rPr b="1" lang="en-GB" sz="3200" spc="-1" strike="noStrike">
                <a:solidFill>
                  <a:srgbClr val="9ecc3b"/>
                </a:solidFill>
                <a:latin typeface="Arial"/>
              </a:rPr>
              <a:t>Horizon 20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26560" y="1810800"/>
            <a:ext cx="7993080" cy="44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4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buClr>
                <a:srgbClr val="005bab"/>
              </a:buClr>
              <a:buSzPct val="400000"/>
              <a:buFont typeface="Trebuchet MS"/>
              <a:buChar char=".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ore Railways : 10,912 km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of which High Speed Rail Lines 3,508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4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Potential Network Extensions (not yet part of the Core Network)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 1,438 km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4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buClr>
                <a:srgbClr val="005bab"/>
              </a:buClr>
              <a:buSzPct val="400000"/>
              <a:buFont typeface="Trebuchet MS"/>
              <a:buChar char=".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ore Roads: 11,984 km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4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Potential Network Extensions (not yet part of the Core Network)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 350 k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82800" y="771480"/>
            <a:ext cx="78372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ecc3b"/>
                </a:solidFill>
                <a:latin typeface="Arial"/>
              </a:rPr>
              <a:t>THE CORE NETWORK (II)</a:t>
            </a:r>
            <a:br>
              <a:rPr sz="3200"/>
            </a:br>
            <a:r>
              <a:rPr b="1" lang="en-GB" sz="3200" spc="-1" strike="noStrike">
                <a:solidFill>
                  <a:srgbClr val="9ecc3b"/>
                </a:solidFill>
                <a:latin typeface="Arial"/>
              </a:rPr>
              <a:t>Horizon 20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26560" y="1810800"/>
            <a:ext cx="7993080" cy="44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4600" indent="-444600">
              <a:lnSpc>
                <a:spcPct val="90000"/>
              </a:lnSpc>
              <a:buClr>
                <a:srgbClr val="005bab"/>
              </a:buClr>
              <a:buSzPct val="400000"/>
              <a:buFont typeface="Trebuchet MS"/>
              <a:buChar char=".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irpor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tegory A: 7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tegory B: 7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tegory C: 6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otal number of airports:   20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90000"/>
              </a:lnSpc>
              <a:buClr>
                <a:srgbClr val="005bab"/>
              </a:buClr>
              <a:buSzPct val="400000"/>
              <a:buFont typeface="Trebuchet MS"/>
              <a:buChar char=".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ap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tegory A: 27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tegory B: 7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tegory C: 5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otal number of seaports: 39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-71280" y="185760"/>
            <a:ext cx="9335880" cy="641808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5T10:53:32Z</dcterms:created>
  <dc:creator>Kathy</dc:creator>
  <dc:description/>
  <dc:language>en-US</dc:language>
  <cp:lastModifiedBy>begeofr</cp:lastModifiedBy>
  <dcterms:modified xsi:type="dcterms:W3CDTF">2008-04-14T05:54:08Z</dcterms:modified>
  <cp:revision>110</cp:revision>
  <dc:subject>NEW GUIDELINES</dc:subject>
  <dc:title>DG TREN</dc:title>
</cp:coreProperties>
</file>