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5CC-1845-4AA3-B01C-7038FE32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CF0-FFF3-4ABF-9DD7-7F5D6CF3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438-4B79-44BF-95FC-AED82F12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2D2-1CB2-4DF1-93C3-B4B47921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C95-0405-4169-8BBA-35302B71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F835-7BB6-4D9A-93E0-16979428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F920-C203-4E0D-A9E9-CF6E2DCA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9A57-1769-44EC-8899-D12B6CB5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67F-7BC5-4E16-9881-BC486544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0D6-CABE-4459-8401-86DBAF8F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706-729D-479D-B304-BB6F92AE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192-3129-4121-9960-B5A12CD8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95A5-0D99-4993-96A7-0C73B5E3F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67640" y="0"/>
          <a:ext cx="147636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0"/>
                    <a:ext cx="1476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IB FUNDING FOR TRANSPORT PROJECTS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stern Balkans 2003-2007</a:t>
            </a: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0/09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396720" y="549360"/>
          <a:ext cx="9144000" cy="57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549360"/>
                    <a:ext cx="9144000" cy="57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-27000"/>
          <a:ext cx="836424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-27000"/>
                    <a:ext cx="836424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181080" y="476280"/>
          <a:ext cx="914400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476280"/>
                    <a:ext cx="914400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3400" y="695160"/>
          <a:ext cx="796464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695160"/>
                    <a:ext cx="796464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9960" y="512640"/>
          <a:ext cx="8012160" cy="604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12640"/>
                    <a:ext cx="80121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5280" y="692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692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49544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9544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8:25:45Z</dcterms:created>
  <dc:creator>MIHALJCI</dc:creator>
  <dc:description/>
  <dc:language>en-US</dc:language>
  <cp:lastModifiedBy>MARTINK</cp:lastModifiedBy>
  <dcterms:modified xsi:type="dcterms:W3CDTF">2007-09-10T10:43:07Z</dcterms:modified>
  <cp:revision>21</cp:revision>
  <dc:subject/>
  <dc:title>Slide 1</dc:title>
</cp:coreProperties>
</file>