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15138" cy="995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8F04-9834-4212-A890-1D9054FDC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A63B-667C-4F9B-A2E9-95C4DA72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52C3-47E6-465C-90B2-A505B01CB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35EC-5D73-49B8-869A-18FC3E66A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E149-611C-47E2-BFDE-84B3530B3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901F-8DCB-4453-AD4E-7218E09F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0F9C-14F5-47C6-A3BE-E6A38276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342C-37CE-4AD0-9841-B2B85C65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1F6B-E8E2-4CFA-8122-27DD17CF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965F-7E2E-428A-8B42-E2562D01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2EF3-912F-4515-ACB5-410CEED4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A36F-CC47-4998-B268-695A2B8A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C263-7E1D-4A80-9011-1D1A1B0E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76D9-A6F8-46F1-B33C-44D306F0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ECAA-8945-467D-90C7-8A2509B6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7449-9C19-4886-9D4D-D81186AF3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1326-627E-40E8-9B4B-91D4EDB9F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5193-BACE-48DA-8A80-058B773A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1A6C-114E-4721-8AAC-A075B8CB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685A-2F4A-4AC3-A31E-91FBBD4C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A0DE-95AC-4A12-810A-96E2CB45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BEE5-14FD-4309-8C89-9F4D74E3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7D3B-559D-43C2-9896-F1E46EF6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67A7-C906-471D-B4D9-363E9C7C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ETO South East Europe Transport Observat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A6AE-B0D7-4548-92F6-4EBAB78DE24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5486400" cy="56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ETO South East Europe Transport Observat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FE25-9FE6-4728-820B-E718FB6245C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5486400" cy="568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IFI AG Meeting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ussels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0 September 2007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ulti Annual Plan for the Development of the South East Europe Core Transport Network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2008-2012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2D6D-A99B-4895-8FAB-5A564CEBCAB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ilways and other mod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New RW bottleneck limits introduced and discussion on capac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Limitations and Further Needs Outlined everywhe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New indicators for Seaports and Airports introduc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Border crossings extended with Transport agreements in the reg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Table with RW border crossing times introduc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6ED2-4F1F-4CA0-BED5-02D5118783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Border Crossing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13 external and 18 internal road border crossings on the Core Netwo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omplex procedures, difficult data colle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Road waiting times improv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Verdana"/>
              </a:rPr>
              <a:t>Rail waiting times much greater than those at road border crossing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5989-E46C-47A6-A3F1-51BEE0DF97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ansport Policy and Sector Reform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2920" indent="-4129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nsport sector reforms necessary for achieving EU policies and for efficient use of infrastructure and investm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-4129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in issue is not what or how to reform but wh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FF68-C6E7-4DEA-A0B7-7D1C233033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pecific Objectives for soft measures 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programm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in MAP 2008-12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Road Reform Obj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Enhancing regional interest through coherence with actions in other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Providing safer – and consequently better managed roa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Border crossing facili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Rail Reform Obj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Regional approach to infrastructure manage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Common Network Statement in line with EU Dir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Developing common conditions for access to the network and scale of user charg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To eliminate delays for freight and passengers at border crossing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15E6-C3CC-423B-9DAF-E470F3F0C5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dicative Priority Project Lis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350 projects submitt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o SEETO until MAP 2008-2012 of which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228 projects evaluated and prioritized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30 projects in priority project list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ented in the MAP 2008-12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9 project groups with 39 individual subproject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F218-29A0-48B7-B78E-6195E68030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gramm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priority list of projects takes into account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he most </a:t>
            </a: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strategically important individual projects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Balanced network development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orridors (16 projects); Routes (9) terminals (5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Modal balance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: Road (13), Rail (11) Waterway (1), Airports (4) Sea Port (1) 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Regional balance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roject </a:t>
            </a: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preparatory status: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feasibility studies or completed design 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20, but 10 at early stag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A7E3-93F6-49EC-81D7-5C8AFD55A8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pected Results, Monitoring and Evaluati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Verdana"/>
              </a:rPr>
              <a:t>Important to appreciate result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Verdana"/>
              </a:rPr>
              <a:t>Related to strategic objectives for the MAP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1. Enhancing regional interest, coope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Common regulations, common rail network statement, open access, common levels of service for road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ntegrated border management, regional agreements, negligible waiting tim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2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Stimulating Economic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mproved condition of infrastructu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mproved travel times on route and border crossing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ncreased traffic, more on rai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3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Efficient / Effective Management / modal balan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Deregulation of sector advanced / completed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New independent regulatory authorities in place and working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Autonomous and commercially orientated sub-sectoral organisations in plac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Equitable tolls/user charges in place for road and rail covering expens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More long distance passenger movements by public transport, more long distance freight by train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00D8-8849-448E-9822-6F05A66B3B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pected Results, Monitoring and Evaluati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esults expected cont.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4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Social Integration, improving living conditions environ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mproved  accessibility to services, better connectivity between social group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Less congestion, more efficient operations, minimal waiting times at border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consumer protection laws for all transport user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Better energy efficiency, lower carbon use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elatively lower emission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5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Improved safety and securit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Safer operations, road fatalities approaching that of EU average 3 per million vehicl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Safer train operation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Better public transport securit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6.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Adopting common technical standar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chnically interoperable transport and communications system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mmon inter-modal transport plan, equipment, terminals common operating standards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ACC6-9509-4FCD-8643-E45DAF4A9D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UTCOME OF MA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Enhance credibility of beneficiaries to negotiate necessary funding for the proje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Internally justify allocation of available resourc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Attract donors (esp. financial/ technical   assistance for soft measures) and attention of  IF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Initiate possible private sector involv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Raise interest of users, enhance cooperation in cross- border funding and promote PP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Core Network as vehicle for peace, stability and development in South-East Europ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SEETO to continue implementation and monitor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7140-65EF-40B4-8F9D-760D78BCF2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nitoring Implement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Verdana"/>
              </a:rPr>
              <a:t>Important to monitor results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(Developing indicators and monitoring historic results continuously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Verdana"/>
              </a:rPr>
              <a:t>SEETO web site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as a focal point for data dissemination and sharing informat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7910-F6E3-49D8-AA89-3786A76C2E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ackgroun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U establishes requirement for annual MAP prepar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teering Committee had 3 meetings in 200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ew Chairman elected at the 1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SC Meeting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ational Coordinators have met for the 6th times at Ohri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ail and Intermodal Working Group has met 3 times in 200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1</a:t>
            </a:r>
            <a:r>
              <a:rPr b="0" lang="en-US" sz="1800" spc="-1" strike="noStrike" baseline="30000">
                <a:solidFill>
                  <a:srgbClr val="ffff00"/>
                </a:solidFill>
                <a:latin typeface="Verdana"/>
              </a:rPr>
              <a:t>st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MAP 2006-10 adopted by SC in April, 2006, Montenegr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Verdana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Map 2007-11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pproved by the SC  (November 2006, Croatia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dopted at the 2</a:t>
            </a:r>
            <a:r>
              <a:rPr b="0" lang="en-US" sz="1600" spc="-1" strike="noStrike" baseline="30000">
                <a:solidFill>
                  <a:srgbClr val="ffff00"/>
                </a:solidFill>
                <a:latin typeface="Verdana"/>
              </a:rPr>
              <a:t>nd</a:t>
            </a: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 AM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3</a:t>
            </a:r>
            <a:r>
              <a:rPr b="0" lang="en-US" sz="1800" spc="-1" strike="noStrike" baseline="30000">
                <a:solidFill>
                  <a:srgbClr val="ffff00"/>
                </a:solidFill>
                <a:latin typeface="Verdana"/>
              </a:rPr>
              <a:t>rd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Map 2008-12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pproval by the SC  (October 2006, Croatia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doption at the 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Verdana"/>
              </a:rPr>
              <a:t>rd</a:t>
            </a: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 AM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5622-C75C-48A7-89DE-BBD1BBD5C6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Verdana"/>
              </a:rPr>
              <a:t>Thank you for your attention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0F26-B458-4147-9B4E-0B0B3976AE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bjectives for the MAP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ider objecti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To facilitate social and economic development in South East  Europ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pecific Obj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To put focus on regional coope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To 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provide</a:t>
            </a: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 a base of information on the performance of the core net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To provide a programme of soft mesure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To list the projects with the highest priority investment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To provide a regional planning and programming too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To encourage and harmonise reform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1A89-4BD8-40C0-A42E-5C2FB42EE2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mprovements MAP 2007-11 to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P 2008-12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Regional emphasis on projects by introducing Chapter 4 focusing on CN corridor and road leve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Separate Chapter dedicated to priority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Several project pools according to matur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Project Cycle Management as a monitoring t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Focus on regional approach, missing links, intermodal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Additional information from the new Questionnaires introduc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Core Network Modification Propos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New (sub)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5E54-D50C-4172-AD43-53E5AB83D6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Condition and performance of the Core Network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Core road network: 43% is classified as good or very good. Improvement of 15% since the REBIS assesment. Bottlenecks can affect about 8 % of road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Core railway network: 10% of network was graded as good condition. On 20% of network there are up to 20 trains per day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Inland waterways traffic flows for 2005 were 14,3 million tons of cargo and 60000 passenger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7 Sea Ports – over 2 million passengers; over 22 million tons, over 150,000 teus containers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11 airports, 8 million passengers, 20,000 tons of carg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CF70-17A3-4093-BE68-4C7496A80A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ottleneck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New better methodology, Based on Road Capacity and Level of Service (LO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Assuming that LOS worst than “C” is a bottlenec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Identifying Bottlenecks for 201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5EE0-D6E9-4291-95ED-B309FE479A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affic Forecast for 201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orecast based on GDP and Population (REBIS methodology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orecasted traffic calculated per section, with accepted elasticity of 1.5 for road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Identifying future traffic we are forecasting Bottlenecks which coud occur in the futur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87B1-5295-420A-9541-7397A6CE4D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oad Safe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28600" y="1266840"/>
          <a:ext cx="8669160" cy="434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66840"/>
                    <a:ext cx="8669160" cy="43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950A-5A6C-4799-B75D-17501F6410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cessibil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In terms of travel time needed to reach a specific destination from a specific origin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Along specific corridor and routes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From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border to border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along Core Network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Between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major poles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of the region, along the Core Network, i.e. major cities and/or ports and airports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as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travel time contours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(of 1h, 2h, 4h, 6h, etc)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around the major pol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E777-EE3C-428E-AF52-E3B8F2C535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3T08:12:10Z</dcterms:created>
  <dc:creator> </dc:creator>
  <dc:description/>
  <dc:language>en-US</dc:language>
  <cp:lastModifiedBy> </cp:lastModifiedBy>
  <dcterms:modified xsi:type="dcterms:W3CDTF">2007-09-10T07:16:43Z</dcterms:modified>
  <cp:revision>78</cp:revision>
  <dc:subject/>
  <dc:title>ISG Presentation for MAP 2008-12</dc:title>
</cp:coreProperties>
</file>