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901-B130-4D39-9E71-2BF1DAAF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69D-8EB0-47CD-A118-B023B508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DD5-A2FF-46E0-ABA2-6E054F9D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400-DDAF-4CC5-9181-62DE20C0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45B6-0380-4F9F-ADDB-5D4D40D5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D8E0-A364-438E-A5D7-BC284EA5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F7A3-1F7F-4CD9-8CBC-053D98C6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8040-53E1-4B65-BF4E-6815C339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1F00-B18E-4C0E-B185-FED72DCC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ADFE-E7DC-40C3-85CE-2D392B21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2C17-FB29-472A-8ADF-EEC99C8D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EA9-8D41-457B-91AA-F91C028C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179D-2C9C-4C16-B277-F264F292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E07E-2446-4F75-B049-D70F0226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8D24-1488-4F5E-B9B2-155B4886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9CD9-F8D3-429D-8169-8D797842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FB2B-4355-4A75-95A4-564A6D26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AC37-4FF0-4772-A3E1-406893AD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012-7ADA-4ECD-941E-9E179C40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AC0-1920-462F-B616-E8530619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D810-7B4C-486D-958B-B2CBF9B5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5F6-CB80-413B-80F0-9D3147B9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72E9-417F-4DF8-8D78-B46C752D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206-B228-483C-82E3-744D18FC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C110-FF66-4EE3-B51B-AB3C60CC052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3213-ABF9-4594-A6E6-2E8ABA26F87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FI AG Meeting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ussel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 September 2007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ulti Annual Plan for the Development of the South East Europe Core Transport Network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008-201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5A97-F34E-441E-A21C-5E8EBBA7E1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ilways and other m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RW bottleneck limits introduced and discussion on capac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imitations and Further Needs Outlined everywhe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indicators for Seaports and Airport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Border crossings extended with Transport agreements in the reg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Table with RW border crossing tim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D97-804D-49C4-9DB8-34B45E4A52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Border Cross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3 external and 18 internal road border crossings on the Core Net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mplex procedures, difficult data colle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oad waiting times impro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Rail waiting times much greater than those at road border cross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1706-91AF-47EB-8A3B-B24444F5F1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port Policy and Sector Reform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 sector reforms necessary for achieving EU policies and for efficient use of infrastructure and invest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in issue is not what or how to reform but w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6F8-B4E1-4DF2-A3CC-F903964CC2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fic Objectives for soft measures 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in MAP 2008-12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oad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nhancing regional interest through coherence with actions in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roviding safer – and consequently better managed roa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order crossing facil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ail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Regional approach to infrastructure manag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mmon Network Statement in line with EU Dir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veloping common conditions for access to the network and scale of user charg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eliminate delays for freight and passengers at border cross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4031-E060-4AC6-AE96-6A379A2120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icative Priority Project Lis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50 projects submit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SEETO until MAP 2008-2012 of which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228 projects evaluated and prioritize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0 projects in priority project list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ed in the MAP 2008-1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 project groups with 39 individual subprojec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9C0-CEDC-4D5B-B5CD-AA56E18CDE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iority list of projects takes into accoun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 mos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strategically important individual project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Balanced network development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rridors (16 projects); Routes (9) terminals (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Modal balance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Road (13), Rail (11) Waterway (1), Airports (4) Sea Port (1)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Regional balanc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jec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preparatory status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easibility studies or completed design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20, but 10 at early stag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544-8B56-4FAE-B837-B3B49EFD8E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Important to appreciate result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Related to strategic objectives for the MA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1. Enhancing regional interest,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mmon regulations, common rail network statement, open access, common levels of service for road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tegrated border management, regional agreements, negligible waiting tim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2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timulating Economi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condition of infrastruc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travel times on route and border crossing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creased traffic, more on rai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3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Efficient / Effective Management / modal bal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Deregulation of sector advanced / complet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New independent regulatory authorities in place and wor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Autonomous and commercially orientated sub-sectoral organisations in pla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Equitable tolls/user charges in place for road and rail covering expens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More long distance passenger movements by public transport, more long distance freight by train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1E0-7A64-4713-A576-CEDC25DFB5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sults expected cont.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4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ocial Integration, improving living conditions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 accessibility to services, better connectivity between social group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Less congestion, more efficient operations, minimal waiting times at border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nsumer protection laws for all transport user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energy efficiency, lower carbon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latively lower emission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5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Improved safety and secur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operations, road fatalities approaching that of EU average 3 per million vehic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train operatio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public transport securi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6.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Adopting common technical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ically interoperable transport and communications syste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mon inter-modal transport plan, equipment, terminals common operating standards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5F1-54AB-4F6B-8791-0600E8306E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UTCOME OF M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nhance credibility of beneficiaries to negotiate necessary funding for the proj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ternally justify allocation of available resour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ttract donors (esp. financial/ technical   assistance for soft measures) and attention of  IF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itiate possible private sector invol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aise interest of users, enhance cooperation in cross- border funding and promote PP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Core Network as vehicle for peace, stability and development in South-East Euro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SEETO to continue implementation and monito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CC3-BB30-4F4F-BB14-A5DC13AA8C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itoring Implement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Important to monitor result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Developing indicators and monitoring historic results continuousl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SEETO web site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s a focal point for data dissemination and sharing inform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3F4-E40B-41DD-ADE9-37554212EF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U establishes requirement for annual MAP prep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eering Committee had 3 meeting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 Chairman elected at the 1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C Meet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ational Coordinators have met for the 6th times at Ohr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il and Intermodal Working Group has met 3 time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6-10 adopted by SC in April, 2006, Montenegr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7-11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ed by the SC  (Novem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ed at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8-12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al by the SC  (Octo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ion at the 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418-0006-4C35-A5F0-ECA170A6A0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Verdana"/>
              </a:rPr>
              <a:t>Thank you for your attention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F5F3-3AB9-4379-9EC9-772BD393B5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s for the MAP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der obj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facilitate social and economic development in South East  Europ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pecific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ut focus on regional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vide</a:t>
            </a: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 a base of information on the performance of the core net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provide a programme of soft mesu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list the projects with the highest priority invest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rovide a regional planning and programming too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encourage and harmonise refor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422-35AA-4605-AD08-D1FBACD4BB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rovements MAP 2007-11 to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P 2008-1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Regional emphasis on projects by introducing Chapter 4 focusing on CN corridor and road leve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parate Chapter dedicated to priority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veral project pools according to matur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ject Cycle Management as a monitor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ocus on regional approach, missing links, intermoda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dditional information from the new Questionnair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Core Network Modification Propos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New (sub)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DFF-15ED-4229-8554-E093FBB780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Condition and performance of the Core Networ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oad network: 43% is classified as good or very good. Improvement of 15% since the REBIS assesment. Bottlenecks can affect about 8 % of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ailway network: 10% of network was graded as good condition. On 20% of network there are up to 20 trains per da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Inland waterways traffic flows for 2005 were 14,3 million tons of cargo and 60000 passenger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7 Sea Ports – over 2 million passengers; over 22 million tons, over 150,000 teus container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11 airports, 8 million passengers, 20,000 tons of carg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B44-B371-4D67-9DE8-87D399BDB0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ttleneck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New better methodology, Based on Road Capacity and Level of Service (LO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ssuming that LOS worst than “C” is a bottlenec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Bottlenecks for 20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CFE6-074F-4BEC-AAFA-52F0DE7FD6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ffic Forecast for 20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 based on GDP and Population (REBIS methodology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ed traffic calculated per section, with accepted elasticity of 1.5 for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future traffic we are forecasting Bottlenecks which coud occur in the futu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9CF-51EB-4DE1-92A0-C3C6D3E2EC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ad Safe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1266840"/>
          <a:ext cx="866916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66840"/>
                    <a:ext cx="866916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B99-33EA-46E9-9283-AE3F9D646B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essi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In terms of travel time needed to reach a specific destination from a specific origin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long specific corridor and rout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rom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border to border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along Core Networ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Between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major pol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of the region, along the Core Network, i.e. major cities and/or ports and airport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s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travel time contour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(of 1h, 2h, 4h, 6h, etc)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round the major po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D47-4BF7-400C-B3BB-FB0B52D39B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 </cp:lastModifiedBy>
  <dcterms:modified xsi:type="dcterms:W3CDTF">2007-09-10T07:16:43Z</dcterms:modified>
  <cp:revision>78</cp:revision>
  <dc:subject/>
  <dc:title>ISG Presentation for MAP 2008-12</dc:title>
</cp:coreProperties>
</file>