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EA74F7CD-57BF-4FD4-B79D-FA11E412C2A7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Img"/>
          </p:nvPr>
        </p:nvSpPr>
        <p:spPr>
          <a:xfrm>
            <a:off x="2898720" y="531360"/>
            <a:ext cx="348768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body"/>
          </p:nvPr>
        </p:nvSpPr>
        <p:spPr>
          <a:xfrm>
            <a:off x="1239840" y="3324240"/>
            <a:ext cx="6802560" cy="3147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562200" y="291960"/>
            <a:ext cx="2565720" cy="19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5800" y="2274840"/>
            <a:ext cx="8915400" cy="4430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4E53A7AB-7D4B-42DD-8130-12554DEBE2B3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2320" y="407880"/>
            <a:ext cx="3033720" cy="227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0360" y="2736720"/>
            <a:ext cx="861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E4C9B23D-B669-41C6-9CB5-F7ED9486E203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93920" y="374760"/>
            <a:ext cx="2799000" cy="2098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8440" y="250812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8AE-7F7C-48F8-BFC6-B4478B39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4C1-5DC0-449F-9688-7463E870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9AE-619F-4AF1-9A26-BDD75794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D1E-F605-4B4D-AEE3-DC6F3CB2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0E58-0362-4700-821B-4FC6D5C3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9D46-CA15-4767-AA6B-21B1F0A9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2219-7FE7-4E23-A5E0-19E6C62B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3FB7-4CAC-457B-96DB-66A22C68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C609-A222-44D5-A963-E1489A9E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5B86-5086-4578-BF57-792C8B83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667E-2C58-4300-9C34-8921016C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049-E679-42D4-9E3F-A8CBEF87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FA8F-88C4-492E-B7E5-DBF0808A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29AE-86F1-4DAF-8D67-30EFFEED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1CB2-CA43-4821-B584-4D980C6F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0D28-2E4A-4A89-BC17-D35D77FA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7055-E7B9-4944-97A8-8D359D9E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E8C-73D1-4C68-8BF8-3223A769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945-CF6D-4C43-94DF-44B3D2FE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33E-A4B3-4224-A232-D8FEDA5B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7D6-E2C8-4B43-9F50-CE73E6A6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CE8-668C-44CE-BD57-A938439A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8E4-4978-43A6-A426-F0BDDCD7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2A3-071A-476A-A0A7-A408BD70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9147-E480-4EA7-8FFD-2856AB736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2BFD-BD0B-4664-919B-07FAFB190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Update on Current Status on the Developmen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South East Europe Transport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russels, 10 September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. N. OLIEV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e 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ailway performance is highly dependent of the neighboring rai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for achieving a better quality railway serv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d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15000"/>
            <a:ext cx="7391520" cy="914400"/>
          </a:xfrm>
          <a:prstGeom prst="rect">
            <a:avLst/>
          </a:prstGeom>
          <a:solidFill>
            <a:srgbClr val="fc012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2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EE Railway Transport Area Target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1: -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Effective regulatory institutions for the rai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2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eparation, management independence, market orientation and social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3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ccess to the market, inter-operability and railway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4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Financial stability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5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– Facilitate border cro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nstitutional Framework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andum of Understanding on the Development of the South East Europe Core Regional Transpor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ddendum to the MoU for the South East European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inancing Institutions Advisory Group  (IFI AG) – Operational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created by the MoU on the Development of the South East Europe Core Regional Transpor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al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ring Committ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iat – SE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Group on Railway and inter-modal poli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ordination of the implementation of the SEE Railway Transport Are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800" y="269388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ank you for the kind attention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880" y="60199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sile Olievsc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-mail: volievschi@worldbank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re network defined by MoU (June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 European Corri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254 km = 2731 km Corridors + 1533 km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454560"/>
          <a:ext cx="640080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54560"/>
                    <a:ext cx="6400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14800" y="380880"/>
          <a:ext cx="4876920" cy="396252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  <a:gridCol w="914400"/>
                <a:gridCol w="914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ailway net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rridor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oute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lban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osnia &amp; Herzegov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roat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NMIK/Koso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Y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onteneg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erb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 Leng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,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53360" y="6094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ength of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89160" y="49528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echnical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f the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17 % not evalua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ow much does it cost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981080"/>
          <a:ext cx="8458200" cy="2057400"/>
        </p:xfrm>
        <a:graphic>
          <a:graphicData uri="http://schemas.openxmlformats.org/drawingml/2006/table">
            <a:tbl>
              <a:tblPr/>
              <a:tblGrid>
                <a:gridCol w="6400800"/>
                <a:gridCol w="2057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km modernization on international Corrid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– 2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 km general overhaul of t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 – 0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1440" y="4565520"/>
            <a:ext cx="8335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lization of the South East European 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Transport Development Plan may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imum 2 billi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d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- is it enough for a competitive rail system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Infrastructures are not an end in themselves. They deliver their promises by offering high quality service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only if efficiently managed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ilway infrastructure is part of a very complex system including operations of freight and passenger transport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ly, the response of the railway sector to the challenges of the market development is not very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ook for Railway Transportation Sector in South East Europe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ailway Reform in the Western Balkans“ – The World Bank Study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xamines the challenges facing the railways of the Western Balkans region (200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astic traffic decreas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10 billion passenger-km in 1990 versus 2.8 billion passenger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20 billion ton-km in 1990 versus 8.1 billion ton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or resource productiv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rastructure and rolling stock - damaged in the conflict and little investment in the last 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bearable need of operating and capital subsidies from the state bud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way Labor Productivity [UIC – 2005]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2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7960" y="3990960"/>
            <a:ext cx="10666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2640" y="4343400"/>
            <a:ext cx="149076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7960" y="4695840"/>
            <a:ext cx="16765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057640"/>
            <a:ext cx="223848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360" y="5410080"/>
            <a:ext cx="167616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776920"/>
            <a:ext cx="3808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2640" y="1114560"/>
            <a:ext cx="502920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lway Traffic Intensity [UIC – 2005]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4572000"/>
            <a:ext cx="257040" cy="2095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128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4010040"/>
            <a:ext cx="228600" cy="7621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3857760"/>
            <a:ext cx="228600" cy="9144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1480" y="3933720"/>
            <a:ext cx="228600" cy="8384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216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800360"/>
            <a:ext cx="228600" cy="29718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1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eight forwarders and logistic services work on a competitive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or most of the railways being more competitive means to overcome the problems existing toda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ow quality servi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k of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st dis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dimension of each railway in 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4:29:12Z</dcterms:created>
  <dc:creator>teo</dc:creator>
  <dc:description/>
  <cp:keywords/>
  <dc:language>en-US</dc:language>
  <cp:lastModifiedBy>Vasile Olievschi</cp:lastModifiedBy>
  <cp:lastPrinted>2006-11-27T18:36:02Z</cp:lastPrinted>
  <dcterms:modified xsi:type="dcterms:W3CDTF">2007-09-09T21:46:13Z</dcterms:modified>
  <cp:revision>807</cp:revision>
  <dc:subject>proces resturcturare</dc:subject>
  <dc:title>SNCFR</dc:title>
</cp:coreProperties>
</file>